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670A-E389-49E3-936C-591F854F3C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6175-C94A-43BA-B43E-77C2513173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D5C1-88C6-45F3-B2FA-9845BC47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7D1-35FD-434E-A191-AC2441BC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BA9-82E5-45EC-9AB1-0C533F88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F758-12D2-4C68-8C98-56B67747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CC7F-A884-42A8-A734-1182D535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D0EB-AACB-4555-A01E-656DBA39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0C67-2C87-4791-8B3B-FBAE5A7D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8BE2-E9A7-42BB-90A4-3CD3D7F3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11EB-EF49-4EF0-BE4A-447ED525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C6A4-6CF5-46F4-AF4D-68B3BB8B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B4C5-8B0E-4C93-B328-1562FC18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E3D-B49D-457E-8CF7-E6A7AF57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311C-52B9-49E2-96A9-944FFB3C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C98E-781B-4F53-8ADD-09476F8F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117F-3433-494D-A989-EFE74334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A7F0-EF6F-426B-9802-89D01F10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19AD-73B6-42D9-BCA2-066F7F1D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73E31-A8BF-4D12-9FA9-5D81CF76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32ABA-5CAF-4578-9A82-5118A1D8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C6F41-8596-42ED-8900-E41BACD3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E81F3-7F79-4357-8FD1-EF6B7C56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BF97F-ECF9-4D87-9047-857DBCC8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293-60EA-4819-BC84-A19C559B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57F7A-7A02-476B-8AF2-E9F76CBC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BC6A1-7BA7-4058-AF3F-DBC230AC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15B33-B2F8-4391-97C5-151891C8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CAC98-8CE6-4791-B041-59115783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36E82-1F8A-4C88-8B09-407F20E3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5DDE3-723D-4CFC-B704-2D336835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0E95F-8696-4B16-A9B8-7E5D1846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D6395-2E7F-4FFE-9624-7E4497B7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D09FC-6248-442E-8199-7F96306D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7E19F-52AE-45CE-ADC6-4800EF31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BDBB-82AB-4460-AE43-48CF0FC3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EB98C-BB72-4E6B-A319-5543BF68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74A0E-7176-442C-BF94-6B77116E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8AE1A-477C-4131-88D3-57466FC7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6B789-15BF-4728-90F7-1EB1EDBC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AA5C6-5425-4539-AD38-8A3B9586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59D6B-516B-47C6-8CBE-2D317ECF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21FE3-A747-4546-A9B5-2CAE0138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61599-70DA-4054-A9AE-B5C26C76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FA108-1203-44B3-B498-A2E3240E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EF7977-0071-4A62-BBE8-4DCF3277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C8B4-E6C8-4457-B625-DB553B9E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AF8F27-83ED-487D-8FEC-B76726E0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4FDCDE-C39A-4BDD-A62B-F0705C19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6A60B3-3B0B-49A5-9320-7DE84DE2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A5C0D6-ACD8-4D7B-8C0E-9C857CEC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96F83B-C93F-4B83-9734-10D0641C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0D2726-2555-4FFB-A843-E21FD785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5F5B7E-0E62-478D-B332-4C7ECA47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DD401F-6655-4365-8F71-493F603B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2901CD-4B73-42B8-B92E-A9010935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65481C-8104-4F53-B438-E9AE7C08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CF85-D5FA-4CF3-BFE3-855464C0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34360D-7AA1-42A3-9DE9-A17F0985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33C6-7C85-4AF8-A577-1C2EE43E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B9DC-6DD5-4CA2-987C-8B5A6E3A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CAFA-31BA-4A8B-8CC8-33DA6565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96D6-C5C9-4D04-834B-337237B24F4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BCCD-B1EA-44C1-BE6D-D0255090D7B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6632-98A0-4F60-9AAE-051D5E4C73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166B-1F16-426B-9703-2A57F4E063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3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69DE-B138-422A-91C2-EFCF40DF16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dt" idx="15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molsk.ru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cck201@mail.ru" TargetMode="External"/><Relationship Id="rId2" Type="http://schemas.openxmlformats.org/officeDocument/2006/relationships/hyperlink" Target="https://nsportal.ru/npo-spo/arkhitektura-i-stroitelstvo/library/2020/11/20/shablon-08-01-26-prezentatsiya-dlya-zashchity" TargetMode="Externa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-19080" y="1914480"/>
            <a:ext cx="9144000" cy="14446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8" descr="http://www.smolsk.ru/img/smolbuidcolledg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35712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0"/>
          <p:cNvSpPr/>
          <p:nvPr/>
        </p:nvSpPr>
        <p:spPr>
          <a:xfrm>
            <a:off x="1785960" y="28584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ОГБПОУ «Смоленский строительный колледж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9" descr="D:\ЕЛЕНА\картинки\Гербы Смоленска\Герб Смоленска красный.bmp"/>
          <p:cNvPicPr/>
          <p:nvPr/>
        </p:nvPicPr>
        <p:blipFill>
          <a:blip r:embed="rId4"/>
          <a:stretch/>
        </p:blipFill>
        <p:spPr>
          <a:xfrm>
            <a:off x="7786800" y="285840"/>
            <a:ext cx="1154160" cy="1463760"/>
          </a:xfrm>
          <a:prstGeom prst="rect">
            <a:avLst/>
          </a:prstGeom>
          <a:ln w="0">
            <a:noFill/>
          </a:ln>
        </p:spPr>
      </p:pic>
      <p:pic>
        <p:nvPicPr>
          <p:cNvPr id="229" name="Rectangle 2" descr=""/>
          <p:cNvPicPr/>
          <p:nvPr/>
        </p:nvPicPr>
        <p:blipFill>
          <a:blip r:embed="rId5"/>
          <a:stretch/>
        </p:blipFill>
        <p:spPr>
          <a:xfrm>
            <a:off x="426960" y="3524400"/>
            <a:ext cx="8290080" cy="29318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"/>
          <p:cNvSpPr/>
          <p:nvPr/>
        </p:nvSpPr>
        <p:spPr>
          <a:xfrm>
            <a:off x="1619280" y="704880"/>
            <a:ext cx="611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08.02.07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таж и эксплуатация  внутренних сантехнических устройств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иционирования воздуха и вентиля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339640" y="203040"/>
            <a:ext cx="6553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ИТвПД) Информационные технологии в профессиональной деятельности 4-5 семес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2"/>
          <p:cNvSpPr/>
          <p:nvPr/>
        </p:nvSpPr>
        <p:spPr>
          <a:xfrm>
            <a:off x="395280" y="1724040"/>
            <a:ext cx="8140680" cy="3629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ександров Артем Сергеевич – 6 ча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рмаков Руслан Сергеевич – 4 ча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хальченкова Елена Николаевна – 2 ча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лдатов Виктор Витальевич – 4 ча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ошкин Даниил Дмитриевич – 4 ча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йнякова (Серенкова) Виктория Александровна – 2 ча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армина Анна Дмитриевна -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Заголовок 1"/>
          <p:cNvSpPr/>
          <p:nvPr/>
        </p:nvSpPr>
        <p:spPr>
          <a:xfrm>
            <a:off x="890640" y="1122480"/>
            <a:ext cx="7076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огут быть не аттестованы за семестр!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Заголовок 1"/>
          <p:cNvSpPr/>
          <p:nvPr/>
        </p:nvSpPr>
        <p:spPr>
          <a:xfrm>
            <a:off x="0" y="374760"/>
            <a:ext cx="2130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Ш-1-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39640" y="203040"/>
            <a:ext cx="6553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ИТвПД) Информационные технологии в профессиональной деятельности 4-5 семес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Прямоугольник 2"/>
          <p:cNvSpPr/>
          <p:nvPr/>
        </p:nvSpPr>
        <p:spPr>
          <a:xfrm>
            <a:off x="873000" y="1724040"/>
            <a:ext cx="7662960" cy="487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ронков  Олег Васильевич -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пон Никита Сергеевич -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ицкий Кирилл Александрович -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гаев Георгий Вадимович (11кл) -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тухов Кирилл Сергеевич (с) -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ловьев Даниил Сергеевич – 2 на КАРАНТИ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Толкачев Андрей Валерьевич -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Лунева Екатерина Андреевна -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лоцкий Роман Вадимович - 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рхутдинов Владислав Максимович -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Коначенкова Анастасия Сергеевна -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ронов Евгений Сергеевич - 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зовкин Иван Дмитриевич -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Заголовок 1"/>
          <p:cNvSpPr/>
          <p:nvPr/>
        </p:nvSpPr>
        <p:spPr>
          <a:xfrm>
            <a:off x="890640" y="1122480"/>
            <a:ext cx="7076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огут быть не аттестованы за семестр!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Заголовок 1"/>
          <p:cNvSpPr/>
          <p:nvPr/>
        </p:nvSpPr>
        <p:spPr>
          <a:xfrm>
            <a:off x="0" y="374760"/>
            <a:ext cx="2130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Ш-2-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Заголовок 1"/>
          <p:cNvSpPr/>
          <p:nvPr/>
        </p:nvSpPr>
        <p:spPr>
          <a:xfrm>
            <a:off x="244440" y="116856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ак исправить оценку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Прямоугольник 6"/>
          <p:cNvSpPr/>
          <p:nvPr/>
        </p:nvSpPr>
        <p:spPr>
          <a:xfrm>
            <a:off x="233280" y="1817640"/>
            <a:ext cx="8642520" cy="450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слать на почту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cck201@mail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2 реферата (по 15 страниц) 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езентацию (15 слайдов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ШТУКАТУРНЫЕ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ИТОЧНЫЕ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Оформление работ должно соответствовать Методическим указаниям, размещённым на сайте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https://nsportal.ru/npo-spo/arkhitektura-i-stroitelstvo/library/2020/11/20/shablon-08-01-26-prezentatsiya-dlya-zashchity</a:t>
            </a: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Заголовок 1"/>
          <p:cNvSpPr/>
          <p:nvPr/>
        </p:nvSpPr>
        <p:spPr>
          <a:xfrm>
            <a:off x="0" y="374760"/>
            <a:ext cx="2130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Ш-1-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39640" y="203040"/>
            <a:ext cx="6553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ИТвПД) Информационные технологии в профессиональной деятельности 4-5 семес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рямоугольник 10"/>
          <p:cNvSpPr/>
          <p:nvPr/>
        </p:nvSpPr>
        <p:spPr>
          <a:xfrm>
            <a:off x="7034040" y="1357200"/>
            <a:ext cx="1613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5 д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sportal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Гайворонюк Елена Гафуро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Объект 8" descr=""/>
          <p:cNvPicPr/>
          <p:nvPr/>
        </p:nvPicPr>
        <p:blipFill>
          <a:blip r:embed="rId1"/>
          <a:srcRect l="1862" t="0" r="4104" b="-941"/>
          <a:stretch/>
        </p:blipFill>
        <p:spPr>
          <a:xfrm>
            <a:off x="-49320" y="1312920"/>
            <a:ext cx="918072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sportal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Гайворонюк Елена Гафуро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Рисунок 7" descr=""/>
          <p:cNvPicPr/>
          <p:nvPr/>
        </p:nvPicPr>
        <p:blipFill>
          <a:blip r:embed="rId1"/>
          <a:stretch/>
        </p:blipFill>
        <p:spPr>
          <a:xfrm>
            <a:off x="824040" y="1557360"/>
            <a:ext cx="7495920" cy="4962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Calibri"/>
              </a:rPr>
              <a:t>В ЧЁМ ПРИЧИНА НЕУСПЕВАЕМОСТИ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НЕПОСЕЩАЕМОСТ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ОПОЗДА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Calibri"/>
              </a:rPr>
              <a:t>ДЕВИАНТНОЕ ПОВЕД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Стрелка вниз 1"/>
          <p:cNvSpPr/>
          <p:nvPr/>
        </p:nvSpPr>
        <p:spPr>
          <a:xfrm>
            <a:off x="3635280" y="2565360"/>
            <a:ext cx="1513080" cy="405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Стрелка вниз 3"/>
          <p:cNvSpPr/>
          <p:nvPr/>
        </p:nvSpPr>
        <p:spPr>
          <a:xfrm flipV="1">
            <a:off x="3635280" y="4868280"/>
            <a:ext cx="1513080" cy="4777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71400" y="2071800"/>
            <a:ext cx="6723000" cy="300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евиантное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ведение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395280" y="692280"/>
            <a:ext cx="8137440" cy="53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611280" y="1197000"/>
            <a:ext cx="7632720" cy="41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Девиантное (отклоняющееся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овед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ойчивое поведение личности, отклоняющееся от наиболее важных социальных правил и норм общества и причиняющее реальный ущерб обществу или самой личности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28760" y="1373040"/>
            <a:ext cx="8229600" cy="4864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Курение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6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требление алкоголя, пьянство                                    4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Нарушение правил поведения в школе(срывы уроков, прогулы, отказы от выполнения заданий)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ижение других                                                                 3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аки                                                                                    3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улиганство                                                                         3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Грубость, сквернословие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ровство                                                                             1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ика взрослых, неподчинение                                      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требление наркотиков                                                  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шение вызывающей одежды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беги из дома                                                                     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кие формы отклоняющегося поведения наиболее распространены среди твоих сверстников:</a:t>
            </a: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"/>
          <p:cNvSpPr/>
          <p:nvPr/>
        </p:nvSpPr>
        <p:spPr>
          <a:xfrm>
            <a:off x="5929200" y="4286160"/>
            <a:ext cx="2917800" cy="78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ояние здоровь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боле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85840" y="4500720"/>
            <a:ext cx="2808360" cy="86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ия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го окру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5143680" y="5643720"/>
            <a:ext cx="3095280" cy="1000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исимость подрост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норм и ценност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ы сверст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1000080" y="5715000"/>
            <a:ext cx="3071880" cy="85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занят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ей и подрост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285840" y="3143160"/>
            <a:ext cx="2882880" cy="8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ьные пробл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940360" y="3000240"/>
            <a:ext cx="2879640" cy="8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гативное влия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 масс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5715000" y="1714680"/>
            <a:ext cx="316872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а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ческая и социальн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туация в ст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428760" y="1643040"/>
            <a:ext cx="2520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о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ияние семь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3071880" y="357120"/>
            <a:ext cx="2786040" cy="987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завершеннос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я лич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Oval 15"/>
          <p:cNvSpPr/>
          <p:nvPr/>
        </p:nvSpPr>
        <p:spPr>
          <a:xfrm>
            <a:off x="3429000" y="2857680"/>
            <a:ext cx="2071800" cy="1125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виант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ве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Line 26"/>
          <p:cNvSpPr/>
          <p:nvPr/>
        </p:nvSpPr>
        <p:spPr>
          <a:xfrm flipV="1">
            <a:off x="4500720" y="1571760"/>
            <a:ext cx="0" cy="1224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Line 27"/>
          <p:cNvSpPr/>
          <p:nvPr/>
        </p:nvSpPr>
        <p:spPr>
          <a:xfrm flipV="1">
            <a:off x="5143680" y="2142720"/>
            <a:ext cx="579240" cy="78588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Line 28"/>
          <p:cNvSpPr/>
          <p:nvPr/>
        </p:nvSpPr>
        <p:spPr>
          <a:xfrm>
            <a:off x="5500800" y="3429000"/>
            <a:ext cx="500040" cy="4608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Line 30"/>
          <p:cNvSpPr/>
          <p:nvPr/>
        </p:nvSpPr>
        <p:spPr>
          <a:xfrm>
            <a:off x="5072040" y="3929040"/>
            <a:ext cx="865080" cy="7192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786200" y="4000680"/>
            <a:ext cx="712800" cy="163800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Line 33"/>
          <p:cNvSpPr/>
          <p:nvPr/>
        </p:nvSpPr>
        <p:spPr>
          <a:xfrm flipH="1">
            <a:off x="3642840" y="4000680"/>
            <a:ext cx="647640" cy="171432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Line 34"/>
          <p:cNvSpPr/>
          <p:nvPr/>
        </p:nvSpPr>
        <p:spPr>
          <a:xfrm flipH="1">
            <a:off x="3143160" y="3933720"/>
            <a:ext cx="852480" cy="99540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Line 35"/>
          <p:cNvSpPr/>
          <p:nvPr/>
        </p:nvSpPr>
        <p:spPr>
          <a:xfrm flipH="1">
            <a:off x="3143160" y="3571920"/>
            <a:ext cx="357120" cy="460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Line 36"/>
          <p:cNvSpPr/>
          <p:nvPr/>
        </p:nvSpPr>
        <p:spPr>
          <a:xfrm flipH="1" flipV="1">
            <a:off x="3000240" y="2214720"/>
            <a:ext cx="928800" cy="714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6"/>
          <p:cNvSpPr/>
          <p:nvPr/>
        </p:nvSpPr>
        <p:spPr>
          <a:xfrm>
            <a:off x="3213000" y="132084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сты на дистан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0" y="374760"/>
            <a:ext cx="2130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Ш-1-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339640" y="203040"/>
            <a:ext cx="6553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ИТвПД) Информационные технологии в профессиональной деятельности 4-5 семес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Рисунок 1" descr=""/>
          <p:cNvPicPr/>
          <p:nvPr/>
        </p:nvPicPr>
        <p:blipFill>
          <a:blip r:embed="rId2"/>
          <a:stretch/>
        </p:blipFill>
        <p:spPr>
          <a:xfrm>
            <a:off x="1332000" y="1870200"/>
            <a:ext cx="6915240" cy="4609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79280" y="189000"/>
          <a:ext cx="8785440" cy="664344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59220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ебные мотив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3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ен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еш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2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обственное развитие в процессе уч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ия вместе с другими и для други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знание нового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неизведанног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нимание необходимости учения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дальнейшей жиз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цесс учения как возможность общ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хвала от значимых лиц (мотивация благополучия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ание быть первым учеником (престижная мотивация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Мотивация избегания неприятнос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Заголовок 1"/>
          <p:cNvGrpSpPr/>
          <p:nvPr/>
        </p:nvGrpSpPr>
        <p:grpSpPr>
          <a:xfrm>
            <a:off x="304920" y="3760920"/>
            <a:ext cx="8570880" cy="2414520"/>
            <a:chOff x="304920" y="3760920"/>
            <a:chExt cx="8570880" cy="2414520"/>
          </a:xfrm>
        </p:grpSpPr>
        <p:pic>
          <p:nvPicPr>
            <p:cNvPr id="31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04920" y="3760920"/>
              <a:ext cx="857088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57120" y="3789360"/>
              <a:ext cx="8462880" cy="23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89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Calibri"/>
                </a:rPr>
                <a:t>ЖЕЛАЮ ВСЕМ </a:t>
              </a:r>
              <a:br>
                <a:rPr sz="4800"/>
              </a:br>
              <a:r>
                <a:rPr b="0" lang="ru-RU" sz="4800" spc="-1" strike="noStrike">
                  <a:solidFill>
                    <a:srgbClr val="ffffff"/>
                  </a:solidFill>
                  <a:latin typeface="Calibri"/>
                </a:rPr>
                <a:t>ЗДОРОВЬЯ И  УСПЕХОВ!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4" name="Рисунок 2" descr="987.jpg"/>
          <p:cNvPicPr/>
          <p:nvPr/>
        </p:nvPicPr>
        <p:blipFill>
          <a:blip r:embed="rId2"/>
          <a:stretch/>
        </p:blipFill>
        <p:spPr>
          <a:xfrm>
            <a:off x="5126040" y="420840"/>
            <a:ext cx="3755880" cy="338904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428760" y="500040"/>
            <a:ext cx="5072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олько в совершенстве владе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бсолютной графической грамотностью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ожно проектировать города будущего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 оптимизмом реализовывать самые фантастические проек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3"/>
          <p:cNvSpPr/>
          <p:nvPr/>
        </p:nvSpPr>
        <p:spPr>
          <a:xfrm>
            <a:off x="571680" y="2662200"/>
            <a:ext cx="47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еподава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айвороню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Елена Гафу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6"/>
          <p:cNvSpPr/>
          <p:nvPr/>
        </p:nvSpPr>
        <p:spPr>
          <a:xfrm>
            <a:off x="3213000" y="132084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сты на дистан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Заголовок 1"/>
          <p:cNvSpPr/>
          <p:nvPr/>
        </p:nvSpPr>
        <p:spPr>
          <a:xfrm>
            <a:off x="0" y="374760"/>
            <a:ext cx="2130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Ш-2-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39640" y="203040"/>
            <a:ext cx="6553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ИТвПД) Информационные технологии в профессиональной деятельности 4-5 семес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Рисунок 2" descr=""/>
          <p:cNvPicPr/>
          <p:nvPr/>
        </p:nvPicPr>
        <p:blipFill>
          <a:blip r:embed="rId2"/>
          <a:stretch/>
        </p:blipFill>
        <p:spPr>
          <a:xfrm>
            <a:off x="1476360" y="1870200"/>
            <a:ext cx="6345360" cy="3862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9"/>
          <p:cNvSpPr/>
          <p:nvPr/>
        </p:nvSpPr>
        <p:spPr>
          <a:xfrm>
            <a:off x="264960" y="3213000"/>
            <a:ext cx="22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ценки на дистан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339640" y="203040"/>
            <a:ext cx="6553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ИТвПД) Информационные технологии в профессиональной деятельности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5 семес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Заголовок 1"/>
          <p:cNvSpPr/>
          <p:nvPr/>
        </p:nvSpPr>
        <p:spPr>
          <a:xfrm>
            <a:off x="0" y="374760"/>
            <a:ext cx="2130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Ш-1-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Рисунок 1" descr=""/>
          <p:cNvPicPr/>
          <p:nvPr/>
        </p:nvPicPr>
        <p:blipFill>
          <a:blip r:embed="rId2"/>
          <a:stretch/>
        </p:blipFill>
        <p:spPr>
          <a:xfrm>
            <a:off x="2548080" y="1139760"/>
            <a:ext cx="5648040" cy="5496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9"/>
          <p:cNvSpPr/>
          <p:nvPr/>
        </p:nvSpPr>
        <p:spPr>
          <a:xfrm>
            <a:off x="264960" y="3213000"/>
            <a:ext cx="22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ценки на дистан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339640" y="203040"/>
            <a:ext cx="6553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ИТвПД) Информационные технологии в профессиональной деятельности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5 семес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Заголовок 1"/>
          <p:cNvSpPr/>
          <p:nvPr/>
        </p:nvSpPr>
        <p:spPr>
          <a:xfrm>
            <a:off x="0" y="374760"/>
            <a:ext cx="2130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Ш-2-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Рисунок 2" descr=""/>
          <p:cNvPicPr/>
          <p:nvPr/>
        </p:nvPicPr>
        <p:blipFill>
          <a:blip r:embed="rId2"/>
          <a:stretch/>
        </p:blipFill>
        <p:spPr>
          <a:xfrm>
            <a:off x="2517840" y="1160640"/>
            <a:ext cx="6010200" cy="5697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Заголовок 1"/>
          <p:cNvSpPr/>
          <p:nvPr/>
        </p:nvSpPr>
        <p:spPr>
          <a:xfrm>
            <a:off x="0" y="374760"/>
            <a:ext cx="2130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Ш-1-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39640" y="203040"/>
            <a:ext cx="6553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ИТвПД) Информационные технологии в профессиональной деятельности 4-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ес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Рисунок 1" descr=""/>
          <p:cNvPicPr/>
          <p:nvPr/>
        </p:nvPicPr>
        <p:blipFill>
          <a:blip r:embed="rId1"/>
          <a:srcRect l="0" t="0" r="79718" b="0"/>
          <a:stretch/>
        </p:blipFill>
        <p:spPr>
          <a:xfrm>
            <a:off x="558720" y="1268280"/>
            <a:ext cx="2266920" cy="4969080"/>
          </a:xfrm>
          <a:prstGeom prst="rect">
            <a:avLst/>
          </a:prstGeom>
          <a:ln w="9360">
            <a:solidFill>
              <a:srgbClr val="57dfff"/>
            </a:solidFill>
            <a:miter/>
          </a:ln>
        </p:spPr>
      </p:pic>
      <p:pic>
        <p:nvPicPr>
          <p:cNvPr id="250" name="Рисунок 6" descr=""/>
          <p:cNvPicPr/>
          <p:nvPr/>
        </p:nvPicPr>
        <p:blipFill>
          <a:blip r:embed="rId2"/>
          <a:srcRect l="45732" t="0" r="0" b="0"/>
          <a:stretch/>
        </p:blipFill>
        <p:spPr>
          <a:xfrm>
            <a:off x="2825640" y="1268280"/>
            <a:ext cx="6067440" cy="4969080"/>
          </a:xfrm>
          <a:prstGeom prst="rect">
            <a:avLst/>
          </a:prstGeom>
          <a:ln w="9360">
            <a:solidFill>
              <a:srgbClr val="57dfff"/>
            </a:solidFill>
            <a:miter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Заголовок 1"/>
          <p:cNvSpPr/>
          <p:nvPr/>
        </p:nvSpPr>
        <p:spPr>
          <a:xfrm>
            <a:off x="0" y="374760"/>
            <a:ext cx="2130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Ш-2-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39640" y="203040"/>
            <a:ext cx="6553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ИТвПД) Информационные технологии в профессиональной деятельности 4-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ес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Рисунок 2" descr=""/>
          <p:cNvPicPr/>
          <p:nvPr/>
        </p:nvPicPr>
        <p:blipFill>
          <a:blip r:embed="rId1"/>
          <a:srcRect l="0" t="0" r="78528" b="0"/>
          <a:stretch/>
        </p:blipFill>
        <p:spPr>
          <a:xfrm>
            <a:off x="250920" y="1773360"/>
            <a:ext cx="2449440" cy="4392360"/>
          </a:xfrm>
          <a:prstGeom prst="rect">
            <a:avLst/>
          </a:prstGeom>
          <a:ln w="9360">
            <a:solidFill>
              <a:srgbClr val="57dfff"/>
            </a:solidFill>
            <a:miter/>
          </a:ln>
        </p:spPr>
      </p:pic>
      <p:pic>
        <p:nvPicPr>
          <p:cNvPr id="254" name="Рисунок 8" descr=""/>
          <p:cNvPicPr/>
          <p:nvPr/>
        </p:nvPicPr>
        <p:blipFill>
          <a:blip r:embed="rId2"/>
          <a:srcRect l="48634" t="0" r="0" b="0"/>
          <a:stretch/>
        </p:blipFill>
        <p:spPr>
          <a:xfrm>
            <a:off x="2700360" y="1781280"/>
            <a:ext cx="5856120" cy="4392360"/>
          </a:xfrm>
          <a:prstGeom prst="rect">
            <a:avLst/>
          </a:prstGeom>
          <a:ln w="9360">
            <a:solidFill>
              <a:srgbClr val="57dfff"/>
            </a:solidFill>
            <a:miter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2"/>
          <p:cNvSpPr/>
          <p:nvPr/>
        </p:nvSpPr>
        <p:spPr>
          <a:xfrm>
            <a:off x="2340000" y="3017880"/>
            <a:ext cx="4572000" cy="37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Антоненков Эмиль Замиг Ог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Антонов Павел Геннадьеви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Корниенко Карина Серге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Панков Алексендр Витальеви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Наумова Дарья Евгеньев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Чигин Евгений Владимирови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Ширяев Артем Валерьеви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Комаров Максим Сергеевич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Семенов Михаил Игоревич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3/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Заголовок 1"/>
          <p:cNvSpPr/>
          <p:nvPr/>
        </p:nvSpPr>
        <p:spPr>
          <a:xfrm>
            <a:off x="2776680" y="2443320"/>
            <a:ext cx="3178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ХОРОШ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Заголовок 1"/>
          <p:cNvSpPr/>
          <p:nvPr/>
        </p:nvSpPr>
        <p:spPr>
          <a:xfrm>
            <a:off x="250920" y="138420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ТЛИЧН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2359080" y="1900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Камышенкова Анна Серге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39640" y="203040"/>
            <a:ext cx="6553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ИТвПД) Информационные технологии в профессиональной деятельности 4-5 семес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Заголовок 1"/>
          <p:cNvSpPr/>
          <p:nvPr/>
        </p:nvSpPr>
        <p:spPr>
          <a:xfrm>
            <a:off x="0" y="374760"/>
            <a:ext cx="2130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Ш-1-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2"/>
          <p:cNvSpPr/>
          <p:nvPr/>
        </p:nvSpPr>
        <p:spPr>
          <a:xfrm>
            <a:off x="755640" y="30178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Calibri"/>
              </a:rPr>
              <a:t>Некрасов Илья Викторович (11к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Заголовок 1"/>
          <p:cNvSpPr/>
          <p:nvPr/>
        </p:nvSpPr>
        <p:spPr>
          <a:xfrm>
            <a:off x="2776680" y="2443320"/>
            <a:ext cx="3178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ХОРОШ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39640" y="203040"/>
            <a:ext cx="6553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ИТвПД) Информационные технологии в профессиональной деятельности 4-5 семес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Заголовок 1"/>
          <p:cNvSpPr/>
          <p:nvPr/>
        </p:nvSpPr>
        <p:spPr>
          <a:xfrm>
            <a:off x="0" y="374760"/>
            <a:ext cx="2130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Ш-2-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6:22:59Z</dcterms:created>
  <dc:creator>Luk</dc:creator>
  <dc:description/>
  <dc:language>en-US</dc:language>
  <cp:lastModifiedBy>Admin</cp:lastModifiedBy>
  <dcterms:modified xsi:type="dcterms:W3CDTF">2020-12-12T06:49:52Z</dcterms:modified>
  <cp:revision>236</cp:revision>
  <dc:subject/>
  <dc:title>Технология устройства отделочных покрытий</dc:title>
</cp:coreProperties>
</file>