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FC6-BF24-4D6D-9A68-85C93206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AA9-3B4B-4E15-BA55-753F3EA8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F97-D789-4113-8385-06CDF244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F13-AD9E-44C9-B0C1-91123152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836-A36E-4594-91BC-8F49D7BC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EF04-FCF2-4157-93EE-42EE3061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9C3C-2DD6-4C1C-B57C-AFF69EC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55D-575C-4D8D-9EE6-7AAB8F0B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A5C-A7FC-4D6D-B468-F1A04B1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71A-3CBC-458E-AF04-F4C912ED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996-A453-48BC-B4C4-4450CF1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7A7-A3CE-49BC-9E45-286ADD5E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E85F-3A92-4188-B798-3449ED4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8E3E-39CC-4F11-8D7C-E2A8CC8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437-CC4A-4DF7-883C-60F659F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11CC-949E-4386-BEA1-53923B2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6B6-EF82-486C-B4D4-3080FC29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A4D7-F0D7-40D2-A479-9A8504A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1519-A6FB-4B50-9441-E7F88ED5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BE1A-D1C0-4272-BF8A-7B26712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4B24-D18E-4A55-8531-59BA7269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3E34-208D-4A63-9D7C-5C41334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A8E-1431-44D4-A2C4-F346B89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B98F-0BDE-4609-9CF5-D67F565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4277-953C-4863-8A74-7A51486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55B6-54A5-4C09-97E6-B825F28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BDF6-B523-4262-AC1A-924B514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0185-E640-475D-AC36-A6F8E62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8716-E8ED-46C0-A30B-1DD1E986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055B-61D4-49EE-AC1F-ECE2D8EC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2F85-45F4-4CC9-BD0E-E75E8702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3CD3-25BA-4828-9A4F-0A88DF4C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36A8-6BFA-49EC-8F1C-2254B437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F7F-0026-4298-B674-66E087A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FB05-A772-4915-949C-0CD3382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93D0-835F-4A1F-B8FD-4BA99DC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27A9-9321-432A-BAC8-68F9CD1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B88B-C464-43B7-80B6-5495DDE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CD55-9067-435A-B3BD-51BC361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0C31-D324-4CFC-8233-C1684B2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47B4-8051-41A6-9AD0-858DCC3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78AF-8982-42F0-896B-6475305D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5C93-998D-455E-B71D-1BAD5590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507B0-3D83-4C5B-B224-E24F07F2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05B-25DD-48A3-8C63-E7591A1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74213-04D1-412A-966D-F085F8B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F92F5-9FAF-497B-AF69-8188296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0B1C98-9911-4D44-98E7-1D0C237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336F3-D501-45AD-8A11-1F044F71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164A0-BD2A-4FF1-89D5-621A1D65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368E20-D7A7-47B0-863B-36E8D4A7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6F9B1-5738-4F49-875F-BE398FFB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FB663-0DD4-49CE-82A7-6D88CDB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635B68-9275-4912-A452-F70812C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43AB8-D836-40DB-AA4A-67F5E5EF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8D4-17F6-401C-9CBE-3CF2C96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92306-B2E9-48A4-B6C2-58681D3A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980-D058-4766-B044-D31FF23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6E0-4308-4780-9229-490B96C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176-3C54-4F84-A773-D1EEB73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E260-48CD-488F-974C-5A00117EC94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B55-72FD-4478-89B6-B7916E213F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16F6-98D2-4E72-8D7A-EEE5B51AE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B82-E912-47E2-B50D-14B3B39F5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658-EDA7-4AA4-B84E-99873AB18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dt" idx="15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ck201@mail.ru" TargetMode="External"/><Relationship Id="rId2" Type="http://schemas.openxmlformats.org/officeDocument/2006/relationships/hyperlink" Target="https://nsportal.ru/npo-spo/arkhitektura-i-stroitelstvo/library/2020/11/20/shablon-08-01-26-prezentatsiya-dlya-zashchity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-19080" y="1914480"/>
            <a:ext cx="9144000" cy="1444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3571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0"/>
          <p:cNvSpPr/>
          <p:nvPr/>
        </p:nvSpPr>
        <p:spPr>
          <a:xfrm>
            <a:off x="1785960" y="2858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7786800" y="285840"/>
            <a:ext cx="1154160" cy="146376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2" descr=""/>
          <p:cNvPicPr/>
          <p:nvPr/>
        </p:nvPicPr>
        <p:blipFill>
          <a:blip r:embed="rId5"/>
          <a:stretch/>
        </p:blipFill>
        <p:spPr>
          <a:xfrm>
            <a:off x="426960" y="3524400"/>
            <a:ext cx="8290080" cy="3382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1619280" y="704880"/>
            <a:ext cx="611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08.02.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таж и эксплуатация  внутренних сантехнических устройст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онирования воздуха и венти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В ЧЁМ ПРИЧИНА НЕУСПЕВАЕМОСТИ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НЕПОСЕЩАЕМ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ПОЗ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ДЕВИАНТНОЕ ПОВЕ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Стрелка вниз 1"/>
          <p:cNvSpPr/>
          <p:nvPr/>
        </p:nvSpPr>
        <p:spPr>
          <a:xfrm>
            <a:off x="3635280" y="2565360"/>
            <a:ext cx="1513080" cy="405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Стрелка вниз 3"/>
          <p:cNvSpPr/>
          <p:nvPr/>
        </p:nvSpPr>
        <p:spPr>
          <a:xfrm flipV="1">
            <a:off x="3635280" y="4868280"/>
            <a:ext cx="1513080" cy="477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71400" y="2071800"/>
            <a:ext cx="6723000" cy="300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виантно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95280" y="692280"/>
            <a:ext cx="8137440" cy="53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11280" y="1197000"/>
            <a:ext cx="7632720" cy="41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евиантное (отклоняющеес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вед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е поведение личности, отклоняющееся от наиболее важных социальных правил и норм общества и причиняющее реальный ущерб обществу или самой личност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28760" y="1373040"/>
            <a:ext cx="8229600" cy="486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Курени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6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алкоголя, пьянство                                    4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рушение правил поведения в школе(срывы уроков, прогулы, отказы от выполнения заданий)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жение других                                                                 3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и                                                                                    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лиганство                                                                         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рубость, сквернословие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вство                                                                             1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ка взрослых, неподчинение                                     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                                                 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шение вызывающей одежды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ги из дома                                                                    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ие формы отклоняющегося поведения наиболее распространены среди твоих сверстников: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5929200" y="4286160"/>
            <a:ext cx="291780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ле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85840" y="4500720"/>
            <a:ext cx="280836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го окру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5143680" y="5643720"/>
            <a:ext cx="3095280" cy="100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подрос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орм и ценнос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 сверс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000080" y="5715000"/>
            <a:ext cx="3071880" cy="85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нят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и подрост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85840" y="3143160"/>
            <a:ext cx="288288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ы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5940360" y="3000240"/>
            <a:ext cx="287964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гативное вли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 масс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5715000" y="1714680"/>
            <a:ext cx="3168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а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 и социа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туация в ст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428760" y="1643040"/>
            <a:ext cx="2520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ние сем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3071880" y="357120"/>
            <a:ext cx="2786040" cy="9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ершен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val 15"/>
          <p:cNvSpPr/>
          <p:nvPr/>
        </p:nvSpPr>
        <p:spPr>
          <a:xfrm>
            <a:off x="3429000" y="2857680"/>
            <a:ext cx="2071800" cy="1125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виант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26"/>
          <p:cNvSpPr/>
          <p:nvPr/>
        </p:nvSpPr>
        <p:spPr>
          <a:xfrm flipV="1">
            <a:off x="4500720" y="157176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5143680" y="2142720"/>
            <a:ext cx="579240" cy="7858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5500800" y="3429000"/>
            <a:ext cx="500040" cy="4608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5072040" y="3929040"/>
            <a:ext cx="865080" cy="7192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31"/>
          <p:cNvSpPr/>
          <p:nvPr/>
        </p:nvSpPr>
        <p:spPr>
          <a:xfrm>
            <a:off x="4786200" y="4000680"/>
            <a:ext cx="712800" cy="1638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33"/>
          <p:cNvSpPr/>
          <p:nvPr/>
        </p:nvSpPr>
        <p:spPr>
          <a:xfrm flipH="1">
            <a:off x="3642840" y="4000680"/>
            <a:ext cx="647640" cy="17143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34"/>
          <p:cNvSpPr/>
          <p:nvPr/>
        </p:nvSpPr>
        <p:spPr>
          <a:xfrm flipH="1">
            <a:off x="3143160" y="3933720"/>
            <a:ext cx="852480" cy="9954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35"/>
          <p:cNvSpPr/>
          <p:nvPr/>
        </p:nvSpPr>
        <p:spPr>
          <a:xfrm flipH="1">
            <a:off x="3143160" y="3571920"/>
            <a:ext cx="357120" cy="460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36"/>
          <p:cNvSpPr/>
          <p:nvPr/>
        </p:nvSpPr>
        <p:spPr>
          <a:xfrm flipH="1" flipV="1">
            <a:off x="3000240" y="2214720"/>
            <a:ext cx="928800" cy="714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1571760" y="1000080"/>
            <a:ext cx="7000920" cy="4968360"/>
          </a:xfrm>
          <a:prstGeom prst="rect">
            <a:avLst/>
          </a:prstGeom>
          <a:solidFill>
            <a:srgbClr val="c2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астьян Бранд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учится то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идит у себя в до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и пример 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и жене и детях груб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у язык распутства люб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помнит, что с лих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их все то, чему их учит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C:\Documents and Settings\Пользователь\Мои документы\Мои рисунки\65e18.jpg"/>
          <p:cNvPicPr/>
          <p:nvPr/>
        </p:nvPicPr>
        <p:blipFill>
          <a:blip r:embed="rId1"/>
          <a:stretch/>
        </p:blipFill>
        <p:spPr>
          <a:xfrm>
            <a:off x="142920" y="57168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9000"/>
          <a:ext cx="8785440" cy="664344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е мотив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ен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ш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2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бственное развитие в процессе у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я вместе с другими и для други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знание нового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изведанн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имание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обходимости учения для дальнейшей жи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с учения как возможность об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хвала от значимых лиц (мотивация благополуч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быть первым учеником (престижная мотивац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отивация избегания неприят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Заголовок 1"/>
          <p:cNvGrpSpPr/>
          <p:nvPr/>
        </p:nvGrpSpPr>
        <p:grpSpPr>
          <a:xfrm>
            <a:off x="304920" y="3760920"/>
            <a:ext cx="8570880" cy="2414520"/>
            <a:chOff x="304920" y="3760920"/>
            <a:chExt cx="8570880" cy="2414520"/>
          </a:xfrm>
        </p:grpSpPr>
        <p:pic>
          <p:nvPicPr>
            <p:cNvPr id="28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3760920"/>
              <a:ext cx="85708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57120" y="3789360"/>
              <a:ext cx="846288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8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ЖЕЛАЮ ВСЕМ </a:t>
              </a:r>
              <a:br>
                <a:rPr sz="4800"/>
              </a:br>
              <a:r>
                <a:rPr b="0" lang="ru-RU" sz="4800" spc="-1" strike="noStrike">
                  <a:solidFill>
                    <a:srgbClr val="ffffff"/>
                  </a:solidFill>
                  <a:latin typeface="Calibri"/>
                </a:rPr>
                <a:t>ЗДОРОВЬЯ И  УСПЕХОВ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1" name="Рисунок 2" descr="987.jpg"/>
          <p:cNvPicPr/>
          <p:nvPr/>
        </p:nvPicPr>
        <p:blipFill>
          <a:blip r:embed="rId2"/>
          <a:stretch/>
        </p:blipFill>
        <p:spPr>
          <a:xfrm>
            <a:off x="5126040" y="420840"/>
            <a:ext cx="3755880" cy="3389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428760" y="500040"/>
            <a:ext cx="507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олько в совершенстве владе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бсолютной графической грамотность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ожно проектировать города будущего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оптимизмом реализовывать самые фантастические проек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571680" y="2662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айвороню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лена Гафу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6"/>
          <p:cNvSpPr/>
          <p:nvPr/>
        </p:nvSpPr>
        <p:spPr>
          <a:xfrm>
            <a:off x="3213000" y="132084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сты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411120" y="2060640"/>
            <a:ext cx="842976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9"/>
          <p:cNvSpPr/>
          <p:nvPr/>
        </p:nvSpPr>
        <p:spPr>
          <a:xfrm>
            <a:off x="264960" y="321300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и на дистан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2548080" y="1171440"/>
            <a:ext cx="5154480" cy="564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rcRect l="0" t="0" r="78255" b="0"/>
          <a:stretch/>
        </p:blipFill>
        <p:spPr>
          <a:xfrm>
            <a:off x="0" y="1341360"/>
            <a:ext cx="2340000" cy="53722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2"/>
          <a:srcRect l="35944" t="0" r="0" b="0"/>
          <a:stretch/>
        </p:blipFill>
        <p:spPr>
          <a:xfrm>
            <a:off x="2340000" y="1332000"/>
            <a:ext cx="6891480" cy="537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2359080" y="3143160"/>
            <a:ext cx="45720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Андреев Данила Анатол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Андреев Олег Михайл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кшаров Алексей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сарев Всеволод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алахов Арсений Виталь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урашкин Николай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Серпученко Николай Олег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Фролов Денис Максим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Бобылев Кирилл Дмитриевич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2776680" y="2505240"/>
            <a:ext cx="3178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ХОРОШ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250920" y="138420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ЛИЧ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2359080" y="1900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Резванов Евгений Сергее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1042920" y="2008080"/>
            <a:ext cx="6842160" cy="355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раменков Николай Алексеевич – 24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верьянов Артем Андреевич – 6 ча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Геращенко Арсений Денисович – отработал – 24 час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иков Юрий Сергеевич – 18 ча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Матросов Максим Дмитриевич – 2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ькин Иван Андреевич – 12 ча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Студенков Никита Юрьевич – 16 часов – отработал 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йка Иван Евгеньевич – 12 ча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ногузов Владислав Васильевич – 24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684360" y="1330200"/>
            <a:ext cx="7076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е аттестованы за семестр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349200" y="5877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исправить оценку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6970320" y="5877000"/>
            <a:ext cx="161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 д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1"/>
          <p:cNvSpPr/>
          <p:nvPr/>
        </p:nvSpPr>
        <p:spPr>
          <a:xfrm>
            <a:off x="244440" y="11685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исправить оценку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233280" y="1817640"/>
            <a:ext cx="8642520" cy="450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лать на почту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ck201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 реферата (по 15 страниц) 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зентацию (15 слайдов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СНАБЖЕНИЕ, ВОДООТВЕДЕНИЕ, ОТОП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ГНАЛИЗАЦИЯ, ДОМОФОНЫ (СЛАБОТОЧНЫЕ СИСТЕ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формление работ должно соответствовать Методическим указаниям, размещённым на сайте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nsportal.ru/npo-spo/arkhitektura-i-stroitelstvo/library/2020/11/20/shablon-08-01-26-prezentatsiya-dlya-zashchity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Заголовок 1"/>
          <p:cNvSpPr/>
          <p:nvPr/>
        </p:nvSpPr>
        <p:spPr>
          <a:xfrm>
            <a:off x="0" y="374760"/>
            <a:ext cx="21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КХ-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39640" y="203040"/>
            <a:ext cx="655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ИТвПД) Информационные технологии в профессиональной деятельности 4-5 семес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7034040" y="1357200"/>
            <a:ext cx="161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 д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Объект 8" descr=""/>
          <p:cNvPicPr/>
          <p:nvPr/>
        </p:nvPicPr>
        <p:blipFill>
          <a:blip r:embed="rId1"/>
          <a:srcRect l="1862" t="0" r="4104" b="-941"/>
          <a:stretch/>
        </p:blipFill>
        <p:spPr>
          <a:xfrm>
            <a:off x="-49320" y="1312920"/>
            <a:ext cx="91807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sportal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айворонюк Елена Гафу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Рисунок 7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749592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22:59Z</dcterms:created>
  <dc:creator>Luk</dc:creator>
  <dc:description/>
  <dc:language>en-US</dc:language>
  <cp:lastModifiedBy>Admin</cp:lastModifiedBy>
  <dcterms:modified xsi:type="dcterms:W3CDTF">2020-12-12T06:58:38Z</dcterms:modified>
  <cp:revision>228</cp:revision>
  <dc:subject/>
  <dc:title>Технология устройства отделочных покрытий</dc:title>
</cp:coreProperties>
</file>