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90C9-6567-4B3D-95D7-E3877EE2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3F4D-DA96-4B04-A796-477DC983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6045-6646-4A04-BC3A-98BD2ED0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676B-2777-43F3-9A56-0A3D2B44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813-A468-4952-8F35-88842E25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A20-FCCE-4DCF-B53F-5B6DD277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5C76-325D-47AB-AA80-B098EBD3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67A-A585-411B-BCCC-E3516C53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237F-CD56-4AFE-A66D-7B345004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BCE-9580-4887-9DB9-D25EBCA5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210A-9160-47B5-A7DC-46051587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91B8-8219-44BA-A74B-F7858D68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ADC4-0BA4-44DD-B407-0DDC7B5C64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НСТРУИРОВАНИЕ  АЛГОРИТ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СНОВЫ АЛГОРИТМ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785960" y="307188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 Box 52"/>
          <p:cNvSpPr/>
          <p:nvPr/>
        </p:nvSpPr>
        <p:spPr>
          <a:xfrm>
            <a:off x="539640" y="98100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Возвращение Робота в коридор в исходную точку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3"/>
          <p:cNvSpPr/>
          <p:nvPr/>
        </p:nvSpPr>
        <p:spPr>
          <a:xfrm>
            <a:off x="571680" y="150012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клетка закраш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6"/>
          <p:cNvSpPr/>
          <p:nvPr/>
        </p:nvSpPr>
        <p:spPr>
          <a:xfrm>
            <a:off x="539640" y="436572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По команде </a:t>
            </a:r>
            <a:r>
              <a:rPr b="0" i="1" lang="en-US" sz="2200" spc="-1" strike="noStrike">
                <a:solidFill>
                  <a:srgbClr val="000000"/>
                </a:solidFill>
                <a:latin typeface="FangSong"/>
                <a:ea typeface="Arial Unicode MS"/>
              </a:rPr>
              <a:t>закраси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Робот закрашивает исходную точку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6804000" y="2637000"/>
            <a:ext cx="963720" cy="14284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8"/>
          <p:cNvSpPr/>
          <p:nvPr/>
        </p:nvSpPr>
        <p:spPr>
          <a:xfrm>
            <a:off x="785880" y="26028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Детализ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лана действий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63640" y="501336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763640" y="5013360"/>
          <a:ext cx="5569200" cy="1366920"/>
        </p:xfrm>
        <a:graphic>
          <a:graphicData uri="http://schemas.openxmlformats.org/drawingml/2006/table">
            <a:tbl>
              <a:tblPr/>
              <a:tblGrid>
                <a:gridCol w="555840"/>
                <a:gridCol w="55872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27" descr="Антирадиационный робот посетил Францию"/>
          <p:cNvPicPr/>
          <p:nvPr/>
        </p:nvPicPr>
        <p:blipFill>
          <a:blip r:embed="rId3"/>
          <a:srcRect l="0" t="0" r="32510" b="0"/>
          <a:stretch/>
        </p:blipFill>
        <p:spPr>
          <a:xfrm>
            <a:off x="4356000" y="4508640"/>
            <a:ext cx="9637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26528 0.00092 E">
                                      <p:cBhvr>
                                        <p:cTn id="28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6"/>
          <p:cNvSpPr/>
          <p:nvPr/>
        </p:nvSpPr>
        <p:spPr>
          <a:xfrm>
            <a:off x="468360" y="692280"/>
            <a:ext cx="7103880" cy="63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ал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верху стена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низу 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; 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клетка закраш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верху стена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низу 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; 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клетка закраш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8"/>
          <p:cNvSpPr/>
          <p:nvPr/>
        </p:nvSpPr>
        <p:spPr>
          <a:xfrm>
            <a:off x="611280" y="189000"/>
            <a:ext cx="8143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рограмма для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7" descr="Антирадиационный робот посетил Францию"/>
          <p:cNvPicPr/>
          <p:nvPr/>
        </p:nvPicPr>
        <p:blipFill>
          <a:blip r:embed="rId2"/>
          <a:srcRect l="32502" t="0" r="0" b="0"/>
          <a:stretch/>
        </p:blipFill>
        <p:spPr>
          <a:xfrm>
            <a:off x="6804000" y="1557360"/>
            <a:ext cx="1928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8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1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1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Заголовок 2"/>
          <p:cNvSpPr/>
          <p:nvPr/>
        </p:nvSpPr>
        <p:spPr>
          <a:xfrm>
            <a:off x="468360" y="18900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Вспомогательный алгорит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68360" y="90792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Вспомогательный алго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тм - алгоритм, целиком используемый в составе другого алгорит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3419640" y="2276280"/>
            <a:ext cx="1728720" cy="1223640"/>
            <a:chOff x="3419640" y="2276280"/>
            <a:chExt cx="1728720" cy="1223640"/>
          </a:xfrm>
        </p:grpSpPr>
        <p:sp>
          <p:nvSpPr>
            <p:cNvPr id="122" name="Line 8"/>
            <p:cNvSpPr/>
            <p:nvPr/>
          </p:nvSpPr>
          <p:spPr>
            <a:xfrm flipV="1">
              <a:off x="4284720" y="2276280"/>
              <a:ext cx="0" cy="122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7"/>
            <p:cNvSpPr/>
            <p:nvPr/>
          </p:nvSpPr>
          <p:spPr>
            <a:xfrm>
              <a:off x="3419640" y="2563920"/>
              <a:ext cx="1728720" cy="649080"/>
            </a:xfrm>
            <a:prstGeom prst="flowChartPredefinedProcess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9"/>
          <p:cNvSpPr/>
          <p:nvPr/>
        </p:nvSpPr>
        <p:spPr>
          <a:xfrm>
            <a:off x="1692360" y="378936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лок «предопределённый процесс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539640" y="472428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спомогательный алгоритм делает структуру алгоритма более простой  и понятн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4"/>
          <p:cNvSpPr/>
          <p:nvPr/>
        </p:nvSpPr>
        <p:spPr>
          <a:xfrm>
            <a:off x="4500720" y="3214800"/>
            <a:ext cx="2928960" cy="2071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Выноска со стрелкой вправо 13"/>
          <p:cNvSpPr/>
          <p:nvPr/>
        </p:nvSpPr>
        <p:spPr>
          <a:xfrm>
            <a:off x="1187280" y="3429000"/>
            <a:ext cx="3067200" cy="1643040"/>
          </a:xfrm>
          <a:prstGeom prst="rightArrowCallout">
            <a:avLst>
              <a:gd name="adj1" fmla="val 25002"/>
              <a:gd name="adj2" fmla="val 25000"/>
              <a:gd name="adj3" fmla="val 27526"/>
              <a:gd name="adj4" fmla="val 6497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Алгоритм вычисл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степен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11280" y="90792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целое число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7"/>
              <p:cNvSpPr txBox="1"/>
              <p:nvPr/>
            </p:nvSpPr>
            <p:spPr>
              <a:xfrm>
                <a:off x="4314960" y="97164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3"/>
              <p:cNvSpPr txBox="1"/>
              <p:nvPr/>
            </p:nvSpPr>
            <p:spPr>
              <a:xfrm>
                <a:off x="2857680" y="1857240"/>
                <a:ext cx="2879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∉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Text Box 14"/>
          <p:cNvSpPr/>
          <p:nvPr/>
        </p:nvSpPr>
        <p:spPr>
          <a:xfrm>
            <a:off x="4572000" y="2500200"/>
            <a:ext cx="3103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пр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x  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gt;0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lt;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5"/>
              <p:cNvSpPr txBox="1"/>
              <p:nvPr/>
            </p:nvSpPr>
            <p:spPr>
              <a:xfrm>
                <a:off x="1473120" y="3857760"/>
                <a:ext cx="136836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6" name="AutoShape 17"/>
          <p:cNvSpPr/>
          <p:nvPr/>
        </p:nvSpPr>
        <p:spPr>
          <a:xfrm>
            <a:off x="5286240" y="3429000"/>
            <a:ext cx="73080" cy="1655640"/>
          </a:xfrm>
          <a:custGeom>
            <a:avLst/>
            <a:gdLst>
              <a:gd name="textAreaLeft" fmla="*/ 46800 w 73080"/>
              <a:gd name="textAreaRight" fmla="*/ 73440 w 730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8"/>
              <p:cNvSpPr txBox="1"/>
              <p:nvPr/>
            </p:nvSpPr>
            <p:spPr>
              <a:xfrm>
                <a:off x="5357880" y="4143240"/>
                <a:ext cx="685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8" name="Text Box 19"/>
          <p:cNvSpPr/>
          <p:nvPr/>
        </p:nvSpPr>
        <p:spPr>
          <a:xfrm>
            <a:off x="500040" y="5643720"/>
            <a:ext cx="828036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значим алгоритм возведения числа в степен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(a, n, y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вспомогательный алгорит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39640" y="148428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 определению степени с целым показател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8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90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46"/>
          <p:cNvSpPr/>
          <p:nvPr/>
        </p:nvSpPr>
        <p:spPr>
          <a:xfrm>
            <a:off x="468360" y="1429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Блок-сх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реш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486"/>
          <p:cNvGrpSpPr/>
          <p:nvPr/>
        </p:nvGrpSpPr>
        <p:grpSpPr>
          <a:xfrm>
            <a:off x="1357200" y="836640"/>
            <a:ext cx="6840360" cy="5694480"/>
            <a:chOff x="1357200" y="836640"/>
            <a:chExt cx="6840360" cy="5694480"/>
          </a:xfrm>
        </p:grpSpPr>
        <p:sp>
          <p:nvSpPr>
            <p:cNvPr id="142" name="Line 487"/>
            <p:cNvSpPr/>
            <p:nvPr/>
          </p:nvSpPr>
          <p:spPr>
            <a:xfrm>
              <a:off x="2076120" y="2349360"/>
              <a:ext cx="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488"/>
            <p:cNvSpPr/>
            <p:nvPr/>
          </p:nvSpPr>
          <p:spPr>
            <a:xfrm>
              <a:off x="4167000" y="3068640"/>
              <a:ext cx="316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89"/>
            <p:cNvSpPr/>
            <p:nvPr/>
          </p:nvSpPr>
          <p:spPr>
            <a:xfrm>
              <a:off x="2076120" y="2349360"/>
              <a:ext cx="374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90"/>
            <p:cNvSpPr/>
            <p:nvPr/>
          </p:nvSpPr>
          <p:spPr>
            <a:xfrm>
              <a:off x="4092480" y="119700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91"/>
            <p:cNvSpPr/>
            <p:nvPr/>
          </p:nvSpPr>
          <p:spPr>
            <a:xfrm>
              <a:off x="3444840" y="836640"/>
              <a:ext cx="1368360" cy="36504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ча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492"/>
            <p:cNvSpPr/>
            <p:nvPr/>
          </p:nvSpPr>
          <p:spPr>
            <a:xfrm>
              <a:off x="4165560" y="5445000"/>
              <a:ext cx="1436400" cy="43200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93"/>
            <p:cNvSpPr/>
            <p:nvPr/>
          </p:nvSpPr>
          <p:spPr>
            <a:xfrm>
              <a:off x="4452840" y="278136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494"/>
            <p:cNvSpPr/>
            <p:nvPr/>
          </p:nvSpPr>
          <p:spPr>
            <a:xfrm>
              <a:off x="5028840" y="206064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95"/>
            <p:cNvSpPr/>
            <p:nvPr/>
          </p:nvSpPr>
          <p:spPr>
            <a:xfrm>
              <a:off x="3300120" y="3716280"/>
              <a:ext cx="1728720" cy="649440"/>
            </a:xfrm>
            <a:prstGeom prst="flowChartPredefinedProcess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 (a, x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496"/>
            <p:cNvSpPr/>
            <p:nvPr/>
          </p:nvSpPr>
          <p:spPr>
            <a:xfrm>
              <a:off x="3373200" y="1413000"/>
              <a:ext cx="1436760" cy="43164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497"/>
            <p:cNvSpPr/>
            <p:nvPr/>
          </p:nvSpPr>
          <p:spPr>
            <a:xfrm>
              <a:off x="3228840" y="2060640"/>
              <a:ext cx="1728720" cy="57636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98"/>
            <p:cNvSpPr/>
            <p:nvPr/>
          </p:nvSpPr>
          <p:spPr>
            <a:xfrm>
              <a:off x="1357200" y="2781360"/>
              <a:ext cx="1441440" cy="433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99"/>
            <p:cNvSpPr/>
            <p:nvPr/>
          </p:nvSpPr>
          <p:spPr>
            <a:xfrm>
              <a:off x="4165560" y="6165720"/>
              <a:ext cx="1368360" cy="36540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ец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500"/>
            <p:cNvSpPr/>
            <p:nvPr/>
          </p:nvSpPr>
          <p:spPr>
            <a:xfrm>
              <a:off x="4957560" y="2781360"/>
              <a:ext cx="1727280" cy="57636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gt;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501"/>
            <p:cNvSpPr/>
            <p:nvPr/>
          </p:nvSpPr>
          <p:spPr>
            <a:xfrm>
              <a:off x="6468840" y="3716280"/>
              <a:ext cx="1728720" cy="649440"/>
            </a:xfrm>
            <a:prstGeom prst="flowChartPredefinedProcess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 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/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x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502"/>
            <p:cNvSpPr/>
            <p:nvPr/>
          </p:nvSpPr>
          <p:spPr>
            <a:xfrm>
              <a:off x="5821200" y="234936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503"/>
            <p:cNvSpPr/>
            <p:nvPr/>
          </p:nvSpPr>
          <p:spPr>
            <a:xfrm>
              <a:off x="7332480" y="306864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504"/>
            <p:cNvSpPr/>
            <p:nvPr/>
          </p:nvSpPr>
          <p:spPr>
            <a:xfrm>
              <a:off x="4165560" y="306864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505"/>
            <p:cNvSpPr/>
            <p:nvPr/>
          </p:nvSpPr>
          <p:spPr>
            <a:xfrm>
              <a:off x="4165560" y="436572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506"/>
            <p:cNvSpPr/>
            <p:nvPr/>
          </p:nvSpPr>
          <p:spPr>
            <a:xfrm>
              <a:off x="7332480" y="436572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507"/>
            <p:cNvSpPr/>
            <p:nvPr/>
          </p:nvSpPr>
          <p:spPr>
            <a:xfrm>
              <a:off x="546084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08"/>
            <p:cNvSpPr/>
            <p:nvPr/>
          </p:nvSpPr>
          <p:spPr>
            <a:xfrm>
              <a:off x="5460840" y="4941720"/>
              <a:ext cx="187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509"/>
            <p:cNvSpPr/>
            <p:nvPr/>
          </p:nvSpPr>
          <p:spPr>
            <a:xfrm>
              <a:off x="4165560" y="47973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510"/>
            <p:cNvSpPr/>
            <p:nvPr/>
          </p:nvSpPr>
          <p:spPr>
            <a:xfrm>
              <a:off x="4884480" y="5157720"/>
              <a:ext cx="5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511"/>
            <p:cNvSpPr/>
            <p:nvPr/>
          </p:nvSpPr>
          <p:spPr>
            <a:xfrm>
              <a:off x="2076120" y="5157720"/>
              <a:ext cx="280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512"/>
            <p:cNvSpPr/>
            <p:nvPr/>
          </p:nvSpPr>
          <p:spPr>
            <a:xfrm>
              <a:off x="4884480" y="5157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3"/>
            <p:cNvSpPr/>
            <p:nvPr/>
          </p:nvSpPr>
          <p:spPr>
            <a:xfrm>
              <a:off x="2652480" y="206064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514"/>
            <p:cNvSpPr/>
            <p:nvPr/>
          </p:nvSpPr>
          <p:spPr>
            <a:xfrm>
              <a:off x="6613200" y="278136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15"/>
            <p:cNvSpPr/>
            <p:nvPr/>
          </p:nvSpPr>
          <p:spPr>
            <a:xfrm>
              <a:off x="4884480" y="587700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500040" y="2214720"/>
            <a:ext cx="8424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Формальные параметр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пользуются при описании алгоритм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Фактические параметр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те величины, для которых будет исполнен вспомогательный алгорит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ипы, количество и порядок следования формальных и фактических параметров должны совпада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Заголовок 2"/>
          <p:cNvSpPr/>
          <p:nvPr/>
        </p:nvSpPr>
        <p:spPr>
          <a:xfrm>
            <a:off x="357120" y="189000"/>
            <a:ext cx="8501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Формальные и фактические парамет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357120" y="260280"/>
            <a:ext cx="8786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Схема вызова вспомогательного алгорит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2"/>
          <p:cNvGrpSpPr/>
          <p:nvPr/>
        </p:nvGrpSpPr>
        <p:grpSpPr>
          <a:xfrm>
            <a:off x="2195640" y="1389240"/>
            <a:ext cx="5616360" cy="4897440"/>
            <a:chOff x="2195640" y="1389240"/>
            <a:chExt cx="5616360" cy="4897440"/>
          </a:xfrm>
        </p:grpSpPr>
        <p:sp>
          <p:nvSpPr>
            <p:cNvPr id="175" name="Rectangle 23"/>
            <p:cNvSpPr/>
            <p:nvPr/>
          </p:nvSpPr>
          <p:spPr>
            <a:xfrm>
              <a:off x="2482560" y="1389240"/>
              <a:ext cx="4536720" cy="2303640"/>
            </a:xfrm>
            <a:prstGeom prst="rect">
              <a:avLst/>
            </a:prstGeom>
            <a:solidFill>
              <a:srgbClr val="d1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сновной алгорит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2771640" y="2109960"/>
              <a:ext cx="3816000" cy="1225440"/>
            </a:xfrm>
            <a:prstGeom prst="flowChartPredefined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Имя вспомогательног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лгоритма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спис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актических параметров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2500200" y="4480200"/>
              <a:ext cx="4608000" cy="1584360"/>
            </a:xfrm>
            <a:prstGeom prst="rect">
              <a:avLst/>
            </a:prstGeom>
            <a:solidFill>
              <a:srgbClr val="d1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спомогательный алгорит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ормальные аргумен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ормальные аргумен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>
              <a:off x="4714560" y="18939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>
              <a:off x="4714560" y="297504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>
              <a:off x="4714560" y="326268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>
              <a:off x="4714560" y="3117960"/>
              <a:ext cx="30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>
              <a:off x="4714560" y="3262680"/>
              <a:ext cx="25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1"/>
            <p:cNvSpPr/>
            <p:nvPr/>
          </p:nvSpPr>
          <p:spPr>
            <a:xfrm>
              <a:off x="2195640" y="3910320"/>
              <a:ext cx="511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2"/>
            <p:cNvSpPr/>
            <p:nvPr/>
          </p:nvSpPr>
          <p:spPr>
            <a:xfrm>
              <a:off x="4714560" y="4197600"/>
              <a:ext cx="30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3"/>
            <p:cNvSpPr/>
            <p:nvPr/>
          </p:nvSpPr>
          <p:spPr>
            <a:xfrm>
              <a:off x="4714560" y="4197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34"/>
            <p:cNvSpPr/>
            <p:nvPr/>
          </p:nvSpPr>
          <p:spPr>
            <a:xfrm>
              <a:off x="7307280" y="326268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5"/>
            <p:cNvSpPr/>
            <p:nvPr/>
          </p:nvSpPr>
          <p:spPr>
            <a:xfrm>
              <a:off x="7812000" y="311796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6"/>
            <p:cNvSpPr/>
            <p:nvPr/>
          </p:nvSpPr>
          <p:spPr>
            <a:xfrm>
              <a:off x="2195640" y="3910320"/>
              <a:ext cx="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7"/>
            <p:cNvSpPr/>
            <p:nvPr/>
          </p:nvSpPr>
          <p:spPr>
            <a:xfrm>
              <a:off x="2195640" y="6286680"/>
              <a:ext cx="25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8"/>
            <p:cNvSpPr/>
            <p:nvPr/>
          </p:nvSpPr>
          <p:spPr>
            <a:xfrm>
              <a:off x="4787640" y="60706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642960" y="2571840"/>
            <a:ext cx="44974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Алгоритм вычисления степени с натуральным показателем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для любого вещественного числа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дставленный  в виде рекурсивного алгорит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39640" y="260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Рекурсивный 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5"/>
          <p:cNvGrpSpPr/>
          <p:nvPr/>
        </p:nvGrpSpPr>
        <p:grpSpPr>
          <a:xfrm>
            <a:off x="5929200" y="2000160"/>
            <a:ext cx="2448000" cy="4248000"/>
            <a:chOff x="5929200" y="2000160"/>
            <a:chExt cx="2448000" cy="4248000"/>
          </a:xfrm>
        </p:grpSpPr>
        <p:sp>
          <p:nvSpPr>
            <p:cNvPr id="194" name="Line 8"/>
            <p:cNvSpPr/>
            <p:nvPr/>
          </p:nvSpPr>
          <p:spPr>
            <a:xfrm>
              <a:off x="7154640" y="2431800"/>
              <a:ext cx="0" cy="338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6"/>
            <p:cNvSpPr/>
            <p:nvPr/>
          </p:nvSpPr>
          <p:spPr>
            <a:xfrm>
              <a:off x="6362640" y="2000160"/>
              <a:ext cx="1512720" cy="43164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ча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7"/>
            <p:cNvSpPr/>
            <p:nvPr/>
          </p:nvSpPr>
          <p:spPr>
            <a:xfrm>
              <a:off x="6433920" y="2719080"/>
              <a:ext cx="1436760" cy="43200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0"/>
            <p:cNvSpPr/>
            <p:nvPr/>
          </p:nvSpPr>
          <p:spPr>
            <a:xfrm>
              <a:off x="5929200" y="3511440"/>
              <a:ext cx="2448000" cy="649080"/>
            </a:xfrm>
            <a:prstGeom prst="flowChartPredefinedProcess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n-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1"/>
            <p:cNvSpPr/>
            <p:nvPr/>
          </p:nvSpPr>
          <p:spPr>
            <a:xfrm>
              <a:off x="6291000" y="4375080"/>
              <a:ext cx="1727280" cy="433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:=a*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2"/>
            <p:cNvSpPr/>
            <p:nvPr/>
          </p:nvSpPr>
          <p:spPr>
            <a:xfrm>
              <a:off x="6362640" y="5095800"/>
              <a:ext cx="1511280" cy="43164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3"/>
            <p:cNvSpPr/>
            <p:nvPr/>
          </p:nvSpPr>
          <p:spPr>
            <a:xfrm>
              <a:off x="6362640" y="5816520"/>
              <a:ext cx="1512720" cy="43164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ец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39"/>
          <p:cNvSpPr/>
          <p:nvPr/>
        </p:nvSpPr>
        <p:spPr>
          <a:xfrm>
            <a:off x="500040" y="92880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лгоритм, в котором прямо или косвенно содержится ссылка на него же как на вспомогательный алгоритм, называют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екурсивн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5"/>
          <p:cNvSpPr/>
          <p:nvPr/>
        </p:nvSpPr>
        <p:spPr>
          <a:xfrm>
            <a:off x="539640" y="260280"/>
            <a:ext cx="8280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Снежинка К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907920"/>
            <a:ext cx="8136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Рассмотрим алгоритм построения геометрической фигуры, которая называется снежинкой Коха. Шаг процедуры построения состоит в замене средней трети каждого из имеющихся отрезков двумя новыми той же дли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551664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каждым шагом фигура становится всё причудливее. Граница снежинки Коха - положение кривой после выполнения бесконечного числа шаг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6000" y="2781360"/>
            <a:ext cx="33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Начальное полож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87640" y="278136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Первый ша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87640" y="278136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Второй ша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278136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Третий ша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276720" y="3284640"/>
            <a:ext cx="2009520" cy="1942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203640" y="3284640"/>
            <a:ext cx="2076480" cy="2276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3203640" y="3284640"/>
            <a:ext cx="2162160" cy="2286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3132000" y="3284640"/>
            <a:ext cx="2400480" cy="22287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http://fractalworld.xaoc.ru/images/snowflake3.png"/>
          <p:cNvPicPr/>
          <p:nvPr/>
        </p:nvPicPr>
        <p:blipFill>
          <a:blip r:embed="rId6"/>
          <a:stretch/>
        </p:blipFill>
        <p:spPr>
          <a:xfrm rot="1718400">
            <a:off x="2987640" y="2636640"/>
            <a:ext cx="28828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4"/>
          <p:cNvSpPr/>
          <p:nvPr/>
        </p:nvSpPr>
        <p:spPr>
          <a:xfrm>
            <a:off x="324000" y="907920"/>
            <a:ext cx="8569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Метод последовательного построения алгоритма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ходная задача разбивается на несколько частей, каждая из которых проще всей задачи, и решение каждой части формулируется в отдельной команд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сли получаются команды, выходящие за пределы возможностей исполнителя, то они представляются в виде совокупности ещё более простых предписа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цесс продолжается до тех пор, пока все предписания не будут понятны исполнител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Вспомогательный алгорит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алгоритм, целиком используемый в составе другого алгорит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лгоритм, в котором прямо или косвенно содержится ссылка на него же как на вспомогательный алгоритм, называют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рекурсивны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95280" y="1268280"/>
            <a:ext cx="85694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ледовательное построение алгорит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помогательный алгорит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ормальные параме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ктические параме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курсивный алгорит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61"/>
          <p:cNvSpPr/>
          <p:nvPr/>
        </p:nvSpPr>
        <p:spPr>
          <a:xfrm>
            <a:off x="539640" y="1557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чему при решении сложной задачи затрудн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азу конкретизировать все необходимые действ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62"/>
          <p:cNvSpPr/>
          <p:nvPr/>
        </p:nvSpPr>
        <p:spPr>
          <a:xfrm>
            <a:off x="539640" y="1557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чём заключается метод последовательного уточнения при построении алгорит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63"/>
          <p:cNvSpPr/>
          <p:nvPr/>
        </p:nvSpPr>
        <p:spPr>
          <a:xfrm>
            <a:off x="468360" y="1628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я связь между методом последовательного  построения алгоритма и такими процессами, как написание сочинения или подготовка к многодневному  туристическому пох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64"/>
          <p:cNvSpPr/>
          <p:nvPr/>
        </p:nvSpPr>
        <p:spPr>
          <a:xfrm>
            <a:off x="468360" y="1557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вестен рост каждого из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чеников 9А класса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учеников 9Б кла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шите укрупнёнными блоками алгоритм сравнения  среднего роста учеников этих кла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5"/>
          <p:cNvSpPr/>
          <p:nvPr/>
        </p:nvSpPr>
        <p:spPr>
          <a:xfrm>
            <a:off x="395280" y="98100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яду из десяти клеток правее Робота некоторые клетки закрашены. Последняя закрашенная клетка может примыкать к сте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алгоритм, который закрашивает клетки выше и ниже каждой закрашенной кле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ьте работу алгоритма в следующих случа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68360" y="3860640"/>
          <a:ext cx="4056120" cy="1195560"/>
        </p:xfrm>
        <a:graphic>
          <a:graphicData uri="http://schemas.openxmlformats.org/drawingml/2006/table">
            <a:tbl>
              <a:tblPr/>
              <a:tblGrid>
                <a:gridCol w="368280"/>
                <a:gridCol w="368280"/>
                <a:gridCol w="369720"/>
                <a:gridCol w="368640"/>
                <a:gridCol w="368280"/>
                <a:gridCol w="369720"/>
                <a:gridCol w="368280"/>
                <a:gridCol w="368280"/>
                <a:gridCol w="370080"/>
                <a:gridCol w="368280"/>
                <a:gridCol w="368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4716360" y="3860640"/>
          <a:ext cx="4056120" cy="1195560"/>
        </p:xfrm>
        <a:graphic>
          <a:graphicData uri="http://schemas.openxmlformats.org/drawingml/2006/table">
            <a:tbl>
              <a:tblPr/>
              <a:tblGrid>
                <a:gridCol w="368280"/>
                <a:gridCol w="368280"/>
                <a:gridCol w="370080"/>
                <a:gridCol w="368280"/>
                <a:gridCol w="368280"/>
                <a:gridCol w="369720"/>
                <a:gridCol w="368280"/>
                <a:gridCol w="368640"/>
                <a:gridCol w="369720"/>
                <a:gridCol w="368280"/>
                <a:gridCol w="368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637"/>
          <p:cNvSpPr/>
          <p:nvPr/>
        </p:nvSpPr>
        <p:spPr>
          <a:xfrm>
            <a:off x="468360" y="1989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чего нужны вспомогательные алгорит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38"/>
          <p:cNvSpPr/>
          <p:nvPr/>
        </p:nvSpPr>
        <p:spPr>
          <a:xfrm>
            <a:off x="46836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шите процесс выполнения команды вызова  вспомогательного алгоритма в основном алгорит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39"/>
          <p:cNvSpPr/>
          <p:nvPr/>
        </p:nvSpPr>
        <p:spPr>
          <a:xfrm>
            <a:off x="468360" y="213372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лкивались ли вы с идеей формальных и фактических параметров при изучении математики и физи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ите 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40"/>
          <p:cNvSpPr/>
          <p:nvPr/>
        </p:nvSpPr>
        <p:spPr>
          <a:xfrm>
            <a:off x="468360" y="20606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алгоритмы называют рекурсив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ите пример рекурсии из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41"/>
          <p:cNvSpPr/>
          <p:nvPr/>
        </p:nvSpPr>
        <p:spPr>
          <a:xfrm>
            <a:off x="468360" y="981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алгоритмы, под управлением которых Робот закрасит указанные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39640" y="2637000"/>
          <a:ext cx="8207640" cy="3168360"/>
        </p:xfrm>
        <a:graphic>
          <a:graphicData uri="http://schemas.openxmlformats.org/drawingml/2006/table">
            <a:tbl>
              <a:tblPr/>
              <a:tblGrid>
                <a:gridCol w="274680"/>
                <a:gridCol w="271440"/>
                <a:gridCol w="274680"/>
                <a:gridCol w="273240"/>
                <a:gridCol w="272880"/>
                <a:gridCol w="274680"/>
                <a:gridCol w="272880"/>
                <a:gridCol w="274680"/>
                <a:gridCol w="271440"/>
                <a:gridCol w="274680"/>
                <a:gridCol w="274680"/>
                <a:gridCol w="271440"/>
                <a:gridCol w="274680"/>
                <a:gridCol w="273240"/>
                <a:gridCol w="272880"/>
                <a:gridCol w="274680"/>
                <a:gridCol w="272880"/>
                <a:gridCol w="273240"/>
                <a:gridCol w="272880"/>
                <a:gridCol w="273240"/>
                <a:gridCol w="274680"/>
                <a:gridCol w="274680"/>
                <a:gridCol w="271440"/>
                <a:gridCol w="274680"/>
                <a:gridCol w="272880"/>
                <a:gridCol w="272880"/>
                <a:gridCol w="274680"/>
                <a:gridCol w="274680"/>
                <a:gridCol w="274680"/>
                <a:gridCol w="273240"/>
              </a:tblGrid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Text Box 985"/>
          <p:cNvSpPr/>
          <p:nvPr/>
        </p:nvSpPr>
        <p:spPr>
          <a:xfrm>
            <a:off x="1332000" y="58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86"/>
          <p:cNvSpPr/>
          <p:nvPr/>
        </p:nvSpPr>
        <p:spPr>
          <a:xfrm>
            <a:off x="4356000" y="573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87"/>
          <p:cNvSpPr/>
          <p:nvPr/>
        </p:nvSpPr>
        <p:spPr>
          <a:xfrm>
            <a:off x="7524720" y="573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611280" y="907920"/>
            <a:ext cx="8281800" cy="76428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Метод последовательного построения алгорит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один из основных методов конструирования алгоритм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3348000" y="1844640"/>
            <a:ext cx="252108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прощение кома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ановки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1116000" y="2779560"/>
            <a:ext cx="691200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чу разбивают на более прос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1116000" y="3716280"/>
            <a:ext cx="691200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ение каждой части задачи формулиру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тдельной кома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189080" y="4653000"/>
            <a:ext cx="691200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писания, выходящие за пределы возмо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нителя, представляют в виде более простых кома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4643280" y="242100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8"/>
          <p:cNvSpPr/>
          <p:nvPr/>
        </p:nvSpPr>
        <p:spPr>
          <a:xfrm>
            <a:off x="4643280" y="33559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4645080" y="42926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468360" y="5589720"/>
            <a:ext cx="8280360" cy="76428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Вспомогательный алгорит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алгоритм, целиком используемый в составе другого алгорит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3000"/>
                            </p:stCondLst>
                            <p:childTnLst>
                              <p:par>
                                <p:cTn id="7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000"/>
                            </p:stCondLst>
                            <p:childTnLst>
                              <p:par>
                                <p:cTn id="7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6000"/>
                            </p:stCondLst>
                            <p:childTnLst>
                              <p:par>
                                <p:cTn id="7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7000"/>
                            </p:stCondLst>
                            <p:childTnLst>
                              <p:par>
                                <p:cTn id="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8000"/>
                            </p:stCondLst>
                            <p:childTnLst>
                              <p:par>
                                <p:cTn id="7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46836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Последовательное построение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692360" y="1773360"/>
            <a:ext cx="2022480" cy="3528360"/>
            <a:chOff x="1692360" y="1773360"/>
            <a:chExt cx="2022480" cy="3528360"/>
          </a:xfrm>
        </p:grpSpPr>
        <p:sp>
          <p:nvSpPr>
            <p:cNvPr id="47" name="Line 10"/>
            <p:cNvSpPr/>
            <p:nvPr/>
          </p:nvSpPr>
          <p:spPr>
            <a:xfrm flipV="1">
              <a:off x="2627640" y="2204640"/>
              <a:ext cx="72720" cy="266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7"/>
            <p:cNvSpPr/>
            <p:nvPr/>
          </p:nvSpPr>
          <p:spPr>
            <a:xfrm>
              <a:off x="1979640" y="1773360"/>
              <a:ext cx="1440000" cy="43164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ча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1692360" y="2493720"/>
              <a:ext cx="2022480" cy="64728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ход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1835280" y="3357360"/>
              <a:ext cx="1657440" cy="647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станов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дач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1"/>
            <p:cNvSpPr/>
            <p:nvPr/>
          </p:nvSpPr>
          <p:spPr>
            <a:xfrm>
              <a:off x="1764000" y="4221000"/>
              <a:ext cx="1800000" cy="43164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езульта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1908360" y="4870440"/>
              <a:ext cx="1440000" cy="43128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27" descr="Антирадиационный робот посетил Францию"/>
          <p:cNvPicPr/>
          <p:nvPr/>
        </p:nvPicPr>
        <p:blipFill>
          <a:blip r:embed="rId2"/>
          <a:stretch/>
        </p:blipFill>
        <p:spPr>
          <a:xfrm>
            <a:off x="4857840" y="2857680"/>
            <a:ext cx="3357360" cy="3357360"/>
          </a:xfrm>
          <a:prstGeom prst="rect">
            <a:avLst/>
          </a:prstGeom>
          <a:ln w="0">
            <a:noFill/>
          </a:ln>
        </p:spPr>
      </p:pic>
      <p:sp>
        <p:nvSpPr>
          <p:cNvPr id="54" name="Скругленная прямоугольная выноска 19"/>
          <p:cNvSpPr/>
          <p:nvPr/>
        </p:nvSpPr>
        <p:spPr>
          <a:xfrm>
            <a:off x="5286240" y="2071800"/>
            <a:ext cx="3214800" cy="1000080"/>
          </a:xfrm>
          <a:prstGeom prst="wedgeRoundRectCallout">
            <a:avLst>
              <a:gd name="adj1" fmla="val -4578"/>
              <a:gd name="adj2" fmla="val 8477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Я совершенный исполнитель: всё знаю и всё уме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Заголовок 2"/>
          <p:cNvSpPr/>
          <p:nvPr/>
        </p:nvSpPr>
        <p:spPr>
          <a:xfrm>
            <a:off x="46836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Последовательное построение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284720" y="1557360"/>
            <a:ext cx="2994120" cy="7221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прощение ком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тановки зада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2701800" y="2852640"/>
            <a:ext cx="619128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дача разбивается на более простые ч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2701800" y="4076640"/>
            <a:ext cx="6191280" cy="86508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шение каждой части задачи формулирует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отдельной команде (предписан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2627280" y="5445000"/>
            <a:ext cx="6265800" cy="107964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дписания, выходящие за преде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озможностей исполнителя, представляю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виде более простых ком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 flipH="1">
            <a:off x="5796000" y="2279520"/>
            <a:ext cx="1440" cy="57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5796000" y="3429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5796000" y="4941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971640" y="2205000"/>
            <a:ext cx="192888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Скругленная прямоугольная выноска 18"/>
          <p:cNvSpPr/>
          <p:nvPr/>
        </p:nvSpPr>
        <p:spPr>
          <a:xfrm>
            <a:off x="542880" y="1347840"/>
            <a:ext cx="3214800" cy="1000080"/>
          </a:xfrm>
          <a:prstGeom prst="wedgeRoundRectCallout">
            <a:avLst>
              <a:gd name="adj1" fmla="val -4578"/>
              <a:gd name="adj2" fmla="val 8477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Не могу решить поставленную задачу!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Заголовок 2"/>
          <p:cNvSpPr/>
          <p:nvPr/>
        </p:nvSpPr>
        <p:spPr>
          <a:xfrm>
            <a:off x="539640" y="189000"/>
            <a:ext cx="81471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Разработка алгоритма методом последовательного уточнения для исполнителя Роб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68360" y="14130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обот находится в некоторой клетке горизонтального коридора. Ни одна из клеток коридора не закраше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979640" y="249228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35280" y="501336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8720"/>
                <a:gridCol w="555840"/>
                <a:gridCol w="558720"/>
                <a:gridCol w="555480"/>
                <a:gridCol w="555840"/>
                <a:gridCol w="558720"/>
                <a:gridCol w="555480"/>
                <a:gridCol w="55908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9"/>
          <p:cNvSpPr/>
          <p:nvPr/>
        </p:nvSpPr>
        <p:spPr>
          <a:xfrm>
            <a:off x="468360" y="386064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обот должен закрасить все клетки этого коридора и вернуться в исходное полож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4643280" y="2276640"/>
            <a:ext cx="785880" cy="1163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Антирадиационный робот посетил Францию"/>
          <p:cNvPicPr/>
          <p:nvPr/>
        </p:nvPicPr>
        <p:blipFill>
          <a:blip r:embed="rId3"/>
          <a:srcRect l="0" t="0" r="32510" b="0"/>
          <a:stretch/>
        </p:blipFill>
        <p:spPr>
          <a:xfrm>
            <a:off x="4500720" y="4797360"/>
            <a:ext cx="78552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Заголовок 2"/>
          <p:cNvSpPr/>
          <p:nvPr/>
        </p:nvSpPr>
        <p:spPr>
          <a:xfrm>
            <a:off x="539640" y="189000"/>
            <a:ext cx="8147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Укрупнённый план действий Ро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1692360" y="1844640"/>
            <a:ext cx="6622920" cy="50652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Закраска всех клеток коридора левее исх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1692360" y="2637000"/>
            <a:ext cx="6622920" cy="50616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Возвращение в исходн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1689120" y="3359160"/>
            <a:ext cx="6622920" cy="50652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Закраска всех клеток коридора правее исх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>
            <a:off x="5002200" y="1558800"/>
            <a:ext cx="144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>
            <a:off x="5002200" y="235116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>
            <a:off x="5002200" y="3143160"/>
            <a:ext cx="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1692360" y="4076640"/>
            <a:ext cx="6622920" cy="50652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Возвращение в исходн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1692360" y="4797360"/>
            <a:ext cx="6622920" cy="50652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Закраска исходной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5002200" y="3862440"/>
            <a:ext cx="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5002200" y="4583160"/>
            <a:ext cx="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3"/>
          <p:cNvSpPr/>
          <p:nvPr/>
        </p:nvSpPr>
        <p:spPr>
          <a:xfrm>
            <a:off x="4210200" y="1198440"/>
            <a:ext cx="1512720" cy="432000"/>
          </a:xfrm>
          <a:prstGeom prst="flowChartTerminator">
            <a:avLst/>
          </a:prstGeom>
          <a:solidFill>
            <a:srgbClr val="d1e8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ча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4"/>
          <p:cNvSpPr/>
          <p:nvPr/>
        </p:nvSpPr>
        <p:spPr>
          <a:xfrm>
            <a:off x="4210200" y="5519880"/>
            <a:ext cx="1512720" cy="431640"/>
          </a:xfrm>
          <a:prstGeom prst="flowChartTerminator">
            <a:avLst/>
          </a:prstGeom>
          <a:solidFill>
            <a:srgbClr val="d1e8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5"/>
          <p:cNvSpPr/>
          <p:nvPr/>
        </p:nvSpPr>
        <p:spPr>
          <a:xfrm>
            <a:off x="5002200" y="5303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468360" y="981000"/>
            <a:ext cx="965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2340000" y="4508640"/>
          <a:ext cx="5568840" cy="137160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57"/>
          <p:cNvSpPr/>
          <p:nvPr/>
        </p:nvSpPr>
        <p:spPr>
          <a:xfrm>
            <a:off x="357120" y="1143000"/>
            <a:ext cx="878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Закраска всех клеток коридора, находящихся  левее Робо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8"/>
          <p:cNvSpPr/>
          <p:nvPr/>
        </p:nvSpPr>
        <p:spPr>
          <a:xfrm>
            <a:off x="755640" y="18900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Детализ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лана действий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9"/>
          <p:cNvSpPr/>
          <p:nvPr/>
        </p:nvSpPr>
        <p:spPr>
          <a:xfrm>
            <a:off x="428760" y="157176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сверху стена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снизу с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закрасить; 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468360" y="342900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ожение Робота после выполнения этого алгорит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340000" y="4508640"/>
          <a:ext cx="5568840" cy="136656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4859280" y="4005360"/>
            <a:ext cx="9651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5607E-006 L -0.30469 0.00069 E">
                                      <p:cBhvr>
                                        <p:cTn id="17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643040" y="471492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108"/>
          <p:cNvSpPr/>
          <p:nvPr/>
        </p:nvSpPr>
        <p:spPr>
          <a:xfrm>
            <a:off x="539640" y="98100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Возвращение Робота в коридор в исходную точку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0"/>
          <p:cNvSpPr/>
          <p:nvPr/>
        </p:nvSpPr>
        <p:spPr>
          <a:xfrm>
            <a:off x="714240" y="171468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клетка закраш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785880" y="26028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Детализ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лана действий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0"/>
          <p:cNvSpPr/>
          <p:nvPr/>
        </p:nvSpPr>
        <p:spPr>
          <a:xfrm>
            <a:off x="539640" y="371628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ожение Робота после выполнения этого алгорит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1187280" y="4221000"/>
            <a:ext cx="963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L 0.34114 0.00092 E">
                                      <p:cBhvr>
                                        <p:cTn id="213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835280" y="458136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8720"/>
                <a:gridCol w="555840"/>
                <a:gridCol w="558720"/>
                <a:gridCol w="555480"/>
                <a:gridCol w="555840"/>
                <a:gridCol w="558720"/>
                <a:gridCol w="555480"/>
                <a:gridCol w="55908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52"/>
          <p:cNvSpPr/>
          <p:nvPr/>
        </p:nvSpPr>
        <p:spPr>
          <a:xfrm>
            <a:off x="539640" y="107172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Закраска всех клеток коридора, находящихся правее Робо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3"/>
          <p:cNvSpPr/>
          <p:nvPr/>
        </p:nvSpPr>
        <p:spPr>
          <a:xfrm>
            <a:off x="571680" y="185724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сверху стена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снизу с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закрасить; 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8"/>
          <p:cNvSpPr/>
          <p:nvPr/>
        </p:nvSpPr>
        <p:spPr>
          <a:xfrm>
            <a:off x="785880" y="26028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Детализ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лана действий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0"/>
          <p:cNvSpPr/>
          <p:nvPr/>
        </p:nvSpPr>
        <p:spPr>
          <a:xfrm>
            <a:off x="539640" y="371628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ожение Робота после выполнения этого алгорит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35280" y="458136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4427640" y="4076640"/>
            <a:ext cx="965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Админ</cp:lastModifiedBy>
  <dcterms:modified xsi:type="dcterms:W3CDTF">2012-07-03T15:27:01Z</dcterms:modified>
  <cp:revision>100</cp:revision>
  <dc:subject/>
  <dc:title>Презентация PowerPoint</dc:title>
</cp:coreProperties>
</file>