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8CF-787D-4D0D-B443-B2885116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127-B80E-4347-8E40-05CBFBE5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4A7-37B6-4AD5-A31B-1FBC935D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6C0-00C5-4793-AC93-DF92DA74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CB9-D9C6-4486-8811-9EFD5811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43A-BE42-48BF-9EA2-DE2E85E3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505-191B-42BE-8E68-05B05F2B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3CF-B989-42B9-B3B8-73BCDC56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FE0-256A-42E3-9B14-9B24B827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248-164D-4F95-B664-960E169E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E47-B0F4-4E81-A531-92894BAA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895-0F4C-4B3B-AAA7-357A7EDA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46CF-B19E-4643-A1BA-A841D284F8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РУИРОВАНИЕ  АЛГОРИТ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85960" y="30718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52"/>
          <p:cNvSpPr/>
          <p:nvPr/>
        </p:nvSpPr>
        <p:spPr>
          <a:xfrm>
            <a:off x="539640" y="981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Возвращение Робота в коридор в исходную точку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3"/>
          <p:cNvSpPr/>
          <p:nvPr/>
        </p:nvSpPr>
        <p:spPr>
          <a:xfrm>
            <a:off x="571680" y="150012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6"/>
          <p:cNvSpPr/>
          <p:nvPr/>
        </p:nvSpPr>
        <p:spPr>
          <a:xfrm>
            <a:off x="539640" y="4365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По команде </a:t>
            </a:r>
            <a:r>
              <a:rPr b="0" i="1" lang="en-US" sz="2200" spc="-1" strike="noStrike">
                <a:solidFill>
                  <a:srgbClr val="000000"/>
                </a:solidFill>
                <a:latin typeface="FangSong"/>
                <a:ea typeface="Arial Unicode MS"/>
              </a:rPr>
              <a:t>закраси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обот закрашивает исходную точк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6804000" y="2637000"/>
            <a:ext cx="963720" cy="1428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6364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63640" y="5013360"/>
          <a:ext cx="5569200" cy="1366920"/>
        </p:xfrm>
        <a:graphic>
          <a:graphicData uri="http://schemas.openxmlformats.org/drawingml/2006/table">
            <a:tbl>
              <a:tblPr/>
              <a:tblGrid>
                <a:gridCol w="555840"/>
                <a:gridCol w="55872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356000" y="4508640"/>
            <a:ext cx="963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26528 0.00092 E">
                                      <p:cBhvr>
                                        <p:cTn id="28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6"/>
          <p:cNvSpPr/>
          <p:nvPr/>
        </p:nvSpPr>
        <p:spPr>
          <a:xfrm>
            <a:off x="468360" y="692280"/>
            <a:ext cx="7103880" cy="63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а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11280" y="189000"/>
            <a:ext cx="8143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рограмма для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7" descr="Антирадиационный робот посетил Францию"/>
          <p:cNvPicPr/>
          <p:nvPr/>
        </p:nvPicPr>
        <p:blipFill>
          <a:blip r:embed="rId2"/>
          <a:srcRect l="32502" t="0" r="0" b="0"/>
          <a:stretch/>
        </p:blipFill>
        <p:spPr>
          <a:xfrm>
            <a:off x="6804000" y="1557360"/>
            <a:ext cx="1928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Вспомогательный алгорит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360" y="9079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м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3419640" y="2276280"/>
            <a:ext cx="1728720" cy="1223640"/>
            <a:chOff x="3419640" y="2276280"/>
            <a:chExt cx="1728720" cy="1223640"/>
          </a:xfrm>
        </p:grpSpPr>
        <p:sp>
          <p:nvSpPr>
            <p:cNvPr id="122" name="Line 8"/>
            <p:cNvSpPr/>
            <p:nvPr/>
          </p:nvSpPr>
          <p:spPr>
            <a:xfrm flipV="1">
              <a:off x="4284720" y="2276280"/>
              <a:ext cx="0" cy="12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7"/>
            <p:cNvSpPr/>
            <p:nvPr/>
          </p:nvSpPr>
          <p:spPr>
            <a:xfrm>
              <a:off x="3419640" y="2563920"/>
              <a:ext cx="172872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9"/>
          <p:cNvSpPr/>
          <p:nvPr/>
        </p:nvSpPr>
        <p:spPr>
          <a:xfrm>
            <a:off x="1692360" y="378936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ок «предопределённый процесс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39640" y="4724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делает структуру алгоритма более простой  и понят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4"/>
          <p:cNvSpPr/>
          <p:nvPr/>
        </p:nvSpPr>
        <p:spPr>
          <a:xfrm>
            <a:off x="4500720" y="3214800"/>
            <a:ext cx="292896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 со стрелкой вправо 13"/>
          <p:cNvSpPr/>
          <p:nvPr/>
        </p:nvSpPr>
        <p:spPr>
          <a:xfrm>
            <a:off x="1187280" y="3429000"/>
            <a:ext cx="3067200" cy="1643040"/>
          </a:xfrm>
          <a:prstGeom prst="rightArrowCallout">
            <a:avLst>
              <a:gd name="adj1" fmla="val 25002"/>
              <a:gd name="adj2" fmla="val 25000"/>
              <a:gd name="adj3" fmla="val 27526"/>
              <a:gd name="adj4" fmla="val 6497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Алгоритм вычис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тепен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11280" y="907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целое число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4314960" y="971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3"/>
              <p:cNvSpPr txBox="1"/>
              <p:nvPr/>
            </p:nvSpPr>
            <p:spPr>
              <a:xfrm>
                <a:off x="2857680" y="1857240"/>
                <a:ext cx="2879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∉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14"/>
          <p:cNvSpPr/>
          <p:nvPr/>
        </p:nvSpPr>
        <p:spPr>
          <a:xfrm>
            <a:off x="4572000" y="2500200"/>
            <a:ext cx="3103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x  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gt;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lt;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1473120" y="3857760"/>
                <a:ext cx="13683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AutoShape 17"/>
          <p:cNvSpPr/>
          <p:nvPr/>
        </p:nvSpPr>
        <p:spPr>
          <a:xfrm>
            <a:off x="5286240" y="3429000"/>
            <a:ext cx="73080" cy="1655640"/>
          </a:xfrm>
          <a:custGeom>
            <a:avLst/>
            <a:gdLst>
              <a:gd name="textAreaLeft" fmla="*/ 46800 w 73080"/>
              <a:gd name="textAreaRight" fmla="*/ 73440 w 730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8"/>
              <p:cNvSpPr txBox="1"/>
              <p:nvPr/>
            </p:nvSpPr>
            <p:spPr>
              <a:xfrm>
                <a:off x="5357880" y="4143240"/>
                <a:ext cx="685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Text Box 19"/>
          <p:cNvSpPr/>
          <p:nvPr/>
        </p:nvSpPr>
        <p:spPr>
          <a:xfrm>
            <a:off x="500040" y="5643720"/>
            <a:ext cx="82803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им алгоритм возведения числа в степе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(a, n, y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вспомогательный алгорит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1484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определению степени с целым показател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46"/>
          <p:cNvSpPr/>
          <p:nvPr/>
        </p:nvSpPr>
        <p:spPr>
          <a:xfrm>
            <a:off x="468360" y="142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Блок-сх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ш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86"/>
          <p:cNvGrpSpPr/>
          <p:nvPr/>
        </p:nvGrpSpPr>
        <p:grpSpPr>
          <a:xfrm>
            <a:off x="1357200" y="836640"/>
            <a:ext cx="6840360" cy="5694480"/>
            <a:chOff x="1357200" y="836640"/>
            <a:chExt cx="6840360" cy="5694480"/>
          </a:xfrm>
        </p:grpSpPr>
        <p:sp>
          <p:nvSpPr>
            <p:cNvPr id="142" name="Line 487"/>
            <p:cNvSpPr/>
            <p:nvPr/>
          </p:nvSpPr>
          <p:spPr>
            <a:xfrm>
              <a:off x="2076120" y="2349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88"/>
            <p:cNvSpPr/>
            <p:nvPr/>
          </p:nvSpPr>
          <p:spPr>
            <a:xfrm>
              <a:off x="4167000" y="3068640"/>
              <a:ext cx="316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89"/>
            <p:cNvSpPr/>
            <p:nvPr/>
          </p:nvSpPr>
          <p:spPr>
            <a:xfrm>
              <a:off x="2076120" y="2349360"/>
              <a:ext cx="374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90"/>
            <p:cNvSpPr/>
            <p:nvPr/>
          </p:nvSpPr>
          <p:spPr>
            <a:xfrm>
              <a:off x="4092480" y="119700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91"/>
            <p:cNvSpPr/>
            <p:nvPr/>
          </p:nvSpPr>
          <p:spPr>
            <a:xfrm>
              <a:off x="3444840" y="836640"/>
              <a:ext cx="136836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92"/>
            <p:cNvSpPr/>
            <p:nvPr/>
          </p:nvSpPr>
          <p:spPr>
            <a:xfrm>
              <a:off x="4165560" y="5445000"/>
              <a:ext cx="143640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3"/>
            <p:cNvSpPr/>
            <p:nvPr/>
          </p:nvSpPr>
          <p:spPr>
            <a:xfrm>
              <a:off x="445284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94"/>
            <p:cNvSpPr/>
            <p:nvPr/>
          </p:nvSpPr>
          <p:spPr>
            <a:xfrm>
              <a:off x="502884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95"/>
            <p:cNvSpPr/>
            <p:nvPr/>
          </p:nvSpPr>
          <p:spPr>
            <a:xfrm>
              <a:off x="330012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96"/>
            <p:cNvSpPr/>
            <p:nvPr/>
          </p:nvSpPr>
          <p:spPr>
            <a:xfrm>
              <a:off x="3373200" y="1413000"/>
              <a:ext cx="143676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97"/>
            <p:cNvSpPr/>
            <p:nvPr/>
          </p:nvSpPr>
          <p:spPr>
            <a:xfrm>
              <a:off x="3228840" y="2060640"/>
              <a:ext cx="172872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8"/>
            <p:cNvSpPr/>
            <p:nvPr/>
          </p:nvSpPr>
          <p:spPr>
            <a:xfrm>
              <a:off x="1357200" y="2781360"/>
              <a:ext cx="1441440" cy="4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99"/>
            <p:cNvSpPr/>
            <p:nvPr/>
          </p:nvSpPr>
          <p:spPr>
            <a:xfrm>
              <a:off x="4165560" y="6165720"/>
              <a:ext cx="1368360" cy="36540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00"/>
            <p:cNvSpPr/>
            <p:nvPr/>
          </p:nvSpPr>
          <p:spPr>
            <a:xfrm>
              <a:off x="4957560" y="2781360"/>
              <a:ext cx="172728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501"/>
            <p:cNvSpPr/>
            <p:nvPr/>
          </p:nvSpPr>
          <p:spPr>
            <a:xfrm>
              <a:off x="646884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02"/>
            <p:cNvSpPr/>
            <p:nvPr/>
          </p:nvSpPr>
          <p:spPr>
            <a:xfrm>
              <a:off x="5821200" y="2349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03"/>
            <p:cNvSpPr/>
            <p:nvPr/>
          </p:nvSpPr>
          <p:spPr>
            <a:xfrm>
              <a:off x="733248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04"/>
            <p:cNvSpPr/>
            <p:nvPr/>
          </p:nvSpPr>
          <p:spPr>
            <a:xfrm>
              <a:off x="416556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05"/>
            <p:cNvSpPr/>
            <p:nvPr/>
          </p:nvSpPr>
          <p:spPr>
            <a:xfrm>
              <a:off x="4165560" y="436572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06"/>
            <p:cNvSpPr/>
            <p:nvPr/>
          </p:nvSpPr>
          <p:spPr>
            <a:xfrm>
              <a:off x="733248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07"/>
            <p:cNvSpPr/>
            <p:nvPr/>
          </p:nvSpPr>
          <p:spPr>
            <a:xfrm>
              <a:off x="54608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08"/>
            <p:cNvSpPr/>
            <p:nvPr/>
          </p:nvSpPr>
          <p:spPr>
            <a:xfrm>
              <a:off x="5460840" y="4941720"/>
              <a:ext cx="187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09"/>
            <p:cNvSpPr/>
            <p:nvPr/>
          </p:nvSpPr>
          <p:spPr>
            <a:xfrm>
              <a:off x="4165560" y="479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10"/>
            <p:cNvSpPr/>
            <p:nvPr/>
          </p:nvSpPr>
          <p:spPr>
            <a:xfrm>
              <a:off x="4884480" y="515772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11"/>
            <p:cNvSpPr/>
            <p:nvPr/>
          </p:nvSpPr>
          <p:spPr>
            <a:xfrm>
              <a:off x="2076120" y="515772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12"/>
            <p:cNvSpPr/>
            <p:nvPr/>
          </p:nvSpPr>
          <p:spPr>
            <a:xfrm>
              <a:off x="4884480" y="5157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3"/>
            <p:cNvSpPr/>
            <p:nvPr/>
          </p:nvSpPr>
          <p:spPr>
            <a:xfrm>
              <a:off x="265248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14"/>
            <p:cNvSpPr/>
            <p:nvPr/>
          </p:nvSpPr>
          <p:spPr>
            <a:xfrm>
              <a:off x="661320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5"/>
            <p:cNvSpPr/>
            <p:nvPr/>
          </p:nvSpPr>
          <p:spPr>
            <a:xfrm>
              <a:off x="4884480" y="58770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500040" y="2214720"/>
            <a:ext cx="842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ормальны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ользуются при описании алгорит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актически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те величины, для которых будет исполнен вспомогательный алгорит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пы, количество и порядок следования формальных и фактических параметров должны совпад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Заголовок 2"/>
          <p:cNvSpPr/>
          <p:nvPr/>
        </p:nvSpPr>
        <p:spPr>
          <a:xfrm>
            <a:off x="357120" y="189000"/>
            <a:ext cx="850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Формальные и фактические парам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57120" y="260280"/>
            <a:ext cx="8786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хема вызова вспомогатель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195640" y="1389240"/>
            <a:ext cx="5616360" cy="4897440"/>
            <a:chOff x="2195640" y="1389240"/>
            <a:chExt cx="5616360" cy="4897440"/>
          </a:xfrm>
        </p:grpSpPr>
        <p:sp>
          <p:nvSpPr>
            <p:cNvPr id="175" name="Rectangle 23"/>
            <p:cNvSpPr/>
            <p:nvPr/>
          </p:nvSpPr>
          <p:spPr>
            <a:xfrm>
              <a:off x="2482560" y="1389240"/>
              <a:ext cx="4536720" cy="230364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сновно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2771640" y="2109960"/>
              <a:ext cx="3816000" cy="1225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мя вспомога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лгоритм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спис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ктических параметр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2500200" y="4480200"/>
              <a:ext cx="4608000" cy="158436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спомогательны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4714560" y="18939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4714560" y="297504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4714560" y="32626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>
              <a:off x="4714560" y="311796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4714560" y="326268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>
              <a:off x="2195640" y="3910320"/>
              <a:ext cx="511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>
              <a:off x="4714560" y="419760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4714560" y="4197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>
              <a:off x="7307280" y="326268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>
              <a:off x="7812000" y="31179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2195640" y="391032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>
              <a:off x="2195640" y="6286680"/>
              <a:ext cx="25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>
              <a:off x="4787640" y="60706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642960" y="2571840"/>
            <a:ext cx="4497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лгоритм вычисления степени с натуральным показателем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ля любого вещественного числа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ставленный  в виде рекурсивного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26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курсивны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5"/>
          <p:cNvGrpSpPr/>
          <p:nvPr/>
        </p:nvGrpSpPr>
        <p:grpSpPr>
          <a:xfrm>
            <a:off x="5929200" y="2000160"/>
            <a:ext cx="2448000" cy="4248000"/>
            <a:chOff x="5929200" y="2000160"/>
            <a:chExt cx="2448000" cy="4248000"/>
          </a:xfrm>
        </p:grpSpPr>
        <p:sp>
          <p:nvSpPr>
            <p:cNvPr id="194" name="Line 8"/>
            <p:cNvSpPr/>
            <p:nvPr/>
          </p:nvSpPr>
          <p:spPr>
            <a:xfrm>
              <a:off x="7154640" y="2431800"/>
              <a:ext cx="0" cy="33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6"/>
            <p:cNvSpPr/>
            <p:nvPr/>
          </p:nvSpPr>
          <p:spPr>
            <a:xfrm>
              <a:off x="6362640" y="200016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6433920" y="2719080"/>
              <a:ext cx="143676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5929200" y="3511440"/>
              <a:ext cx="244800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-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6291000" y="4375080"/>
              <a:ext cx="172728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:=a*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2"/>
            <p:cNvSpPr/>
            <p:nvPr/>
          </p:nvSpPr>
          <p:spPr>
            <a:xfrm>
              <a:off x="6362640" y="5095800"/>
              <a:ext cx="151128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3"/>
            <p:cNvSpPr/>
            <p:nvPr/>
          </p:nvSpPr>
          <p:spPr>
            <a:xfrm>
              <a:off x="6362640" y="581652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39"/>
          <p:cNvSpPr/>
          <p:nvPr/>
        </p:nvSpPr>
        <p:spPr>
          <a:xfrm>
            <a:off x="500040" y="9288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екурсив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539640" y="260280"/>
            <a:ext cx="828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нежинка К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907920"/>
            <a:ext cx="81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ассмотрим алгоритм построения геометрической фигуры, которая называется снежинкой Коха. Шаг процедуры построения состоит в замене средней трети каждого из имеющихся отрезков двумя новыми той же дли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516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ждым шагом фигура становится всё причудливее. Граница снежинки Коха - положение кривой после выполнения бесконечного числа шаг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78136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Начальное по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Первы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Второ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Трети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009520" cy="1942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2076480" cy="2276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203640" y="3284640"/>
            <a:ext cx="2162160" cy="2286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132000" y="3284640"/>
            <a:ext cx="2400480" cy="2228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http://fractalworld.xaoc.ru/images/snowflake3.png"/>
          <p:cNvPicPr/>
          <p:nvPr/>
        </p:nvPicPr>
        <p:blipFill>
          <a:blip r:embed="rId6"/>
          <a:stretch/>
        </p:blipFill>
        <p:spPr>
          <a:xfrm rot="1718400">
            <a:off x="2987640" y="2636640"/>
            <a:ext cx="2882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4"/>
          <p:cNvSpPr/>
          <p:nvPr/>
        </p:nvSpPr>
        <p:spPr>
          <a:xfrm>
            <a:off x="324000" y="907920"/>
            <a:ext cx="8569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ходная задача разбивается на несколько частей, каждая из которых проще всей задачи, и решение каждой части формулируется в отдельной команд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получаются команды, выходящие за пределы возможностей исполнителя, то они представляются в виде совокупности ещё более простых предпис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цесс продолжается до тех пор, пока все предписания не будут понятны исполнител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рекурсивны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95280" y="1268280"/>
            <a:ext cx="85694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довательное построение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альны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ктически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курсив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61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 при решении сложной задачи затрудн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зу конкретизировать все необходимые дейст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2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чём заключается метод последовательного уточнения при построении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63"/>
          <p:cNvSpPr/>
          <p:nvPr/>
        </p:nvSpPr>
        <p:spPr>
          <a:xfrm>
            <a:off x="468360" y="1628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связь между методом последовательного  построения алгоритма и такими процессами, как написание сочинения или подготовка к многодневному  туристическому пох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64"/>
          <p:cNvSpPr/>
          <p:nvPr/>
        </p:nvSpPr>
        <p:spPr>
          <a:xfrm>
            <a:off x="468360" y="1557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ен рост каждого и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еников 9А класса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учеников 9Б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укрупнёнными блоками алгоритм сравнения  среднего роста учеников эт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5"/>
          <p:cNvSpPr/>
          <p:nvPr/>
        </p:nvSpPr>
        <p:spPr>
          <a:xfrm>
            <a:off x="395280" y="981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яду из десяти клеток правее Робота некоторые клетки закрашены. Последняя закрашенная клетка может примыкать к ст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, который закрашивает клетки выше и ниже каждой закрашенной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ьте работу алгоритма в следующих случа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68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69720"/>
                <a:gridCol w="368640"/>
                <a:gridCol w="368280"/>
                <a:gridCol w="369720"/>
                <a:gridCol w="368280"/>
                <a:gridCol w="368280"/>
                <a:gridCol w="37008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716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70080"/>
                <a:gridCol w="368280"/>
                <a:gridCol w="368280"/>
                <a:gridCol w="369720"/>
                <a:gridCol w="368280"/>
                <a:gridCol w="368640"/>
                <a:gridCol w="36972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637"/>
          <p:cNvSpPr/>
          <p:nvPr/>
        </p:nvSpPr>
        <p:spPr>
          <a:xfrm>
            <a:off x="46836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чего нужны вспомогательные алгорит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38"/>
          <p:cNvSpPr/>
          <p:nvPr/>
        </p:nvSpPr>
        <p:spPr>
          <a:xfrm>
            <a:off x="46836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процесс выполнения команды вызова  вспомогательного алгоритма в основном алгорит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39"/>
          <p:cNvSpPr/>
          <p:nvPr/>
        </p:nvSpPr>
        <p:spPr>
          <a:xfrm>
            <a:off x="468360" y="21337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кивались ли вы с идеей формальных и фактических параметров при изучении математики и физ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40"/>
          <p:cNvSpPr/>
          <p:nvPr/>
        </p:nvSpPr>
        <p:spPr>
          <a:xfrm>
            <a:off x="468360" y="2060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алгоритмы называют рекурсив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 рекурсии и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41"/>
          <p:cNvSpPr/>
          <p:nvPr/>
        </p:nvSpPr>
        <p:spPr>
          <a:xfrm>
            <a:off x="468360" y="98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ы, под управлением которых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9640" y="2637000"/>
          <a:ext cx="8207640" cy="3168360"/>
        </p:xfrm>
        <a:graphic>
          <a:graphicData uri="http://schemas.openxmlformats.org/drawingml/2006/table">
            <a:tbl>
              <a:tblPr/>
              <a:tblGrid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4680"/>
                <a:gridCol w="271440"/>
                <a:gridCol w="274680"/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3240"/>
                <a:gridCol w="272880"/>
                <a:gridCol w="273240"/>
                <a:gridCol w="274680"/>
                <a:gridCol w="274680"/>
                <a:gridCol w="271440"/>
                <a:gridCol w="274680"/>
                <a:gridCol w="272880"/>
                <a:gridCol w="272880"/>
                <a:gridCol w="274680"/>
                <a:gridCol w="274680"/>
                <a:gridCol w="274680"/>
                <a:gridCol w="273240"/>
              </a:tblGrid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985"/>
          <p:cNvSpPr/>
          <p:nvPr/>
        </p:nvSpPr>
        <p:spPr>
          <a:xfrm>
            <a:off x="133200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86"/>
          <p:cNvSpPr/>
          <p:nvPr/>
        </p:nvSpPr>
        <p:spPr>
          <a:xfrm>
            <a:off x="435600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87"/>
          <p:cNvSpPr/>
          <p:nvPr/>
        </p:nvSpPr>
        <p:spPr>
          <a:xfrm>
            <a:off x="752472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611280" y="907920"/>
            <a:ext cx="828180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один из основных методов конструирования алгорит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3348000" y="1844640"/>
            <a:ext cx="25210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1116000" y="277956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у разбивают на более 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116000" y="371628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дельной кома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189080" y="465300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нителя, представляют в виде более простых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4643280" y="2421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4643280" y="33559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4645080" y="42926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68360" y="5589720"/>
            <a:ext cx="828036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80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692360" y="1773360"/>
            <a:ext cx="2022480" cy="3528360"/>
            <a:chOff x="1692360" y="1773360"/>
            <a:chExt cx="2022480" cy="3528360"/>
          </a:xfrm>
        </p:grpSpPr>
        <p:sp>
          <p:nvSpPr>
            <p:cNvPr id="47" name="Line 10"/>
            <p:cNvSpPr/>
            <p:nvPr/>
          </p:nvSpPr>
          <p:spPr>
            <a:xfrm flipV="1">
              <a:off x="2627640" y="2204640"/>
              <a:ext cx="72720" cy="26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1979640" y="1773360"/>
              <a:ext cx="1440000" cy="4316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1692360" y="2493720"/>
              <a:ext cx="2022480" cy="64728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ход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835280" y="3357360"/>
              <a:ext cx="1657440" cy="64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стан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1"/>
            <p:cNvSpPr/>
            <p:nvPr/>
          </p:nvSpPr>
          <p:spPr>
            <a:xfrm>
              <a:off x="1764000" y="4221000"/>
              <a:ext cx="180000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1908360" y="4870440"/>
              <a:ext cx="1440000" cy="43128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27" descr="Антирадиационный робот посетил Францию"/>
          <p:cNvPicPr/>
          <p:nvPr/>
        </p:nvPicPr>
        <p:blipFill>
          <a:blip r:embed="rId2"/>
          <a:stretch/>
        </p:blipFill>
        <p:spPr>
          <a:xfrm>
            <a:off x="4857840" y="2857680"/>
            <a:ext cx="3357360" cy="335736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ая прямоугольная выноска 19"/>
          <p:cNvSpPr/>
          <p:nvPr/>
        </p:nvSpPr>
        <p:spPr>
          <a:xfrm>
            <a:off x="5286240" y="207180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Я совершенный исполнитель: всё знаю и всё ум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284720" y="1557360"/>
            <a:ext cx="2994120" cy="7221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2701800" y="2852640"/>
            <a:ext cx="61912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дача разбивается на более простые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701800" y="4076640"/>
            <a:ext cx="6191280" cy="86508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тдельной команде (предписан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2627280" y="5445000"/>
            <a:ext cx="6265800" cy="107964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можностей исполнителя, представля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иде более простых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H="1">
            <a:off x="5796000" y="2279520"/>
            <a:ext cx="1440" cy="57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5796000" y="3429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96000" y="49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971640" y="2205000"/>
            <a:ext cx="19288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Скругленная прямоугольная выноска 18"/>
          <p:cNvSpPr/>
          <p:nvPr/>
        </p:nvSpPr>
        <p:spPr>
          <a:xfrm>
            <a:off x="542880" y="134784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Не могу решить поставленную задачу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2"/>
          <p:cNvSpPr/>
          <p:nvPr/>
        </p:nvSpPr>
        <p:spPr>
          <a:xfrm>
            <a:off x="539640" y="189000"/>
            <a:ext cx="8147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азработка алгоритма методом последовательного уточнения для исполнителя Ро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68360" y="1413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находится в некоторой клетке горизонтального коридора. Ни одна из клеток коридора не закраш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979640" y="24922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3528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9"/>
          <p:cNvSpPr/>
          <p:nvPr/>
        </p:nvSpPr>
        <p:spPr>
          <a:xfrm>
            <a:off x="468360" y="386064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должен закрасить все клетки этого коридора и вернуться в исходное пол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43280" y="2276640"/>
            <a:ext cx="785880" cy="116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500720" y="4797360"/>
            <a:ext cx="78552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2"/>
          <p:cNvSpPr/>
          <p:nvPr/>
        </p:nvSpPr>
        <p:spPr>
          <a:xfrm>
            <a:off x="539640" y="189000"/>
            <a:ext cx="8147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Укрупнённый план действий Ро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1692360" y="1844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 ле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692360" y="2637000"/>
            <a:ext cx="6622920" cy="50616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1689120" y="33591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 пра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5002200" y="1558800"/>
            <a:ext cx="144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5002200" y="23511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5002200" y="3143160"/>
            <a:ext cx="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692360" y="4076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692360" y="47973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Закраска исходной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5002200" y="386244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5002200" y="458316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4210200" y="1198440"/>
            <a:ext cx="1512720" cy="43200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а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4210200" y="5519880"/>
            <a:ext cx="1512720" cy="43164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>
            <a:off x="5002200" y="5303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8360" y="98100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340000" y="4508640"/>
          <a:ext cx="5568840" cy="137160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57"/>
          <p:cNvSpPr/>
          <p:nvPr/>
        </p:nvSpPr>
        <p:spPr>
          <a:xfrm>
            <a:off x="357120" y="1143000"/>
            <a:ext cx="878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, находящихся  ле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8"/>
          <p:cNvSpPr/>
          <p:nvPr/>
        </p:nvSpPr>
        <p:spPr>
          <a:xfrm>
            <a:off x="755640" y="1890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428760" y="15717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468360" y="3429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4508640"/>
          <a:ext cx="5568840" cy="136656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859280" y="4005360"/>
            <a:ext cx="965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5607E-006 L -0.30469 0.00069 E">
                                      <p:cBhvr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643040" y="471492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08"/>
          <p:cNvSpPr/>
          <p:nvPr/>
        </p:nvSpPr>
        <p:spPr>
          <a:xfrm>
            <a:off x="539640" y="981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Возвращение Робота в коридор в исходную точк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0"/>
          <p:cNvSpPr/>
          <p:nvPr/>
        </p:nvSpPr>
        <p:spPr>
          <a:xfrm>
            <a:off x="714240" y="17146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1187280" y="4221000"/>
            <a:ext cx="963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0.34114 0.00092 E">
                                      <p:cBhvr>
                                        <p:cTn id="21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52"/>
          <p:cNvSpPr/>
          <p:nvPr/>
        </p:nvSpPr>
        <p:spPr>
          <a:xfrm>
            <a:off x="539640" y="1071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, находящихся пра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3"/>
          <p:cNvSpPr/>
          <p:nvPr/>
        </p:nvSpPr>
        <p:spPr>
          <a:xfrm>
            <a:off x="571680" y="185724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427640" y="407664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Админ</cp:lastModifiedBy>
  <dcterms:modified xsi:type="dcterms:W3CDTF">2012-07-03T15:27:01Z</dcterms:modified>
  <cp:revision>100</cp:revision>
  <dc:subject/>
  <dc:title>Презентация PowerPoint</dc:title>
</cp:coreProperties>
</file>