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94348-3126-401E-959B-6183A9891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5ACF-31B1-4ACD-A39D-1D8B8A4B0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52BA-EECB-44BB-9101-429C56001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94FE-AAC0-439A-B6E4-16BC528EB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E20EA-14EE-4F5E-B239-0D91993049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4D76B-CB70-43C4-899F-27B65932A2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43723-7FC0-4F0E-897A-88AAB4D2CF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1EE57-A924-4EA2-8CC6-40B9ABF664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0604D-3D3E-4871-8658-19E5FBDCEF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2A1B4-C914-4813-A396-75B36E32CD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14434-CA46-4905-844B-D923358EE2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C268-DB5B-48BF-B389-992ECE5FC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615CF-0516-4604-9F15-CCEE4518A7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3444A-4812-458E-A431-AD968E53D1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682E3-8573-4AF5-8C81-79A01150E0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C803F-E3AA-41B6-A90E-38BCFCA4BA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6557A-8BAC-48F2-B636-F2444C69E8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20A2-3D0C-4325-A0BC-54A2578D64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787-AB25-4341-BF3E-13F5048C99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451-D30D-41B5-A7BA-9D7DEDD7B1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F6B-474C-411D-9EC1-BC2E5C1AFB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033-0775-4F53-85DF-A67D8DDB41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8C8E-EEC8-4278-9C9F-9F2218527A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4AA-20A9-4D0A-BFBE-FAF75D9D4A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A8C-8011-4ADA-BA22-1E1D0B4FE6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7C8D-D5EC-474A-BA01-3D1A11CFEF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224-1ECB-4CD9-A981-73BB16BA80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9DF-7985-4203-8898-205BAB63B4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EC5-EE5C-4FEB-BFE3-2E43070827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2D2C-BA32-40C5-A784-186A13E37E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29B5A-3408-4404-9100-F440AC5728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E7F08-71EF-480A-B654-C3E4AC9BF9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FE78F-D494-4B03-9F10-2BA06CFA1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2DFD-DB3D-463E-8F4B-571C5534F59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DF24C-CE74-4509-895B-A4E99590E3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04C5D-F77B-444F-9BED-3DC9E6FB523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FDE09-25C0-4794-8531-832507AB2A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85661-3E16-439D-AE5D-BE4940BA24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9466E-4B7A-4B21-A0D8-412F32C735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9F4F4-66B6-4496-8A86-CE3A076A96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15565-F548-4EAA-95E4-B715490864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BC275-C36B-41B9-A4B6-3B594A0BED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59B1A-3494-4C91-B768-DAA474D26DB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7D20A-12F2-4CFA-983D-65ACAB527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6B8C-97C9-49F6-8950-3D5B2E7ADE1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C4C6C-7B99-432D-9CF7-80E8DD6EE07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D78FE-CAA2-4616-A34A-F86D35E5300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ECDD7-A544-45FB-8D9A-B7A1B2C1066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B98DD-1FC4-4F4F-9A0B-8D3D1C28024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0FB75-2984-48E4-AA64-6A6A4518D9A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5BE13-0AE0-470A-868A-AB7055FAD4D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C21D9-1239-4F09-9D7D-BEABB2E871D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82344-C6D0-4F49-B42C-7869BC8A781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ABFB0-AD2D-42FA-97FF-13F133DC627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820F8-2B3C-4AD2-9078-25C7F4E07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AD1F4-CC74-463B-B1FA-D0E3A288B25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54146-B8E4-4150-992B-B1D46D4CE76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FE50-736A-4D6C-8C9C-D9E09471B85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7A24-19F4-408F-8CFF-4746BC34BB3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B568-B652-4BFB-8737-41C08732BEF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96AA-04E9-490F-8942-83EFB6373FD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AFA5-60C1-4446-9BDA-A6A31A06CBF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FC87-96FC-4F7A-8E95-799E1CBA80A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A2CE-009A-48DD-9283-9C32179C8E9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B8FB-65FF-4061-98DA-93DAA05B808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6F34-9329-444E-BF37-7E7323D13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0BAD-8E50-464B-83FB-71EEE542D66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CED7-B8AD-4DE3-A658-1FA2525870C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0C26-EBDB-4C88-8B71-44E85EA8657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3AEB-892F-484C-B9FA-7FD21124251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21C6E7-60FD-485E-B6EF-770673A6135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EBBF3D-CA28-4A12-B8E2-99351BDBBB2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CF00A1-4C38-45CB-91C6-6FE77ABF5FD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4919DF-7015-4324-9881-024D9BED0C3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BE22B3-F35F-4569-A766-D2816496573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D78354-C669-4314-A43E-C842D3C6813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4AC189-7300-411C-B9E4-B7BE4ADC7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F873-78A5-4990-AFDF-5B9483E499F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5ACF03-A220-42CE-BC1B-65979692CBF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AAFC9C-78F0-4B8C-B822-16A8C6428B4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99A7E3-6674-40F7-A585-CCD3A1ACAD9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E7972D-6C4E-4F70-AC08-6E0956BE6E3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476454-FD8F-49F9-AF83-C42489124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F727-C2E0-494D-B37E-4378ECFBC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51000" y="1213920"/>
              <a:ext cx="792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"/>
          <p:cNvSpPr/>
          <p:nvPr/>
        </p:nvSpPr>
        <p:spPr>
          <a:xfrm>
            <a:off x="3581280" y="6305400"/>
            <a:ext cx="2132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0D9B01E-D9E3-46DC-9DD7-CB5FC327B7F7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51000" y="1213920"/>
              <a:ext cx="792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28600" cy="222480"/>
            <a:chOff x="914400" y="1407960"/>
            <a:chExt cx="228600" cy="22248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6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6305400"/>
            <a:ext cx="2132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38B3664-B1DE-4D7B-8A30-EFEE002C3022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28600" cy="222480"/>
            <a:chOff x="2163600" y="2809800"/>
            <a:chExt cx="228600" cy="22248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4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6305400"/>
            <a:ext cx="2132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3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774D8BB-65C9-45A4-A106-42E96DA39533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6305400"/>
            <a:ext cx="2132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4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A686A5B-5435-4779-80E7-87A1D39D92D9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6305400"/>
            <a:ext cx="2132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5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E531A25-3CC8-4C77-8561-DC581C64286D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6305400"/>
            <a:ext cx="2132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A88450A-9581-491C-A405-0B7132F7519B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0600" cy="4799160"/>
            <a:chOff x="646200" y="969840"/>
            <a:chExt cx="4800600" cy="479916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060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68760" cy="45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81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6305400"/>
            <a:ext cx="2132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7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D196253-7B17-4F68-A21D-E8E1601D3D92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432080" y="66600"/>
            <a:ext cx="740700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32080" y="1849320"/>
            <a:ext cx="7407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320e04"/>
                </a:solidFill>
                <a:latin typeface="Monotype Corsiva"/>
                <a:ea typeface="Tahoma"/>
              </a:rPr>
              <a:t>Расскажи сказку: «Колобок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320e04"/>
                </a:solidFill>
                <a:latin typeface="Monotype Corsiva"/>
                <a:ea typeface="Tahoma"/>
              </a:rPr>
              <a:t>по картинка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1000080" y="36576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633680" y="714240"/>
            <a:ext cx="53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 ВО «Борисоглебский ЗРЦДПОВ «Журавли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44200" y="621504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опед А.А. Ермил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071800" y="2500200"/>
            <a:ext cx="550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пасибо за вним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-184320"/>
            <a:ext cx="749952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776240" y="1447920"/>
            <a:ext cx="68169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434960" y="-184320"/>
            <a:ext cx="749952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776240" y="1447920"/>
            <a:ext cx="68169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434960" y="-184320"/>
            <a:ext cx="749952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776240" y="1447920"/>
            <a:ext cx="68169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434960" y="-184320"/>
            <a:ext cx="749952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776240" y="1447920"/>
            <a:ext cx="68169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434960" y="-184320"/>
            <a:ext cx="749952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1776240" y="1447920"/>
            <a:ext cx="68169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434960" y="-184320"/>
            <a:ext cx="749952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1776240" y="1447920"/>
            <a:ext cx="68169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434960" y="-184320"/>
            <a:ext cx="749952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1776240" y="1447920"/>
            <a:ext cx="68169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434960" y="-184320"/>
            <a:ext cx="749952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776240" y="1447920"/>
            <a:ext cx="68169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9T07:34:13Z</dcterms:created>
  <dc:creator>Veronika</dc:creator>
  <dc:description/>
  <dc:language>en-US</dc:language>
  <cp:lastModifiedBy>Veronika</cp:lastModifiedBy>
  <dcterms:modified xsi:type="dcterms:W3CDTF">2020-12-13T11:42:52Z</dcterms:modified>
  <cp:revision>9</cp:revision>
  <dc:subject/>
  <dc:title>Слайд 1</dc:title>
</cp:coreProperties>
</file>