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477D-B594-4C5A-8CE7-A0EDDF12B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17E7-0AA9-475A-A3B2-2DEDB86DD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D246-EEBA-4879-9D8E-93ED1A84F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B971-C112-482E-BCC5-469F2E5ED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DC75-177A-4DBE-BCED-A00293DE58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90C5-2B81-412E-A826-76A1863DF1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C133-5DC0-4665-8CC3-CD6D02D6B7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6E0CC-E90A-4C26-AEC7-935E4E2207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BF11-D462-43FD-BAF4-B5FAD40161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2DA2-29DF-4EC7-823E-EA814937DF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1E99-E437-4680-83BD-76CF23F748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8A4C-4F4E-4086-AAA6-A353B67B1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1C7E0-DE96-401E-9D45-96BABD5B8F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ED40-0F0C-4BB0-84CF-83FFA7213C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34C0-C878-48F1-9C96-58BEFC4C3B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BA85-1C91-45A8-82AC-3A2EC9E646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3563-C494-458E-B5AB-B8F7EBC73C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49E-AFB8-4684-9441-3C30E447EB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986-5DEE-4ECF-9E8F-24E757761C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96E-555A-43D2-A8AA-6B855DF426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A26-FDC1-433A-A4E7-A26F64509E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F2B-7390-4045-95A9-73BE6D93D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2DF3-6BAC-48A1-9BF8-27DD08FCC3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13A-9814-4FD7-AB36-5EAE017E14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48D-F41F-4165-BF5F-083D0944CA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2B0-55C7-4900-8F31-90BD56DE20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59C-81EB-41D3-A207-A3B887A1E2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0D7-01B7-4C3B-A643-046D3E0A79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E86-0EE2-48F9-B067-F0E0D3ACD2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39D-31AB-4808-AD64-56565333D0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43AFE-F85A-47E5-B6F1-3032E3BEEB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2F112-5909-4AF4-A864-27163A14D1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1E420-1E40-4D43-A5CE-9E1B7905C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1D36-9AFF-404D-9643-6B52BF88A3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FAECF-82D7-42AB-B8FA-68CA7AAC86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2A652-B56E-4E67-AAC5-9F0FB271F2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DBEAE-F02A-41D3-806C-CFDA3E1517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75A1B-A8F3-47E3-AAB2-9E33C02AC4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26715-5693-437C-88C7-C5EA3D6A3F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3115B-8791-4B4F-9B06-5138452DA8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BCB52-E544-48A1-A266-FFD0396732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19776-FE89-437E-8DCD-6CB9D5CBCE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5ACC2-0188-481D-9CA7-364CD19731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15D97-DDF9-4B59-9C9A-1282680E3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6895-CB76-431A-A79E-B339EF49CDB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B52E8-027E-4F1B-9904-E1BFB09C64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32DB3-726F-42A4-927C-7552151B8B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CBA20-B746-469B-8847-2258B46D27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33742-1AA6-4EDF-918E-065DF7DAE4A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C5918-68A7-4E00-AD11-A3F93081899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0F343-8047-4BB5-9C3B-AAE9E6E71F6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6A80F-7126-4C98-8747-DABE445E1DD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7157A-9DC8-43DD-B662-315F05BC8D4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F02A8-E4E7-4671-8C69-15ABE9B0816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AB2DF-A005-4531-970C-3D4404880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493F-9F83-4761-AD21-F269D564112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3ACFC-A9EA-464F-8B61-EDADE9AE364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7FC6-86E4-4E93-9426-D536F6B3DA0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EE1F-C0D9-4BA5-8ACB-0BEFEF1B1C9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B98E-D41F-47B8-AB8D-4F0AAB81C55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2499-2521-4EB5-A02E-ABB52F052DF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7E23-928A-4A2D-A777-C8D0A6BA0A9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5430-56C3-491D-B62B-12A2516464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45DC-FC73-47EC-AF29-D64F7D6CF60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256C-4D9A-4C22-A9D6-A3E40260BD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F53D-F300-4728-8E67-F6BC29634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86FD-C32B-4E1A-AA03-B9ECD4B6D9C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F28E-DEC7-4341-861D-2AF15C232A3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2062-DAE8-4B1B-8293-D34FCAE3E8D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A823-A2D8-4E70-AE72-85E33D11D39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A4B635-0FCA-4298-B65D-36AE7779BFE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A90EEF-6CF2-42FF-A951-13CC2AAFA92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DCFB0-8C65-4562-809C-9C821F42C24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98168E-18E0-41F1-875F-5E995D7CEFC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2DE90A-6789-4FEA-ACC5-BE7CEDEEED2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1BC7B-86BC-4B0E-9DF1-E551FD88D6D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E2560-B526-4A47-9F97-9AE6FE45E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2C72-90F0-4CB4-A99B-12B0A0B9F9C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4528A-20B5-463E-B875-AF75DB380F3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D6E6FC-EC7C-4213-89C7-4B2340E1BF3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7CEC7-A447-496B-B15A-01B583266B2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101BA-23D9-4375-9A29-7F0A78143F2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3CAE2-080B-4095-8E64-7ECD3373D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7D8D-0C63-4B7F-8D18-368F9BACA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0516B09-05EB-4F05-B421-36C682B69A3D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6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4837DB4-D39B-4159-93B6-78F1B8938FC1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4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3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46BE15D-CB6E-4BA3-96C7-C65DE80E82ED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5273EDD-9D59-44A0-BB22-C0C84BC7946F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5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8D760DE-EACD-4B38-A5B7-020A58E54A1D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4DCF509-E33A-4CFF-8DB8-499747B3CBA2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6305400"/>
            <a:ext cx="213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7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F89EA7D-E109-455B-B9F3-DDAAD7924920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432080" y="66600"/>
            <a:ext cx="740700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32080" y="1849320"/>
            <a:ext cx="7407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20e04"/>
                </a:solidFill>
                <a:latin typeface="Monotype Corsiva"/>
                <a:ea typeface="Tahoma"/>
              </a:rPr>
              <a:t>Расскажи сказку: «Колобок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20e04"/>
                </a:solidFill>
                <a:latin typeface="Monotype Corsiva"/>
                <a:ea typeface="Tahoma"/>
              </a:rPr>
              <a:t>по картинка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000080" y="36576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633680" y="714240"/>
            <a:ext cx="53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 ВО «Борисоглебский ЗРЦДПОВ «Журавл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44200" y="621504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опед А.А. Ермил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071800" y="2500200"/>
            <a:ext cx="550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434960" y="-184320"/>
            <a:ext cx="749952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776240" y="1447920"/>
            <a:ext cx="6816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7:34:13Z</dcterms:created>
  <dc:creator>Veronika</dc:creator>
  <dc:description/>
  <dc:language>en-US</dc:language>
  <cp:lastModifiedBy>Veronika</cp:lastModifiedBy>
  <dcterms:modified xsi:type="dcterms:W3CDTF">2020-12-13T11:42:52Z</dcterms:modified>
  <cp:revision>9</cp:revision>
  <dc:subject/>
  <dc:title>Слайд 1</dc:title>
</cp:coreProperties>
</file>