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39B-2962-4A47-B5F2-C73929ED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26C-4C63-4C5D-BEC8-90A9A17A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FFD-8E0B-4009-B361-C7C57EC3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3A1-84B7-491D-BCAF-07C5BC04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F59-0EB9-43B6-993A-BFD7F1E6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41F-A9BA-496F-820C-79177D0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DFA-6B6B-40C6-B4D4-4764EEE6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F7E-3612-4CF2-B883-C640C1EF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035-4E07-4C37-9226-E9D723EE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AF4-5566-434C-8D0C-38DC88C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713-C57E-4897-BC9A-7E596D9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CC8-B1B1-42C8-8A4E-03C2255A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3FC2-8585-46EA-89DB-493AE3736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MASS1.PAS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sr_sl.pas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MASS3.PAS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MASS4.PAS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MASS5.PAS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4360" y="907920"/>
            <a:ext cx="8208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рганизация данных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3" descr="j0199805"/>
          <p:cNvPicPr/>
          <p:nvPr/>
        </p:nvPicPr>
        <p:blipFill>
          <a:blip r:embed="rId1"/>
          <a:stretch/>
        </p:blipFill>
        <p:spPr>
          <a:xfrm>
            <a:off x="4179960" y="4149720"/>
            <a:ext cx="2685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236680" y="139680"/>
            <a:ext cx="4670640" cy="1566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539640" y="17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ить средний балл, полученный учащимися класса за контрольную работу по ма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39640" y="278136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учащихся (к-во элементов в массиве)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ценки (элементы масси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редний балл (средне-арифметическое элементов масс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учащегося (порядковый номер элемента в массиве)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сумма оценок (сумма элементов масс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284720" y="1584360"/>
            <a:ext cx="4572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onst n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var i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'введи ',n,' оценок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eadln(a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s+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=s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средни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балл=',c:2: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11280" y="404640"/>
            <a:ext cx="2592360" cy="792360"/>
          </a:xfrm>
          <a:prstGeom prst="flowChartInputOutput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826920" y="1628640"/>
            <a:ext cx="2087640" cy="72072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755640" y="2637000"/>
            <a:ext cx="2160720" cy="647640"/>
          </a:xfrm>
          <a:prstGeom prst="flowChartPreparation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539640" y="3573360"/>
            <a:ext cx="2448000" cy="79236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684360" y="5013360"/>
            <a:ext cx="2376360" cy="57636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684360" y="5877000"/>
            <a:ext cx="2449440" cy="476280"/>
          </a:xfrm>
          <a:prstGeom prst="flowChartInputOutput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187280" y="62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[1..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403280" y="18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: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258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: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0429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 := s + 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187280" y="5157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:=s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1187280" y="602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1835280" y="1197000"/>
            <a:ext cx="0" cy="360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1835280" y="2349360"/>
            <a:ext cx="0" cy="216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1763640" y="3284640"/>
            <a:ext cx="0" cy="288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1763640" y="4365720"/>
            <a:ext cx="0" cy="35856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250920" y="4724280"/>
            <a:ext cx="151272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 flipV="1">
            <a:off x="250920" y="2924280"/>
            <a:ext cx="0" cy="1800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250920" y="2924280"/>
            <a:ext cx="57600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2916360" y="2924280"/>
            <a:ext cx="57600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3492360" y="2924280"/>
            <a:ext cx="0" cy="18730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 flipH="1">
            <a:off x="1979280" y="4797360"/>
            <a:ext cx="158436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>
            <a:off x="1979640" y="4797360"/>
            <a:ext cx="0" cy="216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1908000" y="6308640"/>
            <a:ext cx="0" cy="549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2124000" y="645336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2124000" y="6453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9"/>
          <p:cNvSpPr/>
          <p:nvPr/>
        </p:nvSpPr>
        <p:spPr>
          <a:xfrm>
            <a:off x="1763640" y="5589720"/>
            <a:ext cx="0" cy="288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1"/>
          <p:cNvSpPr txBox="1"/>
          <p:nvPr/>
        </p:nvSpPr>
        <p:spPr>
          <a:xfrm>
            <a:off x="3492360" y="260280"/>
            <a:ext cx="5400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ний бал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60480"/>
            <a:ext cx="4572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var i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'введи ',n,' оценок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[i]:=random(4)+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s+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=s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средни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балл=',c:2: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3492360" y="260280"/>
            <a:ext cx="5400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мма элементов масси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4859280" y="23493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ирование оценок с помощью генератора случай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1" descr=""/>
          <p:cNvPicPr/>
          <p:nvPr/>
        </p:nvPicPr>
        <p:blipFill>
          <a:blip r:embed="rId1"/>
          <a:stretch/>
        </p:blipFill>
        <p:spPr>
          <a:xfrm>
            <a:off x="1908000" y="353880"/>
            <a:ext cx="4668840" cy="1567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539640" y="2147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ассиве, состоящем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ов определить количество положитель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39640" y="278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-во элементов в массиве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ы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количество положитель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элемента в масс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/>
          <p:cNvSpPr/>
          <p:nvPr/>
        </p:nvSpPr>
        <p:spPr>
          <a:xfrm>
            <a:off x="826920" y="404640"/>
            <a:ext cx="18003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042920" y="1197000"/>
            <a:ext cx="1368360" cy="43164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971640" y="1916280"/>
            <a:ext cx="1511280" cy="504720"/>
          </a:xfrm>
          <a:prstGeom prst="flowChartPreparat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900000" y="2708280"/>
            <a:ext cx="1584360" cy="863640"/>
          </a:xfrm>
          <a:prstGeom prst="flowChartDecis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826920" y="404640"/>
            <a:ext cx="20894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411280" y="3500280"/>
            <a:ext cx="1368720" cy="43200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755640" y="4581360"/>
            <a:ext cx="180036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187280" y="47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332000" y="126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032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118728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i)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2700360" y="35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10429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1692360" y="836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1692360" y="1628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1692360" y="242100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2484360" y="314172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 flipH="1">
            <a:off x="468360" y="3141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3132000" y="3933720"/>
            <a:ext cx="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 flipH="1">
            <a:off x="468000" y="4076640"/>
            <a:ext cx="26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692360" y="4076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32400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>
            <a:off x="324000" y="220500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3"/>
          <p:cNvSpPr/>
          <p:nvPr/>
        </p:nvSpPr>
        <p:spPr>
          <a:xfrm>
            <a:off x="2484360" y="2205000"/>
            <a:ext cx="172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4"/>
          <p:cNvSpPr/>
          <p:nvPr/>
        </p:nvSpPr>
        <p:spPr>
          <a:xfrm>
            <a:off x="421164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5"/>
          <p:cNvSpPr/>
          <p:nvPr/>
        </p:nvSpPr>
        <p:spPr>
          <a:xfrm flipH="1">
            <a:off x="1834920" y="436572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6"/>
          <p:cNvSpPr/>
          <p:nvPr/>
        </p:nvSpPr>
        <p:spPr>
          <a:xfrm>
            <a:off x="1835280" y="4365720"/>
            <a:ext cx="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7"/>
          <p:cNvSpPr/>
          <p:nvPr/>
        </p:nvSpPr>
        <p:spPr>
          <a:xfrm>
            <a:off x="1692360" y="5084640"/>
            <a:ext cx="0" cy="5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190800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4140360" y="998640"/>
            <a:ext cx="50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var i,s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k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random(100)-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k: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f a[i]&gt;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k:=k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положительных элементов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',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>
            <a:off x="468360" y="328464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3132000" y="0"/>
            <a:ext cx="60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99"/>
                </a:solidFill>
                <a:uFillTx/>
                <a:latin typeface="Monotype Corsiva"/>
              </a:rPr>
              <a:t>Количество элементов массива, удовлетворяющих усл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2340000" y="2708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9"/>
          <p:cNvSpPr/>
          <p:nvPr/>
        </p:nvSpPr>
        <p:spPr>
          <a:xfrm>
            <a:off x="407880" y="26924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Прямоугольник 1" descr=""/>
          <p:cNvPicPr/>
          <p:nvPr/>
        </p:nvPicPr>
        <p:blipFill>
          <a:blip r:embed="rId1"/>
          <a:stretch/>
        </p:blipFill>
        <p:spPr>
          <a:xfrm>
            <a:off x="2236680" y="285840"/>
            <a:ext cx="4670640" cy="1562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579600" y="18241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ассиве, состоящем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ов заменит отрицательные элементы массива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39640" y="278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-во элементов в массиве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ы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змененный масс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элемента в масс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826920" y="404640"/>
            <a:ext cx="18003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971640" y="1916280"/>
            <a:ext cx="1511280" cy="504720"/>
          </a:xfrm>
          <a:prstGeom prst="flowChartPreparat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900000" y="2708280"/>
            <a:ext cx="1584360" cy="863640"/>
          </a:xfrm>
          <a:prstGeom prst="flowChartDecis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826920" y="404640"/>
            <a:ext cx="20894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411280" y="3500280"/>
            <a:ext cx="1368720" cy="43200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755640" y="4581360"/>
            <a:ext cx="20876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187280" y="47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4032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18728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i)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700360" y="35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i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04292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692360" y="765000"/>
            <a:ext cx="0" cy="115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692360" y="242100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2484360" y="314172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468360" y="3141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"/>
          <p:cNvSpPr/>
          <p:nvPr/>
        </p:nvSpPr>
        <p:spPr>
          <a:xfrm>
            <a:off x="3132000" y="3933720"/>
            <a:ext cx="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 flipH="1">
            <a:off x="468000" y="4076640"/>
            <a:ext cx="26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>
            <a:off x="1692360" y="4076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2400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>
            <a:off x="324000" y="220500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8"/>
          <p:cNvSpPr/>
          <p:nvPr/>
        </p:nvSpPr>
        <p:spPr>
          <a:xfrm>
            <a:off x="2484360" y="2205000"/>
            <a:ext cx="172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421164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 flipH="1">
            <a:off x="1834920" y="436572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1835280" y="4365720"/>
            <a:ext cx="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2"/>
          <p:cNvSpPr/>
          <p:nvPr/>
        </p:nvSpPr>
        <p:spPr>
          <a:xfrm>
            <a:off x="1692360" y="5084640"/>
            <a:ext cx="0" cy="5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190800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4284720" y="72396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var i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random(100)-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f a[i]&lt;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получившийся масси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: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68360" y="321300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3132000" y="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99"/>
                </a:solidFill>
                <a:uFillTx/>
                <a:latin typeface="Monotype Corsiva"/>
              </a:rPr>
              <a:t>Замена элементов массива, 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520560" y="27082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6"/>
          <p:cNvSpPr/>
          <p:nvPr/>
        </p:nvSpPr>
        <p:spPr>
          <a:xfrm>
            <a:off x="2583000" y="273528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1116000" y="184464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ассиве, состоящем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ов определить максималь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547560" y="278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-во элементов в массиве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ы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максималь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элемента в масс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3" descr=""/>
          <p:cNvPicPr/>
          <p:nvPr/>
        </p:nvPicPr>
        <p:blipFill>
          <a:blip r:embed="rId1"/>
          <a:stretch/>
        </p:blipFill>
        <p:spPr>
          <a:xfrm>
            <a:off x="1401840" y="212760"/>
            <a:ext cx="4670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826920" y="404640"/>
            <a:ext cx="18003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1042920" y="1197000"/>
            <a:ext cx="1368360" cy="43164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971640" y="1916280"/>
            <a:ext cx="1511280" cy="504720"/>
          </a:xfrm>
          <a:prstGeom prst="flowChartPreparat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900000" y="2708280"/>
            <a:ext cx="1584360" cy="863640"/>
          </a:xfrm>
          <a:prstGeom prst="flowChartDecis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826920" y="404640"/>
            <a:ext cx="20894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2411280" y="3500280"/>
            <a:ext cx="1368720" cy="43200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755640" y="4581360"/>
            <a:ext cx="201600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187280" y="47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116000" y="1268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=a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4032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2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187280" y="2924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i)&gt;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48436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=a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00000" y="4653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5"/>
          <p:cNvSpPr/>
          <p:nvPr/>
        </p:nvSpPr>
        <p:spPr>
          <a:xfrm>
            <a:off x="1692360" y="836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"/>
          <p:cNvSpPr/>
          <p:nvPr/>
        </p:nvSpPr>
        <p:spPr>
          <a:xfrm>
            <a:off x="1692360" y="1628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"/>
          <p:cNvSpPr/>
          <p:nvPr/>
        </p:nvSpPr>
        <p:spPr>
          <a:xfrm>
            <a:off x="1692360" y="242100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484360" y="314172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 flipH="1">
            <a:off x="468360" y="3141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2"/>
          <p:cNvSpPr/>
          <p:nvPr/>
        </p:nvSpPr>
        <p:spPr>
          <a:xfrm>
            <a:off x="3132000" y="3933720"/>
            <a:ext cx="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 flipH="1">
            <a:off x="468000" y="4076640"/>
            <a:ext cx="26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4"/>
          <p:cNvSpPr/>
          <p:nvPr/>
        </p:nvSpPr>
        <p:spPr>
          <a:xfrm>
            <a:off x="1692360" y="4076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5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6"/>
          <p:cNvSpPr/>
          <p:nvPr/>
        </p:nvSpPr>
        <p:spPr>
          <a:xfrm flipV="1">
            <a:off x="32400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>
            <a:off x="324000" y="220500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>
            <a:off x="2484360" y="2205000"/>
            <a:ext cx="172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9"/>
          <p:cNvSpPr/>
          <p:nvPr/>
        </p:nvSpPr>
        <p:spPr>
          <a:xfrm>
            <a:off x="421164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 flipH="1">
            <a:off x="1834920" y="436572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1835280" y="4365720"/>
            <a:ext cx="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2"/>
          <p:cNvSpPr/>
          <p:nvPr/>
        </p:nvSpPr>
        <p:spPr>
          <a:xfrm>
            <a:off x="1692360" y="5084640"/>
            <a:ext cx="0" cy="5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190800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4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5"/>
          <p:cNvSpPr/>
          <p:nvPr/>
        </p:nvSpPr>
        <p:spPr>
          <a:xfrm>
            <a:off x="468360" y="321300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6"/>
          <p:cNvSpPr/>
          <p:nvPr/>
        </p:nvSpPr>
        <p:spPr>
          <a:xfrm>
            <a:off x="4211640" y="1273320"/>
            <a:ext cx="49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var i,max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random(100)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ax:=a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f a[i]&gt;max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ax:=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максимальный элемент - '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a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7"/>
          <p:cNvSpPr/>
          <p:nvPr/>
        </p:nvSpPr>
        <p:spPr>
          <a:xfrm>
            <a:off x="3419640" y="0"/>
            <a:ext cx="57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Monotype Corsiva"/>
              </a:rPr>
              <a:t>Нахождение максимального элем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476360" y="620640"/>
            <a:ext cx="64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елаю успеха 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5"/>
          <p:cNvSpPr txBox="1"/>
          <p:nvPr/>
        </p:nvSpPr>
        <p:spPr>
          <a:xfrm>
            <a:off x="1692360" y="1844640"/>
            <a:ext cx="633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трольной работ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987640" y="47628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анны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Line 3"/>
          <p:cNvSpPr/>
          <p:nvPr/>
        </p:nvSpPr>
        <p:spPr>
          <a:xfrm flipH="1">
            <a:off x="1763280" y="1557360"/>
            <a:ext cx="1582920" cy="107964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5076720" y="1484280"/>
            <a:ext cx="1656000" cy="1152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4000" y="2708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стоянные (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on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940360" y="263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5579640" y="2997360"/>
            <a:ext cx="576360" cy="5029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716360" y="35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2997360"/>
            <a:ext cx="719280" cy="64764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22764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труктур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7308720" y="393372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4716360" y="4437000"/>
            <a:ext cx="3598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716360" y="4437000"/>
            <a:ext cx="0" cy="36036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5796000" y="443700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6877080" y="443700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8317080" y="4437000"/>
            <a:ext cx="0" cy="504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708360" y="4869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ассивы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      Записи       Множества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ай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79280" y="5661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Типы данных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ые, действительные, литерные,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076720" y="1484280"/>
            <a:ext cx="1656000" cy="1152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5940360" y="263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7308720" y="393372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4716360" y="4437000"/>
            <a:ext cx="3598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9640" y="40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ассив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упорядоченный набор однотипных величин, обозначенных одним и тем же именем. Упорядоченность заключается в том, что элементы массива расположены в последовательных ячейках памя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684360" y="184464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мер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2637000"/>
          <a:ext cx="6095880" cy="947520"/>
        </p:xfrm>
        <a:graphic>
          <a:graphicData uri="http://schemas.openxmlformats.org/drawingml/2006/table">
            <a:tbl>
              <a:tblPr/>
              <a:tblGrid>
                <a:gridCol w="647640"/>
                <a:gridCol w="4604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 </a:t>
                      </a: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˚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187280" y="4437000"/>
          <a:ext cx="6096240" cy="5191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66"/>
          <p:cNvSpPr/>
          <p:nvPr/>
        </p:nvSpPr>
        <p:spPr>
          <a:xfrm>
            <a:off x="971640" y="5300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(1)     t(2)   t(3)    t(4)    t(5)    t(6)     t(7)   t(8)     t(9)    t(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7"/>
          <p:cNvSpPr txBox="1"/>
          <p:nvPr/>
        </p:nvSpPr>
        <p:spPr>
          <a:xfrm>
            <a:off x="395280" y="3933720"/>
            <a:ext cx="6858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ЗУ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755640" y="6021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асси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таблица, пронумерованные элементы которой находятся в памяти компью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9"/>
          <p:cNvSpPr/>
          <p:nvPr/>
        </p:nvSpPr>
        <p:spPr>
          <a:xfrm>
            <a:off x="7236000" y="2708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(9)=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0"/>
          <p:cNvSpPr/>
          <p:nvPr/>
        </p:nvSpPr>
        <p:spPr>
          <a:xfrm flipH="1">
            <a:off x="7093080" y="3141720"/>
            <a:ext cx="287280" cy="647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665964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2"/>
          <p:cNvSpPr/>
          <p:nvPr/>
        </p:nvSpPr>
        <p:spPr>
          <a:xfrm>
            <a:off x="7667640" y="3141720"/>
            <a:ext cx="0" cy="574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3"/>
          <p:cNvSpPr/>
          <p:nvPr/>
        </p:nvSpPr>
        <p:spPr>
          <a:xfrm>
            <a:off x="745164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нд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4"/>
          <p:cNvSpPr/>
          <p:nvPr/>
        </p:nvSpPr>
        <p:spPr>
          <a:xfrm>
            <a:off x="8172360" y="3068640"/>
            <a:ext cx="14472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5"/>
          <p:cNvSpPr/>
          <p:nvPr/>
        </p:nvSpPr>
        <p:spPr>
          <a:xfrm>
            <a:off x="7740720" y="35733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042920" y="549360"/>
          <a:ext cx="6096240" cy="5191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6"/>
          <p:cNvSpPr/>
          <p:nvPr/>
        </p:nvSpPr>
        <p:spPr>
          <a:xfrm>
            <a:off x="826920" y="13413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(1)     t(2)   t(3)    t(4)    t(5)    t(6)     t(7)   t(8)     t(9)    t(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5280" y="20606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яя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индекс (порядковый номер элемента)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ожно переходить от одного элемент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39640" y="2997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(4)=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1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t(8)=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24000" y="4221000"/>
            <a:ext cx="81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Массив в программе должен быть объя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258920" y="549360"/>
            <a:ext cx="68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ы массивов (по размерности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2339640" y="1125360"/>
            <a:ext cx="1871640" cy="1872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84360" y="3213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дном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линейные табл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4932360" y="1125360"/>
            <a:ext cx="2087640" cy="201636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572000" y="3213000"/>
            <a:ext cx="43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вум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прямоугольные табл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42920" y="2043000"/>
          <a:ext cx="6567480" cy="2225880"/>
        </p:xfrm>
        <a:graphic>
          <a:graphicData uri="http://schemas.openxmlformats.org/drawingml/2006/table">
            <a:tbl>
              <a:tblPr/>
              <a:tblGrid>
                <a:gridCol w="1335240"/>
                <a:gridCol w="1046160"/>
                <a:gridCol w="1047600"/>
                <a:gridCol w="1046160"/>
                <a:gridCol w="1046160"/>
                <a:gridCol w="104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усс. 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итер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а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.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д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ндре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аве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WordArt 46"/>
          <p:cNvSpPr txBox="1"/>
          <p:nvPr/>
        </p:nvSpPr>
        <p:spPr>
          <a:xfrm>
            <a:off x="1332000" y="90792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едомость успеваем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116000" y="18900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ирование массив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87280" y="2852640"/>
            <a:ext cx="712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ератором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нератором случай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ератором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47640" y="476280"/>
            <a:ext cx="6591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 обработки массивов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1557360"/>
            <a:ext cx="8820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количество элементов, удовлетворяющих у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умма элементов, удовлетворяющих у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замена элементов, удовлетворяющих у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пределение максимального (минимального) элемента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динение элементов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вертирование элементов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даление элемента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тавка элемента в масси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ртировка масс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332000" y="170028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ссивы в ТР7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2:24:19Z</dcterms:created>
  <dc:creator>User</dc:creator>
  <dc:description/>
  <dc:language>en-US</dc:language>
  <cp:lastModifiedBy>Ирина</cp:lastModifiedBy>
  <dcterms:modified xsi:type="dcterms:W3CDTF">2020-12-21T14:43:44Z</dcterms:modified>
  <cp:revision>22</cp:revision>
  <dc:subject/>
  <dc:title>Слайд 1</dc:title>
</cp:coreProperties>
</file>