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277-CFB6-45DE-BEAD-93C50F2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6E8-4F6F-4C5A-BD7D-2F2CE64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1FD-4203-498E-B28D-D0722D47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251-F1A2-4DC8-8B36-1A37308F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0A5-5822-4323-93D8-3081135C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199-0BE9-4CE2-A4AE-14979A6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7F7-DA49-4D21-A2FA-CC86F753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491-39D0-4C52-9A6F-8D639369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E20-A9D8-4F2E-95C2-A415E2F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B98-11DB-4917-9DED-8A35853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B34-F007-405A-AE4A-55AD6834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695-07B5-40CC-9A79-7D7E06D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3F52-AB20-4957-9691-E4A509FE6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MASS1.PA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sr_sl.pa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MASS3.PAS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MASS4.PAS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MASS5.PAS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4360" y="907920"/>
            <a:ext cx="8208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рганизация данных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j0199805"/>
          <p:cNvPicPr/>
          <p:nvPr/>
        </p:nvPicPr>
        <p:blipFill>
          <a:blip r:embed="rId1"/>
          <a:stretch/>
        </p:blipFill>
        <p:spPr>
          <a:xfrm>
            <a:off x="4179960" y="4149720"/>
            <a:ext cx="2685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236680" y="139680"/>
            <a:ext cx="4670640" cy="1566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3964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ить средний балл, полученный учащимися класса за контрольную работу по ма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39640" y="278136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учащихся (к-во элементов в массиве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ценки (элементы масси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редний балл (средне-арифметическое элементов масс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учащегося (порядковый номер элемента в массиве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сумма оценок (сумма элементов масс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284720" y="158436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onst n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'введи ',n,' оценок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ln(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=s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средни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л=',c:2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11280" y="404640"/>
            <a:ext cx="2592360" cy="792360"/>
          </a:xfrm>
          <a:prstGeom prst="flowChartInputOutput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826920" y="1628640"/>
            <a:ext cx="2087640" cy="72072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755640" y="2637000"/>
            <a:ext cx="2160720" cy="647640"/>
          </a:xfrm>
          <a:prstGeom prst="flowChartPreparation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539640" y="3573360"/>
            <a:ext cx="2448000" cy="79236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84360" y="5013360"/>
            <a:ext cx="2376360" cy="57636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84360" y="5877000"/>
            <a:ext cx="2449440" cy="476280"/>
          </a:xfrm>
          <a:prstGeom prst="flowChartInputOutput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187280" y="62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40328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: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258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: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0429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:= s + 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187280" y="51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:=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187280" y="602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835280" y="1197000"/>
            <a:ext cx="0" cy="360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1835280" y="2349360"/>
            <a:ext cx="0" cy="216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763640" y="3284640"/>
            <a:ext cx="0" cy="288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763640" y="4365720"/>
            <a:ext cx="0" cy="3585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250920" y="4724280"/>
            <a:ext cx="151272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 flipV="1">
            <a:off x="250920" y="2924280"/>
            <a:ext cx="0" cy="1800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250920" y="2924280"/>
            <a:ext cx="57600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916360" y="2924280"/>
            <a:ext cx="57600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3492360" y="2924280"/>
            <a:ext cx="0" cy="18730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 flipH="1">
            <a:off x="1979280" y="4797360"/>
            <a:ext cx="158436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1979640" y="4797360"/>
            <a:ext cx="0" cy="216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1908000" y="6308640"/>
            <a:ext cx="0" cy="549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2124000" y="645336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2124000" y="6453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1763640" y="5589720"/>
            <a:ext cx="0" cy="288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1"/>
          <p:cNvSpPr txBox="1"/>
          <p:nvPr/>
        </p:nvSpPr>
        <p:spPr>
          <a:xfrm>
            <a:off x="3492360" y="260280"/>
            <a:ext cx="540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ий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60480"/>
            <a:ext cx="4572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'введи ',n,' оценок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[i]:=random(4)+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=s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средни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л=',c:2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492360" y="260280"/>
            <a:ext cx="540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 элементов масси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859280" y="2349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ирование оценок с помощью генератора случай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1"/>
          <a:stretch/>
        </p:blipFill>
        <p:spPr>
          <a:xfrm>
            <a:off x="1908000" y="353880"/>
            <a:ext cx="466884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39640" y="2147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определить количество положит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3964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количество положит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042920" y="1197000"/>
            <a:ext cx="1368360" cy="43164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755640" y="4581360"/>
            <a:ext cx="180036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33200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118728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270036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0429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1692360" y="836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1692360" y="1628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7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4140360" y="998640"/>
            <a:ext cx="50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-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g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=k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положительных элементов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',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468360" y="328464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132000" y="0"/>
            <a:ext cx="60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99"/>
                </a:solidFill>
                <a:uFillTx/>
                <a:latin typeface="Monotype Corsiva"/>
              </a:rPr>
              <a:t>Количество элементов массива, удовлетворяющих усл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2340000" y="2708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407880" y="26924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1" descr=""/>
          <p:cNvPicPr/>
          <p:nvPr/>
        </p:nvPicPr>
        <p:blipFill>
          <a:blip r:embed="rId1"/>
          <a:stretch/>
        </p:blipFill>
        <p:spPr>
          <a:xfrm>
            <a:off x="2236680" y="285840"/>
            <a:ext cx="4670640" cy="1562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579600" y="18241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заменит отрицательные элементы массива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3964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змененный масс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755640" y="4581360"/>
            <a:ext cx="20876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8728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70036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i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04292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692360" y="765000"/>
            <a:ext cx="0" cy="115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2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284720" y="72396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-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l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получившийся масси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68360" y="3213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3132000" y="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99"/>
                </a:solidFill>
                <a:uFillTx/>
                <a:latin typeface="Monotype Corsiva"/>
              </a:rPr>
              <a:t>Замена элементов массива,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520560" y="27082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2583000" y="273528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1116000" y="184464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определить максима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4756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максима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1"/>
          <a:stretch/>
        </p:blipFill>
        <p:spPr>
          <a:xfrm>
            <a:off x="1401840" y="212760"/>
            <a:ext cx="4670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1042920" y="1197000"/>
            <a:ext cx="1368360" cy="43164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755640" y="4581360"/>
            <a:ext cx="201600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116000" y="1268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=a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2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187280" y="29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gt;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48436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=a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00000" y="465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1692360" y="836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"/>
          <p:cNvSpPr/>
          <p:nvPr/>
        </p:nvSpPr>
        <p:spPr>
          <a:xfrm>
            <a:off x="1692360" y="1628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4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5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2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4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5"/>
          <p:cNvSpPr/>
          <p:nvPr/>
        </p:nvSpPr>
        <p:spPr>
          <a:xfrm>
            <a:off x="468360" y="3213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6"/>
          <p:cNvSpPr/>
          <p:nvPr/>
        </p:nvSpPr>
        <p:spPr>
          <a:xfrm>
            <a:off x="4211640" y="1273320"/>
            <a:ext cx="49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,max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:=a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gt;max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:=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максимальный элемент - '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3419640" y="0"/>
            <a:ext cx="57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Monotype Corsiva"/>
              </a:rPr>
              <a:t>Нахождение максимального эле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476360" y="62064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аю успеха 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1692360" y="1844640"/>
            <a:ext cx="633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трольной работ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987640" y="476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анны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1763280" y="1557360"/>
            <a:ext cx="1582920" cy="10796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076720" y="1484280"/>
            <a:ext cx="1656000" cy="1152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270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стоянные (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on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0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5579640" y="2997360"/>
            <a:ext cx="576360" cy="5029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16360" y="35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2997360"/>
            <a:ext cx="719280" cy="6476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22764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труктур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7308720" y="393372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4716360" y="4437000"/>
            <a:ext cx="3598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716360" y="4437000"/>
            <a:ext cx="0" cy="36036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5796000" y="443700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6877080" y="443700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8317080" y="4437000"/>
            <a:ext cx="0" cy="504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708360" y="486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ы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   Записи       Множества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ай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79280" y="5661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Типы данных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ые, действительные, литерные,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076720" y="1484280"/>
            <a:ext cx="1656000" cy="1152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940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7308720" y="393372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4716360" y="4437000"/>
            <a:ext cx="3598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9640" y="40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упорядоченный набор однотипных величин, обозначенных одним и тем же именем. Упорядоченность заключается в том, что элементы массива расположены в последовательных ячейках пам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684360" y="184464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637000"/>
          <a:ext cx="6095880" cy="947520"/>
        </p:xfrm>
        <a:graphic>
          <a:graphicData uri="http://schemas.openxmlformats.org/drawingml/2006/table">
            <a:tbl>
              <a:tblPr/>
              <a:tblGrid>
                <a:gridCol w="647640"/>
                <a:gridCol w="4604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˚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187280" y="4437000"/>
          <a:ext cx="6096240" cy="5191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66"/>
          <p:cNvSpPr/>
          <p:nvPr/>
        </p:nvSpPr>
        <p:spPr>
          <a:xfrm>
            <a:off x="971640" y="5300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(1)     t(2)   t(3)    t(4)    t(5)    t(6)     t(7)   t(8)     t(9)    t(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7"/>
          <p:cNvSpPr txBox="1"/>
          <p:nvPr/>
        </p:nvSpPr>
        <p:spPr>
          <a:xfrm>
            <a:off x="395280" y="3933720"/>
            <a:ext cx="685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ЗУ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755640" y="602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таблица, пронумерованные элементы которой находятся в памяти компью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9"/>
          <p:cNvSpPr/>
          <p:nvPr/>
        </p:nvSpPr>
        <p:spPr>
          <a:xfrm>
            <a:off x="7236000" y="2708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(9)=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 flipH="1">
            <a:off x="7093080" y="3141720"/>
            <a:ext cx="287280" cy="647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65964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2"/>
          <p:cNvSpPr/>
          <p:nvPr/>
        </p:nvSpPr>
        <p:spPr>
          <a:xfrm>
            <a:off x="7667640" y="3141720"/>
            <a:ext cx="0" cy="574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3"/>
          <p:cNvSpPr/>
          <p:nvPr/>
        </p:nvSpPr>
        <p:spPr>
          <a:xfrm>
            <a:off x="7451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н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4"/>
          <p:cNvSpPr/>
          <p:nvPr/>
        </p:nvSpPr>
        <p:spPr>
          <a:xfrm>
            <a:off x="8172360" y="3068640"/>
            <a:ext cx="14472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5"/>
          <p:cNvSpPr/>
          <p:nvPr/>
        </p:nvSpPr>
        <p:spPr>
          <a:xfrm>
            <a:off x="7740720" y="35733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042920" y="549360"/>
          <a:ext cx="6096240" cy="5191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6"/>
          <p:cNvSpPr/>
          <p:nvPr/>
        </p:nvSpPr>
        <p:spPr>
          <a:xfrm>
            <a:off x="826920" y="1341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(1)     t(2)   t(3)    t(4)    t(5)    t(6)     t(7)   t(8)     t(9)    t(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5280" y="2060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яя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индекс (порядковый номер элемента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ожно переходить от одного элемент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3964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(4)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1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t(8)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24000" y="4221000"/>
            <a:ext cx="81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ассив в программе должен быть объя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258920" y="549360"/>
            <a:ext cx="68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ы массивов (по размерности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2339640" y="1125360"/>
            <a:ext cx="1871640" cy="1872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84360" y="3213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дно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линейные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932360" y="1125360"/>
            <a:ext cx="2087640" cy="20163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572000" y="3213000"/>
            <a:ext cx="43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ву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прямоугольные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42920" y="2043000"/>
          <a:ext cx="6567480" cy="2225880"/>
        </p:xfrm>
        <a:graphic>
          <a:graphicData uri="http://schemas.openxmlformats.org/drawingml/2006/table">
            <a:tbl>
              <a:tblPr/>
              <a:tblGrid>
                <a:gridCol w="1335240"/>
                <a:gridCol w="1046160"/>
                <a:gridCol w="1047600"/>
                <a:gridCol w="1046160"/>
                <a:gridCol w="104616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усс. 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тер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а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.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д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дре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ве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WordArt 46"/>
          <p:cNvSpPr txBox="1"/>
          <p:nvPr/>
        </p:nvSpPr>
        <p:spPr>
          <a:xfrm>
            <a:off x="1332000" y="90792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едомость успеваем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116000" y="18900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ние массив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87280" y="2852640"/>
            <a:ext cx="712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ератором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нератором случай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ератором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47640" y="476280"/>
            <a:ext cx="6591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 обработки массивов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557360"/>
            <a:ext cx="8820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количество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умма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замена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пределение максимального (минимального) элемента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динение элементов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вертирование элементов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даление элемента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тавка элемента в масси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ртировка масс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332000" y="170028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ссивы в ТР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2:24:19Z</dcterms:created>
  <dc:creator>User</dc:creator>
  <dc:description/>
  <dc:language>en-US</dc:language>
  <cp:lastModifiedBy>Ирина</cp:lastModifiedBy>
  <dcterms:modified xsi:type="dcterms:W3CDTF">2020-12-21T14:43:44Z</dcterms:modified>
  <cp:revision>22</cp:revision>
  <dc:subject/>
  <dc:title>Слайд 1</dc:title>
</cp:coreProperties>
</file>