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0B2-E77B-4393-AFDA-8B025227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073-798C-41CA-A8F7-918B8B68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8FD-BAE7-4D4D-8128-FC5D9835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D2D-5072-446E-B318-352A77A4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024-B72D-48D3-931E-B477337D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EE7-E0DA-4105-842B-00C37FE0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650-B18B-4B00-B7EA-FAB18A9D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AF9-7D66-4569-B531-2E6AB28D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E00-053C-431E-AC9A-1AEC159F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C89-0822-4C06-94C9-9F45F566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C9E-5D5E-4F0C-BA1C-4BA17B74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1B5-0DDD-4BBB-B4F0-D3D95CD5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a7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chool1926.png"/>
          <p:cNvPicPr/>
          <p:nvPr/>
        </p:nvPicPr>
        <p:blipFill>
          <a:blip r:embed="rId2"/>
          <a:stretch/>
        </p:blipFill>
        <p:spPr>
          <a:xfrm>
            <a:off x="8358120" y="4214880"/>
            <a:ext cx="695520" cy="1301760"/>
          </a:xfrm>
          <a:prstGeom prst="rect">
            <a:avLst/>
          </a:prstGeom>
          <a:ln w="0">
            <a:noFill/>
          </a:ln>
        </p:spPr>
      </p:pic>
      <p:grpSp>
        <p:nvGrpSpPr>
          <p:cNvPr id="1" name="Группа 40"/>
          <p:cNvGrpSpPr/>
          <p:nvPr/>
        </p:nvGrpSpPr>
        <p:grpSpPr>
          <a:xfrm>
            <a:off x="0" y="6113520"/>
            <a:ext cx="8540640" cy="744480"/>
            <a:chOff x="0" y="6113520"/>
            <a:chExt cx="8540640" cy="744480"/>
          </a:xfrm>
        </p:grpSpPr>
        <p:pic>
          <p:nvPicPr>
            <p:cNvPr id="2" name="Рисунок 8" descr="school1926.png"/>
            <p:cNvPicPr/>
            <p:nvPr/>
          </p:nvPicPr>
          <p:blipFill>
            <a:blip r:embed="rId3"/>
            <a:stretch/>
          </p:blipFill>
          <p:spPr>
            <a:xfrm>
              <a:off x="0" y="6113520"/>
              <a:ext cx="43563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Рисунок 9" descr="school1926.png"/>
            <p:cNvPicPr/>
            <p:nvPr/>
          </p:nvPicPr>
          <p:blipFill>
            <a:blip r:embed="rId4"/>
            <a:stretch/>
          </p:blipFill>
          <p:spPr>
            <a:xfrm>
              <a:off x="4291560" y="6137280"/>
              <a:ext cx="4249080" cy="69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Рисунок 10" descr="school1926.png"/>
          <p:cNvPicPr/>
          <p:nvPr/>
        </p:nvPicPr>
        <p:blipFill>
          <a:blip r:embed="rId5"/>
          <a:stretch/>
        </p:blipFill>
        <p:spPr>
          <a:xfrm>
            <a:off x="8475840" y="6113520"/>
            <a:ext cx="718920" cy="74448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1" descr="school1926.png"/>
          <p:cNvPicPr/>
          <p:nvPr/>
        </p:nvPicPr>
        <p:blipFill>
          <a:blip r:embed="rId6"/>
          <a:stretch/>
        </p:blipFill>
        <p:spPr>
          <a:xfrm>
            <a:off x="8429760" y="5432400"/>
            <a:ext cx="792000" cy="74448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2" descr="school1926.png"/>
          <p:cNvPicPr/>
          <p:nvPr/>
        </p:nvPicPr>
        <p:blipFill>
          <a:blip r:embed="rId7"/>
          <a:stretch/>
        </p:blipFill>
        <p:spPr>
          <a:xfrm>
            <a:off x="8437680" y="-77760"/>
            <a:ext cx="744480" cy="43560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13" descr="school1418.png"/>
          <p:cNvPicPr/>
          <p:nvPr/>
        </p:nvPicPr>
        <p:blipFill>
          <a:blip r:embed="rId8"/>
          <a:stretch/>
        </p:blipFill>
        <p:spPr>
          <a:xfrm>
            <a:off x="6307200" y="3933720"/>
            <a:ext cx="2990880" cy="3114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979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BA1F-4C7D-4DBC-BCE9-0022B9A979A2}" type="slidenum">
              <a:rPr b="0" lang="ru-RU" sz="1200" spc="-1" strike="noStrike">
                <a:solidFill>
                  <a:srgbClr val="ff97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137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Основная задача изобразительной деятельности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ормирование творческих способностей детей в создании выразительных образов различных предметов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ступными для данного возраста изобразительными средствами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800" spc="-1" strike="noStrike">
                <a:solidFill>
                  <a:srgbClr val="2e2e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методические приемы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ем наглядного показа способов действия: как нарисовать круг, как вылепить яйцо, как резать по прямой и т.д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методических приемов наглядного обучения является включение движений руками при рассматривании предметов, знакомство с ними при помощи осязания, но возможны и движения руками в воздухе, как бы обрисовывающие предмет, его чести.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6037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300"/>
                </a:solidFill>
                <a:latin typeface="Times New Roman"/>
              </a:rPr>
              <a:t>Тема: « Елочка у моего дома»</a:t>
            </a:r>
            <a:endParaRPr b="0" lang="en-US" sz="44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емы недели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ень золот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 в мире –челове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я семь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фесси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й город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имняя сказка</a:t>
            </a:r>
            <a:endParaRPr b="0" lang="en-US" sz="36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ые 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родолжать знакомить детей с кистью, красками, учить правильно, держать кисть и аккуратно пользоваться краской; упражнять в умении рисовать дерево, ствол, тонкие ветки; закреплять технические умения. </a:t>
            </a:r>
            <a:br>
              <a:rPr sz="24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ые 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родолжать знакомить детей с кистью, красками, учить правильно, держать кисть и аккуратно пользоваться краской; упражнять в умении рисовать дерево, ствол, тонкие ветки; закреплять технические умени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вающие 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развивать мелкую моторику пальцев рук, память, воображение, логическое мышление;</a:t>
            </a:r>
            <a:br>
              <a:rPr sz="2400"/>
            </a:br>
            <a:endParaRPr b="0" lang="en-US" sz="24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Елочка у моего дом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ые 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родолжать знакомить детей с кистью, красками, учить правильно, держать кисть и аккуратно пользоваться краской; упражнять в умении рисовать дерево, ствол, тонкие ветки; закреплять технические умени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вающие 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развивать мелкую моторику пальцев рук, память, воображение, логическое мышление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питательные 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воспитывать эмоционально- положительное отношение к рисованию, самосто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й  эта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Основной этап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мотр фильма о Канс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Создание проблемной ситу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альчиковая гимнастика: Д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актическая рабо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тог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5050"/>
              </a:solidFill>
              <a:latin typeface="Arial"/>
            </a:endParaRPr>
          </a:p>
        </p:txBody>
      </p:sp>
      <p:pic>
        <p:nvPicPr>
          <p:cNvPr id="58" name="Picture 3" descr="C:\Users\user\Desktop\4acfafad865e219b456969c6cfec33f2.jpg.jpg"/>
          <p:cNvPicPr/>
          <p:nvPr/>
        </p:nvPicPr>
        <p:blipFill>
          <a:blip r:embed="rId1"/>
          <a:stretch/>
        </p:blipFill>
        <p:spPr>
          <a:xfrm>
            <a:off x="971640" y="476280"/>
            <a:ext cx="7200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7:11:01Z</dcterms:created>
  <dc:creator>Наташа</dc:creator>
  <dc:description/>
  <dc:language>en-US</dc:language>
  <cp:lastModifiedBy>user</cp:lastModifiedBy>
  <dcterms:modified xsi:type="dcterms:W3CDTF">2019-12-13T10:20:22Z</dcterms:modified>
  <cp:revision>66</cp:revision>
  <dc:subject/>
  <dc:title>Слайд 1</dc:title>
</cp:coreProperties>
</file>