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AAC-4EA7-4E43-98ED-D74973578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C2C9-6701-4ECA-B045-5A1198FCB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142-E085-48DA-9A7A-9A2AA3D92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843-3133-4489-B7A9-C254AF029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4EF9-8772-4260-BE2F-407AE3BDD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E22-E884-43AD-8A02-7CEFC598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FFC-9557-4F0C-9712-1C21BADB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6D8-19D2-44FD-BC23-E893CBDF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17E-02DE-4613-9038-E33FD92D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E2E-5042-4573-8864-5F3714DB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053-BE4C-4D18-9EAA-EF01FBA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570-8AA3-4954-89B8-366EC381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D6A-C65E-418C-9ADE-F900A86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D55-A668-4900-9FA6-B74631F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320-470C-4D85-B155-D917442A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D60-7F31-4647-BDA0-1F0512F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D55-A71F-4489-B9A3-1DF61A2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F355-FF24-4EB2-9AC4-9027B7731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60"/>
          <p:cNvGrpSpPr/>
          <p:nvPr/>
        </p:nvGrpSpPr>
        <p:grpSpPr>
          <a:xfrm>
            <a:off x="58680" y="0"/>
            <a:ext cx="9085320" cy="6858000"/>
            <a:chOff x="58680" y="0"/>
            <a:chExt cx="9085320" cy="6858000"/>
          </a:xfrm>
        </p:grpSpPr>
        <p:grpSp>
          <p:nvGrpSpPr>
            <p:cNvPr id="49" name="Group 59"/>
            <p:cNvGrpSpPr/>
            <p:nvPr/>
          </p:nvGrpSpPr>
          <p:grpSpPr>
            <a:xfrm>
              <a:off x="63360" y="635040"/>
              <a:ext cx="9080640" cy="374760"/>
              <a:chOff x="63360" y="635040"/>
              <a:chExt cx="9080640" cy="374760"/>
            </a:xfrm>
          </p:grpSpPr>
          <p:sp>
            <p:nvSpPr>
              <p:cNvPr id="50" name="Rectangle 2"/>
              <p:cNvSpPr/>
              <p:nvPr/>
            </p:nvSpPr>
            <p:spPr>
              <a:xfrm rot="5400000">
                <a:off x="4531320" y="-3602520"/>
                <a:ext cx="144360" cy="90806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3"/>
              <p:cNvSpPr/>
              <p:nvPr/>
            </p:nvSpPr>
            <p:spPr>
              <a:xfrm rot="5400000">
                <a:off x="4531320" y="-3832920"/>
                <a:ext cx="144720" cy="9080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4"/>
            <p:cNvSpPr/>
            <p:nvPr/>
          </p:nvSpPr>
          <p:spPr>
            <a:xfrm rot="10800000">
              <a:off x="190080" y="0"/>
              <a:ext cx="38124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58680" y="67464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25440" y="8650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496800" y="58896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266760" y="44460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3" descr="Рисунок12223"/>
          <p:cNvPicPr/>
          <p:nvPr/>
        </p:nvPicPr>
        <p:blipFill>
          <a:blip r:embed="rId1"/>
          <a:stretch/>
        </p:blipFill>
        <p:spPr>
          <a:xfrm flipH="1" rot="18399600">
            <a:off x="7716240" y="27000"/>
            <a:ext cx="129564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914400" y="6096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: педагог – психолог Рябцева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1143000" y="1523880"/>
            <a:ext cx="716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и методы работы с учащимися с отклоняющимся пове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4" descr="СДВГ: стигматизация."/>
          <p:cNvPicPr/>
          <p:nvPr/>
        </p:nvPicPr>
        <p:blipFill>
          <a:blip r:embed="rId2"/>
          <a:stretch/>
        </p:blipFill>
        <p:spPr>
          <a:xfrm>
            <a:off x="914400" y="3352680"/>
            <a:ext cx="76867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дин из важных путей снижения агрессии - </a:t>
            </a: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установление с ребенком обратной связ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риемы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тация факта («ты ведешь себя агрессивно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атирующий вопрос («ты злишься?», «ты обижен?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мотивов агрессивного поведения («Ты хочешь меня обидеть»", «Ты хочешь продемонстрировать силу?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наружение своих собственных чувств по отношению к нежелательному поведению («Мне не нравится, когда со мной говорят в таком тоне», «Я сержусь, когда на меня кто-то громко кричит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пелляция к правилам («Мы же с тобой договаривались!»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Интроверты</a:t>
            </a:r>
            <a:br>
              <a:rPr sz="4000"/>
            </a:b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ричины:</a:t>
            </a:r>
            <a:br>
              <a:rPr sz="4000"/>
            </a:b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не справиться со сложной ситуацие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ах общения со сверстниками (страх быть обиженным, осмеянным или проигнорированным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ности общения с противоположным поло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ицательный эффект выраженной однажды искренности ребенка (в разговоре и поступках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желание выполнять требования взрослых, участвовать в чем-то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мение осуществлять выбор, решаться на действи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таенная накопившаяся обида, огорч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ная тревожность (о себе, о ком-то из родителей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ишком большие обязанности для ребе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гое или жестокое наказание ребе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силие над ребенко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яжелая болезнь или частая болезненность (физическая или психическая)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льтивирование родителями отчужденного, слишком послушного, «правильного» поведения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Картинки по запросу &quot;картинки интроветрты в школе&quot;"/>
          <p:cNvPicPr/>
          <p:nvPr/>
        </p:nvPicPr>
        <p:blipFill>
          <a:blip r:embed="rId1"/>
          <a:stretch/>
        </p:blipFill>
        <p:spPr>
          <a:xfrm>
            <a:off x="6553080" y="5410080"/>
            <a:ext cx="2133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Школа – царств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авертов</a:t>
            </a:r>
            <a:r>
              <a:rPr b="1" lang="ru-RU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, а интровертам в ней приходится терпеть и приспосабливаться!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228600" y="1850040"/>
            <a:ext cx="85345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екоменд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ля чтения, записи и рефлек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 небольших группах (3-5 человек), где каждый имеет возможность поделиться своими мыслями и идеями, не испытывая давления со стороны всего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бучение, когда двое учеников выполняют совместное задание и тесно взаимодейству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выбора учеником одиночных видов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 применяйте на уроках «время ожидания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зитивное самовосприят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ложительный настр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обходимо повышать самооценк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йте тревожность всеми возможными способами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Картинки по запросу &quot;картинки школьники за партой&quot;"/>
          <p:cNvPicPr/>
          <p:nvPr/>
        </p:nvPicPr>
        <p:blipFill>
          <a:blip r:embed="rId1"/>
          <a:stretch/>
        </p:blipFill>
        <p:spPr>
          <a:xfrm>
            <a:off x="2209680" y="3657600"/>
            <a:ext cx="4800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Рисунок12223"/>
          <p:cNvPicPr/>
          <p:nvPr/>
        </p:nvPicPr>
        <p:blipFill>
          <a:blip r:embed="rId1"/>
          <a:stretch/>
        </p:blipFill>
        <p:spPr>
          <a:xfrm rot="1744200">
            <a:off x="3530160" y="3524040"/>
            <a:ext cx="1295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C 0.03924 -0.02824 0.17847 -0.10856 0.23628 -0.16528 C 0.29444 -0.22222 0.29809 -0.28773 0.34809 -0.34213 C 0.39826 -0.39629 0.47292 -0.43472 0.53767 -0.49097 C 0.60278 -0.54676 0.69566 -0.63912 0.7375 -0.67778 E">
                                      <p:cBhvr>
                                        <p:cTn id="18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иторинг обращений в психологическую службу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17-2020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80880" y="2209680"/>
            <a:ext cx="84582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еракт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запущен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блемы с социализа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кольная дезадаптация) –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есси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я психического и физического здоровь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центу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одростков – 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9"/>
          <p:cNvGrpSpPr/>
          <p:nvPr/>
        </p:nvGrpSpPr>
        <p:grpSpPr>
          <a:xfrm>
            <a:off x="60480" y="0"/>
            <a:ext cx="9077040" cy="6850080"/>
            <a:chOff x="60480" y="0"/>
            <a:chExt cx="9077040" cy="6850080"/>
          </a:xfrm>
        </p:grpSpPr>
        <p:grpSp>
          <p:nvGrpSpPr>
            <p:cNvPr id="65" name="Group 20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66" name="Rectangle 21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2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23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5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2"/>
          <p:cNvSpPr/>
          <p:nvPr/>
        </p:nvSpPr>
        <p:spPr>
          <a:xfrm>
            <a:off x="914400" y="635400"/>
            <a:ext cx="746748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ы семейного воспитания (недостаточное психолого-педагогическое просвещение родителей, перекладывание забот о здоровье и воспитании на школу, конфликты в семье и многое друг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, травмирующие психику ребенка (развод родителей, их длительное отсутствие, смерть близких людей, перемена места жительства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физического или психического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уация характера, темпера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в межличностных отношениях (изгой, отчужден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ные ситуации между учителями и родителями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5" descr="Рисунок12223"/>
          <p:cNvPicPr/>
          <p:nvPr/>
        </p:nvPicPr>
        <p:blipFill>
          <a:blip r:embed="rId1"/>
          <a:stretch/>
        </p:blipFill>
        <p:spPr>
          <a:xfrm rot="1744200">
            <a:off x="533520" y="5410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исунок1222"/>
          <p:cNvPicPr/>
          <p:nvPr/>
        </p:nvPicPr>
        <p:blipFill>
          <a:blip r:embed="rId2"/>
          <a:stretch/>
        </p:blipFill>
        <p:spPr>
          <a:xfrm flipH="1" rot="19440000">
            <a:off x="7557840" y="5416560"/>
            <a:ext cx="1207800" cy="99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/>
          <p:cNvPicPr/>
          <p:nvPr/>
        </p:nvPicPr>
        <p:blipFill>
          <a:blip r:embed="rId3"/>
          <a:srcRect l="8712" t="2642" r="6465" b="4281"/>
          <a:stretch/>
        </p:blipFill>
        <p:spPr>
          <a:xfrm flipH="1" rot="19435800">
            <a:off x="7543080" y="5410080"/>
            <a:ext cx="1222200" cy="10033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9"/>
          <p:cNvGrpSpPr/>
          <p:nvPr/>
        </p:nvGrpSpPr>
        <p:grpSpPr>
          <a:xfrm>
            <a:off x="60480" y="0"/>
            <a:ext cx="9077040" cy="6850080"/>
            <a:chOff x="60480" y="0"/>
            <a:chExt cx="9077040" cy="6850080"/>
          </a:xfrm>
        </p:grpSpPr>
        <p:grpSp>
          <p:nvGrpSpPr>
            <p:cNvPr id="78" name="Group 20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79" name="Rectangle 21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22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ctangle 23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4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5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6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7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"/>
          <p:cNvSpPr/>
          <p:nvPr/>
        </p:nvSpPr>
        <p:spPr>
          <a:xfrm>
            <a:off x="2286000" y="688680"/>
            <a:ext cx="4648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ДВ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838080" y="1509840"/>
            <a:ext cx="7391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проявления синдро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обладанием нарушения внимания (синдром дефицита внимания – СД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обладанием гиперактивности и импульсивности (синдром двигательной гиперактив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 тип (СДВ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признаки: </a:t>
            </a:r>
            <a:r>
              <a:rPr b="1" lang="ru-RU" sz="2000" spc="-1" strike="noStrike" u="sng">
                <a:solidFill>
                  <a:srgbClr val="2d2d8a"/>
                </a:solidFill>
                <a:uFillTx/>
                <a:latin typeface="Arial"/>
              </a:rPr>
              <a:t>невнимательность, гиперактивность и импульс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C 0.03924 -0.02824 0.17847 -0.10856 0.23628 -0.16528 C 0.29444 -0.22222 0.29809 -0.28773 0.34809 -0.34213 C 0.39826 -0.39629 0.47292 -0.43472 0.53767 -0.49097 C 0.60278 -0.54676 0.69566 -0.63912 0.7375 -0.67778 E">
                                      <p:cBhvr>
                                        <p:cTn id="10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екомендации педагогам</a:t>
            </a:r>
            <a:br>
              <a:rPr sz="2800"/>
            </a:br>
            <a:r>
              <a:rPr b="1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о работе с гиперактивными детьми</a:t>
            </a:r>
            <a:br>
              <a:rPr sz="2800"/>
            </a:br>
            <a:r>
              <a:rPr b="1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(СДВГ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609480" y="1395720"/>
            <a:ext cx="8229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 знаковую систему оценивания. Хорошее поведение и успехи в учёбе вознаграждайте. Не жалейте похвалы для ребёнка, если он успешно справился даже с небольшим за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яйте режим и темп урока – устраивайте минутки активного отдыха с лёгкими физическими упражнениями и релакс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Расписание занятий должно быть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дети с СДВГ часто забываю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бота с гиперактивными детьми должна строиться индивидуально. Оптимальное место для такого ребёнка – в центре класса, напротив доски. Он всегда должен находиться перед глазами учителя. Ему должна быть предоставлена возможность быстро обращаться к учителю за помощью в случае затруднений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правляйте энергию гиперактивных детей в полезное русло – во время урока попросите его вымыть доску, раздать тетради, разложить карточки, собрать самостоятельные работы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водите проблемное обучение, повышайте мотивацию учеников, используя в процессе обучения элементы игры, соревнования. Давайте больше творческих, развивающих заданий. Избегайте монотонной учебной деятельности. Рекомендуется частая смена заданий с небольшим числом вопр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пределённый отрезок времени давайте лишь одно задание. Если ученику предстоит выполнить большое задание, то оно предлагается ему в виде последовательных частей. Учитель должен контролировать ход работы над каждой из частей, внося необходимые коррективы.</a:t>
            </a:r>
            <a:br>
              <a:rPr sz="1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задания в соответствии с рабочим темпом и способностями ученика. Избегайте предъявления завышенных или заниженных требований к ученику с СДВ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йте ситуации успеха, в которых ребёнок имел бы возможность проявить свои сильные стороны. Научите его лучше их использовать, чтобы компенсировать нарушенные функции за счёт здоровых. Пусть он станет классным экспертом по некоторым областям знаний.</a:t>
            </a:r>
            <a:br>
              <a:rPr sz="1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психологом помогайте ребёнку адаптироваться в классном коллективе – воспитывайте навыки совместной работы в парах и группах, обучайте необходимым социальным нормам и навыкам общ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Рисунок12223"/>
          <p:cNvPicPr/>
          <p:nvPr/>
        </p:nvPicPr>
        <p:blipFill>
          <a:blip r:embed="rId1"/>
          <a:stretch/>
        </p:blipFill>
        <p:spPr>
          <a:xfrm flipH="1" rot="18399600">
            <a:off x="7023960" y="518148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ессивные д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внутренней агресс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сть – проявление внутреннего дискомфорта, неувер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адекватно выражать отрицательные эмоции, контролировать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тревожность, ощущение отвер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 (чаще занижен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привлечь внимание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2189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ные кри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теряют контроль над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порят и ссорятся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ываются выполнять просьбы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енно вызывают у других чувство разд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яют других в своих ошиб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вымещать свой гнев на неодушевленных вещ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испытывают чувство злости, гнева, зави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помнят обиду, стремясь отомс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ительны и раздражи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Картинки по запросу &quot;картинки агрессивные дети&quot;"/>
          <p:cNvPicPr/>
          <p:nvPr/>
        </p:nvPicPr>
        <p:blipFill>
          <a:blip r:embed="rId1"/>
          <a:stretch/>
        </p:blipFill>
        <p:spPr>
          <a:xfrm>
            <a:off x="685800" y="4952880"/>
            <a:ext cx="3581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9"/>
          <p:cNvGrpSpPr/>
          <p:nvPr/>
        </p:nvGrpSpPr>
        <p:grpSpPr>
          <a:xfrm>
            <a:off x="60480" y="0"/>
            <a:ext cx="9077040" cy="6850080"/>
            <a:chOff x="60480" y="0"/>
            <a:chExt cx="9077040" cy="6850080"/>
          </a:xfrm>
        </p:grpSpPr>
        <p:grpSp>
          <p:nvGrpSpPr>
            <p:cNvPr id="100" name="Group 20"/>
            <p:cNvGrpSpPr/>
            <p:nvPr/>
          </p:nvGrpSpPr>
          <p:grpSpPr>
            <a:xfrm>
              <a:off x="210960" y="303120"/>
              <a:ext cx="8926560" cy="374760"/>
              <a:chOff x="210960" y="303120"/>
              <a:chExt cx="8926560" cy="374760"/>
            </a:xfrm>
          </p:grpSpPr>
          <p:sp>
            <p:nvSpPr>
              <p:cNvPr id="101" name="Rectangle 21"/>
              <p:cNvSpPr/>
              <p:nvPr/>
            </p:nvSpPr>
            <p:spPr>
              <a:xfrm rot="5400000">
                <a:off x="4601880" y="-38574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 rot="5400000">
                <a:off x="4601880" y="-408780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23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16"/>
          <p:cNvSpPr/>
          <p:nvPr/>
        </p:nvSpPr>
        <p:spPr>
          <a:xfrm>
            <a:off x="990720" y="8380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едагогам по работе с агрессивными дет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1143000" y="192024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классе эмоционального комфорта дл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бенка выражать свои чувства социально приемлем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выкам сотруд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ррекционной и поддерживающ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ая задача учителя -   уменьшить напряжение ситуации. 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ичными неправильными действиями взрослого, усиливающими напряжение и агрессию, являются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голоса, изменение тона на угрожающий; крик, негодова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монстрация власти («Учитель здесь пока еще я», «Будет так, как я скажу»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рказм, насмешки, высмеивание и передразнива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гативная оценка личности ребенка, его близких или друз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физической сил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я или угрозы наказа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user</cp:lastModifiedBy>
  <dcterms:modified xsi:type="dcterms:W3CDTF">2020-03-21T07:34:11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