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9FAC-F78B-41A9-B0F4-57C945D06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86E5-1242-4993-B0B1-2B3E801D3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2D89-F309-40E8-9E8E-3941AA2EF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02A9-AEFD-4145-AAB8-D8D83231D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B30E-2E5B-4A55-9EC3-057599F01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155-3112-4D07-BE29-F6B36AE8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B52-B291-4EA0-BA85-DBF4B4EF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33A-5D52-44DD-9CD9-0864F14E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E09-6AC6-4189-A4C2-ABD86417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FA7-B355-4E62-A871-0C708708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A4F-4912-4E87-AD1A-78D4BAEB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F5B-B1DE-43C4-BA7F-2BBE9017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2B9-BC5A-4111-B614-E91E3E11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5FF-42F3-4896-9FD0-4C7F8539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3EE-A94A-4653-A8CC-2044FA71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BC8-C7C8-47CA-A496-3743005B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0F4-C8FB-4DF8-87C6-4C810865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DC67-7E6D-4CAC-8AB8-C0F794544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0"/>
          <p:cNvGrpSpPr/>
          <p:nvPr/>
        </p:nvGrpSpPr>
        <p:grpSpPr>
          <a:xfrm>
            <a:off x="58680" y="0"/>
            <a:ext cx="9085320" cy="6858000"/>
            <a:chOff x="58680" y="0"/>
            <a:chExt cx="9085320" cy="6858000"/>
          </a:xfrm>
        </p:grpSpPr>
        <p:grpSp>
          <p:nvGrpSpPr>
            <p:cNvPr id="49" name="Group 59"/>
            <p:cNvGrpSpPr/>
            <p:nvPr/>
          </p:nvGrpSpPr>
          <p:grpSpPr>
            <a:xfrm>
              <a:off x="63360" y="635040"/>
              <a:ext cx="9080640" cy="374760"/>
              <a:chOff x="63360" y="635040"/>
              <a:chExt cx="9080640" cy="374760"/>
            </a:xfrm>
          </p:grpSpPr>
          <p:sp>
            <p:nvSpPr>
              <p:cNvPr id="50" name="Rectangle 2"/>
              <p:cNvSpPr/>
              <p:nvPr/>
            </p:nvSpPr>
            <p:spPr>
              <a:xfrm rot="5400000">
                <a:off x="4531320" y="-3602520"/>
                <a:ext cx="144360" cy="90806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3"/>
              <p:cNvSpPr/>
              <p:nvPr/>
            </p:nvSpPr>
            <p:spPr>
              <a:xfrm rot="5400000">
                <a:off x="4531320" y="-3832920"/>
                <a:ext cx="144720" cy="9080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4"/>
            <p:cNvSpPr/>
            <p:nvPr/>
          </p:nvSpPr>
          <p:spPr>
            <a:xfrm rot="10800000">
              <a:off x="190080" y="0"/>
              <a:ext cx="38124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58680" y="67464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325440" y="8650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496800" y="58896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266760" y="444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13" descr="Рисунок12223"/>
          <p:cNvPicPr/>
          <p:nvPr/>
        </p:nvPicPr>
        <p:blipFill>
          <a:blip r:embed="rId1"/>
          <a:stretch/>
        </p:blipFill>
        <p:spPr>
          <a:xfrm flipH="1" rot="18399600">
            <a:off x="7716240" y="27000"/>
            <a:ext cx="129564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914400" y="6096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л: педагог – психолог Рябцева Е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1143000" y="1523880"/>
            <a:ext cx="716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и методы работы с учащимися с отклоняющимся повед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4" descr="СДВГ: стигматизация."/>
          <p:cNvPicPr/>
          <p:nvPr/>
        </p:nvPicPr>
        <p:blipFill>
          <a:blip r:embed="rId2"/>
          <a:stretch/>
        </p:blipFill>
        <p:spPr>
          <a:xfrm>
            <a:off x="914400" y="3352680"/>
            <a:ext cx="76867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2d2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дин из важных путей снижения агрессии - </a:t>
            </a:r>
            <a:r>
              <a:rPr b="1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установление с ребенком обратной связ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Приемы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тация факта («ты ведешь себя агрессивно»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атирующий вопрос («ты злишься?», «ты обижен?»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мотивов агрессивного поведения («Ты хочешь меня обидеть»", «Ты хочешь продемонстрировать силу?»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наружение своих собственных чувств по отношению к нежелательному поведению («Мне не нравится, когда со мной говорят в таком тоне», «Я сержусь, когда на меня кто-то громко кричит»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пелляция к правилам («Мы же с тобой договаривались!»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Интроверты</a:t>
            </a:r>
            <a:br>
              <a:rPr sz="4000"/>
            </a:b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Причины:</a:t>
            </a:r>
            <a:br>
              <a:rPr sz="4000"/>
            </a:br>
            <a:r>
              <a:rPr b="1" lang="ru-RU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не справиться со сложной ситуацие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ах общения со сверстниками (страх быть обиженным, осмеянным или проигнорированным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ности общения с противоположным поло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ицательный эффект выраженной однажды искренности ребенка (в разговоре и поступках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желание выполнять требования взрослых, участвовать в чем-то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мение осуществлять выбор, решаться на действи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таенная накопившаяся обида, огорче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ная тревожность (о себе, о ком-то из родителей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ишком большие обязанности для ребен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гое или жестокое наказание ребен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силие над ребенко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яжелая болезнь или частая болезненность (физическая или психическая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льтивирование родителями отчужденного, слишком послушного, «правильного» поведения;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Картинки по запросу &quot;картинки интроветрты в школе&quot;"/>
          <p:cNvPicPr/>
          <p:nvPr/>
        </p:nvPicPr>
        <p:blipFill>
          <a:blip r:embed="rId1"/>
          <a:stretch/>
        </p:blipFill>
        <p:spPr>
          <a:xfrm>
            <a:off x="6553080" y="5410080"/>
            <a:ext cx="2133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Школа – царств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авертов</a:t>
            </a:r>
            <a:r>
              <a:rPr b="1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, а интровертам в ней приходится терпеть и приспосабливаться!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228600" y="1850040"/>
            <a:ext cx="853452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Рекоменд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ля чтения, записи и рефлек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 небольших группах (3-5 человек), где каждый имеет возможность поделиться своими мыслями и идеями, не испытывая давления со стороны всего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бучение, когда двое учеников выполняют совместное задание и тесно взаимодейству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выбора учеником одиночных видов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 применяйте на уроках «время ожидания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зитивное самовосприят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ложительный настр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еобходимо повышать самооценк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йте тревожность всеми возможными способами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Картинки по запросу &quot;картинки школьники за партой&quot;"/>
          <p:cNvPicPr/>
          <p:nvPr/>
        </p:nvPicPr>
        <p:blipFill>
          <a:blip r:embed="rId1"/>
          <a:stretch/>
        </p:blipFill>
        <p:spPr>
          <a:xfrm>
            <a:off x="2209680" y="3657600"/>
            <a:ext cx="4800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Рисунок12223"/>
          <p:cNvPicPr/>
          <p:nvPr/>
        </p:nvPicPr>
        <p:blipFill>
          <a:blip r:embed="rId1"/>
          <a:stretch/>
        </p:blipFill>
        <p:spPr>
          <a:xfrm rot="1744200">
            <a:off x="3530160" y="3524040"/>
            <a:ext cx="1295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C 0.03924 -0.02824 0.17847 -0.10856 0.23628 -0.16528 C 0.29444 -0.22222 0.29809 -0.28773 0.34809 -0.34213 C 0.39826 -0.39629 0.47292 -0.43472 0.53767 -0.49097 C 0.60278 -0.54676 0.69566 -0.63912 0.7375 -0.67778 E">
                                      <p:cBhvr>
                                        <p:cTn id="18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ниторинг обращений в психологическую службу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2017-2020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80880" y="2209680"/>
            <a:ext cx="84582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перакти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ая запущен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ы с социализаци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кольная дезадаптация) –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есси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я психического и физического здоровь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центу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одростков – 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9"/>
          <p:cNvGrpSpPr/>
          <p:nvPr/>
        </p:nvGrpSpPr>
        <p:grpSpPr>
          <a:xfrm>
            <a:off x="60480" y="0"/>
            <a:ext cx="9077040" cy="6850080"/>
            <a:chOff x="60480" y="0"/>
            <a:chExt cx="9077040" cy="6850080"/>
          </a:xfrm>
        </p:grpSpPr>
        <p:grpSp>
          <p:nvGrpSpPr>
            <p:cNvPr id="65" name="Group 20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66" name="Rectangle 21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2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ctangle 23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5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6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2"/>
          <p:cNvSpPr/>
          <p:nvPr/>
        </p:nvSpPr>
        <p:spPr>
          <a:xfrm>
            <a:off x="914400" y="635400"/>
            <a:ext cx="7467480" cy="58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ы семейного воспитания (недостаточное психолого-педагогическое просвещение родителей, перекладывание забот о здоровье и воспитании на школу, конфликты в семье и многое друго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, травмирующие психику ребенка (развод родителей, их длительное отсутствие, смерть близких людей, перемена места жительства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физического или психического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нтуация характера, темпера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в межличностных отношениях (изгой, отчужден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ные ситуации между учителями и родителями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5" descr="Рисунок12223"/>
          <p:cNvPicPr/>
          <p:nvPr/>
        </p:nvPicPr>
        <p:blipFill>
          <a:blip r:embed="rId1"/>
          <a:stretch/>
        </p:blipFill>
        <p:spPr>
          <a:xfrm rot="1744200">
            <a:off x="533520" y="541008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Рисунок1222"/>
          <p:cNvPicPr/>
          <p:nvPr/>
        </p:nvPicPr>
        <p:blipFill>
          <a:blip r:embed="rId2"/>
          <a:stretch/>
        </p:blipFill>
        <p:spPr>
          <a:xfrm flipH="1" rot="19440000">
            <a:off x="7557840" y="5416560"/>
            <a:ext cx="1207800" cy="99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"/>
          <p:cNvPicPr/>
          <p:nvPr/>
        </p:nvPicPr>
        <p:blipFill>
          <a:blip r:embed="rId3"/>
          <a:srcRect l="8712" t="2642" r="6465" b="4281"/>
          <a:stretch/>
        </p:blipFill>
        <p:spPr>
          <a:xfrm flipH="1" rot="19435800">
            <a:off x="7543080" y="5410080"/>
            <a:ext cx="1222200" cy="100332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9"/>
          <p:cNvGrpSpPr/>
          <p:nvPr/>
        </p:nvGrpSpPr>
        <p:grpSpPr>
          <a:xfrm>
            <a:off x="60480" y="0"/>
            <a:ext cx="9077040" cy="6850080"/>
            <a:chOff x="60480" y="0"/>
            <a:chExt cx="9077040" cy="6850080"/>
          </a:xfrm>
        </p:grpSpPr>
        <p:grpSp>
          <p:nvGrpSpPr>
            <p:cNvPr id="78" name="Group 20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79" name="Rectangle 21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22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Rectangle 23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4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5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6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7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1"/>
          <p:cNvSpPr/>
          <p:nvPr/>
        </p:nvSpPr>
        <p:spPr>
          <a:xfrm>
            <a:off x="2286000" y="688680"/>
            <a:ext cx="4648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ДВ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838080" y="1509840"/>
            <a:ext cx="7391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проявления синдро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еобладанием нарушения внимания (синдром дефицита внимания – СД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еобладанием гиперактивности и импульсивности (синдром двигательной гиперактив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ый тип (СДВГ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признаки: </a:t>
            </a:r>
            <a:r>
              <a:rPr b="1" lang="ru-RU" sz="2000" spc="-1" strike="noStrike" u="sng">
                <a:solidFill>
                  <a:srgbClr val="2d2d8a"/>
                </a:solidFill>
                <a:uFillTx/>
                <a:latin typeface="Arial"/>
              </a:rPr>
              <a:t>невнимательность, гиперактивность и импульс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C 0.03924 -0.02824 0.17847 -0.10856 0.23628 -0.16528 C 0.29444 -0.22222 0.29809 -0.28773 0.34809 -0.34213 C 0.39826 -0.39629 0.47292 -0.43472 0.53767 -0.49097 C 0.60278 -0.54676 0.69566 -0.63912 0.7375 -0.67778 E">
                                      <p:cBhvr>
                                        <p:cTn id="10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Рекомендации педагогам</a:t>
            </a:r>
            <a:br>
              <a:rPr sz="2800"/>
            </a:br>
            <a:r>
              <a:rPr b="1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по работе с гиперактивными детьми</a:t>
            </a:r>
            <a:br>
              <a:rPr sz="2800"/>
            </a:br>
            <a:r>
              <a:rPr b="1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(СДВГ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609480" y="1395720"/>
            <a:ext cx="8229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 знаковую систему оценивания. Хорошее поведение и успехи в учёбе вознаграждайте. Не жалейте похвалы для ребёнка, если он успешно справился даже с небольшим зад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меняйте режим и темп урока – устраивайте минутки активного отдыха с лёгкими физическими упражнениями и релакс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Расписание занятий должно быть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оянны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дети с СДВГ часто забываю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бота с гиперактивными детьми должна строиться индивидуально. Оптимальное место для такого ребёнка – в центре класса, напротив доски. Он всегда должен находиться перед глазами учителя. Ему должна быть предоставлена возможность быстро обращаться к учителю за помощью в случае затруднений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правляйте энергию гиперактивных детей в полезное русло – во время урока попросите его вымыть доску, раздать тетради, разложить карточки, собрать самостоятельные работы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водите проблемное обучение, повышайте мотивацию учеников, используя в процессе обучения элементы игры, соревнования. Давайте больше творческих, развивающих заданий. Избегайте монотонной учебной деятельности. Рекомендуется частая смена заданий с небольшим числом вопр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пределённый отрезок времени давайте лишь одно задание. Если ученику предстоит выполнить большое задание, то оно предлагается ему в виде последовательных частей. Учитель должен контролировать ход работы над каждой из частей, внося необходимые коррективы.</a:t>
            </a: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задания в соответствии с рабочим темпом и способностями ученика. Избегайте предъявления завышенных или заниженных требований к ученику с СДВ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йте ситуации успеха, в которых ребёнок имел бы возможность проявить свои сильные стороны. Научите его лучше их использовать, чтобы компенсировать нарушенные функции за счёт здоровых. Пусть он станет классным экспертом по некоторым областям знаний.</a:t>
            </a:r>
            <a:br>
              <a:rPr sz="1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 с психологом помогайте ребёнку адаптироваться в классном коллективе – воспитывайте навыки совместной работы в парах и группах, обучайте необходимым социальным нормам и навыкам общ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Рисунок12223"/>
          <p:cNvPicPr/>
          <p:nvPr/>
        </p:nvPicPr>
        <p:blipFill>
          <a:blip r:embed="rId1"/>
          <a:stretch/>
        </p:blipFill>
        <p:spPr>
          <a:xfrm flipH="1" rot="18399600">
            <a:off x="7023960" y="5181480"/>
            <a:ext cx="1295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ессивные д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внутренней агресс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сть – проявление внутреннего дискомфорта, неувер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адекватно выражать отрицательные эмоции, контролировать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тревожность, ощущение отвер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 (чаще заниженн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привлечь внимание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2189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ные кри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теряют контроль над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орят и ссорятся с окружаю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ываются выполнять просьбы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енно вызывают у других чувство разд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иняют других в своих ошиб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вымещать свой гнев на неодушевленных вещ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испытывают чувство злости, гнева, зави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помнят обиду, стремясь отомс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ительны и раздражит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Картинки по запросу &quot;картинки агрессивные дети&quot;"/>
          <p:cNvPicPr/>
          <p:nvPr/>
        </p:nvPicPr>
        <p:blipFill>
          <a:blip r:embed="rId1"/>
          <a:stretch/>
        </p:blipFill>
        <p:spPr>
          <a:xfrm>
            <a:off x="685800" y="4952880"/>
            <a:ext cx="3581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9"/>
          <p:cNvGrpSpPr/>
          <p:nvPr/>
        </p:nvGrpSpPr>
        <p:grpSpPr>
          <a:xfrm>
            <a:off x="60480" y="0"/>
            <a:ext cx="9077040" cy="6850080"/>
            <a:chOff x="60480" y="0"/>
            <a:chExt cx="9077040" cy="6850080"/>
          </a:xfrm>
        </p:grpSpPr>
        <p:grpSp>
          <p:nvGrpSpPr>
            <p:cNvPr id="100" name="Group 20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101" name="Rectangle 21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22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23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Прямоугольник 16"/>
          <p:cNvSpPr/>
          <p:nvPr/>
        </p:nvSpPr>
        <p:spPr>
          <a:xfrm>
            <a:off x="990720" y="8380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едагогам по работе с агрессивными дет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1143000" y="192024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классе эмоционального комфорта дл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ебенка выражать свои чувства социально приемлем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навыкам сотрудни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ррекционной и поддерживающе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новная задача учителя -   уменьшить напряжение ситуации. </a:t>
            </a: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ичными неправильными действиями взрослого, усиливающими напряжение и агрессию, являются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голоса, изменение тона на угрожающий; крик, негодова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монстрация власти («Учитель здесь пока еще я», «Будет так, как я скажу»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рказм, насмешки, высмеивание и передразнива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гативная оценка личности ребенка, его близких или друз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физической сил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азания или угрозы наказа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user</cp:lastModifiedBy>
  <dcterms:modified xsi:type="dcterms:W3CDTF">2020-03-21T07:34:11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