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89F-378D-4DE0-B3DF-4F75D2A7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C74-78E0-4534-9618-03003D04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F21-065F-4AAC-B604-C04B1402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65F-5B55-4508-8F3A-FF3312F4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C19-95EB-48CC-856E-856331B9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A95-2782-49EE-81A5-8BA0BFA8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841-D0C7-4428-A2F9-0D345FD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D22-F814-4403-BCD8-AD8D4F0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753-84EB-4322-833C-B0FD1A12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6C7-B987-4BE6-9940-565CAA3E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687-9281-49CE-AA97-C808A54D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535-9E10-4223-92F9-894B6AC7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5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9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2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311E-52D6-4D3E-9BCB-B589A9FC16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66"/>
                </a:solidFill>
                <a:latin typeface="Times New Roman"/>
              </a:rPr>
              <a:t>Трудный класс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2120" y="32763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ематический лекторий для классных руководителей и учите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ecff"/>
                </a:solidFill>
                <a:latin typeface="Times New Roman"/>
              </a:rPr>
              <a:t>Типология и особенности «трудного класс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914400"/>
          <a:ext cx="8229600" cy="6470640"/>
        </p:xfrm>
        <a:graphic>
          <a:graphicData uri="http://schemas.openxmlformats.org/drawingml/2006/table">
            <a:tbl>
              <a:tblPr/>
              <a:tblGrid>
                <a:gridCol w="2209680"/>
                <a:gridCol w="3276720"/>
                <a:gridCol w="2743200"/>
              </a:tblGrid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ип кла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о – психологические особенности классов в цел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сихологические особенности отдельных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ff00"/>
                          </a:solidFill>
                          <a:uFillTx/>
                          <a:latin typeface="Verdana"/>
                        </a:rPr>
                        <a:t>«Немотивированный класс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еобладание «отрицательных» мотивов в шаблоне учебной деятельности. Низкий рейтинг учебы в структуре групповых ценностей, транслируемый родителями. Несоответствие учебных задач возрастным особенностям. Ситуация «хронического»учебного неуспеха, в том числе связанная со спецификой оцени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сформированнссть учебных навыков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таточная минимальная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озговая дисфункция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ыученная беспомощность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Школьная тревожность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изкий темп учебной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ятельности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изкий уровань притяз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380880" y="1371600"/>
            <a:ext cx="8382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яция личной активности учащихся по поиску новых смыслов учебы и посещения школы в цело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отрицательных эмоций, связанных с учебной деятельностью (ситуации успеха для каждого, индивидуальный подход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ть условия для повышения самооценки учащихся, ориентация на «зону ближайшего развития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 с опорой на интересы учащих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Типология и особенности </a:t>
            </a: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«трудного класс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414440"/>
          <a:ext cx="8229600" cy="5049720"/>
        </p:xfrm>
        <a:graphic>
          <a:graphicData uri="http://schemas.openxmlformats.org/drawingml/2006/table">
            <a:tbl>
              <a:tblPr/>
              <a:tblGrid>
                <a:gridCol w="2438280"/>
                <a:gridCol w="3048120"/>
                <a:gridCol w="27432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ип кл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о – психологические особенности классов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сихологические особенности отдельных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8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Times New Roman"/>
                        </a:rPr>
                        <a:t>Неуправляемы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рлык «неуправляемые» (отражается в групповом самосознании)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бладание «отрицательных» мотивов 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 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блоне учебной деятельности (мотив общения). Низкий рейтинг ценности дисциплины в структуре групповых ценностей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 рейтинг ценности дисциплины или статуса педагога, транслируемый родителями. Авторитарный или попустительский стиль руководства со стороны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аточная минимальная мозговая дисфункция (прежде всего, реактивного типа). Переживание критических этапов развития. Психотравмирующий опыт, вызвавший реактивное пове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ование личной активности учащихся по поиску новых смыслов соблюдения правил поведения, закрепление их в системе групповых нор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навыков конструктивного общения друг с другом, с учителям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отрицательных эмоций, связанных с негативными оценками повед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повышения самооценки учащихс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фференцированные способы реагирования на нарушения дисциплины (в зависимости от их причин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ая поддержка учащих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Типология и особенности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«трудного класса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414440"/>
          <a:ext cx="8229600" cy="5049720"/>
        </p:xfrm>
        <a:graphic>
          <a:graphicData uri="http://schemas.openxmlformats.org/drawingml/2006/table">
            <a:tbl>
              <a:tblPr/>
              <a:tblGrid>
                <a:gridCol w="2438280"/>
                <a:gridCol w="3048120"/>
                <a:gridCol w="27432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кл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 – психологические особенности классов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сихологические особенности отдельных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Внутренне конфликтный»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балансированность групповой структуры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окации учителя и родителей. Типичный стиль отношений в школе (отсутствие адекватной модели разрешения конфликтов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формированнссть навыков общения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живание критических этапов развития. Психотравмирующий опыт, вызвавший реактивное пове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 в поиске новых моделей поведения, расширению ролевого репертуар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нормализации групповой структур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лочение классного коллектив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повышения самооценки учащихс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навыков конструктивного общения учащихся друг с друг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отрицательных эмоций, связанных с негативными оценками повед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повышения самооценки учащихс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фференцированные способы реагирования на нарушения дисциплины (в зависимости от их причин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ая поддержка учащих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Типология и особенности </a:t>
            </a: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«трудного класс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414440"/>
          <a:ext cx="8229600" cy="5049720"/>
        </p:xfrm>
        <a:graphic>
          <a:graphicData uri="http://schemas.openxmlformats.org/drawingml/2006/table">
            <a:tbl>
              <a:tblPr/>
              <a:tblGrid>
                <a:gridCol w="2438280"/>
                <a:gridCol w="3048120"/>
                <a:gridCol w="27432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ип кл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о – психологические особенности классов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сихологические особенности отдельных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«Закрытый»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формировавшийся стереотип групповой экспрессивной деятельности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формированный стереотип восприятия шко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нтроверсия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сформированнссть навыков общения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ах самораскрытия. Трево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ование личной активности учащихся по поиску новых моделей поведения, расширение ролевого репертуар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лочение классного коллектив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страха «самораскрытия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навыков конструктивного общения учащихся друг с другом, учите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Типология и особенности </a:t>
            </a: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«трудного класс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414440"/>
          <a:ext cx="8229600" cy="5049720"/>
        </p:xfrm>
        <a:graphic>
          <a:graphicData uri="http://schemas.openxmlformats.org/drawingml/2006/table">
            <a:tbl>
              <a:tblPr/>
              <a:tblGrid>
                <a:gridCol w="2438280"/>
                <a:gridCol w="3048120"/>
                <a:gridCol w="27432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ип кл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о – психологические особенности классов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сихологические особенности отдельных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«Звездный»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Ярлык «гении» (отражается в групповом самосознании). Акцентирование «звездности» учителями и родител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вышенный уровень притязаний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вышенная самооценка. Неадекватное ролевое поведение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увствительность к крити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коррекции самооценки учащихс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сплочения коллектив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отрицательных эмоций, связанных с неблагоприятным психологическим фоном в класс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ование учащихся к проявлению активности за пределами учебной деятельности и собственного класс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грация «звездного» класса в общешкольную жизн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оздание условий для формирования мотивации эффективной работы с «трудным классом»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лан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. Модель развития классных коллективов. Что такое «трудный класс»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2. Классификация «трудных классов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Признаки «трудного класса» в его функционирован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Типология и особенности «трудного класса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5. Методы диагностики «трудных классов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6.  Психолого – педагогическая помощь «трудному классу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7. Способы реагирования на нарушения дисципли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Способы реагирования на нарушения дисциплин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Verdana"/>
              </a:rPr>
              <a:t>Поведение, направленное напривлечение вним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Verdana"/>
              </a:rPr>
              <a:t>Активное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отвлекает внимание учителя и класс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Verdana"/>
              </a:rPr>
              <a:t>Пассивное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чрезмерно медленный темп работы, демонстративная медлительно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умение просить внимания при переживании дефицита внимания к себ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инимизация внимания (игнорирование демонстративного поведения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решающее поведение (к выходке может присоединиться весь класс в пределах «разрешённой квоты»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чёркивание успехов, внимание за хорошее поведе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влечение ученика (смена вида деятельности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Властолюбивое повед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ое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вспышки негодования, конфронтация, нагнетание напряжён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ссивное: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хое непослуш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ансипация, мода на «сильную личность» в неадекватных проявления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центирование на поступках, а не на личности учащих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ание благоприятного эмоционального фона, избегание напряжённости (не повышать голос, не высмеивать ученика, не сравнивать его с другими, не ставить ниже себя в правах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роченное обсуждение проступ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нстрация модели неагрессивного повед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стительное поведе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ое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физические или психологические акты насилия (порча мебели, оскорбления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ссивное: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норируются все дружественные попыт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реотип силового разрешения конфликт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центирование внимания на поступках, а не на личности учащих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ание благоприятного эмоционального фона, избегание напряжённости (не повышать голос, не высмеивать ученика, не сравнивать его с другими, не ставить ниже себя в правах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роченное обсуждение поступ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нстрация модели неагрессивного повед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едение, направленное на избегание неуда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ое: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пышки негодования в ситуации реальной или потенциальной неудач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ссивное: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ладывание «на потом», уверенность в отсутствии способностей и/или возможнос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основанные ожидания взрослых, конкурирующий стиль взаимодейств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ение дополнительной помощи в обучении (ученики-репетиторы, игровые методы обучения, дополнительные занят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оставление возможности позитивно рассказать о себ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чёркивание достижений, напоминания о прошлых успеха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изация достижений (аплодисментами, условными знаками, отметками в «Классном уголке» и др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аясь с подростком, помните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еду с подростком нужно начинать с дружеского тон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цессе общения с подростком проявляйте к нему искренний интерес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чшим словом, располагающим подростка к общению, является его им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лог с подростком надо начинать с тех вопросов, мнения по которым совпадаю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цессе общения старайтесь вести диалог на равны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айтесь инициативу общения держать в своих р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йте смотреть на вещи глазами подрост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я с «трудным» подростком, нужно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сно сформулировать взрослеющему человеку его права и обязанности, ограничить круг видов деятельности (которые ему разрешены и доступны) и ответственность за них. Настаивать на соблюдении принятых «правил игры», самим соблюдать их в тех случаях, когда другой стороне этого не удается. Быть терпеливым и помнить, чтобы избавиться от нежелательных привычек, нужны долгие месяц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конфликтных ситуациях не стараться одержать победу любой ценой – мы тоже имеем право менять взгляды, мы не гарантированы от ошибок, кое в чем можем и уступит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йствовать только тактическим маневром и никогда – прямой атакой. Выслушивать все, не реагируя тотчас же, и только потом, выбрав подходящий момент, без раздражения высказать свое мнение, вносящее поправки в услышанное. Вскрывать причины неправильных взглядов подростка, показывать, в чем ошибочность его рассуждений, и таким путем развивать и направлять его мыслительный процесс, обеспечивая необходимыми источник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ыть самокритичными, принципиальными, стараться настолько укрепить доверие молодого человека, чтобы он делился с нами своими возможными неприятностя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ставить на подростке крест, ведь его обостренное самолюбие и социальная поза возникли именно вследствие предыдущих социальных сбоев, которые постоянно напоминают о себе и подпитывают нежелательное поведени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пытаться загнать подростка в угол, поставить в затруднительное положение. Не прибегать к физическому наказани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ебуя что-то от подростка, нельзя торговать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905120" y="1904760"/>
            <a:ext cx="67816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66"/>
                </a:solidFill>
                <a:latin typeface="Arial"/>
              </a:rPr>
              <a:t>Модель развития класса </a:t>
            </a:r>
            <a:br>
              <a:rPr sz="2400"/>
            </a:br>
            <a:r>
              <a:rPr b="1" i="1" lang="ru-RU" sz="2400" spc="-1" strike="noStrike">
                <a:solidFill>
                  <a:srgbClr val="ffcc66"/>
                </a:solidFill>
                <a:latin typeface="Arial"/>
              </a:rPr>
              <a:t>(по Стенфорду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1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ориентационный (формирование представлений учащихся друг о друге. Учитель - лидер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2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формирование групповых норм. Оформление категории «МЫ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3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появление межличностных конфликтов и опыта их разреш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4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повышение сплоченности клас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5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появление выраженного чувства «МЫ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6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эмоциональная активность и преобладание неформальных взаимоотношений. Учитель теряет руководящие права. Класс закрывается для нег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7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«высший этап зрелости», открытость групп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Классификация «трудных классов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2819520" y="1752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«Трудные классы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3048120" y="22860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2819520" y="1600200"/>
            <a:ext cx="358128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Трудные классы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Line 18"/>
          <p:cNvSpPr/>
          <p:nvPr/>
        </p:nvSpPr>
        <p:spPr>
          <a:xfrm flipH="1">
            <a:off x="2971800" y="236232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5181480" y="236232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380880" y="2819520"/>
            <a:ext cx="365760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Объективно» труд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ласс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876920" y="2819520"/>
            <a:ext cx="40384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Субъективно» трудные классы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2286000" y="3429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6781680" y="3429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304920" y="4114800"/>
            <a:ext cx="388620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Ситуативно трудные» класс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5029200" y="4114800"/>
            <a:ext cx="373392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стойчиво трудные» классы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609480" y="457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то такое трудный класс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8600" y="1447920"/>
            <a:ext cx="8686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«Объективно» трудный клас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го функционирование характеризуется нарушением одного или нескольких признаков эффективной малой групп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04920" y="41148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«Субъективно» трудный класс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носительно эффективная учебная группа, которая «кажется» «трудной» тому или иному учител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Признаки «трудного класса» в его функциониров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447920"/>
          <a:ext cx="8229600" cy="5337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итерии эффективност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изнаки «трудного класс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 Эффективность совместной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эффективная учебная деятельност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эффективная внеучебная деятельност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 Характеристика социально – психологического климата в групп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благоприятный эмоциональный фон отношений в групп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сбалансированность групповой структуры (разобщенность, гиперсплоченность, конфликтность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 Мотивация совместной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еобладание «отрицательных» мотивов в структуре шаблона учебной деятельности группы. Низкий ранг учёбы и нормативности поведения в иерархии групповых ценност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 Характеристики групповой идентичности и взаимодействия с «аут - группа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азмытая групповая идентичность. Использование самооценочных ярлыков- самоописаний«тупые»,«гении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адекватный стиль взаимодействия между классом и представител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«аут-групп» (учителями, родителями и учащимися из других классов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Психолого – педагогическая помощь «трудному классу»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Picture 5" descr="http://works.doklad.ru/images/BpXKDO7ZN9w/1e7e7b73.jpg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ecff"/>
                </a:solidFill>
                <a:latin typeface="Times New Roman"/>
              </a:rPr>
              <a:t>Типология и особенности «трудного класс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914400"/>
          <a:ext cx="8229600" cy="6470640"/>
        </p:xfrm>
        <a:graphic>
          <a:graphicData uri="http://schemas.openxmlformats.org/drawingml/2006/table">
            <a:tbl>
              <a:tblPr/>
              <a:tblGrid>
                <a:gridCol w="2438280"/>
                <a:gridCol w="3048120"/>
                <a:gridCol w="2743200"/>
              </a:tblGrid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ип кла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о – психологические особенности классов в цел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сихологические особенности отдельных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00"/>
                          </a:solidFill>
                          <a:uFillTx/>
                          <a:latin typeface="Verdana"/>
                        </a:rPr>
                        <a:t>«Необучаемый класс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эффективная учебная деятельност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Ярлык «тупые»(отражается в групповом самосознании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соответствие учебных задач возрастным особенностям. Стиль пед. взаимодействия, не способствующий формированию и развитию познавательной актив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сформированность учебных навыков. Остаточная минимальная мозговая дисфункц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ПР, выученная беспомощность, школьная тревожность, низкий темп учебной деятельн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380880" y="1447920"/>
            <a:ext cx="8458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ть условия для повышения самооценки учащихся, ориентация на «зону ближайшего развития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отрицательных эмоций, связанных с учебной деятельностью (ситуации успеха для каждого, индивидуальный подход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ра на сильные стороны учащихс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высших психических функций в рамках учебной деятельност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родителями по формированию ответственной пози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01</cp:lastModifiedBy>
  <dcterms:modified xsi:type="dcterms:W3CDTF">2017-12-19T06:31:57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