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294-D6E8-4443-A621-1D323248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B93-A5E7-4F38-A4E7-A7CBF6E0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D0C-94F0-4069-848E-DA488A46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08F-A317-4DFB-9BA3-3F4672C4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FD1-D02D-4EC5-A4CE-10A49C24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082-A7CC-41B7-8F8D-4091465C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965-E8DA-464B-8559-1836CDBB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5C7-7E5C-460D-9F48-58D8AC94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121-AF0B-4F24-8DC4-E86F5072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2DB3-B90E-4F23-8285-3B8EF88D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609-B88D-4113-907B-646D3751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C50-18C3-4F76-87AD-B500C373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5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8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9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2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3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4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9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5AB1-643D-4526-9C64-67559D09A3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66"/>
                </a:solidFill>
                <a:latin typeface="Times New Roman"/>
              </a:rPr>
              <a:t>Трудный класс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62120" y="32763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Тематический лекторий для классных руководителей и учите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ecff"/>
                </a:solidFill>
                <a:latin typeface="Times New Roman"/>
              </a:rPr>
              <a:t>Типология и особенности «трудного класса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914400"/>
          <a:ext cx="8229600" cy="6470640"/>
        </p:xfrm>
        <a:graphic>
          <a:graphicData uri="http://schemas.openxmlformats.org/drawingml/2006/table">
            <a:tbl>
              <a:tblPr/>
              <a:tblGrid>
                <a:gridCol w="2209680"/>
                <a:gridCol w="3276720"/>
                <a:gridCol w="2743200"/>
              </a:tblGrid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ип кла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о – психологические особенности классов в цел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сихологические особенности отдельных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ffff00"/>
                          </a:solidFill>
                          <a:uFillTx/>
                          <a:latin typeface="Verdana"/>
                        </a:rPr>
                        <a:t>«Немотивированный класс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еобладание «отрицательных» мотивов в шаблоне учебной деятельности. Низкий рейтинг учебы в структуре групповых ценностей, транслируемый родителями. Несоответствие учебных задач возрастным особенностям. Ситуация «хронического»учебного неуспеха, в том числе связанная со спецификой оценив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сформированнссть учебных навыков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статочная минимальная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озговая дисфункция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ыученная беспомощность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Школьная тревожность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изкий темп учебной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ятельности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изкий уровань притяз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380880" y="1371600"/>
            <a:ext cx="8382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яция личной активности учащихся по поиску новых смыслов учебы и посещения школы в целом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ядка отрицательных эмоций, связанных с учебной деятельностью (ситуации успеха для каждого, индивидуальный подход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ть условия для повышения самооценки учащихся, ориентация на «зону ближайшего развития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е с опорой на интересы учащих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Times New Roman"/>
              </a:rPr>
              <a:t>Типология и особенности </a:t>
            </a:r>
            <a:br>
              <a:rPr sz="3600"/>
            </a:br>
            <a:r>
              <a:rPr b="0" i="1" lang="ru-RU" sz="3600" spc="-1" strike="noStrike">
                <a:solidFill>
                  <a:srgbClr val="ccecff"/>
                </a:solidFill>
                <a:latin typeface="Times New Roman"/>
              </a:rPr>
              <a:t>«трудного класс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414440"/>
          <a:ext cx="8229600" cy="5049720"/>
        </p:xfrm>
        <a:graphic>
          <a:graphicData uri="http://schemas.openxmlformats.org/drawingml/2006/table">
            <a:tbl>
              <a:tblPr/>
              <a:tblGrid>
                <a:gridCol w="2438280"/>
                <a:gridCol w="3048120"/>
                <a:gridCol w="274320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ип клас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о – психологические особенности классов в це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сихологические особенности отдельных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8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Times New Roman"/>
                        </a:rPr>
                        <a:t>Неуправляемы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рлык «неуправляемые» (отражается в групповом самосознании)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обладание «отрицательных» мотивов 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 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блоне учебной деятельности (мотив общения). Низкий рейтинг ценности дисциплины в структуре групповых ценностей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 рейтинг ценности дисциплины или статуса педагога, транслируемый родителями. Авторитарный или попустительский стиль руководства со стороны уч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таточная минимальная мозговая дисфункция (прежде всего, реактивного типа). Переживание критических этапов развития. Психотравмирующий опыт, вызвавший реактивное пове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рование личной активности учащихся по поиску новых смыслов соблюдения правил поведения, закрепление их в системе групповых нор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навыков конструктивного общения друг с другом, с учителям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ядка отрицательных эмоций, связанных с негативными оценками поведе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повышения самооценки учащихс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фференцированные способы реагирования на нарушения дисциплины (в зависимости от их причин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ческая поддержка учащих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Типология и особенности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«трудного класса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414440"/>
          <a:ext cx="8229600" cy="5049720"/>
        </p:xfrm>
        <a:graphic>
          <a:graphicData uri="http://schemas.openxmlformats.org/drawingml/2006/table">
            <a:tbl>
              <a:tblPr/>
              <a:tblGrid>
                <a:gridCol w="2438280"/>
                <a:gridCol w="3048120"/>
                <a:gridCol w="274320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клас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 – психологические особенности классов в це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сихологические особенности отдельных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Внутренне конфликтный» 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балансированность групповой структуры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окации учителя и родителей. Типичный стиль отношений в школе (отсутствие адекватной модели разрешения конфликтов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формированнссть навыков общения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живание критических этапов развития. Психотравмирующий опыт, вызвавший реактивное пове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 в поиске новых моделей поведения, расширению ролевого репертуар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нормализации групповой структур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лочение классного коллектив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повышения самооценки учащихс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навыков конструктивного общения учащихся друг с друго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ядка отрицательных эмоций, связанных с негативными оценками поведе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повышения самооценки учащихс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фференцированные способы реагирования на нарушения дисциплины (в зависимости от их причин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ческая поддержка учащих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Times New Roman"/>
              </a:rPr>
              <a:t>Типология и особенности </a:t>
            </a:r>
            <a:br>
              <a:rPr sz="3600"/>
            </a:br>
            <a:r>
              <a:rPr b="0" i="1" lang="ru-RU" sz="3600" spc="-1" strike="noStrike">
                <a:solidFill>
                  <a:srgbClr val="ccecff"/>
                </a:solidFill>
                <a:latin typeface="Times New Roman"/>
              </a:rPr>
              <a:t>«трудного класс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414440"/>
          <a:ext cx="8229600" cy="5049720"/>
        </p:xfrm>
        <a:graphic>
          <a:graphicData uri="http://schemas.openxmlformats.org/drawingml/2006/table">
            <a:tbl>
              <a:tblPr/>
              <a:tblGrid>
                <a:gridCol w="2438280"/>
                <a:gridCol w="3048120"/>
                <a:gridCol w="274320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ип клас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о – психологические особенности классов в це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сихологические особенности отдельных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«Закрытый» 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формировавшийся стереотип групповой экспрессивной деятельности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формированный стереотип восприятия шко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нтроверсия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сформированнссть навыков общения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ах самораскрытия. Тревож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рование личной активности учащихся по поиску новых моделей поведения, расширение ролевого репертуар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лочение классного коллектив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ядка страха «самораскрытия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навыков конструктивного общения учащихся друг с другом, учителя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Times New Roman"/>
              </a:rPr>
              <a:t>Типология и особенности </a:t>
            </a:r>
            <a:br>
              <a:rPr sz="3600"/>
            </a:br>
            <a:r>
              <a:rPr b="0" i="1" lang="ru-RU" sz="3600" spc="-1" strike="noStrike">
                <a:solidFill>
                  <a:srgbClr val="ccecff"/>
                </a:solidFill>
                <a:latin typeface="Times New Roman"/>
              </a:rPr>
              <a:t>«трудного класс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414440"/>
          <a:ext cx="8229600" cy="5049720"/>
        </p:xfrm>
        <a:graphic>
          <a:graphicData uri="http://schemas.openxmlformats.org/drawingml/2006/table">
            <a:tbl>
              <a:tblPr/>
              <a:tblGrid>
                <a:gridCol w="2438280"/>
                <a:gridCol w="3048120"/>
                <a:gridCol w="274320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ип клас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о – психологические особенности классов в це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сихологические особенности отдельных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«Звездный» 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Ярлык «гении» (отражается в групповом самосознании). Акцентирование «звездности» учителями и родител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вышенный уровень притязаний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вышенная самооценка. Неадекватное ролевое поведение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чувствительность к критик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коррекции самооценки учащихс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сплочения коллектив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ядка отрицательных эмоций, связанных с неблагоприятным психологическим фоном в класс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рование учащихся к проявлению активности за пределами учебной деятельности и собственного класс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грация «звездного» класса в общешкольную жизн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Цель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создание условий для формирования мотивации эффективной работы с «трудным классом»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лан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. Модель развития классных коллективов. Что такое «трудный класс»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2. Классификация «трудных классов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Признаки «трудного класса» в его функционирован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Типология и особенности «трудного класса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5. Методы диагностики «трудных классов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6.  Психолого – педагогическая помощь «трудному классу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7. Способы реагирования на нарушения дисципли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Times New Roman"/>
              </a:rPr>
              <a:t>Способы реагирования на нарушения дисциплины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Verdana"/>
              </a:rPr>
              <a:t>Поведение, направленное напривлечение вним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Verdana"/>
              </a:rPr>
              <a:t>Активное: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отвлекает внимание учителя и класс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Verdana"/>
              </a:rPr>
              <a:t>Пассивное: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чрезмерно медленный темп работы, демонстративная медлительнос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умение просить внимания при переживании дефицита внимания к себ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инимизация внимания (игнорирование демонстративного поведения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решающее поведение (к выходке может присоединиться весь класс в пределах «разрешённой квоты»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дчёркивание успехов, внимание за хорошее поведен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влечение ученика (смена вида деятельности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Властолюбивое повед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ивное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вспышки негодования, конфронтация, нагнетание напряжённо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ссивное: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хое непослушан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ансипация, мода на «сильную личность» в неадекватных проявления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центирование на поступках, а не на личности учащих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держание благоприятного эмоционального фона, избегание напряжённости (не повышать голос, не высмеивать ученика, не сравнивать его с другими, не ставить ниже себя в правах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роченное обсуждение проступк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нстрация модели неагрессивного повед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стительное поведе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ивное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физические или психологические акты насилия (порча мебели, оскорбления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ссивное: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норируются все дружественные попыт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реотип силового разрешения конфликт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центирование внимания на поступках, а не на личности учащих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держание благоприятного эмоционального фона, избегание напряжённости (не повышать голос, не высмеивать ученика, не сравнивать его с другими, не ставить ниже себя в правах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роченное обсуждение поступк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нстрация модели неагрессивного повед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едение, направленное на избегание неудач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ивное: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пышки негодования в ситуации реальной или потенциальной неудач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ссивное: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ладывание «на потом», уверенность в отсутствии способностей и/или возможност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основанные ожидания взрослых, конкурирующий стиль взаимодейств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ление дополнительной помощи в обучении (ученики-репетиторы, игровые методы обучения, дополнительные занятия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оставление возможности позитивно рассказать о себ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чёркивание достижений, напоминания о прошлых успеха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изация достижений (аплодисментами, условными знаками, отметками в «Классном уголке» и др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аясь с подростком, помните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еду с подростком нужно начинать с дружеского тон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цессе общения с подростком проявляйте к нему искренний интерес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чшим словом, располагающим подростка к общению, является его им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лог с подростком надо начинать с тех вопросов, мнения по которым совпадают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цессе общения старайтесь вести диалог на равны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айтесь инициативу общения держать в своих рука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йте смотреть на вещи глазами подрост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я с «трудным» подростком, нужно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сно сформулировать взрослеющему человеку его права и обязанности, ограничить круг видов деятельности (которые ему разрешены и доступны) и ответственность за них. Настаивать на соблюдении принятых «правил игры», самим соблюдать их в тех случаях, когда другой стороне этого не удается. Быть терпеливым и помнить, чтобы избавиться от нежелательных привычек, нужны долгие месяц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конфликтных ситуациях не стараться одержать победу любой ценой – мы тоже имеем право менять взгляды, мы не гарантированы от ошибок, кое в чем можем и уступить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йствовать только тактическим маневром и никогда – прямой атакой. Выслушивать все, не реагируя тотчас же, и только потом, выбрав подходящий момент, без раздражения высказать свое мнение, вносящее поправки в услышанное. Вскрывать причины неправильных взглядов подростка, показывать, в чем ошибочность его рассуждений, и таким путем развивать и направлять его мыслительный процесс, обеспечивая необходимыми источник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ыть самокритичными, принципиальными, стараться настолько укрепить доверие молодого человека, чтобы он делился с нами своими возможными неприятностя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е ставить на подростке крест, ведь его обостренное самолюбие и социальная поза возникли именно вследствие предыдущих социальных сбоев, которые постоянно напоминают о себе и подпитывают нежелательное поведени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е пытаться загнать подростка в угол, поставить в затруднительное положение. Не прибегать к физическому наказанию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ребуя что-то от подростка, нельзя торговатьс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905120" y="1904760"/>
            <a:ext cx="67816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66"/>
                </a:solidFill>
                <a:latin typeface="Arial"/>
              </a:rPr>
              <a:t>Модель развития класса </a:t>
            </a:r>
            <a:br>
              <a:rPr sz="2400"/>
            </a:br>
            <a:r>
              <a:rPr b="1" i="1" lang="ru-RU" sz="2400" spc="-1" strike="noStrike">
                <a:solidFill>
                  <a:srgbClr val="ffcc66"/>
                </a:solidFill>
                <a:latin typeface="Arial"/>
              </a:rPr>
              <a:t>(по Стенфорду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Verdana"/>
              </a:rPr>
              <a:t>1 этап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– ориентационный (формирование представлений учащихся друг о друге. Учитель - лидер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Verdana"/>
              </a:rPr>
              <a:t>2 этап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– формирование групповых норм. Оформление категории «МЫ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Verdana"/>
              </a:rPr>
              <a:t>3 этап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– появление межличностных конфликтов и опыта их разреш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Verdana"/>
              </a:rPr>
              <a:t>4 этап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– повышение сплоченности клас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Verdana"/>
              </a:rPr>
              <a:t>5 этап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– появление выраженного чувства «МЫ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Verdana"/>
              </a:rPr>
              <a:t>6 этап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– эмоциональная активность и преобладание неформальных взаимоотношений. Учитель теряет руководящие права. Класс закрывается для нег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Verdana"/>
              </a:rPr>
              <a:t>7 этап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– «высший этап зрелости», открытость групп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Times New Roman"/>
              </a:rPr>
              <a:t>Классификация «трудных классов»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2819520" y="1752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«Трудные классы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3048120" y="22860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2819520" y="1600200"/>
            <a:ext cx="358128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Трудные классы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Line 18"/>
          <p:cNvSpPr/>
          <p:nvPr/>
        </p:nvSpPr>
        <p:spPr>
          <a:xfrm flipH="1">
            <a:off x="2971800" y="2362320"/>
            <a:ext cx="9144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5181480" y="2362320"/>
            <a:ext cx="9144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380880" y="2819520"/>
            <a:ext cx="365760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Объективно» трудны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ласс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876920" y="2819520"/>
            <a:ext cx="403848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Субъективно» трудные классы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2286000" y="3429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6781680" y="3429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304920" y="4114800"/>
            <a:ext cx="388620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Ситуативно трудные» класс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5029200" y="4114800"/>
            <a:ext cx="373392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Устойчиво трудные» классы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609480" y="457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Что такое трудный класс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8600" y="1447920"/>
            <a:ext cx="8686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«Объективно» трудный клас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го функционирование характеризуется нарушением одного или нескольких признаков эффективной малой групп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04920" y="4114800"/>
            <a:ext cx="8076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«Субъективно» трудный класс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носительно эффективная учебная группа, которая «кажется» «трудной» тому или иному учител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Times New Roman"/>
              </a:rPr>
              <a:t>Признаки «трудного класса» в его функциониров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447920"/>
          <a:ext cx="8229600" cy="5337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ритерии эффективности груп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изнаки «трудного класс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 Эффективность совместной деятель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эффективная учебная деятельност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эффективная внеучебная деятельност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. Характеристика социально – психологического климата в групп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благоприятный эмоциональный фон отношений в групп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сбалансированность групповой структуры (разобщенность, гиперсплоченность, конфликтность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 Мотивация совместной деятель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еобладание «отрицательных» мотивов в структуре шаблона учебной деятельности группы. Низкий ранг учёбы и нормативности поведения в иерархии групповых ценност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 Характеристики групповой идентичности и взаимодействия с «аут - группам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азмытая групповая идентичность. Использование самооценочных ярлыков- самоописаний«тупые»,«гении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адекватный стиль взаимодействия между классом и представител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«аут-групп» (учителями, родителями и учащимися из других классов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Times New Roman"/>
              </a:rPr>
              <a:t>Психолого – педагогическая помощь «трудному классу»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Picture 5" descr="http://works.doklad.ru/images/BpXKDO7ZN9w/1e7e7b73.jpg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ecff"/>
                </a:solidFill>
                <a:latin typeface="Times New Roman"/>
              </a:rPr>
              <a:t>Типология и особенности «трудного класса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914400"/>
          <a:ext cx="8229600" cy="6470640"/>
        </p:xfrm>
        <a:graphic>
          <a:graphicData uri="http://schemas.openxmlformats.org/drawingml/2006/table">
            <a:tbl>
              <a:tblPr/>
              <a:tblGrid>
                <a:gridCol w="2438280"/>
                <a:gridCol w="3048120"/>
                <a:gridCol w="2743200"/>
              </a:tblGrid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ип кла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оциально – психологические особенности классов в цел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сихологические особенности отдельных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ff00"/>
                          </a:solidFill>
                          <a:uFillTx/>
                          <a:latin typeface="Verdana"/>
                        </a:rPr>
                        <a:t>«Необучаемый класс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эффективная учебная деятельност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Ярлык «тупые»(отражается в групповом самосознании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соответствие учебных задач возрастным особенностям. Стиль пед. взаимодействия, не способствующий формированию и развитию познавательной активнос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сформированность учебных навыков. Остаточная минимальная мозговая дисфункц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ПР, выученная беспомощность, школьная тревожность, низкий темп учебной деятельно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380880" y="1447920"/>
            <a:ext cx="8458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ть условия для повышения самооценки учащихся, ориентация на «зону ближайшего развития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ядка отрицательных эмоций, связанных с учебной деятельностью (ситуации успеха для каждого, индивидуальный подход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ора на сильные стороны учащихс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высших психических функций в рамках учебной деятельност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родителями по формированию ответственной пози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01</cp:lastModifiedBy>
  <dcterms:modified xsi:type="dcterms:W3CDTF">2017-12-19T06:31:57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