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38A-A3E5-4904-8E4B-F33FFB79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476-D016-484D-ADFC-E7DAF5CF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80A-097B-4EBF-971B-85A6D8F4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6F5-4DD7-44D6-A206-C306F9C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80B-E9E3-40CC-AADA-F6FDD4AD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972-26E5-47F7-B2D7-A93EDD89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952-DBFE-4979-98DD-0A1F0427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DD2-0E1F-41E6-9C2D-A569B095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11D-23A9-40B7-9BDE-5F093DC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813-CD0C-4C49-9E07-B4804DC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9F8-CE93-41DB-AAA2-D159004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2D1-7E5F-4CB6-B5AE-AF56396D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A99F-424F-45CC-B85A-C677C5617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159080" y="32529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НАЗВАНИЕ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159080" y="43005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оектная 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59080" y="3776760"/>
            <a:ext cx="76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Best Ro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159080" y="4795920"/>
            <a:ext cx="761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Состав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Мелков Никита, 9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Петлин Максим, 9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Cyr"/>
              </a:rPr>
              <a:t>Вязовченко Виктор, 9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32040" y="1081080"/>
            <a:ext cx="84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ПРОБЛЕМА, КОТОРУЮ РЕШАЕТ 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932040" y="1928880"/>
            <a:ext cx="9300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данный момент людям с ОВЗ не хватает ресурса способно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1)Помочь им в ориентировании по городу. Например, проложить лучший маршрут от точки А в точк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2)Указать места оборудованные пандусами. Места, которые человек с ограниченными возможностями может посетить не испытывая труд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3)Показать лучшие предложения из сервисов, которыми люди с ОВЗ пользуются на постоянной основе. Наприме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ы доставки е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каза такси для людей с ограниченными возможностями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кции из ближайших магазинов, оборудованных панду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47720" y="1390680"/>
            <a:ext cx="732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ЦЕЛЕВАЯ АУДИТОР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14520" y="2374920"/>
            <a:ext cx="11806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Люди с ограниченными возможностями здоровь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) Люди, передвигающиеся на креслах-коляс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2) Инвалиды по зрению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32040" y="1081080"/>
            <a:ext cx="73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ЦЕЛЬ И ЗАДАЧ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976320" y="1936800"/>
            <a:ext cx="99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здание кроссплатформенного сайта, обеспечивающего людей с ОВЗ возможностью прокладывания лучшего маршрута из одной точки в другую.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ближайших общественных местах, оборудованных пандусами (Аптеки, магазины, кафе и т.д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скидках и выгодных предложениях в ближайших магазин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выгодных предложениях сервисов заказа такси для людей с ограниченными возмож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32040" y="1081080"/>
            <a:ext cx="73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76320" y="1936800"/>
            <a:ext cx="992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ведение в эксплуатацию кроссплатформенного сайта, являющегося мультиплатформой, с функция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кладывания лучшего маршр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а мест, оборудованных специальными подъемными устройствами для удобного заезда инвалидных коляс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аза лучших предложений из сервисов, которыми люди с ОВЗ пользуются чаще все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ов доставки 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ервисов заказа так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4T03:06:17Z</dcterms:created>
  <dc:creator>Севрюков В. И.</dc:creator>
  <dc:description/>
  <dc:language>en-US</dc:language>
  <cp:lastModifiedBy>User</cp:lastModifiedBy>
  <dcterms:modified xsi:type="dcterms:W3CDTF">2020-12-22T08:56:14Z</dcterms:modified>
  <cp:revision>14</cp:revision>
  <dc:subject/>
  <dc:title>Презентация PowerPoint</dc:title>
</cp:coreProperties>
</file>