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246-35DE-4FA3-8023-E15B732A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B8E-8228-4476-A097-6188B7CF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A6B-C9B5-40E0-BD81-24453BCD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E5D-E173-4350-8D2B-E993B7EC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668-8E89-4BB4-97D9-D4B0A9C2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C8F-EDEA-4132-A511-93862DF1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237-BEFC-4397-AECB-66819D7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C56-6459-407B-8986-1B08E98A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B89-65BB-4431-8107-1064B00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C35-C51F-46BE-A1FA-33F5352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FD1-BED4-40FA-A7B0-22F5C21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E8B-5266-426D-87BB-E20D7EF1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43CD-BC10-4485-AE3F-0AB2E47A2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159080" y="3252960"/>
            <a:ext cx="76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НАЗВАНИЕ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159080" y="4300560"/>
            <a:ext cx="76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роектная 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159080" y="3776760"/>
            <a:ext cx="76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est Ro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159080" y="4795920"/>
            <a:ext cx="761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Cyr"/>
              </a:rPr>
              <a:t>Состав коман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Cyr"/>
              </a:rPr>
              <a:t>Мелков Никита, 9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Cyr"/>
              </a:rPr>
              <a:t>Петлин Максим, 9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Cyr"/>
              </a:rPr>
              <a:t>Вязовченко Виктор, 9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932040" y="1081080"/>
            <a:ext cx="84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А, КОТОРУЮ РЕШАЕТ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32040" y="1928880"/>
            <a:ext cx="9300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данный момент людям с ОВЗ не хватает ресурса способног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)Помочь им в ориентировании по городу. Например, проложить лучший маршрут от точки А в точк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)Указать места оборудованные пандусами. Места, которые человек с ограниченными возможностями может посетить не испытывая труд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)Показать лучшие предложения из сервисов, которыми люди с ОВЗ пользуются на постоянной основе. Наприме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рвисы доставки е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каза такси для людей с ограниченными возможностями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кции из ближайших магазинов, оборудованных пандус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47720" y="1390680"/>
            <a:ext cx="73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ЦЕЛЕВАЯ АУДИТОР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14520" y="2374920"/>
            <a:ext cx="1180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Люди с ограниченными возможностями здоровь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1) Люди, передвигающиеся на креслах-коляс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2) Инвалиды по зрению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32040" y="1081080"/>
            <a:ext cx="73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ЦЕЛЬ И ЗАДАЧ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76320" y="1936800"/>
            <a:ext cx="992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кроссплатформенного сайта, обеспечивающего людей с ОВЗ возможностью прокладывания лучшего маршрута из одной точки в другую. Информацие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 ближайших общественных местах, оборудованных пандусами (Аптеки, магазины, кафе и т.д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 скидках и выгодных предложениях в ближайших магазин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 выгодных предложениях сервисов заказа такси для людей с ограниченными возмож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32040" y="1081080"/>
            <a:ext cx="73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76320" y="1936800"/>
            <a:ext cx="992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ведение в эксплуатацию кроссплатформенного сайта, являющегося мультиплатформой, с функция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кладывания лучшего маршр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каза мест, оборудованных специальными подъемными устройствами для удобного заезда инвалидных коляс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каза лучших предложений из сервисов, которыми люди с ОВЗ пользуются чаще всег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рвисов доставки 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рвисов заказа так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4T03:06:17Z</dcterms:created>
  <dc:creator>Севрюков В. И.</dc:creator>
  <dc:description/>
  <dc:language>en-US</dc:language>
  <cp:lastModifiedBy>User</cp:lastModifiedBy>
  <dcterms:modified xsi:type="dcterms:W3CDTF">2020-12-22T08:56:14Z</dcterms:modified>
  <cp:revision>14</cp:revision>
  <dc:subject/>
  <dc:title>Презентация PowerPoint</dc:title>
</cp:coreProperties>
</file>