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5.gif" ContentType="image/gif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0AA-3CAA-4128-A809-F371AF6B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E3C-6DF0-49E0-841F-8F8D934E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69A-EFBE-4747-84B1-77F7121F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A41-145D-4B5E-A0EC-51D6BBB7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8A0-E150-4A84-9B52-5E73B3BF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ADC-6F05-4E1A-A328-65A62838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0AC-A192-42C0-A445-A79B7588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C38-E747-41AD-999B-2A5AA49E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257-6631-4480-9F86-D7F5C0DC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2DF-B7ED-4B63-91B2-5D29DDAF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BC3-069F-4C39-A3A2-A600A9D4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DE1-5C3D-44FC-AD74-1CE659A8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28A4-7825-4D33-8C2E-97C7ED48F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958680" y="990720"/>
            <a:ext cx="7728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800000"/>
                </a:solidFill>
                <a:latin typeface="Calibri"/>
              </a:rPr>
              <a:t>«Шиповые столярные соединени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800000"/>
                </a:solidFill>
                <a:latin typeface="Calibri"/>
              </a:rPr>
              <a:t>Разметка и изготовление шипов и проушин»</a:t>
            </a:r>
            <a:br>
              <a:rPr sz="2700"/>
            </a:br>
            <a:br>
              <a:rPr sz="2700"/>
            </a:br>
            <a:br>
              <a:rPr sz="2400"/>
            </a:br>
            <a:br>
              <a:rPr sz="33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Турова Марина Геннадьев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rcRect l="25000" t="32226" r="21669" b="4446"/>
          <a:stretch/>
        </p:blipFill>
        <p:spPr>
          <a:xfrm>
            <a:off x="3429000" y="2151000"/>
            <a:ext cx="2576520" cy="2295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отличаются шиповые соединения от других соединени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830760" y="2943360"/>
            <a:ext cx="148104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1447560"/>
            <a:ext cx="53337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иповые соединения деревянных деталей со склеиванием отличаются большой прочностью, поэтому нашли широкое применение при изготовлении дверных и оконных переплётов                 и блоков, мебели и различных деревянных конструк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Users\Марина\Desktop\Открытый урок 14.11 17\kids-bookshelf-clipart-panda-free-images-628430.png"/>
          <p:cNvPicPr/>
          <p:nvPr/>
        </p:nvPicPr>
        <p:blipFill>
          <a:blip r:embed="rId1"/>
          <a:stretch/>
        </p:blipFill>
        <p:spPr>
          <a:xfrm>
            <a:off x="6330960" y="2743200"/>
            <a:ext cx="2590920" cy="3962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Марина\Desktop\Открытый урок 14.11 17\122661945_windows__51_.png"/>
          <p:cNvPicPr/>
          <p:nvPr/>
        </p:nvPicPr>
        <p:blipFill>
          <a:blip r:embed="rId2"/>
          <a:stretch/>
        </p:blipFill>
        <p:spPr>
          <a:xfrm>
            <a:off x="228600" y="579600"/>
            <a:ext cx="6657840" cy="4759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Марина\Desktop\Открытый урок 14.11 17\0_8a526_f323b5d2_XS.png"/>
          <p:cNvPicPr/>
          <p:nvPr/>
        </p:nvPicPr>
        <p:blipFill>
          <a:blip r:embed="rId3"/>
          <a:stretch/>
        </p:blipFill>
        <p:spPr>
          <a:xfrm>
            <a:off x="1523880" y="4438800"/>
            <a:ext cx="1524240" cy="221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Марина\Desktop\Открытый урок 14.11 17\0_17bd6c_25d82477_L.png"/>
          <p:cNvPicPr/>
          <p:nvPr/>
        </p:nvPicPr>
        <p:blipFill>
          <a:blip r:embed="rId4"/>
          <a:stretch/>
        </p:blipFill>
        <p:spPr>
          <a:xfrm>
            <a:off x="3124080" y="0"/>
            <a:ext cx="1195560" cy="149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Марина\Desktop\Открытый урок 14.11 17\16959823.png"/>
          <p:cNvPicPr/>
          <p:nvPr/>
        </p:nvPicPr>
        <p:blipFill>
          <a:blip r:embed="rId5"/>
          <a:stretch/>
        </p:blipFill>
        <p:spPr>
          <a:xfrm>
            <a:off x="7162920" y="385920"/>
            <a:ext cx="1676160" cy="2224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Марина\Desktop\Открытый урок 14.11 17\al-manakh-na-krilakh-natkhniennia-tvorchist-starshoklasnikiv_2.png"/>
          <p:cNvPicPr/>
          <p:nvPr/>
        </p:nvPicPr>
        <p:blipFill>
          <a:blip r:embed="rId6"/>
          <a:stretch/>
        </p:blipFill>
        <p:spPr>
          <a:xfrm>
            <a:off x="7543800" y="749160"/>
            <a:ext cx="1066680" cy="1301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7"/>
          <a:stretch/>
        </p:blipFill>
        <p:spPr>
          <a:xfrm>
            <a:off x="3886200" y="5489640"/>
            <a:ext cx="1689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304920" y="76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лементами шипового соединения являютс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ши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проушина или гнезд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Ши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выступ на торце деревянной детали.                                                         «Шип» - от немецкого слова, означающего «серед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Гнезд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отверстие в детали, в которое входит ши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Проуши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паз на торце детали, соединяемый с шип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Марина\Desktop\Открытый урок 14.11 17\img_user_file_592d3589182b6_2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91320" cy="491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7302600" y="4419720"/>
            <a:ext cx="1689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3962520" y="5486400"/>
            <a:ext cx="14810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Марина\Desktop\Открытый урок 14.11 17\1.jpg"/>
          <p:cNvPicPr/>
          <p:nvPr/>
        </p:nvPicPr>
        <p:blipFill>
          <a:blip r:embed="rId1"/>
          <a:stretch/>
        </p:blipFill>
        <p:spPr>
          <a:xfrm>
            <a:off x="533520" y="1214280"/>
            <a:ext cx="8127720" cy="203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Формулируем тему нашего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Марина\Desktop\Открытый урок 14.11 17\0_105686_9c6e17ad_orig.gif"/>
          <p:cNvPicPr/>
          <p:nvPr/>
        </p:nvPicPr>
        <p:blipFill>
          <a:blip r:embed="rId2"/>
          <a:stretch/>
        </p:blipFill>
        <p:spPr>
          <a:xfrm>
            <a:off x="3352680" y="342900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32640" cy="624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Марина\Desktop\Рабочий стол до 23.10.2017\Анимации\Анимации\2487841-937ecbc33fb7b494.gif"/>
          <p:cNvPicPr/>
          <p:nvPr/>
        </p:nvPicPr>
        <p:blipFill>
          <a:blip r:embed="rId2"/>
          <a:stretch/>
        </p:blipFill>
        <p:spPr>
          <a:xfrm>
            <a:off x="4013280" y="1752480"/>
            <a:ext cx="1482480" cy="97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23720" y="304920"/>
            <a:ext cx="8331480" cy="6248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Марина\Desktop\Рабочий стол до 23.10.2017\Анимации\Анимации\2487841-937ecbc33fb7b494.gif"/>
          <p:cNvPicPr/>
          <p:nvPr/>
        </p:nvPicPr>
        <p:blipFill>
          <a:blip r:embed="rId2"/>
          <a:stretch/>
        </p:blipFill>
        <p:spPr>
          <a:xfrm>
            <a:off x="3848040" y="2133720"/>
            <a:ext cx="148284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Марина\Desktop\Открытый урок 14.11 17\2.jpg"/>
          <p:cNvPicPr/>
          <p:nvPr/>
        </p:nvPicPr>
        <p:blipFill>
          <a:blip r:embed="rId1"/>
          <a:stretch/>
        </p:blipFill>
        <p:spPr>
          <a:xfrm>
            <a:off x="506520" y="457200"/>
            <a:ext cx="812772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Марина\Desktop\Рабочий стол до 23.10.2017\Анимации\Анимации\2487841-937ecbc33fb7b494.gif"/>
          <p:cNvPicPr/>
          <p:nvPr/>
        </p:nvPicPr>
        <p:blipFill>
          <a:blip r:embed="rId2"/>
          <a:stretch/>
        </p:blipFill>
        <p:spPr>
          <a:xfrm>
            <a:off x="3962520" y="4086360"/>
            <a:ext cx="148248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25400" y="536400"/>
            <a:ext cx="7645320" cy="573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Марина\Desktop\Рабочий стол до 23.10.2017\Анимации\Анимации\2487841-937ecbc33fb7b494.gif"/>
          <p:cNvPicPr/>
          <p:nvPr/>
        </p:nvPicPr>
        <p:blipFill>
          <a:blip r:embed="rId2"/>
          <a:stretch/>
        </p:blipFill>
        <p:spPr>
          <a:xfrm>
            <a:off x="3657600" y="228600"/>
            <a:ext cx="1482840" cy="971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53341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акие соединения деталей из древесины вы уже умеете делать, а какие еще н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120" y="2819160"/>
            <a:ext cx="76964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«Шиповые столярные соедин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азметка и изготовление шипов и проушин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иобретение знаний                             о технологии выполнения столярного шипового соединения, формирование первичных навы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учиться изготавливать шиповое столярное соеди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учиться определять последовательность промежуточных задач с учетом конечного результ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учиться выбирать наиболее оптимальные средства и способы решения задачи (выбор необходимого инструмента и материала для изготовления бруск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Уметь вести учебное сотрудничество на уроке с учителем, одноклассниками в группе и коллекти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учиться бережно относиться к инструментам                              и материа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2T13:43:16Z</dcterms:created>
  <dc:creator>Марина</dc:creator>
  <dc:description/>
  <dc:language>en-US</dc:language>
  <cp:lastModifiedBy>380 Школа</cp:lastModifiedBy>
  <dcterms:modified xsi:type="dcterms:W3CDTF">2021-01-16T11:14:08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