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000-3CBE-4F8E-A231-94FC12A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2FD-01C7-482F-BBDC-AD4BE6E2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B8A-9B6F-4FC8-BD46-A9C20A62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6D0-61EC-43D7-A30D-72BDA295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3DC-5871-43A8-90E2-B4DBF50D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468-0A3F-457D-A386-F5D0B723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415-3965-49AB-A88B-2C92790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AA7-BB97-417B-AE17-B960FD72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A52-638F-449D-94BB-BE3A2C30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78A-5CEF-4C41-83D2-4BD0836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A53-69AA-4328-935D-1846063C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051-7B96-4F02-BE05-5A0B7F2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76BB-6A01-4E79-9A28-ABECC3348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ли совпадать профили и размеры шипа и проушины или гнезда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тверстие для шипа не сквозное, каким должна быть глубина отверстия и длина ши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1481400" cy="97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733920" y="5486400"/>
            <a:ext cx="147456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Марина\Desktop\Открытый урок 14.11 17\img3.jpg"/>
          <p:cNvPicPr/>
          <p:nvPr/>
        </p:nvPicPr>
        <p:blipFill>
          <a:blip r:embed="rId1"/>
          <a:stretch/>
        </p:blipFill>
        <p:spPr>
          <a:xfrm>
            <a:off x="1295280" y="228600"/>
            <a:ext cx="6964560" cy="3917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42920" y="454644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и и размеры шипа и проушины должны совпадать. Длина сквозного шипа должны равняться ширине присоединяемого бруска. Длина глухого (не выходящего наружу) шипа должна быть немного меньше (на 2…3 мм) глубины гн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80880" y="3430440"/>
            <a:ext cx="16891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3840" y="190440"/>
            <a:ext cx="8896320" cy="647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727440" y="7632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17520" y="230040"/>
            <a:ext cx="8632800" cy="647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789360" y="5530680"/>
            <a:ext cx="16891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чего зависит количество шипов на заготов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886200" y="5486400"/>
            <a:ext cx="1481040" cy="97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Марина\Desktop\Открытый урок 14.11 17\img10.jpg"/>
          <p:cNvPicPr/>
          <p:nvPr/>
        </p:nvPicPr>
        <p:blipFill>
          <a:blip r:embed="rId2"/>
          <a:stretch/>
        </p:blipFill>
        <p:spPr>
          <a:xfrm>
            <a:off x="762120" y="1606680"/>
            <a:ext cx="7591320" cy="376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Марина\Desktop\Открытый урок 14.11 17\img3 (1).jpg"/>
          <p:cNvPicPr/>
          <p:nvPr/>
        </p:nvPicPr>
        <p:blipFill>
          <a:blip r:embed="rId1"/>
          <a:stretch/>
        </p:blipFill>
        <p:spPr>
          <a:xfrm>
            <a:off x="838080" y="152280"/>
            <a:ext cx="7610760" cy="647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689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3:43:16Z</dcterms:created>
  <dc:creator>Марина</dc:creator>
  <dc:description/>
  <dc:language>en-US</dc:language>
  <cp:lastModifiedBy>user</cp:lastModifiedBy>
  <dcterms:modified xsi:type="dcterms:W3CDTF">2017-12-25T13:37:1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