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BD1-F667-4EA1-B641-1FD6B652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52F-E1CF-4535-8066-15A0E6F2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C56-F8EC-421E-AEC4-A420AB33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986-D439-48BA-A34C-93FF3852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053-9019-4351-B0A6-0919134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A46-878F-45EA-A7AF-841E0DF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9B4-00D2-47EA-BA89-64E97BCC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C20-FB4E-4B82-97C0-D167DE7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2E8-12F0-4A42-ADE2-7B407A2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9AC-935B-4446-900A-24667AD4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59B-F3DF-4E85-8CBA-642C576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1A9-F227-4944-9805-FED7181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CB0-624D-4498-A9D3-B2C28A84A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Марина\Desktop\Открытый урок 14.11 17\Рисунок1 - копия.jpg"/>
          <p:cNvPicPr/>
          <p:nvPr/>
        </p:nvPicPr>
        <p:blipFill>
          <a:blip r:embed="rId1"/>
          <a:stretch/>
        </p:blipFill>
        <p:spPr>
          <a:xfrm>
            <a:off x="380880" y="2666880"/>
            <a:ext cx="8366400" cy="353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шиповые соединения бывают: угловые концевые для брусков, угловые серединные (тавровые или Т-образные), угловые ящичные для до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562140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5800" y="380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аибольшей прочности одинарного шипового соединения установлены следующие размеры толщины шипов и ширины проушин угловых концевых и серединных соедин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Марина\Desktop\Открытый урок 14.11 17\hello_html_m22c5e08f.png"/>
          <p:cNvPicPr/>
          <p:nvPr/>
        </p:nvPicPr>
        <p:blipFill>
          <a:blip r:embed="rId1"/>
          <a:stretch/>
        </p:blipFill>
        <p:spPr>
          <a:xfrm>
            <a:off x="782640" y="1514520"/>
            <a:ext cx="782784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781680" y="510552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считаете, с чего нужно начинать изготовление шипового соединения? Из какого материала? Какие инструменты могут нам понадоб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13280" y="5532480"/>
            <a:ext cx="1474560" cy="974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Марина\Desktop\Открытый урок 14.11 17\705600952.gif"/>
          <p:cNvPicPr/>
          <p:nvPr/>
        </p:nvPicPr>
        <p:blipFill>
          <a:blip r:embed="rId2"/>
          <a:stretch/>
        </p:blipFill>
        <p:spPr>
          <a:xfrm>
            <a:off x="5410080" y="2744640"/>
            <a:ext cx="1770120" cy="25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Марина\Desktop\Открытый урок 14.11 17\4c04ba31fc222438f11fa1c8211e4d9d.jpg"/>
          <p:cNvPicPr/>
          <p:nvPr/>
        </p:nvPicPr>
        <p:blipFill>
          <a:blip r:embed="rId3"/>
          <a:stretch/>
        </p:blipFill>
        <p:spPr>
          <a:xfrm>
            <a:off x="1143000" y="275256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Марина\Desktop\Открытый урок 14.11 17\830450405.gif"/>
          <p:cNvPicPr/>
          <p:nvPr/>
        </p:nvPicPr>
        <p:blipFill>
          <a:blip r:embed="rId4"/>
          <a:stretch/>
        </p:blipFill>
        <p:spPr>
          <a:xfrm>
            <a:off x="6934320" y="5638680"/>
            <a:ext cx="180972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914400" y="5316480"/>
            <a:ext cx="26906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готовление шипового соединения начинают с изготовления брусков нужного раз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Марина\Desktop\Открытый урок 14.11 17\brus sosna 50x100-500x500.png"/>
          <p:cNvPicPr/>
          <p:nvPr/>
        </p:nvPicPr>
        <p:blipFill>
          <a:blip r:embed="rId1"/>
          <a:stretch/>
        </p:blipFill>
        <p:spPr>
          <a:xfrm>
            <a:off x="1905120" y="182880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238880" y="525780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400" y="6480"/>
            <a:ext cx="91296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3:43:16Z</dcterms:created>
  <dc:creator>Марина</dc:creator>
  <dc:description/>
  <dc:language>en-US</dc:language>
  <cp:lastModifiedBy>user</cp:lastModifiedBy>
  <dcterms:modified xsi:type="dcterms:W3CDTF">2017-12-25T13:32:5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