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chimes.wav" ContentType="audio/x-wav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AC3-B3C0-4EB0-9B23-33E814F5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62A-649D-42E5-B3B1-5119D82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231-C435-40F7-898B-AD3FF70B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42B-F583-420B-B036-201FB055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E11-E8B3-4A0B-81F8-DBB5F239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D2C-D144-4C53-80C2-9F96275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BAE-719C-4F0C-88F8-0A046D7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380-70D8-46AF-876C-EDFF965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A7F-226C-40B6-9400-64367407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01E-C144-4D1C-9F0D-C6362E9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9C3-6996-4B89-817F-0AC0F28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293-CBC2-4854-ACF8-57AF7A3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E22A-3B6A-4A37-B32B-7850217F6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36" t="14729" r="0" b="3524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Дни нед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7223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34" t="15374" r="3982" b="3563"/>
          <a:stretch/>
        </p:blipFill>
        <p:spPr>
          <a:xfrm>
            <a:off x="76320" y="549360"/>
            <a:ext cx="9067680" cy="5113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2858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692360" y="1916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МОГИТ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2916360" y="1413000"/>
            <a:ext cx="4103640" cy="4968720"/>
            <a:chOff x="2916360" y="1413000"/>
            <a:chExt cx="4103640" cy="4968720"/>
          </a:xfrm>
        </p:grpSpPr>
        <p:sp>
          <p:nvSpPr>
            <p:cNvPr id="46" name="Rectangle 6"/>
            <p:cNvSpPr/>
            <p:nvPr/>
          </p:nvSpPr>
          <p:spPr>
            <a:xfrm>
              <a:off x="2916360" y="3366360"/>
              <a:ext cx="4103640" cy="301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>
              <a:off x="2916360" y="1413000"/>
              <a:ext cx="4103640" cy="1893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8"/>
            <p:cNvSpPr/>
            <p:nvPr/>
          </p:nvSpPr>
          <p:spPr>
            <a:xfrm>
              <a:off x="4405320" y="2034000"/>
              <a:ext cx="1102680" cy="106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341640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0"/>
            <p:cNvSpPr/>
            <p:nvPr/>
          </p:nvSpPr>
          <p:spPr>
            <a:xfrm>
              <a:off x="515556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341640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2"/>
            <p:cNvSpPr/>
            <p:nvPr/>
          </p:nvSpPr>
          <p:spPr>
            <a:xfrm>
              <a:off x="515556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ВЫЛОЖИ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club-for-girls.org/wp-content/uploads/2011/10/kvadrat.jpg"/>
          <p:cNvPicPr/>
          <p:nvPr/>
        </p:nvPicPr>
        <p:blipFill>
          <a:blip r:embed="rId3"/>
          <a:stretch/>
        </p:blipFill>
        <p:spPr>
          <a:xfrm>
            <a:off x="1042920" y="2565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://club-for-girls.org/wp-content/uploads/2011/10/kvadrat.jpg"/>
          <p:cNvPicPr/>
          <p:nvPr/>
        </p:nvPicPr>
        <p:blipFill>
          <a:blip r:embed="rId4"/>
          <a:stretch/>
        </p:blipFill>
        <p:spPr>
          <a:xfrm rot="18843000">
            <a:off x="4694040" y="25426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435640" y="3149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3924360" y="2421000"/>
            <a:ext cx="187164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924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3924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4"/>
          <a:stretch/>
        </p:blipFill>
        <p:spPr>
          <a:xfrm>
            <a:off x="460440" y="274680"/>
            <a:ext cx="8343720" cy="62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476360" y="3284640"/>
            <a:ext cx="1224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4356000" y="3429000"/>
            <a:ext cx="244800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763640" y="5084640"/>
            <a:ext cx="230508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6"/>
          <p:cNvSpPr/>
          <p:nvPr/>
        </p:nvSpPr>
        <p:spPr>
          <a:xfrm>
            <a:off x="5796000" y="494172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8" name="Овал 4"/>
          <p:cNvSpPr/>
          <p:nvPr/>
        </p:nvSpPr>
        <p:spPr>
          <a:xfrm>
            <a:off x="2916360" y="3068640"/>
            <a:ext cx="244764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6"/>
          <p:cNvSpPr/>
          <p:nvPr/>
        </p:nvSpPr>
        <p:spPr>
          <a:xfrm>
            <a:off x="4932360" y="4437000"/>
            <a:ext cx="1800360" cy="1582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7"/>
          <p:cNvSpPr/>
          <p:nvPr/>
        </p:nvSpPr>
        <p:spPr>
          <a:xfrm>
            <a:off x="1187280" y="4581360"/>
            <a:ext cx="208944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4"/>
          <p:cNvSpPr/>
          <p:nvPr/>
        </p:nvSpPr>
        <p:spPr>
          <a:xfrm>
            <a:off x="4211640" y="2852640"/>
            <a:ext cx="244800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6"/>
          <p:cNvSpPr/>
          <p:nvPr/>
        </p:nvSpPr>
        <p:spPr>
          <a:xfrm>
            <a:off x="5292720" y="4508640"/>
            <a:ext cx="1800360" cy="1582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619280" y="4221000"/>
            <a:ext cx="2089080" cy="180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зноцветные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3995640" y="2349360"/>
            <a:ext cx="2016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4140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/>
          <p:cNvSpPr/>
          <p:nvPr/>
        </p:nvSpPr>
        <p:spPr>
          <a:xfrm>
            <a:off x="4140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4"/>
          <a:stretch/>
        </p:blipFill>
        <p:spPr>
          <a:xfrm>
            <a:off x="1903320" y="1287360"/>
            <a:ext cx="7020000" cy="526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Админ</cp:lastModifiedBy>
  <dcterms:modified xsi:type="dcterms:W3CDTF">2021-01-20T16:00:13Z</dcterms:modified>
  <cp:revision>73</cp:revision>
  <dc:subject/>
  <dc:title>Слайд 1</dc:title>
</cp:coreProperties>
</file>