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5.png" ContentType="image/png"/>
  <Override PartName="/ppt/media/applause.wav" ContentType="audio/x-wav"/>
  <Override PartName="/ppt/media/image30.wmf" ContentType="image/x-wmf"/>
  <Override PartName="/ppt/media/image10.png" ContentType="image/png"/>
  <Override PartName="/ppt/media/image28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5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8.wmf" ContentType="image/x-wmf"/>
  <Override PartName="/ppt/media/image8.wmf" ContentType="image/x-wmf"/>
  <Override PartName="/ppt/media/image3.wmf" ContentType="image/x-wmf"/>
  <Override PartName="/ppt/media/image33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9.jpeg" ContentType="image/jpeg"/>
  <Override PartName="/ppt/media/image2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886-3C6B-44A8-B709-EF13B86A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49B-0F0A-4225-86D4-052BB8FC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A92-6E86-4031-9A00-2933C9E2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60C-C59E-401D-B890-E92AE4F4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124-D264-4F6A-8193-0C8BE885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F58D-5143-44EA-BA94-5FCAD202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BD9-472F-4C37-97A6-392DA590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106-2C27-4947-BAD7-572F65A8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ABC3-0396-47C5-ACA0-E411CDA9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2DB-814A-4EC7-9A0B-27D3C0AA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C329-B77F-4CFF-A0EA-73B2662C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A70-7EFE-4DB0-8366-12B2D2FD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D94E-8366-414C-A64A-6872F50D2321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cc6600"/>
                </a:solidFill>
                <a:uFillTx/>
                <a:latin typeface="Arial Black"/>
              </a:rPr>
              <a:t>СПОРТ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6" descr="000803_1077_3437_vnvv"/>
          <p:cNvPicPr/>
          <p:nvPr/>
        </p:nvPicPr>
        <p:blipFill>
          <a:blip r:embed="rId1"/>
          <a:stretch/>
        </p:blipFill>
        <p:spPr>
          <a:xfrm>
            <a:off x="0" y="0"/>
            <a:ext cx="3048120" cy="2847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000803_1055_5842_vnvv"/>
          <p:cNvPicPr/>
          <p:nvPr/>
        </p:nvPicPr>
        <p:blipFill>
          <a:blip r:embed="rId2"/>
          <a:stretch/>
        </p:blipFill>
        <p:spPr>
          <a:xfrm>
            <a:off x="380880" y="4011480"/>
            <a:ext cx="1738440" cy="284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000803_1077_3807_vnvv"/>
          <p:cNvPicPr/>
          <p:nvPr/>
        </p:nvPicPr>
        <p:blipFill>
          <a:blip r:embed="rId3"/>
          <a:stretch/>
        </p:blipFill>
        <p:spPr>
          <a:xfrm>
            <a:off x="6248520" y="228600"/>
            <a:ext cx="2695320" cy="373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000803_1079_3621_vuvv"/>
          <p:cNvPicPr/>
          <p:nvPr/>
        </p:nvPicPr>
        <p:blipFill>
          <a:blip r:embed="rId4"/>
          <a:stretch/>
        </p:blipFill>
        <p:spPr>
          <a:xfrm>
            <a:off x="6172200" y="4191120"/>
            <a:ext cx="2666880" cy="244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5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исты должны уметь далеко кидать мяч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5" descr="000803_1077_8476_vnvv"/>
          <p:cNvPicPr/>
          <p:nvPr/>
        </p:nvPicPr>
        <p:blipFill>
          <a:blip r:embed="rId1"/>
          <a:srcRect l="12042" t="0" r="0" b="0"/>
          <a:stretch/>
        </p:blipFill>
        <p:spPr>
          <a:xfrm>
            <a:off x="3581280" y="2133720"/>
            <a:ext cx="5562720" cy="3251160"/>
          </a:xfrm>
          <a:prstGeom prst="rect">
            <a:avLst/>
          </a:prstGeom>
          <a:ln w="0">
            <a:noFill/>
          </a:ln>
        </p:spPr>
      </p:pic>
      <p:sp>
        <p:nvSpPr>
          <p:cNvPr id="81" name="Oval 6"/>
          <p:cNvSpPr/>
          <p:nvPr/>
        </p:nvSpPr>
        <p:spPr>
          <a:xfrm>
            <a:off x="3505320" y="2971800"/>
            <a:ext cx="30456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902664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882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И далеко отбивать мяч бит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6" descr="000803_1077_5174_vnvv"/>
          <p:cNvPicPr/>
          <p:nvPr/>
        </p:nvPicPr>
        <p:blipFill>
          <a:blip r:embed="rId1"/>
          <a:srcRect l="0" t="0" r="9555" b="0"/>
          <a:stretch/>
        </p:blipFill>
        <p:spPr>
          <a:xfrm>
            <a:off x="914400" y="1828800"/>
            <a:ext cx="3124080" cy="4695840"/>
          </a:xfrm>
          <a:prstGeom prst="rect">
            <a:avLst/>
          </a:prstGeom>
          <a:ln w="0">
            <a:noFill/>
          </a:ln>
        </p:spPr>
      </p:pic>
      <p:sp>
        <p:nvSpPr>
          <p:cNvPr id="85" name="Oval 7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8" descr="000803_1055_5919_vnvv"/>
          <p:cNvPicPr/>
          <p:nvPr/>
        </p:nvPicPr>
        <p:blipFill>
          <a:blip r:embed="rId3"/>
          <a:stretch/>
        </p:blipFill>
        <p:spPr>
          <a:xfrm flipH="1">
            <a:off x="4495320" y="4417920"/>
            <a:ext cx="4496040" cy="2268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4"/>
          <a:stretch/>
        </p:blipFill>
        <p:spPr>
          <a:xfrm>
            <a:off x="902664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42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 – когда люди бегают по специальному полю, пиная мяч ног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4" descr="000803_1055_5843_vnvv"/>
          <p:cNvPicPr/>
          <p:nvPr/>
        </p:nvPicPr>
        <p:blipFill>
          <a:blip r:embed="rId1"/>
          <a:stretch/>
        </p:blipFill>
        <p:spPr>
          <a:xfrm>
            <a:off x="5715000" y="1295280"/>
            <a:ext cx="3249720" cy="327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000803_1055_6007_vnvv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3463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644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исты стараются попасть мячом в ворота соперник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7" descr="000803_1077_3831_vnvv"/>
          <p:cNvPicPr/>
          <p:nvPr/>
        </p:nvPicPr>
        <p:blipFill>
          <a:blip r:embed="rId1"/>
          <a:srcRect l="0" t="0" r="0" b="2564"/>
          <a:stretch/>
        </p:blipFill>
        <p:spPr>
          <a:xfrm flipH="1">
            <a:off x="4495680" y="2362320"/>
            <a:ext cx="4267440" cy="3504960"/>
          </a:xfrm>
          <a:prstGeom prst="rect">
            <a:avLst/>
          </a:prstGeom>
          <a:ln w="0">
            <a:noFill/>
          </a:ln>
        </p:spPr>
      </p:pic>
      <p:sp>
        <p:nvSpPr>
          <p:cNvPr id="94" name="Oval 9"/>
          <p:cNvSpPr/>
          <p:nvPr/>
        </p:nvSpPr>
        <p:spPr>
          <a:xfrm>
            <a:off x="6705720" y="5105520"/>
            <a:ext cx="9144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6553080" y="510552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AutoShape 11"/>
          <p:cNvSpPr/>
          <p:nvPr/>
        </p:nvSpPr>
        <p:spPr>
          <a:xfrm rot="5400000">
            <a:off x="-1866600" y="3314520"/>
            <a:ext cx="5181480" cy="1447920"/>
          </a:xfrm>
          <a:custGeom>
            <a:avLst/>
            <a:gdLst>
              <a:gd name="textAreaLeft" fmla="*/ 696960 w 5181480"/>
              <a:gd name="textAreaRight" fmla="*/ 4484520 w 5181480"/>
              <a:gd name="textAreaTop" fmla="*/ 194760 h 1447920"/>
              <a:gd name="textAreaBottom" fmla="*/ 12531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12" y="21600"/>
                </a:lnTo>
                <a:lnTo>
                  <a:pt x="1938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553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4.44444E-006 L -0.7125 -0.10556 E">
                                      <p:cBhvr>
                                        <p:cTn id="90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Если мяч забит в ворота – это называется – гол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000803_1077_3830_vnvv"/>
          <p:cNvPicPr/>
          <p:nvPr/>
        </p:nvPicPr>
        <p:blipFill>
          <a:blip r:embed="rId1"/>
          <a:stretch/>
        </p:blipFill>
        <p:spPr>
          <a:xfrm>
            <a:off x="1447920" y="1523880"/>
            <a:ext cx="5638680" cy="5100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91440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74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ИЛЬЯРД – надо кием забивать шары в лун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6" descr="000803_1077_3931_vnvv"/>
          <p:cNvPicPr/>
          <p:nvPr/>
        </p:nvPicPr>
        <p:blipFill>
          <a:blip r:embed="rId1"/>
          <a:stretch/>
        </p:blipFill>
        <p:spPr>
          <a:xfrm>
            <a:off x="1295280" y="1981080"/>
            <a:ext cx="7010640" cy="3949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48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лавное в этой игре – правильно рассчитать силу удара кия и траекторию полета шара в лунк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5" descr="000803_1077_3520_vnvv"/>
          <p:cNvPicPr/>
          <p:nvPr/>
        </p:nvPicPr>
        <p:blipFill>
          <a:blip r:embed="rId1"/>
          <a:stretch/>
        </p:blipFill>
        <p:spPr>
          <a:xfrm>
            <a:off x="457200" y="1523880"/>
            <a:ext cx="3513240" cy="221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000803_1055_5955_vnvv"/>
          <p:cNvPicPr/>
          <p:nvPr/>
        </p:nvPicPr>
        <p:blipFill>
          <a:blip r:embed="rId2"/>
          <a:stretch/>
        </p:blipFill>
        <p:spPr>
          <a:xfrm>
            <a:off x="4191120" y="2209680"/>
            <a:ext cx="4671720" cy="4332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838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ИГУРНОЕ КАТАНИЕ – когда люди красиво танцуют на льду в коньк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6" descr="000803_1077_3436_vnvv"/>
          <p:cNvPicPr/>
          <p:nvPr/>
        </p:nvPicPr>
        <p:blipFill>
          <a:blip r:embed="rId1"/>
          <a:stretch/>
        </p:blipFill>
        <p:spPr>
          <a:xfrm flipH="1">
            <a:off x="2437920" y="1415880"/>
            <a:ext cx="4621320" cy="5442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70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Побеждает тот фигурист, кто красиво станцует и сделает меньше всех ошиб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5" descr="000803_1077_3446_vnvv"/>
          <p:cNvPicPr/>
          <p:nvPr/>
        </p:nvPicPr>
        <p:blipFill>
          <a:blip r:embed="rId1"/>
          <a:stretch/>
        </p:blipFill>
        <p:spPr>
          <a:xfrm>
            <a:off x="304920" y="2819520"/>
            <a:ext cx="3908160" cy="40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000803_1077_3438_vnvv"/>
          <p:cNvPicPr/>
          <p:nvPr/>
        </p:nvPicPr>
        <p:blipFill>
          <a:blip r:embed="rId2"/>
          <a:stretch/>
        </p:blipFill>
        <p:spPr>
          <a:xfrm>
            <a:off x="5105520" y="1447920"/>
            <a:ext cx="3733560" cy="3163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78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Катание на РОЛИКАХ. Роллеры показывают сложные трюки, катаясь на роли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4" descr="000803_1055_5931_vnvv"/>
          <p:cNvPicPr/>
          <p:nvPr/>
        </p:nvPicPr>
        <p:blipFill>
          <a:blip r:embed="rId1"/>
          <a:stretch/>
        </p:blipFill>
        <p:spPr>
          <a:xfrm>
            <a:off x="6629400" y="2819520"/>
            <a:ext cx="2247840" cy="388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000803_1077_9221_vnvv"/>
          <p:cNvPicPr/>
          <p:nvPr/>
        </p:nvPicPr>
        <p:blipFill>
          <a:blip r:embed="rId2"/>
          <a:stretch/>
        </p:blipFill>
        <p:spPr>
          <a:xfrm>
            <a:off x="1676520" y="1523880"/>
            <a:ext cx="3390840" cy="5086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7184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Многие люди занимаются спортом, но для некоторых спорт это призвание, професс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000803_1069_5279_vnvv"/>
          <p:cNvPicPr/>
          <p:nvPr/>
        </p:nvPicPr>
        <p:blipFill>
          <a:blip r:embed="rId2"/>
          <a:stretch/>
        </p:blipFill>
        <p:spPr>
          <a:xfrm>
            <a:off x="609480" y="1676520"/>
            <a:ext cx="2789280" cy="447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000803_1055_6420_vnvv"/>
          <p:cNvPicPr/>
          <p:nvPr/>
        </p:nvPicPr>
        <p:blipFill>
          <a:blip r:embed="rId3"/>
          <a:stretch/>
        </p:blipFill>
        <p:spPr>
          <a:xfrm rot="2053200">
            <a:off x="5181120" y="1371600"/>
            <a:ext cx="3175200" cy="468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22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50000">
              <a:srgbClr val="ffffff"/>
            </a:gs>
            <a:gs pos="100000">
              <a:srgbClr val="a8749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Главное, сильно не упасть и не покалечится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Picture 4" descr="000803_1077_9222_vnvv"/>
          <p:cNvPicPr/>
          <p:nvPr/>
        </p:nvPicPr>
        <p:blipFill>
          <a:blip r:embed="rId1"/>
          <a:stretch/>
        </p:blipFill>
        <p:spPr>
          <a:xfrm>
            <a:off x="1981080" y="1371600"/>
            <a:ext cx="4699080" cy="5137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32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a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Теннис. Два человека – теннисиста, кидают ракетками мячик друг другу, через сто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6" descr="000803_1077_3526_vnvv"/>
          <p:cNvPicPr/>
          <p:nvPr/>
        </p:nvPicPr>
        <p:blipFill>
          <a:blip r:embed="rId1"/>
          <a:stretch/>
        </p:blipFill>
        <p:spPr>
          <a:xfrm>
            <a:off x="38160" y="1828800"/>
            <a:ext cx="2776320" cy="3724200"/>
          </a:xfrm>
          <a:prstGeom prst="rect">
            <a:avLst/>
          </a:prstGeom>
          <a:ln w="0">
            <a:noFill/>
          </a:ln>
        </p:spPr>
      </p:pic>
      <p:sp>
        <p:nvSpPr>
          <p:cNvPr id="124" name="Oval 10"/>
          <p:cNvSpPr/>
          <p:nvPr/>
        </p:nvSpPr>
        <p:spPr>
          <a:xfrm>
            <a:off x="2362320" y="1828800"/>
            <a:ext cx="533160" cy="609480"/>
          </a:xfrm>
          <a:prstGeom prst="ellipse">
            <a:avLst/>
          </a:prstGeom>
          <a:solidFill>
            <a:srgbClr val="99d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Rectangle 12"/>
          <p:cNvSpPr/>
          <p:nvPr/>
        </p:nvSpPr>
        <p:spPr>
          <a:xfrm rot="16200000">
            <a:off x="2209680" y="2362320"/>
            <a:ext cx="5105520" cy="3124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13" descr="000803_1069_7550_vuvv"/>
          <p:cNvPicPr/>
          <p:nvPr/>
        </p:nvPicPr>
        <p:blipFill>
          <a:blip r:embed="rId2"/>
          <a:stretch/>
        </p:blipFill>
        <p:spPr>
          <a:xfrm>
            <a:off x="6400800" y="3960720"/>
            <a:ext cx="2743200" cy="2897280"/>
          </a:xfrm>
          <a:prstGeom prst="rect">
            <a:avLst/>
          </a:prstGeom>
          <a:ln w="0">
            <a:noFill/>
          </a:ln>
        </p:spPr>
      </p:pic>
      <p:sp>
        <p:nvSpPr>
          <p:cNvPr id="127" name="Oval 14"/>
          <p:cNvSpPr/>
          <p:nvPr/>
        </p:nvSpPr>
        <p:spPr>
          <a:xfrm>
            <a:off x="6934320" y="4267080"/>
            <a:ext cx="53316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2438280" y="2057400"/>
            <a:ext cx="381240" cy="3808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4724280" y="1371600"/>
            <a:ext cx="7632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1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758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-0.00278 C 0.01319 -0.01759 0.02986 -0.025 0.04566 -0.03472 C 0.05469 -0.04051 0.06267 -0.04838 0.0724 -0.05232 C 0.07882 -0.06111 0.09288 -0.06204 0.1026 -0.06505 C 0.11476 -0.06482 0.12674 -0.06482 0.13889 -0.06366 C 0.14514 -0.0632 0.15295 -0.05834 0.15938 -0.05718 C 0.16563 -0.0544 0.16927 -0.05347 0.17622 -0.05232 C 0.19271 -0.0419 0.17031 -0.05556 0.18594 -0.04769 C 0.19201 -0.04445 0.19688 -0.0375 0.20278 -0.03472 C 0.21354 -0.02963 0.22517 -0.02547 0.23681 -0.02361 C 0.24531 -0.01644 0.25486 -0.01111 0.26441 -0.00579 C 0.27031 0.00139 0.27222 0.00926 0.28021 0.0118 C 0.28472 0.0243 0.29514 0.03472 0.30191 0.04537 C 0.30347 0.04722 0.30399 0.05 0.30556 0.05185 C 0.30851 0.05532 0.31528 0.06134 0.31528 0.06157 C 0.31823 0.06759 0.32257 0.07014 0.32604 0.07569 C 0.32899 0.08055 0.33403 0.0912 0.33576 0.09491 C 0.33785 0.0993 0.34427 0.1037 0.3467 0.10625 C 0.35278 0.11203 0.35608 0.11666 0.36111 0.12384 C 0.36406 0.13403 0.37153 0.1412 0.37917 0.14444 C 0.38125 0.14722 0.38316 0.14977 0.38524 0.15254 C 0.38646 0.15393 0.38889 0.15741 0.38889 0.15764 C 0.39271 0.16782 0.40156 0.17546 0.40694 0.18449 C 0.40903 0.1875 0.41024 0.19097 0.41198 0.19421 C 0.41285 0.19583 0.41441 0.19884 0.41441 0.19907 C 0.4151 0.20231 0.41753 0.20486 0.41806 0.20856 C 0.4191 0.21574 0.41788 0.22361 0.4191 0.23102 C 0.42014 0.2368 0.42517 0.24699 0.42517 0.24722 C 0.42813 0.26435 0.43142 0.28125 0.43507 0.29838 C 0.43542 0.33055 0.4375 0.3625 0.4375 0.39444 E">
                                      <p:cBhvr>
                                        <p:cTn id="14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4375 0.39455 C 0.43073 0.35824 0.43021 0.32054 0.42483 0.284 C 0.42205 0.2655 0.41806 0.26134 0.41355 0.2426 C 0.40539 0.20838 0.39879 0.17415 0.39237 0.13946 C 0.39098 0.13159 0.38542 0.12743 0.38247 0.12073 C 0.375 0.10407 0.36875 0.0865 0.36146 0.07008 C 0.35487 0.05551 0.34497 0.04441 0.33612 0.03261 C 0.32987 0.02429 0.32275 0.01411 0.31771 0.0044 C 0.31615 0.00139 0.31546 -0.00254 0.31355 -0.00508 C 0.30434 -0.01734 0.28039 -0.03422 0.26841 -0.03885 C 0.22674 -0.05481 0.15903 -0.05273 0.1191 -0.05365 C 0.06059 -0.05041 0.06129 -0.05365 0.02049 -0.03492 C 0.01216 -0.02382 0.00278 -0.01272 -0.00902 -0.00878 C -0.01336 -0.00277 -0.01701 0.00162 -0.02309 0.0044 C -0.025 0.00625 -0.02708 0.00787 -0.02882 0.00995 C -0.03177 0.01342 -0.03715 0.02128 -0.03715 0.02128 C -0.03958 0.03122 -0.03767 0.02521 -0.04427 0.03816 C -0.04513 0.04001 -0.04704 0.04371 -0.04704 0.04371 C -0.04826 0.05042 -0.04982 0.05574 -0.04982 0.06268 E">
                                      <p:cBhvr>
                                        <p:cTn id="14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тот теннисист, который отобьет больше мяч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4" descr="000803_1077_5720_vnvv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524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510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БОКС. Противники бьют друг друга на ринге в боксерских перчат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Picture 5" descr="000803_1076_8656_vnvv"/>
          <p:cNvPicPr/>
          <p:nvPr/>
        </p:nvPicPr>
        <p:blipFill>
          <a:blip r:embed="rId1"/>
          <a:stretch/>
        </p:blipFill>
        <p:spPr>
          <a:xfrm>
            <a:off x="4876920" y="1905120"/>
            <a:ext cx="2681280" cy="418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000803_1078_0707_vnvv"/>
          <p:cNvPicPr/>
          <p:nvPr/>
        </p:nvPicPr>
        <p:blipFill>
          <a:blip r:embed="rId2"/>
          <a:stretch/>
        </p:blipFill>
        <p:spPr>
          <a:xfrm flipH="1">
            <a:off x="1523880" y="1828800"/>
            <a:ext cx="3192480" cy="4079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3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638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сильнейши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5" descr="000803_1077_3521_vnvv"/>
          <p:cNvPicPr/>
          <p:nvPr/>
        </p:nvPicPr>
        <p:blipFill>
          <a:blip r:embed="rId1"/>
          <a:stretch/>
        </p:blipFill>
        <p:spPr>
          <a:xfrm>
            <a:off x="533520" y="1447920"/>
            <a:ext cx="3657600" cy="2936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000803_1078_0206_vnvv"/>
          <p:cNvPicPr/>
          <p:nvPr/>
        </p:nvPicPr>
        <p:blipFill>
          <a:blip r:embed="rId2"/>
          <a:stretch/>
        </p:blipFill>
        <p:spPr>
          <a:xfrm>
            <a:off x="4925880" y="2438280"/>
            <a:ext cx="4218120" cy="4232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173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ОЛЬФ. Цель игры – клюшкой для гольфа забить мячик в лунку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Picture 5" descr="000803_1077_3814_vnvv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4163760"/>
          </a:xfrm>
          <a:prstGeom prst="rect">
            <a:avLst/>
          </a:prstGeom>
          <a:ln w="0">
            <a:noFill/>
          </a:ln>
        </p:spPr>
      </p:pic>
      <p:sp>
        <p:nvSpPr>
          <p:cNvPr id="144" name="Oval 6"/>
          <p:cNvSpPr/>
          <p:nvPr/>
        </p:nvSpPr>
        <p:spPr>
          <a:xfrm>
            <a:off x="8229600" y="6172200"/>
            <a:ext cx="685800" cy="2286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46" name="Oval 8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93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7.86309E-007 L 0.575 0.24422 E">
                                      <p:cBhvr>
                                        <p:cTn id="16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сле состязаний, самые лучшие спортсмены занимают первое, второе или третье места. В честь победителя звучит гимн его стран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Picture 6" descr="000803_1055_6324_vnvv"/>
          <p:cNvPicPr/>
          <p:nvPr/>
        </p:nvPicPr>
        <p:blipFill>
          <a:blip r:embed="rId1"/>
          <a:stretch/>
        </p:blipFill>
        <p:spPr>
          <a:xfrm>
            <a:off x="3276720" y="1066680"/>
            <a:ext cx="2549520" cy="40276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3657600" y="5105520"/>
            <a:ext cx="13716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5029200" y="5562720"/>
            <a:ext cx="13716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209680" y="5715000"/>
            <a:ext cx="14479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10" descr="000803_1055_5842_vnvv"/>
          <p:cNvPicPr/>
          <p:nvPr/>
        </p:nvPicPr>
        <p:blipFill>
          <a:blip r:embed="rId2"/>
          <a:stretch/>
        </p:blipFill>
        <p:spPr>
          <a:xfrm>
            <a:off x="5181480" y="3200400"/>
            <a:ext cx="1413000" cy="2313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1"/>
          <p:cNvSpPr/>
          <p:nvPr/>
        </p:nvSpPr>
        <p:spPr>
          <a:xfrm>
            <a:off x="3886200" y="54100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2578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146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Picture 14" descr=""/>
          <p:cNvPicPr/>
          <p:nvPr/>
        </p:nvPicPr>
        <p:blipFill>
          <a:blip r:embed="rId3"/>
          <a:stretch/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0796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Выигравшие состязание спортсмены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награждаются медалью или кубком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Picture 5" descr="000803_1055_6316_vnvv"/>
          <p:cNvPicPr/>
          <p:nvPr/>
        </p:nvPicPr>
        <p:blipFill>
          <a:blip r:embed="rId1"/>
          <a:stretch/>
        </p:blipFill>
        <p:spPr>
          <a:xfrm>
            <a:off x="1600200" y="1600200"/>
            <a:ext cx="2443320" cy="4678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000803_1077_9956_vnvv"/>
          <p:cNvPicPr/>
          <p:nvPr/>
        </p:nvPicPr>
        <p:blipFill>
          <a:blip r:embed="rId2"/>
          <a:stretch/>
        </p:blipFill>
        <p:spPr>
          <a:xfrm>
            <a:off x="5029200" y="1676520"/>
            <a:ext cx="3659040" cy="4295520"/>
          </a:xfrm>
          <a:prstGeom prst="rect">
            <a:avLst/>
          </a:prstGeom>
          <a:ln w="0">
            <a:noFill/>
          </a:ln>
        </p:spPr>
      </p:pic>
      <p:sp>
        <p:nvSpPr>
          <p:cNvPr id="160" name="Oval 7"/>
          <p:cNvSpPr/>
          <p:nvPr/>
        </p:nvSpPr>
        <p:spPr>
          <a:xfrm>
            <a:off x="6477120" y="37339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6147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000803_1055_5841_vnvv"/>
          <p:cNvPicPr/>
          <p:nvPr/>
        </p:nvPicPr>
        <p:blipFill>
          <a:blip r:embed="rId1"/>
          <a:stretch/>
        </p:blipFill>
        <p:spPr>
          <a:xfrm>
            <a:off x="5410080" y="2286000"/>
            <a:ext cx="308304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00803_1055_5849_vnvv"/>
          <p:cNvPicPr/>
          <p:nvPr/>
        </p:nvPicPr>
        <p:blipFill>
          <a:blip r:embed="rId2"/>
          <a:stretch/>
        </p:blipFill>
        <p:spPr>
          <a:xfrm flipH="1">
            <a:off x="1066320" y="2133720"/>
            <a:ext cx="2768760" cy="3190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4724280" y="0"/>
            <a:ext cx="152640" cy="6858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Й – игра на льду в коньках. Хоккеисты клюшками отбивают шайбу у противник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3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68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ИСТ должен забить шайбу в ворота против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Picture 5" descr="000803_1055_5849_vnvv"/>
          <p:cNvPicPr/>
          <p:nvPr/>
        </p:nvPicPr>
        <p:blipFill>
          <a:blip r:embed="rId1"/>
          <a:stretch/>
        </p:blipFill>
        <p:spPr>
          <a:xfrm>
            <a:off x="4648320" y="1981080"/>
            <a:ext cx="3678120" cy="39531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7"/>
          <p:cNvSpPr/>
          <p:nvPr/>
        </p:nvSpPr>
        <p:spPr>
          <a:xfrm>
            <a:off x="3581280" y="5257800"/>
            <a:ext cx="685800" cy="3808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AutoShape 9"/>
          <p:cNvSpPr/>
          <p:nvPr/>
        </p:nvSpPr>
        <p:spPr>
          <a:xfrm rot="5400000">
            <a:off x="-1714680" y="2781360"/>
            <a:ext cx="5181840" cy="1752480"/>
          </a:xfrm>
          <a:custGeom>
            <a:avLst/>
            <a:gdLst>
              <a:gd name="textAreaLeft" fmla="*/ 696960 w 5181840"/>
              <a:gd name="textAreaRight" fmla="*/ 4484880 w 5181840"/>
              <a:gd name="textAreaTop" fmla="*/ 235800 h 1752480"/>
              <a:gd name="textAreaBottom" fmla="*/ 15166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12" y="21600"/>
                </a:lnTo>
                <a:lnTo>
                  <a:pt x="1938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6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-4.44444E-006 L -0.30417 0.00556 E">
                                      <p:cBhvr>
                                        <p:cTn id="2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Штангисты поднимают тяжелую штангу, они должны не только оторвать штангу от пол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3" descr="000803_1077_3649_vnvv"/>
          <p:cNvPicPr/>
          <p:nvPr/>
        </p:nvPicPr>
        <p:blipFill>
          <a:blip r:embed="rId1"/>
          <a:stretch/>
        </p:blipFill>
        <p:spPr>
          <a:xfrm>
            <a:off x="6019920" y="1295280"/>
            <a:ext cx="2923920" cy="3014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000803_1077_5912_vnvv"/>
          <p:cNvPicPr/>
          <p:nvPr/>
        </p:nvPicPr>
        <p:blipFill>
          <a:blip r:embed="rId2"/>
          <a:stretch/>
        </p:blipFill>
        <p:spPr>
          <a:xfrm>
            <a:off x="3048120" y="2057400"/>
            <a:ext cx="2401920" cy="335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000803_1079_3621_vuvv"/>
          <p:cNvPicPr/>
          <p:nvPr/>
        </p:nvPicPr>
        <p:blipFill>
          <a:blip r:embed="rId3"/>
          <a:stretch/>
        </p:blipFill>
        <p:spPr>
          <a:xfrm>
            <a:off x="0" y="4135320"/>
            <a:ext cx="2971800" cy="2722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69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Но и поднять ее высоко вверх и подержать несколько секунд. Победит тот, кто поднимет самую тяжелую штанг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" name="Picture 3" descr="000803_1077_5716_vnvv"/>
          <p:cNvPicPr/>
          <p:nvPr/>
        </p:nvPicPr>
        <p:blipFill>
          <a:blip r:embed="rId1"/>
          <a:stretch/>
        </p:blipFill>
        <p:spPr>
          <a:xfrm>
            <a:off x="4343400" y="3200400"/>
            <a:ext cx="4546440" cy="3075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000803_1077_5914_vnvv"/>
          <p:cNvPicPr/>
          <p:nvPr/>
        </p:nvPicPr>
        <p:blipFill>
          <a:blip r:embed="rId2"/>
          <a:stretch/>
        </p:blipFill>
        <p:spPr>
          <a:xfrm>
            <a:off x="914400" y="1219320"/>
            <a:ext cx="3368520" cy="5327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92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 – люди кидают мяч друг другу рук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5" descr="000803_1077_3821_vnvv"/>
          <p:cNvPicPr/>
          <p:nvPr/>
        </p:nvPicPr>
        <p:blipFill>
          <a:blip r:embed="rId1"/>
          <a:stretch/>
        </p:blipFill>
        <p:spPr>
          <a:xfrm>
            <a:off x="1523880" y="2209680"/>
            <a:ext cx="3678480" cy="386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879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ИСТ должен закинуть мяч в корзину сопер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5" descr="000803_1069_5353_vnvv"/>
          <p:cNvPicPr/>
          <p:nvPr/>
        </p:nvPicPr>
        <p:blipFill>
          <a:blip r:embed="rId1"/>
          <a:stretch/>
        </p:blipFill>
        <p:spPr>
          <a:xfrm>
            <a:off x="2590920" y="1600200"/>
            <a:ext cx="4238640" cy="4473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999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 – американская игра с битой и мячико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5" descr="000803_1055_5912_vnvv"/>
          <p:cNvPicPr/>
          <p:nvPr/>
        </p:nvPicPr>
        <p:blipFill>
          <a:blip r:embed="rId1"/>
          <a:stretch/>
        </p:blipFill>
        <p:spPr>
          <a:xfrm>
            <a:off x="3124080" y="1295280"/>
            <a:ext cx="2729160" cy="4816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567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ter</cp:lastModifiedBy>
  <dcterms:modified xsi:type="dcterms:W3CDTF">2019-11-20T11:25:3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