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5.png" ContentType="image/png"/>
  <Override PartName="/ppt/media/applause.wav" ContentType="audio/x-wav"/>
  <Override PartName="/ppt/media/image30.wmf" ContentType="image/x-wmf"/>
  <Override PartName="/ppt/media/image10.png" ContentType="image/png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5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E61-EF03-4AD8-B184-37045D5B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B68-2F0C-4E58-95F0-9905AD4F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0CB-4BF9-4641-A17F-596C96F6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698-CDAB-4619-88AD-5443A37C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09B-625A-45FF-BAE7-9D13A926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D3D-B2C2-4F1B-B8FB-390E13A6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F2A-E05F-42F7-AB8F-56B614BA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0CF-9F2C-45F9-AA35-A661BB8D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077-F109-4C3F-958F-635BE805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654-3346-42C4-BE87-BB9C3474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241-AC29-4F7F-8D46-9F9A944A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EBE-ADE4-4D97-8BFF-A6B20376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9EA6-A1DB-4E05-9726-75B81E6254A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1" name="Oval 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85" name="Oval 7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8" descr="000803_1055_5919_vnvv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7" descr="000803_1077_3831_vnvv"/>
          <p:cNvPicPr/>
          <p:nvPr/>
        </p:nvPicPr>
        <p:blipFill>
          <a:blip r:embed="rId1"/>
          <a:srcRect l="0" t="0" r="0" b="2564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94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AutoShape 11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696960 w 5181480"/>
              <a:gd name="textAreaRight" fmla="*/ 4484520 w 5181480"/>
              <a:gd name="textAreaTop" fmla="*/ 194760 h 1447920"/>
              <a:gd name="textAreaBottom" fmla="*/ 12531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000803_1069_5279_vnvv"/>
          <p:cNvPicPr/>
          <p:nvPr/>
        </p:nvPicPr>
        <p:blipFill>
          <a:blip r:embed="rId2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000803_1055_6420_vnvv"/>
          <p:cNvPicPr/>
          <p:nvPr/>
        </p:nvPicPr>
        <p:blipFill>
          <a:blip r:embed="rId3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24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27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1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3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46" name="Oval 8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3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0" name="Oval 7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7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AutoShape 9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696960 w 5181840"/>
              <a:gd name="textAreaRight" fmla="*/ 4484880 w 5181840"/>
              <a:gd name="textAreaTop" fmla="*/ 235800 h 1752480"/>
              <a:gd name="textAreaBottom" fmla="*/ 1516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9-11-20T11:25:3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