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1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19.xml" ContentType="application/vnd.openxmlformats-officedocument.presentationml.comments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" initials="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3-01-05T08:50:51.000000000" idx="1">
    <p:pos x="3328" y="3923"/>
    <p:text>Портрет четы Арнольфини</p:text>
  </p:cm>
</p:cmLst>
</file>

<file path=ppt/comments/comment17.xml><?xml version="1.0" encoding="utf-8"?>
<p:cmLst xmlns:p="http://schemas.openxmlformats.org/presentationml/2006/main">
  <p:cm authorId="0" dt="2013-01-05T08:51:50.000000000" idx="2">
    <p:pos x="1623" y="3872"/>
    <p:text>Тициан “Динарий кесаря”</p:text>
  </p:cm>
</p:cmLst>
</file>

<file path=ppt/comments/comment18.xml><?xml version="1.0" encoding="utf-8"?>
<p:cmLst xmlns:p="http://schemas.openxmlformats.org/presentationml/2006/main">
  <p:cm authorId="0" dt="2013-01-05T08:52:31.000000000" idx="3">
    <p:pos x="4144" y="3993"/>
    <p:text>Ян ван Эйк Портрет четы Арнольфини</p:text>
  </p:cm>
</p:cmLst>
</file>

<file path=ppt/comments/comment19.xml><?xml version="1.0" encoding="utf-8"?>
<p:cmLst xmlns:p="http://schemas.openxmlformats.org/presentationml/2006/main">
  <p:cm authorId="0" dt="2013-01-05T08:54:03.000000000" idx="4">
    <p:pos x="4790" y="3993"/>
    <p:text>Джотто Поцелуй Иуды</p:text>
  </p:cm>
</p:cmLst>
</file>

<file path=ppt/comments/comment20.xml><?xml version="1.0" encoding="utf-8"?>
<p:cmLst xmlns:p="http://schemas.openxmlformats.org/presentationml/2006/main">
  <p:cm authorId="0" dt="2013-01-05T08:55:43.000000000" idx="5">
    <p:pos x="5223" y="3771"/>
    <p:text>Рафаэль Афинская школа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F788-D9A2-4462-B494-2293A725B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DB0B-F735-44DE-9664-0B6D117C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D597-6B09-44BF-AB47-F87DB50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12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668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12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668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28A0-9FB4-43B3-947B-5659B6AF8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53F6E-5F8D-4880-8D41-6B361B3A2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101C-4420-4D56-A84B-B0CC8634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4A69D-D5B5-47E7-B2C9-8BC97AD9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F4DB0-4F7F-4E6E-8203-B34413CD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24D57-3B5A-41D7-9E85-BB8B019D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019160"/>
            <a:ext cx="822168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FF2A9-F620-4482-9CC0-6AD09513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8586F-723C-4B0A-8104-AC920246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6BE5-EA5C-4982-9643-A99F618C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0FDE7-37D2-4CA4-9B9E-0EE754AC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3248E-CB02-48F8-8E9D-25066E39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3D938-7F11-402C-AF18-AB651BE9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6A5B9-F4ED-4CC1-A0F3-FECD693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2BEA9-A9AA-444C-89A9-E3D28A1D6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11D-A2DF-4218-8CDA-B1C643762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CA21-BD1C-488A-8B0F-B3217FE1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5FC8-29FB-4EC8-A624-26FB318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267-EFF6-416E-96B2-BD5698AF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2D31-1830-4151-A60B-F3F031C7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135B-3A96-47C8-A86B-6B0BA71A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019160"/>
            <a:ext cx="822168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A6CA-F715-422F-B348-87789AB8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1BEE-E815-488B-9E9A-CB08B1FA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00BD-C445-492A-8B08-B778A187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A17B-B3AB-49A3-AA14-92A8F020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158-718E-484C-BF9A-123637A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2E19-0106-4847-B5AF-BF35B40F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712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6680" y="224964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712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6680" y="4504320"/>
            <a:ext cx="26470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F3D2-F491-4E90-8E81-778376E2A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AD44-8985-481D-8293-07A0FF8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DB46-89DA-4ED8-ADD8-472486D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019160"/>
            <a:ext cx="822168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F920-1CF2-455B-ACED-118BD508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CF4A-5932-4444-BD5A-7F62B00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9920" y="450432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AB07-49FE-4506-8C63-03B7A7AD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9920" y="2249640"/>
            <a:ext cx="4011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4320"/>
            <a:ext cx="822168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302A-6935-42D4-B849-4FF4C86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420480"/>
            <a:ext cx="9493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1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8174160" y="-6840"/>
            <a:ext cx="7538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E734A-5FF0-401B-B181-746217CFD38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Freeform 6"/>
          <p:cNvSpPr/>
          <p:nvPr/>
        </p:nvSpPr>
        <p:spPr>
          <a:xfrm>
            <a:off x="5410080" y="3962520"/>
            <a:ext cx="3063960" cy="27000"/>
          </a:xfrm>
          <a:custGeom>
            <a:avLst/>
            <a:gdLst>
              <a:gd name="textAreaLeft" fmla="*/ 1080 w 3063960"/>
              <a:gd name="textAreaRight" fmla="*/ 3062880 w 3063960"/>
              <a:gd name="textAreaTop" fmla="*/ 1080 h 27000"/>
              <a:gd name="textAreaBottom" fmla="*/ 25920 h 27000"/>
            </a:gdLst>
            <a:ahLst/>
            <a:rect l="textAreaLeft" t="textAreaTop" r="textAreaRight" b="textAreaBottom"/>
            <a:pathLst>
              <a:path w="3063870" h="26983">
                <a:moveTo>
                  <a:pt x="4497" y="0"/>
                </a:moveTo>
                <a:lnTo>
                  <a:pt x="4496" y="0"/>
                </a:lnTo>
                <a:cubicBezTo>
                  <a:pt x="2013" y="0"/>
                  <a:pt x="0" y="2013"/>
                  <a:pt x="0" y="4496"/>
                </a:cubicBezTo>
                <a:lnTo>
                  <a:pt x="0" y="22486"/>
                </a:lnTo>
                <a:cubicBezTo>
                  <a:pt x="0" y="24969"/>
                  <a:pt x="2013" y="26983"/>
                  <a:pt x="4497" y="26983"/>
                </a:cubicBezTo>
                <a:lnTo>
                  <a:pt x="3059373" y="26983"/>
                </a:lnTo>
                <a:cubicBezTo>
                  <a:pt x="3061856" y="26983"/>
                  <a:pt x="3063870" y="24969"/>
                  <a:pt x="3063870" y="22486"/>
                </a:cubicBezTo>
                <a:lnTo>
                  <a:pt x="3063870" y="4497"/>
                </a:lnTo>
                <a:cubicBezTo>
                  <a:pt x="3063870" y="2013"/>
                  <a:pt x="3061856" y="0"/>
                  <a:pt x="3059373" y="0"/>
                </a:cubicBezTo>
                <a:lnTo>
                  <a:pt x="44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7377120" y="406080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3"/>
          </p:nvPr>
        </p:nvSpPr>
        <p:spPr>
          <a:xfrm>
            <a:off x="6705720" y="4206960"/>
            <a:ext cx="952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8319600" y="-100440"/>
            <a:ext cx="739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CE66ADE-7E08-41E9-865D-A89D3A6CE82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19160"/>
            <a:ext cx="8221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16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6582960" y="612720"/>
            <a:ext cx="9493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6"/>
          </p:nvPr>
        </p:nvSpPr>
        <p:spPr>
          <a:xfrm>
            <a:off x="8174160" y="-98280"/>
            <a:ext cx="7538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B8024EB-7ADB-42AE-8414-505D6DD341D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4019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Всероссийская олимпиа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60360" y="4329000"/>
            <a:ext cx="7037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Trebuchet MS"/>
              </a:rPr>
              <a:t>Возрождени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Trebuchet MS"/>
              </a:rPr>
              <a:t>Вопросы и зада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853920"/>
            <a:ext cx="71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Иероним Босх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890800" y="2789280"/>
            <a:ext cx="3138480" cy="287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61800" y="4319640"/>
            <a:ext cx="2157480" cy="21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6370560" y="1979640"/>
            <a:ext cx="2449440" cy="450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tretch/>
        </p:blipFill>
        <p:spPr>
          <a:xfrm>
            <a:off x="360360" y="720720"/>
            <a:ext cx="216072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876240"/>
            <a:ext cx="8224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Ян ван Эйк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79280" y="2160720"/>
            <a:ext cx="4853160" cy="3620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5219640" y="1569960"/>
            <a:ext cx="371628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5080" y="899640"/>
            <a:ext cx="82245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«Цветок Тосканы, зеркало Италии, соперница славного города Рима, от которого она произошла и древнему величию которого подражает, борясь за спасение Италии и ее свободу».</a:t>
            </a:r>
            <a:br>
              <a:rPr sz="3600"/>
            </a:b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4f271c"/>
                </a:solidFill>
                <a:latin typeface="Trebuchet MS"/>
              </a:rPr>
              <a:t>О каком городе, общекультурном центре раннего Ренессанса писал поэт XIV века?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400960" cy="50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5440" y="2879640"/>
            <a:ext cx="82245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Шедевры Ренессанса.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Укажите авторов и их творения.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701640" y="720720"/>
            <a:ext cx="7758000" cy="58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93680" y="1619280"/>
            <a:ext cx="862632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2519280" y="804960"/>
            <a:ext cx="4319640" cy="56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2533680" y="392040"/>
            <a:ext cx="4305240" cy="58946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2554920" y="638172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н ван Эйк Портрет четы Арнольфин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260360" y="684360"/>
            <a:ext cx="663264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96760"/>
            <a:ext cx="82281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Trebuchet MS"/>
              </a:rPr>
              <a:t>Их называют тремя титанами, тремя символами Высокого Возрождения</a:t>
            </a:r>
            <a:endParaRPr b="0" lang="en-US" sz="24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5680" y="2340000"/>
            <a:ext cx="2525760" cy="3959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060720" y="2519280"/>
            <a:ext cx="2970360" cy="378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6300720" y="2700360"/>
            <a:ext cx="266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784548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2519280" y="843120"/>
            <a:ext cx="4140360" cy="56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419040" y="1028880"/>
            <a:ext cx="8400960" cy="50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971280"/>
            <a:ext cx="82249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Trebuchet MS"/>
              </a:rPr>
              <a:t>Назовите вид творческой деятельности видных мастеров Возрождения</a:t>
            </a: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2249280"/>
            <a:ext cx="82249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Ф. Брунеллески, Д. Браманте, А. Паллади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Ф. Петрарка, Ф. Рабле, Серванте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Ботичелли, Босх, Ян ван Эй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8224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Филиппо Брунеллеск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4680000"/>
            <a:ext cx="822492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упол кафедрального собора Санта-Мария-дель-Фьоре или просто Дуомо, до сих пор самая высокая постройка во Флоренции (114,5 м), спроектированная таким образом, чтобы внутри могло поместиться все население города «великое… вздымающееся к небесам сооружение осеняет собой все тосканские земли» писал о нём Леон Баттиста Альбер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992240" y="1562040"/>
            <a:ext cx="484668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4000" y="720720"/>
            <a:ext cx="8224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Донато Браманте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0000" y="5219280"/>
            <a:ext cx="82803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роектировал и начал строить главный храм Рима — собор Св. Петра в Ватикане (с 1505 г.) и успел возвести храм до высоты арок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комплексе Ватиканского дворца находятся две постройки Браманте — дворы Бельведера (1503—1545) и Сан Дамазо (ок. 1510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3959280" cy="3029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503600" y="1800360"/>
            <a:ext cx="413712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280" y="404640"/>
            <a:ext cx="8224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Донато Браманте</a:t>
            </a:r>
            <a:br>
              <a:rPr sz="2800"/>
            </a:b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Темпьетто (Маленький храм Браманте)</a:t>
            </a:r>
            <a:br>
              <a:rPr sz="2800"/>
            </a:b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1502 год</a:t>
            </a:r>
            <a:endParaRPr b="0" lang="en-US" sz="28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0360" y="1628640"/>
            <a:ext cx="33480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мпьетт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(букв. «храмик»), Маленький храм Браманте — отдельно стоящая часовня-ротонда, возведённая архитектором Донато Браманте как часть монастырского комплекса Сан-Пьетро-ин-Монторио (Св. Петра наверху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4645080" y="1844640"/>
            <a:ext cx="337500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4000" y="539280"/>
            <a:ext cx="8224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Андреа Палладио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Вилла Ротонда (Венеция)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2360" y="1979640"/>
            <a:ext cx="793728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4000" y="539280"/>
            <a:ext cx="8224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Гюстав Доре (1832 - 1883)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иллюстраци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5400360"/>
            <a:ext cx="3060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рапеза Гаргантю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300360" y="5224320"/>
            <a:ext cx="275292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ант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ожественная комед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д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424560" y="1660680"/>
            <a:ext cx="2340000" cy="3535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539640" y="1830240"/>
            <a:ext cx="2880000" cy="3570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959280" y="5510160"/>
            <a:ext cx="2146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н Кихот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3600360" y="1979640"/>
            <a:ext cx="2519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876240"/>
            <a:ext cx="8224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Сандро Ботичелл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680000" y="4044960"/>
            <a:ext cx="3978360" cy="2614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300720" y="1720800"/>
            <a:ext cx="2340000" cy="224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360360" y="1619280"/>
            <a:ext cx="3060720" cy="253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4"/>
          <a:stretch/>
        </p:blipFill>
        <p:spPr>
          <a:xfrm>
            <a:off x="720720" y="4397400"/>
            <a:ext cx="3506760" cy="2262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5"/>
          <a:stretch/>
        </p:blipFill>
        <p:spPr>
          <a:xfrm>
            <a:off x="3959280" y="1619280"/>
            <a:ext cx="16923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24:52Z</dcterms:created>
  <dc:creator>Admin</dc:creator>
  <dc:description/>
  <dc:language>en-US</dc:language>
  <cp:lastModifiedBy>VVZ</cp:lastModifiedBy>
  <dcterms:modified xsi:type="dcterms:W3CDTF">2021-01-31T06:38:59Z</dcterms:modified>
  <cp:revision>12</cp:revision>
  <dc:subject/>
  <dc:title>Всероссийская олимпиада</dc:title>
</cp:coreProperties>
</file>