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" initials="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3-01-05T08:50:51.000000000" idx="1">
    <p:pos x="3328" y="3923"/>
    <p:text>Портрет четы Арнольфини</p:text>
  </p:cm>
</p:cmLst>
</file>

<file path=ppt/comments/comment17.xml><?xml version="1.0" encoding="utf-8"?>
<p:cmLst xmlns:p="http://schemas.openxmlformats.org/presentationml/2006/main">
  <p:cm authorId="0" dt="2013-01-05T08:51:50.000000000" idx="2">
    <p:pos x="1623" y="3872"/>
    <p:text>Тициан “Динарий кесаря”</p:text>
  </p:cm>
</p:cmLst>
</file>

<file path=ppt/comments/comment18.xml><?xml version="1.0" encoding="utf-8"?>
<p:cmLst xmlns:p="http://schemas.openxmlformats.org/presentationml/2006/main">
  <p:cm authorId="0" dt="2013-01-05T08:52:31.000000000" idx="3">
    <p:pos x="4144" y="3993"/>
    <p:text>Ян ван Эйк Портрет четы Арнольфини</p:text>
  </p:cm>
</p:cmLst>
</file>

<file path=ppt/comments/comment19.xml><?xml version="1.0" encoding="utf-8"?>
<p:cmLst xmlns:p="http://schemas.openxmlformats.org/presentationml/2006/main">
  <p:cm authorId="0" dt="2013-01-05T08:54:03.000000000" idx="4">
    <p:pos x="4790" y="3993"/>
    <p:text>Джотто Поцелуй Иуды</p:text>
  </p:cm>
</p:cmLst>
</file>

<file path=ppt/comments/comment20.xml><?xml version="1.0" encoding="utf-8"?>
<p:cmLst xmlns:p="http://schemas.openxmlformats.org/presentationml/2006/main">
  <p:cm authorId="0" dt="2013-01-05T08:55:43.000000000" idx="5">
    <p:pos x="5223" y="3771"/>
    <p:text>Рафаэль Афинская школа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F83A-27D0-41C2-93F9-AD96CCAF3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6218-5848-4434-9ADB-69C3D91B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AD08-0ACC-40B9-9F4C-5380861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12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668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12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668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07EA-21E0-462F-A32B-0CD68AD8B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5D906-58E6-4E82-BC66-9F9045FF1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CCDE3-87D5-43A9-BB7F-36BE85D5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F6E1-4ACA-425C-AF68-A63B8E2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84AE-D7D0-4D51-872D-A1096597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32FAA-9DF7-4C28-A739-7130F568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019160"/>
            <a:ext cx="822168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5E62B-5FCA-40BC-B649-BAE731A2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3BE7-B655-4F37-B1D8-D2FCC88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EEC4-D436-4978-8F96-6AB323B9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B7AF4-1A97-4D21-8AE6-FDB5DF60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05756-477A-4AC3-9247-B2F6E6E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6940B-9908-4D2A-8C8B-54CA552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4ABA-78B7-4E7E-B69E-5488752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30D06-0761-4AA1-AA35-0A2E8A4BB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08F9-9BC4-4449-9BD4-8405D1480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E643-CC6C-4E48-999C-0E0C2DA5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74F-C2EC-4540-8B54-2C847FDA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FC2-3FB3-4707-A2D7-C7AF31A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2885-78FB-4758-92C9-5C2DD22C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7BBF-9CC7-4529-A713-8F44207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019160"/>
            <a:ext cx="822168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ED6A-350F-42FB-832B-B5C0348D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90CC-FD4F-4819-8BF2-F6796B9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FD7-B880-4B13-B148-D820FD5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3CF3-4CDD-41A4-ABB9-00DBADD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8CF8-9B6A-425E-A119-1481E76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F678-A60E-4016-A59B-1D62ACF9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712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668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712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668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D11F-9DF8-44DF-A218-9192A9010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7AB2-86AA-4015-BA02-54B1A3A3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A0FF-261B-4E81-9327-428542E3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019160"/>
            <a:ext cx="822168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ED11-7B92-4DB7-BD56-AA890DE1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4681-8194-45E0-8315-E8B29F30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887F-7370-42AC-8A23-6959125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C593-37A9-49D7-A9E3-DD913D5C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420480"/>
            <a:ext cx="9493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1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4160" y="-6840"/>
            <a:ext cx="7538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B5763-82D9-4319-9AF5-F29550E737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5410080" y="3962520"/>
            <a:ext cx="3063960" cy="27000"/>
          </a:xfrm>
          <a:custGeom>
            <a:avLst/>
            <a:gdLst>
              <a:gd name="textAreaLeft" fmla="*/ 1080 w 3063960"/>
              <a:gd name="textAreaRight" fmla="*/ 3062880 w 306396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3870" h="26983">
                <a:moveTo>
                  <a:pt x="4497" y="0"/>
                </a:moveTo>
                <a:lnTo>
                  <a:pt x="4496" y="0"/>
                </a:lnTo>
                <a:cubicBezTo>
                  <a:pt x="2013" y="0"/>
                  <a:pt x="0" y="2013"/>
                  <a:pt x="0" y="4496"/>
                </a:cubicBezTo>
                <a:lnTo>
                  <a:pt x="0" y="22486"/>
                </a:lnTo>
                <a:cubicBezTo>
                  <a:pt x="0" y="24969"/>
                  <a:pt x="2013" y="26983"/>
                  <a:pt x="4497" y="26983"/>
                </a:cubicBezTo>
                <a:lnTo>
                  <a:pt x="3059373" y="26983"/>
                </a:lnTo>
                <a:cubicBezTo>
                  <a:pt x="3061856" y="26983"/>
                  <a:pt x="3063870" y="24969"/>
                  <a:pt x="3063870" y="22486"/>
                </a:cubicBezTo>
                <a:lnTo>
                  <a:pt x="3063870" y="4497"/>
                </a:lnTo>
                <a:cubicBezTo>
                  <a:pt x="3063870" y="2013"/>
                  <a:pt x="3061856" y="0"/>
                  <a:pt x="3059373" y="0"/>
                </a:cubicBezTo>
                <a:lnTo>
                  <a:pt x="44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7377120" y="406080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6705720" y="4206960"/>
            <a:ext cx="952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319600" y="-100440"/>
            <a:ext cx="739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8218CFF-A3B0-43FE-8DC7-7AE258809CB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6582960" y="612720"/>
            <a:ext cx="9493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8174160" y="-98280"/>
            <a:ext cx="7538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3176D5B-FD2E-4E21-9ECF-19DE1B55677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401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Всероссийская олимпиа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60360" y="4329000"/>
            <a:ext cx="7037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Trebuchet MS"/>
              </a:rPr>
              <a:t>Возрождени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Trebuchet MS"/>
              </a:rPr>
              <a:t>Вопросы и зада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853920"/>
            <a:ext cx="71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Иероним Босх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890800" y="2789280"/>
            <a:ext cx="3138480" cy="287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61800" y="4319640"/>
            <a:ext cx="2157480" cy="21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6370560" y="1979640"/>
            <a:ext cx="2449440" cy="450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tretch/>
        </p:blipFill>
        <p:spPr>
          <a:xfrm>
            <a:off x="360360" y="720720"/>
            <a:ext cx="21607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876240"/>
            <a:ext cx="8224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Ян ван Эйк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79280" y="2160720"/>
            <a:ext cx="4853160" cy="3620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5219640" y="1569960"/>
            <a:ext cx="371628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5080" y="899640"/>
            <a:ext cx="82245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«Цветок Тосканы, зеркало Италии, соперница славного города Рима, от которого она произошла и древнему величию которого подражает, борясь за спасение Италии и ее свободу».</a:t>
            </a:r>
            <a:br>
              <a:rPr sz="3600"/>
            </a:b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О каком городе, общекультурном центре раннего Ренессанса писал поэт XIV века?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400960" cy="50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5440" y="2879640"/>
            <a:ext cx="82245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Шедевры Ренессанса.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Укажите авторов и их творения.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701640" y="720720"/>
            <a:ext cx="7758000" cy="58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93680" y="1619280"/>
            <a:ext cx="862632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2519280" y="804960"/>
            <a:ext cx="431964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2533680" y="392040"/>
            <a:ext cx="4305240" cy="58946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2554920" y="638172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н ван Эйк Портрет четы Арнольфин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260360" y="684360"/>
            <a:ext cx="663264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96760"/>
            <a:ext cx="82281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Trebuchet MS"/>
              </a:rPr>
              <a:t>Их называют тремя титанами, тремя символами Высокого Возрождения</a:t>
            </a:r>
            <a:endParaRPr b="0" lang="en-US" sz="24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5680" y="2340000"/>
            <a:ext cx="2525760" cy="3959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060720" y="2519280"/>
            <a:ext cx="2970360" cy="378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6300720" y="2700360"/>
            <a:ext cx="26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784548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2519280" y="843120"/>
            <a:ext cx="4140360" cy="56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400960" cy="50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971280"/>
            <a:ext cx="82249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Trebuchet MS"/>
              </a:rPr>
              <a:t>Назовите вид творческой деятельности видных мастеров Возрождения</a:t>
            </a: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249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Ф. Брунеллески, Д. Браманте, А. Паллади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Ф. Петрарка, Ф. Рабле, Серванте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Ботичелли, Босх, Ян ван Эй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Филиппо Брунеллеск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4680000"/>
            <a:ext cx="822492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упол кафедрального собора Санта-Мария-дель-Фьоре или просто Дуомо, до сих пор самая высокая постройка во Флоренции (114,5 м), спроектированная таким образом, чтобы внутри могло поместиться все население города «великое… вздымающееся к небесам сооружение осеняет собой все тосканские земли» писал о нём Леон Баттиста Альбер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992240" y="1562040"/>
            <a:ext cx="484668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4000" y="720720"/>
            <a:ext cx="8224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Донато Браманте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5219280"/>
            <a:ext cx="82803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роектировал и начал строить главный храм Рима — собор Св. Петра в Ватикане (с 1505 г.) и успел возвести храм до высоты арок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комплексе Ватиканского дворца находятся две постройки Браманте — дворы Бельведера (1503—1545) и Сан Дамазо (ок. 1510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3959280" cy="302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503600" y="1800360"/>
            <a:ext cx="413712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280" y="404640"/>
            <a:ext cx="8224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Донато Браманте</a:t>
            </a:r>
            <a:br>
              <a:rPr sz="2800"/>
            </a:b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Темпьетто (Маленький храм Браманте)</a:t>
            </a:r>
            <a:br>
              <a:rPr sz="2800"/>
            </a:b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1502 год</a:t>
            </a:r>
            <a:endParaRPr b="0" lang="en-US" sz="28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628640"/>
            <a:ext cx="33480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мпьетт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(букв. «храмик»), Маленький храм Браманте — отдельно стоящая часовня-ротонда, возведённая архитектором Донато Браманте как часть монастырского комплекса Сан-Пьетро-ин-Монторио (Св. Петра наверху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4645080" y="1844640"/>
            <a:ext cx="337500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4000" y="539280"/>
            <a:ext cx="8224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Андреа Палладио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Вилла Ротонда (Венеция)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2360" y="1979640"/>
            <a:ext cx="793728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4000" y="539280"/>
            <a:ext cx="8224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Гюстав Доре (1832 - 1883)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иллюстраци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5400360"/>
            <a:ext cx="3060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рапеза Гаргантю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300360" y="5224320"/>
            <a:ext cx="27529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ант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ожественная комед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д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424560" y="1660680"/>
            <a:ext cx="2340000" cy="353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539640" y="1830240"/>
            <a:ext cx="2880000" cy="3570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959280" y="5510160"/>
            <a:ext cx="2146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н Кихот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600360" y="1979640"/>
            <a:ext cx="2519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876240"/>
            <a:ext cx="8224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Сандро Ботичелл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680000" y="4044960"/>
            <a:ext cx="397836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300720" y="1720800"/>
            <a:ext cx="2340000" cy="224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360360" y="1619280"/>
            <a:ext cx="3060720" cy="253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4"/>
          <a:stretch/>
        </p:blipFill>
        <p:spPr>
          <a:xfrm>
            <a:off x="720720" y="4397400"/>
            <a:ext cx="3506760" cy="226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5"/>
          <a:stretch/>
        </p:blipFill>
        <p:spPr>
          <a:xfrm>
            <a:off x="3959280" y="1619280"/>
            <a:ext cx="1692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24:52Z</dcterms:created>
  <dc:creator>Admin</dc:creator>
  <dc:description/>
  <dc:language>en-US</dc:language>
  <cp:lastModifiedBy>VVZ</cp:lastModifiedBy>
  <dcterms:modified xsi:type="dcterms:W3CDTF">2021-01-31T06:38:59Z</dcterms:modified>
  <cp:revision>12</cp:revision>
  <dc:subject/>
  <dc:title>Всероссийская олимпиада</dc:title>
</cp:coreProperties>
</file>