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27.wmf" ContentType="image/x-wmf"/>
  <Override PartName="/ppt/media/image21.jpeg" ContentType="image/jpeg"/>
  <Override PartName="/ppt/media/image16.jpeg" ContentType="image/jpeg"/>
  <Override PartName="/ppt/media/image25.png" ContentType="image/png"/>
  <Override PartName="/ppt/media/image22.wmf" ContentType="image/x-wmf"/>
  <Override PartName="/ppt/media/image6.png" ContentType="image/png"/>
  <Override PartName="/ppt/media/image23.png" ContentType="image/png"/>
  <Override PartName="/ppt/media/image18.gif" ContentType="image/gif"/>
  <Override PartName="/ppt/media/image15.png" ContentType="image/png"/>
  <Override PartName="/ppt/media/image14.png" ContentType="image/png"/>
  <Override PartName="/ppt/media/image24.png" ContentType="image/png"/>
  <Override PartName="/ppt/media/image19.gif" ContentType="image/gif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B046-246C-4458-8452-8B791CDB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755-3BA0-4BF8-967E-F5C50B5A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79C-1312-40DB-90CD-F32BE619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AC5F-1B8C-406E-BA4E-DA8799B9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EB2-C7B3-4F71-BA03-0382D45C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6E4-2AD2-4094-A3C7-8A5179A7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588-A70E-48CF-A4F1-DAFF017A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346C-6D99-4808-B94B-B1A8B496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DAF-9214-4DB2-B66F-924B143A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AB4-A599-45CC-B90D-4ED89580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CF28-72C9-45FE-9A55-D3FB2D3C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1F5-6483-42F8-A47D-11A3519E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F43A-CC09-4269-A4AC-4EAF064DD3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2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image" Target="../media/image22.wmf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2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simyagmuru.com/data/media/6/hayvan-resmi_27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 flipH="1">
            <a:off x="878760" y="2128680"/>
            <a:ext cx="7429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е по подготовке к обучению грамоте на тему: «Буква Ь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8517600" y="471492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8a54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0" y="4599000"/>
            <a:ext cx="2071800" cy="22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6" descr="sol"/>
          <p:cNvPicPr/>
          <p:nvPr/>
        </p:nvPicPr>
        <p:blipFill>
          <a:blip r:embed="rId2"/>
          <a:stretch/>
        </p:blipFill>
        <p:spPr>
          <a:xfrm>
            <a:off x="6647040" y="-22320"/>
            <a:ext cx="2707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538200" y="2315880"/>
            <a:ext cx="583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  <a:ea typeface="Times New Roman"/>
              </a:rPr>
              <a:t>Мягкий знак — хитрый знак. Не сказать его ника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  <a:ea typeface="Times New Roman"/>
              </a:rPr>
              <a:t>Он не произносит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  <a:ea typeface="Times New Roman"/>
              </a:rPr>
              <a:t>Но в слово часто прос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Группа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5" name="Picture 2" descr="C:\Program Files (x86)\Microsoft Office\MEDIA\CAGCAT10\j0158007.wm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56912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" descr="C:\Program Files (x86)\Microsoft Office\MEDIA\CAGCAT10\j0158007.wmf"/>
            <p:cNvPicPr/>
            <p:nvPr/>
          </p:nvPicPr>
          <p:blipFill>
            <a:blip r:embed="rId2"/>
            <a:stretch/>
          </p:blipFill>
          <p:spPr>
            <a:xfrm>
              <a:off x="4574880" y="0"/>
              <a:ext cx="456912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C:\Program Files (x86)\Microsoft Office\MEDIA\CAGCAT10\j0158007.wmf"/>
            <p:cNvPicPr/>
            <p:nvPr/>
          </p:nvPicPr>
          <p:blipFill>
            <a:blip r:embed="rId3"/>
            <a:stretch/>
          </p:blipFill>
          <p:spPr>
            <a:xfrm>
              <a:off x="0" y="6320520"/>
              <a:ext cx="456912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6" descr="C:\Program Files (x86)\Microsoft Office\MEDIA\CAGCAT10\j0158007.wmf"/>
            <p:cNvPicPr/>
            <p:nvPr/>
          </p:nvPicPr>
          <p:blipFill>
            <a:blip r:embed="rId4"/>
            <a:stretch/>
          </p:blipFill>
          <p:spPr>
            <a:xfrm>
              <a:off x="4574880" y="6320520"/>
              <a:ext cx="456912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7" descr="C:\Program Files (x86)\Microsoft Office\MEDIA\CAGCAT10\j0158007.wmf"/>
            <p:cNvPicPr/>
            <p:nvPr/>
          </p:nvPicPr>
          <p:blipFill>
            <a:blip r:embed="rId5"/>
            <a:stretch/>
          </p:blipFill>
          <p:spPr>
            <a:xfrm rot="5400000">
              <a:off x="6590160" y="2852640"/>
              <a:ext cx="456948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8" descr="C:\Program Files (x86)\Microsoft Office\MEDIA\CAGCAT10\j0158007.wmf"/>
            <p:cNvPicPr/>
            <p:nvPr/>
          </p:nvPicPr>
          <p:blipFill>
            <a:blip r:embed="rId6"/>
            <a:stretch/>
          </p:blipFill>
          <p:spPr>
            <a:xfrm rot="16200000">
              <a:off x="-2015640" y="3068280"/>
              <a:ext cx="4569480" cy="53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Rectangle 11"/>
          <p:cNvSpPr/>
          <p:nvPr/>
        </p:nvSpPr>
        <p:spPr>
          <a:xfrm>
            <a:off x="4479840" y="952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michail\Desktop\букваЬ\1.jpg"/>
          <p:cNvPicPr/>
          <p:nvPr/>
        </p:nvPicPr>
        <p:blipFill>
          <a:blip r:embed="rId7"/>
          <a:stretch/>
        </p:blipFill>
        <p:spPr>
          <a:xfrm>
            <a:off x="5748480" y="1487520"/>
            <a:ext cx="28591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Скругленный прямоугольник 1"/>
          <p:cNvSpPr/>
          <p:nvPr/>
        </p:nvSpPr>
        <p:spPr>
          <a:xfrm>
            <a:off x="250920" y="3813120"/>
            <a:ext cx="8642160" cy="105588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ягкого знака не начинаются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164360" y="4824360"/>
            <a:ext cx="1997280" cy="202896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6"/>
          <p:cNvSpPr/>
          <p:nvPr/>
        </p:nvSpPr>
        <p:spPr>
          <a:xfrm>
            <a:off x="255600" y="2133720"/>
            <a:ext cx="8637480" cy="13665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й знак – Ь – обозначает  мягкость согласных в конце и середин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7"/>
          <p:cNvSpPr/>
          <p:nvPr/>
        </p:nvSpPr>
        <p:spPr>
          <a:xfrm>
            <a:off x="250920" y="189000"/>
            <a:ext cx="8642160" cy="15843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й знак – Ь – это всего лишь буква, которая не обозначает зву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а есть, а звука – нет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1216080" y="1495080"/>
            <a:ext cx="47242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у дома УГОЛ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тился сразу в УГОЛЬ,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пожара, просто так?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2793240" y="3336840"/>
            <a:ext cx="558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  <a:ea typeface="Times New Roman"/>
              </a:rPr>
              <a:t>Это сделал мягкий зна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0" name="Picture 2" descr="C:\Program Files (x86)\Microsoft Office\MEDIA\CAGCAT10\j0158007.wm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56912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4" descr="C:\Program Files (x86)\Microsoft Office\MEDIA\CAGCAT10\j0158007.wmf"/>
            <p:cNvPicPr/>
            <p:nvPr/>
          </p:nvPicPr>
          <p:blipFill>
            <a:blip r:embed="rId2"/>
            <a:stretch/>
          </p:blipFill>
          <p:spPr>
            <a:xfrm>
              <a:off x="4574880" y="0"/>
              <a:ext cx="456912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5" descr="C:\Program Files (x86)\Microsoft Office\MEDIA\CAGCAT10\j0158007.wmf"/>
            <p:cNvPicPr/>
            <p:nvPr/>
          </p:nvPicPr>
          <p:blipFill>
            <a:blip r:embed="rId3"/>
            <a:stretch/>
          </p:blipFill>
          <p:spPr>
            <a:xfrm>
              <a:off x="0" y="6320520"/>
              <a:ext cx="456912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6" descr="C:\Program Files (x86)\Microsoft Office\MEDIA\CAGCAT10\j0158007.wmf"/>
            <p:cNvPicPr/>
            <p:nvPr/>
          </p:nvPicPr>
          <p:blipFill>
            <a:blip r:embed="rId4"/>
            <a:stretch/>
          </p:blipFill>
          <p:spPr>
            <a:xfrm>
              <a:off x="4574880" y="6320520"/>
              <a:ext cx="456912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7" descr="C:\Program Files (x86)\Microsoft Office\MEDIA\CAGCAT10\j0158007.wmf"/>
            <p:cNvPicPr/>
            <p:nvPr/>
          </p:nvPicPr>
          <p:blipFill>
            <a:blip r:embed="rId5"/>
            <a:stretch/>
          </p:blipFill>
          <p:spPr>
            <a:xfrm rot="5400000">
              <a:off x="6590160" y="2852640"/>
              <a:ext cx="456948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8" descr="C:\Program Files (x86)\Microsoft Office\MEDIA\CAGCAT10\j0158007.wmf"/>
            <p:cNvPicPr/>
            <p:nvPr/>
          </p:nvPicPr>
          <p:blipFill>
            <a:blip r:embed="rId6"/>
            <a:stretch/>
          </p:blipFill>
          <p:spPr>
            <a:xfrm rot="16200000">
              <a:off x="-2015640" y="3068280"/>
              <a:ext cx="4569480" cy="53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TextBox 17"/>
          <p:cNvSpPr/>
          <p:nvPr/>
        </p:nvSpPr>
        <p:spPr>
          <a:xfrm>
            <a:off x="2683800" y="4237200"/>
            <a:ext cx="250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5101920" y="4237200"/>
            <a:ext cx="73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395280" y="3429000"/>
            <a:ext cx="8064360" cy="20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 Г   О   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395280" y="1413000"/>
            <a:ext cx="2016000" cy="18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2411280" y="1413000"/>
            <a:ext cx="2016360" cy="18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6443640" y="1413000"/>
            <a:ext cx="2016000" cy="18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4427640" y="1413000"/>
            <a:ext cx="2016000" cy="18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12"/>
          <p:cNvSpPr/>
          <p:nvPr/>
        </p:nvSpPr>
        <p:spPr>
          <a:xfrm>
            <a:off x="2411280" y="1052640"/>
            <a:ext cx="0" cy="27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3"/>
          <p:cNvSpPr/>
          <p:nvPr/>
        </p:nvSpPr>
        <p:spPr>
          <a:xfrm>
            <a:off x="395280" y="1413000"/>
            <a:ext cx="2016000" cy="18716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4"/>
          <p:cNvSpPr/>
          <p:nvPr/>
        </p:nvSpPr>
        <p:spPr>
          <a:xfrm>
            <a:off x="2411280" y="1413000"/>
            <a:ext cx="2016360" cy="1871640"/>
          </a:xfrm>
          <a:prstGeom prst="rect">
            <a:avLst/>
          </a:prstGeom>
          <a:solidFill>
            <a:srgbClr val="1606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5"/>
          <p:cNvSpPr/>
          <p:nvPr/>
        </p:nvSpPr>
        <p:spPr>
          <a:xfrm>
            <a:off x="6443640" y="1413000"/>
            <a:ext cx="2016000" cy="1871640"/>
          </a:xfrm>
          <a:prstGeom prst="rect">
            <a:avLst/>
          </a:prstGeom>
          <a:solidFill>
            <a:srgbClr val="1606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6"/>
          <p:cNvSpPr/>
          <p:nvPr/>
        </p:nvSpPr>
        <p:spPr>
          <a:xfrm>
            <a:off x="4427640" y="1413000"/>
            <a:ext cx="2016000" cy="18716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"/>
          <p:cNvSpPr/>
          <p:nvPr/>
        </p:nvSpPr>
        <p:spPr>
          <a:xfrm>
            <a:off x="395280" y="573264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звука, 4 букв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0" y="525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звуковую схему слова, определить количество звуков и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0" y="3357720"/>
            <a:ext cx="9144000" cy="22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 Г    О    Л   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0" y="1557360"/>
            <a:ext cx="1979640" cy="180036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1979640" y="1557360"/>
            <a:ext cx="1871640" cy="180036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3851280" y="1557360"/>
            <a:ext cx="1944720" cy="180036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5796000" y="1557360"/>
            <a:ext cx="1944720" cy="180036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1"/>
          <p:cNvSpPr/>
          <p:nvPr/>
        </p:nvSpPr>
        <p:spPr>
          <a:xfrm>
            <a:off x="1892160" y="981000"/>
            <a:ext cx="0" cy="32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3"/>
          <p:cNvSpPr/>
          <p:nvPr/>
        </p:nvSpPr>
        <p:spPr>
          <a:xfrm>
            <a:off x="0" y="1557360"/>
            <a:ext cx="1979640" cy="180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4"/>
          <p:cNvSpPr/>
          <p:nvPr/>
        </p:nvSpPr>
        <p:spPr>
          <a:xfrm>
            <a:off x="1908000" y="1557360"/>
            <a:ext cx="1979640" cy="1800360"/>
          </a:xfrm>
          <a:prstGeom prst="rect">
            <a:avLst/>
          </a:prstGeom>
          <a:solidFill>
            <a:srgbClr val="1606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5"/>
          <p:cNvSpPr/>
          <p:nvPr/>
        </p:nvSpPr>
        <p:spPr>
          <a:xfrm>
            <a:off x="3851280" y="1557360"/>
            <a:ext cx="1979640" cy="180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6"/>
          <p:cNvSpPr/>
          <p:nvPr/>
        </p:nvSpPr>
        <p:spPr>
          <a:xfrm>
            <a:off x="5796000" y="1557360"/>
            <a:ext cx="1979640" cy="1800360"/>
          </a:xfrm>
          <a:prstGeom prst="rect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324000" y="5732640"/>
            <a:ext cx="82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ка, 5 бук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0" y="525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звуковую схему слова, определить количество звуков и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73080" y="128520"/>
            <a:ext cx="9144000" cy="6510240"/>
          </a:xfrm>
          <a:prstGeom prst="rect">
            <a:avLst/>
          </a:prstGeom>
          <a:ln w="0">
            <a:noFill/>
          </a:ln>
        </p:spPr>
      </p:pic>
      <p:pic>
        <p:nvPicPr>
          <p:cNvPr id="133" name="MS902157.wav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MCj04280710000[1]"/>
          <p:cNvPicPr/>
          <p:nvPr/>
        </p:nvPicPr>
        <p:blipFill>
          <a:blip r:embed="rId3"/>
          <a:stretch/>
        </p:blipFill>
        <p:spPr>
          <a:xfrm>
            <a:off x="2143080" y="2571840"/>
            <a:ext cx="429912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616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айте загадку и определите тему занят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Что обозначает знак м на руке - Все о хиромантии."/>
          <p:cNvPicPr/>
          <p:nvPr/>
        </p:nvPicPr>
        <p:blipFill>
          <a:blip r:embed="rId1"/>
          <a:stretch/>
        </p:blipFill>
        <p:spPr>
          <a:xfrm>
            <a:off x="5867280" y="2349360"/>
            <a:ext cx="2793960" cy="3456000"/>
          </a:xfrm>
          <a:prstGeom prst="rect">
            <a:avLst/>
          </a:prstGeom>
          <a:ln w="0">
            <a:noFill/>
          </a:ln>
        </p:spPr>
      </p:pic>
      <p:sp>
        <p:nvSpPr>
          <p:cNvPr id="47" name="Скругленный прямоугольник 4"/>
          <p:cNvSpPr/>
          <p:nvPr/>
        </p:nvSpPr>
        <p:spPr>
          <a:xfrm>
            <a:off x="196920" y="2637000"/>
            <a:ext cx="5688000" cy="187164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голосый он добря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смягчает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05840"/>
            <a:ext cx="91440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слушайте сказку о 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Персональный сайт Кузнецовой И. В. - Алфавит в стихах (часть 1)"/>
          <p:cNvPicPr/>
          <p:nvPr/>
        </p:nvPicPr>
        <p:blipFill>
          <a:blip r:embed="rId1"/>
          <a:stretch/>
        </p:blipFill>
        <p:spPr>
          <a:xfrm>
            <a:off x="2484360" y="3976560"/>
            <a:ext cx="1656000" cy="184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Лента записей из дневника блогера Журнал пользователя yflz1952@mail.ru. Страница 72 :: BlogRider.ru"/>
          <p:cNvPicPr/>
          <p:nvPr/>
        </p:nvPicPr>
        <p:blipFill>
          <a:blip r:embed="rId2"/>
          <a:stretch/>
        </p:blipFill>
        <p:spPr>
          <a:xfrm>
            <a:off x="7885080" y="106200"/>
            <a:ext cx="1122480" cy="858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КлипАрт Детский алфавит на прозрачном фоне. Обсуждение на LiveInternet - Российский Сервис Онлайн-Дневников"/>
          <p:cNvPicPr/>
          <p:nvPr/>
        </p:nvPicPr>
        <p:blipFill>
          <a:blip r:embed="rId3"/>
          <a:stretch/>
        </p:blipFill>
        <p:spPr>
          <a:xfrm>
            <a:off x="6095880" y="3844800"/>
            <a:ext cx="1752840" cy="1730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Что обозначает знак м на руке - Все о хиромантии."/>
          <p:cNvPicPr/>
          <p:nvPr/>
        </p:nvPicPr>
        <p:blipFill>
          <a:blip r:embed="rId4"/>
          <a:stretch/>
        </p:blipFill>
        <p:spPr>
          <a:xfrm>
            <a:off x="131760" y="61920"/>
            <a:ext cx="828720" cy="1166760"/>
          </a:xfrm>
          <a:prstGeom prst="rect">
            <a:avLst/>
          </a:prstGeom>
          <a:ln w="0">
            <a:noFill/>
          </a:ln>
        </p:spPr>
      </p:pic>
      <p:sp>
        <p:nvSpPr>
          <p:cNvPr id="53" name="Скругленный прямоугольник 1"/>
          <p:cNvSpPr/>
          <p:nvPr/>
        </p:nvSpPr>
        <p:spPr>
          <a:xfrm>
            <a:off x="100080" y="1228680"/>
            <a:ext cx="8962920" cy="554184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-были в азбуке буквы, разные — гласные, согласные. Ходили друг к другу в гости. Буквы жили — не тужили, потому что все дружи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ила среди них одна буква, похожая на половинку буквы Ы, только без палочки, с которой никто не дружил. — Что ты за буква? — возмущались они. Это была буква мягкий знак - Ь. Она не обозначала никакого звука, не умела говорить и всегда молчала. Поэтому жилось мягкому знаку плохо, одино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Алфавит Логопедия для всех"/>
          <p:cNvPicPr/>
          <p:nvPr/>
        </p:nvPicPr>
        <p:blipFill>
          <a:blip r:embed="rId1"/>
          <a:stretch/>
        </p:blipFill>
        <p:spPr>
          <a:xfrm>
            <a:off x="468360" y="5549760"/>
            <a:ext cx="1295280" cy="115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Проходной балл. картинки на буквы алфавита логопедическая По…"/>
          <p:cNvPicPr/>
          <p:nvPr/>
        </p:nvPicPr>
        <p:blipFill>
          <a:blip r:embed="rId2"/>
          <a:stretch/>
        </p:blipFill>
        <p:spPr>
          <a:xfrm>
            <a:off x="7667640" y="5549760"/>
            <a:ext cx="115092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Гвозди толевые. Цена: 18,99 руб. - Интернет магазин инструментов в Екатеринбурге TOOLS-TRADE.RU. Купить Гвозди в Екатеринбурге."/>
          <p:cNvPicPr/>
          <p:nvPr/>
        </p:nvPicPr>
        <p:blipFill>
          <a:blip r:embed="rId3"/>
          <a:stretch/>
        </p:blipFill>
        <p:spPr>
          <a:xfrm>
            <a:off x="3929040" y="5549760"/>
            <a:ext cx="1332000" cy="116388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6"/>
          <p:cNvSpPr/>
          <p:nvPr/>
        </p:nvSpPr>
        <p:spPr>
          <a:xfrm>
            <a:off x="114480" y="87480"/>
            <a:ext cx="8962920" cy="53575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-то раз взялись буквы составлять слова - это было их любимое занятие. Решили они составить слово «гвоздь», но у них получилось «ГВОЗД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-то у нас не получается! — говорили буквы. — Звук [д] в слове «гвоздь» мягкий, а у нас тверды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а И вдруг говорит: — Встану я и обозначу мягкость Д, — и быстро пристроилась в конце. Но получилось «гвозди», а нам нужно было составить слово «гвоздь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я встану, — сказала буква Я. Получилось «гвоздя» - опять не то. Все буквы попробовали встать в слово, но никому не удалось составить нужное слово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ФЛЕШМОБ. - Babyblog.ru"/>
          <p:cNvPicPr/>
          <p:nvPr/>
        </p:nvPicPr>
        <p:blipFill>
          <a:blip r:embed="rId1"/>
          <a:stretch/>
        </p:blipFill>
        <p:spPr>
          <a:xfrm>
            <a:off x="2484360" y="49356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Что обозначает знак м на руке - Все о хиромантии."/>
          <p:cNvPicPr/>
          <p:nvPr/>
        </p:nvPicPr>
        <p:blipFill>
          <a:blip r:embed="rId2"/>
          <a:stretch/>
        </p:blipFill>
        <p:spPr>
          <a:xfrm>
            <a:off x="7236000" y="4830840"/>
            <a:ext cx="1463400" cy="205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скворечники Персональный сайт Кузнецовой И В Алфавит Но в труде помощник верный Алфавит в стихах часть"/>
          <p:cNvPicPr/>
          <p:nvPr/>
        </p:nvPicPr>
        <p:blipFill>
          <a:blip r:embed="rId3"/>
          <a:stretch/>
        </p:blipFill>
        <p:spPr>
          <a:xfrm>
            <a:off x="-36360" y="4951440"/>
            <a:ext cx="1611000" cy="170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Детский клипарт Алфавит. Обсуждение на LiveInternet - Российский Сервис Онлайн-Дневников"/>
          <p:cNvPicPr/>
          <p:nvPr/>
        </p:nvPicPr>
        <p:blipFill>
          <a:blip r:embed="rId4"/>
          <a:stretch/>
        </p:blipFill>
        <p:spPr>
          <a:xfrm>
            <a:off x="1403280" y="4854600"/>
            <a:ext cx="1395360" cy="1897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Алфавит изображение букв - форум рэп рисунки"/>
          <p:cNvPicPr/>
          <p:nvPr/>
        </p:nvPicPr>
        <p:blipFill>
          <a:blip r:embed="rId5"/>
          <a:stretch/>
        </p:blipFill>
        <p:spPr>
          <a:xfrm>
            <a:off x="3780000" y="4883040"/>
            <a:ext cx="1919160" cy="1920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Ж - Людмила Павловна Путилина"/>
          <p:cNvPicPr/>
          <p:nvPr/>
        </p:nvPicPr>
        <p:blipFill>
          <a:blip r:embed="rId6"/>
          <a:stretch/>
        </p:blipFill>
        <p:spPr>
          <a:xfrm>
            <a:off x="5580000" y="5094360"/>
            <a:ext cx="1535040" cy="1533600"/>
          </a:xfrm>
          <a:prstGeom prst="rect">
            <a:avLst/>
          </a:prstGeom>
          <a:ln w="0">
            <a:noFill/>
          </a:ln>
        </p:spPr>
      </p:pic>
      <p:sp>
        <p:nvSpPr>
          <p:cNvPr id="64" name="Скругленный прямоугольник 9"/>
          <p:cNvSpPr/>
          <p:nvPr/>
        </p:nvSpPr>
        <p:spPr>
          <a:xfrm>
            <a:off x="138240" y="115920"/>
            <a:ext cx="8826480" cy="46083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го не получается! Что же делать? И тут все вспомнили, что есть еще одна буква – она тихо стоит в сторо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и к нам, мягкий знак, — сказали бук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й знак с радостью согласился помочь буквам и быстро встал в конец слова. И наконец-то получилось слово  «гвоздь». Развеселились буквы, после этого всем захотелось пригласить в гости 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мягкий знак стал дружить с остальными бук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6"/>
          <p:cNvSpPr/>
          <p:nvPr/>
        </p:nvSpPr>
        <p:spPr>
          <a:xfrm>
            <a:off x="1984320" y="1319040"/>
            <a:ext cx="816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5948280" y="1319040"/>
            <a:ext cx="13633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МЬ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С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НЬ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РЬ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ЛЬ</a:t>
            </a:r>
            <a:br>
              <a:rPr sz="44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0" y="115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 по строчкам или послушай взрослого, сравни па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3"/>
          <p:cNvCxnSpPr/>
          <p:nvPr/>
        </p:nvCxnSpPr>
        <p:spPr>
          <a:xfrm>
            <a:off x="2804760" y="1773000"/>
            <a:ext cx="3135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Прямая со стрелкой 6"/>
          <p:cNvCxnSpPr/>
          <p:nvPr/>
        </p:nvCxnSpPr>
        <p:spPr>
          <a:xfrm>
            <a:off x="2804760" y="2707920"/>
            <a:ext cx="3135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Прямая со стрелкой 7"/>
          <p:cNvCxnSpPr/>
          <p:nvPr/>
        </p:nvCxnSpPr>
        <p:spPr>
          <a:xfrm>
            <a:off x="2804760" y="3700080"/>
            <a:ext cx="3135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Прямая со стрелкой 8"/>
          <p:cNvCxnSpPr/>
          <p:nvPr/>
        </p:nvCxnSpPr>
        <p:spPr>
          <a:xfrm>
            <a:off x="2804760" y="4508280"/>
            <a:ext cx="3135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Прямая со стрелкой 9"/>
          <p:cNvCxnSpPr/>
          <p:nvPr/>
        </p:nvCxnSpPr>
        <p:spPr>
          <a:xfrm>
            <a:off x="2804760" y="5444640"/>
            <a:ext cx="3135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мел"/>
          <p:cNvPicPr/>
          <p:nvPr/>
        </p:nvPicPr>
        <p:blipFill>
          <a:blip r:embed="rId1"/>
          <a:stretch/>
        </p:blipFill>
        <p:spPr>
          <a:xfrm>
            <a:off x="0" y="15840"/>
            <a:ext cx="4500720" cy="32688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7"/>
          <p:cNvSpPr/>
          <p:nvPr/>
        </p:nvSpPr>
        <p:spPr>
          <a:xfrm>
            <a:off x="-324000" y="4348080"/>
            <a:ext cx="542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</a:t>
            </a: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мел</a:t>
            </a: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мель"/>
          <p:cNvPicPr/>
          <p:nvPr/>
        </p:nvPicPr>
        <p:blipFill>
          <a:blip r:embed="rId2"/>
          <a:stretch/>
        </p:blipFill>
        <p:spPr>
          <a:xfrm>
            <a:off x="4500720" y="3284640"/>
            <a:ext cx="4657680" cy="357336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4946760" y="1235160"/>
            <a:ext cx="376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 сл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elka2"/>
          <p:cNvPicPr/>
          <p:nvPr/>
        </p:nvPicPr>
        <p:blipFill>
          <a:blip r:embed="rId1"/>
          <a:stretch/>
        </p:blipFill>
        <p:spPr>
          <a:xfrm>
            <a:off x="5292720" y="81000"/>
            <a:ext cx="3851280" cy="61959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7"/>
          <p:cNvSpPr/>
          <p:nvPr/>
        </p:nvSpPr>
        <p:spPr>
          <a:xfrm>
            <a:off x="0" y="865080"/>
            <a:ext cx="54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ел</a:t>
            </a: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"/>
          <p:cNvPicPr/>
          <p:nvPr/>
        </p:nvPicPr>
        <p:blipFill>
          <a:blip r:embed="rId2"/>
          <a:stretch/>
        </p:blipFill>
        <p:spPr>
          <a:xfrm>
            <a:off x="9360" y="2852640"/>
            <a:ext cx="50929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Картинка 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780000" cy="4005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1173582502_f.jpg"/>
          <p:cNvPicPr/>
          <p:nvPr/>
        </p:nvPicPr>
        <p:blipFill>
          <a:blip r:embed="rId3"/>
          <a:stretch/>
        </p:blipFill>
        <p:spPr>
          <a:xfrm>
            <a:off x="2484360" y="3903840"/>
            <a:ext cx="6659640" cy="29541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3714840" y="1484280"/>
            <a:ext cx="54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</a:t>
            </a: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к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-  гал</a:t>
            </a: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07:18:23Z</dcterms:created>
  <dc:creator>комп-л</dc:creator>
  <dc:description/>
  <dc:language>en-US</dc:language>
  <cp:lastModifiedBy>Александра</cp:lastModifiedBy>
  <dcterms:modified xsi:type="dcterms:W3CDTF">2021-02-02T05:42:13Z</dcterms:modified>
  <cp:revision>48</cp:revision>
  <dc:subject/>
  <dc:title>Слайд 1</dc:title>
</cp:coreProperties>
</file>