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74F-30DA-4040-A5A9-09BCCE69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60E-56E5-49BA-90E1-37E7DBB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007E-BB2F-4877-96C6-08E8F16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1BE1-CD9B-47BD-AA01-DB35EAF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EDD6E-5395-43A5-95DD-9D0C3A0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243F3-CE8A-4321-BCE5-215DC1B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70C1E-6493-4107-95A7-7DF4797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1D06-12B7-48C9-8391-19DB47D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2467F-DE6F-409A-B833-6526B4CE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DD80F-1BCE-448C-B2EB-0357A940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07AB7-1682-4C69-8C15-33F88FCE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F05-18E0-4C95-9333-2FB3F332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A57-4C98-482E-A432-C062AE8F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51E-E564-4D64-A35E-79BA58BD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9C9E-F38E-4508-B37B-C6262F3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1374-978E-4F36-AB4E-41E6A3EE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4BC8-DED5-46AB-A922-CFE08893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1A4E-2E78-4BF9-A340-3EABCA1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8DB-91B2-4FEC-9D8D-E38704DA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752-01E3-46BC-B5FD-D60C8EA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0E8-21E6-4A01-A21B-BF2D00A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1C1-2983-46FE-AB95-D012165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74B5-FFD4-4AD7-A1F0-706E2CB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DB98-8BB0-40DC-B83C-AD5F7C58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66D-0566-4B32-BC0D-4695BF83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EAFF-ABBD-4441-B1EC-05F77F09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770A-B808-47A0-9619-E87C45D9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DC24-93BE-449F-A544-1283E05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F474-C9FF-4069-9658-4D66E2D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575E-458F-40D2-A8D9-D84EA4A9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071F-43D2-484A-A891-D4E4C81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25F-9397-40ED-A5EF-A2D0574D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0938-656B-44BF-8BCD-8E51CA2D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70BF-D692-4678-AAEF-7DF0A45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EE0C-084C-4D12-B283-F2327CB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69C7-F5A0-4845-95FD-F310C7E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2980-C6B9-469F-AE2E-7C65E80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4143-5600-4393-B8F3-D85A7491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03F9-F06D-4CF3-ADA0-8C897489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63CB-A184-43D4-9829-FF4FA969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89C0-4788-4F42-A1AD-904F1E6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2871-CF1A-45E9-B8C1-03E383A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9A-2542-45D0-B50A-FB141C8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0428-68C4-4019-977F-B3FD932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D6AE-E01B-4EE8-86D3-73CF34D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CE87-B540-47A0-9E68-0D022EDA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5852-800C-4140-811E-22D69F8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9B7F-CBCC-4F44-9958-69394BB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1BA5-7B9E-4168-AF1A-C6B6A9E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A4F9-0600-48A9-8F9B-22B8FFC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6487-3D09-4D3F-A43E-09146E94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AF87-A8A0-410D-8A6D-11AB6B41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0FF1-5904-49C0-AAA1-174AC2F6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0CD-4DA6-41CA-9056-CAA2621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954E-85B7-4C8D-8542-493BE00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D94DE-C632-48B9-A927-2F4D4AC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4983-9C59-4385-A2EC-2B7315F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AA42-6967-41FE-910D-B57614E5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B3C6-EB31-401C-AB12-03A03AF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5932-A650-4A8F-B007-CF132AC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3519-A886-4E7C-AED8-A15C8D0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3268-E8EA-4900-8D2E-B58C32E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9464-DC2C-45D3-B59F-F2F0FC7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F8FF-FE33-4E13-AABE-26B7454D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273-FFB6-40FA-A511-5ABAFEA4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50F0-08E1-4D48-948A-BA58549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2865-AF32-4BF0-AB0E-DF7C31B4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B304-C524-460F-B7E0-8DEB0B5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1015-36EB-4A0B-A2A9-869E7F4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4079F-1752-4674-8850-797B22F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89BD1-D83B-4A5B-A256-0BDFE0F7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11167-D3AE-491A-B1AC-3AE6E60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7D37-D72D-465B-9AD2-11A8CC5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990A-6F10-4B95-97DC-612345D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595E-9678-41EC-96B5-0FC28E2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4B5-1982-49B1-8FE4-423B413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2B6C-8EB2-4C8B-90C7-0553DF87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41665-240C-4C60-AA0C-557DE05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B5F67-97A7-4938-9598-3FC037D3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F010-2517-4794-9EAA-E678E23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268A-B84C-4C5C-AAC3-38BEA6B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5200-0216-475F-A655-EE22643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CA5A-136C-4E5E-A19C-4075C10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7C38-6B9D-465D-BBA8-4C16727D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6E7A7-FC25-48CC-BB57-58D58060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D0B97-A1E9-4993-95B5-BA552A6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205-5CC1-49FE-8FA4-3920DF7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EFD4-0C0D-4F1C-B33A-B717E5A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87D6-2925-4401-8D1C-759A228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87A4-5BB5-4831-A37A-44D25B12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5AE9-C843-45BF-B387-6CFB587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6CA6-1B4A-4584-951A-A4CB92D8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2EB1-23FA-424A-8BAE-0FF08BAA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01E7-B5F2-45D8-BF4F-3F237AB8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7660B-7D96-450E-B494-314E4571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5B58F-E936-462C-8914-09520DF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E1DB-FBE3-4A63-AC48-62581A10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D9A-B480-4209-8330-D901FE0D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B888-9CB1-407D-B87E-8A64C10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8BC7-2366-4078-B1EE-1F5A770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1618-80B7-4371-8222-E045A03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A7A3-8B12-4501-9E18-2815B81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30AE-9189-418B-B479-CC83BA0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187F-4DF5-4D60-9032-F269B34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EC58-BB6C-4E5E-8C66-9A8C959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10C76-E952-48EC-B028-4D859963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118DD-B561-4AF6-B9AD-1A9DB3F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A0933-7BFF-47A8-83A2-120BBBA7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BA09-43F8-4CFD-90A9-465CA358C5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29B-BCBD-4C7B-8898-B86AC0444D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97E-7DA5-4530-B79B-5DD393DE23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B2C-0A8C-4927-A46D-D8501B18F7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B3C-8843-4EBC-A792-F310EC782A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F4A-B80B-4E77-BF40-A8D97DD7B2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A5C-250E-4715-8412-7D6C75E063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C636-6002-4C32-8231-9BA473A3EE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0C70-B766-4B62-9CC8-AACAF9BCF7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52280" y="3859200"/>
            <a:ext cx="863784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55280" y="1125360"/>
            <a:ext cx="812484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43329"/>
                </a:solidFill>
                <a:latin typeface="Franklin Gothic Book"/>
              </a:rPr>
              <a:t>Город Городец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3851280" y="5516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воспитатель Натертыш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45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D:\Городец\25.tif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9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17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D:\Городец в 9-и веках\Виды Городца - Кирилл Скоробогатко-декабрь-2005\DSC_7819.JPG"/>
          <p:cNvPicPr/>
          <p:nvPr/>
        </p:nvPicPr>
        <p:blipFill>
          <a:blip r:embed="rId1"/>
          <a:stretch/>
        </p:blipFill>
        <p:spPr>
          <a:xfrm>
            <a:off x="185112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В РЕФЕРАТ.jpg"/>
          <p:cNvPicPr/>
          <p:nvPr/>
        </p:nvPicPr>
        <p:blipFill>
          <a:blip r:embed="rId1"/>
          <a:stretch/>
        </p:blipFill>
        <p:spPr>
          <a:xfrm>
            <a:off x="20779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В РЕФЕРАТ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В РЕФЕРАТ 002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22.jpg"/>
          <p:cNvPicPr/>
          <p:nvPr/>
        </p:nvPicPr>
        <p:blipFill>
          <a:blip r:embed="rId1"/>
          <a:stretch/>
        </p:blipFill>
        <p:spPr>
          <a:xfrm>
            <a:off x="1720800" y="0"/>
            <a:ext cx="57006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DSC_7790.JPG"/>
          <p:cNvPicPr/>
          <p:nvPr/>
        </p:nvPicPr>
        <p:blipFill>
          <a:blip r:embed="rId1"/>
          <a:stretch/>
        </p:blipFill>
        <p:spPr>
          <a:xfrm>
            <a:off x="188748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НАЛИЧНИКИ.jpg"/>
          <p:cNvPicPr/>
          <p:nvPr/>
        </p:nvPicPr>
        <p:blipFill>
          <a:blip r:embed="rId1"/>
          <a:stretch/>
        </p:blipFill>
        <p:spPr>
          <a:xfrm>
            <a:off x="223920" y="0"/>
            <a:ext cx="86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промыслы.tif"/>
          <p:cNvPicPr/>
          <p:nvPr/>
        </p:nvPicPr>
        <p:blipFill>
          <a:blip r:embed="rId1"/>
          <a:stretch/>
        </p:blipFill>
        <p:spPr>
          <a:xfrm>
            <a:off x="831960" y="0"/>
            <a:ext cx="7480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:\Городец в 9-и веках\На фабрике Городецкая роспись - Дмитрий Веселов-2005\DSCF0873.JPG"/>
          <p:cNvPicPr/>
          <p:nvPr/>
        </p:nvPicPr>
        <p:blipFill>
          <a:blip r:embed="rId1"/>
          <a:stretch/>
        </p:blipFill>
        <p:spPr>
          <a:xfrm>
            <a:off x="826920" y="0"/>
            <a:ext cx="66294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3:56Z</dcterms:created>
  <dc:creator>FuckYouBill</dc:creator>
  <dc:description/>
  <dc:language>en-US</dc:language>
  <cp:lastModifiedBy>1</cp:lastModifiedBy>
  <dcterms:modified xsi:type="dcterms:W3CDTF">2021-02-16T10:43:39Z</dcterms:modified>
  <cp:revision>13</cp:revision>
  <dc:subject/>
  <dc:title>Фотоальб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230000000000010290310207f7000400038000</vt:lpwstr>
  </property>
</Properties>
</file>