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2A62-8BAC-460A-AF80-15A38C943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1CF3-4CD4-482C-8729-71421404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EC4E4-5EF1-4B1B-A924-40E50198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A63647-5953-4A5C-B721-B084A813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6B61B3-97A4-449D-B3C4-BB7EC02E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028E63-F46A-4934-B7DD-6E9E9BD2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72AD9-A5B7-4BC3-98A8-BD431174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B6082D-18FF-41CF-8E01-7034E2ED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D74BBC-091D-4902-B846-C7847B18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144A2-DE7E-4A20-B316-F69FCB91A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8911A8-3E35-438F-95EA-2E4A7B181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F502-F5E9-4C5C-ABC5-57226B1FC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480C-E34A-4AC1-93FC-48E1051B3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55D5-6386-4999-B7CD-C5FA4E267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73EAD-49D7-44C2-A2AB-3533C58D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69BE-9678-4AAD-913B-6930EE1D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1F2A-9B19-45D6-BF4D-4F61FCE9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DCF4-6F7B-465B-B306-4610CB8C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31DC-8FD9-435B-8A1B-58CB3402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6901-557D-4F50-868C-C919175A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F5AD-69BB-408D-8C62-7E4D9AC2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EA51-5433-4A8E-B4F4-B5A55309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2CF4-49FC-42A5-99F7-24F6E765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2568-03F9-468A-840C-41E44361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227C-ABBE-4FE8-BFFF-7138566B7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BA1F-C3DB-478B-8B2A-8FA7005B9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6E134-7570-4B70-ACB2-E0107AA09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E66B0-D437-4846-88E1-6306304F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71993-A283-4858-8640-EE5744C1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FFEFE-C240-40B7-9CE8-8D07FEDF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B29F9-A8A7-4AD0-BEEF-A5735B22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6E01-1C5A-451E-A3AD-3D3DBADF0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191E6-91D5-4D9A-891A-1CA7B985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92ED4-7A32-4B6D-96EC-D3CF6C88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24BD0-9773-4D6C-9935-BD93ED59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95928-7533-4A0C-B9C8-37B80C4E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7E874-019E-4265-97D0-22F65CC5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7F14D-DAE3-472A-A292-066917F1E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AB65E-A4C1-4A9B-BA36-4229A1131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3749D-C086-47EE-82F7-FF5CD3DB6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7D402-89C2-4BFD-B761-409473D9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B117F-92FD-40A0-BB15-4488E1A0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0DE1-7B98-4ECD-BB71-D24FF06A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4AAF2-CFAE-489D-9A17-466AC6CF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EE81C-1911-4F3D-BCF5-F420C393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74DF7-B08E-4885-9B24-FFCDC955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B7512-5314-4F35-AB2D-A7AD6BAE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F4052-3C5A-4BDF-9B59-D840D508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263EB-72B6-4CE3-A431-BDEEC527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983F5-6E51-475B-99D3-E65AF2D1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424F4-DE1D-4408-ABD1-3C67D1E3E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4AEE2-FA3F-4C42-93F0-B25808CC1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81AE8-A034-4247-AA20-E788FFD60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46D1-2F65-461F-80C3-E9099B3D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01FDA-6AD5-4B3F-84CF-1B8415A7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72F2D-F7D4-424C-918B-5F277AF3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0E0F3-5EB1-463A-A113-3F1D8F9C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CA864-C1EE-4CFB-A736-CA203977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634AA-A284-47EE-BCF7-065323FC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0C601-7224-4622-BEBE-E07E87C6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5EB12-2C76-496E-A457-971E07A9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8F325-A8EB-4D5E-AAA4-00362F22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6AE38-765B-4776-ABC7-74504659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B7356-D6B4-4A6C-8ECC-42B40057F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D365-37E9-41BA-8EF5-8C58B271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2D82A-7C8D-4A34-8E35-4EA5D2ACD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9B45B-3F0C-4719-8DCE-6245C5336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6F70D-A013-4EF9-A812-E00B2FBA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EDD93-2B15-4881-99C8-F7401654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CAF10-0B46-47F6-A557-C7DC5A0C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2ED9B-F35F-44A1-B5C1-A9CBF885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D7C81-FE84-4C1A-A841-6146E3F6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44B6F-27EE-4CCF-819F-6EE334C1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1A6AF-E8AC-4984-A44C-37652392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1922D-ECE8-4353-ACB6-3D4BF4A2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3D10-3E15-4F95-9DC4-5C82E3B5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7BA75-0CE9-4350-903A-B2D519CD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70C48-A81A-4513-A16D-63847F770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E5E2A-77EF-460F-BAE9-707132FB3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0E7CD-B34B-4238-B257-A6C3BAFF2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F2F25-3B75-434A-B846-E224327E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EBE20-1088-4504-AC42-D1BE80CF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1895A-5F51-4B7D-918B-9C061050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6EF95-F412-4986-A98B-3A0749B1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74402-9F87-4910-AA55-63913D81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D7B7E-42AD-4104-A725-AB89EE4D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B601-17B6-4738-AD1A-25C3861F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D461D-E5F3-48ED-B3B2-569AB0C1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6A3B1-E354-42A8-BB54-4630A32F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064A0-FCFB-4D82-BC22-B7304645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7A638-F5E4-480E-B67F-54A331F6D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89663-880F-4909-B888-B299E6D17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4631C-8DCB-461E-A1E1-8612FDA7D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92C9D-2367-4F5B-AE8E-9CC1DAFD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9B3E4-DCCE-4D9F-8447-C42A6F41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F0AED-39B9-4AD7-8021-8060930B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5BD54-AF33-4703-B6E1-9365C3BE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4C6D-6971-4D2D-BCA3-27836329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ADFB8-ECD6-4690-874B-2D6D1818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2A844-FBB7-47D2-A2C4-85A41458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E296D-A616-4CD4-97DF-37BB4578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B36D5-B2F0-4E6A-8312-BB7C4F3F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B1844-9D4F-403A-A763-3B666B61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4907F-67D6-41DD-9D50-EEBDBA11E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F0CD5-EC8B-41BB-AABD-8E81BF0EE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BCFC95-B919-4DEE-A9BC-E65668F2A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7F316-3C51-42CC-B3C0-643882CA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4A9BF-11AF-4DD5-BC32-3BB66C2E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4EE0-1A41-4AD6-9BFE-8438AE2F1E4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CCCB-39FF-42CE-94D5-7AF4D372451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144A-C591-4231-B52F-15A1D9B456E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1E9A-C8CC-4D27-A2F2-4561CF14AD6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856C-4F87-4668-9810-1FADCD4D90B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A82B-49A4-4CC0-BF24-DCD2433F3E0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306A-648C-4A4A-BD90-E02EA5F69D9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2297-D18E-4914-9EBA-CAD975653F5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F52B-AAB9-450E-8FFE-19C9FEB2216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152280" y="3859200"/>
            <a:ext cx="8637840" cy="14875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755280" y="1125360"/>
            <a:ext cx="8124840" cy="201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443329"/>
                </a:solidFill>
                <a:latin typeface="Franklin Gothic Book"/>
              </a:rPr>
              <a:t>Город Городец</a:t>
            </a:r>
            <a:endParaRPr b="0" lang="en-US" sz="8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TextBox 3"/>
          <p:cNvSpPr/>
          <p:nvPr/>
        </p:nvSpPr>
        <p:spPr>
          <a:xfrm>
            <a:off x="3851280" y="551664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ила воспитатель Натертышева О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Рисунок 1" descr="45.t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D:\Городец\25.tif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902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Рисунок 1" descr="17.t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3" descr="D:\Городец в 9-и веках\Виды Городца - Кирилл Скоробогатко-декабрь-2005\DSC_7819.JPG"/>
          <p:cNvPicPr/>
          <p:nvPr/>
        </p:nvPicPr>
        <p:blipFill>
          <a:blip r:embed="rId1"/>
          <a:stretch/>
        </p:blipFill>
        <p:spPr>
          <a:xfrm>
            <a:off x="1851120" y="0"/>
            <a:ext cx="490212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Рисунок 1" descr="В РЕФЕРАТ.jpg"/>
          <p:cNvPicPr/>
          <p:nvPr/>
        </p:nvPicPr>
        <p:blipFill>
          <a:blip r:embed="rId1"/>
          <a:stretch/>
        </p:blipFill>
        <p:spPr>
          <a:xfrm>
            <a:off x="2077920" y="0"/>
            <a:ext cx="498636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Рисунок 1" descr="В РЕФЕРАТ 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Рисунок 1" descr="В РЕФЕРАТ 002.jpg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7658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Рисунок 1" descr="22.jpg"/>
          <p:cNvPicPr/>
          <p:nvPr/>
        </p:nvPicPr>
        <p:blipFill>
          <a:blip r:embed="rId1"/>
          <a:stretch/>
        </p:blipFill>
        <p:spPr>
          <a:xfrm>
            <a:off x="1720800" y="0"/>
            <a:ext cx="57006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Рисунок 1" descr="DSC_7790.JPG"/>
          <p:cNvPicPr/>
          <p:nvPr/>
        </p:nvPicPr>
        <p:blipFill>
          <a:blip r:embed="rId1"/>
          <a:stretch/>
        </p:blipFill>
        <p:spPr>
          <a:xfrm>
            <a:off x="1887480" y="0"/>
            <a:ext cx="536724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Рисунок 1" descr="НАЛИЧНИКИ.jpg"/>
          <p:cNvPicPr/>
          <p:nvPr/>
        </p:nvPicPr>
        <p:blipFill>
          <a:blip r:embed="rId1"/>
          <a:stretch/>
        </p:blipFill>
        <p:spPr>
          <a:xfrm>
            <a:off x="223920" y="0"/>
            <a:ext cx="869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Рисунок 1" descr="промыслы.tif"/>
          <p:cNvPicPr/>
          <p:nvPr/>
        </p:nvPicPr>
        <p:blipFill>
          <a:blip r:embed="rId1"/>
          <a:stretch/>
        </p:blipFill>
        <p:spPr>
          <a:xfrm>
            <a:off x="831960" y="0"/>
            <a:ext cx="748008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D:\Городец в 9-и веках\На фабрике Городецкая роспись - Дмитрий Веселов-2005\DSCF0873.JPG"/>
          <p:cNvPicPr/>
          <p:nvPr/>
        </p:nvPicPr>
        <p:blipFill>
          <a:blip r:embed="rId1"/>
          <a:stretch/>
        </p:blipFill>
        <p:spPr>
          <a:xfrm>
            <a:off x="826920" y="0"/>
            <a:ext cx="6629400" cy="6669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9:43:56Z</dcterms:created>
  <dc:creator>FuckYouBill</dc:creator>
  <dc:description/>
  <dc:language>en-US</dc:language>
  <cp:lastModifiedBy>1</cp:lastModifiedBy>
  <dcterms:modified xsi:type="dcterms:W3CDTF">2021-02-16T10:43:39Z</dcterms:modified>
  <cp:revision>13</cp:revision>
  <dc:subject/>
  <dc:title>Фотоальбо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6230000000000010290310207f7000400038000</vt:lpwstr>
  </property>
</Properties>
</file>