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B08-526A-4AA1-BC47-B214B525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84C-0313-4B1B-819E-60B87468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86FE7-F74A-4E9C-A9C5-08B027D3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8961E-FFF0-43C2-BBFC-EE03EC0F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1825A-143A-4CC8-BA2B-FD7E5313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B70C9-D75E-4E25-BE9B-F2C51901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42E4C-B227-4F63-A38A-9216AAE5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6267C-B23F-4DCF-A8F2-65B566BE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717AD-224E-4A21-9274-B3CD7D8B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B606D-2239-48D7-B54B-5E4C64D1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16119-B0DC-4512-BCAF-2D67E860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141-EB98-48CD-9357-95C5062A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118-29B9-4802-A09D-1C7F8580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80F7-487B-43C9-A7F8-3576400D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247A-6176-4373-A2CC-B8DA75FA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8E26-B22B-4B7C-B5A9-1D0DC7AF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0A97-058B-4E51-89F7-D0286AAC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3AB0-AA7F-466B-9585-E489A2A5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64EB-5474-4D43-A161-04FD4B9F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52C2-26AE-4113-87E3-5EB8CDA8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F57-3823-49E9-8FF5-30FD144D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C47B-8E69-4A17-986D-B6AE79FA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2734-FA68-4C22-97D5-A49ED66A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0FE4-DA5D-480F-A17C-B935DD3A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6997-8E1C-4051-A85D-94A67617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A8D0-FE33-4233-AB7D-1A5BF7FF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FCCD8-4F6D-4B56-8DE7-A980B3A6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5F4E1-4C2C-4E50-A5FD-52598CA2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FF111-E23D-4658-BB4D-D047DE32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0ACFD-6EFF-4284-B8EE-FC458264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4ABA6-C2C8-4D83-ADF0-A3B14DFE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9BE-4F4A-427B-B1CB-E8FDA5A4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859C9-DA10-4F96-B900-9356035C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3E93B-B3D0-481B-8A5D-A1534912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2C253-1544-489B-BD78-3BD7C748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17472-647A-446B-B81D-33C712B1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5F8FA-CCC9-42AD-B61D-3E70E534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31F50-3D99-4812-AAF8-5983FA69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BA549-A2CD-4B9E-9786-3EC111ED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15BF0-73F7-4831-A844-39E978B9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05CF1-ECFA-487C-8EEC-4391A756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10639-60E4-4070-8525-13C88A11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514B-BC73-48D4-B336-83A73A06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0CDCA-6484-45BE-8E23-9D6C8E7A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91CCE-B84F-4809-BF5D-3F5240F5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643AA-FFEB-47CB-A33D-EB1DB2C5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656FC-CA03-4BD1-8AB5-4BAD71B3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0E732-DE63-47A3-A3A3-7C808305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AD44B-4B12-4520-8E9B-B1C6E644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47545-FCC6-4405-99F7-4ED11517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D6E15-A9E4-47DF-BC89-978EE4E7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AAA1B-8946-440A-A580-80189012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3848F-95E0-4500-B41B-360CFB0E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CF11-E411-44CA-8D4F-222A0E5A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CB540-653E-4869-B06E-B8D5A8EC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4FB94-4397-47D9-B77E-31430330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C6600-E9F3-4799-B6BF-C1E3D885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5424D-BD63-4C19-98AE-A346F94A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635BF-73C6-4C2F-89A1-75B971AC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1B4D6-9656-420D-98A2-7361EDAC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85DEF-DE56-4F7D-8C99-4A9A586F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7B647-034F-4412-BC37-B640E5E2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B7E07-7E90-4BC9-97E2-B4DC1188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D25F0-45E5-40C7-B99E-F8A2E836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8CB-FB8C-442D-95F8-7B2BA322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360E4-50C4-460C-905E-286063EA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4FD79-D6BD-4A37-8D29-E382C3F6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565B2-AA7C-4DE7-AF5F-2DE003F5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01055-894B-4861-9359-57E78D79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39D05-5F37-4E5E-98D8-C3E0313E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BD566-020E-4F2A-A07F-E110487A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DABE8-DC90-4FBC-82F8-C215AD1F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3DCD8-88F9-42BB-B007-1824A831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E28C2-4EA4-40BA-A469-D647A370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9C1FF-E492-4CBE-8D41-E51599F9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EBB-E0A6-4DAA-BCC1-763E19D8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6F9FC-E7FF-4D48-9AA7-0F0DFEA9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06B29-51F9-4E55-8AE1-98B7D373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27736-D532-4235-BAEA-A6594BFF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4B3F8-F0EB-4CD5-9534-91CEC40E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46EFC-3214-4CAB-BE6D-0C2EBD51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3EC09-25A4-44C0-B87D-69BF6427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4CAB5-22A4-4D81-AA7B-F179A217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A059C-A64D-4203-BFFE-DFAB7D44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844C2-3BA3-45FF-849A-3B292D01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C026A-6B41-4343-BFF5-51980D8F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9954-8008-4F23-91BA-7F3D1A3F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14661-B9CF-41CC-A9D2-C7725CD2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DCCF2-F8AF-4DA9-B752-C0867509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7742D-2DB4-4B3F-870D-E616ECF2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FE95D-213F-4776-82A2-7D6D6D46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0E88F-5B96-4B09-96F6-723399E7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35F6A-0CCA-4367-9403-53221823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A0A92-2A23-4C46-85D5-5D48E28A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20277-9529-4EB4-B5C5-F4A945EF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C19C5-6698-46F4-878C-2E4CF8D4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25DA6-1DA9-4224-9FA5-88BCF2F6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727-A383-4DA9-8A46-472A925E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032EC-655C-4BE7-90A3-8E6C9B63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22033-D462-4A08-ADE2-8AD05E27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C18E9-E563-42BA-B46E-F741301D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267AE-2C2F-48F6-AF8B-A77B76B6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34352-9277-4373-AEAF-F203026C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63B56-1557-4769-9AFE-68C15EF6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C9213-32EF-48B8-A112-5E1BF467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A12CC-EBA6-4AA2-8A49-6CFFDFC9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0D5B7-6DB3-49C5-A638-EB4404FE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72B58-C32E-4D94-BBBE-030AD212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AD79-A267-4A33-BE43-0C9DBCA6C4A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1E50-3084-45F2-AF10-AC44EBF734E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8F1B-EB41-4D4B-BC1B-82445AB8B23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72B9-887A-43CA-94B5-0D37605D038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67B6-2BCE-4212-AF60-E8B3CDCAB87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D2CD-1EB2-4CF2-B2E6-9762CE6C4C3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D884-7BF2-4A96-A3E5-B55303BFEF6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136A-307E-4418-A472-6913286097E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A003-F050-448A-B606-D5EFD04FAEF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52280" y="3859200"/>
            <a:ext cx="8637840" cy="14875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755280" y="1125360"/>
            <a:ext cx="8124840" cy="20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43329"/>
                </a:solidFill>
                <a:latin typeface="Franklin Gothic Book"/>
              </a:rPr>
              <a:t>Город Городец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3851280" y="55166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 воспитатель Натертышева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Рисунок 1" descr="45.t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D:\Городец\25.tif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902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Рисунок 1" descr="17.t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3" descr="D:\Городец в 9-и веках\Виды Городца - Кирилл Скоробогатко-декабрь-2005\DSC_7819.JPG"/>
          <p:cNvPicPr/>
          <p:nvPr/>
        </p:nvPicPr>
        <p:blipFill>
          <a:blip r:embed="rId1"/>
          <a:stretch/>
        </p:blipFill>
        <p:spPr>
          <a:xfrm>
            <a:off x="1851120" y="0"/>
            <a:ext cx="490212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1" descr="В РЕФЕРАТ.jpg"/>
          <p:cNvPicPr/>
          <p:nvPr/>
        </p:nvPicPr>
        <p:blipFill>
          <a:blip r:embed="rId1"/>
          <a:stretch/>
        </p:blipFill>
        <p:spPr>
          <a:xfrm>
            <a:off x="2077920" y="0"/>
            <a:ext cx="498636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1" descr="В РЕФЕРАТ 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Рисунок 1" descr="В РЕФЕРАТ 002.jpg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1" descr="22.jpg"/>
          <p:cNvPicPr/>
          <p:nvPr/>
        </p:nvPicPr>
        <p:blipFill>
          <a:blip r:embed="rId1"/>
          <a:stretch/>
        </p:blipFill>
        <p:spPr>
          <a:xfrm>
            <a:off x="1720800" y="0"/>
            <a:ext cx="57006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1" descr="DSC_7790.JPG"/>
          <p:cNvPicPr/>
          <p:nvPr/>
        </p:nvPicPr>
        <p:blipFill>
          <a:blip r:embed="rId1"/>
          <a:stretch/>
        </p:blipFill>
        <p:spPr>
          <a:xfrm>
            <a:off x="1887480" y="0"/>
            <a:ext cx="536724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1" descr="НАЛИЧНИКИ.jpg"/>
          <p:cNvPicPr/>
          <p:nvPr/>
        </p:nvPicPr>
        <p:blipFill>
          <a:blip r:embed="rId1"/>
          <a:stretch/>
        </p:blipFill>
        <p:spPr>
          <a:xfrm>
            <a:off x="223920" y="0"/>
            <a:ext cx="869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1" descr="промыслы.tif"/>
          <p:cNvPicPr/>
          <p:nvPr/>
        </p:nvPicPr>
        <p:blipFill>
          <a:blip r:embed="rId1"/>
          <a:stretch/>
        </p:blipFill>
        <p:spPr>
          <a:xfrm>
            <a:off x="831960" y="0"/>
            <a:ext cx="74800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D:\Городец в 9-и веках\На фабрике Городецкая роспись - Дмитрий Веселов-2005\DSCF0873.JPG"/>
          <p:cNvPicPr/>
          <p:nvPr/>
        </p:nvPicPr>
        <p:blipFill>
          <a:blip r:embed="rId1"/>
          <a:stretch/>
        </p:blipFill>
        <p:spPr>
          <a:xfrm>
            <a:off x="826920" y="0"/>
            <a:ext cx="6629400" cy="666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9:43:56Z</dcterms:created>
  <dc:creator>FuckYouBill</dc:creator>
  <dc:description/>
  <dc:language>en-US</dc:language>
  <cp:lastModifiedBy>1</cp:lastModifiedBy>
  <dcterms:modified xsi:type="dcterms:W3CDTF">2021-02-16T10:43:39Z</dcterms:modified>
  <cp:revision>13</cp:revision>
  <dc:subject/>
  <dc:title>Фотоальб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6230000000000010290310207f7000400038000</vt:lpwstr>
  </property>
</Properties>
</file>