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F658-056F-4047-BDAE-C0EB8F553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5F8B-C298-406F-8A89-0B6A498D9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6B11-1EF8-487B-8E07-F05B72DA3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D59C-2E0E-45AA-8D1D-653F03607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E82D-5810-4177-8F48-5214AA36B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785D-E15E-4ECC-9048-7EEF58C5D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0EA5-B59A-4DA7-A67E-2F64B43C2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542B-27E1-4165-9CFB-E748ABCC6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6542-A7B4-4D4A-A34C-6B95B4857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0058-4DBC-4FFE-9AA2-D4322685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614A-5AFC-4A80-AE61-E91794C3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7F69-2568-4C0F-A114-24D928DF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761D7-A10F-45C0-AE80-F6224DD26F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Дети и дорога 015.jpg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9280" y="3860640"/>
            <a:ext cx="640872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omic Sans MS"/>
              </a:rPr>
              <a:t>Дети и дорог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516720" y="6165720"/>
            <a:ext cx="23032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ерезняк Г.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Дети и дорога 00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же если вы переходите проезжую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по пешеходному переходу,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ните о движущемся транспорте.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итель может не успеть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ормозить или выехать на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речную полосу движения, что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ет причиной ДТ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Дети и дорога 00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льзя начинать переход, если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леный сигнал включен давно и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смениться на красный до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о как вы завершите движение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дорогу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ители автомобилей могут вас не видеть и тронуться с места. Дождитесь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ющего включения зеленого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гнала и только после этого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йте перехо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от, что может произойти на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роге, если ты будешь переходить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кресток по диагонали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Дети и дорога 00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шеход должен переходить дорогу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го по пешеходному переходу,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ствуясь сигналам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шеходного светофора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конечно же умеешь правильно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ходить дорогу, но давай мы с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бой повторим схему безопасного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хода проезжей части по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емному пешеходному переход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Дети и дорога 0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новка на середине проезжей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и опасна, поэтому нужно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имательно изучить обстановку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ще до начала перехода, стараясь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рать такой момент, когда можно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т совершить переход без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ново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Дети и дорога 0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Дети и дорога 0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жняя ступенька  не лучшее место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движения автобуса. Двери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т приоткрыться, и ты выпадешь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оезжую часть. Обязательно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о проходить в салон, даже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ты выходишь на следующей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новке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1" descr="Дети и дорога 0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да во время движения автобуса нужно держаться за поручни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оможет избежать травм и прочих неприятност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рузья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ссмотрите следующие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ртинки и расскажите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то допускает нарушения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авил дорожного движения и как их избежа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" descr="Дети и дорога 0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Дети и дорога 0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1" descr="Дети и дорога 0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1" descr="Дети и дорога 0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мяч выкатился на проезжую часть,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жать за ним нельзя. Стоя на тротуаре,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ждитесь его полной остановки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олько когда рядом не будет машин можно поднять его. А лучше всего обратиться за помощью к взрослы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Дети и дорога 0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гда нельзя выходить на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зжую часть из-за препятствия,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что-то или кто-то загораживает обзор и мешает убедиться в отсутствии опасности.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новитесь у края тротуара и осторожно загляните в арку. Только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едившись, что угрозы нет, можно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ходить на проезжую ча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Дети и дорога 0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идев друзей, вы не должны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ывать, что находитесь на дороге,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не на детской площадке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попасть на противоположную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рону, необходимо найт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шеходный переход и перейт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ицу, соблюдая все правил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Дети и дорога 0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ходить дорогу можно только в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о отведенных для этого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ах - по пешеходным переходам.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ход на проезжую часть в любом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ом месте может быть опасны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5T13:49:13Z</dcterms:created>
  <dc:creator>DmitriyD</dc:creator>
  <dc:description/>
  <dc:language>en-US</dc:language>
  <cp:lastModifiedBy>User</cp:lastModifiedBy>
  <dcterms:modified xsi:type="dcterms:W3CDTF">2019-01-26T18:18:55Z</dcterms:modified>
  <cp:revision>9</cp:revision>
  <dc:subject/>
  <dc:title>Дети и дорога</dc:title>
</cp:coreProperties>
</file>