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743-1BAE-42D4-9C3F-D2E2249B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64D-2292-4C41-9FE1-CF378DC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646-C1BB-47C7-8FEA-C9D53FD7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254-5999-4C2C-B7C7-98283D26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298-5B7D-4F28-A3FA-AD52E4F3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A3D-92FE-4668-BC0D-9B97973B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247-587D-423E-89C5-33389F10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613-76F3-42B9-8CBF-A5103F41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0EC-D334-4052-9D0D-5077D8F8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693-9360-4290-BFD7-899F5E5A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F29-0263-4E14-99FB-26702C3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72A-E979-4346-BECF-C379F0D1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7D09-7DD3-4EB5-96CC-398AB42DC8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Дети и дорога 01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3860640"/>
            <a:ext cx="6408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Дети и дорог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16720" y="6165720"/>
            <a:ext cx="2303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резняк Г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Дети и дорога 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если вы переходите проезж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 о движущемся транспорт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ь может не успе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рмозить или выехать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ную полосу движения, чт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причиной ДТ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Дети и дорога 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чинать переход, есл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сигнал включен давно 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мениться на красный д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 как вы завершите движ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орог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и автомобилей могут вас не видеть и тронуться с места. Дождитес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го включения зелен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а и только после эт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те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, что может произойти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е, если ты будешь переходи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ресток по диагонал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Дети и дорога 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 должен переходить дорог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о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уясь сигналам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ого светофор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онечно же умеешь правиль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, но давай мы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ой повторим схему безопасн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 проезжей части п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емн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Дети и дорога 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на середине проезж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опасна, поэтому ну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изучить обстановк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до начала перехода, стараяс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такой момент, когда мо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совершить переход без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Дети и дорога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Дети и дорога 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яя ступенька  не лучшее мест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движения автобуса. Двер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риоткрыться, и ты выпадеш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езжую часть. Обязатель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оходить в салон, даж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выходишь на следующе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Дети и дорога 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о время движения автобуса нужно держаться за поручн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может избежать травм и прочих неприят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зь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мотрите следующ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ки и расскажит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допускает наруш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 дорожного движения и как их избеж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Дети и дорога 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Дети и дорога 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Дети и дорога 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Дети и дорога 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яч выкатился на проезжую часть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ть за ним нельзя. Стоя на тротуар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тесь его полной остановк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лько когда рядом не будет машин можно поднять его. А лучше всего обратиться за помощью к взросл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Дети и дорога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льзя выходить н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жую часть из-за препятствия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или кто-то загораживает обзор и мешает убедиться в отсутствии опасности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тесь у края тротуара и осторожно загляните в арку. Тольк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вшись, что угрозы нет, мож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на проезжую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ети и дорога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ев друзей, вы не должн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ть, что находитесь на дороге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на детской площад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на противоположн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у, необходимо на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й переход и пере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у, соблюдая все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ети и дорога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 можно только 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отведенных для эт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 - по пешеходным переходам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на проезжую часть в люб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месте может быть опас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3:49:13Z</dcterms:created>
  <dc:creator>DmitriyD</dc:creator>
  <dc:description/>
  <dc:language>en-US</dc:language>
  <cp:lastModifiedBy>User</cp:lastModifiedBy>
  <dcterms:modified xsi:type="dcterms:W3CDTF">2019-01-26T18:18:55Z</dcterms:modified>
  <cp:revision>9</cp:revision>
  <dc:subject/>
  <dc:title>Дети и дорога</dc:title>
</cp:coreProperties>
</file>