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9D7-729D-443E-AA6F-7DC8C2D9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0A4-2CCA-4511-899F-D6E36A3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1B7-B20B-4349-9FCE-93BB7A1E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2E4-73E9-4167-BEE1-DBA206C1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9E2-AC5F-48CC-9D0E-CD160738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563-3F62-4246-A084-F2A4894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5E7-E8AF-4BAA-BA80-2F5CDB8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BAC-5745-435F-B470-12787CD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773-C588-4A1B-BB05-84A2081F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3D1-9E4A-492F-8013-107237B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07D-60F4-418B-97DE-4BD5F29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9EB-AF73-43DB-9682-53A0190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E43-A593-4797-ADF7-BB3A00E6A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Дети и дорога 01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3860640"/>
            <a:ext cx="6408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Дети и дорог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6720" y="6165720"/>
            <a:ext cx="230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одина В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Дети и дорога 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вы переходите проезж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 о движущемся транспорт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 может не успе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мозить или выехать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ную полосу движения, чт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причиной ДТ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ети и дорога 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чинать переход, есл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сигнал включен давно 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мениться на красный д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 как вы завершите движ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орог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автомобилей могут вас не видеть и тронуться с места. Дождитес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включения зелен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а и только после эт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, что может произойти 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е, если ты будешь переходи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есток по диагон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ети и дорога 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 должен переходить дорог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 по пешеходному переходу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уясь сигнала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го светофор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нечно же умеешь правиль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, но давай мы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ой повторим схему безопасн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проезжей части п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му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Дети и дорога 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на середине проезж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пасна, поэтому ну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зучить обстановк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до начала перехода, стараяс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такой момент, когда можн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совершить переход без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Дети и дорога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Дети и дорога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яя ступенька  не лучшее мест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вижения автобуса. Двер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открыться, и ты выпаде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зжую часть. Обязатель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оходить в салон, даж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выходишь на следую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Дети и дорога 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о время движения автобуса нужно держаться за поручн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может избежать травм и прочих неприя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 следую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ки и расскажит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опускает наруш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ого движения и как их избе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Дети и дорога 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Дети и дорога 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Дети и дорога 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Дети и дорога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яч выкатился на проезжую часть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 за ним нельзя. Стоя на троту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тесь его полной останов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когда рядом не будет машин можно поднять его. А лучше всего обратиться за помощью к взросл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Дети и дорога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льзя выходить н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жую часть из-за препятстви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или кто-то загораживает обзор и мешает убедиться в отсутствии опасност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есь у края тротуара и осторожно загляните в арку. Тольк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вшись, что угрозы нет, можн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на проезжую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ти и дорога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друзей, вы не должн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ть, что находитесь на дорог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на детской площад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на противоположну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у, необходимо на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 переход и перей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у, соблюдая все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ети и дорога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дорогу можно только 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тведенных для это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х - по пешеходным переходам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проезжую часть в люб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месте может быть опас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49:13Z</dcterms:created>
  <dc:creator>DmitriyD</dc:creator>
  <dc:description/>
  <dc:language>en-US</dc:language>
  <cp:lastModifiedBy>Cloudberry</cp:lastModifiedBy>
  <dcterms:modified xsi:type="dcterms:W3CDTF">2021-02-19T08:01:00Z</dcterms:modified>
  <cp:revision>10</cp:revision>
  <dc:subject/>
  <dc:title>Дети и дорога</dc:title>
</cp:coreProperties>
</file>