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08D3-F9DF-484F-B7BA-547E48D5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B9C-A64B-4AAF-B3CD-ACB22794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8A0-5C11-47D1-BCD3-D8D13859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8F1-B4B9-4093-91CF-7A636055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8AD-2E3F-4BBD-BB51-BBB0DDB0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341-80B3-4E20-A62D-8CA271B4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1D5-4A55-4B19-A463-CF5C945A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FBD-6EC4-41C5-B34C-50DC27C8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C63-7E71-4865-9DC1-49B6A767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012-9E71-4E8E-AABD-7A3EF9C8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4EEB-19A4-4EFF-B6C5-D6710725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75D-82A1-41F1-AEE3-1D8F993C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1F7A-4D2D-4A27-AF4D-A6E7465CFC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Дети и дорога 015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3860640"/>
            <a:ext cx="64087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Дети и дорог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16720" y="6165720"/>
            <a:ext cx="23032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одина В.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Дети и дорога 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если вы переходите проезжую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о пешеходному переходу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 о движущемся транспорт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ь может не успе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рмозить или выехать 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ную полосу движения, чт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ет причиной ДТ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Дети и дорога 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начинать переход, есл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сигнал включен давно 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смениться на красный д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о как вы завершите движе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дорогу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и автомобилей могут вас не видеть и тронуться с места. Дождитес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его включения зеленог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а и только после этог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йте пере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, что может произойти 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е, если ты будешь переходи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ресток по диагонал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Дети и дорога 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 должен переходить дорог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о по пешеходному переходу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уясь сигналам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ого светофор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конечно же умеешь правиль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дорогу, но давай мы 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ой повторим схему безопасног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а проезжей части п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емному пешеходному перех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Дети и дорога 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ка на середине проезже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опасна, поэтому нуж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изучить обстановк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до начала перехода, стараяс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такой момент, когда мож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совершить переход без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Дети и дорога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Дети и дорога 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яя ступенька  не лучшее мест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движения автобуса. Двер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приоткрыться, и ты выпадеш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езжую часть. Обязательн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роходить в салон, даж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выходишь на следующе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к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Дети и дорога 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во время движения автобуса нужно держаться за поручн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может избежать травм и прочих неприят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зь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смотрите следующ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ки и расскажит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допускает наруш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 дорожного движения и как их избеж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Дети и дорога 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Дети и дорога 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Дети и дорога 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Дети и дорога 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яч выкатился на проезжую часть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жать за ним нельзя. Стоя на тротуаре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тесь его полной остановк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лько когда рядом не будет машин можно поднять его. А лучше всего обратиться за помощью к взросл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Дети и дорога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льзя выходить н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зжую часть из-за препятствия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то-то или кто-то загораживает обзор и мешает убедиться в отсутствии опасности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итесь у края тротуара и осторожно загляните в арку. Тольк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вшись, что угрозы нет, можн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ить на проезжую ча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Дети и дорога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идев друзей, вы не должн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ывать, что находитесь на дороге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е на детской площадк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опасть на противоположную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у, необходимо най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ый переход и перей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у, соблюдая все прави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Дети и дорога 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дорогу можно только 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 отведенных для этог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х - по пешеходным переходам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 на проезжую часть в любо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 месте может быть опас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3:49:13Z</dcterms:created>
  <dc:creator>DmitriyD</dc:creator>
  <dc:description/>
  <dc:language>en-US</dc:language>
  <cp:lastModifiedBy>Cloudberry</cp:lastModifiedBy>
  <dcterms:modified xsi:type="dcterms:W3CDTF">2021-02-19T08:01:00Z</dcterms:modified>
  <cp:revision>10</cp:revision>
  <dc:subject/>
  <dc:title>Дети и дорога</dc:title>
</cp:coreProperties>
</file>