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88EF-FE7B-4B93-A2CE-97DE78485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FD9F-0BEB-4DE3-924A-C45D6E7B6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6946-7DCF-46ED-895F-17923564C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11C6-EC9E-4F9F-B401-C03227935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B628-FAAA-4CE2-A903-F6FA2EB76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3A6F-3E41-4DB1-882D-82C6D68C1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ACF6-E1D7-40F8-8A63-6554037AC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AE2A-1E6C-41C9-AEA3-39CA6B5B1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C626-E5E3-4F66-B13A-1CEC76C71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3DB2-97F6-4EE7-99C3-61FB07EB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B2A8-83C9-45CA-BCCA-5058C64E4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3852-7B18-4246-B692-B72160916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3c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CA2DE-D2C8-4711-A624-8F31ED6901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Дети и дорога 015.jpg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9280" y="3860640"/>
            <a:ext cx="640872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omic Sans MS"/>
              </a:rPr>
              <a:t>Дети и дорог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516720" y="6165720"/>
            <a:ext cx="230328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лодина В.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Дети и дорога 00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же если вы переходите проезжую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ь по пешеходному переходу,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ните о движущемся транспорте.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итель может не успеть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ормозить или выехать на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речную полосу движения, что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ет причиной ДТ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Дети и дорога 00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льзя начинать переход, если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леный сигнал включен давно и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смениться на красный до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го как вы завершите движение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з дорогу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ители автомобилей могут вас не видеть и тронуться с места. Дождитесь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ющего включения зеленого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гнала и только после этого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йте перехо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6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от, что может произойти на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роге, если ты будешь переходить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кресток по диагонали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" descr="Дети и дорога 00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шеход должен переходить дорогу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го по пешеходному переходу,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ствуясь сигналами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шеходного светофора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 конечно же умеешь правильно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ходить дорогу, но давай мы с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бой повторим схему безопасного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хода проезжей части по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емному пешеходному переход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1" descr="Дети и дорога 00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новка на середине проезжей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и опасна, поэтому нужно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имательно изучить обстановку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ще до начала перехода, стараясь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рать такой момент, когда можно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ет совершить переход без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ново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Дети и дорога 0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1" descr="Дети и дорога 00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жняя ступенька  не лучшее место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ремя движения автобуса. Двери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т приоткрыться, и ты выпадешь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роезжую часть. Обязательно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жно проходить в салон, даже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ты выходишь на следующей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новке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1" descr="Дети и дорога 0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1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да во время движения автобуса нужно держаться за поручни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оможет избежать травм и прочих неприятносте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6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рузья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ссмотрите следующие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ртинки и расскажите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то допускает нарушения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авил дорожного движения и как их избежа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1" descr="Дети и дорога 0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1" descr="Дети и дорога 0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1" descr="Дети и дорога 0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1" descr="Дети и дорога 0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мяч выкатился на проезжую часть,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жать за ним нельзя. Стоя на тротуаре,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ждитесь его полной остановки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только когда рядом не будет машин можно поднять его. А лучше всего обратиться за помощью к взрослы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Дети и дорога 00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6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огда нельзя выходить на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зжую часть из-за препятствия,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что-то или кто-то загораживает обзор и мешает убедиться в отсутствии опасности.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новитесь у края тротуара и осторожно загляните в арку. Только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бедившись, что угрозы нет, можно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ходить на проезжую ча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Дети и дорога 00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идев друзей, вы не должны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ывать, что находитесь на дороге,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не на детской площадке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попасть на противоположную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рону, необходимо найти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шеходный переход и перейти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ицу, соблюдая все правил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Дети и дорога 00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ходить дорогу можно только в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о отведенных для этого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ах - по пешеходным переходам.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ход на проезжую часть в любом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ом месте может быть опасны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5T13:49:13Z</dcterms:created>
  <dc:creator>DmitriyD</dc:creator>
  <dc:description/>
  <dc:language>en-US</dc:language>
  <cp:lastModifiedBy>Cloudberry</cp:lastModifiedBy>
  <dcterms:modified xsi:type="dcterms:W3CDTF">2021-02-19T08:01:00Z</dcterms:modified>
  <cp:revision>10</cp:revision>
  <dc:subject/>
  <dc:title>Дети и дорога</dc:title>
</cp:coreProperties>
</file>