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6.jpeg" ContentType="image/jpeg"/>
  <Override PartName="/ppt/media/image10.gif" ContentType="image/gif"/>
  <Override PartName="/ppt/media/image5.gif" ContentType="image/gif"/>
  <Override PartName="/ppt/media/image13.gif" ContentType="image/gif"/>
  <Override PartName="/ppt/media/image23.jpeg" ContentType="image/jpeg"/>
  <Override PartName="/ppt/media/image8.gif" ContentType="image/gif"/>
  <Override PartName="/ppt/media/image18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5.gif" ContentType="image/gif"/>
  <Override PartName="/ppt/media/image2.gif" ContentType="image/gif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6A6-139A-4EC8-B860-7BF83729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7D7-8A64-476B-B761-D63C2EA3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541-20D2-4D47-BACE-779AFB5F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B30-4AC3-4966-A22C-8226A1AA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B3C-804B-46EC-B5FD-59AFA91E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993-D8E4-4247-8FDB-185F9645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651-E049-40FC-94A0-01ABF5FF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99B-A514-427A-AAE4-1BF628A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ADF-1944-4209-9160-1252810F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74E-9838-428A-8731-BB355A5D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7E8-AA73-4578-BBC2-4BCAD98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C39-9E38-4A49-AC6F-BA87627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FD56-045A-4317-9E76-7D9CFF870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sy.tom.ru/photo/image/food_stuffs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11280" y="620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выпуск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и 11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55640" y="2492280"/>
            <a:ext cx="6985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 ждут экзамены...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2200" y="4221000"/>
            <a:ext cx="77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подготовка выпускников к экзаменам и знакомство с эффективными способами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4"/>
          <p:cNvSpPr/>
          <p:nvPr/>
        </p:nvSpPr>
        <p:spPr>
          <a:xfrm>
            <a:off x="1332000" y="5589720"/>
            <a:ext cx="7056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Носалева Т.Н.- заместитель директора по УВ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МКОУ «Полдневская СОШ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639720"/>
            <a:ext cx="7451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хорошей зритель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дчёркивать опорные (ключевые ме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иксировать их на маленьких кар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ить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оставить опорную схему или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крыть глаза и мысленно воспроизвести то, что запомин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 карточки крупно , разными цветами выписать основные понят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, развесить их по стена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сегда были перед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53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24000" y="56844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ли память слух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йте в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тайте трудный материал на ауди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сету и периодически прослуши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чтении и прослушивании чётко проговаривать слова с небольшими пау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ить себя пересказывать вслух, но не заучивайте наиз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попытаться зарифмовать трудное в небольшие стихотворения или при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GOOGOO"/>
          <p:cNvPicPr/>
          <p:nvPr/>
        </p:nvPicPr>
        <p:blipFill>
          <a:blip r:embed="rId1"/>
          <a:stretch/>
        </p:blipFill>
        <p:spPr>
          <a:xfrm>
            <a:off x="6659640" y="549360"/>
            <a:ext cx="2303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50920" y="476280"/>
            <a:ext cx="7273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ажное условие успеха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дежда на себя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веренность в себ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45036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 и поддержка товарищей тоже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:\анимашки 1\big_smiles_138.gif"/>
          <p:cNvPicPr/>
          <p:nvPr/>
        </p:nvPicPr>
        <p:blipFill>
          <a:blip r:embed="rId1"/>
          <a:stretch/>
        </p:blipFill>
        <p:spPr>
          <a:xfrm>
            <a:off x="6948360" y="2205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1779"/>
          <p:cNvPicPr/>
          <p:nvPr/>
        </p:nvPicPr>
        <p:blipFill>
          <a:blip r:embed="rId2"/>
          <a:stretch/>
        </p:blipFill>
        <p:spPr>
          <a:xfrm>
            <a:off x="3780000" y="3933720"/>
            <a:ext cx="352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468360" y="54936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2924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ёхразовое, богатое витам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молочным продуктам, овощам, фру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ить в питание белок (мясо и рыб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итаться всухомятку и на скорую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ает память морковь с раститель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 половинку репчатого лука (улучшает снабжение мозга кислор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 травяные ча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мон освежает мысли за счёт витамин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уста снимает нерв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ан поддержит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Картинка 55 из 3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79280" y="0"/>
            <a:ext cx="8785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212724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 экзаменом следует хорошо выспаться, собраться с мыс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5280" y="32796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те одеты и причёсаны соответственно случ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24000" y="45036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ходите в аудиторию спокойно. Не паникуйте, будьте уверены, что у вас всё пол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9400" y="450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3480" y="21985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мотрите вопросы и начните с тех, в ответах на которые вы не сомневае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4360" y="34225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приступаете к новому заданию, сосредоточьтесь на нём и временно забудьте о преды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3480" y="5079960"/>
            <a:ext cx="72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оставьте время для проверки сво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835280" y="189000"/>
            <a:ext cx="70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экзамен сдан успешно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527120" y="10476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хвалите себя за положительные действия 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547640" y="292428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вы "завалили " экзамен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24000" y="3573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Задумайтесь, почему это произош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жите себе: «Отрицательный результат – это тоже определённый опыт, из которого надо извлечь у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Хорошенько разозлитесь на себя и с удвоенной силой беритесь за изуч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BGFAQ"/>
          <p:cNvPicPr/>
          <p:nvPr/>
        </p:nvPicPr>
        <p:blipFill>
          <a:blip r:embed="rId1"/>
          <a:stretch/>
        </p:blipFill>
        <p:spPr>
          <a:xfrm>
            <a:off x="0" y="2205000"/>
            <a:ext cx="13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BGHELP"/>
          <p:cNvPicPr/>
          <p:nvPr/>
        </p:nvPicPr>
        <p:blipFill>
          <a:blip r:embed="rId2"/>
          <a:stretch/>
        </p:blipFill>
        <p:spPr>
          <a:xfrm>
            <a:off x="0" y="0"/>
            <a:ext cx="1403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-main-pic" descr="Картинка 149 из 1577"/>
          <p:cNvPicPr/>
          <p:nvPr/>
        </p:nvPicPr>
        <p:blipFill>
          <a:blip r:embed="rId1"/>
          <a:stretch/>
        </p:blipFill>
        <p:spPr>
          <a:xfrm>
            <a:off x="1979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i-main-pic" descr="Картинка 211 из 1577"/>
          <p:cNvPicPr/>
          <p:nvPr/>
        </p:nvPicPr>
        <p:blipFill>
          <a:blip r:embed="rId2"/>
          <a:stretch/>
        </p:blipFill>
        <p:spPr>
          <a:xfrm>
            <a:off x="0" y="242100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611280" y="3933720"/>
            <a:ext cx="821052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всем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22"/>
          <p:cNvPicPr/>
          <p:nvPr/>
        </p:nvPicPr>
        <p:blipFill>
          <a:blip r:embed="rId1"/>
          <a:stretch/>
        </p:blipFill>
        <p:spPr>
          <a:xfrm>
            <a:off x="179280" y="4292640"/>
            <a:ext cx="3672000" cy="2565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476360" y="0"/>
            <a:ext cx="7667640" cy="4292640"/>
          </a:xfrm>
          <a:prstGeom prst="wedgeRoundRectCallout">
            <a:avLst>
              <a:gd name="adj1" fmla="val -48055"/>
              <a:gd name="adj2" fmla="val 67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176560" y="549360"/>
            <a:ext cx="563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 – это вечный экзам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жаль, расписания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жизни мы часто тя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ыученный би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поминаем стар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чиво в пол гляд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кому подсказать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 жизнью один на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8000" y="189000"/>
            <a:ext cx="648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ы –это ответственный период в жизни любого человека и от их результатов во многом зависит будущее. Давайте поговорим о проблемах и трудностях экзаменационного периода, попытаемся найти возможные пути их преодоления. Продумаем своё поведение и состояние перед экзаменом, ведь на экзамене происходит не только проверка знаний, но и  проверка сил личности, мобилизация умственных и душевных 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 – сложная стрессовая си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важно не теряться в экстремаль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170 из 1577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92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0_e90a_1c37734f_XL"/>
          <p:cNvPicPr/>
          <p:nvPr/>
        </p:nvPicPr>
        <p:blipFill>
          <a:blip r:embed="rId2"/>
          <a:stretch/>
        </p:blipFill>
        <p:spPr>
          <a:xfrm>
            <a:off x="6400800" y="4365720"/>
            <a:ext cx="2743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835280" y="692280"/>
            <a:ext cx="504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играем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47840" y="1190520"/>
            <a:ext cx="80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м надо выбрать соответствие и описать ситуацию.           Экзамен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00000" y="22716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Смелый пост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Тяжёл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Бор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5. Экстремаль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. Ничего особ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7. Будущая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8. Предстоящ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ECREATIONALSWING1-T"/>
          <p:cNvPicPr/>
          <p:nvPr/>
        </p:nvPicPr>
        <p:blipFill>
          <a:blip r:embed="rId3"/>
          <a:stretch/>
        </p:blipFill>
        <p:spPr>
          <a:xfrm>
            <a:off x="5364000" y="2133720"/>
            <a:ext cx="3095640" cy="3598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3132000" y="189000"/>
            <a:ext cx="57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сть его сдачи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32000" y="335772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835280" y="3933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92436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5148360" y="400536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3120" y="488952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700360" y="53928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.способность выдержать 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084720" y="46735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2009061915045189740c41d3b4f4b5aa8a01ee8ed26af0de10_t2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0" y="0"/>
            <a:ext cx="8753400" cy="589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Эмоции - это ветер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й надувает парус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может привести кораб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вижение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ожет потопить его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280200" y="386064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76200" y="32688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Учись на экзамене владеть своими эмо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0742rp"/>
          <p:cNvPicPr/>
          <p:nvPr/>
        </p:nvPicPr>
        <p:blipFill>
          <a:blip r:embed="rId1"/>
          <a:stretch/>
        </p:blipFill>
        <p:spPr>
          <a:xfrm>
            <a:off x="250920" y="981000"/>
            <a:ext cx="158580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122"/>
          <p:cNvPicPr/>
          <p:nvPr/>
        </p:nvPicPr>
        <p:blipFill>
          <a:blip r:embed="rId2"/>
          <a:stretch/>
        </p:blipFill>
        <p:spPr>
          <a:xfrm>
            <a:off x="7380360" y="51577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187280" y="333360"/>
            <a:ext cx="711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чи предлож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08200" y="1289160"/>
            <a:ext cx="743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13604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Откровенно гово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думаю о предстоящих экзаменах, т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волнуюсь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не могу собраться с мыслями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прихожу на консультаци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готовлюсь к экзамен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-main-pic" descr="Картинка 183 из 1577"/>
          <p:cNvPicPr/>
          <p:nvPr/>
        </p:nvPicPr>
        <p:blipFill>
          <a:blip r:embed="rId1"/>
          <a:stretch/>
        </p:blipFill>
        <p:spPr>
          <a:xfrm>
            <a:off x="6372360" y="3933720"/>
            <a:ext cx="2574720" cy="273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80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692360" y="404640"/>
            <a:ext cx="655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одготовитьс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950760" y="1792440"/>
            <a:ext cx="736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4000" y="1865160"/>
            <a:ext cx="59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ерять головы и не ставить перед собой сверх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ть готовиться к экзаменам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повторить то, что даётся легко, затем перейти к более слож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ить себя на то, что экзамен – необходимость и сдавать его всё равно прид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girl_book"/>
          <p:cNvPicPr/>
          <p:nvPr/>
        </p:nvPicPr>
        <p:blipFill>
          <a:blip r:embed="rId1"/>
          <a:stretch/>
        </p:blipFill>
        <p:spPr>
          <a:xfrm>
            <a:off x="6227640" y="4149720"/>
            <a:ext cx="273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3492360" y="189000"/>
            <a:ext cx="496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поддержать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ботоспособ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4000" y="198900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ть умственный и физически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от переутомления глаза, давать им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быстро переключаться с одного вида умственной работы на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телевизион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работы на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лабые стороны и пытаться их искоренять  (н-р, лен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ильные стороны и умение их использовать на благо себе( выносливость, навыки составления плана, зрительная память, слух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каждого часа работы 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своё рабочее место  так, чтобы ни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ичто не отвлекало 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w06"/>
          <p:cNvPicPr/>
          <p:nvPr/>
        </p:nvPicPr>
        <p:blipFill>
          <a:blip r:embed="rId1"/>
          <a:stretch/>
        </p:blipFill>
        <p:spPr>
          <a:xfrm>
            <a:off x="755640" y="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47"/>
          <p:cNvPicPr/>
          <p:nvPr/>
        </p:nvPicPr>
        <p:blipFill>
          <a:blip r:embed="rId2"/>
          <a:stretch/>
        </p:blipFill>
        <p:spPr>
          <a:xfrm>
            <a:off x="7524720" y="4941720"/>
            <a:ext cx="161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15:27Z</dcterms:created>
  <dc:creator>татьяна</dc:creator>
  <dc:description/>
  <dc:language>en-US</dc:language>
  <cp:lastModifiedBy>Татьяна</cp:lastModifiedBy>
  <dcterms:modified xsi:type="dcterms:W3CDTF">2021-02-22T19:38:43Z</dcterms:modified>
  <cp:revision>15</cp:revision>
  <dc:subject/>
  <dc:title>Слайд 1</dc:title>
</cp:coreProperties>
</file>