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6.jpeg" ContentType="image/jpeg"/>
  <Override PartName="/ppt/media/image10.gif" ContentType="image/gif"/>
  <Override PartName="/ppt/media/image5.gif" ContentType="image/gif"/>
  <Override PartName="/ppt/media/image13.gif" ContentType="image/gif"/>
  <Override PartName="/ppt/media/image23.jpeg" ContentType="image/jpeg"/>
  <Override PartName="/ppt/media/image8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5.gif" ContentType="image/gif"/>
  <Override PartName="/ppt/media/image2.gif" ContentType="image/gif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4A0-AACB-4E93-B5A6-557CED34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E63-89A4-4C00-A4C8-EB3D83E2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374-54DF-4649-8D5A-5F2C1B94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BA8-7F85-4BBE-AF03-DC558785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626-B630-43BD-9785-4D56F99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40A-851D-4FF4-8485-C5BBD5C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498-077A-41E3-8B84-E519CF3E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F0A-1112-479B-A5C9-E287E4A0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A57-326B-4DC7-B33F-FE50907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B3C-15D7-4649-8804-92C2B79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EB4-12E9-4D98-9871-559075A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BFF-2F84-41B7-802B-D366787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408-259C-4600-9D55-F9DACA66D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11280" y="620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2492280"/>
            <a:ext cx="6985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422100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4"/>
          <p:cNvSpPr/>
          <p:nvPr/>
        </p:nvSpPr>
        <p:spPr>
          <a:xfrm>
            <a:off x="1332000" y="5589720"/>
            <a:ext cx="7056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Носалева Т.Н.- заместитель директора по УВ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КОУ «Полдневская СОШ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2924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79280" y="0"/>
            <a:ext cx="878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21272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5280" y="32796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45036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4360" y="3422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24000" y="35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BGFAQ"/>
          <p:cNvPicPr/>
          <p:nvPr/>
        </p:nvPicPr>
        <p:blipFill>
          <a:blip r:embed="rId1"/>
          <a:stretch/>
        </p:blipFill>
        <p:spPr>
          <a:xfrm>
            <a:off x="0" y="220500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8000" y="189000"/>
            <a:ext cx="648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835280" y="692280"/>
            <a:ext cx="504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00000" y="22716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ECREATIONALSWING1-T"/>
          <p:cNvPicPr/>
          <p:nvPr/>
        </p:nvPicPr>
        <p:blipFill>
          <a:blip r:embed="rId3"/>
          <a:stretch/>
        </p:blipFill>
        <p:spPr>
          <a:xfrm>
            <a:off x="5364000" y="2133720"/>
            <a:ext cx="3095640" cy="3598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000" y="186516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Татьяна</cp:lastModifiedBy>
  <dcterms:modified xsi:type="dcterms:W3CDTF">2021-02-22T19:38:43Z</dcterms:modified>
  <cp:revision>15</cp:revision>
  <dc:subject/>
  <dc:title>Слайд 1</dc:title>
</cp:coreProperties>
</file>