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jpeg" ContentType="image/jpeg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6.jpeg" ContentType="image/jpeg"/>
  <Override PartName="/ppt/media/image10.gif" ContentType="image/gif"/>
  <Override PartName="/ppt/media/image5.gif" ContentType="image/gif"/>
  <Override PartName="/ppt/media/image13.gif" ContentType="image/gif"/>
  <Override PartName="/ppt/media/image23.jpeg" ContentType="image/jpeg"/>
  <Override PartName="/ppt/media/image8.gif" ContentType="image/gif"/>
  <Override PartName="/ppt/media/image18.jpeg" ContentType="image/jpeg"/>
  <Override PartName="/ppt/media/image21.gif" ContentType="image/gif"/>
  <Override PartName="/ppt/media/image20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7.jpeg" ContentType="image/jpeg"/>
  <Override PartName="/ppt/media/image16.gif" ContentType="image/gif"/>
  <Override PartName="/ppt/media/image15.gif" ContentType="image/gif"/>
  <Override PartName="/ppt/media/image2.gif" ContentType="image/gif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FB23-6704-4E52-8A2A-6762FAC8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7D7-B593-42FB-993F-4807B42F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E455-F944-4D74-A7CC-CB4953AA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4D5E-D086-41A0-ADCE-6A010829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DC1-95D3-499F-9F78-640C23D2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098-FC47-4D2A-BAC3-C610EB0B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8CE-9B38-4BDB-B5FB-83EE77E9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90C-289F-4654-8268-8A1F4B2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837-100B-4828-9013-B64312FE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5077-DFFB-403E-B0F8-2595F0D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E4E-29E1-4EB5-94F3-431AE60D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AF9-A765-40E1-973B-FE9656BB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640A-CCFA-4D4D-A2E7-1CF0C64CE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sy.tom.ru/photo/image/food_stuffs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11280" y="620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классное мероприятие для выпуск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 и 11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755640" y="2492280"/>
            <a:ext cx="6985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ас ждут экзамены...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2200" y="4221000"/>
            <a:ext cx="77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подготовка выпускников к экзаменам и знакомство с эффективными способами подгот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4"/>
          <p:cNvSpPr/>
          <p:nvPr/>
        </p:nvSpPr>
        <p:spPr>
          <a:xfrm>
            <a:off x="1332000" y="5589720"/>
            <a:ext cx="7056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Носалева Т.Н.- заместитель директора по УВ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МКОУ «Полдневская СОШ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639720"/>
            <a:ext cx="74516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 хорошей зрительной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дчёркивать опорные (ключевые мес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Фиксировать их на маленьких карто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оставить 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оставить опорную схему или табл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крыть глаза и мысленно воспроизвести то, что запомин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На карточки крупно , разными цветами выписать основные понятия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улы, развесить их по стенам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всегда были перед гл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53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24000" y="568440"/>
            <a:ext cx="7632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сли память слух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йте всл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тайте трудный материал на ауди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сету и периодически прослушив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чтении и прослушивании чётко проговаривать слова с небольшими пау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учить себя пересказывать вслух, но не заучивайте наизу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попытаться зарифмовать трудное в небольшие стихотворения или при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GOOGOO"/>
          <p:cNvPicPr/>
          <p:nvPr/>
        </p:nvPicPr>
        <p:blipFill>
          <a:blip r:embed="rId1"/>
          <a:stretch/>
        </p:blipFill>
        <p:spPr>
          <a:xfrm>
            <a:off x="6659640" y="549360"/>
            <a:ext cx="23032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250920" y="476280"/>
            <a:ext cx="72738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ажное условие успеха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адежда на себя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веренность в себ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0" y="450360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ет и поддержка товарищей тоже необходи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4219560" y="3110040"/>
            <a:ext cx="704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:\анимашки 1\big_smiles_138.gif"/>
          <p:cNvPicPr/>
          <p:nvPr/>
        </p:nvPicPr>
        <p:blipFill>
          <a:blip r:embed="rId1"/>
          <a:stretch/>
        </p:blipFill>
        <p:spPr>
          <a:xfrm>
            <a:off x="6948360" y="2205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1779"/>
          <p:cNvPicPr/>
          <p:nvPr/>
        </p:nvPicPr>
        <p:blipFill>
          <a:blip r:embed="rId2"/>
          <a:stretch/>
        </p:blipFill>
        <p:spPr>
          <a:xfrm>
            <a:off x="3780000" y="3933720"/>
            <a:ext cx="3528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468360" y="549360"/>
            <a:ext cx="47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тание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24000" y="292428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тырёхразовое, богатое витам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чтение молочным продуктам, овощам, фру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ить в питание белок (мясо и рыб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итаться всухомятку и на скорую ру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учшает память морковь с растительным ма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день половинку репчатого лука (улучшает снабжение мозга кислор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ть травяные ча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мон освежает мысли за счёт витамина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пуста снимает нервоз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нан поддержит хороше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Картинка 55 из 3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0"/>
            <a:ext cx="3851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79280" y="0"/>
            <a:ext cx="878544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360" y="212724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ед экзаменом следует хорошо выспаться, собраться с мыс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95280" y="32796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удьте одеты и причёсаны соответственно случ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24000" y="450360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ходите в аудиторию спокойно. Не паникуйте, будьте уверены, что у вас всё полу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908000" y="297000"/>
            <a:ext cx="61153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веты психолога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31840" y="3135240"/>
            <a:ext cx="772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49400" y="450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63480" y="2198520"/>
            <a:ext cx="786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смотрите вопросы и начните с тех, в ответах на которые вы не сомневае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84360" y="34225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гда приступаете к новому заданию, сосредоточьтесь на нём и временно забудьте о предыду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63480" y="5079960"/>
            <a:ext cx="72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язательно оставьте время для проверки свое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835280" y="189000"/>
            <a:ext cx="7057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экзамен сдан успешно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527120" y="104760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хвалите себя за положительные действия и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1547640" y="2924280"/>
            <a:ext cx="6985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вы "завалили " экзамен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24000" y="3573360"/>
            <a:ext cx="88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Задумайтесь, почему это произош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Скажите себе: «Отрицательный результат – это тоже определённый опыт, из которого надо извлечь ур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Хорошенько разозлитесь на себя и с удвоенной силой беритесь за изучение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BGFAQ"/>
          <p:cNvPicPr/>
          <p:nvPr/>
        </p:nvPicPr>
        <p:blipFill>
          <a:blip r:embed="rId1"/>
          <a:stretch/>
        </p:blipFill>
        <p:spPr>
          <a:xfrm>
            <a:off x="0" y="2205000"/>
            <a:ext cx="1332000" cy="1295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BGHELP"/>
          <p:cNvPicPr/>
          <p:nvPr/>
        </p:nvPicPr>
        <p:blipFill>
          <a:blip r:embed="rId2"/>
          <a:stretch/>
        </p:blipFill>
        <p:spPr>
          <a:xfrm>
            <a:off x="0" y="0"/>
            <a:ext cx="14032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i-main-pic" descr="Картинка 149 из 1577"/>
          <p:cNvPicPr/>
          <p:nvPr/>
        </p:nvPicPr>
        <p:blipFill>
          <a:blip r:embed="rId1"/>
          <a:stretch/>
        </p:blipFill>
        <p:spPr>
          <a:xfrm>
            <a:off x="1979640" y="1197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22" name="i-main-pic" descr="Картинка 211 из 1577"/>
          <p:cNvPicPr/>
          <p:nvPr/>
        </p:nvPicPr>
        <p:blipFill>
          <a:blip r:embed="rId2"/>
          <a:stretch/>
        </p:blipFill>
        <p:spPr>
          <a:xfrm>
            <a:off x="0" y="242100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>
            <a:off x="611280" y="3933720"/>
            <a:ext cx="8210520" cy="17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всем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пешной сдачи экзаменов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22"/>
          <p:cNvPicPr/>
          <p:nvPr/>
        </p:nvPicPr>
        <p:blipFill>
          <a:blip r:embed="rId1"/>
          <a:stretch/>
        </p:blipFill>
        <p:spPr>
          <a:xfrm>
            <a:off x="179280" y="4292640"/>
            <a:ext cx="3672000" cy="2565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>
            <a:off x="1476360" y="0"/>
            <a:ext cx="7667640" cy="4292640"/>
          </a:xfrm>
          <a:prstGeom prst="wedgeRoundRectCallout">
            <a:avLst>
              <a:gd name="adj1" fmla="val -48055"/>
              <a:gd name="adj2" fmla="val 677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176560" y="549360"/>
            <a:ext cx="563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знь – это вечный экзаме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 жаль, расписания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жизни мы часто тя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ыученный би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споминаем старатель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чиво в пол гляди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некому подсказать н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с жизнью один на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08000" y="189000"/>
            <a:ext cx="648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ы –это ответственный период в жизни любого человека и от их результатов во многом зависит будущее. Давайте поговорим о проблемах и трудностях экзаменационного периода, попытаемся найти возможные пути их преодоления. Продумаем своё поведение и состояние перед экзаменом, ведь на экзамене происходит не только проверка знаний, но и  проверка сил личности, мобилизация умственных и душевных  с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замен – сложная стрессовая ситу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чень важно не теряться в экстремально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-main-pic" descr="Картинка 170 из 1577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292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0_e90a_1c37734f_XL"/>
          <p:cNvPicPr/>
          <p:nvPr/>
        </p:nvPicPr>
        <p:blipFill>
          <a:blip r:embed="rId2"/>
          <a:stretch/>
        </p:blipFill>
        <p:spPr>
          <a:xfrm>
            <a:off x="6400800" y="4365720"/>
            <a:ext cx="27432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4"/>
          <p:cNvSpPr txBox="1"/>
          <p:nvPr/>
        </p:nvSpPr>
        <p:spPr>
          <a:xfrm>
            <a:off x="1835280" y="692280"/>
            <a:ext cx="504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оиграем</a:t>
            </a:r>
            <a:endParaRPr b="0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47840" y="1190520"/>
            <a:ext cx="80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ам надо выбрать соответствие и описать ситуацию.           Экзамен – э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00000" y="2271600"/>
            <a:ext cx="403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. Праз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2. Смелый поступ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Тяжёл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Борь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5. Экстремальная ситу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6. Ничего особ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7. Будущая независ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8. Предстоящая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RECREATIONALSWING1-T"/>
          <p:cNvPicPr/>
          <p:nvPr/>
        </p:nvPicPr>
        <p:blipFill>
          <a:blip r:embed="rId3"/>
          <a:stretch/>
        </p:blipFill>
        <p:spPr>
          <a:xfrm>
            <a:off x="5364000" y="2133720"/>
            <a:ext cx="3095640" cy="3598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3132000" y="189000"/>
            <a:ext cx="5761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кзамен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спешность его сдачи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32000" y="3357720"/>
            <a:ext cx="69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H="1">
            <a:off x="1835280" y="3933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924360" y="3933720"/>
            <a:ext cx="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5148360" y="4005360"/>
            <a:ext cx="100800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03120" y="4889520"/>
            <a:ext cx="239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700360" y="53928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моцион.способность выдержать экза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6084720" y="467352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ие преодоле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2009061915045189740c41d3b4f4b5aa8a01ee8ed26af0de10_t2"/>
          <p:cNvPicPr/>
          <p:nvPr/>
        </p:nvPicPr>
        <p:blipFill>
          <a:blip r:embed="rId1"/>
          <a:stretch/>
        </p:blipFill>
        <p:spPr>
          <a:xfrm>
            <a:off x="0" y="260280"/>
            <a:ext cx="2987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0" y="0"/>
            <a:ext cx="8753400" cy="589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 Эмоции - это ветер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торый надувает парус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может привести корабл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вижение,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может потопить его"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280200" y="386064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76200" y="32688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d60093"/>
                </a:solidFill>
                <a:uFillTx/>
                <a:latin typeface="Arial"/>
              </a:rPr>
              <a:t>Учись на экзамене владеть своими эмо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i0742rp"/>
          <p:cNvPicPr/>
          <p:nvPr/>
        </p:nvPicPr>
        <p:blipFill>
          <a:blip r:embed="rId1"/>
          <a:stretch/>
        </p:blipFill>
        <p:spPr>
          <a:xfrm>
            <a:off x="250920" y="981000"/>
            <a:ext cx="1585800" cy="172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122"/>
          <p:cNvPicPr/>
          <p:nvPr/>
        </p:nvPicPr>
        <p:blipFill>
          <a:blip r:embed="rId2"/>
          <a:stretch/>
        </p:blipFill>
        <p:spPr>
          <a:xfrm>
            <a:off x="7380360" y="515772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1187280" y="333360"/>
            <a:ext cx="7112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чи предложение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08200" y="1289160"/>
            <a:ext cx="743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24000" y="136044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Arial"/>
              </a:rPr>
              <a:t>Откровенно говор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думаю о предстоящих экзаменах, то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волнуюсь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не могу собраться с мыслями, 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прихожу на консультаци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я готовлюсь к экзамена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i-main-pic" descr="Картинка 183 из 1577"/>
          <p:cNvPicPr/>
          <p:nvPr/>
        </p:nvPicPr>
        <p:blipFill>
          <a:blip r:embed="rId1"/>
          <a:stretch/>
        </p:blipFill>
        <p:spPr>
          <a:xfrm>
            <a:off x="6372360" y="3933720"/>
            <a:ext cx="2574720" cy="273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180"/>
          <p:cNvPicPr/>
          <p:nvPr/>
        </p:nvPicPr>
        <p:blipFill>
          <a:blip r:embed="rId2"/>
          <a:stretch/>
        </p:blipFill>
        <p:spPr>
          <a:xfrm>
            <a:off x="539640" y="4076640"/>
            <a:ext cx="2232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692360" y="404640"/>
            <a:ext cx="65516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к подготовитьс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сихологически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950760" y="1792440"/>
            <a:ext cx="7366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4000" y="1865160"/>
            <a:ext cx="597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терять головы и не ставить перед собой сверх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инать готовиться к экзаменам за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начала повторить то, что даётся легко, затем перейти к более слож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ить себя на то, что экзамен – необходимость и сдавать его всё равно придё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girl_book"/>
          <p:cNvPicPr/>
          <p:nvPr/>
        </p:nvPicPr>
        <p:blipFill>
          <a:blip r:embed="rId1"/>
          <a:stretch/>
        </p:blipFill>
        <p:spPr>
          <a:xfrm>
            <a:off x="6227640" y="4149720"/>
            <a:ext cx="2737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6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3492360" y="189000"/>
            <a:ext cx="4967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Как поддержать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аботоспособност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24000" y="1989000"/>
            <a:ext cx="7561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довать умственный и физический тр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речь от переутомления глаза, давать им отд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читься быстро переключаться с одного вида умственной работы на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телевизионных пере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ум работы на компьют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лабые стороны и пытаться их искоренять  (н-р, лень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ть свои сильные стороны и умение их использовать на благо себе( выносливость, навыки составления плана, зрительная память, слухов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каждого часа работы делать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овать своё рабочее место  так, чтобы ник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ичто не отвлекало во время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hw06"/>
          <p:cNvPicPr/>
          <p:nvPr/>
        </p:nvPicPr>
        <p:blipFill>
          <a:blip r:embed="rId1"/>
          <a:stretch/>
        </p:blipFill>
        <p:spPr>
          <a:xfrm>
            <a:off x="755640" y="0"/>
            <a:ext cx="2087640" cy="2133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47"/>
          <p:cNvPicPr/>
          <p:nvPr/>
        </p:nvPicPr>
        <p:blipFill>
          <a:blip r:embed="rId2"/>
          <a:stretch/>
        </p:blipFill>
        <p:spPr>
          <a:xfrm>
            <a:off x="7524720" y="4941720"/>
            <a:ext cx="161928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15:27Z</dcterms:created>
  <dc:creator>татьяна</dc:creator>
  <dc:description/>
  <dc:language>en-US</dc:language>
  <cp:lastModifiedBy>Татьяна</cp:lastModifiedBy>
  <dcterms:modified xsi:type="dcterms:W3CDTF">2021-02-22T19:38:43Z</dcterms:modified>
  <cp:revision>15</cp:revision>
  <dc:subject/>
  <dc:title>Слайд 1</dc:title>
</cp:coreProperties>
</file>