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F3C-82A3-452B-A273-A3B99C44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EA3-E52A-49B8-9169-E9458A2E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620-6EF9-466B-888A-6598845F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AD4-F942-43E9-B049-C7E1AF0F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631-F145-4E45-B78F-8202365B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944-6083-4A43-9F53-E7E3B06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74D-E026-407E-85DB-CDA8BB1B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F0A-15C8-4EBC-B535-A57691D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EA1-9AA9-495A-B485-D4AEDD36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209-A2C7-487D-AB08-A9436CF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B8F-FE2E-40E1-A25E-635202E9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37C-2794-429D-896E-B421C58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AFD3-8ED4-4139-93EB-727881B59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561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еҙ, беҙ ,беҙ инек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еҙ 12  ҡыҙ инек.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аҙға төштөк, бал  ашаныҡ, 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Келәткә керҙек бал эст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6856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303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_Helver(15%) Bashkir"/>
              </a:rPr>
              <a:t>     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Башҡортостанда 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54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район,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21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ҡала бар. Рес-публикабыҙҙа йылғалар һәм күлдәр бик күп. Ағиҙел – Башҡортостандың иң ҙур йылғаһы. Уның оҙонлоғо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1420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кил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getImageCABPZUN8"/>
          <p:cNvPicPr/>
          <p:nvPr/>
        </p:nvPicPr>
        <p:blipFill>
          <a:blip r:embed="rId1"/>
          <a:stretch/>
        </p:blipFill>
        <p:spPr>
          <a:xfrm>
            <a:off x="468360" y="0"/>
            <a:ext cx="81280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(15%) Bashkir"/>
              </a:rPr>
              <a:t>Мәҡәлдә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1. Ете ҡат үлсә                              йөҙ дуҫың булһ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2. Егет кешегә                               бер ҡат ки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3.Йөҙ һум аҡсаң булғансы          етмеш төрлө һөн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                                                         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ҙә  а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0" y="4437000"/>
            <a:ext cx="205092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250920" y="242100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476360" y="62064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708360" y="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940360" y="549360"/>
            <a:ext cx="201636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934320" y="243828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7128000" y="443700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908000" y="5445000"/>
            <a:ext cx="1224000" cy="716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227640" y="5589720"/>
            <a:ext cx="936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4716360" y="1844280"/>
            <a:ext cx="0" cy="252108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2050920" y="3860640"/>
            <a:ext cx="1368720" cy="1152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2916360" y="2276640"/>
            <a:ext cx="1079280" cy="2304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5292360" y="2276640"/>
            <a:ext cx="1150920" cy="2232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866920" y="3860640"/>
            <a:ext cx="1225800" cy="1008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bChord"/>
          <p:cNvSpPr/>
          <p:nvPr/>
        </p:nvSpPr>
        <p:spPr>
          <a:xfrm rot="7870200">
            <a:off x="3039840" y="4384440"/>
            <a:ext cx="3270240" cy="3232080"/>
          </a:xfrm>
          <a:custGeom>
            <a:avLst/>
            <a:gdLst>
              <a:gd name="textAreaLeft" fmla="*/ 478800 w 3270240"/>
              <a:gd name="textAreaRight" fmla="*/ 2791440 w 3270240"/>
              <a:gd name="textAreaTop" fmla="*/ 473040 h 3232080"/>
              <a:gd name="textAreaBottom" fmla="*/ 2759040 h 3232080"/>
            </a:gdLst>
            <a:ahLst/>
            <a:rect l="textAreaLeft" t="textAreaTop" r="textAreaRight" b="textAreaBottom"/>
            <a:pathLst>
              <a:path w="21600" h="21600">
                <a:moveTo>
                  <a:pt x="3911" y="2482"/>
                </a:moveTo>
                <a:cubicBezTo>
                  <a:pt x="1433" y="4534"/>
                  <a:pt x="0" y="758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438" y="21600"/>
                  <a:pt x="15985" y="20634"/>
                  <a:pt x="17960" y="18884"/>
                </a:cubicBezTo>
                <a:lnTo>
                  <a:pt x="3911" y="24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276720" y="4995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8000"/>
                </a:solidFill>
                <a:latin typeface="a_Timer Bashkir"/>
              </a:rPr>
              <a:t>Башҡортостандың   ете мөғжизә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7620120" y="5791320"/>
            <a:ext cx="12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8000"/>
                </a:solidFill>
                <a:latin typeface="a_Timer Bashki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Мои документы\Башкортостан\image_1020710012320529373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Мои документы\Башкортостан\image_10207100123205293730.gif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(15%) Bashkir"/>
              </a:rPr>
              <a:t>Шүлгәнташ мәмерйә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0359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00000" y="1484280"/>
            <a:ext cx="71280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0" y="4437000"/>
            <a:ext cx="205092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Ҡу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сәскә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250920" y="242100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Салауат Юла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һәйк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476360" y="62064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Башҡо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б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3708360" y="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Янғанта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5940360" y="549360"/>
            <a:ext cx="201636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Красноус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шифахана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6934320" y="243828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Шүлгән та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мәмерйә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7128000" y="443700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8000"/>
                </a:solidFill>
                <a:latin typeface="a_Helver(15%) Bashkir"/>
              </a:rPr>
              <a:t>Урал баты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8000"/>
                </a:solidFill>
                <a:latin typeface="a_Helver(15%) Bashkir"/>
              </a:rPr>
              <a:t>эп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1908000" y="5445000"/>
            <a:ext cx="1224000" cy="716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227640" y="5589720"/>
            <a:ext cx="936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4716360" y="1844280"/>
            <a:ext cx="0" cy="252108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2050920" y="3860640"/>
            <a:ext cx="1368720" cy="1152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2916360" y="2276640"/>
            <a:ext cx="1079280" cy="2304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H="1">
            <a:off x="5292360" y="2276640"/>
            <a:ext cx="1150920" cy="2232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5866920" y="3860640"/>
            <a:ext cx="1225800" cy="1008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ubChord"/>
          <p:cNvSpPr/>
          <p:nvPr/>
        </p:nvSpPr>
        <p:spPr>
          <a:xfrm rot="7870200">
            <a:off x="3039840" y="4384440"/>
            <a:ext cx="3270240" cy="3232080"/>
          </a:xfrm>
          <a:custGeom>
            <a:avLst/>
            <a:gdLst>
              <a:gd name="textAreaLeft" fmla="*/ 478800 w 3270240"/>
              <a:gd name="textAreaRight" fmla="*/ 2791440 w 3270240"/>
              <a:gd name="textAreaTop" fmla="*/ 473040 h 3232080"/>
              <a:gd name="textAreaBottom" fmla="*/ 2759040 h 3232080"/>
            </a:gdLst>
            <a:ahLst/>
            <a:rect l="textAreaLeft" t="textAreaTop" r="textAreaRight" b="textAreaBottom"/>
            <a:pathLst>
              <a:path w="21600" h="21600">
                <a:moveTo>
                  <a:pt x="3911" y="2482"/>
                </a:moveTo>
                <a:cubicBezTo>
                  <a:pt x="1433" y="4534"/>
                  <a:pt x="0" y="758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438" y="21600"/>
                  <a:pt x="15985" y="20634"/>
                  <a:pt x="17960" y="18884"/>
                </a:cubicBezTo>
                <a:lnTo>
                  <a:pt x="3911" y="24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276720" y="49957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8000"/>
                </a:solidFill>
                <a:latin typeface="a_Helver(15%) Bashkir"/>
              </a:rPr>
              <a:t>Башҡортостандың   ете мөғжизә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" descr="Картинка 2 из 76"/>
          <p:cNvPicPr/>
          <p:nvPr/>
        </p:nvPicPr>
        <p:blipFill>
          <a:blip r:embed="rId1"/>
          <a:stretch/>
        </p:blipFill>
        <p:spPr>
          <a:xfrm>
            <a:off x="395280" y="4653000"/>
            <a:ext cx="13669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Картинка 2 из 1349"/>
          <p:cNvPicPr/>
          <p:nvPr/>
        </p:nvPicPr>
        <p:blipFill>
          <a:blip r:embed="rId2"/>
          <a:stretch/>
        </p:blipFill>
        <p:spPr>
          <a:xfrm>
            <a:off x="1835280" y="83664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Мои документы\Башкортостан\image_10207100123205293730.gif"/>
          <p:cNvPicPr/>
          <p:nvPr/>
        </p:nvPicPr>
        <p:blipFill>
          <a:blip r:embed="rId3"/>
          <a:stretch/>
        </p:blipFill>
        <p:spPr>
          <a:xfrm flipH="1">
            <a:off x="-360" y="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Мои документы\Башкортостан\image_10207100123205293730.gif"/>
          <p:cNvPicPr/>
          <p:nvPr/>
        </p:nvPicPr>
        <p:blipFill>
          <a:blip r:embed="rId4"/>
          <a:stretch/>
        </p:blipFill>
        <p:spPr>
          <a:xfrm>
            <a:off x="7643880" y="0"/>
            <a:ext cx="15001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Картинка 2 из 394"/>
          <p:cNvPicPr/>
          <p:nvPr/>
        </p:nvPicPr>
        <p:blipFill>
          <a:blip r:embed="rId5"/>
          <a:stretch/>
        </p:blipFill>
        <p:spPr>
          <a:xfrm>
            <a:off x="611280" y="2637000"/>
            <a:ext cx="138276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Картинка 4 из 361"/>
          <p:cNvPicPr/>
          <p:nvPr/>
        </p:nvPicPr>
        <p:blipFill>
          <a:blip r:embed="rId6"/>
          <a:stretch/>
        </p:blipFill>
        <p:spPr>
          <a:xfrm>
            <a:off x="3924360" y="33336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1" descr="Картинка 7 из 47"/>
          <p:cNvPicPr/>
          <p:nvPr/>
        </p:nvPicPr>
        <p:blipFill>
          <a:blip r:embed="rId7"/>
          <a:stretch/>
        </p:blipFill>
        <p:spPr>
          <a:xfrm>
            <a:off x="6227640" y="83664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Картинка 6 из 289"/>
          <p:cNvPicPr/>
          <p:nvPr/>
        </p:nvPicPr>
        <p:blipFill>
          <a:blip r:embed="rId8"/>
          <a:stretch/>
        </p:blipFill>
        <p:spPr>
          <a:xfrm>
            <a:off x="7236000" y="2637000"/>
            <a:ext cx="1523880" cy="99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Картинка 10 из 38"/>
          <p:cNvPicPr/>
          <p:nvPr/>
        </p:nvPicPr>
        <p:blipFill>
          <a:blip r:embed="rId9"/>
          <a:stretch/>
        </p:blipFill>
        <p:spPr>
          <a:xfrm>
            <a:off x="7524720" y="4653000"/>
            <a:ext cx="1224000" cy="1066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5T12:22:23Z</dcterms:created>
  <dc:creator>Admin</dc:creator>
  <dc:description/>
  <dc:language>en-US</dc:language>
  <cp:lastModifiedBy>Администратор</cp:lastModifiedBy>
  <dcterms:modified xsi:type="dcterms:W3CDTF">2020-01-12T09:35:17Z</dcterms:modified>
  <cp:revision>9</cp:revision>
  <dc:subject/>
  <dc:title>Слайд 1</dc:title>
</cp:coreProperties>
</file>