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13C-63BB-49B9-AE31-DEB4ABF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04A-76DB-44AE-A616-F42C064D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199-7FA8-4BA6-8415-E8A3ED05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35B-266E-4EC1-AE9F-0BDA5F2A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77E4-772A-40A5-90F3-C7B12044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294-C659-4189-9559-F87233E3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9A0-5FC2-4C9E-B13E-D74E1723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BE1-5988-4FC6-A973-CBBF6D71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888F-9751-4B3B-BBE2-E9E5BBCB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F0C-1F66-4BC0-BB54-96F0CED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0AA-6F55-47A3-AABB-3DEE3CAD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3D0-C10E-48F5-A65D-188E0242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180-B459-4D97-A28A-550515036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561636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, беҙ ,беҙ инек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еҙ 12  ҡыҙ инек.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Баҙға төштөк, бал  ашаныҡ, </a:t>
            </a:r>
            <a:br>
              <a:rPr sz="4400"/>
            </a:br>
            <a:r>
              <a:rPr b="1" lang="ba-RU" sz="4400" spc="-1" strike="noStrike">
                <a:solidFill>
                  <a:srgbClr val="000000"/>
                </a:solidFill>
                <a:latin typeface="a_Helver(15%) Bashkir"/>
              </a:rPr>
              <a:t>Келәткә керҙек бал эст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26856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303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000" spc="-1" strike="noStrike">
                <a:solidFill>
                  <a:srgbClr val="000000"/>
                </a:solidFill>
                <a:latin typeface="a_Helver(15%) Bashkir"/>
              </a:rPr>
              <a:t>     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Башҡортостанда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54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район,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1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ҡала бар. Рес-публикабыҙҙа йылғалар һәм күлдәр бик күп. Ағиҙел – Башҡортостандың иң ҙур йылғаһы. Уның оҙонлоғо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420</a:t>
            </a:r>
            <a:r>
              <a:rPr b="0" lang="be-BY" sz="3200" spc="-1" strike="noStrike">
                <a:solidFill>
                  <a:srgbClr val="000000"/>
                </a:solidFill>
                <a:latin typeface="a_Helver(15%) Bashkir"/>
              </a:rPr>
              <a:t> километ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getImageCABPZUN8"/>
          <p:cNvPicPr/>
          <p:nvPr/>
        </p:nvPicPr>
        <p:blipFill>
          <a:blip r:embed="rId1"/>
          <a:stretch/>
        </p:blipFill>
        <p:spPr>
          <a:xfrm>
            <a:off x="468360" y="0"/>
            <a:ext cx="812808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Мәҡәлдә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1. Ете ҡат үлсә                              йөҙ дуҫың булһы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2. Егет кешегә                               бер ҡат ки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3.Йөҙ һум аҡсаң булғансы          етмеш төрлө һөнә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                                                          </a:t>
            </a:r>
            <a:r>
              <a:rPr b="1" lang="be-BY" sz="3200" spc="-1" strike="noStrike">
                <a:solidFill>
                  <a:srgbClr val="000000"/>
                </a:solidFill>
                <a:latin typeface="a_Helver(15%) Bashkir"/>
              </a:rPr>
              <a:t>ҙә  а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276720" y="4995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8000"/>
                </a:solidFill>
                <a:latin typeface="a_Timer Bashkir"/>
              </a:rPr>
              <a:t>Башҡортостандың   ете мөғжизә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7620120" y="5791320"/>
            <a:ext cx="12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8000"/>
                </a:solidFill>
                <a:latin typeface="a_Timer Bashkir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Admin\Мои документы\Башкортостан\image_10207100123205293730.gif"/>
          <p:cNvPicPr/>
          <p:nvPr/>
        </p:nvPicPr>
        <p:blipFill>
          <a:blip r:embed="rId1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Admin\Мои документы\Башкортостан\image_10207100123205293730.gif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000000"/>
                </a:solidFill>
                <a:latin typeface="a_Helver(15%) Bashkir"/>
              </a:rPr>
              <a:t>Шүлгәнташ мәмерйә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SC0359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00000" y="1484280"/>
            <a:ext cx="71280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"/>
          <p:cNvSpPr/>
          <p:nvPr/>
        </p:nvSpPr>
        <p:spPr>
          <a:xfrm>
            <a:off x="0" y="4437000"/>
            <a:ext cx="205092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Ҡу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әск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250920" y="242100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Салауат Юла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һәйкә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476360" y="62064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шҡо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б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3708360" y="0"/>
            <a:ext cx="201600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Янғанта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5940360" y="549360"/>
            <a:ext cx="2016360" cy="184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Красноус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ифахана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6934320" y="243828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Шүлгән та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 </a:t>
            </a:r>
            <a:r>
              <a:rPr b="1" lang="be-BY" sz="1600" spc="-1" strike="noStrike">
                <a:solidFill>
                  <a:srgbClr val="008000"/>
                </a:solidFill>
                <a:latin typeface="a_Helver(15%) Bashkir"/>
              </a:rPr>
              <a:t>мәмерйә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7128000" y="4437000"/>
            <a:ext cx="2016000" cy="1849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Урал баты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008000"/>
                </a:solidFill>
                <a:latin typeface="a_Helver(15%) Bashkir"/>
              </a:rPr>
              <a:t>эп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1908000" y="5445000"/>
            <a:ext cx="1224000" cy="7164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227640" y="5589720"/>
            <a:ext cx="93672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4716360" y="1844280"/>
            <a:ext cx="0" cy="252108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2050920" y="3860640"/>
            <a:ext cx="1368720" cy="1152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916360" y="2276640"/>
            <a:ext cx="1079280" cy="230472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 flipH="1">
            <a:off x="5292360" y="2276640"/>
            <a:ext cx="1150920" cy="22320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H="1">
            <a:off x="5866920" y="3860640"/>
            <a:ext cx="1225800" cy="100836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ubChord"/>
          <p:cNvSpPr/>
          <p:nvPr/>
        </p:nvSpPr>
        <p:spPr>
          <a:xfrm rot="7870200">
            <a:off x="3039840" y="4384440"/>
            <a:ext cx="3270240" cy="3232080"/>
          </a:xfrm>
          <a:custGeom>
            <a:avLst/>
            <a:gdLst>
              <a:gd name="textAreaLeft" fmla="*/ 478800 w 3270240"/>
              <a:gd name="textAreaRight" fmla="*/ 2791440 w 3270240"/>
              <a:gd name="textAreaTop" fmla="*/ 473040 h 3232080"/>
              <a:gd name="textAreaBottom" fmla="*/ 2759040 h 3232080"/>
            </a:gdLst>
            <a:ahLst/>
            <a:rect l="textAreaLeft" t="textAreaTop" r="textAreaRight" b="textAreaBottom"/>
            <a:pathLst>
              <a:path w="21600" h="21600">
                <a:moveTo>
                  <a:pt x="3911" y="2482"/>
                </a:moveTo>
                <a:cubicBezTo>
                  <a:pt x="1433" y="4534"/>
                  <a:pt x="0" y="7583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3438" y="21600"/>
                  <a:pt x="15985" y="20634"/>
                  <a:pt x="17960" y="18884"/>
                </a:cubicBezTo>
                <a:lnTo>
                  <a:pt x="3911" y="248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3276720" y="499572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8000"/>
                </a:solidFill>
                <a:latin typeface="a_Helver(15%) Bashkir"/>
              </a:rPr>
              <a:t>Башҡортостандың   ете мөғжизә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" descr="Картинка 2 из 76"/>
          <p:cNvPicPr/>
          <p:nvPr/>
        </p:nvPicPr>
        <p:blipFill>
          <a:blip r:embed="rId1"/>
          <a:stretch/>
        </p:blipFill>
        <p:spPr>
          <a:xfrm>
            <a:off x="395280" y="4653000"/>
            <a:ext cx="13669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4" descr="Картинка 2 из 1349"/>
          <p:cNvPicPr/>
          <p:nvPr/>
        </p:nvPicPr>
        <p:blipFill>
          <a:blip r:embed="rId2"/>
          <a:stretch/>
        </p:blipFill>
        <p:spPr>
          <a:xfrm>
            <a:off x="1835280" y="83664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Мои документы\Башкортостан\image_10207100123205293730.gif"/>
          <p:cNvPicPr/>
          <p:nvPr/>
        </p:nvPicPr>
        <p:blipFill>
          <a:blip r:embed="rId3"/>
          <a:stretch/>
        </p:blipFill>
        <p:spPr>
          <a:xfrm flipH="1">
            <a:off x="-360" y="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Documents and Settings\Admin\Мои документы\Башкортостан\image_10207100123205293730.gif"/>
          <p:cNvPicPr/>
          <p:nvPr/>
        </p:nvPicPr>
        <p:blipFill>
          <a:blip r:embed="rId4"/>
          <a:stretch/>
        </p:blipFill>
        <p:spPr>
          <a:xfrm>
            <a:off x="7643880" y="0"/>
            <a:ext cx="150012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Картинка 2 из 394"/>
          <p:cNvPicPr/>
          <p:nvPr/>
        </p:nvPicPr>
        <p:blipFill>
          <a:blip r:embed="rId5"/>
          <a:stretch/>
        </p:blipFill>
        <p:spPr>
          <a:xfrm>
            <a:off x="611280" y="2637000"/>
            <a:ext cx="138276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2" descr="Картинка 4 из 361"/>
          <p:cNvPicPr/>
          <p:nvPr/>
        </p:nvPicPr>
        <p:blipFill>
          <a:blip r:embed="rId6"/>
          <a:stretch/>
        </p:blipFill>
        <p:spPr>
          <a:xfrm>
            <a:off x="3924360" y="33336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1" descr="Картинка 7 из 47"/>
          <p:cNvPicPr/>
          <p:nvPr/>
        </p:nvPicPr>
        <p:blipFill>
          <a:blip r:embed="rId7"/>
          <a:stretch/>
        </p:blipFill>
        <p:spPr>
          <a:xfrm>
            <a:off x="6227640" y="836640"/>
            <a:ext cx="1524240" cy="106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Картинка 6 из 289"/>
          <p:cNvPicPr/>
          <p:nvPr/>
        </p:nvPicPr>
        <p:blipFill>
          <a:blip r:embed="rId8"/>
          <a:stretch/>
        </p:blipFill>
        <p:spPr>
          <a:xfrm>
            <a:off x="7236000" y="2637000"/>
            <a:ext cx="1523880" cy="990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Картинка 10 из 38"/>
          <p:cNvPicPr/>
          <p:nvPr/>
        </p:nvPicPr>
        <p:blipFill>
          <a:blip r:embed="rId9"/>
          <a:stretch/>
        </p:blipFill>
        <p:spPr>
          <a:xfrm>
            <a:off x="7524720" y="4653000"/>
            <a:ext cx="1224000" cy="1066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5T12:22:23Z</dcterms:created>
  <dc:creator>Admin</dc:creator>
  <dc:description/>
  <dc:language>en-US</dc:language>
  <cp:lastModifiedBy>Администратор</cp:lastModifiedBy>
  <dcterms:modified xsi:type="dcterms:W3CDTF">2020-01-12T09:35:17Z</dcterms:modified>
  <cp:revision>9</cp:revision>
  <dc:subject/>
  <dc:title>Слайд 1</dc:title>
</cp:coreProperties>
</file>