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8ECC-2800-4D0A-84AB-04113B021B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21DB-48E8-4959-B80E-8B22C39A4F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64E-E3FE-4951-8F62-A82627D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5A8-856A-434F-B874-B1FBA76A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AB3-12FC-4F5A-89D5-AB35161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08D-77DB-4087-8966-49B28D36F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A8A-8435-45A1-B457-0DE914E7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8455-B427-4A61-AAF9-64341A2D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2A54-6B25-43EC-8B71-91773E2F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B0C1-B0EF-4558-9675-1AE01C53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361A-3FED-4D2A-92A1-9095ECC8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408E-9376-4905-B701-1F95E263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E931-EB8A-42D0-BACA-A694789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C3C-8012-40CD-9C04-A361D506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8938-D65B-4F52-B41E-82B4C565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597-EBE5-4DD6-9FB0-4D02E65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68F8-CC24-4A08-AF72-DDE4254D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236-080B-4414-98C7-7A2EB2A8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8FCE-B103-442E-A52C-2D028B21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DAFA-ABC8-4160-A1AC-36211D3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40DF-CF36-4D3A-B405-BB103F0C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2668-DC21-4B2A-B7CF-9F91D460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558AE-5F0A-43C4-B414-E6113C6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F0AA-70FD-4676-9D0A-8B302B6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F56-B4DF-47F0-9BE1-2E4C2978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EB4C-9BD4-4E19-821A-E6DD536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33E8-27BE-4813-8510-A0A4103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1905-F6E5-4A09-9C5B-CB6DE10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8145-FEE0-405C-AB6F-CBDC459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EFA3-C113-437E-89F0-A49AF691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AB65-FE32-4C9F-B3D6-84090F43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5147-0C42-4861-B47E-E49C8628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6A69-5A95-4F3D-A51A-22D0818C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8EE07-8CAA-4F05-8BA0-425E22F1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33FF-6A3E-482E-98D0-B60AE480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DDB9-EABC-4F97-A1B6-C615EC1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3DBD-DF71-4BAE-8ACA-67B78D03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2BED9-F1CB-448E-A05E-C381802B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B84CA-7524-4A34-B54F-09F1149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03A7-EF0B-4DA7-8396-F07EE43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96F8-256B-4821-BE95-6BA69FB1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DE36-B45C-4BF3-90C7-1040BFFC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72FA-EAF6-4150-9237-4FAEF099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B7A2-D40D-4CCC-8DAD-C6278615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FB33E-12C8-4F7E-9DD8-8F63513F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06A9-B5EA-4B3C-A1ED-33C6CF3E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59-67EF-413D-B1EC-F61F2E8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95FC6-E10A-4A35-82AC-49F76457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238CC-612B-477D-9542-AAE17486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7A2CA-C706-47BC-901B-CCAA1B1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23CE-4B18-4ACF-B0B4-DDD5ECC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FDB37-CF18-4EC5-86EC-6B85D69C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064F-B317-446B-A3C4-8E7DD78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6A63-CF00-48AC-BF50-C1FF20CC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1395-AC27-4755-8AE6-53B3F1E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4A90-4544-48F3-BA00-D00C7124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F5F2-889D-4579-A7D4-45D1E702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AEC-0D5D-40AB-8371-8EA27EFF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3F58-84B1-4B44-B2AF-3CE6A095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C80F1-8C1D-4F61-A9E8-D0C47F5D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366D-BC7E-4BFC-BEA8-BC3388DF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3912D-BDD4-40FB-A971-3F3CA1E3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7634-6049-46DE-9E2B-C1EE0A4F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A19D-C57F-4450-97C4-8F12795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C52DC-979D-4EAA-8F3D-3CAA8BBA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DBA7-B61B-4741-9AD8-D1D266C2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05193-EAE2-4D64-8704-66EA6E4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8AA27-BBD4-4391-AFB4-DE77D3F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A5A2-8C5B-47AE-85B9-224594C3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CDE60-42E9-4EB6-BD88-36341A88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EE0F-DAB8-43FC-B7DC-2CA5EE178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57C66-A54A-4965-8F67-040491B5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FD79-E3A7-4034-B151-65C473BD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CE6D1-0D01-4AAE-A09F-D4B8CBC5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830E-7406-4722-AE85-60B8BFE9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99D46-6684-4D59-9233-81C3BC55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E1DFB-2FB6-4BFC-8E52-5B1D51B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AB7B-22C2-447D-89BF-2EBF4B7F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5355-5264-4CEF-B741-A3C09CD2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4C5D-B5B2-4969-BD0F-3FB3869B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2BADD-71EA-46F7-B087-5A63EED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6E2C9-2F99-4BD2-B615-EB54BAA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ACA76-21F7-4AD5-B8D9-D8C923F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FE455-BFDA-43F1-921D-6207BD9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563F-1811-4D2B-9903-8327B4A7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E9B-1089-4141-B745-423DF83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30040" y="228600"/>
            <a:ext cx="869328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09520" y="1679400"/>
            <a:ext cx="8724960" cy="1330560"/>
            <a:chOff x="209520" y="1679400"/>
            <a:chExt cx="872496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7560" y="169668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7080" y="170784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09520" y="167940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E8A8-FA32-4B20-A769-96FD03B92D2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89F-84F6-4213-B3C3-BE23190FD55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30040" y="228600"/>
            <a:ext cx="869328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5120" y="4203720"/>
            <a:ext cx="28782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7440" y="4087800"/>
            <a:ext cx="547056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520" y="4059360"/>
            <a:ext cx="872496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5D21-EC94-4A58-A8B3-EB66EFD3B12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09520" y="714240"/>
            <a:ext cx="8724960" cy="1330560"/>
            <a:chOff x="209520" y="714240"/>
            <a:chExt cx="872496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7560" y="731520"/>
              <a:ext cx="554508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7080" y="742680"/>
              <a:ext cx="546912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09520" y="714240"/>
              <a:ext cx="872496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9AD-B7FE-4457-A9F5-E4BF29823342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5C90-66B3-4EC4-A6D4-524E5816CE9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30040" y="228600"/>
            <a:ext cx="869328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09520" y="5354640"/>
            <a:ext cx="8724960" cy="1330200"/>
            <a:chOff x="209520" y="5354640"/>
            <a:chExt cx="872496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3040" y="5499000"/>
              <a:ext cx="28814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0800" y="5371920"/>
              <a:ext cx="555300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212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09520" y="5354640"/>
              <a:ext cx="872496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15B2-BC12-4472-8E75-5940101ABCB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30040" y="228600"/>
            <a:ext cx="869328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09520" y="714240"/>
            <a:ext cx="8724960" cy="1332000"/>
            <a:chOff x="209520" y="714240"/>
            <a:chExt cx="872496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3040" y="860040"/>
              <a:ext cx="28814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0800" y="731520"/>
              <a:ext cx="555300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212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09520" y="714240"/>
              <a:ext cx="872496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68440" indent="-2685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4456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2860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42880" indent="-22536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42880" indent="-22536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DA78-7B91-4152-BDD4-FED278087FBB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Прямоугольник 2" descr=""/>
          <p:cNvPicPr/>
          <p:nvPr/>
        </p:nvPicPr>
        <p:blipFill>
          <a:blip r:embed="rId1"/>
          <a:stretch/>
        </p:blipFill>
        <p:spPr>
          <a:xfrm>
            <a:off x="517680" y="2127240"/>
            <a:ext cx="8248320" cy="2311560"/>
          </a:xfrm>
          <a:prstGeom prst="rect">
            <a:avLst/>
          </a:prstGeom>
          <a:ln w="0">
            <a:noFill/>
          </a:ln>
        </p:spPr>
      </p:pic>
      <p:sp>
        <p:nvSpPr>
          <p:cNvPr id="343" name="Прямоугольник 4"/>
          <p:cNvSpPr/>
          <p:nvPr/>
        </p:nvSpPr>
        <p:spPr>
          <a:xfrm>
            <a:off x="376200" y="366840"/>
            <a:ext cx="87678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C:\Users\Сергей\Desktop\standart.jpg"/>
          <p:cNvPicPr/>
          <p:nvPr/>
        </p:nvPicPr>
        <p:blipFill>
          <a:blip r:embed="rId2"/>
          <a:stretch/>
        </p:blipFill>
        <p:spPr>
          <a:xfrm>
            <a:off x="484200" y="4395960"/>
            <a:ext cx="3295800" cy="251604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345" name="Picture 7" descr="F:\стандарт\2011-07-15_075053.png"/>
          <p:cNvPicPr/>
          <p:nvPr/>
        </p:nvPicPr>
        <p:blipFill>
          <a:blip r:embed="rId3"/>
          <a:stretch/>
        </p:blipFill>
        <p:spPr>
          <a:xfrm>
            <a:off x="176040" y="890640"/>
            <a:ext cx="30672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08000" y="40428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ctr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ово участие родителей? (взаимодействие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татья 44 «Закон Об образовании в РФ» «родители обязаны обеспечить получение детьми общего образования»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участвовать в реализации программы, в создании условий для полноценного и своевременного развития ребенка в дошкольном возрасте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одители должны быть активными участниками образовательного процесса, участниками всех проектов, независимо от того, какая деятельность в них доминирует, а не просто сторонними наблюдателя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3" name="Рисунок 2" descr=""/>
          <p:cNvPicPr/>
          <p:nvPr/>
        </p:nvPicPr>
        <p:blipFill>
          <a:blip r:embed="rId1"/>
          <a:stretch/>
        </p:blipFill>
        <p:spPr>
          <a:xfrm>
            <a:off x="2195640" y="3933720"/>
            <a:ext cx="45370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2"/>
          <p:cNvSpPr/>
          <p:nvPr/>
        </p:nvSpPr>
        <p:spPr>
          <a:xfrm>
            <a:off x="0" y="260280"/>
            <a:ext cx="89647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ФГОС ДО Организация обязана по отношению к родителя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овать родителей (законных представителей) и общественность относительно целей дошкольного образования, об Образовательной  Программе дет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открытость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участия родителей (законных представителей) в образователь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ть родителей (законных представителей) в воспитании детей, охране и укреплении их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вовлечение семей непосредственно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вать условия для взрослых по поиску, использованию материалов, обеспечивающих реализацию Программы, в том числе в информационной среде, а также для обсуждения с родителями (законными представителями) детей вопросов, связанных с реализацией Про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7524720" y="5589720"/>
            <a:ext cx="1587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90480" y="2463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4072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ДОБРЫЙ  ПУТЬ!</a:t>
            </a:r>
            <a:endParaRPr b="0" lang="en-US" sz="4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8" name="Рисунок 4" descr=""/>
          <p:cNvPicPr/>
          <p:nvPr/>
        </p:nvPicPr>
        <p:blipFill>
          <a:blip r:embed="rId1"/>
          <a:stretch/>
        </p:blipFill>
        <p:spPr>
          <a:xfrm>
            <a:off x="1908000" y="2276640"/>
            <a:ext cx="5667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0" y="28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от 29.12.2012г. №273- Ф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ое образование – уровень общего 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яет дошкольное образование от услуги по присмотру и у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3527280" cy="1440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Users\Сергей\Desktop\MH900230410.JPG"/>
          <p:cNvPicPr/>
          <p:nvPr/>
        </p:nvPicPr>
        <p:blipFill>
          <a:blip r:embed="rId2"/>
          <a:stretch/>
        </p:blipFill>
        <p:spPr>
          <a:xfrm>
            <a:off x="6156360" y="260280"/>
            <a:ext cx="273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1"/>
          <p:cNvSpPr/>
          <p:nvPr/>
        </p:nvSpPr>
        <p:spPr>
          <a:xfrm>
            <a:off x="324000" y="476280"/>
            <a:ext cx="842472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7.10.2013г. №1155 «Об утверждении Федерального государственного образовательного стандарта дошкольного образов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государственных гарантий и требований к программам, условиям и результатам получения бесплатного доступного качественно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ершенно особый документ, связанный с поддержкой разнообразия детства, а не его унифик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жено табу на любые формы и методы школьной модели обучения, т.е. та, классно — урочная модель образования, которая присутствовала в детских садах и была привнесена из школы, будет утраче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5" descr="C:\Users\Сергей\Desktop\image-602.jpg"/>
          <p:cNvPicPr/>
          <p:nvPr/>
        </p:nvPicPr>
        <p:blipFill>
          <a:blip r:embed="rId1"/>
          <a:stretch/>
        </p:blipFill>
        <p:spPr>
          <a:xfrm>
            <a:off x="5724360" y="4724280"/>
            <a:ext cx="314172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1"/>
          <p:cNvSpPr/>
          <p:nvPr/>
        </p:nvSpPr>
        <p:spPr>
          <a:xfrm>
            <a:off x="250920" y="549360"/>
            <a:ext cx="871380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ФГОС Д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государственных гарантий уровня и качества образования на основе единства обязательных требований к условиям реализации основных образовательных программ, их структуре и результатам их осво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единства образовательного простра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2987640" y="4221000"/>
            <a:ext cx="338472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1"/>
          <p:cNvSpPr/>
          <p:nvPr/>
        </p:nvSpPr>
        <p:spPr>
          <a:xfrm>
            <a:off x="250920" y="404640"/>
            <a:ext cx="871380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задачи дошкольного образования решает Стандар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а и укрепление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равных возможностей для полноценного развития каждого ребен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иод дошкольного детства независимо от места жительства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реемственности целей, задач и содержания образования, реализуемых в рамках образовательных программ различных уровн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е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бщей культуры личности детей, в том числе ценностей здорового образа жизни, развитие их социальных, нравственных, эстетических, интеллектуальных, физических качеств, инициативности, самостоятельности и ответственности ребенка, формирование предпосылок учеб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179280" y="476280"/>
            <a:ext cx="871380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является отличительной особенностью ФГОС 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ДО не допускает переноса учебно-дисциплинарной модели образования на жизнь ребёнка дошкольного возраста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документ ставит во главу угла индивидуальный подход к ребенку через игру, где происходит сохранение самоценности дошкольного детства и сохраняется сама природа дошкольника. Ведущими видами детской деятельности станут: игровая, коммуникативная, двигательная, познавательно-исследовательская, продуктивная и др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отметить, что каждому виду детской деятельности соответствуют определенные формы работы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и способ организации детских видов деятельности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уководство взрослого, а совместная (партнерская) деятельность взрослого и ребенка – это наиболее естественный и эффективный контекст развития в дошкольном дет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09520" y="4075200"/>
            <a:ext cx="873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3" descr="C:\Users\Сергей\Desktop\Тигран Шмис   Стандарт сделает дошкольное образование инновационным    РИА Новости_files\950353184.jpg"/>
          <p:cNvPicPr/>
          <p:nvPr/>
        </p:nvPicPr>
        <p:blipFill>
          <a:blip r:embed="rId1"/>
          <a:stretch/>
        </p:blipFill>
        <p:spPr>
          <a:xfrm>
            <a:off x="979560" y="420840"/>
            <a:ext cx="7199280" cy="293184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901800" y="2637000"/>
            <a:ext cx="8048520" cy="720720"/>
          </a:xfrm>
          <a:prstGeom prst="rect">
            <a:avLst/>
          </a:prstGeom>
          <a:solidFill>
            <a:srgbClr val="c6e7fc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должен быть выпускник ДО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"/>
          <p:cNvSpPr/>
          <p:nvPr/>
        </p:nvSpPr>
        <p:spPr>
          <a:xfrm>
            <a:off x="112680" y="3357720"/>
            <a:ext cx="89344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ящий свой народ, свой край и свою Родин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уважающий и принимающий ценности семьи 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любознательный , активно и заинтересованно познающий ми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ладеющий основами умения учиться, способный  к организации собственной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готовый самостоятельно действовать и отвечать за свои поступки перед семьей и обществ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доброжелательный, умеющий слушать и слышать собеседника, обосновывать свою позицию, высказывать свое мн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- выполняющий правила здорового и безопасного для себя и для окружающих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23640" y="333360"/>
            <a:ext cx="856908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ФГОС обеспечит подготовку детей к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работчики стандарта красной нитью проводят утверждение о том, что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е ребенок должен быть готов к школе, а школа должна быть готова к ребенку»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ни указывают на то, что все родители должны знать о том, что для успешной адаптации к школьной жизни гораздо важнее, чем умение читать и считать,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ку нужны психологическая стабильность, высокая самооценка, вера в свои силы и социальные способности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 эти психологические характеристики лежат в основе высокой мотивации детей к обучению в школ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95280" y="475920"/>
            <a:ext cx="8353440" cy="62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удут ли учиться дошкольники как в школе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ебенок должен учиться через игры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ерез игру, экспериментирование, общение дети знакомятся с окружающим миром.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и этом главное не надвинуть на дошкольное образование формы школьной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1" name="Рисунок 2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9243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gey</dc:creator>
  <dc:description/>
  <dc:language>en-US</dc:language>
  <cp:lastModifiedBy>1</cp:lastModifiedBy>
  <dcterms:modified xsi:type="dcterms:W3CDTF">2014-09-04T10:00:37Z</dcterms:modified>
  <cp:revision>283</cp:revision>
  <dc:subject/>
  <dc:title>Презентация PowerPoint</dc:title>
</cp:coreProperties>
</file>