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1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B74FC-6E92-4693-884A-4E5F6085330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208CA-57CB-46CC-897B-36591CC8C3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C377-E3BF-4782-B471-E02E30FA8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49C2-BA1F-4A67-B4B5-B14FCFCBB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7374-C047-4F3C-9CEB-9B05A179C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95D6-66BC-4709-B37A-0455EA750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95A2E-E2E1-4B80-B37D-7584A9475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A5C60-E49A-4232-A6B9-C5C6722B3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5349D-6C91-436D-99A5-C9519D423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67E91-2D4A-4489-A256-3E0A5C89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0DB15-B22C-4794-BA4D-63B3FD798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7B9AF-A1C0-417E-8293-8F318892E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6D451-D1D0-44A9-8480-4776DEC5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8F73-74F6-4CEA-8666-6F4964540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33A61-3A80-4B87-89BA-08078B31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D1F25-64B9-4B96-AF39-B342F362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C5F4F-30A4-4994-AECD-50BA9FFAC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ECC8D-F883-4FDB-A018-87B23D0E9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30C04-EFA5-4763-9090-2E03DBC5C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1E00E-5AB5-44CD-9535-929B901A6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F5D69-3DFA-48B5-B57E-E75D30484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C827D-CEAA-400F-92E7-82325647A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E368B-736E-4338-B636-802FDED4C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279F9-5064-4C6A-B082-EC4556CA1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B422-4F1F-46E2-A1DC-A9EAEB213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D5575-36ED-4B4E-AF0B-FDEE96200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C73CF-7FC2-40F8-89E8-F66345E7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55160-545A-4FC6-B6CC-6565EBE1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F2393-E4AB-4D4D-BF47-26E87B3F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D3FD6-82A3-43F1-9A45-268CC7F49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5C8EB-D7FF-4ED5-A0F1-A5CA7FC11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3646A-D686-48F2-8B91-E12D21AF5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80D5F-83E9-40C4-BAE1-EFAE9337D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FC0CA-EC2A-4A3A-AA2F-440FA3A91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022EE-664E-4B81-A50D-DC3E4E837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9008-404E-4BDB-88D6-B908DAB2F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3988B-F5EB-4D26-A18F-2E19594F7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3BBE3-D11D-476E-AAD8-0A8D52E6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D8FFD-B2DE-4F48-B773-EA97F11F8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2419D-D26F-4E55-BA62-4FE00F83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8020C-3AD3-4967-8033-56FE2C2A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15087-1F07-4C9B-9854-84BFBF04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BA2BA-A156-4A33-98EB-25224C032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92663-EB66-4BE3-AF2D-E5A5F7153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F1818-4095-40AE-8EB6-F3CA7BBB6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31AF0-8721-4341-97FF-B60E31E3A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14C3-C425-43CF-8AF7-D450A64A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1ADC1-2BDF-480A-B0AB-9C43F6B69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82B47-C606-456E-BED4-0D3C41CAF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3DDAE-DB1D-4759-BB29-68B7F60A1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510AF-F5CA-4B6E-AD78-42EE926BD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2E7CC-1055-4C16-AF91-3CD639B56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C86BF-0BE1-4938-8403-1991A714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FD86C-A7B3-4D18-ABA6-EA8B3603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7ACDD-35D0-490D-9B8F-8CCC1FDC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F960C-38DD-4532-9C46-5419750CB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31BA2-DE75-436C-932C-6A9060ABB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1AAB-2EEF-49BF-96AA-FF74D2CFA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00A1A-C3A6-4E3E-9977-2094DE743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7572A-B7C9-4418-8379-930776AF4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59527-5B8F-492F-B54D-550203563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1F541-6FF4-4C1F-984B-52A381080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A900F-705B-4D51-BE81-A246A6454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DE64B-2429-4C24-8C70-45A55456B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DCD2F-2B61-4BC9-B616-349013CD5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519D4-D65D-4C8A-BB2F-389292F6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68F01-89A4-437D-992C-97D440AC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E2B82-DB04-43CD-87CE-387E3034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7CF7-ECE6-40F6-823D-01DD7E3F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5DF27-557B-46F5-B56F-A887D268F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842A0-22A5-429D-9802-B7E0D45C4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6F579-7903-4C70-8332-CB1787895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80E7A-EFCD-49C5-AD1F-B440C99E3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3547C-47F5-4AEA-8C38-F9AF19593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5F95E-32F4-4E82-B27D-50B24ECFD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7E900-CA6D-470F-9729-035038EDC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30181-A388-47C2-8679-E0DA7B46D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7D84D-0113-4317-A337-67CC613C6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952C5-B395-4B67-B053-BCD81C56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C137-DA3B-4493-A037-66874B5A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3F224-47E8-4B44-909D-F480DB57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6E3DF-C50E-4E8D-9894-79595198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173A1-ADB2-44FF-9BD5-778BAE02D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1F1F1-DD68-4768-89C4-234BC1FB1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DC659E-83CA-4A66-930C-92AC13232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ED95-1CB4-48EA-A705-D9B2156B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30040" y="228600"/>
            <a:ext cx="869328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09520" y="1679400"/>
            <a:ext cx="8724960" cy="1330560"/>
            <a:chOff x="209520" y="1679400"/>
            <a:chExt cx="872496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7560" y="1696680"/>
              <a:ext cx="554508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7080" y="1707840"/>
              <a:ext cx="546912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09520" y="1679400"/>
              <a:ext cx="87249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E0576-E36B-4A98-9FAC-573C7407376E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268200" indent="-268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68440" indent="-2685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4456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2860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4288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42880" indent="-2253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42880" indent="-2253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30040" y="228600"/>
            <a:ext cx="869328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09520" y="5354640"/>
            <a:ext cx="8724960" cy="1330200"/>
            <a:chOff x="209520" y="5354640"/>
            <a:chExt cx="872496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3040" y="5499000"/>
              <a:ext cx="28814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0800" y="5371920"/>
              <a:ext cx="555300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212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09520" y="5354640"/>
              <a:ext cx="872496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268200" indent="-268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68440" indent="-2685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4456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2860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4288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42880" indent="-2253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42880" indent="-2253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DCB9C-9911-4605-97EC-EB0580497436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30040" y="228600"/>
            <a:ext cx="869328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5120" y="4203720"/>
            <a:ext cx="28782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7440" y="4087800"/>
            <a:ext cx="547056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09520" y="4059360"/>
            <a:ext cx="872496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268200" indent="-268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68440" indent="-2685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4456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2860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4288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42880" indent="-2253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42880" indent="-2253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6654B-5F25-4203-917C-1A1B9AEEC77F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30040" y="228600"/>
            <a:ext cx="869328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09520" y="714240"/>
            <a:ext cx="8724960" cy="1330560"/>
            <a:chOff x="209520" y="714240"/>
            <a:chExt cx="872496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7560" y="731520"/>
              <a:ext cx="554508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7080" y="742680"/>
              <a:ext cx="546912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09520" y="714240"/>
              <a:ext cx="87249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268200" indent="-268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68440" indent="-2685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4456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2860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4288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42880" indent="-2253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42880" indent="-2253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5E946-8A8B-45D8-AFF0-EF74C32E5AC5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30040" y="228600"/>
            <a:ext cx="869328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09520" y="714240"/>
            <a:ext cx="8724960" cy="1332000"/>
            <a:chOff x="209520" y="714240"/>
            <a:chExt cx="872496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3040" y="860040"/>
              <a:ext cx="28814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0800" y="731520"/>
              <a:ext cx="555300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212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09520" y="714240"/>
              <a:ext cx="872496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268200" indent="-268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68440" indent="-2685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4456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2860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4288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42880" indent="-2253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42880" indent="-2253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C06EE-691D-45B6-9A30-6568AB74FB1E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30040" y="228600"/>
            <a:ext cx="869328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09520" y="5354640"/>
            <a:ext cx="8724960" cy="1330200"/>
            <a:chOff x="209520" y="5354640"/>
            <a:chExt cx="872496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3040" y="5499000"/>
              <a:ext cx="28814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0800" y="5371920"/>
              <a:ext cx="555300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212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09520" y="5354640"/>
              <a:ext cx="872496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268200" indent="-268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68440" indent="-2685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4456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2860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4288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42880" indent="-2253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42880" indent="-2253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6E45E-9EAB-46CE-B68D-6F64B7BD2698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30040" y="228600"/>
            <a:ext cx="869328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09520" y="714240"/>
            <a:ext cx="8724960" cy="1332000"/>
            <a:chOff x="209520" y="714240"/>
            <a:chExt cx="872496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3040" y="860040"/>
              <a:ext cx="28814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0800" y="731520"/>
              <a:ext cx="555300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212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09520" y="714240"/>
              <a:ext cx="872496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268200" indent="-268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68440" indent="-2685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4456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2860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4288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42880" indent="-2253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42880" indent="-2253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98C88-5879-4796-9406-22C234C1B505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Прямоугольник 2" descr=""/>
          <p:cNvPicPr/>
          <p:nvPr/>
        </p:nvPicPr>
        <p:blipFill>
          <a:blip r:embed="rId1"/>
          <a:stretch/>
        </p:blipFill>
        <p:spPr>
          <a:xfrm>
            <a:off x="517680" y="2127240"/>
            <a:ext cx="8248320" cy="2311560"/>
          </a:xfrm>
          <a:prstGeom prst="rect">
            <a:avLst/>
          </a:prstGeom>
          <a:ln w="0">
            <a:noFill/>
          </a:ln>
        </p:spPr>
      </p:pic>
      <p:sp>
        <p:nvSpPr>
          <p:cNvPr id="343" name="Прямоугольник 4"/>
          <p:cNvSpPr/>
          <p:nvPr/>
        </p:nvSpPr>
        <p:spPr>
          <a:xfrm>
            <a:off x="376200" y="366840"/>
            <a:ext cx="87678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6" descr="C:\Users\Сергей\Desktop\standart.jpg"/>
          <p:cNvPicPr/>
          <p:nvPr/>
        </p:nvPicPr>
        <p:blipFill>
          <a:blip r:embed="rId2"/>
          <a:stretch/>
        </p:blipFill>
        <p:spPr>
          <a:xfrm>
            <a:off x="484200" y="4395960"/>
            <a:ext cx="3295800" cy="2516040"/>
          </a:xfrm>
          <a:prstGeom prst="rect">
            <a:avLst/>
          </a:prstGeom>
          <a:ln w="28440">
            <a:solidFill>
              <a:srgbClr val="00b0f0"/>
            </a:solidFill>
            <a:miter/>
          </a:ln>
        </p:spPr>
      </p:pic>
      <p:pic>
        <p:nvPicPr>
          <p:cNvPr id="345" name="Picture 7" descr="F:\стандарт\2011-07-15_075053.png"/>
          <p:cNvPicPr/>
          <p:nvPr/>
        </p:nvPicPr>
        <p:blipFill>
          <a:blip r:embed="rId3"/>
          <a:stretch/>
        </p:blipFill>
        <p:spPr>
          <a:xfrm>
            <a:off x="176040" y="890640"/>
            <a:ext cx="306720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108000" y="404280"/>
            <a:ext cx="8856720" cy="626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268200" indent="-268200" algn="ctr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Каково участие родителей? (взаимодействие)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68200" indent="-268200" algn="just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Статья 44 «Закон Об образовании в РФ» «родители обязаны обеспечить получение детьми общего образования»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8200" indent="-268200" algn="just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Родители должны участвовать в реализации программы, в создании условий для полноценного и своевременного развития ребенка в дошкольном возрасте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8200" indent="-268200" algn="just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Родители должны быть активными участниками образовательного процесса, участниками всех проектов, независимо от того, какая деятельность в них доминирует, а не просто сторонними наблюдателями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8200" indent="-268200" algn="just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63" name="Рисунок 2" descr=""/>
          <p:cNvPicPr/>
          <p:nvPr/>
        </p:nvPicPr>
        <p:blipFill>
          <a:blip r:embed="rId1"/>
          <a:stretch/>
        </p:blipFill>
        <p:spPr>
          <a:xfrm>
            <a:off x="2195640" y="3933720"/>
            <a:ext cx="453708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Прямоугольник 2"/>
          <p:cNvSpPr/>
          <p:nvPr/>
        </p:nvSpPr>
        <p:spPr>
          <a:xfrm>
            <a:off x="0" y="260280"/>
            <a:ext cx="8964720" cy="70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ФГОС ДО Организация обязана по отношению к родителя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ировать родителей (законных представителей) и общественность относительно целей дошкольного образования, об Образовательной  Программе детского са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ть открытость дошкольного обра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вать условия для участия родителей (законных представителей) в образовательной 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ть родителей (законных представителей) в воспитании детей, охране и укреплении их здоровь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ть вовлечение семей непосредственно в образовательную деятельность, в том числе посредством создания образовательных проектов совместно с семьёй на основе выявления потребностей и поддержки образовательных инициатив семь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вать условия для взрослых по поиску, использованию материалов, обеспечивающих реализацию Программы, в том числе в информационной среде, а также для обсуждения с родителями (законными представителями) детей вопросов, связанных с реализацией Програм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5" descr=""/>
          <p:cNvPicPr/>
          <p:nvPr/>
        </p:nvPicPr>
        <p:blipFill>
          <a:blip r:embed="rId1"/>
          <a:stretch/>
        </p:blipFill>
        <p:spPr>
          <a:xfrm>
            <a:off x="7524720" y="5589720"/>
            <a:ext cx="15876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90480" y="246348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640720" cy="122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rm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 ДОБРЫЙ  ПУТЬ!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68" name="Рисунок 4" descr=""/>
          <p:cNvPicPr/>
          <p:nvPr/>
        </p:nvPicPr>
        <p:blipFill>
          <a:blip r:embed="rId1"/>
          <a:stretch/>
        </p:blipFill>
        <p:spPr>
          <a:xfrm>
            <a:off x="1908000" y="2276640"/>
            <a:ext cx="56674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Прямоугольник 1"/>
          <p:cNvSpPr/>
          <p:nvPr/>
        </p:nvSpPr>
        <p:spPr>
          <a:xfrm>
            <a:off x="0" y="285264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З от 29.12.2012г. №273- Ф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образовании в Российской Федераци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школьное образование – уровень общего образов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яет дошкольное образование от услуги по присмотру и ух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3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3527280" cy="14400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5" descr="C:\Users\Сергей\Desktop\MH900230410.JPG"/>
          <p:cNvPicPr/>
          <p:nvPr/>
        </p:nvPicPr>
        <p:blipFill>
          <a:blip r:embed="rId2"/>
          <a:stretch/>
        </p:blipFill>
        <p:spPr>
          <a:xfrm>
            <a:off x="6156360" y="260280"/>
            <a:ext cx="2736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1"/>
          <p:cNvSpPr/>
          <p:nvPr/>
        </p:nvSpPr>
        <p:spPr>
          <a:xfrm>
            <a:off x="324000" y="476280"/>
            <a:ext cx="8424720" cy="45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обрнауки России от 17.10.2013г. №1155 «Об утверждении Федерального государственного образовательного стандарта дошкольного образования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овокупность государственных гарантий и требований к программам, условиям и результатам получения бесплатного доступного качественного обра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овершенно особый документ, связанный с поддержкой разнообразия детства, а не его унификаци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жено табу на любые формы и методы школьной модели обучения, т.е. та, классно — урочная модель образования, которая присутствовала в детских садах и была привнесена из школы, будет утраче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5" descr="C:\Users\Сергей\Desktop\image-602.jpg"/>
          <p:cNvPicPr/>
          <p:nvPr/>
        </p:nvPicPr>
        <p:blipFill>
          <a:blip r:embed="rId1"/>
          <a:stretch/>
        </p:blipFill>
        <p:spPr>
          <a:xfrm>
            <a:off x="5724360" y="4724280"/>
            <a:ext cx="3141720" cy="19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Box 1"/>
          <p:cNvSpPr/>
          <p:nvPr/>
        </p:nvSpPr>
        <p:spPr>
          <a:xfrm>
            <a:off x="250920" y="549360"/>
            <a:ext cx="8713800" cy="38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ФГОС Д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государством равенства возможностей для каждого ребёнка в получении качественного дошкольного образ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государственных гарантий уровня и качества образования на основе единства обязательных требований к условиям реализации основных образовательных программ, их структуре и результатам их осво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хранение единства образовательного простран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Рисунок 2" descr=""/>
          <p:cNvPicPr/>
          <p:nvPr/>
        </p:nvPicPr>
        <p:blipFill>
          <a:blip r:embed="rId1"/>
          <a:stretch/>
        </p:blipFill>
        <p:spPr>
          <a:xfrm>
            <a:off x="2987640" y="4221000"/>
            <a:ext cx="3384720" cy="20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Box 1"/>
          <p:cNvSpPr/>
          <p:nvPr/>
        </p:nvSpPr>
        <p:spPr>
          <a:xfrm>
            <a:off x="250920" y="404640"/>
            <a:ext cx="8713800" cy="64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задачи дошкольного образования решает Стандар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рана и укрепление физического и психического здоровья детей, в том числе их эмоционального благополуч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равных возможностей для полноценного развития каждого ребенк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иод дошкольного детства независимо от места жительства, пола, нации, языка, социального статуса, психофизиологических и других особенностей (в том числе ограниченных возможностей здоровь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преемственности целей, задач и содержания образования, реализуемых в рамках образовательных программ различных уровн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благоприятных условий развития детей в соответствии с их возрастными и индивидуальными особенностями и склонностями, развитие способностей и творческого потенциала каждого ребенка как субъекта отношений с самим собой, другими детьми, взрослыми и мир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общей культуры личности детей, в том числе ценностей здорового образа жизни, развитие их социальных, нравственных, эстетических, интеллектуальных, физических качеств, инициативности, самостоятельности и ответственности ребенка, формирование предпосылок учебной 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психолого-педагогической поддержки семьи и повышения компетентности родителей (законных представителей) в вопросах развития и образования, охраны и укрепления здоровья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Box 1"/>
          <p:cNvSpPr/>
          <p:nvPr/>
        </p:nvSpPr>
        <p:spPr>
          <a:xfrm>
            <a:off x="179280" y="476280"/>
            <a:ext cx="8713800" cy="57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является отличительной особенностью ФГОС Д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оение образовательных программ дошкольного образования не сопровождается проведением промежуточных аттестаций и итоговой аттестации обучающих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 ДО не допускает переноса учебно-дисциплинарной модели образования на жизнь ребёнка дошкольного возраста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й документ ставит во главу угла индивидуальный подход к ребенку через игру, где происходит сохранение самоценности дошкольного детства и сохраняется сама природа дошкольника. Ведущими видами детской деятельности станут: игровая, коммуникативная, двигательная, познавательно-исследовательская, продуктивная и др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отметить, что каждому виду детской деятельности соответствуют определенные формы работы с деть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яется и способ организации детских видов деятельности: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руководство взрослого, а совместная (партнерская) деятельность взрослого и ребенка – это наиболее естественный и эффективный контекст развития в дошкольном дет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"/>
          <p:cNvSpPr/>
          <p:nvPr/>
        </p:nvSpPr>
        <p:spPr>
          <a:xfrm>
            <a:off x="209520" y="4075200"/>
            <a:ext cx="873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3" descr="C:\Users\Сергей\Desktop\Тигран Шмис   Стандарт сделает дошкольное образование инновационным    РИА Новости_files\950353184.jpg"/>
          <p:cNvPicPr/>
          <p:nvPr/>
        </p:nvPicPr>
        <p:blipFill>
          <a:blip r:embed="rId1"/>
          <a:stretch/>
        </p:blipFill>
        <p:spPr>
          <a:xfrm>
            <a:off x="979560" y="420840"/>
            <a:ext cx="7199280" cy="2931840"/>
          </a:xfrm>
          <a:prstGeom prst="rect">
            <a:avLst/>
          </a:prstGeom>
          <a:ln w="0">
            <a:noFill/>
          </a:ln>
        </p:spPr>
      </p:pic>
      <p:sp>
        <p:nvSpPr>
          <p:cNvPr id="357" name="Прямоугольник 2"/>
          <p:cNvSpPr/>
          <p:nvPr/>
        </p:nvSpPr>
        <p:spPr>
          <a:xfrm>
            <a:off x="901800" y="2637000"/>
            <a:ext cx="8048520" cy="720720"/>
          </a:xfrm>
          <a:prstGeom prst="rect">
            <a:avLst/>
          </a:prstGeom>
          <a:solidFill>
            <a:srgbClr val="c6e7fc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в должен быть выпускник ДО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1"/>
          <p:cNvSpPr/>
          <p:nvPr/>
        </p:nvSpPr>
        <p:spPr>
          <a:xfrm>
            <a:off x="112680" y="3357720"/>
            <a:ext cx="893448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- любящий свой народ, свой край и свою Родин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- уважающий и принимающий ценности семьи и обще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- любознательный , активно и заинтересованно познающий ми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- владеющий основами умения учиться, способный  к организации собственной 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- готовый самостоятельно действовать и отвечать за свои поступки перед семьей и обществ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  </a:t>
            </a:r>
            <a:r>
              <a:rPr b="0" lang="ru-RU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- доброжелательный, умеющий слушать и слышать собеседника, обосновывать свою позицию, высказывать свое мн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- выполняющий правила здорового и безопасного для себя и для окружающих образа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23640" y="333360"/>
            <a:ext cx="8569080" cy="640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268200" indent="-26820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        </a:t>
            </a:r>
            <a:r>
              <a:rPr b="1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Как ФГОС обеспечит подготовку детей к школе?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68200" indent="-26820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     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Разработчики стандарта красной нитью проводят утверждение о том, что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не ребенок должен быть готов к школе, а школа должна быть готова к ребенку»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Они указывают на то, что все родители должны знать о том, что для успешной адаптации к школьной жизни гораздо важнее, чем умение читать и считать, </a:t>
            </a: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ребенку нужны психологическая стабильность, высокая самооценка, вера в свои силы и социальные способности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се эти психологические характеристики лежат в основе высокой мотивации детей к обучению в школе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395280" y="475920"/>
            <a:ext cx="8353440" cy="62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Будут ли учиться дошкольники как в школе?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Ребенок должен учиться через игры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Через игру, экспериментирование, общение дети знакомятся с окружающим миром. </a:t>
            </a: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ри этом главное не надвинуть на дошкольное образование формы школьной жизн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61" name="Рисунок 2" descr=""/>
          <p:cNvPicPr/>
          <p:nvPr/>
        </p:nvPicPr>
        <p:blipFill>
          <a:blip r:embed="rId1"/>
          <a:stretch/>
        </p:blipFill>
        <p:spPr>
          <a:xfrm>
            <a:off x="2340000" y="3716280"/>
            <a:ext cx="392436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ergey</dc:creator>
  <dc:description/>
  <dc:language>en-US</dc:language>
  <cp:lastModifiedBy>1</cp:lastModifiedBy>
  <dcterms:modified xsi:type="dcterms:W3CDTF">2014-09-04T10:00:37Z</dcterms:modified>
  <cp:revision>283</cp:revision>
  <dc:subject/>
  <dc:title>Презентация PowerPoint</dc:title>
</cp:coreProperties>
</file>