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8866-200B-44F7-B458-F0781E9CBC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AD31-3FD0-4DE8-A875-439C944CB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6E3-CF44-4968-82AB-32E75890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BDF-CCB9-45BE-89E2-08A3D047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883-6D97-4389-816F-1F1B837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981-8950-4B01-8456-C6C0F402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278F-8A7D-446F-B389-4EDF4140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F77B-7C03-46A5-8534-514059BA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289C-CE68-43F5-AE0B-3C12E5BD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F22B-E32C-4CA3-9ADA-82C8FD60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22F7-085D-4C6C-B0E3-CBF243BE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AA9-5C2D-4C41-AF9A-28FF5295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4ED9-14A8-4FDD-80C0-29F18F6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C8C-C145-442C-A8FD-8AA6B521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2022-90CB-4A1C-8BA8-372684C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A87-99EB-4EA5-94C1-AA09FA9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C1AF-0D7B-46F3-9AAA-BB41A000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C538-2226-4166-A9A6-E847DC16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AD6-CE3F-471B-B41D-986D00A1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6720-50E9-424A-984B-10882821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6C1C-25E8-41CD-B34E-89238BBD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8332-E13C-4620-9333-9651D384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990F-3977-439D-9FFC-38BBF5D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C3CCB-872C-4D55-B077-22E90E92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BDA-E274-48A5-A9A4-28386477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FB34-F198-48F8-9D49-01788EFA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EB47-3CA7-466A-BC47-F237DC7D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FE41-1798-4209-9953-F90EA73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B0A5-C273-4444-865E-8188445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3D01-10BA-4658-88A0-B76FCF37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87A4-B64E-4EB7-B552-B0F66688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886F-7FBD-4773-B20C-5173EF1F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AB6F-29EA-4A59-8221-17A97896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CC55-DFF8-469C-991E-6D0FEA7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E69F-B5D8-4D48-B5AE-30352D1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235-3492-4BDD-ADC2-C33408C7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F8A8-65CD-41A2-9144-C28DFDAB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7953-92CC-45E4-A5F5-47FB790B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E1CA-B82C-4472-9EA0-1211F1E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575A-D404-41A7-A9B1-9524E77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9DA6-3685-4164-9CD0-5946FEA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8FB9-ED34-416C-A4CC-F0D29448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6D71-8E2C-4088-824E-2B1F2E86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DC85-140D-417F-B87F-0C8F4929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5CF1-ADCE-4423-9475-38CDA493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2871-0783-4238-9CDF-0F0B435A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262-1BEA-4B56-BB1F-22B4A2F8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0051-8021-4115-B78E-D45DCCC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5CF4-E6CA-4287-90D2-A4DE268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A83D-8076-4728-8355-56E49F0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F9BB-FB8A-4F3E-BE87-FE939777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EBDA-BDB4-433D-8FFC-CB8A983D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9EED-13F2-460F-BB86-5DE69A89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AB9D-88CC-4566-A63D-E428C50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2C0F-08D8-4649-B64C-7E8CC49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EFAE-E4FF-4140-8E94-AA6A577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98C1-851A-4408-A43A-002EA606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7C2-7578-4835-819F-BD7B22BD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8F0B-DF23-463D-9DB5-F67B2416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6473-DC99-48D7-8155-847207B6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661A6-3F19-47E2-A219-79C4AD1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1CC8-6F89-49F5-81C0-EA913B5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A8B3-434E-4DA3-85A5-144773FA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2A65-7FCF-4BE0-8CE2-9AB8B075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08FE1-9DFC-47BA-9C14-AF49C07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D340-77AE-4BEC-BD55-10FB6C7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7E85-CFC1-4189-915C-F2EF03C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0A44-34A7-4190-B05A-82FC19D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519-0001-4939-9974-C07C81E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32D3-49D6-4620-A9B0-2C1217C0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BED6D-3309-4C05-B579-E5E79D5F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B99F-4679-4C95-97FD-78FDA2F9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BC3E-C6C6-48CE-B380-173CCA4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99C8-282B-4E3E-A2BC-69952D7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A07C-18FE-4FFF-B4FF-68F37BF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95F7B-CA3F-442E-8A92-1BF46B8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3B27-C6A0-4766-B5CB-4A2D9436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9BFFE-9C1B-4990-8481-03FA9E0E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CE58-1958-455E-91C7-3FF4ED9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B97-88BB-4285-B08E-9043305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C7B50-ABC2-4DDC-9F70-D5E856D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35BED-803E-4D1E-81A1-B6C1766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FC057-FD70-4D9B-943F-5688B56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4B6D-1C97-43B1-9257-C5A8F60D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646B1-EC5F-42C7-8B00-FB4EB1DE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326-EDAD-47AD-A0FA-84432C7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30040" y="228600"/>
            <a:ext cx="86932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09520" y="1679400"/>
            <a:ext cx="8724960" cy="1330560"/>
            <a:chOff x="209520" y="1679400"/>
            <a:chExt cx="872496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7560" y="169668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7080" y="170784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09520" y="167940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91A2-25BD-497F-B35D-2F83199D0C9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A56-62D5-4AD2-BE33-67C420883EC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30040" y="228600"/>
            <a:ext cx="86932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5120" y="4203720"/>
            <a:ext cx="28782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7440" y="4087800"/>
            <a:ext cx="547056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09520" y="4059360"/>
            <a:ext cx="87249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4BF-BC25-43B8-9D94-0095F33EC31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09520" y="714240"/>
            <a:ext cx="8724960" cy="1330560"/>
            <a:chOff x="209520" y="714240"/>
            <a:chExt cx="87249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7560" y="73152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7080" y="74268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09520" y="71424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3A96-09B5-48F9-BC18-B04504A0663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1A3-8970-401E-B680-902D1F7FD82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CCC-EB2D-4C2D-A6FD-995025F3807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C694-545D-49D8-BC29-1D5E58B4202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2127240"/>
            <a:ext cx="8248320" cy="23115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4"/>
          <p:cNvSpPr/>
          <p:nvPr/>
        </p:nvSpPr>
        <p:spPr>
          <a:xfrm>
            <a:off x="376200" y="366840"/>
            <a:ext cx="8767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C:\Users\Сергей\Desktop\standart.jpg"/>
          <p:cNvPicPr/>
          <p:nvPr/>
        </p:nvPicPr>
        <p:blipFill>
          <a:blip r:embed="rId2"/>
          <a:stretch/>
        </p:blipFill>
        <p:spPr>
          <a:xfrm>
            <a:off x="484200" y="4395960"/>
            <a:ext cx="3295800" cy="25160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345" name="Picture 7" descr="F:\стандарт\2011-07-15_075053.png"/>
          <p:cNvPicPr/>
          <p:nvPr/>
        </p:nvPicPr>
        <p:blipFill>
          <a:blip r:embed="rId3"/>
          <a:stretch/>
        </p:blipFill>
        <p:spPr>
          <a:xfrm>
            <a:off x="176040" y="890640"/>
            <a:ext cx="30672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ово участие родителей? (взаимодействие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ья 44 «Закон Об образовании в РФ» «родители обязаны обеспечить получение детьми общего образования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участвовать в реализации программы, в создании условий для полноценного и своевременного развития ребенка в дошкольном возрас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быть активными участниками образовательного процесса, участниками всех проектов, независимо от того, какая деятельность в них доминирует, а не просто сторонними наблюдател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Рисунок 2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4537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2"/>
          <p:cNvSpPr/>
          <p:nvPr/>
        </p:nvSpPr>
        <p:spPr>
          <a:xfrm>
            <a:off x="0" y="260280"/>
            <a:ext cx="89647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 ДО Организация обязана по отношению к родител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(законных представителей) и общественность относительно целей дошкольного образования, об Образовательной  Программ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ткрытость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родителей (законных представителей) в воспитании детей, охране и укреплении их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вовлечение семей непосредственно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представителями) детей вопросов, связанных с реализаци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158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ОБРЫЙ  ПУТЬ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667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0" y="28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от 29.12.2012г. №273- Ф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 – уровень обще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яет дошкольное образование от услуги по присмотру и у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728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Users\Сергей\Desktop\MH900230410.JPG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324000" y="476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7.10.2013г. №1155 «Об утверждении Федерального государственного образовательного стандарта дошкольного образов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государственных гарантий и требований к программам, условиям и результатам получения бесплатного доступного качеств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ершенно особый документ, связанный с поддержкой разнообразия детства, а не его унифик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о табу на любые формы и методы школьной модели обучения, т.е. та, классно — урочная модель образования, которая присутствовала в детских садах и была привнесена из школы, будет утра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Сергей\Desktop\image-602.jpg"/>
          <p:cNvPicPr/>
          <p:nvPr/>
        </p:nvPicPr>
        <p:blipFill>
          <a:blip r:embed="rId1"/>
          <a:stretch/>
        </p:blipFill>
        <p:spPr>
          <a:xfrm>
            <a:off x="5724360" y="4724280"/>
            <a:ext cx="3141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250920" y="549360"/>
            <a:ext cx="8713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ГОС 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384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50920" y="404640"/>
            <a:ext cx="8713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дошкольного образования решает Станда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целей, задач и содержания образования, реализуемых в рамках образовательных программ различных 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е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в том числе ценностей здорового образа жизни, развитие их социальных, нравственных, эстетических, интеллектуальных, физических качеств, инициативности, самостоятельности и ответственности ребенка, формирование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476280"/>
            <a:ext cx="87138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тличительной особенностью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ДО не допускает переноса учебно-дисциплинарной модели образования на жизнь ребёнка дошкольного возраста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документ ставит во главу угла индивидуальный подход к ребенку через игру, где происходит сохранение самоценности дошкольного детства и сохраняется сама природа дошкольника. Ведущими видами детской деятельности станут: игровая, коммуникативная, двигательная, познавательно-исследовательская, продуктивная и д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каждому виду детской деятельности соответствуют определенные формы работы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и способ организации детских видов деятельности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ководство взрослого, а совместная (партнерская) деятельность взрослого и ребенка – это наиболее естественный и эффективный контекст развития в дошкольном дет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09520" y="40752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Сергей\Desktop\Тигран Шмис   Стандарт сделает дошкольное образование инновационным    РИА Новости_files\950353184.jpg"/>
          <p:cNvPicPr/>
          <p:nvPr/>
        </p:nvPicPr>
        <p:blipFill>
          <a:blip r:embed="rId1"/>
          <a:stretch/>
        </p:blipFill>
        <p:spPr>
          <a:xfrm>
            <a:off x="979560" y="420840"/>
            <a:ext cx="7199280" cy="29318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901800" y="2637000"/>
            <a:ext cx="8048520" cy="720720"/>
          </a:xfrm>
          <a:prstGeom prst="rect">
            <a:avLst/>
          </a:prstGeom>
          <a:solidFill>
            <a:srgbClr val="c6e7f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должен быть выпускник ДО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112680" y="3357720"/>
            <a:ext cx="89344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ящий свой народ, свой край и свою Род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уважающий и принимающий ценности семьи 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ознательный , активно и заинтересованно познающий м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ладеющий основами умения учиться, способный  к организации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готовый самостоятельно действовать и отвечать за свои поступки перед семьей и общ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доброжелательный, умеющий слушать и слышать собеседника, обосновывать свою позицию, высказывать свое м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ыполняющий правила здорового и безопасного для себя и для окружающих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33336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ФГОС обеспечит подготовку детей к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чики стандарта красной нитью проводят утверждение о том, ч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е ребенок должен быть готов к школе, а школа должна быть готова к ребенку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ни указывают на то, что все родители должны знать о том, что для успешной адаптации к школьной жизни гораздо важнее, чем умение читать и считать,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ку нужны психологическая стабильность, высокая самооценка, вера в свои силы и социальные способност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эти психологические характеристики лежат в основе высокой мотивации детей к обучению в школ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475920"/>
            <a:ext cx="8353440" cy="62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удут ли учиться дошкольники как в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ок должен учиться через игры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ерез игру, экспериментирование, общение дети знакомятся с окружающим миром.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этом главное не надвинуть на дошкольное образование формы школьной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924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1</cp:lastModifiedBy>
  <dcterms:modified xsi:type="dcterms:W3CDTF">2014-09-04T10:00:37Z</dcterms:modified>
  <cp:revision>283</cp:revision>
  <dc:subject/>
  <dc:title>Презентация PowerPoint</dc:title>
</cp:coreProperties>
</file>