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5AE-2D17-47DC-8B8B-41D682E4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0AA-6E8D-49E4-8054-D7A77B6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7F8-5A78-4F8B-86B0-7A1B8952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FD8-9F1E-4291-BCB2-60240F08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5E8-E1E8-47EC-BD79-85408133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D9F-E5FF-457E-B0BA-CBBC9B87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962-0373-4DDA-B4EA-38AB5AA7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5D8-1011-43C7-BF97-C789599A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6B0-1D8C-4B44-B503-55DCB0C1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9AE-B2F4-4176-8F2F-9E04A59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741-0760-43DA-A12E-B33A25F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9C8-08B5-4D3E-9C0A-12C469C5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90DE-5CFF-4100-8BAE-E289B8707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Ваш ребёнок идёт в школу</a:t>
            </a:r>
            <a:endParaRPr b="0" lang="en-US" sz="4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285720" y="3643200"/>
            <a:ext cx="5429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же сейчас постарайтесь очень постепенно режим дня вашего малыша соотнести с режимом дня школьн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ебёнок умел слышать учителя, обращайте внимание, как он понимает ваши словесные инструкции и требования, которые должны быть чёткими, доброжелательными, немногословными, спокойн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угайте ребёнка будущими трудностями в школ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д школой и во время учёбы проверяйте зрение и слух ребёнк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письму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учку ребёнок должен брать правильно и разогретыми пальцами. Раскраски замените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ведением по трафарету и штриховко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Линия должна быть направлена сверху вниз, справа налево, а если она кривая, то против часовой стрелки. Расстояние между линиями 0,5 см - это основной принцип нашего письменного алфавита. Запомните, дети также устают от этих занятий, как и от чт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математик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спешность в этом предмете зависит от освоения и умения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двигаться в трёхмерном пространстве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этому помогите ребёнку свободно владеть такими понятиями: "вверх-вниз", "вправо-влево", "прямо, по кругу, наискосок", "больше-меньше", "старше-моложе", "горизонтально-вертикально" и т.д.,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ъединять предметы в группы по одному признаку, сравнивать, владеть счётом в пределах 10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5840" y="-28620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ЗАПОМНИТ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подготовке к школе вы должны оставаться для вашего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любящим и понимающим родител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и не брать на себя роль учителя!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ебёнок охотно делает только то, что у него получается, поэтому он не может быть ленивы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старайтесь достижения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 сравнив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 со своими, ни с достижениями старшего брата, ни одноклассников (не озвучивайте это при ребёнке, даже если они в его пользу!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ша любовь и терпение будут служить гарантом уверенного продвижения в учёбе для вашего малыш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зна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свое имя и фамилию, адрес, имена членов семь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времена года, названия месяцев, дней недели, уметь различать цвет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пересчитывать группы предметов в пределах 10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сравнивать группы предметов -   больше, меньше или равн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объединять предметы в группы: мебель, транспорт, одежда, обувь, растения, животные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знать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находить в группе предметов лиш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из группы «Одежда» убрать цветок).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высказывать свое мнение, построив законченное предлож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элементарные представления об 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ужающем мире:о профессиях, о предметах живой и неживой природы, о правилах поведения в общественных мест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пространственные представления: право-лев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верх-вниз, под, над, из-за, из-под чего-либ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культурно общаться с другими детьм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шать старших и выполнять их распоряж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Placeholder 2" descr="111111.jpg"/>
          <p:cNvPicPr/>
          <p:nvPr/>
        </p:nvPicPr>
        <p:blipFill>
          <a:blip r:embed="rId1"/>
          <a:stretch/>
        </p:blipFill>
        <p:spPr>
          <a:xfrm>
            <a:off x="4340160" y="2011320"/>
            <a:ext cx="2408400" cy="242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3419640" y="765000"/>
            <a:ext cx="5146560" cy="39294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3203640" y="5157720"/>
            <a:ext cx="568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Желаем успехов Вам и вашим детя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714240" y="428760"/>
            <a:ext cx="80010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53735"/>
                </a:solidFill>
                <a:latin typeface="Bookman Old Style"/>
              </a:rPr>
              <a:t>Критерии готовности к школ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физ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нравстве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психологиче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мыслите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Физическ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гласно санитарно-эпидемиологическим правилам СанПин 2.42.1178-02 «Гигиенические требования к условиям обучения в общеобразовательных  учреждениях»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В первые классы школ принимаются дети седьмого или восьмого года жизн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 усмотрению родителей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 основании заключения психолого-медико-педагогической комиссии о готовности ребенка к обучению.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язательным услови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для приема в школу детей седьмого года жизни является достижение ими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 1 сентября возраста  не менее шести с половиной лет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Обучение детей, не достигших шести с половиной лет к началу учебного года, проводится в  условиях детского са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528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Нравственная готовность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строить отношения с учителем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общаться со сверстниками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жливость, сдержанность, послушани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ношение к себе (отсутствие заниженной самооценк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сравнивать достижения своего ребенка с достижениями других детей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принуждать ребенка работать на «оценк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до чаще хвалить своих детей, даже за малейшие успехи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62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ая готовность: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твердое желание учиться, получать зн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нимание важности и необходимости уче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роявление выраженного интереса к получению новых зна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умение слушать учителя и выполнять его задания (отнюдь не всегда интересны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мение общаться со сверстниками и взрослы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определенный уровень развития мышления, памяти, внимания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-286200"/>
            <a:ext cx="8143920" cy="657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мелких мышц рук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ука развита хорошо, ребенок уверенно владеет карандашом, ножницами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пространственная организация, координация движени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умение правильно определять выше - ниже, вперед - назад, слева - справа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оординация в системе глаз - рук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может правильно перенести в тетрадь простейший графический образ - узор, фигуру - зрительно воспринимаемый на расстоянии (например, из книг)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логического мышле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го внима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удерживать внимание на выполняемой работе в течение 15-20 минут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й памят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иболее важные показатели — это развитие мышления и реч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чень полезно учить ребенка строить несложные рассуждения, выводы, используя слова:«потому, что»; «если, то»; «поэтому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ите ребят задавать вопросы. Это очень полезно. Мышление всегда начинается с вопроса. Нельзя заставить мысль работать, если просто сказать «подумай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ечь является основой, на которой строится учебный процесс. Особенно важно владение монологической речью. Для ребенка это пересказ. После чтения задайте ребенку несколько вопросов по содержанию, попросите пересказа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обое внимание обратите на ориентировку в пространстве. Правильно ли ваш ребенок понимает и употребляет в речи предлоги и понятия: выше, ниже, на, над, под, снизу, сверху, между, перед., за, спереди от…, сзади от…, ближе, дальше, лево, право, левее, правее, ближе всего к…, дальше всего    от… и т.д.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72320" cy="64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жно учить не читать, а развивать речь. Не учить писать, а создавать условия для развития мелкой моторики рук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олноценного развития дошкольнику необходимо общаться со сверстниками, взрослыми, играть в развивающие игры слушать чтение книг, рисовать, лепить, фантазировать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1</cp:lastModifiedBy>
  <dcterms:modified xsi:type="dcterms:W3CDTF">2021-02-24T07:15:42Z</dcterms:modified>
  <cp:revision>17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