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B89-91C7-4EBE-8F02-707DE3F4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8386-FCEC-4D9E-8797-0AFC8D0C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393D-FE0D-4947-8FDD-D36810D1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D2E-2B71-4510-9CE4-7BF8EDA9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A674-1191-494F-9E9F-EA8B53AE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316-9FF4-4F6E-B472-18F8161C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631D-DF1E-4B45-AA78-5C48EF9B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A2F4-CF88-4F6A-BF41-B8762B48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0CBA-A1A2-467A-8E0A-71FEC1B2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52BD-DFE0-42A1-A880-C1C7B2B4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643120" y="-360"/>
            <a:ext cx="5972400" cy="56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D177-6B91-4272-AA68-200FD449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740200" y="374976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648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730200" y="160020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64312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68648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730200" y="3749760"/>
            <a:ext cx="194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4312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0200" y="1600200"/>
            <a:ext cx="294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43120" y="3749760"/>
            <a:ext cx="60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63D-D80D-4CC6-BFA7-21F14D38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E690-6FA3-481F-BBB4-3975B22575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3"/>
          <a:stretch/>
        </p:blipFill>
        <p:spPr>
          <a:xfrm>
            <a:off x="6715080" y="0"/>
            <a:ext cx="2428920" cy="1736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643120" y="-360"/>
            <a:ext cx="59724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Script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2643120" y="1600200"/>
            <a:ext cx="60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14440" y="571320"/>
            <a:ext cx="542916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Bookman Old Style"/>
              </a:rPr>
              <a:t>Ваш ребёнок идёт в школу</a:t>
            </a:r>
            <a:endParaRPr b="0" lang="en-US" sz="42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285720" y="3643200"/>
            <a:ext cx="54291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Советы и рекомендации 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Bookman Old Style"/>
              </a:rPr>
              <a:t>родителям будущих первоклассников.</a:t>
            </a:r>
            <a:endParaRPr b="0" lang="en-US" sz="28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72320" cy="550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ажен не объем знаний ребенка, а качество знаний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же сейчас постарайтесь очень постепенно режим дня вашего малыша соотнести с режимом дня школьника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тобы ребёнок умел слышать учителя, обращайте внимание, как он понимает ваши словесные инструкции и требования, которые должны быть чёткими, доброжелательными, немногословными, спокойным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е пугайте ребёнка будущими трудностями в школе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еред школой и во время учёбы проверяйте зрение и слух ребёнка. 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одготовка к письму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учку ребёнок должен брать правильно и разогретыми пальцами. Раскраски замените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обведением по трафарету и штриховкой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. Линия должна быть направлена сверху вниз, справа налево, а если она кривая, то против часовой стрелки. Расстояние между линиями 0,5 см - это основной принцип нашего письменного алфавита. Запомните, дети также устают от этих занятий, как и от чтен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57232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одготовка к математик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спешность в этом предмете зависит от освоения и умения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двигаться в трёхмерном пространстве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этому помогите ребёнку свободно владеть такими понятиями: "вверх-вниз", "вправо-влево", "прямо, по кругу, наискосок", "больше-меньше", "старше-моложе", "горизонтально-вертикально" и т.д.,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объединять предметы в группы по одному признаку, сравнивать, владеть счётом в пределах 10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85840" y="-286200"/>
            <a:ext cx="857232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ЗАПОМНИТ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ри подготовке к школе вы должны оставаться для вашего ребёнка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любящим и понимающим родителем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и не брать на себя роль учителя!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ебёнок охотно делает только то, что у него получается, поэтому он не может быть ленивы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Постарайтесь достижения ребёнка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 сравнивать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ни со своими, ни с достижениями старшего брата, ни одноклассников (не озвучивайте это при ребёнке, даже если они в его пользу!)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аша любовь и терпение будут служить гарантом уверенного продвижения в учёбе для вашего малыша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3840" y="2500200"/>
            <a:ext cx="8643960" cy="31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1 класс ребёнок должен зна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нать свое имя и фамилию, адрес, имена членов семь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Знать времена года, названия месяцев, дней недели, уметь различать цвет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пересчитывать группы предметов в пределах 10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увеличивать или уменьшать группу предметов на заданное количество (решение задач с группами предметов),уравнивать множество предметов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сравнивать группы предметов -   больше, меньше или равн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объединять предметы в группы: мебель, транспорт, одежда, обувь, растения, животные и т. 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3840" y="2500200"/>
            <a:ext cx="8643960" cy="314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d60093"/>
                </a:solidFill>
                <a:latin typeface="Segoe Script"/>
              </a:rPr>
              <a:t>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1 класс ребёнок должен знать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находить в группе предметов лишни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(из группы «Одежда» убрать цветок).</a:t>
            </a: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высказывать свое мнение, построив законченное предлож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меть элементарные представления об 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кружающем мире:о профессиях, о предметах живой и неживой природы, о правилах поведения в общественных места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Иметь пространственные представления: право-лево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верх-вниз, под, над, из-за, из-под чего-либо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ть культурно общаться с другими детьм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лушать старших и выполнять их распоряжени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Placeholder 2" descr="111111.jpg"/>
          <p:cNvPicPr/>
          <p:nvPr/>
        </p:nvPicPr>
        <p:blipFill>
          <a:blip r:embed="rId1"/>
          <a:stretch/>
        </p:blipFill>
        <p:spPr>
          <a:xfrm>
            <a:off x="4340160" y="2011320"/>
            <a:ext cx="2408400" cy="2427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3419640" y="765000"/>
            <a:ext cx="5146560" cy="3929400"/>
          </a:xfrm>
          <a:prstGeom prst="rect">
            <a:avLst/>
          </a:prstGeom>
          <a:ln w="0">
            <a:noFill/>
          </a:ln>
        </p:spPr>
      </p:pic>
      <p:sp>
        <p:nvSpPr>
          <p:cNvPr id="292" name="TextBox 3"/>
          <p:cNvSpPr/>
          <p:nvPr/>
        </p:nvSpPr>
        <p:spPr>
          <a:xfrm>
            <a:off x="3203640" y="5157720"/>
            <a:ext cx="568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Желаем успехов Вам и вашим детя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643120" y="5076360"/>
            <a:ext cx="485784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Segoe Script"/>
            </a:endParaRPr>
          </a:p>
        </p:txBody>
      </p:sp>
      <p:sp>
        <p:nvSpPr>
          <p:cNvPr id="276" name="Прямоугольник 4"/>
          <p:cNvSpPr/>
          <p:nvPr/>
        </p:nvSpPr>
        <p:spPr>
          <a:xfrm>
            <a:off x="714240" y="428760"/>
            <a:ext cx="800100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53735"/>
                </a:solidFill>
                <a:latin typeface="Bookman Old Style"/>
              </a:rPr>
              <a:t>Критерии готовности к школе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физическ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нравственн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психологическа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e46c0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Bookman Old Style"/>
              </a:rPr>
              <a:t>мыслитель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Физическая готовнос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Согласно санитарно-эпидемиологическим правилам СанПин 2.42.1178-02 «Гигиенические требования к условиям обучения в общеобразовательных  учреждениях»              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В первые классы школ принимаются дети седьмого или восьмого года жизн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 усмотрению родителей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а основании заключения психолого-медико-педагогической комиссии о готовности ребенка к обучению.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Обязательным условием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для приема в школу детей седьмого года жизни является достижение ими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к 1 сентября возраста  не менее шести с половиной лет.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Обучение детей, не достигших шести с половиной лет к началу учебного года, проводится в  условиях детского сад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8143920" cy="528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Нравственная готовность: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ние строить отношения с учителем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мение общаться со сверстниками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ежливость, сдержанность, послушани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тношение к себе (отсутствие заниженной самооценки)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льзя сравнивать достижения своего ребенка с достижениями других детей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ельзя принуждать ребенка работать на «оценку»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 -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Надо чаще хвалить своих детей, даже за малейшие успехи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4240" y="856800"/>
            <a:ext cx="8143920" cy="62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Психологическая готовность:</a:t>
            </a:r>
            <a:br>
              <a:rPr sz="2800"/>
            </a:br>
            <a:r>
              <a:rPr b="0" lang="ru-RU" sz="28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8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твердое желание учиться, получать зна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онимание важности и необходимости учения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проявление выраженного интереса к получению новых знани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умение слушать учителя и выполнять его задания (отнюдь не всегда интересные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умение общаться со сверстниками и взрослым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ребенок легко вступает в контакт, не агрессивен, умеет находить выход из проблемных ситуаций общения, признает авторитет взрослых)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ru-RU" sz="2000" spc="-1" strike="noStrike">
                <a:solidFill>
                  <a:srgbClr val="984807"/>
                </a:solidFill>
                <a:latin typeface="Bookman Old Style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это определенный уровень развития мышления, памяти, внимания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4240" y="-286200"/>
            <a:ext cx="8143920" cy="657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Развитие школьно-значимых                              психологических функций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мелких мышц рук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рука развита хорошо, ребенок уверенно владеет карандашом, ножницами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пространственная организация, координация движений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умение правильно определять выше - ниже, вперед - назад, слева - справа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координация в системе глаз - рука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ребенок может правильно перенести в тетрадь простейший графический образ - узор, фигуру - зрительно воспринимаемый на расстоянии (например, из книг);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20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5840" y="128556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Развитие школьно-значимых                              психологических функций:</a:t>
            </a:r>
            <a:br>
              <a:rPr sz="2800"/>
            </a:br>
            <a:r>
              <a:rPr b="0" lang="ru-RU" sz="2000" spc="-1" strike="noStrike">
                <a:solidFill>
                  <a:srgbClr val="984807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логического мышлени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способность находить сходства и различия разных предметов при сравнении, умение правильно объединять предметы в группы по общим существенным признакам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произвольного внимания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способность удерживать внимание на выполняемой работе в течение 15-20 минут);</a:t>
            </a:r>
            <a:br>
              <a:rPr sz="2000"/>
            </a:br>
            <a:r>
              <a:rPr b="0" lang="ru-RU" sz="2000" spc="-1" strike="noStrike">
                <a:solidFill>
                  <a:srgbClr val="cc3300"/>
                </a:solidFill>
                <a:latin typeface="Bookman Old Style"/>
              </a:rPr>
              <a:t>развитие произвольной памяти</a:t>
            </a: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 (способность к опосредованному запоминанию: связывать запоминаемый материал с конкретным символом /слово - картинка либо слово - ситуация/)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5840" y="1285560"/>
            <a:ext cx="857232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Мыслительная готовность: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Наиболее важные показатели — это развитие мышления и реч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чень полезно учить ребенка строить несложные рассуждения, выводы, используя слова:«потому, что»; «если, то»; «поэтому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Учите ребят задавать вопросы. Это очень полезно. Мышление всегда начинается с вопроса. Нельзя заставить мысль работать, если просто сказать «подумай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Речь является основой, на которой строится учебный процесс. Особенно важно владение монологической речью. Для ребенка это пересказ. После чтения задайте ребенку несколько вопросов по содержанию, попросите пересказать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Особое внимание обратите на ориентировку в пространстве. Правильно ли ваш ребенок понимает и употребляет в речи предлоги и понятия: выше, ниже, на, над, под, снизу, сверху, между, перед., за, спереди от…, сзади от…, ближе, дальше, лево, право, левее, правее, ближе всего к…, дальше всего    от… и т.д. </a:t>
            </a: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572320" cy="642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        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Bookman Old Style"/>
              </a:rPr>
              <a:t>Важен не объем знаний ребенка, а качество знаний:</a:t>
            </a: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Важно учить не читать, а развивать речь. Не учить писать, а создавать условия для развития мелкой моторики руки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Для полноценного развития дошкольнику необходимо общаться со сверстниками, взрослыми, играть в развивающие игры слушать чтение книг, рисовать, лепить, фантазировать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man Old Style"/>
              </a:rPr>
              <a:t>Чем больше ребенок будет причастен к подготовке к школе, обсуждению будущего, чем больше он будет знать о школе, о новой жизни, тем легче ему будет личностно в нее включиться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Segoe Scrip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9:19:14Z</dcterms:created>
  <dc:creator>сергей</dc:creator>
  <dc:description>Корпорация Майкрософт</dc:description>
  <cp:keywords>Фотоальбом</cp:keywords>
  <dc:language>en-US</dc:language>
  <cp:lastModifiedBy>1</cp:lastModifiedBy>
  <dcterms:modified xsi:type="dcterms:W3CDTF">2021-02-24T07:15:42Z</dcterms:modified>
  <cp:revision>17</cp:revision>
  <dc:subject>Фотоальбом</dc:subject>
  <dc:title>Ваш ребёнок идёт в школ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54091049</vt:lpwstr>
  </property>
</Properties>
</file>