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CC0-2327-473F-B08D-88C12592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A50-5495-415E-831F-4368A553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058-436C-4977-B496-579D635B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FFD-807A-4960-A9F3-79B0EFD2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9AB-6580-4D0B-9029-E9CDCDC9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8C2-48A3-4802-AC8C-E7FF7AEB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686-D67C-493C-8D07-476E8DC1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153-6886-46D2-AA0F-79BCF56B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AD4-C31B-4AC9-B7B0-79CEA92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4B7-26B9-4EE9-86F0-753B3CEF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432-C32D-42AD-BD50-32AB9FE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C52-0086-41F7-87B8-C9697A39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C31-5F9D-460F-B27A-F51E8A1CAD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Ваш ребёнок идёт в школу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режим дня 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умел слышать учителя, обращайте внимание, 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школой и во время учёбы проверяйте зрение и слух ребёнк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письму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ку ребёнок должен брать правильно и разогретыми пальцами. Раскраски замените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ведением по трафарету и штриховк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Запомните, дети также устают от этих занятий, как и от чт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математик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пешность в этом предмете зависит от освоения и умения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двигаться в трёхмерном пространстве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этому помогите ребёнку свободно владеть такими понятиями: "вверх-вниз", "вправо-влево", "прямо, по кругу, наискосок", "больше-меньше", "старше-моложе", "горизонтально-вертикально" и т.д.,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ъединять предметы в группы по одному признаку, сравнивать, владеть счётом в пределах 10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подготовке к школе вы должны оставаться для вашего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любящим и понимающим родител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 не брать на себя роль учител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старайтесь достижения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 сравни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 со своими, ни с достижениями старшего брата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свое имя и фамилию, адрес, имена членов семь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пересчитывать группы предметов в пределах 10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из группы «Одежда» убрать цветок).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элементарные представления об 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ужающем мире: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пространственные представления: право-ле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верх-вниз, под, над, из-за, из-под чего-либ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Placeholder 2" descr="111111.jpg"/>
          <p:cNvPicPr/>
          <p:nvPr/>
        </p:nvPicPr>
        <p:blipFill>
          <a:blip r:embed="rId1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5146560" cy="39294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3203640" y="5157720"/>
            <a:ext cx="568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Желаем успехов Вам и вашим детя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Физ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 учреждениях»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В первые классы школ принимаются дети седьмого или восьмого года жизн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 усмотрению родителей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 основании заключения психолого-медико-педагогической комиссии о готовности ребенка к обучению.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язательным услови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для приема в школу детей седьмого года жизни является достижение ими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 1 сентября возраста  не менее шести с половиной л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Обучение детей, не достигших шести с половиной лет к началу учебного года, проводится в  условиях детского са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строить отношения с учителем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общаться со сверстниками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жливость, сдержанность, послуш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себе (отсутствие заниженной самооценк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сравнивать достижения своего ребенка с достижениями других детей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принуждать ребенка работать на «оценк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до чаще хвалить своих детей, даже за малейшие успех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желание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нимание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оявление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умение слушать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ние общаться 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определенный уровень развития мышления, 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8143920" cy="657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мелких мышц рук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ука развита хорошо, ребенок уверенно владеет карандашом, ножницами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умение правильно определять выше - ниже, вперед - назад, слева - справа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оординация в системе глаз - рук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логического мышле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го внима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удерживать внимание на выполняемой работе в течение 15-20 минут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й памят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развитие мышления и реч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чень полезно учить ребенка строить несложные рассуждения, выводы, используя слова:«потому, что»; «если, то»; «поэтому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ите ребят задавать вопросы. Это очень полезно. Мышление всегда начинается с вопроса. Нельзя заставить мысль работать, если просто сказать «подума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: 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не читать, а развивать речь. Не учить писать, а создавать условия для развития мелкой моторики рук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1</cp:lastModifiedBy>
  <dcterms:modified xsi:type="dcterms:W3CDTF">2021-02-24T07:15:42Z</dcterms:modified>
  <cp:revision>17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