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BEC-02B3-45D7-AB3B-CF6F425F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4FE-3EE5-45EB-B0A4-467C3E91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907-E977-4FA8-B13F-B0EC9BE8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708-A298-4474-91E8-2C139CFC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82CF-9CA6-40F8-A711-A725471B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DA2B-2D87-4A9D-AE7C-34113499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EC3F-3141-489F-8A09-32F9F9F0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7A12-8654-491D-B8FE-ACD6C2B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A84-DB37-4F53-B990-76561DCA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24C7-8AE7-455C-9064-7A14A102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795-0202-43B5-9566-B506DAC0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0C1-A440-4325-A70D-34B7CBD7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1767-6B2D-4914-8924-85656EE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2558-3A4A-4680-BD67-A28065CF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2E9C-48C5-40F7-BF03-9581CDFE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350-324A-4AAF-B522-5BF1220A2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6EF3-569E-4765-B160-9CB38758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BDEC8-490F-43C5-9B38-C2477F60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D69F-E1A5-4752-8168-344BE43A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FCF7-A3E5-4051-AA5E-417D980A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98009-86A4-46A3-A517-06C994A8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988F-9B83-404D-AE1D-0E78FE63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034-2CEF-4F38-9590-D1B2837F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096F-FAEB-401A-909F-93AD444B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DDA38-6102-4B36-92B3-2B79992A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1675A-1A23-4C2C-967F-70F09B7C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B9684-EB04-43BB-A49C-CE6D976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FE31A-927B-4D3C-A06C-C39AF987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22DD-E3D8-40BB-9224-C450B454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4B3E9-5DFC-44A9-AF71-527A3674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9432-0732-4DF6-8EBA-A35934F4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BD8-F470-47FD-AD2D-F0B8E6F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145-D3B1-477F-9E4C-8B271F2E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62DB-56BD-4D04-BAF1-DA63CAA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56D-39FD-44DE-BAE9-9B4D65A0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4AEA-3857-4062-AF1C-7B43F972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93A-8566-4A5C-8E83-09DF412A8AF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376-471B-4B3C-BE0C-3FAD8F0FC9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1a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7647-D16F-447F-86C4-42C3AF67D07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542880" y="914400"/>
            <a:ext cx="8363160" cy="4322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боевых действиях во время Великой Отечественной войны принимали участие до нескольких десятков тысяч несовершеннолетних.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«Сыновья полка», пионеры-герои – они сражались и гибли наравне со взрослыми, оставаясь на все времена символом мужества и верности Родин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39640" y="476280"/>
            <a:ext cx="67071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Марат Каз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48000" y="691920"/>
            <a:ext cx="5796000" cy="66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Picture 104" descr="7eef6e3e4d1e"/>
          <p:cNvPicPr/>
          <p:nvPr/>
        </p:nvPicPr>
        <p:blipFill>
          <a:blip r:embed="rId1"/>
          <a:stretch/>
        </p:blipFill>
        <p:spPr>
          <a:xfrm>
            <a:off x="539640" y="476280"/>
            <a:ext cx="3089520" cy="3889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5" descr="kaz"/>
          <p:cNvPicPr/>
          <p:nvPr/>
        </p:nvPicPr>
        <p:blipFill>
          <a:blip r:embed="rId2"/>
          <a:stretch/>
        </p:blipFill>
        <p:spPr>
          <a:xfrm>
            <a:off x="3995640" y="2060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994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Зина Портнов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9" descr="22_01_04"/>
          <p:cNvPicPr/>
          <p:nvPr/>
        </p:nvPicPr>
        <p:blipFill>
          <a:blip r:embed="rId1"/>
          <a:stretch/>
        </p:blipFill>
        <p:spPr>
          <a:xfrm>
            <a:off x="565200" y="907920"/>
            <a:ext cx="308448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Portnova"/>
          <p:cNvPicPr/>
          <p:nvPr/>
        </p:nvPicPr>
        <p:blipFill>
          <a:blip r:embed="rId2"/>
          <a:stretch/>
        </p:blipFill>
        <p:spPr>
          <a:xfrm>
            <a:off x="3971880" y="2133720"/>
            <a:ext cx="4530600" cy="4174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26920" y="-360"/>
            <a:ext cx="50403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Валя Котик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8" descr="00d120117edf"/>
          <p:cNvPicPr/>
          <p:nvPr/>
        </p:nvPicPr>
        <p:blipFill>
          <a:blip r:embed="rId1"/>
          <a:stretch/>
        </p:blipFill>
        <p:spPr>
          <a:xfrm>
            <a:off x="539640" y="836640"/>
            <a:ext cx="3057480" cy="3960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-13"/>
          <p:cNvPicPr/>
          <p:nvPr/>
        </p:nvPicPr>
        <p:blipFill>
          <a:blip r:embed="rId2"/>
          <a:stretch/>
        </p:blipFill>
        <p:spPr>
          <a:xfrm>
            <a:off x="4076640" y="2276640"/>
            <a:ext cx="4167360" cy="4249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Лёня Голик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11" descr="22_01_02"/>
          <p:cNvPicPr/>
          <p:nvPr/>
        </p:nvPicPr>
        <p:blipFill>
          <a:blip r:embed="rId1"/>
          <a:stretch/>
        </p:blipFill>
        <p:spPr>
          <a:xfrm>
            <a:off x="395280" y="981000"/>
            <a:ext cx="3419640" cy="410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-25"/>
          <p:cNvPicPr/>
          <p:nvPr/>
        </p:nvPicPr>
        <p:blipFill>
          <a:blip r:embed="rId2"/>
          <a:stretch/>
        </p:blipFill>
        <p:spPr>
          <a:xfrm>
            <a:off x="4175280" y="2276640"/>
            <a:ext cx="4430520" cy="424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48000" y="404280"/>
            <a:ext cx="66960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аша Чекалин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364000" y="1916280"/>
            <a:ext cx="3143520" cy="445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1025640" y="1266840"/>
            <a:ext cx="2430360" cy="3170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1038240" y="4410000"/>
            <a:ext cx="3029040" cy="1644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229600" cy="38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ять несовершеннолетних бойцов Великой Отечественной войны были удостоены высшей награды – званий Героев Советского Союз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006640" y="3573360"/>
            <a:ext cx="507204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1" descr="7eef6e3e4d1e"/>
          <p:cNvPicPr/>
          <p:nvPr/>
        </p:nvPicPr>
        <p:blipFill>
          <a:blip r:embed="rId1"/>
          <a:stretch/>
        </p:blipFill>
        <p:spPr>
          <a:xfrm>
            <a:off x="-6480" y="0"/>
            <a:ext cx="1914480" cy="2349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00d120117edf"/>
          <p:cNvPicPr/>
          <p:nvPr/>
        </p:nvPicPr>
        <p:blipFill>
          <a:blip r:embed="rId2"/>
          <a:stretch/>
        </p:blipFill>
        <p:spPr>
          <a:xfrm>
            <a:off x="1874880" y="9360"/>
            <a:ext cx="1901880" cy="234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0007tqwz"/>
          <p:cNvPicPr/>
          <p:nvPr/>
        </p:nvPicPr>
        <p:blipFill>
          <a:blip r:embed="rId3"/>
          <a:stretch/>
        </p:blipFill>
        <p:spPr>
          <a:xfrm>
            <a:off x="7323120" y="6480"/>
            <a:ext cx="1838520" cy="23428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22_01_02"/>
          <p:cNvPicPr/>
          <p:nvPr/>
        </p:nvPicPr>
        <p:blipFill>
          <a:blip r:embed="rId4"/>
          <a:stretch/>
        </p:blipFill>
        <p:spPr>
          <a:xfrm>
            <a:off x="5467320" y="0"/>
            <a:ext cx="2001960" cy="2349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22_01_04"/>
          <p:cNvPicPr/>
          <p:nvPr/>
        </p:nvPicPr>
        <p:blipFill>
          <a:blip r:embed="rId5"/>
          <a:stretch/>
        </p:blipFill>
        <p:spPr>
          <a:xfrm>
            <a:off x="3708360" y="2349360"/>
            <a:ext cx="183348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22_01_07"/>
          <p:cNvPicPr/>
          <p:nvPr/>
        </p:nvPicPr>
        <p:blipFill>
          <a:blip r:embed="rId6"/>
          <a:stretch/>
        </p:blipFill>
        <p:spPr>
          <a:xfrm>
            <a:off x="5508720" y="4511520"/>
            <a:ext cx="1832040" cy="2324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22_01_12"/>
          <p:cNvPicPr/>
          <p:nvPr/>
        </p:nvPicPr>
        <p:blipFill>
          <a:blip r:embed="rId7"/>
          <a:stretch/>
        </p:blipFill>
        <p:spPr>
          <a:xfrm>
            <a:off x="0" y="4511520"/>
            <a:ext cx="1763640" cy="2324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22_01_15"/>
          <p:cNvPicPr/>
          <p:nvPr/>
        </p:nvPicPr>
        <p:blipFill>
          <a:blip r:embed="rId8"/>
          <a:stretch/>
        </p:blipFill>
        <p:spPr>
          <a:xfrm>
            <a:off x="7308720" y="2349360"/>
            <a:ext cx="1833840" cy="223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22_01_17"/>
          <p:cNvPicPr/>
          <p:nvPr/>
        </p:nvPicPr>
        <p:blipFill>
          <a:blip r:embed="rId9"/>
          <a:stretch/>
        </p:blipFill>
        <p:spPr>
          <a:xfrm>
            <a:off x="1776240" y="4581360"/>
            <a:ext cx="1789200" cy="2254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det4"/>
          <p:cNvPicPr/>
          <p:nvPr/>
        </p:nvPicPr>
        <p:blipFill>
          <a:blip r:embed="rId10"/>
          <a:stretch/>
        </p:blipFill>
        <p:spPr>
          <a:xfrm>
            <a:off x="0" y="235908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i"/>
          <p:cNvPicPr/>
          <p:nvPr/>
        </p:nvPicPr>
        <p:blipFill>
          <a:blip r:embed="rId11"/>
          <a:stretch/>
        </p:blipFill>
        <p:spPr>
          <a:xfrm>
            <a:off x="7340760" y="4600440"/>
            <a:ext cx="1773000" cy="227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1" descr="-16"/>
          <p:cNvPicPr/>
          <p:nvPr/>
        </p:nvPicPr>
        <p:blipFill>
          <a:blip r:embed="rId12"/>
          <a:stretch/>
        </p:blipFill>
        <p:spPr>
          <a:xfrm>
            <a:off x="1908000" y="2349360"/>
            <a:ext cx="18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2" descr="KamaninA1"/>
          <p:cNvPicPr/>
          <p:nvPr/>
        </p:nvPicPr>
        <p:blipFill>
          <a:blip r:embed="rId13"/>
          <a:stretch/>
        </p:blipFill>
        <p:spPr>
          <a:xfrm>
            <a:off x="3708360" y="0"/>
            <a:ext cx="1839960" cy="234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3" descr="zenk"/>
          <p:cNvPicPr/>
          <p:nvPr/>
        </p:nvPicPr>
        <p:blipFill>
          <a:blip r:embed="rId14"/>
          <a:stretch/>
        </p:blipFill>
        <p:spPr>
          <a:xfrm>
            <a:off x="5508720" y="23493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4" descr="image001"/>
          <p:cNvPicPr/>
          <p:nvPr/>
        </p:nvPicPr>
        <p:blipFill>
          <a:blip r:embed="rId15"/>
          <a:stretch/>
        </p:blipFill>
        <p:spPr>
          <a:xfrm>
            <a:off x="3575160" y="4581360"/>
            <a:ext cx="1933560" cy="22543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2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4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4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5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171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8000"/>
                            </p:stCondLst>
                            <p:childTnLst>
                              <p:par>
                                <p:cTn id="177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183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9" nodeType="afterEffect" fill="hold" presetClass="entr" presetID="53" presetSubtype="16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44:44Z</dcterms:created>
  <dc:creator>XTreme</dc:creator>
  <dc:description/>
  <dc:language>en-US</dc:language>
  <cp:lastModifiedBy>Ирина</cp:lastModifiedBy>
  <dcterms:modified xsi:type="dcterms:W3CDTF">2017-10-08T14:46:14Z</dcterms:modified>
  <cp:revision>35</cp:revision>
  <dc:subject/>
  <dc:title>Пионеры - герои Великой Отечественной Войны</dc:title>
</cp:coreProperties>
</file>