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9CE-C87B-4890-B3EB-A3A034F7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790-47E5-40B3-9A88-DEB4C933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24D-5D4E-480E-ABF6-5B34FF75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8D1-758C-4C8A-B720-39D8B4E3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3254-E279-42F2-9991-E4BE820C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CF5-D354-4C49-9C46-57BFAB6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1B6-D5CF-412F-859E-7B74DDE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C64-D18B-415E-8F35-91B4276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7561-71D1-4CCA-A77B-C338FD4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03F6-117D-40AE-BE8A-22383566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A971-4D32-4A30-AEFB-578B4F5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558-B0E9-45E4-AF17-B8CE01DA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596F-EDD4-4702-9264-1D3EBBB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5B74-752E-463C-BDCC-EC1E1B4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A151-FB9B-420D-B928-C3D4BB2D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F31A-7871-4F9E-80F8-4F3554D2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0719-8F61-4A85-A62B-E5B0443F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9B07-5A75-40AA-B787-713A1056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DD17-133F-4BC8-B027-7345838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0EE0-FD60-4F80-91D8-0F3FE89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A903-499F-44DD-A943-6752165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B691-D89D-4CC9-A952-3907BAD5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392-37AD-4C0B-A292-3495A29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7CB9-F1B2-4CC9-8B90-B58E6FE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C2CD-77EF-48B8-877B-0B46312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793C-5998-4184-88CC-39ACB4E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C109-1020-43D1-9AD1-DAEB7AF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65A9-1E56-450A-829C-CAD2BA3B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C867-856C-47E3-90FE-F1DE41D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3599-F952-4ED2-B72B-5A395040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886-ED7E-41B1-8346-41C6D0E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AC1-8440-46F7-BB13-85B65BF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BDD-F3C8-4B78-A4A1-232C68BF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E12-8DEF-4B50-847E-B39E978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A69-EFF2-499A-A8DC-974C858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595-BDC0-49FD-8C48-384EAA7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741A-9241-4A33-BF5F-3CA227F6A7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D61A-E0E1-4A6A-90AD-2BD04173A2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83B-4DC4-42A9-8FBB-7CB010F3E3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42880" y="914400"/>
            <a:ext cx="8363160" cy="432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боевых действиях во время Великой Отечественной войны принимали участие до нескольких десятков тысяч несовершеннолетних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«Сыновья полка», пионеры-герои – они сражались и гибли наравне со взрослыми, оставаясь на все времена символом мужества и верности Роди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39640" y="476280"/>
            <a:ext cx="6707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48000" y="691920"/>
            <a:ext cx="57960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04" descr="7eef6e3e4d1e"/>
          <p:cNvPicPr/>
          <p:nvPr/>
        </p:nvPicPr>
        <p:blipFill>
          <a:blip r:embed="rId1"/>
          <a:stretch/>
        </p:blipFill>
        <p:spPr>
          <a:xfrm>
            <a:off x="539640" y="476280"/>
            <a:ext cx="3089520" cy="388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kaz"/>
          <p:cNvPicPr/>
          <p:nvPr/>
        </p:nvPicPr>
        <p:blipFill>
          <a:blip r:embed="rId2"/>
          <a:stretch/>
        </p:blipFill>
        <p:spPr>
          <a:xfrm>
            <a:off x="3995640" y="2060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994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9" descr="22_01_04"/>
          <p:cNvPicPr/>
          <p:nvPr/>
        </p:nvPicPr>
        <p:blipFill>
          <a:blip r:embed="rId1"/>
          <a:stretch/>
        </p:blipFill>
        <p:spPr>
          <a:xfrm>
            <a:off x="565200" y="907920"/>
            <a:ext cx="308448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Portnova"/>
          <p:cNvPicPr/>
          <p:nvPr/>
        </p:nvPicPr>
        <p:blipFill>
          <a:blip r:embed="rId2"/>
          <a:stretch/>
        </p:blipFill>
        <p:spPr>
          <a:xfrm>
            <a:off x="3971880" y="2133720"/>
            <a:ext cx="4530600" cy="4174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0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8" descr="00d120117edf"/>
          <p:cNvPicPr/>
          <p:nvPr/>
        </p:nvPicPr>
        <p:blipFill>
          <a:blip r:embed="rId1"/>
          <a:stretch/>
        </p:blipFill>
        <p:spPr>
          <a:xfrm>
            <a:off x="539640" y="836640"/>
            <a:ext cx="3057480" cy="39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-13"/>
          <p:cNvPicPr/>
          <p:nvPr/>
        </p:nvPicPr>
        <p:blipFill>
          <a:blip r:embed="rId2"/>
          <a:stretch/>
        </p:blipFill>
        <p:spPr>
          <a:xfrm>
            <a:off x="4076640" y="2276640"/>
            <a:ext cx="4167360" cy="424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11" descr="22_01_02"/>
          <p:cNvPicPr/>
          <p:nvPr/>
        </p:nvPicPr>
        <p:blipFill>
          <a:blip r:embed="rId1"/>
          <a:stretch/>
        </p:blipFill>
        <p:spPr>
          <a:xfrm>
            <a:off x="395280" y="981000"/>
            <a:ext cx="3419640" cy="410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-25"/>
          <p:cNvPicPr/>
          <p:nvPr/>
        </p:nvPicPr>
        <p:blipFill>
          <a:blip r:embed="rId2"/>
          <a:stretch/>
        </p:blipFill>
        <p:spPr>
          <a:xfrm>
            <a:off x="4175280" y="2276640"/>
            <a:ext cx="44305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аша Чекали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143520" cy="445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025640" y="1266840"/>
            <a:ext cx="2430360" cy="317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1038240" y="4410000"/>
            <a:ext cx="3029040" cy="1644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ять несовершеннолетних бойцов Великой Отечественной войны были удостоены высшей награды – званий Героев Советского Союз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06640" y="3573360"/>
            <a:ext cx="50720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1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44:44Z</dcterms:created>
  <dc:creator>XTreme</dc:creator>
  <dc:description/>
  <dc:language>en-US</dc:language>
  <cp:lastModifiedBy>Ирина</cp:lastModifiedBy>
  <dcterms:modified xsi:type="dcterms:W3CDTF">2017-10-08T14:46:14Z</dcterms:modified>
  <cp:revision>35</cp:revision>
  <dc:subject/>
  <dc:title>Пионеры - герои Великой Отечественной Войны</dc:title>
</cp:coreProperties>
</file>