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21.gif" ContentType="image/gif"/>
  <Override PartName="/ppt/media/image1.png" ContentType="image/png"/>
  <Override PartName="/ppt/media/image2.png" ContentType="image/png"/>
  <Override PartName="/ppt/media/image14.jpeg" ContentType="image/jpeg"/>
  <Override PartName="/ppt/media/image5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4E2F-2F71-475A-A29C-4CEA6547D4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C904-34CC-47E6-A8C3-7B8BD8BA3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6E21-7F2F-48DE-8F11-C10BBB48B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7AA2-BE2C-4850-B9BF-6AA91A84A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30C0-6D27-4852-92C7-0C661CA21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C07B-96AA-4CF3-B68B-8D26B2665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E82-8220-4721-901A-3D243717AA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483E-A059-4611-86D1-B4BA99A40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0A2A-C31C-4244-9AD2-C3740E193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F0A5-F921-4801-AE53-5AF6DE938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383B-E189-44A1-929D-CC59D3A70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D9EA-2E41-4113-9DB9-9DBB1D812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F1E4-9485-4A8E-B2AC-C0BE2BBB89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8581-3655-4CD9-8C99-CC0C457D3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350-DE4D-458B-B81A-657C0441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21D-A473-46BE-A9DC-2C169159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363-C2A6-4EF0-8557-046A722F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953-D713-469F-B8B3-711C6918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13D3-DDA1-4CB9-BE7F-08429C86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E393-4897-437D-8CF5-D208F0EF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82F0-E99C-46B6-8932-D21DD44D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97D5-F144-4922-B082-19C79E17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3AF9-0B45-4498-B8C8-AD044F9C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3F4E-3C41-4D65-971F-B98BAA78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062F-FF40-47AB-B6B0-145DA0B7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806-0C4F-4AF1-A859-D3F5BD51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8DD5-AEF0-49FB-BFCA-A4CC959E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173F-7E36-4632-9382-197C98E6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1561-D647-4BA3-99E6-77EBF0B8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AACC-2AA9-467D-A77D-547DD519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2324-28EF-4040-A8E4-9A6B99CF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527D-3B11-4082-8E17-68F23E0D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E983-C9B3-4B7E-B234-4420CA43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D4F1-E24F-4D7C-9244-2AD86E62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4185-A32E-4568-B3D0-CB9A9C51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A88E-3861-43F7-B624-54129F80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5A7-3E39-4DA6-8DF7-A3DA12E6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6794-2EDC-46DF-A289-C9956933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C1D8-BAC3-49BC-B6DF-9A2D90DC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6015-9DD3-4D1C-916A-BF64565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1F8C-D061-4D18-8697-3D0F32A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3662-FE86-4EA9-90E9-812091FA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408F-3102-42E6-A81D-3F67FE47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5F69-66FB-44D4-99BC-05C94882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F256-DD1A-4062-B88F-7B38A5FA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E164-7B22-4EA0-B9FA-885B471B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B3CA-4F6B-4390-8FED-8EA17A68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411-D6B0-4EE4-A36A-ACAD4D10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E42C-1406-40FD-9416-FC461D44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7A905-BF53-4EF4-B279-AD76500F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A0D9-3B3F-47F5-983C-8EEBF029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3FAE-76AF-4A29-AE9B-FDB8927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1223-62A1-419F-AF41-AE852574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D63CF-2B76-49A5-90E2-EC294512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7DE8D-C4A5-468A-BFD2-FBD8D518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379A1-C58F-4BDD-AA95-885152C4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DDDD-C03A-46A7-BE88-92E8D2B0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31F79-BB54-4D8D-9124-D61D33F3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37E-130D-4006-894D-7A1C6117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8AEF-89D6-4F7C-87B2-0D204755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6CF16-132F-4A14-8612-A5EFBC4F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13CB9-D26D-474E-A042-1857EA35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CD60-939E-4DBA-A0D1-88A6B42C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9299-17F6-46B9-8D0E-6B82028B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01BD9-73F2-4180-B88B-B84448DC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AC0D-5328-4D39-8FB3-78F8F86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EF79-CC6B-40A8-91C1-6CCA4177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1470F-6EF4-4AA1-951C-BDFD44A0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6DC1-FDF0-409E-9D60-4BCE031F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00F-EAB2-419A-BED4-E1C9ED61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77B9E-274F-4EF6-91D1-C5D73B1D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6FB-A3B9-4521-9314-16D08009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F2A-86F3-4D45-9F27-B06CBC29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8C9-855A-4086-B8B1-B94453A7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CF41-1303-49D0-8B75-B1977CCB9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EDFB-E2CD-433A-84C7-0960EB3E2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2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3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36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40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4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0815-0AD1-497C-87FE-C4FE0B13443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8098-BF8C-450E-973E-855C0F078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289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0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307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311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315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319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198-8F07-4FAD-851D-26BEA8556A8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5.xml"/><Relationship Id="rId3" Type="http://schemas.openxmlformats.org/officeDocument/2006/relationships/slide" Target="slide21.xml"/><Relationship Id="rId4" Type="http://schemas.openxmlformats.org/officeDocument/2006/relationships/slide" Target="slide23.xml"/><Relationship Id="rId5" Type="http://schemas.openxmlformats.org/officeDocument/2006/relationships/slide" Target="slide27.xml"/><Relationship Id="rId6" Type="http://schemas.openxmlformats.org/officeDocument/2006/relationships/slide" Target="slide29.xml"/><Relationship Id="rId7" Type="http://schemas.openxmlformats.org/officeDocument/2006/relationships/slide" Target="slide32.xm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63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ллектуальная игра-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3"/>
          <p:cNvSpPr txBox="1"/>
          <p:nvPr/>
        </p:nvSpPr>
        <p:spPr>
          <a:xfrm>
            <a:off x="179280" y="189000"/>
            <a:ext cx="856944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ЫЙ 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МНЫЙ 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ИК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9" name="Picture 7" descr="7b3"/>
          <p:cNvPicPr/>
          <p:nvPr/>
        </p:nvPicPr>
        <p:blipFill>
          <a:blip r:embed="rId1"/>
          <a:stretch/>
        </p:blipFill>
        <p:spPr>
          <a:xfrm>
            <a:off x="3708360" y="1125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7b3"/>
          <p:cNvPicPr/>
          <p:nvPr/>
        </p:nvPicPr>
        <p:blipFill>
          <a:blip r:embed="rId2"/>
          <a:stretch/>
        </p:blipFill>
        <p:spPr>
          <a:xfrm>
            <a:off x="774072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7b3"/>
          <p:cNvPicPr/>
          <p:nvPr/>
        </p:nvPicPr>
        <p:blipFill>
          <a:blip r:embed="rId3"/>
          <a:stretch/>
        </p:blipFill>
        <p:spPr>
          <a:xfrm>
            <a:off x="108000" y="557208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   Как направлена мгновенная скорость при движении по окруж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 от центра окружности     Б. по касательной к окружност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.  к центру окру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   Где год длится дольше, на Марсе или на Сатур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 на Марсе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инаково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Сатурн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.    С какой скоростью движется Земля вокруг Солн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  30 м/с           Б. 30 км/с          В. 1200 км/мин           Г. 900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4.     Какой физический закон лежит в основе реактивного дви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 1 закон Ньютона                                 Б. 2 закон Ньютона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.  Закон сохранения импульса            Г. закон сохранения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кова форма траектории тела, движущегося со скор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0 км/с вокруг Зем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окружность              Б. эллипс                В. при такой скорости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кинет орбиту Земли, и полетит в космическое 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Кто впервые назвал Вселенную космос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Гагарин     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Архимед       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Эйнштейн   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Пифа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7.     Как нужно изменить расстояние между телами, чтобы сила их взаимного притяжения увеличилась в 4 раз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величить в 2 раза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 уменьшить в 2 раз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величить в 4 раза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меньшить в 4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Человек, стоящий на лодке, начинает идти от носа лодки к корме. Что произойдет с лодкой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лодка поплывет в сторону, противоположную направл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ижения человека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. лодка останется на месте                               В. уто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 Какая из стрелок показывает направление центростремительного ускорения в точке А?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.  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 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4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кую скорость получит модель ракеты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0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г, и массой пороха в ней 100 г, а газы вырываются из сопла со скоростью 100 м/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10 м/с              Б. 33 м/с                 В. 300 м/с                Г. 33 км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 величина, равная произведению массы тела на скорость его дви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мощность          Б. энергия          В. ускорение            Г. импуль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скорение свободного падения на Земле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8,9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Б. 9,8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В. 12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Г. 26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"/>
          <p:cNvSpPr/>
          <p:nvPr/>
        </p:nvSpPr>
        <p:spPr>
          <a:xfrm>
            <a:off x="7020000" y="1916280"/>
            <a:ext cx="1584360" cy="1582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 flipH="1">
            <a:off x="6372000" y="270828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7020000" y="2708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 flipV="1">
            <a:off x="7020000" y="20602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7020000" y="27082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7308720" y="1557360"/>
            <a:ext cx="1224000" cy="28728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893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огда был запущен первый ИС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49г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57г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61г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7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4. С какой высоты свободно падает сосулька, если расстояние до земли она преодолела за 4 с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10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30 м               Б. 80 м                  В. 100 м             Г. 12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5. Больно ли космонавту при ударе в невесом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не будет больно, т.к. в невесомости   космонавт легче перы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. будет больно, но не так больно как при ударе на земле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. не будет больно, т.к. космонавт в гермош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. будет больно, и в невесомости можно набить ши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6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то первый рассчитал скорость, которой должно обладать тело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чтобы преодолеть земное притяж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Мюнхгаузен 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Ньютон     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Циолковский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Корол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7. В настоящее время средняя высота орбиты полета МКС составляет 342,9 км. Какова скорость вращения МКС, если экваториальный радиус Земли 6378 км, а период обращения станции вокруг Земли 92 м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7,6 км/с             Б. 459 км/с           В. 343 км/с              Г. 343 м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ком году совершила космический полет первая женщина Валентина Терешков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7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0_20a04_3c1aefd2_XL"/>
          <p:cNvPicPr/>
          <p:nvPr/>
        </p:nvPicPr>
        <p:blipFill>
          <a:blip r:embed="rId1"/>
          <a:stretch/>
        </p:blipFill>
        <p:spPr>
          <a:xfrm>
            <a:off x="324000" y="2060640"/>
            <a:ext cx="5680080" cy="4260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baba_jaga"/>
          <p:cNvPicPr/>
          <p:nvPr/>
        </p:nvPicPr>
        <p:blipFill>
          <a:blip r:embed="rId2"/>
          <a:stretch/>
        </p:blipFill>
        <p:spPr>
          <a:xfrm>
            <a:off x="6227640" y="2565360"/>
            <a:ext cx="27259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Arial"/>
              </a:rPr>
              <a:t>Дополнительные вопросы 1 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9325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о движется равномерно по окружности. Как изменится его центростремительное ускорение при увеличении скорости равномерного движения в 2 раза и уменьшении радиуса окружности в 4 р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тся в 2 раз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тся в 8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тся в 16 раз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измен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уменьшится в 2 раза       Д. уменьшится в 8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ченый, открывший закон всемирного тягот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Архимед          Б. Евклид            В. Демокрит           Г. Ньют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осмосе побывали граждане более 30 государств мира. 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ько три страны имеют возможность самостоя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уществлять пилотируемые полеты: Россия, США 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пони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гли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1965 году первым летчиком-космонавтом, вышедшим в открытый космос, стал Алексей Леонов. На какое максимальное расстояние удалился Леонов от корабл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,5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,55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,35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,3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какую максимальную высоту поднимется тело, брошенное вертикально вверх со скоростью 40 м/с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0 м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0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00 м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684360" y="476280"/>
            <a:ext cx="8062560" cy="3136680"/>
            <a:chOff x="684360" y="476280"/>
            <a:chExt cx="8062560" cy="3136680"/>
          </a:xfrm>
        </p:grpSpPr>
        <p:sp>
          <p:nvSpPr>
            <p:cNvPr id="423" name="Rectangle 3"/>
            <p:cNvSpPr/>
            <p:nvPr/>
          </p:nvSpPr>
          <p:spPr>
            <a:xfrm>
              <a:off x="7940880" y="1642320"/>
              <a:ext cx="80460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"/>
            <p:cNvSpPr/>
            <p:nvPr/>
          </p:nvSpPr>
          <p:spPr>
            <a:xfrm>
              <a:off x="7132680" y="1642320"/>
              <a:ext cx="8078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Ъ 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6328440" y="1642320"/>
              <a:ext cx="8042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"/>
            <p:cNvSpPr/>
            <p:nvPr/>
          </p:nvSpPr>
          <p:spPr>
            <a:xfrm>
              <a:off x="5520240" y="1642320"/>
              <a:ext cx="8078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7"/>
            <p:cNvSpPr/>
            <p:nvPr/>
          </p:nvSpPr>
          <p:spPr>
            <a:xfrm>
              <a:off x="4715640" y="1642320"/>
              <a:ext cx="80460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>
              <a:off x="390924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"/>
            <p:cNvSpPr/>
            <p:nvPr/>
          </p:nvSpPr>
          <p:spPr>
            <a:xfrm>
              <a:off x="310284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0"/>
            <p:cNvSpPr/>
            <p:nvPr/>
          </p:nvSpPr>
          <p:spPr>
            <a:xfrm>
              <a:off x="229680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1"/>
            <p:cNvSpPr/>
            <p:nvPr/>
          </p:nvSpPr>
          <p:spPr>
            <a:xfrm>
              <a:off x="149040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68436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"/>
            <p:cNvSpPr/>
            <p:nvPr/>
          </p:nvSpPr>
          <p:spPr>
            <a:xfrm>
              <a:off x="7940880" y="476280"/>
              <a:ext cx="80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"/>
            <p:cNvSpPr/>
            <p:nvPr/>
          </p:nvSpPr>
          <p:spPr>
            <a:xfrm>
              <a:off x="7132680" y="476280"/>
              <a:ext cx="8078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6328440" y="476280"/>
              <a:ext cx="8042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6"/>
            <p:cNvSpPr/>
            <p:nvPr/>
          </p:nvSpPr>
          <p:spPr>
            <a:xfrm>
              <a:off x="5520240" y="476280"/>
              <a:ext cx="8078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>
              <a:off x="4715640" y="476280"/>
              <a:ext cx="80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8"/>
            <p:cNvSpPr/>
            <p:nvPr/>
          </p:nvSpPr>
          <p:spPr>
            <a:xfrm>
              <a:off x="390924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>
              <a:off x="310284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0"/>
            <p:cNvSpPr/>
            <p:nvPr/>
          </p:nvSpPr>
          <p:spPr>
            <a:xfrm>
              <a:off x="229680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"/>
            <p:cNvSpPr/>
            <p:nvPr/>
          </p:nvSpPr>
          <p:spPr>
            <a:xfrm>
              <a:off x="149040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2"/>
            <p:cNvSpPr/>
            <p:nvPr/>
          </p:nvSpPr>
          <p:spPr>
            <a:xfrm>
              <a:off x="68436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23"/>
            <p:cNvSpPr/>
            <p:nvPr/>
          </p:nvSpPr>
          <p:spPr>
            <a:xfrm>
              <a:off x="684360" y="476280"/>
              <a:ext cx="80614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4"/>
            <p:cNvSpPr/>
            <p:nvPr/>
          </p:nvSpPr>
          <p:spPr>
            <a:xfrm>
              <a:off x="684360" y="1642320"/>
              <a:ext cx="8061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684360" y="3611880"/>
              <a:ext cx="80614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6"/>
            <p:cNvSpPr/>
            <p:nvPr/>
          </p:nvSpPr>
          <p:spPr>
            <a:xfrm>
              <a:off x="684360" y="476280"/>
              <a:ext cx="1080" cy="3135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>
              <a:off x="149040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8"/>
            <p:cNvSpPr/>
            <p:nvPr/>
          </p:nvSpPr>
          <p:spPr>
            <a:xfrm>
              <a:off x="229680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29"/>
            <p:cNvSpPr/>
            <p:nvPr/>
          </p:nvSpPr>
          <p:spPr>
            <a:xfrm>
              <a:off x="310284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30"/>
            <p:cNvSpPr/>
            <p:nvPr/>
          </p:nvSpPr>
          <p:spPr>
            <a:xfrm>
              <a:off x="3909240" y="476280"/>
              <a:ext cx="144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>
              <a:off x="4715640" y="476280"/>
              <a:ext cx="144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32"/>
            <p:cNvSpPr/>
            <p:nvPr/>
          </p:nvSpPr>
          <p:spPr>
            <a:xfrm>
              <a:off x="552024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33"/>
            <p:cNvSpPr/>
            <p:nvPr/>
          </p:nvSpPr>
          <p:spPr>
            <a:xfrm>
              <a:off x="632844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34"/>
            <p:cNvSpPr/>
            <p:nvPr/>
          </p:nvSpPr>
          <p:spPr>
            <a:xfrm>
              <a:off x="7132680" y="476280"/>
              <a:ext cx="144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35"/>
            <p:cNvSpPr/>
            <p:nvPr/>
          </p:nvSpPr>
          <p:spPr>
            <a:xfrm>
              <a:off x="794088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6"/>
            <p:cNvSpPr/>
            <p:nvPr/>
          </p:nvSpPr>
          <p:spPr>
            <a:xfrm>
              <a:off x="8745840" y="476280"/>
              <a:ext cx="1080" cy="3135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37"/>
          <p:cNvGrpSpPr/>
          <p:nvPr/>
        </p:nvGrpSpPr>
        <p:grpSpPr>
          <a:xfrm>
            <a:off x="900000" y="3933720"/>
            <a:ext cx="7704000" cy="2131920"/>
            <a:chOff x="900000" y="3933720"/>
            <a:chExt cx="7704000" cy="2131920"/>
          </a:xfrm>
        </p:grpSpPr>
        <p:sp>
          <p:nvSpPr>
            <p:cNvPr id="458" name="Rectangle 38"/>
            <p:cNvSpPr/>
            <p:nvPr/>
          </p:nvSpPr>
          <p:spPr>
            <a:xfrm>
              <a:off x="7520040" y="3933720"/>
              <a:ext cx="10825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9"/>
            <p:cNvSpPr/>
            <p:nvPr/>
          </p:nvSpPr>
          <p:spPr>
            <a:xfrm>
              <a:off x="6574320" y="3933720"/>
              <a:ext cx="9457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0"/>
            <p:cNvSpPr/>
            <p:nvPr/>
          </p:nvSpPr>
          <p:spPr>
            <a:xfrm>
              <a:off x="5629680" y="3933720"/>
              <a:ext cx="94428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1"/>
            <p:cNvSpPr/>
            <p:nvPr/>
          </p:nvSpPr>
          <p:spPr>
            <a:xfrm>
              <a:off x="4682520" y="3933720"/>
              <a:ext cx="94716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2"/>
            <p:cNvSpPr/>
            <p:nvPr/>
          </p:nvSpPr>
          <p:spPr>
            <a:xfrm>
              <a:off x="3736080" y="3933720"/>
              <a:ext cx="94608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3"/>
            <p:cNvSpPr/>
            <p:nvPr/>
          </p:nvSpPr>
          <p:spPr>
            <a:xfrm>
              <a:off x="2792160" y="3933720"/>
              <a:ext cx="9439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4"/>
            <p:cNvSpPr/>
            <p:nvPr/>
          </p:nvSpPr>
          <p:spPr>
            <a:xfrm>
              <a:off x="1844280" y="3933720"/>
              <a:ext cx="9475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5"/>
            <p:cNvSpPr/>
            <p:nvPr/>
          </p:nvSpPr>
          <p:spPr>
            <a:xfrm>
              <a:off x="900000" y="3933720"/>
              <a:ext cx="94428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6"/>
            <p:cNvSpPr/>
            <p:nvPr/>
          </p:nvSpPr>
          <p:spPr>
            <a:xfrm>
              <a:off x="900000" y="3933720"/>
              <a:ext cx="77029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7"/>
            <p:cNvSpPr/>
            <p:nvPr/>
          </p:nvSpPr>
          <p:spPr>
            <a:xfrm>
              <a:off x="900000" y="6064560"/>
              <a:ext cx="77029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8"/>
            <p:cNvSpPr/>
            <p:nvPr/>
          </p:nvSpPr>
          <p:spPr>
            <a:xfrm>
              <a:off x="900000" y="3933720"/>
              <a:ext cx="1440" cy="213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49"/>
            <p:cNvSpPr/>
            <p:nvPr/>
          </p:nvSpPr>
          <p:spPr>
            <a:xfrm>
              <a:off x="184428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50"/>
            <p:cNvSpPr/>
            <p:nvPr/>
          </p:nvSpPr>
          <p:spPr>
            <a:xfrm>
              <a:off x="2792160" y="3933720"/>
              <a:ext cx="108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51"/>
            <p:cNvSpPr/>
            <p:nvPr/>
          </p:nvSpPr>
          <p:spPr>
            <a:xfrm>
              <a:off x="373608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2"/>
            <p:cNvSpPr/>
            <p:nvPr/>
          </p:nvSpPr>
          <p:spPr>
            <a:xfrm>
              <a:off x="4682520" y="3933720"/>
              <a:ext cx="108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53"/>
            <p:cNvSpPr/>
            <p:nvPr/>
          </p:nvSpPr>
          <p:spPr>
            <a:xfrm>
              <a:off x="562968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54"/>
            <p:cNvSpPr/>
            <p:nvPr/>
          </p:nvSpPr>
          <p:spPr>
            <a:xfrm>
              <a:off x="6574320" y="3933720"/>
              <a:ext cx="108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55"/>
            <p:cNvSpPr/>
            <p:nvPr/>
          </p:nvSpPr>
          <p:spPr>
            <a:xfrm>
              <a:off x="752004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56"/>
            <p:cNvSpPr/>
            <p:nvPr/>
          </p:nvSpPr>
          <p:spPr>
            <a:xfrm>
              <a:off x="8602920" y="3933720"/>
              <a:ext cx="1080" cy="213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1042920" y="404640"/>
          <a:ext cx="7056360" cy="2476800"/>
        </p:xfrm>
        <a:graphic>
          <a:graphicData uri="http://schemas.openxmlformats.org/drawingml/2006/table">
            <a:tbl>
              <a:tblPr/>
              <a:tblGrid>
                <a:gridCol w="882720"/>
                <a:gridCol w="880920"/>
                <a:gridCol w="882720"/>
                <a:gridCol w="882720"/>
                <a:gridCol w="880920"/>
                <a:gridCol w="882720"/>
                <a:gridCol w="881280"/>
                <a:gridCol w="88236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11280" y="3213000"/>
          <a:ext cx="8075520" cy="291780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3200"/>
                <a:gridCol w="672840"/>
                <a:gridCol w="673200"/>
                <a:gridCol w="671400"/>
                <a:gridCol w="673200"/>
                <a:gridCol w="673200"/>
                <a:gridCol w="673200"/>
                <a:gridCol w="672840"/>
                <a:gridCol w="673200"/>
              </a:tblGrid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468360" y="333360"/>
          <a:ext cx="7991280" cy="2381400"/>
        </p:xfrm>
        <a:graphic>
          <a:graphicData uri="http://schemas.openxmlformats.org/drawingml/2006/table">
            <a:tbl>
              <a:tblPr/>
              <a:tblGrid>
                <a:gridCol w="798480"/>
                <a:gridCol w="799920"/>
                <a:gridCol w="798840"/>
                <a:gridCol w="799920"/>
                <a:gridCol w="798480"/>
                <a:gridCol w="798480"/>
                <a:gridCol w="800280"/>
                <a:gridCol w="798480"/>
                <a:gridCol w="799920"/>
                <a:gridCol w="7984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457200" y="3213000"/>
          <a:ext cx="8218440" cy="2917800"/>
        </p:xfrm>
        <a:graphic>
          <a:graphicData uri="http://schemas.openxmlformats.org/drawingml/2006/table">
            <a:tbl>
              <a:tblPr/>
              <a:tblGrid>
                <a:gridCol w="685800"/>
                <a:gridCol w="684360"/>
                <a:gridCol w="685800"/>
                <a:gridCol w="684000"/>
                <a:gridCol w="685800"/>
                <a:gridCol w="684360"/>
                <a:gridCol w="682560"/>
                <a:gridCol w="685800"/>
                <a:gridCol w="684360"/>
                <a:gridCol w="685800"/>
                <a:gridCol w="684000"/>
                <a:gridCol w="685800"/>
              </a:tblGrid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395280" y="765000"/>
            <a:ext cx="8302320" cy="5040000"/>
            <a:chOff x="395280" y="765000"/>
            <a:chExt cx="8302320" cy="5040000"/>
          </a:xfrm>
        </p:grpSpPr>
        <p:sp>
          <p:nvSpPr>
            <p:cNvPr id="482" name="Rectangle 3"/>
            <p:cNvSpPr/>
            <p:nvPr/>
          </p:nvSpPr>
          <p:spPr>
            <a:xfrm>
              <a:off x="5929920" y="3285000"/>
              <a:ext cx="2766240" cy="25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4"/>
            <p:cNvSpPr/>
            <p:nvPr/>
          </p:nvSpPr>
          <p:spPr>
            <a:xfrm>
              <a:off x="3161520" y="3285000"/>
              <a:ext cx="2768040" cy="25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5"/>
            <p:cNvSpPr/>
            <p:nvPr/>
          </p:nvSpPr>
          <p:spPr>
            <a:xfrm>
              <a:off x="395280" y="3285000"/>
              <a:ext cx="2766240" cy="25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"/>
            <p:cNvSpPr/>
            <p:nvPr/>
          </p:nvSpPr>
          <p:spPr>
            <a:xfrm>
              <a:off x="5929920" y="765000"/>
              <a:ext cx="2766240" cy="25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"/>
            <p:cNvSpPr/>
            <p:nvPr/>
          </p:nvSpPr>
          <p:spPr>
            <a:xfrm>
              <a:off x="3161520" y="765000"/>
              <a:ext cx="2768040" cy="25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8"/>
            <p:cNvSpPr/>
            <p:nvPr/>
          </p:nvSpPr>
          <p:spPr>
            <a:xfrm>
              <a:off x="395280" y="765000"/>
              <a:ext cx="2766240" cy="25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9"/>
            <p:cNvSpPr/>
            <p:nvPr/>
          </p:nvSpPr>
          <p:spPr>
            <a:xfrm>
              <a:off x="395280" y="765000"/>
              <a:ext cx="8301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0"/>
            <p:cNvSpPr/>
            <p:nvPr/>
          </p:nvSpPr>
          <p:spPr>
            <a:xfrm>
              <a:off x="395280" y="3285000"/>
              <a:ext cx="8301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1"/>
            <p:cNvSpPr/>
            <p:nvPr/>
          </p:nvSpPr>
          <p:spPr>
            <a:xfrm>
              <a:off x="395280" y="5803560"/>
              <a:ext cx="8301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2"/>
            <p:cNvSpPr/>
            <p:nvPr/>
          </p:nvSpPr>
          <p:spPr>
            <a:xfrm>
              <a:off x="395280" y="765000"/>
              <a:ext cx="1080" cy="5038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3"/>
            <p:cNvSpPr/>
            <p:nvPr/>
          </p:nvSpPr>
          <p:spPr>
            <a:xfrm>
              <a:off x="3161520" y="765000"/>
              <a:ext cx="1440" cy="503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4"/>
            <p:cNvSpPr/>
            <p:nvPr/>
          </p:nvSpPr>
          <p:spPr>
            <a:xfrm>
              <a:off x="5929920" y="765000"/>
              <a:ext cx="1080" cy="503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5"/>
            <p:cNvSpPr/>
            <p:nvPr/>
          </p:nvSpPr>
          <p:spPr>
            <a:xfrm>
              <a:off x="8696520" y="765000"/>
              <a:ext cx="1080" cy="5038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WordArt 16"/>
          <p:cNvSpPr txBox="1"/>
          <p:nvPr/>
        </p:nvSpPr>
        <p:spPr>
          <a:xfrm>
            <a:off x="539640" y="981000"/>
            <a:ext cx="22035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ЕНЫ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6" name="WordArt 17"/>
          <p:cNvSpPr txBox="1"/>
          <p:nvPr/>
        </p:nvSpPr>
        <p:spPr>
          <a:xfrm>
            <a:off x="6012000" y="907920"/>
            <a:ext cx="242712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ЕТО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7" name="WordArt 18"/>
          <p:cNvSpPr txBox="1"/>
          <p:nvPr/>
        </p:nvSpPr>
        <p:spPr>
          <a:xfrm>
            <a:off x="3276720" y="3429000"/>
            <a:ext cx="228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Б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8" name="WordArt 19"/>
          <p:cNvSpPr txBox="1"/>
          <p:nvPr/>
        </p:nvSpPr>
        <p:spPr>
          <a:xfrm>
            <a:off x="250920" y="3213000"/>
            <a:ext cx="288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ЛЕКТР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ГНИТ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9" name="WordArt 20"/>
          <p:cNvSpPr txBox="1"/>
          <p:nvPr/>
        </p:nvSpPr>
        <p:spPr>
          <a:xfrm>
            <a:off x="3203640" y="836640"/>
            <a:ext cx="252252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ХАНИЧЕС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0" name="AutoShape 21">
            <a:hlinkClick r:id="rId1" action="ppaction://hlinksldjump"/>
          </p:cNvPr>
          <p:cNvSpPr/>
          <p:nvPr/>
        </p:nvSpPr>
        <p:spPr>
          <a:xfrm>
            <a:off x="2268360" y="263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2">
            <a:hlinkClick r:id="rId2" action="ppaction://hlinksldjump"/>
          </p:cNvPr>
          <p:cNvSpPr/>
          <p:nvPr/>
        </p:nvSpPr>
        <p:spPr>
          <a:xfrm>
            <a:off x="5219640" y="270828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3">
            <a:hlinkClick r:id="rId3" action="ppaction://hlinksldjump"/>
          </p:cNvPr>
          <p:cNvSpPr/>
          <p:nvPr/>
        </p:nvSpPr>
        <p:spPr>
          <a:xfrm>
            <a:off x="7956720" y="270828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4">
            <a:hlinkClick r:id="rId4" action="ppaction://hlinksldjump"/>
          </p:cNvPr>
          <p:cNvSpPr/>
          <p:nvPr/>
        </p:nvSpPr>
        <p:spPr>
          <a:xfrm>
            <a:off x="234000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5">
            <a:hlinkClick r:id="rId5" action="ppaction://hlinksldjump"/>
          </p:cNvPr>
          <p:cNvSpPr/>
          <p:nvPr/>
        </p:nvSpPr>
        <p:spPr>
          <a:xfrm>
            <a:off x="5003640" y="5157720"/>
            <a:ext cx="505080" cy="35892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87" h="21600">
                <a:moveTo>
                  <a:pt x="0" y="0"/>
                </a:moveTo>
                <a:lnTo>
                  <a:pt x="30387" y="0"/>
                </a:lnTo>
                <a:lnTo>
                  <a:pt x="30387" y="21600"/>
                </a:lnTo>
                <a:lnTo>
                  <a:pt x="0" y="21600"/>
                </a:lnTo>
                <a:close/>
              </a:path>
              <a:path fill="lightenLess" w="30387" h="21600">
                <a:moveTo>
                  <a:pt x="0" y="0"/>
                </a:moveTo>
                <a:lnTo>
                  <a:pt x="30387" y="0"/>
                </a:lnTo>
                <a:lnTo>
                  <a:pt x="28987" y="1400"/>
                </a:lnTo>
                <a:lnTo>
                  <a:pt x="1400" y="1400"/>
                </a:lnTo>
                <a:close/>
              </a:path>
              <a:path fill="darken" w="30387" h="21600">
                <a:moveTo>
                  <a:pt x="30387" y="0"/>
                </a:moveTo>
                <a:lnTo>
                  <a:pt x="30387" y="21600"/>
                </a:lnTo>
                <a:lnTo>
                  <a:pt x="28987" y="20200"/>
                </a:lnTo>
                <a:lnTo>
                  <a:pt x="28987" y="1400"/>
                </a:lnTo>
                <a:close/>
              </a:path>
              <a:path fill="darkenLess" w="30387" h="21600">
                <a:moveTo>
                  <a:pt x="30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87" y="20200"/>
                </a:lnTo>
                <a:close/>
              </a:path>
              <a:path fill="lighten" w="30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6">
            <a:hlinkClick r:id="rId6" action="ppaction://hlinksldjump"/>
          </p:cNvPr>
          <p:cNvSpPr/>
          <p:nvPr/>
        </p:nvSpPr>
        <p:spPr>
          <a:xfrm>
            <a:off x="7885080" y="530064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7">
            <a:hlinkClick r:id="rId7" action="ppaction://hlinksldjump"/>
          </p:cNvPr>
          <p:cNvSpPr/>
          <p:nvPr/>
        </p:nvSpPr>
        <p:spPr>
          <a:xfrm>
            <a:off x="8172360" y="616572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29"/>
          <p:cNvSpPr txBox="1"/>
          <p:nvPr/>
        </p:nvSpPr>
        <p:spPr>
          <a:xfrm>
            <a:off x="6012000" y="3573360"/>
            <a:ext cx="201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1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кр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000" y="324000"/>
            <a:ext cx="82119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УЧЕНЫЕ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ФИЗИКИ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7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Древнегреческий ученый, первый создавший учебник физ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Итальянский ученый, впервые измеривший атмосферное давл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Ученый, на своей голове испытавший действие падающего ябло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го ученого называют отцом авиа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Древнегреческий ученый, который со словами «Эврика! Эврика!» купался в ван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какой стране жил и работал ученый Ленц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 Ученый, создавший планетарную модель ато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Древнегреческий ученый, первым высказавшийся, что все вещества состоят их мельчайших част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Ученый, доказавший, что нас окружают не только тела, но и пол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ой древнегреческий ученый в 3 веке открыл закон прямолинейного распространения свет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Ученый, во сн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иде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ший таблицу химических элемент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2. Ученый, закон которого объясняет шарообразную форму мыльных пузыр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0 ле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ого полета человека в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19280" y="1600200"/>
            <a:ext cx="57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2 апреля 1961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Юрий Алексеевич Гага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Герой Советского Сою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ANd9GcQd_ohSOnv2HFtrG1HosgGtjmnv1zbnbQETee9RNBxcFqSqRxJ2YA"/>
          <p:cNvPicPr/>
          <p:nvPr/>
        </p:nvPicPr>
        <p:blipFill>
          <a:blip r:embed="rId1"/>
          <a:stretch/>
        </p:blipFill>
        <p:spPr>
          <a:xfrm>
            <a:off x="250920" y="1773360"/>
            <a:ext cx="3133800" cy="4390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ANd9GcRPPZPj55Uwp2Hot-gdXbsYkfPc8L1NyIDo7NV4WKGvXVq-bS1V"/>
          <p:cNvPicPr/>
          <p:nvPr/>
        </p:nvPicPr>
        <p:blipFill>
          <a:blip r:embed="rId2"/>
          <a:stretch/>
        </p:blipFill>
        <p:spPr>
          <a:xfrm>
            <a:off x="4932360" y="3357720"/>
            <a:ext cx="3887640" cy="31492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684360" y="630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ток-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земля"/>
          <p:cNvPicPr/>
          <p:nvPr/>
        </p:nvPicPr>
        <p:blipFill>
          <a:blip r:embed="rId3"/>
          <a:stretch/>
        </p:blipFill>
        <p:spPr>
          <a:xfrm>
            <a:off x="250920" y="33480"/>
            <a:ext cx="115236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Ученый, в честь которого названа единица измерения эне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Немецкий ученый, установивший зависимость силы тока от напряжения и сопроти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Кто впервые обнаружил взаимодействие проводника с током и магнитной стрел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Изобретатель ради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В честь какого ученого названа единица частоты колебани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. Первый русский академик, изучавший вместе с профессором Рихманом атмосферное электри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. Ученый, рассчитавший величину электрического заряда элект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честь какого ученого названа единица измерения абсолютной температур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1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ченый, имя которого носит закон о силе упругости, возникающей при деформ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3">
            <a:hlinkClick r:id="rId1" action="ppaction://hlinksldjump"/>
          </p:cNvPr>
          <p:cNvSpPr/>
          <p:nvPr/>
        </p:nvSpPr>
        <p:spPr>
          <a:xfrm>
            <a:off x="8352000" y="635328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9936" y="7493"/>
                </a:moveTo>
                <a:lnTo>
                  <a:pt x="13444" y="7493"/>
                </a:lnTo>
                <a:lnTo>
                  <a:pt x="13444" y="12828"/>
                </a:lnTo>
                <a:cubicBezTo>
                  <a:pt x="13444" y="13751"/>
                  <a:pt x="14245" y="14482"/>
                  <a:pt x="15280" y="14482"/>
                </a:cubicBezTo>
                <a:lnTo>
                  <a:pt x="16943" y="14482"/>
                </a:lnTo>
                <a:cubicBezTo>
                  <a:pt x="17979" y="14482"/>
                  <a:pt x="18779" y="13751"/>
                  <a:pt x="18779" y="12828"/>
                </a:cubicBezTo>
                <a:lnTo>
                  <a:pt x="18779" y="7493"/>
                </a:lnTo>
                <a:lnTo>
                  <a:pt x="16943" y="7493"/>
                </a:lnTo>
                <a:lnTo>
                  <a:pt x="20450" y="3985"/>
                </a:lnTo>
                <a:lnTo>
                  <a:pt x="24123" y="7493"/>
                </a:lnTo>
                <a:lnTo>
                  <a:pt x="22287" y="7493"/>
                </a:lnTo>
                <a:lnTo>
                  <a:pt x="22287" y="12828"/>
                </a:lnTo>
                <a:cubicBezTo>
                  <a:pt x="22287" y="15596"/>
                  <a:pt x="19711" y="18155"/>
                  <a:pt x="16943" y="18155"/>
                </a:cubicBezTo>
                <a:lnTo>
                  <a:pt x="15280" y="18155"/>
                </a:lnTo>
                <a:cubicBezTo>
                  <a:pt x="12513" y="18155"/>
                  <a:pt x="9936" y="15596"/>
                  <a:pt x="9936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5640" y="324000"/>
            <a:ext cx="77817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СВЕТОВЫЕ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302680" cy="62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 распространяется свет в однородной прозрачной сре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азноцветная дуга в небе после дождя в солнечную по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фокусов у всякой линз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Явление, происходящее при переходе света из одной среды в другу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Экран телевизора – это холодный или горячий источник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цветов в радуг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обирающая линза человеческого гла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стественный источник света для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ой буквой обозначается угол падения луч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птический прибор для изучения мельчайших час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упа – это собирающая или рассеивающая линз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Единица измерения оптической силы лин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Какое изображение дает рассеивающая линз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Является ли источником света Лу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Как называется расстояние от оптического центра до фокуса линз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Видимое излу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Чему равен угол отражения, если угол падения луча 30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8. Какие затмения происходят чаще: солнечные или лунны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9. Очки с рассеивающими линзами необходимы при дальнозоркости или близору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0. Чему рав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скорость света в вакуум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1. Возможно ли наблюдать радугу на Лу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7885080" y="566100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8" y="14482"/>
                  <a:pt x="14524" y="14482"/>
                </a:cubicBezTo>
                <a:lnTo>
                  <a:pt x="16187" y="14482"/>
                </a:lnTo>
                <a:cubicBezTo>
                  <a:pt x="17222" y="14482"/>
                  <a:pt x="18023" y="13751"/>
                  <a:pt x="18023" y="12828"/>
                </a:cubicBezTo>
                <a:lnTo>
                  <a:pt x="18023" y="7493"/>
                </a:lnTo>
                <a:lnTo>
                  <a:pt x="16187" y="7493"/>
                </a:lnTo>
                <a:lnTo>
                  <a:pt x="19694" y="3985"/>
                </a:lnTo>
                <a:lnTo>
                  <a:pt x="23367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4" y="18155"/>
                  <a:pt x="16187" y="18155"/>
                </a:cubicBezTo>
                <a:lnTo>
                  <a:pt x="14524" y="18155"/>
                </a:lnTo>
                <a:cubicBezTo>
                  <a:pt x="11756" y="18155"/>
                  <a:pt x="9180" y="15596"/>
                  <a:pt x="918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323640"/>
            <a:ext cx="8223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ЭЛЕКТР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МАГНИТНЫЕ</a:t>
            </a: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видов зарядов существует в приро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ибор, определяющий заряжено тело или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ещества, не проводящие электри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ов знак заряда электро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ет ли магнитное поле у Лу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том, потерявший один или несколько электро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аправленное движение заряженных час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полюсов у источника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Электрический разряд в атмосфе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 взаимодействуют одноименные заря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й магнитный полюс  на северном географическом полюсе Земл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ое действие электрического ток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блюдается в электрической ламп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ый, теоретически обосновавший существование электромагнитных вол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ройство, название которого на греческом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зыке означает «создател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Единица измерения электрического заря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Составная центральная часть ат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Устройство дл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мыкания электрической цепи в случае короткого замыкания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. Источником какого тока – постоянного или переменного – является гальванический элемен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. Что означает в переводе слова «электрон», «электричество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. Ученый, изучавший живое электричество на лягуш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1. Аппарат для разговора по проводам при помощи электрической эне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2. Обладает ли магнитными свойствами такой металл, как золо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3. Радиоволна – поперечная или продольн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3"/>
          <p:cNvSpPr/>
          <p:nvPr/>
        </p:nvSpPr>
        <p:spPr>
          <a:xfrm>
            <a:off x="795672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8598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МЕХАНИЧЕСКИЕ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ело, размерами которого можно пренебречь в данны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зменение взаимного расположения тел с течением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ем обладают тела, способные совершить работ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вижение, при котором не меняется скор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ая физическая величина характеризует инертность те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мя, за которое совершается одно полное колеб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 звука, испускающий единственную частоту, так называемый «чистый тон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ему равно ускорение свободного падени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н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аектория, описываемая стрелкой ча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вижение, при котором не меняется ускор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ему равен вес тела массой 50 к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ебания, частоты которых больше 20 кГц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Физическая величина, характеризующая быстроту выполнения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Какой энергией обладают движущиеся т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Дает ли выигрыш в силе неподвижный бл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Отношение пройденного пути ко времени прох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Сила, препятствующая движению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Чему равн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я космическая скор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Движение, при котором все точки тела движутся одинак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Раздел механики, изучающий условия покоя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Ученый, сформулировавший три закона классической меха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метр среды, влияющий на скорость зву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3. Время обращения Земли вокруг Солн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4. С какой скоростью вращается Земля вокруг своей ос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5. Какой ученый создал геоцентрическую систему мировоззр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824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59054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Б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0" y="449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измерения времен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определения расстоя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впервые сконструированный Галиле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определения плотности жид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изобретенный в 1714 году Фаренгейт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 прибором измеряют вес т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определяющий расположение частей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 прибором измеряют мощн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преобразующий звуковые колебания в электрическ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измерения атмосферного давл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 прибором измеряется объем жид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фиксирующий электромагнитные колеб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обнаружения электрического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4. Динамометр, определяющий мускульную сил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5. Прибор, с помощью которого сделал свое открытие Броу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. Прибор, измеряющий работу электрического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7. Прибор для измерения массы т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8. Прибор, определяющий давление, больше или меньше атмосферно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9. Прибор для определения влажности воздух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. Прибор, измеряющий силу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1. Прибор для измерения электрического сопротивл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2. Прибор для измерения скорости движ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3. Прибор, изменяющий силу тока в цеп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4. Прибор для измерения напряжения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5. Прибор, определяющий степень электризаци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8172360" y="6165720"/>
            <a:ext cx="792360" cy="505080"/>
          </a:xfrm>
          <a:custGeom>
            <a:avLst/>
            <a:gdLst>
              <a:gd name="textAreaLeft" fmla="*/ 32760 w 792360"/>
              <a:gd name="textAreaRight" fmla="*/ 759960 w 792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77" h="21600">
                <a:moveTo>
                  <a:pt x="0" y="0"/>
                </a:moveTo>
                <a:lnTo>
                  <a:pt x="33877" y="0"/>
                </a:lnTo>
                <a:lnTo>
                  <a:pt x="33877" y="21600"/>
                </a:lnTo>
                <a:lnTo>
                  <a:pt x="0" y="21600"/>
                </a:lnTo>
                <a:close/>
              </a:path>
              <a:path fill="lightenLess" w="33877" h="21600">
                <a:moveTo>
                  <a:pt x="0" y="0"/>
                </a:moveTo>
                <a:lnTo>
                  <a:pt x="33877" y="0"/>
                </a:lnTo>
                <a:lnTo>
                  <a:pt x="32477" y="1400"/>
                </a:lnTo>
                <a:lnTo>
                  <a:pt x="1400" y="1400"/>
                </a:lnTo>
                <a:close/>
              </a:path>
              <a:path fill="darken" w="33877" h="21600">
                <a:moveTo>
                  <a:pt x="33877" y="0"/>
                </a:moveTo>
                <a:lnTo>
                  <a:pt x="33877" y="21600"/>
                </a:lnTo>
                <a:lnTo>
                  <a:pt x="32477" y="20200"/>
                </a:lnTo>
                <a:lnTo>
                  <a:pt x="32477" y="1400"/>
                </a:lnTo>
                <a:close/>
              </a:path>
              <a:path fill="darkenLess" w="33877" h="21600">
                <a:moveTo>
                  <a:pt x="3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77" y="20200"/>
                </a:lnTo>
                <a:close/>
              </a:path>
              <a:path fill="lighten" w="3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77" h="21600">
                <a:moveTo>
                  <a:pt x="9932" y="7493"/>
                </a:moveTo>
                <a:lnTo>
                  <a:pt x="13440" y="7493"/>
                </a:lnTo>
                <a:lnTo>
                  <a:pt x="13440" y="12828"/>
                </a:lnTo>
                <a:cubicBezTo>
                  <a:pt x="13440" y="13751"/>
                  <a:pt x="14240" y="14482"/>
                  <a:pt x="15276" y="14482"/>
                </a:cubicBezTo>
                <a:lnTo>
                  <a:pt x="16938" y="14482"/>
                </a:lnTo>
                <a:cubicBezTo>
                  <a:pt x="17974" y="14482"/>
                  <a:pt x="18775" y="13751"/>
                  <a:pt x="18775" y="12828"/>
                </a:cubicBezTo>
                <a:lnTo>
                  <a:pt x="18775" y="7493"/>
                </a:lnTo>
                <a:lnTo>
                  <a:pt x="16938" y="7493"/>
                </a:lnTo>
                <a:lnTo>
                  <a:pt x="20446" y="3985"/>
                </a:lnTo>
                <a:lnTo>
                  <a:pt x="24119" y="7493"/>
                </a:lnTo>
                <a:lnTo>
                  <a:pt x="22283" y="7493"/>
                </a:lnTo>
                <a:lnTo>
                  <a:pt x="22283" y="12828"/>
                </a:lnTo>
                <a:cubicBezTo>
                  <a:pt x="22283" y="15596"/>
                  <a:pt x="19706" y="18155"/>
                  <a:pt x="16938" y="18155"/>
                </a:cubicBezTo>
                <a:lnTo>
                  <a:pt x="15276" y="18155"/>
                </a:lnTo>
                <a:cubicBezTo>
                  <a:pt x="12508" y="18155"/>
                  <a:pt x="9932" y="15596"/>
                  <a:pt x="9932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СМ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ольский ученый, который создал теорию о вращении Земли и заложил основы современной астроном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Ученый, внесший большой вклад в научную и техническую разработку космических полет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и часами следует измерять время в условиях невесомости: маятниковыми, пружинными или песочны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о называют отцом космонавт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во примерно расстояние от Земли до Солн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называется наша Галакти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Ученый, впервые спроектировавший ракету для межпланетных сооб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звезда: желтая или белая имеет большую температур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Циолковский Константин Эдуард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726923806"/>
          <p:cNvPicPr/>
          <p:nvPr/>
        </p:nvPicPr>
        <p:blipFill>
          <a:blip r:embed="rId1"/>
          <a:stretch/>
        </p:blipFill>
        <p:spPr>
          <a:xfrm>
            <a:off x="3851280" y="1844640"/>
            <a:ext cx="4608360" cy="3686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ziol"/>
          <p:cNvPicPr/>
          <p:nvPr/>
        </p:nvPicPr>
        <p:blipFill>
          <a:blip r:embed="rId2"/>
          <a:stretch/>
        </p:blipFill>
        <p:spPr>
          <a:xfrm>
            <a:off x="250920" y="1773360"/>
            <a:ext cx="3249360" cy="3671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земля"/>
          <p:cNvPicPr/>
          <p:nvPr/>
        </p:nvPicPr>
        <p:blipFill>
          <a:blip r:embed="rId3"/>
          <a:stretch/>
        </p:blipFill>
        <p:spPr>
          <a:xfrm>
            <a:off x="7667640" y="0"/>
            <a:ext cx="1476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Чудо – птица, алый хвост, полетела  в стаю звезд. Что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0. Кому из летчиков - космонавтов принадлежит фраза «Поехали!»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. Самая большая планета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. Что легче: улететь с Земли на Луну или с Луны на Земл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3. Планета Сс, названная в честь богини любв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4. Действует ли сила тяжести в состоянии невесомост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5. Можно ли сварить вкрутую яйцо на Марс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6. Кто первым ступил на поверхность Лун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7. Ученый, открывший 4 спутника Юпитер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. Способ общения между космонавтами во время полет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9. Красная планета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. Каков примерно радиус Земл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1. Группа звезд на неб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2. Самый распространенный газ во Вселен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3. Одно из малых тел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4. Линия, разделяющая светлую и темную стороны Лун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 Какой буквой названа самая яркая звезда созвезд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8172360" y="6165720"/>
            <a:ext cx="792360" cy="505080"/>
          </a:xfrm>
          <a:custGeom>
            <a:avLst/>
            <a:gdLst>
              <a:gd name="textAreaLeft" fmla="*/ 32760 w 792360"/>
              <a:gd name="textAreaRight" fmla="*/ 759960 w 792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77" h="21600">
                <a:moveTo>
                  <a:pt x="0" y="0"/>
                </a:moveTo>
                <a:lnTo>
                  <a:pt x="33877" y="0"/>
                </a:lnTo>
                <a:lnTo>
                  <a:pt x="33877" y="21600"/>
                </a:lnTo>
                <a:lnTo>
                  <a:pt x="0" y="21600"/>
                </a:lnTo>
                <a:close/>
              </a:path>
              <a:path fill="lightenLess" w="33877" h="21600">
                <a:moveTo>
                  <a:pt x="0" y="0"/>
                </a:moveTo>
                <a:lnTo>
                  <a:pt x="33877" y="0"/>
                </a:lnTo>
                <a:lnTo>
                  <a:pt x="32477" y="1400"/>
                </a:lnTo>
                <a:lnTo>
                  <a:pt x="1400" y="1400"/>
                </a:lnTo>
                <a:close/>
              </a:path>
              <a:path fill="darken" w="33877" h="21600">
                <a:moveTo>
                  <a:pt x="33877" y="0"/>
                </a:moveTo>
                <a:lnTo>
                  <a:pt x="33877" y="21600"/>
                </a:lnTo>
                <a:lnTo>
                  <a:pt x="32477" y="20200"/>
                </a:lnTo>
                <a:lnTo>
                  <a:pt x="32477" y="1400"/>
                </a:lnTo>
                <a:close/>
              </a:path>
              <a:path fill="darkenLess" w="33877" h="21600">
                <a:moveTo>
                  <a:pt x="3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77" y="20200"/>
                </a:lnTo>
                <a:close/>
              </a:path>
              <a:path fill="lighten" w="3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77" h="21600">
                <a:moveTo>
                  <a:pt x="9932" y="7493"/>
                </a:moveTo>
                <a:lnTo>
                  <a:pt x="13440" y="7493"/>
                </a:lnTo>
                <a:lnTo>
                  <a:pt x="13440" y="12828"/>
                </a:lnTo>
                <a:cubicBezTo>
                  <a:pt x="13440" y="13751"/>
                  <a:pt x="14240" y="14482"/>
                  <a:pt x="15276" y="14482"/>
                </a:cubicBezTo>
                <a:lnTo>
                  <a:pt x="16938" y="14482"/>
                </a:lnTo>
                <a:cubicBezTo>
                  <a:pt x="17974" y="14482"/>
                  <a:pt x="18775" y="13751"/>
                  <a:pt x="18775" y="12828"/>
                </a:cubicBezTo>
                <a:lnTo>
                  <a:pt x="18775" y="7493"/>
                </a:lnTo>
                <a:lnTo>
                  <a:pt x="16938" y="7493"/>
                </a:lnTo>
                <a:lnTo>
                  <a:pt x="20446" y="3985"/>
                </a:lnTo>
                <a:lnTo>
                  <a:pt x="24119" y="7493"/>
                </a:lnTo>
                <a:lnTo>
                  <a:pt x="22283" y="7493"/>
                </a:lnTo>
                <a:lnTo>
                  <a:pt x="22283" y="12828"/>
                </a:lnTo>
                <a:cubicBezTo>
                  <a:pt x="22283" y="15596"/>
                  <a:pt x="19706" y="18155"/>
                  <a:pt x="16938" y="18155"/>
                </a:cubicBezTo>
                <a:lnTo>
                  <a:pt x="15276" y="18155"/>
                </a:lnTo>
                <a:cubicBezTo>
                  <a:pt x="12508" y="18155"/>
                  <a:pt x="9932" y="15596"/>
                  <a:pt x="9932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ополнительное задани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2 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е количество теплоты отдает стакан кипятка (250 см³), остывая до температуры 14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1000кг/м³·0,00025м³=025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0,25кг·4200Дж/(кг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·(100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- 14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== 90300 Дж = 90,3 кД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0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468360" y="981000"/>
            <a:ext cx="8229240" cy="4530600"/>
            <a:chOff x="468360" y="981000"/>
            <a:chExt cx="8229240" cy="4530600"/>
          </a:xfrm>
        </p:grpSpPr>
        <p:sp>
          <p:nvSpPr>
            <p:cNvPr id="535" name="Rectangle 3"/>
            <p:cNvSpPr/>
            <p:nvPr/>
          </p:nvSpPr>
          <p:spPr>
            <a:xfrm>
              <a:off x="5953680" y="324576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 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"/>
            <p:cNvSpPr/>
            <p:nvPr/>
          </p:nvSpPr>
          <p:spPr>
            <a:xfrm>
              <a:off x="3210840" y="324576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"/>
            <p:cNvSpPr/>
            <p:nvPr/>
          </p:nvSpPr>
          <p:spPr>
            <a:xfrm>
              <a:off x="468360" y="324576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6"/>
            <p:cNvSpPr/>
            <p:nvPr/>
          </p:nvSpPr>
          <p:spPr>
            <a:xfrm>
              <a:off x="5953680" y="98100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 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7"/>
            <p:cNvSpPr/>
            <p:nvPr/>
          </p:nvSpPr>
          <p:spPr>
            <a:xfrm>
              <a:off x="3210840" y="98100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 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8"/>
            <p:cNvSpPr/>
            <p:nvPr/>
          </p:nvSpPr>
          <p:spPr>
            <a:xfrm>
              <a:off x="468360" y="98100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i="1" lang="ru-RU" sz="40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4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9"/>
            <p:cNvSpPr/>
            <p:nvPr/>
          </p:nvSpPr>
          <p:spPr>
            <a:xfrm>
              <a:off x="468360" y="981000"/>
              <a:ext cx="82281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0"/>
            <p:cNvSpPr/>
            <p:nvPr/>
          </p:nvSpPr>
          <p:spPr>
            <a:xfrm>
              <a:off x="468360" y="3245760"/>
              <a:ext cx="822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1"/>
            <p:cNvSpPr/>
            <p:nvPr/>
          </p:nvSpPr>
          <p:spPr>
            <a:xfrm>
              <a:off x="468360" y="5510520"/>
              <a:ext cx="82281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2"/>
            <p:cNvSpPr/>
            <p:nvPr/>
          </p:nvSpPr>
          <p:spPr>
            <a:xfrm>
              <a:off x="468360" y="981000"/>
              <a:ext cx="1080" cy="452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3"/>
            <p:cNvSpPr/>
            <p:nvPr/>
          </p:nvSpPr>
          <p:spPr>
            <a:xfrm>
              <a:off x="3210840" y="981000"/>
              <a:ext cx="1080" cy="452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4"/>
            <p:cNvSpPr/>
            <p:nvPr/>
          </p:nvSpPr>
          <p:spPr>
            <a:xfrm>
              <a:off x="5953680" y="981000"/>
              <a:ext cx="1080" cy="452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5"/>
            <p:cNvSpPr/>
            <p:nvPr/>
          </p:nvSpPr>
          <p:spPr>
            <a:xfrm>
              <a:off x="8696520" y="981000"/>
              <a:ext cx="1080" cy="452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AutoShape 16"/>
          <p:cNvSpPr/>
          <p:nvPr/>
        </p:nvSpPr>
        <p:spPr>
          <a:xfrm>
            <a:off x="7956720" y="4869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40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40" y="20200"/>
                </a:lnTo>
                <a:lnTo>
                  <a:pt x="36340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0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219640" y="494172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2411280" y="494172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7812000" y="270828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5148360" y="270828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411280" y="2781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8317080" y="623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40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40" y="20200"/>
                </a:lnTo>
                <a:lnTo>
                  <a:pt x="36340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0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На взлет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Что является причиной движения шари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шарика является реактивным, основанным на законе сохранения импульса. Струи воздуха, вырываемые из шарика с одной скоростью, придают скорость шарику, имеющую направление противоположное направлению скорости воздуха. Чем больше скорость вырываемого воздуха, тем больше скорость полета шар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8317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" descr="jet1"/>
          <p:cNvPicPr/>
          <p:nvPr/>
        </p:nvPicPr>
        <p:blipFill>
          <a:blip r:embed="rId1"/>
          <a:stretch/>
        </p:blipFill>
        <p:spPr>
          <a:xfrm rot="16200000">
            <a:off x="-156240" y="776880"/>
            <a:ext cx="1690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0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Полет монеты и бумажк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очему в первом опыте бумажка отстает от монеты, а во втором они падают одновремен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характер движения влияют в основном две силы: сила тяжест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и сопротивление воздуха, зависящее от формы и размеров тела  и физических свойств среды, в которой движется среда. Из 2 закона Ньютон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=g-Fₒ/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скорение падающего тела зависит от массы: чем больше масса, тем больше ускорение его движения. Поэтому ускорение монеты больше. Во втором случа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ₒ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действует только на монету, а сила тяжести сообщает одинаковое ускорение, в следствии чего монета и бумажка упадут одновременно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849636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РЕЗКИЙ УДАР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шарик увеличивается в объеме с каждым выдохом человека и в конечном итоге шарик лопну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дуваемая порция воздуха увеличивает внутреннее давление газа, в результате чего шар и увеличивается в объеме. При максимальном внутреннем давлении воздуха резина шарика разрывается и шарик лопаетс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8388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МЫЛЬНЫЙ ПУЗЫР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мыльный пузырь некоторое время поднимается вверх, а потом опуска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дух, вдуваемый человеком в мыльный пузырь, теплый и его плотность меньше плотности окружающего воздуха. Поэтому мыльный пузырь сначала поднимается. Через некоторое время воздух в пузыре охлаждается, его плотность станет больше и пузырь начнет снижа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824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ВЕДЕРКО С ВОДО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вода не выливается из опрокинутого вверх дном ведер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азанный случай – проявление инерции, правда вращать ведро надо достаточно быстро. Расчеты показывают, что для радиуса вращен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=70 см достаточно круговой скорости 2,6 м/с, что соответствует частоте вращения руки – полтора оборота в секун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да не выливается из вращающегося ведра вследствие своей ине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8172360" y="6021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Загадка воздушного шар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воздушный шар, потертый о шерсть, притягивается к поверхности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трении шара о шерсть из-за движения свободных электронов происходит процесс электризации, в результате чего на поверхности шара и шерсти накапливается электрический заряд. Наэлектризованное тело способно притягивать к себе различные тела: пушинки, ворсинки меха, кусочки бумаги и т.д. и притягиваться само к той или и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2"/>
          <p:cNvSpPr txBox="1"/>
          <p:nvPr/>
        </p:nvSpPr>
        <p:spPr>
          <a:xfrm>
            <a:off x="395280" y="0"/>
            <a:ext cx="8353440" cy="73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дравля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бедител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САМЫЙ УМ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ИК - 2011"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75" name="Picture 4" descr="7b3"/>
          <p:cNvPicPr/>
          <p:nvPr/>
        </p:nvPicPr>
        <p:blipFill>
          <a:blip r:embed="rId1"/>
          <a:stretch/>
        </p:blipFill>
        <p:spPr>
          <a:xfrm>
            <a:off x="1763640" y="115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7b3"/>
          <p:cNvPicPr/>
          <p:nvPr/>
        </p:nvPicPr>
        <p:blipFill>
          <a:blip r:embed="rId2"/>
          <a:stretch/>
        </p:blipFill>
        <p:spPr>
          <a:xfrm>
            <a:off x="7740720" y="54450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7b3"/>
          <p:cNvPicPr/>
          <p:nvPr/>
        </p:nvPicPr>
        <p:blipFill>
          <a:blip r:embed="rId3"/>
          <a:stretch/>
        </p:blipFill>
        <p:spPr>
          <a:xfrm>
            <a:off x="5219640" y="53006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7b3"/>
          <p:cNvPicPr/>
          <p:nvPr/>
        </p:nvPicPr>
        <p:blipFill>
          <a:blip r:embed="rId4"/>
          <a:stretch/>
        </p:blipFill>
        <p:spPr>
          <a:xfrm>
            <a:off x="6443640" y="44370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7b3"/>
          <p:cNvPicPr/>
          <p:nvPr/>
        </p:nvPicPr>
        <p:blipFill>
          <a:blip r:embed="rId5"/>
          <a:stretch/>
        </p:blipFill>
        <p:spPr>
          <a:xfrm>
            <a:off x="611280" y="6206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оролев Сергей Павл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korolev2"/>
          <p:cNvPicPr/>
          <p:nvPr/>
        </p:nvPicPr>
        <p:blipFill>
          <a:blip r:embed="rId1"/>
          <a:stretch/>
        </p:blipFill>
        <p:spPr>
          <a:xfrm>
            <a:off x="4859280" y="1341360"/>
            <a:ext cx="3684600" cy="5040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Nd9GcQrMIEhf-8tHTkCl72VeBhko23NF_k_fgqtdDnx-Gb_qSdX6L9U"/>
          <p:cNvPicPr/>
          <p:nvPr/>
        </p:nvPicPr>
        <p:blipFill>
          <a:blip r:embed="rId2"/>
          <a:stretch/>
        </p:blipFill>
        <p:spPr>
          <a:xfrm>
            <a:off x="179280" y="4221000"/>
            <a:ext cx="3800520" cy="22003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ANd9GcTyv4RAXnfQjUb79IuOpe9XmR5ifykux8dK9lH1vZmpRc_jMGHL"/>
          <p:cNvPicPr/>
          <p:nvPr/>
        </p:nvPicPr>
        <p:blipFill>
          <a:blip r:embed="rId3"/>
          <a:stretch/>
        </p:blipFill>
        <p:spPr>
          <a:xfrm>
            <a:off x="324000" y="1314360"/>
            <a:ext cx="3384360" cy="2670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земля"/>
          <p:cNvPicPr/>
          <p:nvPr/>
        </p:nvPicPr>
        <p:blipFill>
          <a:blip r:embed="rId4"/>
          <a:stretch/>
        </p:blipFill>
        <p:spPr>
          <a:xfrm>
            <a:off x="8101080" y="0"/>
            <a:ext cx="10429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536486[1]"/>
          <p:cNvPicPr/>
          <p:nvPr/>
        </p:nvPicPr>
        <p:blipFill>
          <a:blip r:embed="rId1"/>
          <a:stretch/>
        </p:blipFill>
        <p:spPr>
          <a:xfrm>
            <a:off x="755640" y="0"/>
            <a:ext cx="7128000" cy="685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земля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381142[1]"/>
          <p:cNvPicPr/>
          <p:nvPr/>
        </p:nvPicPr>
        <p:blipFill>
          <a:blip r:embed="rId1"/>
          <a:stretch/>
        </p:blipFill>
        <p:spPr>
          <a:xfrm>
            <a:off x="1476360" y="0"/>
            <a:ext cx="575964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земля"/>
          <p:cNvPicPr/>
          <p:nvPr/>
        </p:nvPicPr>
        <p:blipFill>
          <a:blip r:embed="rId2"/>
          <a:stretch/>
        </p:blipFill>
        <p:spPr>
          <a:xfrm>
            <a:off x="0" y="0"/>
            <a:ext cx="1476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317446[1]"/>
          <p:cNvPicPr/>
          <p:nvPr/>
        </p:nvPicPr>
        <p:blipFill>
          <a:blip r:embed="rId1"/>
          <a:stretch/>
        </p:blipFill>
        <p:spPr>
          <a:xfrm>
            <a:off x="1209600" y="0"/>
            <a:ext cx="666756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земля"/>
          <p:cNvPicPr/>
          <p:nvPr/>
        </p:nvPicPr>
        <p:blipFill>
          <a:blip r:embed="rId2"/>
          <a:stretch/>
        </p:blipFill>
        <p:spPr>
          <a:xfrm>
            <a:off x="0" y="0"/>
            <a:ext cx="1187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300355[1]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300355[1]"/>
          <p:cNvPicPr/>
          <p:nvPr/>
        </p:nvPicPr>
        <p:blipFill>
          <a:blip r:embed="rId2"/>
          <a:stretch/>
        </p:blipFill>
        <p:spPr>
          <a:xfrm>
            <a:off x="1116000" y="0"/>
            <a:ext cx="6696000" cy="6858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земля"/>
          <p:cNvPicPr/>
          <p:nvPr/>
        </p:nvPicPr>
        <p:blipFill>
          <a:blip r:embed="rId3"/>
          <a:stretch/>
        </p:blipFill>
        <p:spPr>
          <a:xfrm>
            <a:off x="0" y="0"/>
            <a:ext cx="11872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462858[1]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446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земля"/>
          <p:cNvPicPr/>
          <p:nvPr/>
        </p:nvPicPr>
        <p:blipFill>
          <a:blip r:embed="rId2"/>
          <a:stretch/>
        </p:blipFill>
        <p:spPr>
          <a:xfrm>
            <a:off x="7740720" y="189000"/>
            <a:ext cx="1295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9:49:24Z</dcterms:created>
  <dc:creator>учитель</dc:creator>
  <dc:description/>
  <dc:language>en-US</dc:language>
  <cp:lastModifiedBy>Ирина</cp:lastModifiedBy>
  <dcterms:modified xsi:type="dcterms:W3CDTF">2013-02-07T18:36:51Z</dcterms:modified>
  <cp:revision>24</cp:revision>
  <dc:subject/>
  <dc:title>Слайд 1</dc:title>
</cp:coreProperties>
</file>