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8.gif" ContentType="image/gif"/>
  <Override PartName="/ppt/media/image18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6.jpeg" ContentType="image/jpeg"/>
  <Override PartName="/ppt/media/image21.gif" ContentType="image/gif"/>
  <Override PartName="/ppt/media/image1.png" ContentType="image/png"/>
  <Override PartName="/ppt/media/image2.png" ContentType="image/png"/>
  <Override PartName="/ppt/media/image14.jpeg" ContentType="image/jpeg"/>
  <Override PartName="/ppt/media/image5.gif" ContentType="image/gif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  <p:sldId id="288" r:id="rId40"/>
    <p:sldId id="289" r:id="rId41"/>
    <p:sldId id="290" r:id="rId42"/>
    <p:sldId id="291" r:id="rId43"/>
    <p:sldId id="292" r:id="rId44"/>
    <p:sldId id="293" r:id="rId45"/>
    <p:sldId id="294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slide" Target="slides/slide33.xml"/><Relationship Id="rId41" Type="http://schemas.openxmlformats.org/officeDocument/2006/relationships/slide" Target="slides/slide34.xml"/><Relationship Id="rId42" Type="http://schemas.openxmlformats.org/officeDocument/2006/relationships/slide" Target="slides/slide35.xml"/><Relationship Id="rId43" Type="http://schemas.openxmlformats.org/officeDocument/2006/relationships/slide" Target="slides/slide36.xml"/><Relationship Id="rId44" Type="http://schemas.openxmlformats.org/officeDocument/2006/relationships/slide" Target="slides/slide37.xml"/><Relationship Id="rId45" Type="http://schemas.openxmlformats.org/officeDocument/2006/relationships/slide" Target="slides/slide38.xml"/><Relationship Id="rId46" Type="http://schemas.openxmlformats.org/officeDocument/2006/relationships/slide" Target="slides/slide39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540CC-3FF4-431D-9828-5118612AF5D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CFBDD-3B88-4D65-B614-9391EE8F5B9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 Box 2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86C9F-D104-42D8-BC87-E0F4CA79EA4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 Box 2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839C8-72A7-4C65-AA73-3AFFED27BDC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Text Box 2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3926C-4481-493E-BB5C-FC849F194D4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Text Box 2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E1265-292E-469D-AA63-154A11F7422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Text Box 2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24AB5-6A4D-47A3-8DDD-881C007B7D0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Text Box 2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968E8-4B20-4129-A637-E476A88F8EE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Text Box 2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8CA61-E3C7-45C5-BD6D-7F7629C5F29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Text Box 2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DAF23-9552-404C-9DB0-0D1141AE656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Text Box 2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C5182-28E6-4D9C-8183-5564E7A0DCE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Text Box 2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7CCB9-0BE1-4E5F-AFD8-16AC6FBD0BE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Text Box 2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CD70B-C056-46E6-8397-28F36B43B97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Text Box 2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B03AD-7AD5-4831-A6C7-ED7C014D374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Text Box 2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E6686-C2F4-4545-A800-B712F38EA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6954A-C011-424F-BF96-294A92C2B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EB0D8-9811-4087-85BD-DC7CD7787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92B47-21CE-4036-BCD4-59512A7B7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3040A-B6C3-45AF-965A-E3B37D8FA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66BF8-75E1-4715-8B32-2004384FB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4ECD4-E291-4921-B94C-9A6F2F858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6EBCF-BA20-4054-8C18-2E9DEA7F4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95920-E070-4A5B-8805-A4429740C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AE920-64BE-4408-9F04-1D113FC0D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9ECDE-F6C3-4FD0-8C3E-A20F3E559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D756B-E319-4381-B7BF-48148A2EC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B8FED-0F62-4AAF-86CD-C773AED99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30E73-FAD2-46B8-8613-E82E9AA5B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28C84-9157-4FEE-A888-CCE52F078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33C0A-18BC-4BEE-9E19-EBB111632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90A14-A82C-464D-8CD2-7B8206ECE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AE6B70-60B9-49DC-96D5-7066600DD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0B88A3-CAB9-420D-B6E9-26200DCBF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7728D4-3573-40A2-B474-99F9F3721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B24668-3608-4E34-B70F-D06489079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C3D62D-51D2-4E59-BB96-DD28537F7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F8333-A542-424F-BF7A-266F624D8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67F953-B254-4740-8459-55090DB91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001775-5378-4F40-AA04-77432A800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3330B0-032C-4462-BBA8-F8680DB37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5BB969-FCC4-4DC6-85E2-07847F64F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6BBD25-1F83-4F91-95D3-D07E5D93A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4A6549-FD17-4DB1-B96B-29BD51FE2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1C09FA-2474-40CB-8C8E-F9F4C9282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7D603A-ADFE-41B8-A630-7C91FF463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958FD6-D588-459B-ABA0-1E6F1B957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AB208D-F011-467E-9D63-5ACCC826E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16350-3422-433B-8138-21CEE6161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EC8C43-592D-4D80-BB5E-314324305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38E4AF-1E22-4CE1-BC58-3CB30F59F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930A5B-F6AE-4EC4-9CD2-82B234E12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4A1DCD-CB67-4B5E-B0DA-1FE6E76F8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F51F62-81F7-4314-8144-9E7DBFFE4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0E89AA-06C7-41AE-9187-1D2A3991D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6F7634-DB64-4E1E-9818-9ABB13658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5CEC53-7B86-4DD2-B4EA-A37B85F09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771236-F536-4F19-8F0F-B3A2398B5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794510-05D4-46CB-A512-0F6A2C1A1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D2B8B-8837-4775-9866-3EAB447C1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039C44-0DBC-4C16-B606-1FADE0B89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FAFD62-2FDC-41FF-87D3-8338EF50E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3FC74B-B452-4600-A2D8-2DE86F18F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A6B1AD-7EF8-4C94-86D7-09BDE191F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8423AD-1DA4-4070-9AE0-A070E48EF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25AD1E-D0BE-4BBF-81A7-207ACFB5D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E1639D-D9C1-4D79-86CF-DD46515B8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414F29-A9E3-47BE-81F9-BDEF53401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998501-A08E-4043-9143-C9A424B64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939871-E614-4F9E-8D05-13B09D8FC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C3F77-2829-4A66-AC8A-7BCB00B74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479B13-CD36-43CD-BC60-478B68F71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6AE68-FE15-43EF-9CEB-CFAC6E3FB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59843-757D-4920-965F-7294B71E3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9D38F-BE55-454D-B2B6-968A4714D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1650A-9047-47D5-9E7D-10B93E8ECC5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4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7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D7138-7302-4AC5-9458-D3078866D47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Group 2"/>
          <p:cNvGrpSpPr/>
          <p:nvPr/>
        </p:nvGrpSpPr>
        <p:grpSpPr>
          <a:xfrm>
            <a:off x="-86760" y="-93600"/>
            <a:ext cx="2773080" cy="6950160"/>
            <a:chOff x="-86760" y="-93600"/>
            <a:chExt cx="2773080" cy="6950160"/>
          </a:xfrm>
        </p:grpSpPr>
        <p:sp>
          <p:nvSpPr>
            <p:cNvPr id="123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4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125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8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9" name="Group 9"/>
            <p:cNvGrpSpPr/>
            <p:nvPr/>
          </p:nvGrpSpPr>
          <p:grpSpPr>
            <a:xfrm>
              <a:off x="-1080" y="2601000"/>
              <a:ext cx="2687400" cy="3117960"/>
              <a:chOff x="-1080" y="2601000"/>
              <a:chExt cx="2687400" cy="3117960"/>
            </a:xfrm>
          </p:grpSpPr>
          <p:sp>
            <p:nvSpPr>
              <p:cNvPr id="130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Freeform 14"/>
              <p:cNvSpPr/>
              <p:nvPr/>
            </p:nvSpPr>
            <p:spPr>
              <a:xfrm flipH="1" rot="789600">
                <a:off x="807840" y="385056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5" name="Group 15"/>
              <p:cNvGrpSpPr/>
              <p:nvPr/>
            </p:nvGrpSpPr>
            <p:grpSpPr>
              <a:xfrm>
                <a:off x="852120" y="4055040"/>
                <a:ext cx="1834200" cy="1663920"/>
                <a:chOff x="852120" y="4055040"/>
                <a:chExt cx="1834200" cy="1663920"/>
              </a:xfrm>
            </p:grpSpPr>
            <p:sp>
              <p:nvSpPr>
                <p:cNvPr id="136" name="Freeform 16"/>
                <p:cNvSpPr/>
                <p:nvPr/>
              </p:nvSpPr>
              <p:spPr>
                <a:xfrm flipH="1" rot="7102800">
                  <a:off x="1263600" y="3943800"/>
                  <a:ext cx="475560" cy="121932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" name="Freeform 17"/>
                <p:cNvSpPr/>
                <p:nvPr/>
              </p:nvSpPr>
              <p:spPr>
                <a:xfrm flipH="1" rot="7102800">
                  <a:off x="2333880" y="4975200"/>
                  <a:ext cx="109800" cy="50040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" name="Freeform 18"/>
                <p:cNvSpPr/>
                <p:nvPr/>
              </p:nvSpPr>
              <p:spPr>
                <a:xfrm flipH="1" rot="7102800">
                  <a:off x="2502000" y="5569200"/>
                  <a:ext cx="199080" cy="8424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9"/>
            <p:cNvGrpSpPr/>
            <p:nvPr/>
          </p:nvGrpSpPr>
          <p:grpSpPr>
            <a:xfrm>
              <a:off x="467280" y="6173640"/>
              <a:ext cx="790920" cy="634680"/>
              <a:chOff x="467280" y="6173640"/>
              <a:chExt cx="790920" cy="634680"/>
            </a:xfrm>
          </p:grpSpPr>
          <p:sp>
            <p:nvSpPr>
              <p:cNvPr id="140" name="Freeform 20"/>
              <p:cNvSpPr/>
              <p:nvPr/>
            </p:nvSpPr>
            <p:spPr>
              <a:xfrm rot="6248400">
                <a:off x="1012680" y="6172560"/>
                <a:ext cx="196560" cy="2541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Freeform 21"/>
              <p:cNvSpPr/>
              <p:nvPr/>
            </p:nvSpPr>
            <p:spPr>
              <a:xfrm rot="6248400">
                <a:off x="759600" y="6513480"/>
                <a:ext cx="336600" cy="2109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Freeform 22"/>
              <p:cNvSpPr/>
              <p:nvPr/>
            </p:nvSpPr>
            <p:spPr>
              <a:xfrm rot="6248400">
                <a:off x="386280" y="6410880"/>
                <a:ext cx="352080" cy="10728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144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148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1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95FA6-41B6-4752-B613-E7BA2DCE558D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207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3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244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0B98E-D088-44C5-8425-274E5BC0659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7" name="Group 2"/>
          <p:cNvGrpSpPr/>
          <p:nvPr/>
        </p:nvGrpSpPr>
        <p:grpSpPr>
          <a:xfrm>
            <a:off x="-20160" y="0"/>
            <a:ext cx="9050400" cy="6858000"/>
            <a:chOff x="-20160" y="0"/>
            <a:chExt cx="9050400" cy="6858000"/>
          </a:xfrm>
        </p:grpSpPr>
        <p:grpSp>
          <p:nvGrpSpPr>
            <p:cNvPr id="288" name="Group 3"/>
            <p:cNvGrpSpPr/>
            <p:nvPr/>
          </p:nvGrpSpPr>
          <p:grpSpPr>
            <a:xfrm>
              <a:off x="5407560" y="63000"/>
              <a:ext cx="3622680" cy="6129000"/>
              <a:chOff x="5407560" y="63000"/>
              <a:chExt cx="3622680" cy="6129000"/>
            </a:xfrm>
          </p:grpSpPr>
          <p:sp>
            <p:nvSpPr>
              <p:cNvPr id="289" name="Freeform 4"/>
              <p:cNvSpPr/>
              <p:nvPr/>
            </p:nvSpPr>
            <p:spPr>
              <a:xfrm flipV="1" rot="11970000">
                <a:off x="6581160" y="348120"/>
                <a:ext cx="2116440" cy="235656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Freeform 5"/>
              <p:cNvSpPr/>
              <p:nvPr/>
            </p:nvSpPr>
            <p:spPr>
              <a:xfrm flipV="1" rot="11970000">
                <a:off x="7421400" y="1959840"/>
                <a:ext cx="906480" cy="84276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Freeform 6"/>
              <p:cNvSpPr/>
              <p:nvPr/>
            </p:nvSpPr>
            <p:spPr>
              <a:xfrm flipV="1" rot="11970000">
                <a:off x="6825600" y="2592360"/>
                <a:ext cx="439560" cy="39492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Freeform 7"/>
              <p:cNvSpPr/>
              <p:nvPr/>
            </p:nvSpPr>
            <p:spPr>
              <a:xfrm flipV="1" rot="11970000">
                <a:off x="7251480" y="674280"/>
                <a:ext cx="38880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Freeform 8"/>
              <p:cNvSpPr/>
              <p:nvPr/>
            </p:nvSpPr>
            <p:spPr>
              <a:xfrm flipV="1" rot="11970000">
                <a:off x="7154280" y="2645280"/>
                <a:ext cx="163440" cy="33156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Freeform 9"/>
              <p:cNvSpPr/>
              <p:nvPr/>
            </p:nvSpPr>
            <p:spPr>
              <a:xfrm flipV="1" rot="11970000">
                <a:off x="7140240" y="1243080"/>
                <a:ext cx="190800" cy="14256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Freeform 10"/>
              <p:cNvSpPr/>
              <p:nvPr/>
            </p:nvSpPr>
            <p:spPr>
              <a:xfrm flipV="1" rot="11970000">
                <a:off x="5937840" y="2930400"/>
                <a:ext cx="523800" cy="326772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6" name="Freeform 11"/>
            <p:cNvSpPr/>
            <p:nvPr/>
          </p:nvSpPr>
          <p:spPr>
            <a:xfrm flipH="1" rot="373800">
              <a:off x="33480" y="3106800"/>
              <a:ext cx="512280" cy="103032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12"/>
            <p:cNvSpPr/>
            <p:nvPr/>
          </p:nvSpPr>
          <p:spPr>
            <a:xfrm>
              <a:off x="266400" y="2000160"/>
              <a:ext cx="199836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13"/>
            <p:cNvSpPr/>
            <p:nvPr/>
          </p:nvSpPr>
          <p:spPr>
            <a:xfrm>
              <a:off x="0" y="4143240"/>
              <a:ext cx="127116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14"/>
            <p:cNvSpPr/>
            <p:nvPr/>
          </p:nvSpPr>
          <p:spPr>
            <a:xfrm flipH="1" rot="373800">
              <a:off x="1424520" y="4532400"/>
              <a:ext cx="56160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15"/>
            <p:cNvSpPr/>
            <p:nvPr/>
          </p:nvSpPr>
          <p:spPr>
            <a:xfrm flipH="1" rot="373800">
              <a:off x="1267560" y="4728960"/>
              <a:ext cx="13788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Freeform 16"/>
            <p:cNvSpPr/>
            <p:nvPr/>
          </p:nvSpPr>
          <p:spPr>
            <a:xfrm>
              <a:off x="1888920" y="5195880"/>
              <a:ext cx="175860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2" name="Group 17"/>
            <p:cNvGrpSpPr/>
            <p:nvPr/>
          </p:nvGrpSpPr>
          <p:grpSpPr>
            <a:xfrm>
              <a:off x="4149720" y="1033560"/>
              <a:ext cx="1015200" cy="1262160"/>
              <a:chOff x="4149720" y="1033560"/>
              <a:chExt cx="1015200" cy="1262160"/>
            </a:xfrm>
          </p:grpSpPr>
          <p:sp>
            <p:nvSpPr>
              <p:cNvPr id="303" name="Freeform 18"/>
              <p:cNvSpPr/>
              <p:nvPr/>
            </p:nvSpPr>
            <p:spPr>
              <a:xfrm rot="3220200">
                <a:off x="4563720" y="1071360"/>
                <a:ext cx="285840" cy="378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Freeform 19"/>
              <p:cNvSpPr/>
              <p:nvPr/>
            </p:nvSpPr>
            <p:spPr>
              <a:xfrm rot="3220200">
                <a:off x="4648680" y="1604520"/>
                <a:ext cx="488880" cy="3142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Freeform 20"/>
              <p:cNvSpPr/>
              <p:nvPr/>
            </p:nvSpPr>
            <p:spPr>
              <a:xfrm rot="3220200">
                <a:off x="4109760" y="1962000"/>
                <a:ext cx="511200" cy="1602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6" name="Group 21"/>
            <p:cNvGrpSpPr/>
            <p:nvPr/>
          </p:nvGrpSpPr>
          <p:grpSpPr>
            <a:xfrm>
              <a:off x="5653800" y="297720"/>
              <a:ext cx="891360" cy="829440"/>
              <a:chOff x="5653800" y="297720"/>
              <a:chExt cx="891360" cy="829440"/>
            </a:xfrm>
          </p:grpSpPr>
          <p:sp>
            <p:nvSpPr>
              <p:cNvPr id="307" name="Freeform 22"/>
              <p:cNvSpPr/>
              <p:nvPr/>
            </p:nvSpPr>
            <p:spPr>
              <a:xfrm rot="14908200">
                <a:off x="5765400" y="796320"/>
                <a:ext cx="179280" cy="361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Freeform 23"/>
              <p:cNvSpPr/>
              <p:nvPr/>
            </p:nvSpPr>
            <p:spPr>
              <a:xfrm rot="14908200">
                <a:off x="5714280" y="476640"/>
                <a:ext cx="306360" cy="300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Freeform 24"/>
              <p:cNvSpPr/>
              <p:nvPr/>
            </p:nvSpPr>
            <p:spPr>
              <a:xfrm rot="14908200">
                <a:off x="6255720" y="397440"/>
                <a:ext cx="319320" cy="153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0" name="Group 25"/>
            <p:cNvGrpSpPr/>
            <p:nvPr/>
          </p:nvGrpSpPr>
          <p:grpSpPr>
            <a:xfrm>
              <a:off x="961200" y="5253480"/>
              <a:ext cx="1062360" cy="833400"/>
              <a:chOff x="961200" y="5253480"/>
              <a:chExt cx="1062360" cy="833400"/>
            </a:xfrm>
          </p:grpSpPr>
          <p:sp>
            <p:nvSpPr>
              <p:cNvPr id="311" name="Freeform 26"/>
              <p:cNvSpPr/>
              <p:nvPr/>
            </p:nvSpPr>
            <p:spPr>
              <a:xfrm rot="8524800">
                <a:off x="1706400" y="5520600"/>
                <a:ext cx="250920" cy="30168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Freeform 27"/>
              <p:cNvSpPr/>
              <p:nvPr/>
            </p:nvSpPr>
            <p:spPr>
              <a:xfrm rot="8524800">
                <a:off x="1188000" y="5730840"/>
                <a:ext cx="429480" cy="2505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Freeform 28"/>
              <p:cNvSpPr/>
              <p:nvPr/>
            </p:nvSpPr>
            <p:spPr>
              <a:xfrm rot="8524800">
                <a:off x="952560" y="5377680"/>
                <a:ext cx="448920" cy="1274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29"/>
            <p:cNvGrpSpPr/>
            <p:nvPr/>
          </p:nvGrpSpPr>
          <p:grpSpPr>
            <a:xfrm>
              <a:off x="375840" y="451080"/>
              <a:ext cx="1690200" cy="1146600"/>
              <a:chOff x="375840" y="451080"/>
              <a:chExt cx="1690200" cy="1146600"/>
            </a:xfrm>
          </p:grpSpPr>
          <p:sp>
            <p:nvSpPr>
              <p:cNvPr id="315" name="Freeform 30"/>
              <p:cNvSpPr/>
              <p:nvPr/>
            </p:nvSpPr>
            <p:spPr>
              <a:xfrm flipH="1" rot="4107000">
                <a:off x="1576080" y="1069560"/>
                <a:ext cx="35532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Freeform 31"/>
              <p:cNvSpPr/>
              <p:nvPr/>
            </p:nvSpPr>
            <p:spPr>
              <a:xfrm flipH="1" rot="4107000">
                <a:off x="1022760" y="594720"/>
                <a:ext cx="608400" cy="4406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Freeform 32"/>
              <p:cNvSpPr/>
              <p:nvPr/>
            </p:nvSpPr>
            <p:spPr>
              <a:xfrm flipH="1" rot="4107000">
                <a:off x="278640" y="1108440"/>
                <a:ext cx="636120" cy="22392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33"/>
            <p:cNvGrpSpPr/>
            <p:nvPr/>
          </p:nvGrpSpPr>
          <p:grpSpPr>
            <a:xfrm>
              <a:off x="7377480" y="3712320"/>
              <a:ext cx="1156320" cy="1607760"/>
              <a:chOff x="7377480" y="3712320"/>
              <a:chExt cx="1156320" cy="1607760"/>
            </a:xfrm>
          </p:grpSpPr>
          <p:sp>
            <p:nvSpPr>
              <p:cNvPr id="319" name="Freeform 34"/>
              <p:cNvSpPr/>
              <p:nvPr/>
            </p:nvSpPr>
            <p:spPr>
              <a:xfrm flipH="1" rot="10015800">
                <a:off x="7432200" y="4755960"/>
                <a:ext cx="35532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Freeform 35"/>
              <p:cNvSpPr/>
              <p:nvPr/>
            </p:nvSpPr>
            <p:spPr>
              <a:xfrm flipH="1" rot="10015800">
                <a:off x="7882920" y="4455360"/>
                <a:ext cx="608400" cy="4406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Freeform 36"/>
              <p:cNvSpPr/>
              <p:nvPr/>
            </p:nvSpPr>
            <p:spPr>
              <a:xfrm flipH="1" rot="10015800">
                <a:off x="7575840" y="3781440"/>
                <a:ext cx="636120" cy="22392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2" name="Freeform 37"/>
            <p:cNvSpPr/>
            <p:nvPr/>
          </p:nvSpPr>
          <p:spPr>
            <a:xfrm>
              <a:off x="1931760" y="3240"/>
              <a:ext cx="136800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Freeform 38"/>
            <p:cNvSpPr/>
            <p:nvPr/>
          </p:nvSpPr>
          <p:spPr>
            <a:xfrm flipV="1" rot="9832800">
              <a:off x="3425040" y="161280"/>
              <a:ext cx="108072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Freeform 39"/>
            <p:cNvSpPr/>
            <p:nvPr/>
          </p:nvSpPr>
          <p:spPr>
            <a:xfrm flipV="1" rot="9832800">
              <a:off x="3169080" y="1361160"/>
              <a:ext cx="52344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Freeform 40"/>
            <p:cNvSpPr/>
            <p:nvPr/>
          </p:nvSpPr>
          <p:spPr>
            <a:xfrm flipV="1" rot="9832800">
              <a:off x="3529440" y="1282320"/>
              <a:ext cx="195120" cy="37044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Freeform 41"/>
            <p:cNvSpPr/>
            <p:nvPr/>
          </p:nvSpPr>
          <p:spPr>
            <a:xfrm>
              <a:off x="2544120" y="0"/>
              <a:ext cx="19656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Freeform 42"/>
            <p:cNvSpPr/>
            <p:nvPr/>
          </p:nvSpPr>
          <p:spPr>
            <a:xfrm flipV="1" rot="9832800">
              <a:off x="3448800" y="1963800"/>
              <a:ext cx="62352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Freeform 43"/>
            <p:cNvSpPr/>
            <p:nvPr/>
          </p:nvSpPr>
          <p:spPr>
            <a:xfrm>
              <a:off x="0" y="2933640"/>
              <a:ext cx="5688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CD0DB-2AC1-462E-9650-C4E0D954FB1D}" type="slidenum">
              <a:rPr b="0" lang="ru-RU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slide" Target="slide25.xml"/><Relationship Id="rId3" Type="http://schemas.openxmlformats.org/officeDocument/2006/relationships/slide" Target="slide21.xml"/><Relationship Id="rId4" Type="http://schemas.openxmlformats.org/officeDocument/2006/relationships/slide" Target="slide23.xml"/><Relationship Id="rId5" Type="http://schemas.openxmlformats.org/officeDocument/2006/relationships/slide" Target="slide27.xml"/><Relationship Id="rId6" Type="http://schemas.openxmlformats.org/officeDocument/2006/relationships/slide" Target="slide29.xml"/><Relationship Id="rId7" Type="http://schemas.openxmlformats.org/officeDocument/2006/relationships/slide" Target="slide32.xml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image" Target="../media/image5.gif"/><Relationship Id="rId4" Type="http://schemas.openxmlformats.org/officeDocument/2006/relationships/image" Target="../media/image5.gif"/><Relationship Id="rId5" Type="http://schemas.openxmlformats.org/officeDocument/2006/relationships/image" Target="../media/image5.gif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8.gi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7.jpeg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633564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Интеллектуальная игра-201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WordArt 3"/>
          <p:cNvSpPr txBox="1"/>
          <p:nvPr/>
        </p:nvSpPr>
        <p:spPr>
          <a:xfrm>
            <a:off x="179280" y="189000"/>
            <a:ext cx="8569440" cy="640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ff66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АМЫЙ </a:t>
            </a:r>
            <a:endParaRPr b="1" lang="en-US" sz="5400" spc="1" strike="noStrike">
              <a:ln w="12600">
                <a:solidFill>
                  <a:srgbClr val="ffff00"/>
                </a:solidFill>
                <a:miter/>
              </a:ln>
              <a:solidFill>
                <a:srgbClr val="ff66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ff66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УМНЫЙ </a:t>
            </a:r>
            <a:endParaRPr b="1" lang="en-US" sz="5400" spc="1" strike="noStrike">
              <a:ln w="12600">
                <a:solidFill>
                  <a:srgbClr val="ffff00"/>
                </a:solidFill>
                <a:miter/>
              </a:ln>
              <a:solidFill>
                <a:srgbClr val="ff66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ff66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ФИЗИК</a:t>
            </a:r>
            <a:endParaRPr b="1" lang="en-US" sz="5400" spc="1" strike="noStrike">
              <a:ln w="12600">
                <a:solidFill>
                  <a:srgbClr val="ffff00"/>
                </a:solidFill>
                <a:miter/>
              </a:ln>
              <a:solidFill>
                <a:srgbClr val="ff66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379" name="Picture 7" descr="7b3"/>
          <p:cNvPicPr/>
          <p:nvPr/>
        </p:nvPicPr>
        <p:blipFill>
          <a:blip r:embed="rId1"/>
          <a:stretch/>
        </p:blipFill>
        <p:spPr>
          <a:xfrm>
            <a:off x="3708360" y="1125360"/>
            <a:ext cx="1285920" cy="128592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9" descr="7b3"/>
          <p:cNvPicPr/>
          <p:nvPr/>
        </p:nvPicPr>
        <p:blipFill>
          <a:blip r:embed="rId2"/>
          <a:stretch/>
        </p:blipFill>
        <p:spPr>
          <a:xfrm>
            <a:off x="7740720" y="0"/>
            <a:ext cx="1285920" cy="128592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11" descr="7b3"/>
          <p:cNvPicPr/>
          <p:nvPr/>
        </p:nvPicPr>
        <p:blipFill>
          <a:blip r:embed="rId3"/>
          <a:stretch/>
        </p:blipFill>
        <p:spPr>
          <a:xfrm>
            <a:off x="108000" y="5572080"/>
            <a:ext cx="128592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/>
          </p:nvPr>
        </p:nvSpPr>
        <p:spPr>
          <a:xfrm>
            <a:off x="0" y="189000"/>
            <a:ext cx="914400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1.    Как направлена мгновенная скорость при движении по окружности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А.  от центра окружности     Б. по касательной к окружности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В.  к центру окружност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2.    Где год длится дольше, на Марсе или на Сатурн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А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.  на Марсе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Б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динаково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 В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а Сатурне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3.    С какой скоростью движется Земля вокруг Солнц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А.   30 м/с           Б. 30 км/с          В. 1200 км/мин           Г. 900 км/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4.     Какой физический закон лежит в основе реактивного движения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А.  1 закон Ньютона                                 Б. 2 закон Ньютона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В.  Закон сохранения импульса            Г. закон сохранения энерг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Какова форма траектории тела, движущегося со скоростью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     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10 км/с вокруг Земл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А. окружность              Б. эллипс                В. при такой скорости тел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покинет орбиту Земли, и полетит в космическое пространст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6. 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Кто впервые назвал Вселенную космосом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А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 Гагарин          Б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 Архимед         В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 Эйнштейн        Г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 Пифаг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7.     Как нужно изменить расстояние между телами, чтобы сила их взаимного притяжения увеличилась в 4 раза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А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увеличить в 2 раза  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Б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.  уменьшить в 2 раза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увеличить в 4 раза           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 Г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уменьшить в 4 раз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/>
          </p:nvPr>
        </p:nvSpPr>
        <p:spPr>
          <a:xfrm>
            <a:off x="179280" y="188640"/>
            <a:ext cx="896472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8. Человек, стоящий на лодке, начинает идти от носа лодки к корме. Что произойдет с лодкой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. лодка поплывет в сторону, противоположную направлени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вижения человека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Б. лодка останется на месте                               В. утон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9.  Какая из стрелок показывает направление центростремительного ускорения в точке А?  </a:t>
            </a: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1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. 1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Б.  2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. 3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. 4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</a:t>
            </a: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2                                 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     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                                                                                                                              </a:t>
            </a:r>
            <a:r>
              <a:rPr b="1" lang="ru-RU" sz="2000" spc="-1" strike="noStrike">
                <a:solidFill>
                  <a:srgbClr val="cc0000"/>
                </a:solidFill>
                <a:latin typeface="Arial"/>
                <a:ea typeface="Arial"/>
              </a:rPr>
              <a:t>                                        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  <a:ea typeface="Arial"/>
              </a:rPr>
              <a:t>                                                                                             </a:t>
            </a:r>
            <a:r>
              <a:rPr b="1" lang="ru-RU" sz="2000" spc="-1" strike="noStrike">
                <a:solidFill>
                  <a:srgbClr val="cc0000"/>
                </a:solidFill>
                <a:latin typeface="Arial"/>
                <a:ea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Какую скорость получит модель ракеты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m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=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300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 г, и массой пороха в ней 100 г, а газы вырываются из сопла со скоростью 100 м/с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А. 10 м/с              Б. 33 м/с                 В. 300 м/с                Г. 33 км/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Физическая величина, равная произведению массы тела на скорость его движения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А. мощность          Б. энергия          В. ускорение            Г. импуль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Ускорение свободного падения на Земле рав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А. 8,9 м/с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²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          Б. 9,8 м/с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²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         В. 12 м/с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²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           Г. 26 м/с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Oval 3"/>
          <p:cNvSpPr/>
          <p:nvPr/>
        </p:nvSpPr>
        <p:spPr>
          <a:xfrm>
            <a:off x="7020000" y="1916280"/>
            <a:ext cx="1584360" cy="1582560"/>
          </a:xfrm>
          <a:prstGeom prst="ellipse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Line 5"/>
          <p:cNvSpPr/>
          <p:nvPr/>
        </p:nvSpPr>
        <p:spPr>
          <a:xfrm flipH="1">
            <a:off x="6372000" y="2708280"/>
            <a:ext cx="6476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Line 6"/>
          <p:cNvSpPr/>
          <p:nvPr/>
        </p:nvSpPr>
        <p:spPr>
          <a:xfrm>
            <a:off x="7020000" y="2708280"/>
            <a:ext cx="0" cy="6494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Line 7"/>
          <p:cNvSpPr/>
          <p:nvPr/>
        </p:nvSpPr>
        <p:spPr>
          <a:xfrm flipV="1">
            <a:off x="7020000" y="2060280"/>
            <a:ext cx="0" cy="647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Line 8"/>
          <p:cNvSpPr/>
          <p:nvPr/>
        </p:nvSpPr>
        <p:spPr>
          <a:xfrm>
            <a:off x="7020000" y="2708280"/>
            <a:ext cx="5763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AutoShape 10"/>
          <p:cNvSpPr/>
          <p:nvPr/>
        </p:nvSpPr>
        <p:spPr>
          <a:xfrm>
            <a:off x="7308720" y="1557360"/>
            <a:ext cx="1224000" cy="287280"/>
          </a:xfrm>
          <a:custGeom>
            <a:avLst/>
            <a:gdLst>
              <a:gd name="textAreaLeft" fmla="*/ 214200 w 1224000"/>
              <a:gd name="textAreaRight" fmla="*/ 887400 w 1224000"/>
              <a:gd name="textAreaTop" fmla="*/ 38520 h 287280"/>
              <a:gd name="textAreaBottom" fmla="*/ 248760 h 287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/>
          </p:nvPr>
        </p:nvSpPr>
        <p:spPr>
          <a:xfrm>
            <a:off x="250560" y="115920"/>
            <a:ext cx="8893080" cy="674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13.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Когда был запущен первый ИСЗ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А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1949г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    Б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1957г  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 В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1961г 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   Г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1973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14. С какой высоты свободно падает сосулька, если расстояние до земли она преодолела за 4 с?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    (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g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 = 10 м/с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²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)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А. 30 м               Б. 80 м                  В. 100 м             Г. 120 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15. Больно ли космонавту при ударе в невесомост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А. не будет больно, т.к. в невесомости   космонавт легче перыш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Б. будет больно, но не так больно как при ударе на земле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В. не будет больно, т.к. космонавт в гермошлем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Г. будет больно, и в невесомости можно набить шишк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16.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Кто первый рассчитал скорость, которой должно обладать тело,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чтобы преодолеть земное притяжени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А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Мюнхгаузен      Б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Ньютон       В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Циолковский     Г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Короле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17. В настоящее время средняя высота орбиты полета МКС составляет 342,9 км. Какова скорость вращения МКС, если экваториальный радиус Земли 6378 км, а период обращения станции вокруг Земли 92 мин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А. 7,6 км/с             Б. 459 км/с           В. 343 км/с              Г. 343 м/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/>
          </p:nvPr>
        </p:nvSpPr>
        <p:spPr>
          <a:xfrm>
            <a:off x="250920" y="189000"/>
            <a:ext cx="864216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18.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 каком году совершила космический полет первая женщина Валентина Терешкова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А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19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57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г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    Б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19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61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г  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 В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196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г 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   Г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1973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8" name="Picture 4" descr="0_20a04_3c1aefd2_XL"/>
          <p:cNvPicPr/>
          <p:nvPr/>
        </p:nvPicPr>
        <p:blipFill>
          <a:blip r:embed="rId1"/>
          <a:stretch/>
        </p:blipFill>
        <p:spPr>
          <a:xfrm>
            <a:off x="324000" y="2060640"/>
            <a:ext cx="5680080" cy="426096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5" descr="baba_jaga"/>
          <p:cNvPicPr/>
          <p:nvPr/>
        </p:nvPicPr>
        <p:blipFill>
          <a:blip r:embed="rId2"/>
          <a:stretch/>
        </p:blipFill>
        <p:spPr>
          <a:xfrm>
            <a:off x="6227640" y="2565360"/>
            <a:ext cx="2725920" cy="40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8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3600" spc="-1" strike="noStrike">
                <a:solidFill>
                  <a:srgbClr val="ffff00"/>
                </a:solidFill>
                <a:latin typeface="Arial"/>
              </a:rPr>
              <a:t>Дополнительные вопросы 1 тур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-360" y="1052640"/>
            <a:ext cx="9325080" cy="59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4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ело движется равномерно по окружности. Как изменится его центростремительное ускорение при увеличении скорости равномерного движения в 2 раза и уменьшении радиуса окружности в 4 раз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4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А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увеличится в 2 раза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        Б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увеличится в 8 ра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4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увеличится в 16 раз  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     Г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е изменит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4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. уменьшится в 2 раза       Д. уменьшится в 8 ра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4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Ученый, открывший закон всемирного тяготен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4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. Архимед          Б. Евклид            В. Демокрит           Г. Ньютон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4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 космосе побывали граждане более 30 государств мира. 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4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олько три страны имеют возможность самостоятель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4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существлять пилотируемые полеты: Россия, США и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4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А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Япония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   Б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итай              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нглия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          Г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ана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4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4.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В 1965 году первым летчиком-космонавтом, вышедшим в открытый космос, стал Алексей Леонов. На какое максимальное расстояние удалился Леонов от корабля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4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А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2,5 м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    Б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3,55 м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 В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5,35 м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Г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7,35 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4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5.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а какую максимальную высоту поднимется тело, брошенное вертикально вверх со скоростью 40 м/с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4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А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20 м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   Б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60 м              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80 м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Г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. 100 м      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4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2" name="Group 2"/>
          <p:cNvGrpSpPr/>
          <p:nvPr/>
        </p:nvGrpSpPr>
        <p:grpSpPr>
          <a:xfrm>
            <a:off x="684360" y="476280"/>
            <a:ext cx="8062560" cy="3136680"/>
            <a:chOff x="684360" y="476280"/>
            <a:chExt cx="8062560" cy="3136680"/>
          </a:xfrm>
        </p:grpSpPr>
        <p:sp>
          <p:nvSpPr>
            <p:cNvPr id="423" name="Rectangle 3"/>
            <p:cNvSpPr/>
            <p:nvPr/>
          </p:nvSpPr>
          <p:spPr>
            <a:xfrm>
              <a:off x="7940880" y="1642320"/>
              <a:ext cx="804600" cy="196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ffffff"/>
                  </a:solidFill>
                  <a:latin typeface="Arial"/>
                </a:rPr>
                <a:t>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ffffff"/>
                  </a:solidFill>
                  <a:latin typeface="Arial"/>
                </a:rPr>
                <a:t>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ffffff"/>
                  </a:solidFill>
                  <a:latin typeface="Arial"/>
                </a:rPr>
                <a:t>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Rectangle 4"/>
            <p:cNvSpPr/>
            <p:nvPr/>
          </p:nvSpPr>
          <p:spPr>
            <a:xfrm>
              <a:off x="7132680" y="1642320"/>
              <a:ext cx="807840" cy="196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ffffff"/>
                  </a:solidFill>
                  <a:latin typeface="Arial"/>
                </a:rPr>
                <a:t>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ffffff"/>
                  </a:solidFill>
                  <a:latin typeface="Arial"/>
                </a:rPr>
                <a:t>Ъ Ь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ffffff"/>
                  </a:solidFill>
                  <a:latin typeface="Arial"/>
                </a:rPr>
                <a:t>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Rectangle 5"/>
            <p:cNvSpPr/>
            <p:nvPr/>
          </p:nvSpPr>
          <p:spPr>
            <a:xfrm>
              <a:off x="6328440" y="1642320"/>
              <a:ext cx="804240" cy="196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ffffff"/>
                  </a:solidFill>
                  <a:latin typeface="Arial"/>
                </a:rPr>
                <a:t>Ц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ffffff"/>
                  </a:solidFill>
                  <a:latin typeface="Arial"/>
                </a:rPr>
                <a:t>Ч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ffffff"/>
                  </a:solidFill>
                  <a:latin typeface="Arial"/>
                </a:rPr>
                <a:t>Ш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Rectangle 6"/>
            <p:cNvSpPr/>
            <p:nvPr/>
          </p:nvSpPr>
          <p:spPr>
            <a:xfrm>
              <a:off x="5520240" y="1642320"/>
              <a:ext cx="807840" cy="196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ffffff"/>
                  </a:solidFill>
                  <a:latin typeface="Arial"/>
                </a:rPr>
                <a:t>У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ffffff"/>
                  </a:solidFill>
                  <a:latin typeface="Arial"/>
                </a:rPr>
                <a:t>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ffffff"/>
                  </a:solidFill>
                  <a:latin typeface="Arial"/>
                </a:rPr>
                <a:t>Х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Rectangle 7"/>
            <p:cNvSpPr/>
            <p:nvPr/>
          </p:nvSpPr>
          <p:spPr>
            <a:xfrm>
              <a:off x="4715640" y="1642320"/>
              <a:ext cx="804600" cy="196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ffffff"/>
                  </a:solidFill>
                  <a:latin typeface="Arial"/>
                </a:rPr>
                <a:t>Р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ffffff"/>
                  </a:solidFill>
                  <a:latin typeface="Arial"/>
                </a:rPr>
                <a:t>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ffffff"/>
                  </a:solidFill>
                  <a:latin typeface="Arial"/>
                </a:rPr>
                <a:t>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Rectangle 8"/>
            <p:cNvSpPr/>
            <p:nvPr/>
          </p:nvSpPr>
          <p:spPr>
            <a:xfrm>
              <a:off x="3909240" y="1642320"/>
              <a:ext cx="806040" cy="196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ffffff"/>
                  </a:solidFill>
                  <a:latin typeface="Arial"/>
                </a:rPr>
                <a:t>Н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ffffff"/>
                  </a:solidFill>
                  <a:latin typeface="Arial"/>
                </a:rPr>
                <a:t>О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ffffff"/>
                  </a:solidFill>
                  <a:latin typeface="Arial"/>
                </a:rPr>
                <a:t>П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Rectangle 9"/>
            <p:cNvSpPr/>
            <p:nvPr/>
          </p:nvSpPr>
          <p:spPr>
            <a:xfrm>
              <a:off x="3102840" y="1642320"/>
              <a:ext cx="806040" cy="196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ffffff"/>
                  </a:solidFill>
                  <a:latin typeface="Arial"/>
                </a:rPr>
                <a:t>К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ffffff"/>
                  </a:solidFill>
                  <a:latin typeface="Arial"/>
                </a:rPr>
                <a:t>Л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ffffff"/>
                  </a:solidFill>
                  <a:latin typeface="Arial"/>
                </a:rPr>
                <a:t>М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Rectangle 10"/>
            <p:cNvSpPr/>
            <p:nvPr/>
          </p:nvSpPr>
          <p:spPr>
            <a:xfrm>
              <a:off x="2296800" y="1642320"/>
              <a:ext cx="806040" cy="196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ffffff"/>
                  </a:solidFill>
                  <a:latin typeface="Arial"/>
                </a:rPr>
                <a:t>Ж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ffffff"/>
                  </a:solidFill>
                  <a:latin typeface="Arial"/>
                </a:rPr>
                <a:t>З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ffffff"/>
                  </a:solidFill>
                  <a:latin typeface="Arial"/>
                </a:rPr>
                <a:t>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Rectangle 11"/>
            <p:cNvSpPr/>
            <p:nvPr/>
          </p:nvSpPr>
          <p:spPr>
            <a:xfrm>
              <a:off x="1490400" y="1642320"/>
              <a:ext cx="806040" cy="196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ffffff"/>
                  </a:solidFill>
                  <a:latin typeface="Arial"/>
                </a:rPr>
                <a:t>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ffffff"/>
                  </a:solidFill>
                  <a:latin typeface="Arial"/>
                </a:rPr>
                <a:t>Д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ffffff"/>
                  </a:solidFill>
                  <a:latin typeface="Arial"/>
                </a:rPr>
                <a:t>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684360" y="1642320"/>
              <a:ext cx="806040" cy="196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ffffff"/>
                  </a:solidFill>
                  <a:latin typeface="Arial"/>
                </a:rPr>
                <a:t>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ffffff"/>
                  </a:solidFill>
                  <a:latin typeface="Arial"/>
                </a:rPr>
                <a:t>Б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ffffff"/>
                  </a:solidFill>
                  <a:latin typeface="Arial"/>
                </a:rPr>
                <a:t>В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Rectangle 13"/>
            <p:cNvSpPr/>
            <p:nvPr/>
          </p:nvSpPr>
          <p:spPr>
            <a:xfrm>
              <a:off x="7940880" y="476280"/>
              <a:ext cx="804600" cy="116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Rectangle 14"/>
            <p:cNvSpPr/>
            <p:nvPr/>
          </p:nvSpPr>
          <p:spPr>
            <a:xfrm>
              <a:off x="7132680" y="476280"/>
              <a:ext cx="807840" cy="116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Arial"/>
                </a:rPr>
                <a:t>9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Rectangle 15"/>
            <p:cNvSpPr/>
            <p:nvPr/>
          </p:nvSpPr>
          <p:spPr>
            <a:xfrm>
              <a:off x="6328440" y="476280"/>
              <a:ext cx="804240" cy="116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Arial"/>
                </a:rPr>
                <a:t>8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Rectangle 16"/>
            <p:cNvSpPr/>
            <p:nvPr/>
          </p:nvSpPr>
          <p:spPr>
            <a:xfrm>
              <a:off x="5520240" y="476280"/>
              <a:ext cx="807840" cy="116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Rectangle 17"/>
            <p:cNvSpPr/>
            <p:nvPr/>
          </p:nvSpPr>
          <p:spPr>
            <a:xfrm>
              <a:off x="4715640" y="476280"/>
              <a:ext cx="804600" cy="116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Rectangle 18"/>
            <p:cNvSpPr/>
            <p:nvPr/>
          </p:nvSpPr>
          <p:spPr>
            <a:xfrm>
              <a:off x="3909240" y="476280"/>
              <a:ext cx="806040" cy="116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Rectangle 19"/>
            <p:cNvSpPr/>
            <p:nvPr/>
          </p:nvSpPr>
          <p:spPr>
            <a:xfrm>
              <a:off x="3102840" y="476280"/>
              <a:ext cx="806040" cy="116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Rectangle 20"/>
            <p:cNvSpPr/>
            <p:nvPr/>
          </p:nvSpPr>
          <p:spPr>
            <a:xfrm>
              <a:off x="2296800" y="476280"/>
              <a:ext cx="806040" cy="116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Rectangle 21"/>
            <p:cNvSpPr/>
            <p:nvPr/>
          </p:nvSpPr>
          <p:spPr>
            <a:xfrm>
              <a:off x="1490400" y="476280"/>
              <a:ext cx="806040" cy="116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Rectangle 22"/>
            <p:cNvSpPr/>
            <p:nvPr/>
          </p:nvSpPr>
          <p:spPr>
            <a:xfrm>
              <a:off x="684360" y="476280"/>
              <a:ext cx="806040" cy="116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Line 23"/>
            <p:cNvSpPr/>
            <p:nvPr/>
          </p:nvSpPr>
          <p:spPr>
            <a:xfrm>
              <a:off x="684360" y="476280"/>
              <a:ext cx="8061480" cy="10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Line 24"/>
            <p:cNvSpPr/>
            <p:nvPr/>
          </p:nvSpPr>
          <p:spPr>
            <a:xfrm>
              <a:off x="684360" y="1642320"/>
              <a:ext cx="80614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Line 25"/>
            <p:cNvSpPr/>
            <p:nvPr/>
          </p:nvSpPr>
          <p:spPr>
            <a:xfrm>
              <a:off x="684360" y="3611880"/>
              <a:ext cx="8061480" cy="10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Line 26"/>
            <p:cNvSpPr/>
            <p:nvPr/>
          </p:nvSpPr>
          <p:spPr>
            <a:xfrm>
              <a:off x="684360" y="476280"/>
              <a:ext cx="1080" cy="31356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Line 27"/>
            <p:cNvSpPr/>
            <p:nvPr/>
          </p:nvSpPr>
          <p:spPr>
            <a:xfrm>
              <a:off x="1490400" y="476280"/>
              <a:ext cx="1080" cy="3135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Line 28"/>
            <p:cNvSpPr/>
            <p:nvPr/>
          </p:nvSpPr>
          <p:spPr>
            <a:xfrm>
              <a:off x="2296800" y="476280"/>
              <a:ext cx="1080" cy="3135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Line 29"/>
            <p:cNvSpPr/>
            <p:nvPr/>
          </p:nvSpPr>
          <p:spPr>
            <a:xfrm>
              <a:off x="3102840" y="476280"/>
              <a:ext cx="1080" cy="3135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Line 30"/>
            <p:cNvSpPr/>
            <p:nvPr/>
          </p:nvSpPr>
          <p:spPr>
            <a:xfrm>
              <a:off x="3909240" y="476280"/>
              <a:ext cx="1440" cy="3135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Line 31"/>
            <p:cNvSpPr/>
            <p:nvPr/>
          </p:nvSpPr>
          <p:spPr>
            <a:xfrm>
              <a:off x="4715640" y="476280"/>
              <a:ext cx="1440" cy="3135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Line 32"/>
            <p:cNvSpPr/>
            <p:nvPr/>
          </p:nvSpPr>
          <p:spPr>
            <a:xfrm>
              <a:off x="5520240" y="476280"/>
              <a:ext cx="1080" cy="3135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Line 33"/>
            <p:cNvSpPr/>
            <p:nvPr/>
          </p:nvSpPr>
          <p:spPr>
            <a:xfrm>
              <a:off x="6328440" y="476280"/>
              <a:ext cx="1080" cy="3135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Line 34"/>
            <p:cNvSpPr/>
            <p:nvPr/>
          </p:nvSpPr>
          <p:spPr>
            <a:xfrm>
              <a:off x="7132680" y="476280"/>
              <a:ext cx="1440" cy="3135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Line 35"/>
            <p:cNvSpPr/>
            <p:nvPr/>
          </p:nvSpPr>
          <p:spPr>
            <a:xfrm>
              <a:off x="7940880" y="476280"/>
              <a:ext cx="1080" cy="3135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Line 36"/>
            <p:cNvSpPr/>
            <p:nvPr/>
          </p:nvSpPr>
          <p:spPr>
            <a:xfrm>
              <a:off x="8745840" y="476280"/>
              <a:ext cx="1080" cy="31356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7" name="Group 37"/>
          <p:cNvGrpSpPr/>
          <p:nvPr/>
        </p:nvGrpSpPr>
        <p:grpSpPr>
          <a:xfrm>
            <a:off x="900000" y="3933720"/>
            <a:ext cx="7704000" cy="2131920"/>
            <a:chOff x="900000" y="3933720"/>
            <a:chExt cx="7704000" cy="2131920"/>
          </a:xfrm>
        </p:grpSpPr>
        <p:sp>
          <p:nvSpPr>
            <p:cNvPr id="458" name="Rectangle 38"/>
            <p:cNvSpPr/>
            <p:nvPr/>
          </p:nvSpPr>
          <p:spPr>
            <a:xfrm>
              <a:off x="7520040" y="3933720"/>
              <a:ext cx="1082520" cy="213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1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4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Rectangle 39"/>
            <p:cNvSpPr/>
            <p:nvPr/>
          </p:nvSpPr>
          <p:spPr>
            <a:xfrm>
              <a:off x="6574320" y="3933720"/>
              <a:ext cx="945720" cy="213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1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48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Rectangle 40"/>
            <p:cNvSpPr/>
            <p:nvPr/>
          </p:nvSpPr>
          <p:spPr>
            <a:xfrm>
              <a:off x="5629680" y="3933720"/>
              <a:ext cx="944280" cy="213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1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48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Rectangle 41"/>
            <p:cNvSpPr/>
            <p:nvPr/>
          </p:nvSpPr>
          <p:spPr>
            <a:xfrm>
              <a:off x="4682520" y="3933720"/>
              <a:ext cx="947160" cy="213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1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48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Rectangle 42"/>
            <p:cNvSpPr/>
            <p:nvPr/>
          </p:nvSpPr>
          <p:spPr>
            <a:xfrm>
              <a:off x="3736080" y="3933720"/>
              <a:ext cx="946080" cy="213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1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4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Rectangle 43"/>
            <p:cNvSpPr/>
            <p:nvPr/>
          </p:nvSpPr>
          <p:spPr>
            <a:xfrm>
              <a:off x="2792160" y="3933720"/>
              <a:ext cx="943920" cy="213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1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48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Rectangle 44"/>
            <p:cNvSpPr/>
            <p:nvPr/>
          </p:nvSpPr>
          <p:spPr>
            <a:xfrm>
              <a:off x="1844280" y="3933720"/>
              <a:ext cx="947520" cy="213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1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48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Rectangle 45"/>
            <p:cNvSpPr/>
            <p:nvPr/>
          </p:nvSpPr>
          <p:spPr>
            <a:xfrm>
              <a:off x="900000" y="3933720"/>
              <a:ext cx="944280" cy="213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1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48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Line 46"/>
            <p:cNvSpPr/>
            <p:nvPr/>
          </p:nvSpPr>
          <p:spPr>
            <a:xfrm>
              <a:off x="900000" y="3933720"/>
              <a:ext cx="7702920" cy="1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Line 47"/>
            <p:cNvSpPr/>
            <p:nvPr/>
          </p:nvSpPr>
          <p:spPr>
            <a:xfrm>
              <a:off x="900000" y="6064560"/>
              <a:ext cx="7702920" cy="10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Line 48"/>
            <p:cNvSpPr/>
            <p:nvPr/>
          </p:nvSpPr>
          <p:spPr>
            <a:xfrm>
              <a:off x="900000" y="3933720"/>
              <a:ext cx="1440" cy="21308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Line 49"/>
            <p:cNvSpPr/>
            <p:nvPr/>
          </p:nvSpPr>
          <p:spPr>
            <a:xfrm>
              <a:off x="1844280" y="3933720"/>
              <a:ext cx="1440" cy="2130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Line 50"/>
            <p:cNvSpPr/>
            <p:nvPr/>
          </p:nvSpPr>
          <p:spPr>
            <a:xfrm>
              <a:off x="2792160" y="3933720"/>
              <a:ext cx="1080" cy="2130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Line 51"/>
            <p:cNvSpPr/>
            <p:nvPr/>
          </p:nvSpPr>
          <p:spPr>
            <a:xfrm>
              <a:off x="3736080" y="3933720"/>
              <a:ext cx="1440" cy="2130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Line 52"/>
            <p:cNvSpPr/>
            <p:nvPr/>
          </p:nvSpPr>
          <p:spPr>
            <a:xfrm>
              <a:off x="4682520" y="3933720"/>
              <a:ext cx="1080" cy="2130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Line 53"/>
            <p:cNvSpPr/>
            <p:nvPr/>
          </p:nvSpPr>
          <p:spPr>
            <a:xfrm>
              <a:off x="5629680" y="3933720"/>
              <a:ext cx="1440" cy="2130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Line 54"/>
            <p:cNvSpPr/>
            <p:nvPr/>
          </p:nvSpPr>
          <p:spPr>
            <a:xfrm>
              <a:off x="6574320" y="3933720"/>
              <a:ext cx="1080" cy="2130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Line 55"/>
            <p:cNvSpPr/>
            <p:nvPr/>
          </p:nvSpPr>
          <p:spPr>
            <a:xfrm>
              <a:off x="7520040" y="3933720"/>
              <a:ext cx="1440" cy="2130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Line 56"/>
            <p:cNvSpPr/>
            <p:nvPr/>
          </p:nvSpPr>
          <p:spPr>
            <a:xfrm>
              <a:off x="8602920" y="3933720"/>
              <a:ext cx="1080" cy="21308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7" name=""/>
          <p:cNvGraphicFramePr/>
          <p:nvPr/>
        </p:nvGraphicFramePr>
        <p:xfrm>
          <a:off x="1042920" y="404640"/>
          <a:ext cx="7056360" cy="2476800"/>
        </p:xfrm>
        <a:graphic>
          <a:graphicData uri="http://schemas.openxmlformats.org/drawingml/2006/table">
            <a:tbl>
              <a:tblPr/>
              <a:tblGrid>
                <a:gridCol w="882720"/>
                <a:gridCol w="880920"/>
                <a:gridCol w="882720"/>
                <a:gridCol w="882720"/>
                <a:gridCol w="880920"/>
                <a:gridCol w="882720"/>
                <a:gridCol w="881280"/>
                <a:gridCol w="882360"/>
              </a:tblGrid>
              <a:tr h="123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4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5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4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2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4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7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4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1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3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М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О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Л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Е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К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У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Л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А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78" name=""/>
          <p:cNvGraphicFramePr/>
          <p:nvPr/>
        </p:nvGraphicFramePr>
        <p:xfrm>
          <a:off x="611280" y="3213000"/>
          <a:ext cx="8075520" cy="2917800"/>
        </p:xfrm>
        <a:graphic>
          <a:graphicData uri="http://schemas.openxmlformats.org/drawingml/2006/table">
            <a:tbl>
              <a:tblPr/>
              <a:tblGrid>
                <a:gridCol w="672840"/>
                <a:gridCol w="673200"/>
                <a:gridCol w="673200"/>
                <a:gridCol w="673200"/>
                <a:gridCol w="672840"/>
                <a:gridCol w="673200"/>
                <a:gridCol w="671400"/>
                <a:gridCol w="673200"/>
                <a:gridCol w="673200"/>
                <a:gridCol w="673200"/>
                <a:gridCol w="672840"/>
                <a:gridCol w="673200"/>
              </a:tblGrid>
              <a:tr h="145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5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9" name=""/>
          <p:cNvGraphicFramePr/>
          <p:nvPr/>
        </p:nvGraphicFramePr>
        <p:xfrm>
          <a:off x="468360" y="333360"/>
          <a:ext cx="7991280" cy="2381400"/>
        </p:xfrm>
        <a:graphic>
          <a:graphicData uri="http://schemas.openxmlformats.org/drawingml/2006/table">
            <a:tbl>
              <a:tblPr/>
              <a:tblGrid>
                <a:gridCol w="798480"/>
                <a:gridCol w="799920"/>
                <a:gridCol w="798840"/>
                <a:gridCol w="799920"/>
                <a:gridCol w="798480"/>
                <a:gridCol w="798480"/>
                <a:gridCol w="800280"/>
                <a:gridCol w="798480"/>
                <a:gridCol w="799920"/>
                <a:gridCol w="798480"/>
              </a:tblGrid>
              <a:tr h="574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06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З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Ъ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Ю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80" name=""/>
          <p:cNvGraphicFramePr/>
          <p:nvPr/>
        </p:nvGraphicFramePr>
        <p:xfrm>
          <a:off x="457200" y="3213000"/>
          <a:ext cx="8218440" cy="2917800"/>
        </p:xfrm>
        <a:graphic>
          <a:graphicData uri="http://schemas.openxmlformats.org/drawingml/2006/table">
            <a:tbl>
              <a:tblPr/>
              <a:tblGrid>
                <a:gridCol w="685800"/>
                <a:gridCol w="684360"/>
                <a:gridCol w="685800"/>
                <a:gridCol w="684000"/>
                <a:gridCol w="685800"/>
                <a:gridCol w="684360"/>
                <a:gridCol w="682560"/>
                <a:gridCol w="685800"/>
                <a:gridCol w="684360"/>
                <a:gridCol w="685800"/>
                <a:gridCol w="684000"/>
                <a:gridCol w="685800"/>
              </a:tblGrid>
              <a:tr h="145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6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4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6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3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5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5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6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6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9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5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Р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Е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А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К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Т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И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В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Н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О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С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Т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Ь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1" name="Group 2"/>
          <p:cNvGrpSpPr/>
          <p:nvPr/>
        </p:nvGrpSpPr>
        <p:grpSpPr>
          <a:xfrm>
            <a:off x="395280" y="765000"/>
            <a:ext cx="8302320" cy="5040000"/>
            <a:chOff x="395280" y="765000"/>
            <a:chExt cx="8302320" cy="5040000"/>
          </a:xfrm>
        </p:grpSpPr>
        <p:sp>
          <p:nvSpPr>
            <p:cNvPr id="482" name="Rectangle 3"/>
            <p:cNvSpPr/>
            <p:nvPr/>
          </p:nvSpPr>
          <p:spPr>
            <a:xfrm>
              <a:off x="5929920" y="3285000"/>
              <a:ext cx="2766240" cy="25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Rectangle 4"/>
            <p:cNvSpPr/>
            <p:nvPr/>
          </p:nvSpPr>
          <p:spPr>
            <a:xfrm>
              <a:off x="3161520" y="3285000"/>
              <a:ext cx="2768040" cy="25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Rectangle 5"/>
            <p:cNvSpPr/>
            <p:nvPr/>
          </p:nvSpPr>
          <p:spPr>
            <a:xfrm>
              <a:off x="395280" y="3285000"/>
              <a:ext cx="2766240" cy="25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Rectangle 6"/>
            <p:cNvSpPr/>
            <p:nvPr/>
          </p:nvSpPr>
          <p:spPr>
            <a:xfrm>
              <a:off x="5929920" y="765000"/>
              <a:ext cx="2766240" cy="252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Rectangle 7"/>
            <p:cNvSpPr/>
            <p:nvPr/>
          </p:nvSpPr>
          <p:spPr>
            <a:xfrm>
              <a:off x="3161520" y="765000"/>
              <a:ext cx="2768040" cy="252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Rectangle 8"/>
            <p:cNvSpPr/>
            <p:nvPr/>
          </p:nvSpPr>
          <p:spPr>
            <a:xfrm>
              <a:off x="395280" y="765000"/>
              <a:ext cx="2766240" cy="252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Line 9"/>
            <p:cNvSpPr/>
            <p:nvPr/>
          </p:nvSpPr>
          <p:spPr>
            <a:xfrm>
              <a:off x="395280" y="765000"/>
              <a:ext cx="8301240" cy="1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Line 10"/>
            <p:cNvSpPr/>
            <p:nvPr/>
          </p:nvSpPr>
          <p:spPr>
            <a:xfrm>
              <a:off x="395280" y="3285000"/>
              <a:ext cx="83012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Line 11"/>
            <p:cNvSpPr/>
            <p:nvPr/>
          </p:nvSpPr>
          <p:spPr>
            <a:xfrm>
              <a:off x="395280" y="5803560"/>
              <a:ext cx="8301240" cy="1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Line 12"/>
            <p:cNvSpPr/>
            <p:nvPr/>
          </p:nvSpPr>
          <p:spPr>
            <a:xfrm>
              <a:off x="395280" y="765000"/>
              <a:ext cx="1080" cy="50385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Line 13"/>
            <p:cNvSpPr/>
            <p:nvPr/>
          </p:nvSpPr>
          <p:spPr>
            <a:xfrm>
              <a:off x="3161520" y="765000"/>
              <a:ext cx="1440" cy="5038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Line 14"/>
            <p:cNvSpPr/>
            <p:nvPr/>
          </p:nvSpPr>
          <p:spPr>
            <a:xfrm>
              <a:off x="5929920" y="765000"/>
              <a:ext cx="1080" cy="5038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Line 15"/>
            <p:cNvSpPr/>
            <p:nvPr/>
          </p:nvSpPr>
          <p:spPr>
            <a:xfrm>
              <a:off x="8696520" y="765000"/>
              <a:ext cx="1080" cy="50385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5" name="WordArt 16"/>
          <p:cNvSpPr txBox="1"/>
          <p:nvPr/>
        </p:nvSpPr>
        <p:spPr>
          <a:xfrm>
            <a:off x="539640" y="981000"/>
            <a:ext cx="2203560" cy="20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УЧЕНЫЕ -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ФИЗИК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496" name="WordArt 17"/>
          <p:cNvSpPr txBox="1"/>
          <p:nvPr/>
        </p:nvSpPr>
        <p:spPr>
          <a:xfrm>
            <a:off x="6012000" y="907920"/>
            <a:ext cx="2427120" cy="223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СВЕТОВЫЕ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ЯВЛЕН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497" name="WordArt 18"/>
          <p:cNvSpPr txBox="1"/>
          <p:nvPr/>
        </p:nvSpPr>
        <p:spPr>
          <a:xfrm>
            <a:off x="3276720" y="3429000"/>
            <a:ext cx="2287440" cy="216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ПРИБОР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498" name="WordArt 19"/>
          <p:cNvSpPr txBox="1"/>
          <p:nvPr/>
        </p:nvSpPr>
        <p:spPr>
          <a:xfrm>
            <a:off x="250920" y="3213000"/>
            <a:ext cx="2881080" cy="28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5030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ЭЛЕКТР0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МАГНИТНЫЕ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ЯВЛЕН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499" name="WordArt 20"/>
          <p:cNvSpPr txBox="1"/>
          <p:nvPr/>
        </p:nvSpPr>
        <p:spPr>
          <a:xfrm>
            <a:off x="3203640" y="836640"/>
            <a:ext cx="2522520" cy="262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МЕХАНИЧЕСКИЕ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ЯВЛЕН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500" name="AutoShape 21">
            <a:hlinkClick r:id="rId1" action="ppaction://hlinksldjump"/>
          </p:cNvPr>
          <p:cNvSpPr/>
          <p:nvPr/>
        </p:nvSpPr>
        <p:spPr>
          <a:xfrm>
            <a:off x="2268360" y="2637000"/>
            <a:ext cx="503280" cy="43164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182" h="21600">
                <a:moveTo>
                  <a:pt x="0" y="0"/>
                </a:moveTo>
                <a:lnTo>
                  <a:pt x="25182" y="0"/>
                </a:lnTo>
                <a:lnTo>
                  <a:pt x="25182" y="21600"/>
                </a:lnTo>
                <a:lnTo>
                  <a:pt x="0" y="21600"/>
                </a:lnTo>
                <a:close/>
              </a:path>
              <a:path fill="lightenLess" w="25182" h="21600">
                <a:moveTo>
                  <a:pt x="0" y="0"/>
                </a:moveTo>
                <a:lnTo>
                  <a:pt x="25182" y="0"/>
                </a:lnTo>
                <a:lnTo>
                  <a:pt x="23782" y="1400"/>
                </a:lnTo>
                <a:lnTo>
                  <a:pt x="1400" y="1400"/>
                </a:lnTo>
                <a:close/>
              </a:path>
              <a:path fill="darken" w="25182" h="21600">
                <a:moveTo>
                  <a:pt x="25182" y="0"/>
                </a:moveTo>
                <a:lnTo>
                  <a:pt x="25182" y="21600"/>
                </a:lnTo>
                <a:lnTo>
                  <a:pt x="23782" y="20200"/>
                </a:lnTo>
                <a:lnTo>
                  <a:pt x="23782" y="1400"/>
                </a:lnTo>
                <a:close/>
              </a:path>
              <a:path fill="darkenLess" w="25182" h="21600">
                <a:moveTo>
                  <a:pt x="25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2" y="20200"/>
                </a:lnTo>
                <a:close/>
              </a:path>
              <a:path fill="lighten" w="25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AutoShape 22">
            <a:hlinkClick r:id="rId2" action="ppaction://hlinksldjump"/>
          </p:cNvPr>
          <p:cNvSpPr/>
          <p:nvPr/>
        </p:nvSpPr>
        <p:spPr>
          <a:xfrm>
            <a:off x="5219640" y="2708280"/>
            <a:ext cx="503280" cy="360360"/>
          </a:xfrm>
          <a:custGeom>
            <a:avLst/>
            <a:gdLst>
              <a:gd name="textAreaLeft" fmla="*/ 23040 w 503280"/>
              <a:gd name="textAreaRight" fmla="*/ 480240 w 503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158" h="21600">
                <a:moveTo>
                  <a:pt x="0" y="0"/>
                </a:moveTo>
                <a:lnTo>
                  <a:pt x="30158" y="0"/>
                </a:lnTo>
                <a:lnTo>
                  <a:pt x="30158" y="21600"/>
                </a:lnTo>
                <a:lnTo>
                  <a:pt x="0" y="21600"/>
                </a:lnTo>
                <a:close/>
              </a:path>
              <a:path fill="lightenLess" w="30158" h="21600">
                <a:moveTo>
                  <a:pt x="0" y="0"/>
                </a:moveTo>
                <a:lnTo>
                  <a:pt x="30158" y="0"/>
                </a:lnTo>
                <a:lnTo>
                  <a:pt x="28758" y="1400"/>
                </a:lnTo>
                <a:lnTo>
                  <a:pt x="1400" y="1400"/>
                </a:lnTo>
                <a:close/>
              </a:path>
              <a:path fill="darken" w="30158" h="21600">
                <a:moveTo>
                  <a:pt x="30158" y="0"/>
                </a:moveTo>
                <a:lnTo>
                  <a:pt x="30158" y="21600"/>
                </a:lnTo>
                <a:lnTo>
                  <a:pt x="28758" y="20200"/>
                </a:lnTo>
                <a:lnTo>
                  <a:pt x="28758" y="1400"/>
                </a:lnTo>
                <a:close/>
              </a:path>
              <a:path fill="darkenLess" w="30158" h="21600">
                <a:moveTo>
                  <a:pt x="301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58" y="20200"/>
                </a:lnTo>
                <a:close/>
              </a:path>
              <a:path fill="lighten" w="301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AutoShape 23">
            <a:hlinkClick r:id="rId3" action="ppaction://hlinksldjump"/>
          </p:cNvPr>
          <p:cNvSpPr/>
          <p:nvPr/>
        </p:nvSpPr>
        <p:spPr>
          <a:xfrm>
            <a:off x="7956720" y="2708280"/>
            <a:ext cx="431640" cy="360360"/>
          </a:xfrm>
          <a:custGeom>
            <a:avLst/>
            <a:gdLst>
              <a:gd name="textAreaLeft" fmla="*/ 23040 w 431640"/>
              <a:gd name="textAreaRight" fmla="*/ 408600 w 431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68" h="21600">
                <a:moveTo>
                  <a:pt x="0" y="0"/>
                </a:moveTo>
                <a:lnTo>
                  <a:pt x="25868" y="0"/>
                </a:lnTo>
                <a:lnTo>
                  <a:pt x="25868" y="21600"/>
                </a:lnTo>
                <a:lnTo>
                  <a:pt x="0" y="21600"/>
                </a:lnTo>
                <a:close/>
              </a:path>
              <a:path fill="lightenLess" w="25868" h="21600">
                <a:moveTo>
                  <a:pt x="0" y="0"/>
                </a:moveTo>
                <a:lnTo>
                  <a:pt x="25868" y="0"/>
                </a:lnTo>
                <a:lnTo>
                  <a:pt x="24468" y="1400"/>
                </a:lnTo>
                <a:lnTo>
                  <a:pt x="1400" y="1400"/>
                </a:lnTo>
                <a:close/>
              </a:path>
              <a:path fill="darken" w="25868" h="21600">
                <a:moveTo>
                  <a:pt x="25868" y="0"/>
                </a:moveTo>
                <a:lnTo>
                  <a:pt x="25868" y="21600"/>
                </a:lnTo>
                <a:lnTo>
                  <a:pt x="24468" y="20200"/>
                </a:lnTo>
                <a:lnTo>
                  <a:pt x="24468" y="1400"/>
                </a:lnTo>
                <a:close/>
              </a:path>
              <a:path fill="darkenLess" w="25868" h="21600">
                <a:moveTo>
                  <a:pt x="258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68" y="20200"/>
                </a:lnTo>
                <a:close/>
              </a:path>
              <a:path fill="lighten" w="258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AutoShape 24">
            <a:hlinkClick r:id="rId4" action="ppaction://hlinksldjump"/>
          </p:cNvPr>
          <p:cNvSpPr/>
          <p:nvPr/>
        </p:nvSpPr>
        <p:spPr>
          <a:xfrm>
            <a:off x="2340000" y="5229360"/>
            <a:ext cx="503280" cy="360360"/>
          </a:xfrm>
          <a:custGeom>
            <a:avLst/>
            <a:gdLst>
              <a:gd name="textAreaLeft" fmla="*/ 23040 w 503280"/>
              <a:gd name="textAreaRight" fmla="*/ 480240 w 503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158" h="21600">
                <a:moveTo>
                  <a:pt x="0" y="0"/>
                </a:moveTo>
                <a:lnTo>
                  <a:pt x="30158" y="0"/>
                </a:lnTo>
                <a:lnTo>
                  <a:pt x="30158" y="21600"/>
                </a:lnTo>
                <a:lnTo>
                  <a:pt x="0" y="21600"/>
                </a:lnTo>
                <a:close/>
              </a:path>
              <a:path fill="lightenLess" w="30158" h="21600">
                <a:moveTo>
                  <a:pt x="0" y="0"/>
                </a:moveTo>
                <a:lnTo>
                  <a:pt x="30158" y="0"/>
                </a:lnTo>
                <a:lnTo>
                  <a:pt x="28758" y="1400"/>
                </a:lnTo>
                <a:lnTo>
                  <a:pt x="1400" y="1400"/>
                </a:lnTo>
                <a:close/>
              </a:path>
              <a:path fill="darken" w="30158" h="21600">
                <a:moveTo>
                  <a:pt x="30158" y="0"/>
                </a:moveTo>
                <a:lnTo>
                  <a:pt x="30158" y="21600"/>
                </a:lnTo>
                <a:lnTo>
                  <a:pt x="28758" y="20200"/>
                </a:lnTo>
                <a:lnTo>
                  <a:pt x="28758" y="1400"/>
                </a:lnTo>
                <a:close/>
              </a:path>
              <a:path fill="darkenLess" w="30158" h="21600">
                <a:moveTo>
                  <a:pt x="301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58" y="20200"/>
                </a:lnTo>
                <a:close/>
              </a:path>
              <a:path fill="lighten" w="301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AutoShape 25">
            <a:hlinkClick r:id="rId5" action="ppaction://hlinksldjump"/>
          </p:cNvPr>
          <p:cNvSpPr/>
          <p:nvPr/>
        </p:nvSpPr>
        <p:spPr>
          <a:xfrm>
            <a:off x="5003640" y="5157720"/>
            <a:ext cx="505080" cy="358920"/>
          </a:xfrm>
          <a:custGeom>
            <a:avLst/>
            <a:gdLst>
              <a:gd name="textAreaLeft" fmla="*/ 23040 w 505080"/>
              <a:gd name="textAreaRight" fmla="*/ 482040 w 50508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30387" h="21600">
                <a:moveTo>
                  <a:pt x="0" y="0"/>
                </a:moveTo>
                <a:lnTo>
                  <a:pt x="30387" y="0"/>
                </a:lnTo>
                <a:lnTo>
                  <a:pt x="30387" y="21600"/>
                </a:lnTo>
                <a:lnTo>
                  <a:pt x="0" y="21600"/>
                </a:lnTo>
                <a:close/>
              </a:path>
              <a:path fill="lightenLess" w="30387" h="21600">
                <a:moveTo>
                  <a:pt x="0" y="0"/>
                </a:moveTo>
                <a:lnTo>
                  <a:pt x="30387" y="0"/>
                </a:lnTo>
                <a:lnTo>
                  <a:pt x="28987" y="1400"/>
                </a:lnTo>
                <a:lnTo>
                  <a:pt x="1400" y="1400"/>
                </a:lnTo>
                <a:close/>
              </a:path>
              <a:path fill="darken" w="30387" h="21600">
                <a:moveTo>
                  <a:pt x="30387" y="0"/>
                </a:moveTo>
                <a:lnTo>
                  <a:pt x="30387" y="21600"/>
                </a:lnTo>
                <a:lnTo>
                  <a:pt x="28987" y="20200"/>
                </a:lnTo>
                <a:lnTo>
                  <a:pt x="28987" y="1400"/>
                </a:lnTo>
                <a:close/>
              </a:path>
              <a:path fill="darkenLess" w="30387" h="21600">
                <a:moveTo>
                  <a:pt x="303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987" y="20200"/>
                </a:lnTo>
                <a:close/>
              </a:path>
              <a:path fill="lighten" w="303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AutoShape 26">
            <a:hlinkClick r:id="rId6" action="ppaction://hlinksldjump"/>
          </p:cNvPr>
          <p:cNvSpPr/>
          <p:nvPr/>
        </p:nvSpPr>
        <p:spPr>
          <a:xfrm>
            <a:off x="7885080" y="5300640"/>
            <a:ext cx="504720" cy="289080"/>
          </a:xfrm>
          <a:custGeom>
            <a:avLst/>
            <a:gdLst>
              <a:gd name="textAreaLeft" fmla="*/ 18720 w 504720"/>
              <a:gd name="textAreaRight" fmla="*/ 486000 w 50472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37693" h="21600">
                <a:moveTo>
                  <a:pt x="0" y="0"/>
                </a:moveTo>
                <a:lnTo>
                  <a:pt x="37693" y="0"/>
                </a:lnTo>
                <a:lnTo>
                  <a:pt x="37693" y="21600"/>
                </a:lnTo>
                <a:lnTo>
                  <a:pt x="0" y="21600"/>
                </a:lnTo>
                <a:close/>
              </a:path>
              <a:path fill="lightenLess" w="37693" h="21600">
                <a:moveTo>
                  <a:pt x="0" y="0"/>
                </a:moveTo>
                <a:lnTo>
                  <a:pt x="37693" y="0"/>
                </a:lnTo>
                <a:lnTo>
                  <a:pt x="36293" y="1400"/>
                </a:lnTo>
                <a:lnTo>
                  <a:pt x="1400" y="1400"/>
                </a:lnTo>
                <a:close/>
              </a:path>
              <a:path fill="darken" w="37693" h="21600">
                <a:moveTo>
                  <a:pt x="37693" y="0"/>
                </a:moveTo>
                <a:lnTo>
                  <a:pt x="37693" y="21600"/>
                </a:lnTo>
                <a:lnTo>
                  <a:pt x="36293" y="20200"/>
                </a:lnTo>
                <a:lnTo>
                  <a:pt x="36293" y="1400"/>
                </a:lnTo>
                <a:close/>
              </a:path>
              <a:path fill="darkenLess" w="37693" h="21600">
                <a:moveTo>
                  <a:pt x="376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293" y="20200"/>
                </a:lnTo>
                <a:close/>
              </a:path>
              <a:path fill="lighten" w="376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AutoShape 27">
            <a:hlinkClick r:id="rId7" action="ppaction://hlinksldjump"/>
          </p:cNvPr>
          <p:cNvSpPr/>
          <p:nvPr/>
        </p:nvSpPr>
        <p:spPr>
          <a:xfrm>
            <a:off x="8172360" y="6165720"/>
            <a:ext cx="505080" cy="289080"/>
          </a:xfrm>
          <a:custGeom>
            <a:avLst/>
            <a:gdLst>
              <a:gd name="textAreaLeft" fmla="*/ 18720 w 505080"/>
              <a:gd name="textAreaRight" fmla="*/ 486360 w 50508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37719" h="21600">
                <a:moveTo>
                  <a:pt x="0" y="0"/>
                </a:moveTo>
                <a:lnTo>
                  <a:pt x="37719" y="0"/>
                </a:lnTo>
                <a:lnTo>
                  <a:pt x="37719" y="21600"/>
                </a:lnTo>
                <a:lnTo>
                  <a:pt x="0" y="21600"/>
                </a:lnTo>
                <a:close/>
              </a:path>
              <a:path fill="lightenLess" w="37719" h="21600">
                <a:moveTo>
                  <a:pt x="0" y="0"/>
                </a:moveTo>
                <a:lnTo>
                  <a:pt x="37719" y="0"/>
                </a:lnTo>
                <a:lnTo>
                  <a:pt x="36319" y="1400"/>
                </a:lnTo>
                <a:lnTo>
                  <a:pt x="1400" y="1400"/>
                </a:lnTo>
                <a:close/>
              </a:path>
              <a:path fill="darken" w="37719" h="21600">
                <a:moveTo>
                  <a:pt x="37719" y="0"/>
                </a:moveTo>
                <a:lnTo>
                  <a:pt x="37719" y="21600"/>
                </a:lnTo>
                <a:lnTo>
                  <a:pt x="36319" y="20200"/>
                </a:lnTo>
                <a:lnTo>
                  <a:pt x="36319" y="1400"/>
                </a:lnTo>
                <a:close/>
              </a:path>
              <a:path fill="darkenLess" w="37719" h="21600">
                <a:moveTo>
                  <a:pt x="37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19" y="20200"/>
                </a:lnTo>
                <a:close/>
              </a:path>
              <a:path fill="lighten" w="37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WordArt 29"/>
          <p:cNvSpPr txBox="1"/>
          <p:nvPr/>
        </p:nvSpPr>
        <p:spPr>
          <a:xfrm>
            <a:off x="6012000" y="3573360"/>
            <a:ext cx="2016000" cy="15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3157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секре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nodeType="clickEffect" fill="hold">
                      <p:stCondLst>
                        <p:cond delay="0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68000" y="324000"/>
            <a:ext cx="821196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3200" spc="-1" strike="noStrike">
                <a:solidFill>
                  <a:srgbClr val="ffff00"/>
                </a:solidFill>
                <a:latin typeface="Arial"/>
              </a:rPr>
              <a:t>УЧЕНЫЕ</a:t>
            </a:r>
            <a:r>
              <a:rPr b="1" i="1" lang="en-GB" sz="2800" spc="-1" strike="noStrike">
                <a:solidFill>
                  <a:srgbClr val="ffff00"/>
                </a:solidFill>
                <a:latin typeface="Arial"/>
              </a:rPr>
              <a:t> - </a:t>
            </a:r>
            <a:r>
              <a:rPr b="1" i="1" lang="en-GB" sz="3200" spc="-1" strike="noStrike">
                <a:solidFill>
                  <a:srgbClr val="ffff00"/>
                </a:solidFill>
                <a:latin typeface="Arial"/>
              </a:rPr>
              <a:t>ФИЗИКИ</a:t>
            </a:r>
            <a:r>
              <a:rPr b="0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24000" y="1052640"/>
            <a:ext cx="8820000" cy="57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Древнегреческий ученый, первый создавший учебник физики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2. Итальянский ученый, впервые измеривший атмосферное давление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3.Ученый, на своей голове испытавший действие падающего яблока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4.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акого ученого называют отцом авиации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5. Древнегреческий ученый, который со словами «Эврика! Эврика!» купался в ванной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6.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В какой стране жил и работал ученый Ленц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7. Ученый, создавший планетарную модель атома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8. Древнегреческий ученый, первым высказавшийся, что все вещества состоят их мельчайших частиц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9. Ученый, доказавший, что нас окружают не только тела, но и поля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10.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Какой древнегреческий ученый в 3 веке открыл закон прямолинейного распространения света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11. Ученый, во сне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увиде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вший таблицу химических элементов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12. Ученый, закон которого объясняет шарообразную форму мыльных пузыре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143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50 лет 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первого полета человека в космо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3419280" y="1600200"/>
            <a:ext cx="5724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12 апреля 1961 год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Юрий Алексеевич Гагарин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Герой Советского Союз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4" name="Picture 5" descr="ANd9GcQd_ohSOnv2HFtrG1HosgGtjmnv1zbnbQETee9RNBxcFqSqRxJ2YA"/>
          <p:cNvPicPr/>
          <p:nvPr/>
        </p:nvPicPr>
        <p:blipFill>
          <a:blip r:embed="rId1"/>
          <a:stretch/>
        </p:blipFill>
        <p:spPr>
          <a:xfrm>
            <a:off x="250920" y="1773360"/>
            <a:ext cx="3133800" cy="439092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6" descr="ANd9GcRPPZPj55Uwp2Hot-gdXbsYkfPc8L1NyIDo7NV4WKGvXVq-bS1V"/>
          <p:cNvPicPr/>
          <p:nvPr/>
        </p:nvPicPr>
        <p:blipFill>
          <a:blip r:embed="rId2"/>
          <a:stretch/>
        </p:blipFill>
        <p:spPr>
          <a:xfrm>
            <a:off x="4932360" y="3357720"/>
            <a:ext cx="3887640" cy="3149280"/>
          </a:xfrm>
          <a:prstGeom prst="rect">
            <a:avLst/>
          </a:prstGeom>
          <a:ln w="0">
            <a:noFill/>
          </a:ln>
        </p:spPr>
      </p:pic>
      <p:sp>
        <p:nvSpPr>
          <p:cNvPr id="386" name="Rectangle 7"/>
          <p:cNvSpPr/>
          <p:nvPr/>
        </p:nvSpPr>
        <p:spPr>
          <a:xfrm>
            <a:off x="684360" y="6308640"/>
            <a:ext cx="23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Восток-1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Picture 8" descr="земля"/>
          <p:cNvPicPr/>
          <p:nvPr/>
        </p:nvPicPr>
        <p:blipFill>
          <a:blip r:embed="rId3"/>
          <a:stretch/>
        </p:blipFill>
        <p:spPr>
          <a:xfrm>
            <a:off x="250920" y="33480"/>
            <a:ext cx="1152360" cy="86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/>
          </p:nvPr>
        </p:nvSpPr>
        <p:spPr>
          <a:xfrm>
            <a:off x="0" y="333000"/>
            <a:ext cx="914400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3. Ученый, в честь которого названа единица измерения энерг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8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4. Немецкий ученый, установивший зависимость силы тока от напряжения и сопротивле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8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5. Кто впервые обнаружил взаимодействие проводника с током и магнитной стрелки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8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6. Изобретатель радио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8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7. В честь какого ученого названа единица частоты колебаний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8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8. Первый русский академик, изучавший вместе с профессором Рихманом атмосферное электричество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8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9. Ученый, рассчитавший величину электрического заряда электрон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8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20.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 честь какого ученого названа единица измерения абсолютной температуры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8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21.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Ученый, имя которого носит закон о силе упругости, возникающей при деформации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AutoShape 3">
            <a:hlinkClick r:id="rId1" action="ppaction://hlinksldjump"/>
          </p:cNvPr>
          <p:cNvSpPr/>
          <p:nvPr/>
        </p:nvSpPr>
        <p:spPr>
          <a:xfrm>
            <a:off x="8352000" y="6353280"/>
            <a:ext cx="792000" cy="50472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33886" h="21600">
                <a:moveTo>
                  <a:pt x="0" y="0"/>
                </a:moveTo>
                <a:lnTo>
                  <a:pt x="33886" y="0"/>
                </a:lnTo>
                <a:lnTo>
                  <a:pt x="33886" y="21600"/>
                </a:lnTo>
                <a:lnTo>
                  <a:pt x="0" y="21600"/>
                </a:lnTo>
                <a:close/>
              </a:path>
              <a:path fill="lightenLess" w="33886" h="21600">
                <a:moveTo>
                  <a:pt x="0" y="0"/>
                </a:moveTo>
                <a:lnTo>
                  <a:pt x="33886" y="0"/>
                </a:lnTo>
                <a:lnTo>
                  <a:pt x="32486" y="1400"/>
                </a:lnTo>
                <a:lnTo>
                  <a:pt x="1400" y="1400"/>
                </a:lnTo>
                <a:close/>
              </a:path>
              <a:path fill="darken" w="33886" h="21600">
                <a:moveTo>
                  <a:pt x="33886" y="0"/>
                </a:moveTo>
                <a:lnTo>
                  <a:pt x="33886" y="21600"/>
                </a:lnTo>
                <a:lnTo>
                  <a:pt x="32486" y="20200"/>
                </a:lnTo>
                <a:lnTo>
                  <a:pt x="32486" y="1400"/>
                </a:lnTo>
                <a:close/>
              </a:path>
              <a:path fill="darkenLess" w="33886" h="21600">
                <a:moveTo>
                  <a:pt x="338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486" y="20200"/>
                </a:lnTo>
                <a:close/>
              </a:path>
              <a:path fill="lighten" w="338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886" h="21600">
                <a:moveTo>
                  <a:pt x="9936" y="7493"/>
                </a:moveTo>
                <a:lnTo>
                  <a:pt x="13444" y="7493"/>
                </a:lnTo>
                <a:lnTo>
                  <a:pt x="13444" y="12828"/>
                </a:lnTo>
                <a:cubicBezTo>
                  <a:pt x="13444" y="13751"/>
                  <a:pt x="14245" y="14482"/>
                  <a:pt x="15280" y="14482"/>
                </a:cubicBezTo>
                <a:lnTo>
                  <a:pt x="16943" y="14482"/>
                </a:lnTo>
                <a:cubicBezTo>
                  <a:pt x="17979" y="14482"/>
                  <a:pt x="18779" y="13751"/>
                  <a:pt x="18779" y="12828"/>
                </a:cubicBezTo>
                <a:lnTo>
                  <a:pt x="18779" y="7493"/>
                </a:lnTo>
                <a:lnTo>
                  <a:pt x="16943" y="7493"/>
                </a:lnTo>
                <a:lnTo>
                  <a:pt x="20450" y="3985"/>
                </a:lnTo>
                <a:lnTo>
                  <a:pt x="24123" y="7493"/>
                </a:lnTo>
                <a:lnTo>
                  <a:pt x="22287" y="7493"/>
                </a:lnTo>
                <a:lnTo>
                  <a:pt x="22287" y="12828"/>
                </a:lnTo>
                <a:cubicBezTo>
                  <a:pt x="22287" y="15596"/>
                  <a:pt x="19711" y="18155"/>
                  <a:pt x="16943" y="18155"/>
                </a:cubicBezTo>
                <a:lnTo>
                  <a:pt x="15280" y="18155"/>
                </a:lnTo>
                <a:cubicBezTo>
                  <a:pt x="12513" y="18155"/>
                  <a:pt x="9936" y="15596"/>
                  <a:pt x="9936" y="12828"/>
                </a:cubicBez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55640" y="324000"/>
            <a:ext cx="778176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3200" spc="-1" strike="noStrike">
                <a:solidFill>
                  <a:srgbClr val="ffff00"/>
                </a:solidFill>
                <a:latin typeface="Arial"/>
              </a:rPr>
              <a:t>СВЕТОВЫЕ ЯВЛ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8302680" cy="62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Как распространяется свет в однородной прозрачной среде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Разноцветная дуга в небе после дождя в солнечную погод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Сколько фокусов у всякой линзы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Явление, происходящее при переходе света из одной среды в другую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Экран телевизора – это холодный или горячий источник света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Сколько цветов в радуге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Собирающая линза человеческого глаз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Естественный источник света для Земл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Какой буквой обозначается угол падения луча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Оптический прибор для изучения мельчайших частиц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Лупа – это собирающая или рассеивающая линза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/>
          </p:nvPr>
        </p:nvSpPr>
        <p:spPr>
          <a:xfrm>
            <a:off x="395280" y="333360"/>
            <a:ext cx="8291520" cy="57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2. Единица измерения оптической силы линз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8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3. Какое изображение дает рассеивающая линза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8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4. Является ли источником света Луна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8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5. Как называется расстояние от оптического центра до фокуса линзы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8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6. Видимое излучени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8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7. Чему равен угол отражения, если угол падения луча 30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°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8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18. Какие затмения происходят чаще: солнечные или лунные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8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19. Очки с рассеивающими линзами необходимы при дальнозоркости или близорукости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8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20. Чему равн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а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скорость света в вакууме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8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21. Возможно ли наблюдать радугу на Луне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AutoShape 3"/>
          <p:cNvSpPr/>
          <p:nvPr/>
        </p:nvSpPr>
        <p:spPr>
          <a:xfrm>
            <a:off x="7885080" y="5661000"/>
            <a:ext cx="647640" cy="432000"/>
          </a:xfrm>
          <a:custGeom>
            <a:avLst/>
            <a:gdLst>
              <a:gd name="textAreaLeft" fmla="*/ 27720 w 647640"/>
              <a:gd name="textAreaRight" fmla="*/ 619920 w 64764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32373" h="21600">
                <a:moveTo>
                  <a:pt x="0" y="0"/>
                </a:moveTo>
                <a:lnTo>
                  <a:pt x="32373" y="0"/>
                </a:lnTo>
                <a:lnTo>
                  <a:pt x="32373" y="21600"/>
                </a:lnTo>
                <a:lnTo>
                  <a:pt x="0" y="21600"/>
                </a:lnTo>
                <a:close/>
              </a:path>
              <a:path fill="lightenLess" w="32373" h="21600">
                <a:moveTo>
                  <a:pt x="0" y="0"/>
                </a:moveTo>
                <a:lnTo>
                  <a:pt x="32373" y="0"/>
                </a:lnTo>
                <a:lnTo>
                  <a:pt x="30973" y="1400"/>
                </a:lnTo>
                <a:lnTo>
                  <a:pt x="1400" y="1400"/>
                </a:lnTo>
                <a:close/>
              </a:path>
              <a:path fill="darken" w="32373" h="21600">
                <a:moveTo>
                  <a:pt x="32373" y="0"/>
                </a:moveTo>
                <a:lnTo>
                  <a:pt x="32373" y="21600"/>
                </a:lnTo>
                <a:lnTo>
                  <a:pt x="30973" y="20200"/>
                </a:lnTo>
                <a:lnTo>
                  <a:pt x="30973" y="1400"/>
                </a:lnTo>
                <a:close/>
              </a:path>
              <a:path fill="darkenLess" w="32373" h="21600">
                <a:moveTo>
                  <a:pt x="323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3" y="20200"/>
                </a:lnTo>
                <a:close/>
              </a:path>
              <a:path fill="lighten" w="323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73" h="21600">
                <a:moveTo>
                  <a:pt x="9180" y="7493"/>
                </a:moveTo>
                <a:lnTo>
                  <a:pt x="12688" y="7493"/>
                </a:lnTo>
                <a:lnTo>
                  <a:pt x="12688" y="12828"/>
                </a:lnTo>
                <a:cubicBezTo>
                  <a:pt x="12688" y="13751"/>
                  <a:pt x="13488" y="14482"/>
                  <a:pt x="14524" y="14482"/>
                </a:cubicBezTo>
                <a:lnTo>
                  <a:pt x="16187" y="14482"/>
                </a:lnTo>
                <a:cubicBezTo>
                  <a:pt x="17222" y="14482"/>
                  <a:pt x="18023" y="13751"/>
                  <a:pt x="18023" y="12828"/>
                </a:cubicBezTo>
                <a:lnTo>
                  <a:pt x="18023" y="7493"/>
                </a:lnTo>
                <a:lnTo>
                  <a:pt x="16187" y="7493"/>
                </a:lnTo>
                <a:lnTo>
                  <a:pt x="19694" y="3985"/>
                </a:lnTo>
                <a:lnTo>
                  <a:pt x="23367" y="7493"/>
                </a:lnTo>
                <a:lnTo>
                  <a:pt x="21531" y="7493"/>
                </a:lnTo>
                <a:lnTo>
                  <a:pt x="21531" y="12828"/>
                </a:lnTo>
                <a:cubicBezTo>
                  <a:pt x="21531" y="15596"/>
                  <a:pt x="18954" y="18155"/>
                  <a:pt x="16187" y="18155"/>
                </a:cubicBezTo>
                <a:lnTo>
                  <a:pt x="14524" y="18155"/>
                </a:lnTo>
                <a:cubicBezTo>
                  <a:pt x="11756" y="18155"/>
                  <a:pt x="9180" y="15596"/>
                  <a:pt x="9180" y="12828"/>
                </a:cubicBez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68360" y="323640"/>
            <a:ext cx="822312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3200" spc="-1" strike="noStrike">
                <a:solidFill>
                  <a:srgbClr val="ffff00"/>
                </a:solidFill>
                <a:latin typeface="Arial"/>
              </a:rPr>
              <a:t>ЭЛЕКТР</a:t>
            </a:r>
            <a:r>
              <a:rPr b="1" i="1" lang="ru-RU" sz="3200" spc="-1" strike="noStrike">
                <a:solidFill>
                  <a:srgbClr val="ffff00"/>
                </a:solidFill>
                <a:latin typeface="Arial"/>
              </a:rPr>
              <a:t>ОМАГНИТНЫЕ</a:t>
            </a:r>
            <a:r>
              <a:rPr b="1" i="1" lang="en-GB" sz="3200" spc="-1" strike="noStrike">
                <a:solidFill>
                  <a:srgbClr val="ffff00"/>
                </a:solidFill>
                <a:latin typeface="Arial"/>
              </a:rPr>
              <a:t> ЯВЛ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250560" y="907560"/>
            <a:ext cx="8893080" cy="59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Сколько видов зарядов существует в природе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Прибор, определяющий заряжено тело или нет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Вещества, не проводящие электричество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Каков знак заряда электрона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уществует ли магнитное поле у Луны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Атом, потерявший один или несколько электрон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Направленное движение заряженных частиц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Сколько полюсов у источника тока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Электрический разряд в атмосфере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Как взаимодействуют одноименные заряды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а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ко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й магнитный полюс  на северном географическом полюсе Земли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Какое действие электрического тока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аблюдается в электрической лампе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Ученый, теоретически обосновавший существование электромагнитных волн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/>
          </p:nvPr>
        </p:nvSpPr>
        <p:spPr>
          <a:xfrm>
            <a:off x="395280" y="259920"/>
            <a:ext cx="8291520" cy="648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4.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Устройство, название которого на греческом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языке означает «создатель»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5. Единица измерения электрического заряд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6. Составная центральная часть атом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7. Устройство для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азмыкания электрической цепи в случае короткого замыкания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8. Источником какого тока – постоянного или переменного – является гальванический элемент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9. Что означает в переводе слова «электрон», «электричество»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20. Ученый, изучавший живое электричество на лягушках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21. Аппарат для разговора по проводам при помощи электрической энерг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22. Обладает ли магнитными свойствами такой металл, как золото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23. Радиоволна – поперечная или продольная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AutoShape 3"/>
          <p:cNvSpPr/>
          <p:nvPr/>
        </p:nvSpPr>
        <p:spPr>
          <a:xfrm>
            <a:off x="7956720" y="6021360"/>
            <a:ext cx="647640" cy="576360"/>
          </a:xfrm>
          <a:custGeom>
            <a:avLst/>
            <a:gdLst>
              <a:gd name="textAreaLeft" fmla="*/ 37080 w 647640"/>
              <a:gd name="textAreaRight" fmla="*/ 610560 w 64764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4270" h="21600">
                <a:moveTo>
                  <a:pt x="0" y="0"/>
                </a:moveTo>
                <a:lnTo>
                  <a:pt x="24270" y="0"/>
                </a:lnTo>
                <a:lnTo>
                  <a:pt x="24270" y="21600"/>
                </a:lnTo>
                <a:lnTo>
                  <a:pt x="0" y="21600"/>
                </a:lnTo>
                <a:close/>
              </a:path>
              <a:path fill="lightenLess" w="24270" h="21600">
                <a:moveTo>
                  <a:pt x="0" y="0"/>
                </a:moveTo>
                <a:lnTo>
                  <a:pt x="24270" y="0"/>
                </a:lnTo>
                <a:lnTo>
                  <a:pt x="22870" y="1400"/>
                </a:lnTo>
                <a:lnTo>
                  <a:pt x="1400" y="1400"/>
                </a:lnTo>
                <a:close/>
              </a:path>
              <a:path fill="darken" w="24270" h="21600">
                <a:moveTo>
                  <a:pt x="24270" y="0"/>
                </a:moveTo>
                <a:lnTo>
                  <a:pt x="24270" y="21600"/>
                </a:lnTo>
                <a:lnTo>
                  <a:pt x="22870" y="20200"/>
                </a:lnTo>
                <a:lnTo>
                  <a:pt x="22870" y="1400"/>
                </a:lnTo>
                <a:close/>
              </a:path>
              <a:path fill="darkenLess" w="24270" h="21600">
                <a:moveTo>
                  <a:pt x="242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70" y="20200"/>
                </a:lnTo>
                <a:close/>
              </a:path>
              <a:path fill="lighten" w="242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70" h="21600">
                <a:moveTo>
                  <a:pt x="5128" y="7493"/>
                </a:moveTo>
                <a:lnTo>
                  <a:pt x="8636" y="7493"/>
                </a:lnTo>
                <a:lnTo>
                  <a:pt x="8636" y="12828"/>
                </a:lnTo>
                <a:cubicBezTo>
                  <a:pt x="8636" y="13751"/>
                  <a:pt x="9437" y="14482"/>
                  <a:pt x="10472" y="14482"/>
                </a:cubicBezTo>
                <a:lnTo>
                  <a:pt x="12135" y="14482"/>
                </a:lnTo>
                <a:cubicBezTo>
                  <a:pt x="13171" y="14482"/>
                  <a:pt x="13971" y="13751"/>
                  <a:pt x="13971" y="12828"/>
                </a:cubicBezTo>
                <a:lnTo>
                  <a:pt x="13971" y="7493"/>
                </a:lnTo>
                <a:lnTo>
                  <a:pt x="12135" y="7493"/>
                </a:lnTo>
                <a:lnTo>
                  <a:pt x="15642" y="3985"/>
                </a:lnTo>
                <a:lnTo>
                  <a:pt x="19315" y="7493"/>
                </a:lnTo>
                <a:lnTo>
                  <a:pt x="17479" y="7493"/>
                </a:lnTo>
                <a:lnTo>
                  <a:pt x="17479" y="12828"/>
                </a:lnTo>
                <a:cubicBezTo>
                  <a:pt x="17479" y="15596"/>
                  <a:pt x="14903" y="18155"/>
                  <a:pt x="12135" y="18155"/>
                </a:cubicBezTo>
                <a:lnTo>
                  <a:pt x="10472" y="18155"/>
                </a:lnTo>
                <a:cubicBezTo>
                  <a:pt x="7705" y="18155"/>
                  <a:pt x="5128" y="15596"/>
                  <a:pt x="5128" y="12828"/>
                </a:cubicBez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nodeType="clickEffect" fill="hold">
                      <p:stCondLst>
                        <p:cond delay="indefinite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nodeType="clickEffect" fill="hold">
                      <p:stCondLst>
                        <p:cond delay="indefinite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nodeType="clickEffect" fill="hold">
                      <p:stCondLst>
                        <p:cond delay="indefinite"/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nodeType="clickEffect" fill="hold">
                      <p:stCondLst>
                        <p:cond delay="indefinite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nodeType="clickEffect" fill="hold">
                      <p:stCondLst>
                        <p:cond delay="indefinite"/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755280" y="-360"/>
            <a:ext cx="7859880" cy="8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3200" spc="-1" strike="noStrike">
                <a:solidFill>
                  <a:srgbClr val="ffff00"/>
                </a:solidFill>
                <a:latin typeface="Arial"/>
              </a:rPr>
              <a:t>МЕХАНИЧЕСКИЕ ЯВЛ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179280" y="765000"/>
            <a:ext cx="878544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Тело, размерами которого можно пренебречь в данных условиях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Изменение взаимного расположения тел с течением времен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Чем обладают тела, способные совершить работу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Движение, при котором не меняется скорост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Какая физическая величина характеризует инертность тел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емя, за которое совершается одно полное колебание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сточник звука, испускающий единственную частоту, так называемый «чистый тон»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Чему равно ускорение свободного падения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Луны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Траектория, описываемая стрелкой час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Движение, при котором не меняется ускорени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Чему равен вес тела массой 50 кг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олебания, частоты которых больше 20 кГц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80" dur="indefinite" restart="never" nodeType="tmRoot">
          <p:childTnLst>
            <p:seq>
              <p:cTn id="581" dur="indefinite" nodeType="mainSeq">
                <p:childTnLst>
                  <p:par>
                    <p:cTn id="582" nodeType="clickEffect" fill="hold">
                      <p:stCondLst>
                        <p:cond delay="indefinite"/>
                      </p:stCondLst>
                      <p:childTnLst>
                        <p:par>
                          <p:cTn id="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nodeType="clickEffect" fill="hold">
                      <p:stCondLst>
                        <p:cond delay="indefinite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nodeType="clickEffect" fill="hold">
                      <p:stCondLst>
                        <p:cond delay="indefinite"/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nodeType="clickEffect" fill="hold">
                      <p:stCondLst>
                        <p:cond delay="indefinite"/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nodeType="clickEffect" fill="hold">
                      <p:stCondLst>
                        <p:cond delay="indefinite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nodeType="clickEffect" fill="hold">
                      <p:stCondLst>
                        <p:cond delay="indefinite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nodeType="clickEffect" fill="hold">
                      <p:stCondLst>
                        <p:cond delay="indefinite"/>
                      </p:stCondLst>
                      <p:childTnLst>
                        <p:par>
                          <p:cTn id="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nodeType="clickEffect" fill="hold">
                      <p:stCondLst>
                        <p:cond delay="indefinite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nodeType="clickEffect" fill="hold">
                      <p:stCondLst>
                        <p:cond delay="indefinite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74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. Физическая величина, характеризующая быстроту выполнения работ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. Какой энергией обладают движущиеся тела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. Дает ли выигрыш в силе неподвижный блок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. Отношение пройденного пути ко времени прохожде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. Сила, препятствующая движению те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. Чему равна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тора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я космическая скорость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9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. Движение, при котором все точки тела движутся одинаково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. Раздел механики, изучающий условия покоя те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. Ученый, сформулировавший три закона классической механик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араметр среды, влияющий на скорость звука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23. Время обращения Земли вокруг Солнца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24. С какой скоростью вращается Земля вокруг своей оси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25. Какой ученый создал геоцентрическую систему мировоззрения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AutoShape 3"/>
          <p:cNvSpPr/>
          <p:nvPr/>
        </p:nvSpPr>
        <p:spPr>
          <a:xfrm>
            <a:off x="8244000" y="6093000"/>
            <a:ext cx="647640" cy="504720"/>
          </a:xfrm>
          <a:custGeom>
            <a:avLst/>
            <a:gdLst>
              <a:gd name="textAreaLeft" fmla="*/ 32400 w 647640"/>
              <a:gd name="textAreaRight" fmla="*/ 615240 w 64764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7712" h="21600">
                <a:moveTo>
                  <a:pt x="0" y="0"/>
                </a:moveTo>
                <a:lnTo>
                  <a:pt x="27712" y="0"/>
                </a:lnTo>
                <a:lnTo>
                  <a:pt x="27712" y="21600"/>
                </a:lnTo>
                <a:lnTo>
                  <a:pt x="0" y="21600"/>
                </a:lnTo>
                <a:close/>
              </a:path>
              <a:path fill="lightenLess" w="27712" h="21600">
                <a:moveTo>
                  <a:pt x="0" y="0"/>
                </a:moveTo>
                <a:lnTo>
                  <a:pt x="27712" y="0"/>
                </a:lnTo>
                <a:lnTo>
                  <a:pt x="26312" y="1400"/>
                </a:lnTo>
                <a:lnTo>
                  <a:pt x="1400" y="1400"/>
                </a:lnTo>
                <a:close/>
              </a:path>
              <a:path fill="darken" w="27712" h="21600">
                <a:moveTo>
                  <a:pt x="27712" y="0"/>
                </a:moveTo>
                <a:lnTo>
                  <a:pt x="27712" y="21600"/>
                </a:lnTo>
                <a:lnTo>
                  <a:pt x="26312" y="20200"/>
                </a:lnTo>
                <a:lnTo>
                  <a:pt x="26312" y="1400"/>
                </a:lnTo>
                <a:close/>
              </a:path>
              <a:path fill="darkenLess" w="27712" h="21600">
                <a:moveTo>
                  <a:pt x="277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12" y="20200"/>
                </a:lnTo>
                <a:close/>
              </a:path>
              <a:path fill="lighten" w="277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12" h="21600">
                <a:moveTo>
                  <a:pt x="6850" y="7493"/>
                </a:moveTo>
                <a:lnTo>
                  <a:pt x="10357" y="7493"/>
                </a:lnTo>
                <a:lnTo>
                  <a:pt x="10357" y="12828"/>
                </a:lnTo>
                <a:cubicBezTo>
                  <a:pt x="10357" y="13751"/>
                  <a:pt x="11158" y="14482"/>
                  <a:pt x="12194" y="14482"/>
                </a:cubicBezTo>
                <a:lnTo>
                  <a:pt x="13856" y="14482"/>
                </a:lnTo>
                <a:cubicBezTo>
                  <a:pt x="14892" y="14482"/>
                  <a:pt x="15693" y="13751"/>
                  <a:pt x="15693" y="12828"/>
                </a:cubicBezTo>
                <a:lnTo>
                  <a:pt x="15693" y="7493"/>
                </a:lnTo>
                <a:lnTo>
                  <a:pt x="13856" y="7493"/>
                </a:lnTo>
                <a:lnTo>
                  <a:pt x="17364" y="3985"/>
                </a:lnTo>
                <a:lnTo>
                  <a:pt x="21037" y="7493"/>
                </a:lnTo>
                <a:lnTo>
                  <a:pt x="19200" y="7493"/>
                </a:lnTo>
                <a:lnTo>
                  <a:pt x="19200" y="12828"/>
                </a:lnTo>
                <a:cubicBezTo>
                  <a:pt x="19200" y="15596"/>
                  <a:pt x="16624" y="18155"/>
                  <a:pt x="13856" y="18155"/>
                </a:cubicBezTo>
                <a:lnTo>
                  <a:pt x="12194" y="18155"/>
                </a:lnTo>
                <a:cubicBezTo>
                  <a:pt x="9426" y="18155"/>
                  <a:pt x="6850" y="15596"/>
                  <a:pt x="6850" y="12828"/>
                </a:cubicBez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30" dur="indefinite" restart="never" nodeType="tmRoot">
          <p:childTnLst>
            <p:seq>
              <p:cTn id="631" dur="indefinite" nodeType="mainSeq">
                <p:childTnLst>
                  <p:par>
                    <p:cTn id="632" nodeType="clickEffect" fill="hold">
                      <p:stCondLst>
                        <p:cond delay="indefinite"/>
                      </p:stCondLst>
                      <p:childTnLst>
                        <p:par>
                          <p:cTn id="6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nodeType="clickEffect" fill="hold">
                      <p:stCondLst>
                        <p:cond delay="indefinite"/>
                      </p:stCondLst>
                      <p:childTnLst>
                        <p:par>
                          <p:cTn id="6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nodeType="clickEffect" fill="hold">
                      <p:stCondLst>
                        <p:cond delay="indefinite"/>
                      </p:stCondLst>
                      <p:childTnLst>
                        <p:par>
                          <p:cTn id="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nodeType="clickEffect" fill="hold">
                      <p:stCondLst>
                        <p:cond delay="indefinite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nodeType="clickEffect" fill="hold">
                      <p:stCondLst>
                        <p:cond delay="indefinite"/>
                      </p:stCondLst>
                      <p:childTnLst>
                        <p:par>
                          <p:cTn id="6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nodeType="clickEffect" fill="hold">
                      <p:stCondLst>
                        <p:cond delay="indefinite"/>
                      </p:stCondLst>
                      <p:childTnLst>
                        <p:par>
                          <p:cTn id="6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nodeType="clickEffect" fill="hold">
                      <p:stCondLst>
                        <p:cond delay="indefinite"/>
                      </p:stCondLst>
                      <p:childTnLst>
                        <p:par>
                          <p:cTn id="6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nodeType="clickEffect" fill="hold">
                      <p:stCondLst>
                        <p:cond delay="indefinite"/>
                      </p:stCondLst>
                      <p:childTnLst>
                        <p:par>
                          <p:cTn id="6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nodeType="clickEffect" fill="hold">
                      <p:stCondLst>
                        <p:cond delay="indefinite"/>
                      </p:stCondLst>
                      <p:childTnLst>
                        <p:par>
                          <p:cTn id="6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nodeType="clickEffect" fill="hold">
                      <p:stCondLst>
                        <p:cond delay="indefinite"/>
                      </p:stCondLst>
                      <p:childTnLst>
                        <p:par>
                          <p:cTn id="6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nodeType="clickEffect" fill="hold">
                      <p:stCondLst>
                        <p:cond delay="indefinite"/>
                      </p:stCondLst>
                      <p:childTnLst>
                        <p:par>
                          <p:cTn id="6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nodeType="clickEffect" fill="hold">
                      <p:stCondLst>
                        <p:cond delay="indefinite"/>
                      </p:stCondLst>
                      <p:childTnLst>
                        <p:par>
                          <p:cTn id="6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nodeType="clickEffect" fill="hold">
                      <p:stCondLst>
                        <p:cond delay="indefinite"/>
                      </p:stCondLst>
                      <p:childTnLst>
                        <p:par>
                          <p:cTn id="6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979640" y="0"/>
            <a:ext cx="590544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ПРИБОР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0" y="449280"/>
            <a:ext cx="91440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ибор для измерения времени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ибор для определения расстояния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ибор, впервые сконструированный Галилеем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ибор для определения плотности жидкости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ибор, изобретенный в 1714 году Фаренгейтом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аким прибором измеряют вес тела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ибор, определяющий расположение частей света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аким прибором измеряют мощность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ибор, преобразующий звуковые колебания в электрические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ибор для измерения атмосферного давления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аким прибором измеряется объем жидкости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ибор, фиксирующий электромагнитные колебания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ибор для обнаружения электрического тока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4" dur="indefinite" restart="never" nodeType="tmRoot">
          <p:childTnLst>
            <p:seq>
              <p:cTn id="685" dur="indefinite" nodeType="mainSeq">
                <p:childTnLst>
                  <p:par>
                    <p:cTn id="686" nodeType="clickEffect" fill="hold">
                      <p:stCondLst>
                        <p:cond delay="indefinite"/>
                      </p:stCondLst>
                      <p:childTnLst>
                        <p:par>
                          <p:cTn id="6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nodeType="clickEffect" fill="hold">
                      <p:stCondLst>
                        <p:cond delay="indefinite"/>
                      </p:stCondLst>
                      <p:childTnLst>
                        <p:par>
                          <p:cTn id="6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nodeType="clickEffect" fill="hold">
                      <p:stCondLst>
                        <p:cond delay="indefinite"/>
                      </p:stCondLst>
                      <p:childTnLst>
                        <p:par>
                          <p:cTn id="6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nodeType="clickEffect" fill="hold">
                      <p:stCondLst>
                        <p:cond delay="indefinite"/>
                      </p:stCondLst>
                      <p:childTnLst>
                        <p:par>
                          <p:cTn id="6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nodeType="clickEffect" fill="hold">
                      <p:stCondLst>
                        <p:cond delay="indefinite"/>
                      </p:stCondLst>
                      <p:childTnLst>
                        <p:par>
                          <p:cTn id="7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nodeType="clickEffect" fill="hold">
                      <p:stCondLst>
                        <p:cond delay="indefinite"/>
                      </p:stCondLst>
                      <p:childTnLst>
                        <p:par>
                          <p:cTn id="7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nodeType="clickEffect" fill="hold">
                      <p:stCondLst>
                        <p:cond delay="indefinite"/>
                      </p:stCondLst>
                      <p:childTnLst>
                        <p:par>
                          <p:cTn id="7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nodeType="clickEffect" fill="hold">
                      <p:stCondLst>
                        <p:cond delay="indefinite"/>
                      </p:stCondLst>
                      <p:childTnLst>
                        <p:par>
                          <p:cTn id="7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nodeType="clickEffect" fill="hold">
                      <p:stCondLst>
                        <p:cond delay="indefinite"/>
                      </p:stCondLst>
                      <p:childTnLst>
                        <p:par>
                          <p:cTn id="7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nodeType="clickEffect" fill="hold">
                      <p:stCondLst>
                        <p:cond delay="indefinite"/>
                      </p:stCondLst>
                      <p:childTnLst>
                        <p:par>
                          <p:cTn id="7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nodeType="clickEffect" fill="hold">
                      <p:stCondLst>
                        <p:cond delay="indefinite"/>
                      </p:stCondLst>
                      <p:childTnLst>
                        <p:par>
                          <p:cTn id="7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nodeType="clickEffect" fill="hold">
                      <p:stCondLst>
                        <p:cond delay="indefinite"/>
                      </p:stCondLst>
                      <p:childTnLst>
                        <p:par>
                          <p:cTn id="7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nodeType="clickEffect" fill="hold">
                      <p:stCondLst>
                        <p:cond delay="indefinite"/>
                      </p:stCondLst>
                      <p:childTnLst>
                        <p:par>
                          <p:cTn id="7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/>
          </p:nvPr>
        </p:nvSpPr>
        <p:spPr>
          <a:xfrm>
            <a:off x="0" y="189000"/>
            <a:ext cx="896472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14. Динамометр, определяющий мускульную силу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15. Прибор, с помощью которого сделал свое открытие Броун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16. Прибор, измеряющий работу электрического тока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17. Прибор для измерения массы тела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18. Прибор, определяющий давление, больше или меньше атмосферного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19. Прибор для определения влажности воздуха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20. Прибор, измеряющий силу тока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21. Прибор для измерения электрического сопротивления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22. Прибор для измерения скорости движения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23. Прибор, изменяющий силу тока в цепи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24. Прибор для измерения напряжения тока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25. Прибор, определяющий степень электризации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AutoShape 4"/>
          <p:cNvSpPr/>
          <p:nvPr/>
        </p:nvSpPr>
        <p:spPr>
          <a:xfrm>
            <a:off x="8172360" y="6165720"/>
            <a:ext cx="792360" cy="505080"/>
          </a:xfrm>
          <a:custGeom>
            <a:avLst/>
            <a:gdLst>
              <a:gd name="textAreaLeft" fmla="*/ 32760 w 792360"/>
              <a:gd name="textAreaRight" fmla="*/ 759960 w 792360"/>
              <a:gd name="textAreaTop" fmla="*/ 32760 h 505080"/>
              <a:gd name="textAreaBottom" fmla="*/ 472680 h 505080"/>
            </a:gdLst>
            <a:ahLst/>
            <a:rect l="textAreaLeft" t="textAreaTop" r="textAreaRight" b="textAreaBottom"/>
            <a:pathLst>
              <a:path w="33877" h="21600">
                <a:moveTo>
                  <a:pt x="0" y="0"/>
                </a:moveTo>
                <a:lnTo>
                  <a:pt x="33877" y="0"/>
                </a:lnTo>
                <a:lnTo>
                  <a:pt x="33877" y="21600"/>
                </a:lnTo>
                <a:lnTo>
                  <a:pt x="0" y="21600"/>
                </a:lnTo>
                <a:close/>
              </a:path>
              <a:path fill="lightenLess" w="33877" h="21600">
                <a:moveTo>
                  <a:pt x="0" y="0"/>
                </a:moveTo>
                <a:lnTo>
                  <a:pt x="33877" y="0"/>
                </a:lnTo>
                <a:lnTo>
                  <a:pt x="32477" y="1400"/>
                </a:lnTo>
                <a:lnTo>
                  <a:pt x="1400" y="1400"/>
                </a:lnTo>
                <a:close/>
              </a:path>
              <a:path fill="darken" w="33877" h="21600">
                <a:moveTo>
                  <a:pt x="33877" y="0"/>
                </a:moveTo>
                <a:lnTo>
                  <a:pt x="33877" y="21600"/>
                </a:lnTo>
                <a:lnTo>
                  <a:pt x="32477" y="20200"/>
                </a:lnTo>
                <a:lnTo>
                  <a:pt x="32477" y="1400"/>
                </a:lnTo>
                <a:close/>
              </a:path>
              <a:path fill="darkenLess" w="33877" h="21600">
                <a:moveTo>
                  <a:pt x="338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477" y="20200"/>
                </a:lnTo>
                <a:close/>
              </a:path>
              <a:path fill="lighten" w="338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877" h="21600">
                <a:moveTo>
                  <a:pt x="9932" y="7493"/>
                </a:moveTo>
                <a:lnTo>
                  <a:pt x="13440" y="7493"/>
                </a:lnTo>
                <a:lnTo>
                  <a:pt x="13440" y="12828"/>
                </a:lnTo>
                <a:cubicBezTo>
                  <a:pt x="13440" y="13751"/>
                  <a:pt x="14240" y="14482"/>
                  <a:pt x="15276" y="14482"/>
                </a:cubicBezTo>
                <a:lnTo>
                  <a:pt x="16938" y="14482"/>
                </a:lnTo>
                <a:cubicBezTo>
                  <a:pt x="17974" y="14482"/>
                  <a:pt x="18775" y="13751"/>
                  <a:pt x="18775" y="12828"/>
                </a:cubicBezTo>
                <a:lnTo>
                  <a:pt x="18775" y="7493"/>
                </a:lnTo>
                <a:lnTo>
                  <a:pt x="16938" y="7493"/>
                </a:lnTo>
                <a:lnTo>
                  <a:pt x="20446" y="3985"/>
                </a:lnTo>
                <a:lnTo>
                  <a:pt x="24119" y="7493"/>
                </a:lnTo>
                <a:lnTo>
                  <a:pt x="22283" y="7493"/>
                </a:lnTo>
                <a:lnTo>
                  <a:pt x="22283" y="12828"/>
                </a:lnTo>
                <a:cubicBezTo>
                  <a:pt x="22283" y="15596"/>
                  <a:pt x="19706" y="18155"/>
                  <a:pt x="16938" y="18155"/>
                </a:cubicBezTo>
                <a:lnTo>
                  <a:pt x="15276" y="18155"/>
                </a:lnTo>
                <a:cubicBezTo>
                  <a:pt x="12508" y="18155"/>
                  <a:pt x="9932" y="15596"/>
                  <a:pt x="9932" y="12828"/>
                </a:cubicBez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8" dur="indefinite" restart="never" nodeType="tmRoot">
          <p:childTnLst>
            <p:seq>
              <p:cTn id="739" dur="indefinite" nodeType="mainSeq">
                <p:childTnLst>
                  <p:par>
                    <p:cTn id="740" nodeType="clickEffect" fill="hold">
                      <p:stCondLst>
                        <p:cond delay="indefinite"/>
                      </p:stCondLst>
                      <p:childTnLst>
                        <p:par>
                          <p:cTn id="7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nodeType="clickEffect" fill="hold">
                      <p:stCondLst>
                        <p:cond delay="indefinite"/>
                      </p:stCondLst>
                      <p:childTnLst>
                        <p:par>
                          <p:cTn id="7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nodeType="clickEffect" fill="hold">
                      <p:stCondLst>
                        <p:cond delay="indefinite"/>
                      </p:stCondLst>
                      <p:childTnLst>
                        <p:par>
                          <p:cTn id="7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nodeType="clickEffect" fill="hold">
                      <p:stCondLst>
                        <p:cond delay="indefinite"/>
                      </p:stCondLst>
                      <p:childTnLst>
                        <p:par>
                          <p:cTn id="7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nodeType="clickEffect" fill="hold">
                      <p:stCondLst>
                        <p:cond delay="indefinite"/>
                      </p:stCondLst>
                      <p:childTnLst>
                        <p:par>
                          <p:cTn id="7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nodeType="clickEffect" fill="hold">
                      <p:stCondLst>
                        <p:cond delay="indefinite"/>
                      </p:stCondLst>
                      <p:childTnLst>
                        <p:par>
                          <p:cTn id="7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nodeType="clickEffect" fill="hold">
                      <p:stCondLst>
                        <p:cond delay="indefinite"/>
                      </p:stCondLst>
                      <p:childTnLst>
                        <p:par>
                          <p:cTn id="7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nodeType="clickEffect" fill="hold">
                      <p:stCondLst>
                        <p:cond delay="indefinite"/>
                      </p:stCondLst>
                      <p:childTnLst>
                        <p:par>
                          <p:cTn id="7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nodeType="clickEffect" fill="hold">
                      <p:stCondLst>
                        <p:cond delay="indefinite"/>
                      </p:stCondLst>
                      <p:childTnLst>
                        <p:par>
                          <p:cTn id="7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nodeType="clickEffect" fill="hold">
                      <p:stCondLst>
                        <p:cond delay="indefinite"/>
                      </p:stCondLst>
                      <p:childTnLst>
                        <p:par>
                          <p:cTn id="7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nodeType="clickEffect" fill="hold">
                      <p:stCondLst>
                        <p:cond delay="indefinite"/>
                      </p:stCondLst>
                      <p:childTnLst>
                        <p:par>
                          <p:cTn id="7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nodeType="clickEffect" fill="hold">
                      <p:stCondLst>
                        <p:cond delay="indefinite"/>
                      </p:stCondLst>
                      <p:childTnLst>
                        <p:par>
                          <p:cTn id="7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002440" cy="70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КОСМО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0" y="836640"/>
            <a:ext cx="914400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529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Польский ученый, который создал теорию о вращении Земли и заложил основы современной астрономии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9920" indent="-52992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Ученый, внесший большой вклад в научную и техническую разработку космических полетов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9920" indent="-52992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акими часами следует измерять время в условиях невесомости: маятниковыми, пружинными или песочными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9920" indent="-52992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ого называют отцом космонавтики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9920" indent="-52992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аково примерно расстояние от Земли до Солнца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9920" indent="-52992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ак называется наша Галактика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9920" indent="-52992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Ученый, впервые спроектировавший ракету для межпланетных сообщений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9920" indent="-52992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акая звезда: желтая или белая имеет большую температуру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9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9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99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29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8" dur="indefinite" restart="never" nodeType="tmRoot">
          <p:childTnLst>
            <p:seq>
              <p:cTn id="789" dur="indefinite" nodeType="mainSeq">
                <p:childTnLst>
                  <p:par>
                    <p:cTn id="790" nodeType="clickEffect" fill="hold">
                      <p:stCondLst>
                        <p:cond delay="indefinite"/>
                      </p:stCondLst>
                      <p:childTnLst>
                        <p:par>
                          <p:cTn id="7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nodeType="clickEffect" fill="hold">
                      <p:stCondLst>
                        <p:cond delay="indefinite"/>
                      </p:stCondLst>
                      <p:childTnLst>
                        <p:par>
                          <p:cTn id="7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nodeType="clickEffect" fill="hold">
                      <p:stCondLst>
                        <p:cond delay="indefinite"/>
                      </p:stCondLst>
                      <p:childTnLst>
                        <p:par>
                          <p:cTn id="7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nodeType="clickEffect" fill="hold">
                      <p:stCondLst>
                        <p:cond delay="indefinite"/>
                      </p:stCondLst>
                      <p:childTnLst>
                        <p:par>
                          <p:cTn id="8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nodeType="clickEffect" fill="hold">
                      <p:stCondLst>
                        <p:cond delay="indefinite"/>
                      </p:stCondLst>
                      <p:childTnLst>
                        <p:par>
                          <p:cTn id="8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nodeType="clickEffect" fill="hold">
                      <p:stCondLst>
                        <p:cond delay="indefinite"/>
                      </p:stCondLst>
                      <p:childTnLst>
                        <p:par>
                          <p:cTn id="8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nodeType="clickEffect" fill="hold">
                      <p:stCondLst>
                        <p:cond delay="indefinite"/>
                      </p:stCondLst>
                      <p:childTnLst>
                        <p:par>
                          <p:cTn id="8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nodeType="clickEffect" fill="hold">
                      <p:stCondLst>
                        <p:cond delay="indefinite"/>
                      </p:stCondLst>
                      <p:childTnLst>
                        <p:par>
                          <p:cTn id="8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797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Циолковский Константин Эдуардови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Picture 4" descr="726923806"/>
          <p:cNvPicPr/>
          <p:nvPr/>
        </p:nvPicPr>
        <p:blipFill>
          <a:blip r:embed="rId1"/>
          <a:stretch/>
        </p:blipFill>
        <p:spPr>
          <a:xfrm>
            <a:off x="3851280" y="1844640"/>
            <a:ext cx="4608360" cy="368604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5" descr="ziol"/>
          <p:cNvPicPr/>
          <p:nvPr/>
        </p:nvPicPr>
        <p:blipFill>
          <a:blip r:embed="rId2"/>
          <a:stretch/>
        </p:blipFill>
        <p:spPr>
          <a:xfrm>
            <a:off x="250920" y="1773360"/>
            <a:ext cx="3249360" cy="367164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6" descr="земля"/>
          <p:cNvPicPr/>
          <p:nvPr/>
        </p:nvPicPr>
        <p:blipFill>
          <a:blip r:embed="rId3"/>
          <a:stretch/>
        </p:blipFill>
        <p:spPr>
          <a:xfrm>
            <a:off x="7667640" y="0"/>
            <a:ext cx="1476360" cy="11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9. Чудо – птица, алый хвост, полетела  в стаю звезд. Что это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10. Кому из летчиков - космонавтов принадлежит фраза «Поехали!»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11. Самая большая планета Сс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12. Что легче: улететь с Земли на Луну или с Луны на Землю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13. Планета Сс, названная в честь богини любви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14. Действует ли сила тяжести в состоянии невесомости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15. Можно ли сварить вкрутую яйцо на Марсе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16. Кто первым ступил на поверхность Луны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17. Ученый, открывший 4 спутника Юпитера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18. Способ общения между космонавтами во время полета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19. Красная планета Сс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20. Каков примерно радиус Земли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21. Группа звезд на небе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22. Самый распространенный газ во Вселенной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23. Одно из малых тел Сс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24. Линия, разделяющая светлую и темную стороны Луны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25. Какой буквой названа самая яркая звезда созвездия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AutoShape 4"/>
          <p:cNvSpPr/>
          <p:nvPr/>
        </p:nvSpPr>
        <p:spPr>
          <a:xfrm>
            <a:off x="8172360" y="6165720"/>
            <a:ext cx="792360" cy="505080"/>
          </a:xfrm>
          <a:custGeom>
            <a:avLst/>
            <a:gdLst>
              <a:gd name="textAreaLeft" fmla="*/ 32760 w 792360"/>
              <a:gd name="textAreaRight" fmla="*/ 759960 w 792360"/>
              <a:gd name="textAreaTop" fmla="*/ 32760 h 505080"/>
              <a:gd name="textAreaBottom" fmla="*/ 472680 h 505080"/>
            </a:gdLst>
            <a:ahLst/>
            <a:rect l="textAreaLeft" t="textAreaTop" r="textAreaRight" b="textAreaBottom"/>
            <a:pathLst>
              <a:path w="33877" h="21600">
                <a:moveTo>
                  <a:pt x="0" y="0"/>
                </a:moveTo>
                <a:lnTo>
                  <a:pt x="33877" y="0"/>
                </a:lnTo>
                <a:lnTo>
                  <a:pt x="33877" y="21600"/>
                </a:lnTo>
                <a:lnTo>
                  <a:pt x="0" y="21600"/>
                </a:lnTo>
                <a:close/>
              </a:path>
              <a:path fill="lightenLess" w="33877" h="21600">
                <a:moveTo>
                  <a:pt x="0" y="0"/>
                </a:moveTo>
                <a:lnTo>
                  <a:pt x="33877" y="0"/>
                </a:lnTo>
                <a:lnTo>
                  <a:pt x="32477" y="1400"/>
                </a:lnTo>
                <a:lnTo>
                  <a:pt x="1400" y="1400"/>
                </a:lnTo>
                <a:close/>
              </a:path>
              <a:path fill="darken" w="33877" h="21600">
                <a:moveTo>
                  <a:pt x="33877" y="0"/>
                </a:moveTo>
                <a:lnTo>
                  <a:pt x="33877" y="21600"/>
                </a:lnTo>
                <a:lnTo>
                  <a:pt x="32477" y="20200"/>
                </a:lnTo>
                <a:lnTo>
                  <a:pt x="32477" y="1400"/>
                </a:lnTo>
                <a:close/>
              </a:path>
              <a:path fill="darkenLess" w="33877" h="21600">
                <a:moveTo>
                  <a:pt x="338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477" y="20200"/>
                </a:lnTo>
                <a:close/>
              </a:path>
              <a:path fill="lighten" w="338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877" h="21600">
                <a:moveTo>
                  <a:pt x="9932" y="7493"/>
                </a:moveTo>
                <a:lnTo>
                  <a:pt x="13440" y="7493"/>
                </a:lnTo>
                <a:lnTo>
                  <a:pt x="13440" y="12828"/>
                </a:lnTo>
                <a:cubicBezTo>
                  <a:pt x="13440" y="13751"/>
                  <a:pt x="14240" y="14482"/>
                  <a:pt x="15276" y="14482"/>
                </a:cubicBezTo>
                <a:lnTo>
                  <a:pt x="16938" y="14482"/>
                </a:lnTo>
                <a:cubicBezTo>
                  <a:pt x="17974" y="14482"/>
                  <a:pt x="18775" y="13751"/>
                  <a:pt x="18775" y="12828"/>
                </a:cubicBezTo>
                <a:lnTo>
                  <a:pt x="18775" y="7493"/>
                </a:lnTo>
                <a:lnTo>
                  <a:pt x="16938" y="7493"/>
                </a:lnTo>
                <a:lnTo>
                  <a:pt x="20446" y="3985"/>
                </a:lnTo>
                <a:lnTo>
                  <a:pt x="24119" y="7493"/>
                </a:lnTo>
                <a:lnTo>
                  <a:pt x="22283" y="7493"/>
                </a:lnTo>
                <a:lnTo>
                  <a:pt x="22283" y="12828"/>
                </a:lnTo>
                <a:cubicBezTo>
                  <a:pt x="22283" y="15596"/>
                  <a:pt x="19706" y="18155"/>
                  <a:pt x="16938" y="18155"/>
                </a:cubicBezTo>
                <a:lnTo>
                  <a:pt x="15276" y="18155"/>
                </a:lnTo>
                <a:cubicBezTo>
                  <a:pt x="12508" y="18155"/>
                  <a:pt x="9932" y="15596"/>
                  <a:pt x="9932" y="12828"/>
                </a:cubicBez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2" dur="indefinite" restart="never" nodeType="tmRoot">
          <p:childTnLst>
            <p:seq>
              <p:cTn id="823" dur="indefinite" nodeType="mainSeq">
                <p:childTnLst>
                  <p:par>
                    <p:cTn id="824" nodeType="clickEffect" fill="hold">
                      <p:stCondLst>
                        <p:cond delay="indefinite"/>
                      </p:stCondLst>
                      <p:childTnLst>
                        <p:par>
                          <p:cTn id="8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nodeType="clickEffect" fill="hold">
                      <p:stCondLst>
                        <p:cond delay="indefinite"/>
                      </p:stCondLst>
                      <p:childTnLst>
                        <p:par>
                          <p:cTn id="8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nodeType="clickEffect" fill="hold">
                      <p:stCondLst>
                        <p:cond delay="indefinite"/>
                      </p:stCondLst>
                      <p:childTnLst>
                        <p:par>
                          <p:cTn id="8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nodeType="clickEffect" fill="hold">
                      <p:stCondLst>
                        <p:cond delay="indefinite"/>
                      </p:stCondLst>
                      <p:childTnLst>
                        <p:par>
                          <p:cTn id="8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nodeType="clickEffect" fill="hold">
                      <p:stCondLst>
                        <p:cond delay="indefinite"/>
                      </p:stCondLst>
                      <p:childTnLst>
                        <p:par>
                          <p:cTn id="8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nodeType="clickEffect" fill="hold">
                      <p:stCondLst>
                        <p:cond delay="indefinite"/>
                      </p:stCondLst>
                      <p:childTnLst>
                        <p:par>
                          <p:cTn id="8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nodeType="clickEffect" fill="hold">
                      <p:stCondLst>
                        <p:cond delay="indefinite"/>
                      </p:stCondLst>
                      <p:childTnLst>
                        <p:par>
                          <p:cTn id="8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nodeType="clickEffect" fill="hold">
                      <p:stCondLst>
                        <p:cond delay="indefinite"/>
                      </p:stCondLst>
                      <p:childTnLst>
                        <p:par>
                          <p:cTn id="8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nodeType="clickEffect" fill="hold">
                      <p:stCondLst>
                        <p:cond delay="indefinite"/>
                      </p:stCondLst>
                      <p:childTnLst>
                        <p:par>
                          <p:cTn id="8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nodeType="clickEffect" fill="hold">
                      <p:stCondLst>
                        <p:cond delay="indefinite"/>
                      </p:stCondLst>
                      <p:childTnLst>
                        <p:par>
                          <p:cTn id="8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nodeType="clickEffect" fill="hold">
                      <p:stCondLst>
                        <p:cond delay="indefinite"/>
                      </p:stCondLst>
                      <p:childTnLst>
                        <p:par>
                          <p:cTn id="8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nodeType="clickEffect" fill="hold">
                      <p:stCondLst>
                        <p:cond delay="indefinite"/>
                      </p:stCondLst>
                      <p:childTnLst>
                        <p:par>
                          <p:cTn id="8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nodeType="clickEffect" fill="hold">
                      <p:stCondLst>
                        <p:cond delay="indefinite"/>
                      </p:stCondLst>
                      <p:childTnLst>
                        <p:par>
                          <p:cTn id="8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nodeType="clickEffect" fill="hold">
                      <p:stCondLst>
                        <p:cond delay="indefinite"/>
                      </p:stCondLst>
                      <p:childTnLst>
                        <p:par>
                          <p:cTn id="8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nodeType="clickEffect" fill="hold">
                      <p:stCondLst>
                        <p:cond delay="indefinite"/>
                      </p:stCondLst>
                      <p:childTnLst>
                        <p:par>
                          <p:cTn id="8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nodeType="clickEffect" fill="hold">
                      <p:stCondLst>
                        <p:cond delay="indefinite"/>
                      </p:stCondLst>
                      <p:childTnLst>
                        <p:par>
                          <p:cTn id="8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nodeType="clickEffect" fill="hold">
                      <p:stCondLst>
                        <p:cond delay="indefinite"/>
                      </p:stCondLst>
                      <p:childTnLst>
                        <p:par>
                          <p:cTn id="8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56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ffff"/>
                </a:solidFill>
                <a:uFillTx/>
                <a:latin typeface="Arial"/>
              </a:rPr>
              <a:t>Дополнительное задание</a:t>
            </a:r>
            <a:r>
              <a:rPr b="1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ru-RU" sz="4000" spc="-1" strike="noStrike" u="sng">
                <a:solidFill>
                  <a:srgbClr val="ffffff"/>
                </a:solidFill>
                <a:uFillTx/>
                <a:latin typeface="Arial"/>
              </a:rPr>
              <a:t>2 ту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179280" y="1268280"/>
            <a:ext cx="85075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Какое количество теплоты отдает стакан кипятка (250 см³), остывая до температуры 14°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?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Решение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m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1-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2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1" lang="el-GR" sz="3600" spc="-1" strike="noStrike">
                <a:solidFill>
                  <a:srgbClr val="ffffff"/>
                </a:solidFill>
                <a:latin typeface="Arial"/>
              </a:rPr>
              <a:t>ρ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=1000кг/м³·0,00025м³=025к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=0,25кг·4200Дж/(кгº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)·(100º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- 14º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)== 90300 Дж = 90,3 кД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2" dur="indefinite" restart="never" nodeType="tmRoot">
          <p:childTnLst>
            <p:seq>
              <p:cTn id="893" dur="indefinite" nodeType="mainSeq">
                <p:childTnLst>
                  <p:par>
                    <p:cTn id="894" nodeType="clickEffect" fill="hold">
                      <p:stCondLst>
                        <p:cond delay="0"/>
                      </p:stCondLst>
                      <p:childTnLst>
                        <p:par>
                          <p:cTn id="8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nodeType="clickEffect" fill="hold">
                      <p:stCondLst>
                        <p:cond delay="indefinite"/>
                      </p:stCondLst>
                      <p:childTnLst>
                        <p:par>
                          <p:cTn id="8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nodeType="clickEffect" fill="hold">
                      <p:stCondLst>
                        <p:cond delay="indefinite"/>
                      </p:stCondLst>
                      <p:childTnLst>
                        <p:par>
                          <p:cTn id="9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nodeType="clickEffect" fill="hold">
                      <p:stCondLst>
                        <p:cond delay="indefinite"/>
                      </p:stCondLst>
                      <p:childTnLst>
                        <p:par>
                          <p:cTn id="9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nodeType="clickEffect" fill="hold">
                      <p:stCondLst>
                        <p:cond delay="indefinite"/>
                      </p:stCondLst>
                      <p:childTnLst>
                        <p:par>
                          <p:cTn id="9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nodeType="clickEffect" fill="hold">
                      <p:stCondLst>
                        <p:cond delay="indefinite"/>
                      </p:stCondLst>
                      <p:childTnLst>
                        <p:par>
                          <p:cTn id="9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4" name="Group 2"/>
          <p:cNvGrpSpPr/>
          <p:nvPr/>
        </p:nvGrpSpPr>
        <p:grpSpPr>
          <a:xfrm>
            <a:off x="468360" y="981000"/>
            <a:ext cx="8229240" cy="4530600"/>
            <a:chOff x="468360" y="981000"/>
            <a:chExt cx="8229240" cy="4530600"/>
          </a:xfrm>
        </p:grpSpPr>
        <p:sp>
          <p:nvSpPr>
            <p:cNvPr id="535" name="Rectangle 3"/>
            <p:cNvSpPr/>
            <p:nvPr/>
          </p:nvSpPr>
          <p:spPr>
            <a:xfrm>
              <a:off x="5953680" y="3245760"/>
              <a:ext cx="2742480" cy="226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en-GB" sz="4000" spc="-1" strike="noStrike">
                  <a:solidFill>
                    <a:srgbClr val="ffff00"/>
                  </a:solidFill>
                  <a:latin typeface="Arial"/>
                </a:rPr>
                <a:t>ОПЫТ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0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en-GB" sz="4000" spc="-1" strike="noStrike">
                  <a:solidFill>
                    <a:srgbClr val="ffff00"/>
                  </a:solidFill>
                  <a:latin typeface="Arial"/>
                </a:rPr>
                <a:t> № </a:t>
              </a:r>
              <a:r>
                <a:rPr b="1" i="1" lang="en-GB" sz="4000" spc="-1" strike="noStrike">
                  <a:solidFill>
                    <a:srgbClr val="ffff00"/>
                  </a:solidFill>
                  <a:latin typeface="Arial"/>
                </a:rPr>
                <a:t>6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0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Rectangle 4"/>
            <p:cNvSpPr/>
            <p:nvPr/>
          </p:nvSpPr>
          <p:spPr>
            <a:xfrm>
              <a:off x="3210840" y="3245760"/>
              <a:ext cx="2742480" cy="226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en-GB" sz="4000" spc="-1" strike="noStrike">
                  <a:solidFill>
                    <a:srgbClr val="ffff00"/>
                  </a:solidFill>
                  <a:latin typeface="Arial"/>
                </a:rPr>
                <a:t>ОПЫТ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0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en-GB" sz="4000" spc="-1" strike="noStrike">
                  <a:solidFill>
                    <a:srgbClr val="ffff00"/>
                  </a:solidFill>
                  <a:latin typeface="Arial"/>
                </a:rPr>
                <a:t>№ </a:t>
              </a:r>
              <a:r>
                <a:rPr b="1" i="1" lang="en-GB" sz="4000" spc="-1" strike="noStrike">
                  <a:solidFill>
                    <a:srgbClr val="ffff00"/>
                  </a:solidFill>
                  <a:latin typeface="Arial"/>
                </a:rPr>
                <a:t>5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0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Rectangle 5"/>
            <p:cNvSpPr/>
            <p:nvPr/>
          </p:nvSpPr>
          <p:spPr>
            <a:xfrm>
              <a:off x="468360" y="3245760"/>
              <a:ext cx="2742480" cy="226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en-GB" sz="4000" spc="-1" strike="noStrike">
                  <a:solidFill>
                    <a:srgbClr val="ffff00"/>
                  </a:solidFill>
                  <a:latin typeface="Arial"/>
                </a:rPr>
                <a:t>ОПЫТ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0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en-GB" sz="4000" spc="-1" strike="noStrike">
                  <a:solidFill>
                    <a:srgbClr val="ffff00"/>
                  </a:solidFill>
                  <a:latin typeface="Arial"/>
                </a:rPr>
                <a:t>№ </a:t>
              </a:r>
              <a:r>
                <a:rPr b="1" i="1" lang="en-GB" sz="4000" spc="-1" strike="noStrike">
                  <a:solidFill>
                    <a:srgbClr val="ffff00"/>
                  </a:solidFill>
                  <a:latin typeface="Arial"/>
                </a:rPr>
                <a:t>4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Rectangle 6"/>
            <p:cNvSpPr/>
            <p:nvPr/>
          </p:nvSpPr>
          <p:spPr>
            <a:xfrm>
              <a:off x="5953680" y="981000"/>
              <a:ext cx="2742480" cy="226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en-GB" sz="4000" spc="-1" strike="noStrike">
                  <a:solidFill>
                    <a:srgbClr val="ffff00"/>
                  </a:solidFill>
                  <a:latin typeface="Arial"/>
                </a:rPr>
                <a:t>ОПЫТ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0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en-GB" sz="4000" spc="-1" strike="noStrike">
                  <a:solidFill>
                    <a:srgbClr val="ffff00"/>
                  </a:solidFill>
                  <a:latin typeface="Arial"/>
                </a:rPr>
                <a:t> № </a:t>
              </a:r>
              <a:r>
                <a:rPr b="1" i="1" lang="en-GB" sz="4000" spc="-1" strike="noStrike">
                  <a:solidFill>
                    <a:srgbClr val="ffff00"/>
                  </a:solidFill>
                  <a:latin typeface="Arial"/>
                </a:rPr>
                <a:t>3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0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Rectangle 7"/>
            <p:cNvSpPr/>
            <p:nvPr/>
          </p:nvSpPr>
          <p:spPr>
            <a:xfrm>
              <a:off x="3210840" y="981000"/>
              <a:ext cx="2742480" cy="226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en-GB" sz="4000" spc="-1" strike="noStrike">
                  <a:solidFill>
                    <a:srgbClr val="ffff00"/>
                  </a:solidFill>
                  <a:latin typeface="Arial"/>
                </a:rPr>
                <a:t>ОПЫТ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0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en-GB" sz="4000" spc="-1" strike="noStrike">
                  <a:solidFill>
                    <a:srgbClr val="ffff00"/>
                  </a:solidFill>
                  <a:latin typeface="Arial"/>
                </a:rPr>
                <a:t> № </a:t>
              </a:r>
              <a:r>
                <a:rPr b="1" i="1" lang="en-GB" sz="4000" spc="-1" strike="noStrike">
                  <a:solidFill>
                    <a:srgbClr val="ffff00"/>
                  </a:solidFill>
                  <a:latin typeface="Arial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0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Rectangle 8"/>
            <p:cNvSpPr/>
            <p:nvPr/>
          </p:nvSpPr>
          <p:spPr>
            <a:xfrm>
              <a:off x="468360" y="981000"/>
              <a:ext cx="2742480" cy="226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en-GB" sz="4000" spc="-1" strike="noStrike">
                  <a:solidFill>
                    <a:srgbClr val="ffff00"/>
                  </a:solidFill>
                  <a:latin typeface="Arial"/>
                </a:rPr>
                <a:t>ОПЫТ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0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en-GB" sz="4000" spc="-1" strike="noStrike">
                  <a:solidFill>
                    <a:srgbClr val="ffff00"/>
                  </a:solidFill>
                  <a:latin typeface="Arial"/>
                </a:rPr>
                <a:t>№ </a:t>
              </a:r>
              <a:r>
                <a:rPr b="1" i="1" lang="en-GB" sz="4000" spc="-1" strike="noStrike">
                  <a:solidFill>
                    <a:srgbClr val="ffff00"/>
                  </a:solidFill>
                  <a:latin typeface="Arial"/>
                </a:rPr>
                <a:t>1</a:t>
              </a:r>
              <a:r>
                <a:rPr b="1" i="1" lang="ru-RU" sz="4000" spc="-1" strike="noStrike">
                  <a:solidFill>
                    <a:srgbClr val="ffff00"/>
                  </a:solidFill>
                  <a:latin typeface="Arial"/>
                </a:rPr>
                <a:t>   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0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ru-RU" sz="40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Line 9"/>
            <p:cNvSpPr/>
            <p:nvPr/>
          </p:nvSpPr>
          <p:spPr>
            <a:xfrm>
              <a:off x="468360" y="981000"/>
              <a:ext cx="8228160" cy="1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Line 10"/>
            <p:cNvSpPr/>
            <p:nvPr/>
          </p:nvSpPr>
          <p:spPr>
            <a:xfrm>
              <a:off x="468360" y="3245760"/>
              <a:ext cx="8228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Line 11"/>
            <p:cNvSpPr/>
            <p:nvPr/>
          </p:nvSpPr>
          <p:spPr>
            <a:xfrm>
              <a:off x="468360" y="5510520"/>
              <a:ext cx="8228160" cy="10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Line 12"/>
            <p:cNvSpPr/>
            <p:nvPr/>
          </p:nvSpPr>
          <p:spPr>
            <a:xfrm>
              <a:off x="468360" y="981000"/>
              <a:ext cx="1080" cy="45295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Line 13"/>
            <p:cNvSpPr/>
            <p:nvPr/>
          </p:nvSpPr>
          <p:spPr>
            <a:xfrm>
              <a:off x="3210840" y="981000"/>
              <a:ext cx="1080" cy="4529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Line 14"/>
            <p:cNvSpPr/>
            <p:nvPr/>
          </p:nvSpPr>
          <p:spPr>
            <a:xfrm>
              <a:off x="5953680" y="981000"/>
              <a:ext cx="1080" cy="4529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Line 15"/>
            <p:cNvSpPr/>
            <p:nvPr/>
          </p:nvSpPr>
          <p:spPr>
            <a:xfrm>
              <a:off x="8696520" y="981000"/>
              <a:ext cx="1080" cy="45295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8" name="AutoShape 16"/>
          <p:cNvSpPr/>
          <p:nvPr/>
        </p:nvSpPr>
        <p:spPr>
          <a:xfrm>
            <a:off x="7956720" y="4869000"/>
            <a:ext cx="504720" cy="288720"/>
          </a:xfrm>
          <a:custGeom>
            <a:avLst/>
            <a:gdLst>
              <a:gd name="textAreaLeft" fmla="*/ 18720 w 504720"/>
              <a:gd name="textAreaRight" fmla="*/ 486000 w 50472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37739" h="21600">
                <a:moveTo>
                  <a:pt x="0" y="0"/>
                </a:moveTo>
                <a:lnTo>
                  <a:pt x="37739" y="0"/>
                </a:lnTo>
                <a:lnTo>
                  <a:pt x="37739" y="21600"/>
                </a:lnTo>
                <a:lnTo>
                  <a:pt x="0" y="21600"/>
                </a:lnTo>
                <a:close/>
              </a:path>
              <a:path fill="lightenLess" w="37739" h="21600">
                <a:moveTo>
                  <a:pt x="0" y="0"/>
                </a:moveTo>
                <a:lnTo>
                  <a:pt x="37739" y="0"/>
                </a:lnTo>
                <a:lnTo>
                  <a:pt x="36340" y="1400"/>
                </a:lnTo>
                <a:lnTo>
                  <a:pt x="1400" y="1400"/>
                </a:lnTo>
                <a:close/>
              </a:path>
              <a:path fill="darken" w="37739" h="21600">
                <a:moveTo>
                  <a:pt x="37739" y="0"/>
                </a:moveTo>
                <a:lnTo>
                  <a:pt x="37739" y="21600"/>
                </a:lnTo>
                <a:lnTo>
                  <a:pt x="36340" y="20200"/>
                </a:lnTo>
                <a:lnTo>
                  <a:pt x="36340" y="1400"/>
                </a:lnTo>
                <a:close/>
              </a:path>
              <a:path fill="darkenLess" w="37739" h="21600">
                <a:moveTo>
                  <a:pt x="377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40" y="20200"/>
                </a:lnTo>
                <a:close/>
              </a:path>
              <a:path fill="lighten" w="377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AutoShape 17"/>
          <p:cNvSpPr/>
          <p:nvPr/>
        </p:nvSpPr>
        <p:spPr>
          <a:xfrm>
            <a:off x="5219640" y="4941720"/>
            <a:ext cx="504720" cy="289080"/>
          </a:xfrm>
          <a:custGeom>
            <a:avLst/>
            <a:gdLst>
              <a:gd name="textAreaLeft" fmla="*/ 18720 w 504720"/>
              <a:gd name="textAreaRight" fmla="*/ 486000 w 50472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37693" h="21600">
                <a:moveTo>
                  <a:pt x="0" y="0"/>
                </a:moveTo>
                <a:lnTo>
                  <a:pt x="37693" y="0"/>
                </a:lnTo>
                <a:lnTo>
                  <a:pt x="37693" y="21600"/>
                </a:lnTo>
                <a:lnTo>
                  <a:pt x="0" y="21600"/>
                </a:lnTo>
                <a:close/>
              </a:path>
              <a:path fill="lightenLess" w="37693" h="21600">
                <a:moveTo>
                  <a:pt x="0" y="0"/>
                </a:moveTo>
                <a:lnTo>
                  <a:pt x="37693" y="0"/>
                </a:lnTo>
                <a:lnTo>
                  <a:pt x="36293" y="1400"/>
                </a:lnTo>
                <a:lnTo>
                  <a:pt x="1400" y="1400"/>
                </a:lnTo>
                <a:close/>
              </a:path>
              <a:path fill="darken" w="37693" h="21600">
                <a:moveTo>
                  <a:pt x="37693" y="0"/>
                </a:moveTo>
                <a:lnTo>
                  <a:pt x="37693" y="21600"/>
                </a:lnTo>
                <a:lnTo>
                  <a:pt x="36293" y="20200"/>
                </a:lnTo>
                <a:lnTo>
                  <a:pt x="36293" y="1400"/>
                </a:lnTo>
                <a:close/>
              </a:path>
              <a:path fill="darkenLess" w="37693" h="21600">
                <a:moveTo>
                  <a:pt x="376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293" y="20200"/>
                </a:lnTo>
                <a:close/>
              </a:path>
              <a:path fill="lighten" w="376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AutoShape 18"/>
          <p:cNvSpPr/>
          <p:nvPr/>
        </p:nvSpPr>
        <p:spPr>
          <a:xfrm>
            <a:off x="2411280" y="4941720"/>
            <a:ext cx="505080" cy="289080"/>
          </a:xfrm>
          <a:custGeom>
            <a:avLst/>
            <a:gdLst>
              <a:gd name="textAreaLeft" fmla="*/ 18720 w 505080"/>
              <a:gd name="textAreaRight" fmla="*/ 486360 w 50508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37719" h="21600">
                <a:moveTo>
                  <a:pt x="0" y="0"/>
                </a:moveTo>
                <a:lnTo>
                  <a:pt x="37719" y="0"/>
                </a:lnTo>
                <a:lnTo>
                  <a:pt x="37719" y="21600"/>
                </a:lnTo>
                <a:lnTo>
                  <a:pt x="0" y="21600"/>
                </a:lnTo>
                <a:close/>
              </a:path>
              <a:path fill="lightenLess" w="37719" h="21600">
                <a:moveTo>
                  <a:pt x="0" y="0"/>
                </a:moveTo>
                <a:lnTo>
                  <a:pt x="37719" y="0"/>
                </a:lnTo>
                <a:lnTo>
                  <a:pt x="36319" y="1400"/>
                </a:lnTo>
                <a:lnTo>
                  <a:pt x="1400" y="1400"/>
                </a:lnTo>
                <a:close/>
              </a:path>
              <a:path fill="darken" w="37719" h="21600">
                <a:moveTo>
                  <a:pt x="37719" y="0"/>
                </a:moveTo>
                <a:lnTo>
                  <a:pt x="37719" y="21600"/>
                </a:lnTo>
                <a:lnTo>
                  <a:pt x="36319" y="20200"/>
                </a:lnTo>
                <a:lnTo>
                  <a:pt x="36319" y="1400"/>
                </a:lnTo>
                <a:close/>
              </a:path>
              <a:path fill="darkenLess" w="37719" h="21600">
                <a:moveTo>
                  <a:pt x="37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19" y="20200"/>
                </a:lnTo>
                <a:close/>
              </a:path>
              <a:path fill="lighten" w="37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AutoShape 19"/>
          <p:cNvSpPr/>
          <p:nvPr/>
        </p:nvSpPr>
        <p:spPr>
          <a:xfrm>
            <a:off x="7812000" y="2708280"/>
            <a:ext cx="505080" cy="289080"/>
          </a:xfrm>
          <a:custGeom>
            <a:avLst/>
            <a:gdLst>
              <a:gd name="textAreaLeft" fmla="*/ 18720 w 505080"/>
              <a:gd name="textAreaRight" fmla="*/ 486360 w 50508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37719" h="21600">
                <a:moveTo>
                  <a:pt x="0" y="0"/>
                </a:moveTo>
                <a:lnTo>
                  <a:pt x="37719" y="0"/>
                </a:lnTo>
                <a:lnTo>
                  <a:pt x="37719" y="21600"/>
                </a:lnTo>
                <a:lnTo>
                  <a:pt x="0" y="21600"/>
                </a:lnTo>
                <a:close/>
              </a:path>
              <a:path fill="lightenLess" w="37719" h="21600">
                <a:moveTo>
                  <a:pt x="0" y="0"/>
                </a:moveTo>
                <a:lnTo>
                  <a:pt x="37719" y="0"/>
                </a:lnTo>
                <a:lnTo>
                  <a:pt x="36319" y="1400"/>
                </a:lnTo>
                <a:lnTo>
                  <a:pt x="1400" y="1400"/>
                </a:lnTo>
                <a:close/>
              </a:path>
              <a:path fill="darken" w="37719" h="21600">
                <a:moveTo>
                  <a:pt x="37719" y="0"/>
                </a:moveTo>
                <a:lnTo>
                  <a:pt x="37719" y="21600"/>
                </a:lnTo>
                <a:lnTo>
                  <a:pt x="36319" y="20200"/>
                </a:lnTo>
                <a:lnTo>
                  <a:pt x="36319" y="1400"/>
                </a:lnTo>
                <a:close/>
              </a:path>
              <a:path fill="darkenLess" w="37719" h="21600">
                <a:moveTo>
                  <a:pt x="37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19" y="20200"/>
                </a:lnTo>
                <a:close/>
              </a:path>
              <a:path fill="lighten" w="37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AutoShape 20"/>
          <p:cNvSpPr/>
          <p:nvPr/>
        </p:nvSpPr>
        <p:spPr>
          <a:xfrm>
            <a:off x="5148360" y="2708280"/>
            <a:ext cx="504720" cy="289080"/>
          </a:xfrm>
          <a:custGeom>
            <a:avLst/>
            <a:gdLst>
              <a:gd name="textAreaLeft" fmla="*/ 18720 w 504720"/>
              <a:gd name="textAreaRight" fmla="*/ 486000 w 50472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37693" h="21600">
                <a:moveTo>
                  <a:pt x="0" y="0"/>
                </a:moveTo>
                <a:lnTo>
                  <a:pt x="37693" y="0"/>
                </a:lnTo>
                <a:lnTo>
                  <a:pt x="37693" y="21600"/>
                </a:lnTo>
                <a:lnTo>
                  <a:pt x="0" y="21600"/>
                </a:lnTo>
                <a:close/>
              </a:path>
              <a:path fill="lightenLess" w="37693" h="21600">
                <a:moveTo>
                  <a:pt x="0" y="0"/>
                </a:moveTo>
                <a:lnTo>
                  <a:pt x="37693" y="0"/>
                </a:lnTo>
                <a:lnTo>
                  <a:pt x="36293" y="1400"/>
                </a:lnTo>
                <a:lnTo>
                  <a:pt x="1400" y="1400"/>
                </a:lnTo>
                <a:close/>
              </a:path>
              <a:path fill="darken" w="37693" h="21600">
                <a:moveTo>
                  <a:pt x="37693" y="0"/>
                </a:moveTo>
                <a:lnTo>
                  <a:pt x="37693" y="21600"/>
                </a:lnTo>
                <a:lnTo>
                  <a:pt x="36293" y="20200"/>
                </a:lnTo>
                <a:lnTo>
                  <a:pt x="36293" y="1400"/>
                </a:lnTo>
                <a:close/>
              </a:path>
              <a:path fill="darkenLess" w="37693" h="21600">
                <a:moveTo>
                  <a:pt x="376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293" y="20200"/>
                </a:lnTo>
                <a:close/>
              </a:path>
              <a:path fill="lighten" w="376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AutoShape 21"/>
          <p:cNvSpPr/>
          <p:nvPr/>
        </p:nvSpPr>
        <p:spPr>
          <a:xfrm>
            <a:off x="2411280" y="2781360"/>
            <a:ext cx="505080" cy="288720"/>
          </a:xfrm>
          <a:custGeom>
            <a:avLst/>
            <a:gdLst>
              <a:gd name="textAreaLeft" fmla="*/ 18720 w 505080"/>
              <a:gd name="textAreaRight" fmla="*/ 486360 w 50508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37766" h="21600">
                <a:moveTo>
                  <a:pt x="0" y="0"/>
                </a:moveTo>
                <a:lnTo>
                  <a:pt x="37766" y="0"/>
                </a:lnTo>
                <a:lnTo>
                  <a:pt x="37766" y="21600"/>
                </a:lnTo>
                <a:lnTo>
                  <a:pt x="0" y="21600"/>
                </a:lnTo>
                <a:close/>
              </a:path>
              <a:path fill="lightenLess" w="37766" h="21600">
                <a:moveTo>
                  <a:pt x="0" y="0"/>
                </a:moveTo>
                <a:lnTo>
                  <a:pt x="37766" y="0"/>
                </a:lnTo>
                <a:lnTo>
                  <a:pt x="36366" y="1400"/>
                </a:lnTo>
                <a:lnTo>
                  <a:pt x="1400" y="1400"/>
                </a:lnTo>
                <a:close/>
              </a:path>
              <a:path fill="darken" w="37766" h="21600">
                <a:moveTo>
                  <a:pt x="37766" y="0"/>
                </a:moveTo>
                <a:lnTo>
                  <a:pt x="37766" y="21600"/>
                </a:lnTo>
                <a:lnTo>
                  <a:pt x="36366" y="20200"/>
                </a:lnTo>
                <a:lnTo>
                  <a:pt x="36366" y="1400"/>
                </a:lnTo>
                <a:close/>
              </a:path>
              <a:path fill="darkenLess" w="37766" h="21600">
                <a:moveTo>
                  <a:pt x="37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66" y="20200"/>
                </a:lnTo>
                <a:close/>
              </a:path>
              <a:path fill="lighten" w="37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AutoShape 22"/>
          <p:cNvSpPr/>
          <p:nvPr/>
        </p:nvSpPr>
        <p:spPr>
          <a:xfrm>
            <a:off x="8317080" y="6237360"/>
            <a:ext cx="504720" cy="288720"/>
          </a:xfrm>
          <a:custGeom>
            <a:avLst/>
            <a:gdLst>
              <a:gd name="textAreaLeft" fmla="*/ 18720 w 504720"/>
              <a:gd name="textAreaRight" fmla="*/ 486000 w 50472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37739" h="21600">
                <a:moveTo>
                  <a:pt x="0" y="0"/>
                </a:moveTo>
                <a:lnTo>
                  <a:pt x="37739" y="0"/>
                </a:lnTo>
                <a:lnTo>
                  <a:pt x="37739" y="21600"/>
                </a:lnTo>
                <a:lnTo>
                  <a:pt x="0" y="21600"/>
                </a:lnTo>
                <a:close/>
              </a:path>
              <a:path fill="lightenLess" w="37739" h="21600">
                <a:moveTo>
                  <a:pt x="0" y="0"/>
                </a:moveTo>
                <a:lnTo>
                  <a:pt x="37739" y="0"/>
                </a:lnTo>
                <a:lnTo>
                  <a:pt x="36340" y="1400"/>
                </a:lnTo>
                <a:lnTo>
                  <a:pt x="1400" y="1400"/>
                </a:lnTo>
                <a:close/>
              </a:path>
              <a:path fill="darken" w="37739" h="21600">
                <a:moveTo>
                  <a:pt x="37739" y="0"/>
                </a:moveTo>
                <a:lnTo>
                  <a:pt x="37739" y="21600"/>
                </a:lnTo>
                <a:lnTo>
                  <a:pt x="36340" y="20200"/>
                </a:lnTo>
                <a:lnTo>
                  <a:pt x="36340" y="1400"/>
                </a:lnTo>
                <a:close/>
              </a:path>
              <a:path fill="darkenLess" w="37739" h="21600">
                <a:moveTo>
                  <a:pt x="377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40" y="20200"/>
                </a:lnTo>
                <a:close/>
              </a:path>
              <a:path fill="lighten" w="377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Опыт № 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395280" y="1267920"/>
            <a:ext cx="835344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Arial"/>
              </a:rPr>
              <a:t>«На взлете»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9900"/>
                </a:solidFill>
                <a:latin typeface="Arial"/>
              </a:rPr>
              <a:t>Что является причиной движения шарика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Движение шарика является реактивным, основанным на законе сохранения импульса. Струи воздуха, вырываемые из шарика с одной скоростью, придают скорость шарику, имеющую направление противоположное направлению скорости воздуха. Чем больше скорость вырываемого воздуха, тем больше скорость полета шарик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AutoShape 4"/>
          <p:cNvSpPr/>
          <p:nvPr/>
        </p:nvSpPr>
        <p:spPr>
          <a:xfrm>
            <a:off x="8317080" y="6093000"/>
            <a:ext cx="647640" cy="504720"/>
          </a:xfrm>
          <a:custGeom>
            <a:avLst/>
            <a:gdLst>
              <a:gd name="textAreaLeft" fmla="*/ 32400 w 647640"/>
              <a:gd name="textAreaRight" fmla="*/ 615240 w 64764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7712" h="21600">
                <a:moveTo>
                  <a:pt x="0" y="0"/>
                </a:moveTo>
                <a:lnTo>
                  <a:pt x="27712" y="0"/>
                </a:lnTo>
                <a:lnTo>
                  <a:pt x="27712" y="21600"/>
                </a:lnTo>
                <a:lnTo>
                  <a:pt x="0" y="21600"/>
                </a:lnTo>
                <a:close/>
              </a:path>
              <a:path fill="lightenLess" w="27712" h="21600">
                <a:moveTo>
                  <a:pt x="0" y="0"/>
                </a:moveTo>
                <a:lnTo>
                  <a:pt x="27712" y="0"/>
                </a:lnTo>
                <a:lnTo>
                  <a:pt x="26312" y="1400"/>
                </a:lnTo>
                <a:lnTo>
                  <a:pt x="1400" y="1400"/>
                </a:lnTo>
                <a:close/>
              </a:path>
              <a:path fill="darken" w="27712" h="21600">
                <a:moveTo>
                  <a:pt x="27712" y="0"/>
                </a:moveTo>
                <a:lnTo>
                  <a:pt x="27712" y="21600"/>
                </a:lnTo>
                <a:lnTo>
                  <a:pt x="26312" y="20200"/>
                </a:lnTo>
                <a:lnTo>
                  <a:pt x="26312" y="1400"/>
                </a:lnTo>
                <a:close/>
              </a:path>
              <a:path fill="darkenLess" w="27712" h="21600">
                <a:moveTo>
                  <a:pt x="277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12" y="20200"/>
                </a:lnTo>
                <a:close/>
              </a:path>
              <a:path fill="lighten" w="277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12" h="21600">
                <a:moveTo>
                  <a:pt x="6850" y="7493"/>
                </a:moveTo>
                <a:lnTo>
                  <a:pt x="10357" y="7493"/>
                </a:lnTo>
                <a:lnTo>
                  <a:pt x="10357" y="12828"/>
                </a:lnTo>
                <a:cubicBezTo>
                  <a:pt x="10357" y="13751"/>
                  <a:pt x="11158" y="14482"/>
                  <a:pt x="12194" y="14482"/>
                </a:cubicBezTo>
                <a:lnTo>
                  <a:pt x="13856" y="14482"/>
                </a:lnTo>
                <a:cubicBezTo>
                  <a:pt x="14892" y="14482"/>
                  <a:pt x="15693" y="13751"/>
                  <a:pt x="15693" y="12828"/>
                </a:cubicBezTo>
                <a:lnTo>
                  <a:pt x="15693" y="7493"/>
                </a:lnTo>
                <a:lnTo>
                  <a:pt x="13856" y="7493"/>
                </a:lnTo>
                <a:lnTo>
                  <a:pt x="17364" y="3985"/>
                </a:lnTo>
                <a:lnTo>
                  <a:pt x="21037" y="7493"/>
                </a:lnTo>
                <a:lnTo>
                  <a:pt x="19200" y="7493"/>
                </a:lnTo>
                <a:lnTo>
                  <a:pt x="19200" y="12828"/>
                </a:lnTo>
                <a:cubicBezTo>
                  <a:pt x="19200" y="15596"/>
                  <a:pt x="16624" y="18155"/>
                  <a:pt x="13856" y="18155"/>
                </a:cubicBezTo>
                <a:lnTo>
                  <a:pt x="12194" y="18155"/>
                </a:lnTo>
                <a:cubicBezTo>
                  <a:pt x="9426" y="18155"/>
                  <a:pt x="6850" y="15596"/>
                  <a:pt x="6850" y="12828"/>
                </a:cubicBez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8" name="Picture 6" descr="jet1"/>
          <p:cNvPicPr/>
          <p:nvPr/>
        </p:nvPicPr>
        <p:blipFill>
          <a:blip r:embed="rId1"/>
          <a:stretch/>
        </p:blipFill>
        <p:spPr>
          <a:xfrm rot="16200000">
            <a:off x="-156240" y="776880"/>
            <a:ext cx="1690560" cy="44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nodeType="clickEffect" fill="hold">
                      <p:stCondLst>
                        <p:cond delay="0"/>
                      </p:stCondLst>
                      <p:childTnLst>
                        <p:par>
                          <p:cTn id="9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nodeType="clickEffect" fill="hold">
                      <p:stCondLst>
                        <p:cond delay="indefinite"/>
                      </p:stCondLst>
                      <p:childTnLst>
                        <p:par>
                          <p:cTn id="9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nodeType="clickEffect" fill="hold">
                      <p:stCondLst>
                        <p:cond delay="indefinite"/>
                      </p:stCondLst>
                      <p:childTnLst>
                        <p:par>
                          <p:cTn id="9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Опыт № 2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0" y="980640"/>
            <a:ext cx="91440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«Полет монеты и бумажки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00"/>
                </a:solidFill>
                <a:latin typeface="Arial"/>
              </a:rPr>
              <a:t>Почему в первом опыте бумажка отстает от монеты, а во втором они падают одновременно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а характер движения влияют в основном две силы: сила тяжести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mg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 и сопротивление воздуха, зависящее от формы и размеров тела  и физических свойств среды, в которой движется среда. Из 2 закона Ньютона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=g-Fₒ/m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Ускорение падающего тела зависит от массы: чем больше масса, тем больше ускорение его движения. Поэтому ускорение монеты больше. Во втором случае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ₒ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 действует только на монету, а сила тяжести сообщает одинаковое ускорение, в следствии чего монета и бумажка упадут одновременно.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AutoShape 4"/>
          <p:cNvSpPr/>
          <p:nvPr/>
        </p:nvSpPr>
        <p:spPr>
          <a:xfrm>
            <a:off x="8496360" y="6165720"/>
            <a:ext cx="647640" cy="505080"/>
          </a:xfrm>
          <a:custGeom>
            <a:avLst/>
            <a:gdLst>
              <a:gd name="textAreaLeft" fmla="*/ 32400 w 647640"/>
              <a:gd name="textAreaRight" fmla="*/ 614880 w 647640"/>
              <a:gd name="textAreaTop" fmla="*/ 32760 h 505080"/>
              <a:gd name="textAreaBottom" fmla="*/ 472680 h 505080"/>
            </a:gdLst>
            <a:ahLst/>
            <a:rect l="textAreaLeft" t="textAreaTop" r="textAreaRight" b="textAreaBottom"/>
            <a:pathLst>
              <a:path w="27692" h="21600">
                <a:moveTo>
                  <a:pt x="0" y="0"/>
                </a:moveTo>
                <a:lnTo>
                  <a:pt x="27692" y="0"/>
                </a:lnTo>
                <a:lnTo>
                  <a:pt x="27692" y="21600"/>
                </a:lnTo>
                <a:lnTo>
                  <a:pt x="0" y="21600"/>
                </a:lnTo>
                <a:close/>
              </a:path>
              <a:path fill="lightenLess" w="27692" h="21600">
                <a:moveTo>
                  <a:pt x="0" y="0"/>
                </a:moveTo>
                <a:lnTo>
                  <a:pt x="27692" y="0"/>
                </a:lnTo>
                <a:lnTo>
                  <a:pt x="26292" y="1400"/>
                </a:lnTo>
                <a:lnTo>
                  <a:pt x="1400" y="1400"/>
                </a:lnTo>
                <a:close/>
              </a:path>
              <a:path fill="darken" w="27692" h="21600">
                <a:moveTo>
                  <a:pt x="27692" y="0"/>
                </a:moveTo>
                <a:lnTo>
                  <a:pt x="27692" y="21600"/>
                </a:lnTo>
                <a:lnTo>
                  <a:pt x="26292" y="20200"/>
                </a:lnTo>
                <a:lnTo>
                  <a:pt x="26292" y="1400"/>
                </a:lnTo>
                <a:close/>
              </a:path>
              <a:path fill="darkenLess" w="27692" h="21600">
                <a:moveTo>
                  <a:pt x="276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292" y="20200"/>
                </a:lnTo>
                <a:close/>
              </a:path>
              <a:path fill="lighten" w="276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692" h="21600">
                <a:moveTo>
                  <a:pt x="6840" y="7493"/>
                </a:moveTo>
                <a:lnTo>
                  <a:pt x="10347" y="7493"/>
                </a:lnTo>
                <a:lnTo>
                  <a:pt x="10347" y="12828"/>
                </a:lnTo>
                <a:cubicBezTo>
                  <a:pt x="10347" y="13751"/>
                  <a:pt x="11148" y="14482"/>
                  <a:pt x="12184" y="14482"/>
                </a:cubicBezTo>
                <a:lnTo>
                  <a:pt x="13846" y="14482"/>
                </a:lnTo>
                <a:cubicBezTo>
                  <a:pt x="14882" y="14482"/>
                  <a:pt x="15683" y="13751"/>
                  <a:pt x="15683" y="12828"/>
                </a:cubicBezTo>
                <a:lnTo>
                  <a:pt x="15683" y="7493"/>
                </a:lnTo>
                <a:lnTo>
                  <a:pt x="13846" y="7493"/>
                </a:lnTo>
                <a:lnTo>
                  <a:pt x="17354" y="3985"/>
                </a:lnTo>
                <a:lnTo>
                  <a:pt x="21027" y="7493"/>
                </a:lnTo>
                <a:lnTo>
                  <a:pt x="19190" y="7493"/>
                </a:lnTo>
                <a:lnTo>
                  <a:pt x="19190" y="12828"/>
                </a:lnTo>
                <a:cubicBezTo>
                  <a:pt x="19190" y="15596"/>
                  <a:pt x="16614" y="18155"/>
                  <a:pt x="13846" y="18155"/>
                </a:cubicBezTo>
                <a:lnTo>
                  <a:pt x="12184" y="18155"/>
                </a:lnTo>
                <a:cubicBezTo>
                  <a:pt x="9416" y="18155"/>
                  <a:pt x="6840" y="15596"/>
                  <a:pt x="6840" y="12828"/>
                </a:cubicBez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8" dur="indefinite" restart="never" nodeType="tmRoot">
          <p:childTnLst>
            <p:seq>
              <p:cTn id="939" dur="indefinite" nodeType="mainSeq">
                <p:childTnLst>
                  <p:par>
                    <p:cTn id="940" nodeType="clickEffect" fill="hold">
                      <p:stCondLst>
                        <p:cond delay="indefinite"/>
                      </p:stCondLst>
                      <p:childTnLst>
                        <p:par>
                          <p:cTn id="9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nodeType="clickEffect" fill="hold">
                      <p:stCondLst>
                        <p:cond delay="indefinite"/>
                      </p:stCondLst>
                      <p:childTnLst>
                        <p:par>
                          <p:cTn id="9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Опыт № 3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9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«РЕЗКИЙ УДАР»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00"/>
                </a:solidFill>
                <a:latin typeface="Arial"/>
              </a:rPr>
              <a:t>Почему шарик увеличивается в объеме с каждым выдохом человека и в конечном итоге шарик лопнул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дуваемая порция воздуха увеличивает внутреннее давление газа, в результате чего шар и увеличивается в объеме. При максимальном внутреннем давлении воздуха резина шарика разрывается и шарик лопается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AutoShape 4"/>
          <p:cNvSpPr/>
          <p:nvPr/>
        </p:nvSpPr>
        <p:spPr>
          <a:xfrm>
            <a:off x="8388360" y="6093000"/>
            <a:ext cx="647640" cy="504720"/>
          </a:xfrm>
          <a:custGeom>
            <a:avLst/>
            <a:gdLst>
              <a:gd name="textAreaLeft" fmla="*/ 32400 w 647640"/>
              <a:gd name="textAreaRight" fmla="*/ 615240 w 64764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7712" h="21600">
                <a:moveTo>
                  <a:pt x="0" y="0"/>
                </a:moveTo>
                <a:lnTo>
                  <a:pt x="27712" y="0"/>
                </a:lnTo>
                <a:lnTo>
                  <a:pt x="27712" y="21600"/>
                </a:lnTo>
                <a:lnTo>
                  <a:pt x="0" y="21600"/>
                </a:lnTo>
                <a:close/>
              </a:path>
              <a:path fill="lightenLess" w="27712" h="21600">
                <a:moveTo>
                  <a:pt x="0" y="0"/>
                </a:moveTo>
                <a:lnTo>
                  <a:pt x="27712" y="0"/>
                </a:lnTo>
                <a:lnTo>
                  <a:pt x="26312" y="1400"/>
                </a:lnTo>
                <a:lnTo>
                  <a:pt x="1400" y="1400"/>
                </a:lnTo>
                <a:close/>
              </a:path>
              <a:path fill="darken" w="27712" h="21600">
                <a:moveTo>
                  <a:pt x="27712" y="0"/>
                </a:moveTo>
                <a:lnTo>
                  <a:pt x="27712" y="21600"/>
                </a:lnTo>
                <a:lnTo>
                  <a:pt x="26312" y="20200"/>
                </a:lnTo>
                <a:lnTo>
                  <a:pt x="26312" y="1400"/>
                </a:lnTo>
                <a:close/>
              </a:path>
              <a:path fill="darkenLess" w="27712" h="21600">
                <a:moveTo>
                  <a:pt x="277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12" y="20200"/>
                </a:lnTo>
                <a:close/>
              </a:path>
              <a:path fill="lighten" w="277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12" h="21600">
                <a:moveTo>
                  <a:pt x="6850" y="7493"/>
                </a:moveTo>
                <a:lnTo>
                  <a:pt x="10357" y="7493"/>
                </a:lnTo>
                <a:lnTo>
                  <a:pt x="10357" y="12828"/>
                </a:lnTo>
                <a:cubicBezTo>
                  <a:pt x="10357" y="13751"/>
                  <a:pt x="11158" y="14482"/>
                  <a:pt x="12194" y="14482"/>
                </a:cubicBezTo>
                <a:lnTo>
                  <a:pt x="13856" y="14482"/>
                </a:lnTo>
                <a:cubicBezTo>
                  <a:pt x="14892" y="14482"/>
                  <a:pt x="15693" y="13751"/>
                  <a:pt x="15693" y="12828"/>
                </a:cubicBezTo>
                <a:lnTo>
                  <a:pt x="15693" y="7493"/>
                </a:lnTo>
                <a:lnTo>
                  <a:pt x="13856" y="7493"/>
                </a:lnTo>
                <a:lnTo>
                  <a:pt x="17364" y="3985"/>
                </a:lnTo>
                <a:lnTo>
                  <a:pt x="21037" y="7493"/>
                </a:lnTo>
                <a:lnTo>
                  <a:pt x="19200" y="7493"/>
                </a:lnTo>
                <a:lnTo>
                  <a:pt x="19200" y="12828"/>
                </a:lnTo>
                <a:cubicBezTo>
                  <a:pt x="19200" y="15596"/>
                  <a:pt x="16624" y="18155"/>
                  <a:pt x="13856" y="18155"/>
                </a:cubicBezTo>
                <a:lnTo>
                  <a:pt x="12194" y="18155"/>
                </a:lnTo>
                <a:cubicBezTo>
                  <a:pt x="9426" y="18155"/>
                  <a:pt x="6850" y="15596"/>
                  <a:pt x="6850" y="12828"/>
                </a:cubicBez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nodeType="clickEffect" fill="hold">
                      <p:stCondLst>
                        <p:cond delay="indefinite"/>
                      </p:stCondLst>
                      <p:childTnLst>
                        <p:par>
                          <p:cTn id="9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nodeType="clickEffect" fill="hold">
                      <p:stCondLst>
                        <p:cond delay="indefinite"/>
                      </p:stCondLst>
                      <p:childTnLst>
                        <p:par>
                          <p:cTn id="9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Опыт № 4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108000" y="1197000"/>
            <a:ext cx="885672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«МЫЛЬНЫЙ ПУЗЫРЬ»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9900"/>
                </a:solidFill>
                <a:latin typeface="Arial"/>
              </a:rPr>
              <a:t>Почему мыльный пузырь некоторое время поднимается вверх, а потом опускается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Воздух, вдуваемый человеком в мыльный пузырь, теплый и его плотность меньше плотности окружающего воздуха. Поэтому мыльный пузырь сначала поднимается. Через некоторое время воздух в пузыре охлаждается, его плотность станет больше и пузырь начнет снижатьс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AutoShape 4"/>
          <p:cNvSpPr/>
          <p:nvPr/>
        </p:nvSpPr>
        <p:spPr>
          <a:xfrm>
            <a:off x="8244000" y="6093000"/>
            <a:ext cx="647640" cy="504720"/>
          </a:xfrm>
          <a:custGeom>
            <a:avLst/>
            <a:gdLst>
              <a:gd name="textAreaLeft" fmla="*/ 32400 w 647640"/>
              <a:gd name="textAreaRight" fmla="*/ 615240 w 64764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7712" h="21600">
                <a:moveTo>
                  <a:pt x="0" y="0"/>
                </a:moveTo>
                <a:lnTo>
                  <a:pt x="27712" y="0"/>
                </a:lnTo>
                <a:lnTo>
                  <a:pt x="27712" y="21600"/>
                </a:lnTo>
                <a:lnTo>
                  <a:pt x="0" y="21600"/>
                </a:lnTo>
                <a:close/>
              </a:path>
              <a:path fill="lightenLess" w="27712" h="21600">
                <a:moveTo>
                  <a:pt x="0" y="0"/>
                </a:moveTo>
                <a:lnTo>
                  <a:pt x="27712" y="0"/>
                </a:lnTo>
                <a:lnTo>
                  <a:pt x="26312" y="1400"/>
                </a:lnTo>
                <a:lnTo>
                  <a:pt x="1400" y="1400"/>
                </a:lnTo>
                <a:close/>
              </a:path>
              <a:path fill="darken" w="27712" h="21600">
                <a:moveTo>
                  <a:pt x="27712" y="0"/>
                </a:moveTo>
                <a:lnTo>
                  <a:pt x="27712" y="21600"/>
                </a:lnTo>
                <a:lnTo>
                  <a:pt x="26312" y="20200"/>
                </a:lnTo>
                <a:lnTo>
                  <a:pt x="26312" y="1400"/>
                </a:lnTo>
                <a:close/>
              </a:path>
              <a:path fill="darkenLess" w="27712" h="21600">
                <a:moveTo>
                  <a:pt x="277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12" y="20200"/>
                </a:lnTo>
                <a:close/>
              </a:path>
              <a:path fill="lighten" w="277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12" h="21600">
                <a:moveTo>
                  <a:pt x="6850" y="7493"/>
                </a:moveTo>
                <a:lnTo>
                  <a:pt x="10357" y="7493"/>
                </a:lnTo>
                <a:lnTo>
                  <a:pt x="10357" y="12828"/>
                </a:lnTo>
                <a:cubicBezTo>
                  <a:pt x="10357" y="13751"/>
                  <a:pt x="11158" y="14482"/>
                  <a:pt x="12194" y="14482"/>
                </a:cubicBezTo>
                <a:lnTo>
                  <a:pt x="13856" y="14482"/>
                </a:lnTo>
                <a:cubicBezTo>
                  <a:pt x="14892" y="14482"/>
                  <a:pt x="15693" y="13751"/>
                  <a:pt x="15693" y="12828"/>
                </a:cubicBezTo>
                <a:lnTo>
                  <a:pt x="15693" y="7493"/>
                </a:lnTo>
                <a:lnTo>
                  <a:pt x="13856" y="7493"/>
                </a:lnTo>
                <a:lnTo>
                  <a:pt x="17364" y="3985"/>
                </a:lnTo>
                <a:lnTo>
                  <a:pt x="21037" y="7493"/>
                </a:lnTo>
                <a:lnTo>
                  <a:pt x="19200" y="7493"/>
                </a:lnTo>
                <a:lnTo>
                  <a:pt x="19200" y="12828"/>
                </a:lnTo>
                <a:cubicBezTo>
                  <a:pt x="19200" y="15596"/>
                  <a:pt x="16624" y="18155"/>
                  <a:pt x="13856" y="18155"/>
                </a:cubicBezTo>
                <a:lnTo>
                  <a:pt x="12194" y="18155"/>
                </a:lnTo>
                <a:cubicBezTo>
                  <a:pt x="9426" y="18155"/>
                  <a:pt x="6850" y="15596"/>
                  <a:pt x="6850" y="12828"/>
                </a:cubicBez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0" dur="indefinite" restart="never" nodeType="tmRoot">
          <p:childTnLst>
            <p:seq>
              <p:cTn id="961" dur="indefinite" nodeType="mainSeq">
                <p:childTnLst>
                  <p:par>
                    <p:cTn id="962" nodeType="clickEffect" fill="hold">
                      <p:stCondLst>
                        <p:cond delay="indefinite"/>
                      </p:stCondLst>
                      <p:childTnLst>
                        <p:par>
                          <p:cTn id="9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nodeType="clickEffect" fill="hold">
                      <p:stCondLst>
                        <p:cond delay="indefinite"/>
                      </p:stCondLst>
                      <p:childTnLst>
                        <p:par>
                          <p:cTn id="9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Опыт № 5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«ВЕДЕРКО С ВОДОЙ»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00"/>
                </a:solidFill>
                <a:latin typeface="Arial"/>
              </a:rPr>
              <a:t>Почему вода не выливается из опрокинутого вверх дном ведерка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Указанный случай – проявление инерции, правда вращать ведро надо достаточно быстро. Расчеты показывают, что для радиуса вращения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=70 см достаточно круговой скорости 2,6 м/с, что соответствует частоте вращения руки – полтора оборота в секунду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Вода не выливается из вращающегося ведра вследствие своей инерц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AutoShape 4"/>
          <p:cNvSpPr/>
          <p:nvPr/>
        </p:nvSpPr>
        <p:spPr>
          <a:xfrm>
            <a:off x="8172360" y="6021360"/>
            <a:ext cx="647640" cy="504720"/>
          </a:xfrm>
          <a:custGeom>
            <a:avLst/>
            <a:gdLst>
              <a:gd name="textAreaLeft" fmla="*/ 32400 w 647640"/>
              <a:gd name="textAreaRight" fmla="*/ 615240 w 64764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7712" h="21600">
                <a:moveTo>
                  <a:pt x="0" y="0"/>
                </a:moveTo>
                <a:lnTo>
                  <a:pt x="27712" y="0"/>
                </a:lnTo>
                <a:lnTo>
                  <a:pt x="27712" y="21600"/>
                </a:lnTo>
                <a:lnTo>
                  <a:pt x="0" y="21600"/>
                </a:lnTo>
                <a:close/>
              </a:path>
              <a:path fill="lightenLess" w="27712" h="21600">
                <a:moveTo>
                  <a:pt x="0" y="0"/>
                </a:moveTo>
                <a:lnTo>
                  <a:pt x="27712" y="0"/>
                </a:lnTo>
                <a:lnTo>
                  <a:pt x="26312" y="1400"/>
                </a:lnTo>
                <a:lnTo>
                  <a:pt x="1400" y="1400"/>
                </a:lnTo>
                <a:close/>
              </a:path>
              <a:path fill="darken" w="27712" h="21600">
                <a:moveTo>
                  <a:pt x="27712" y="0"/>
                </a:moveTo>
                <a:lnTo>
                  <a:pt x="27712" y="21600"/>
                </a:lnTo>
                <a:lnTo>
                  <a:pt x="26312" y="20200"/>
                </a:lnTo>
                <a:lnTo>
                  <a:pt x="26312" y="1400"/>
                </a:lnTo>
                <a:close/>
              </a:path>
              <a:path fill="darkenLess" w="27712" h="21600">
                <a:moveTo>
                  <a:pt x="277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12" y="20200"/>
                </a:lnTo>
                <a:close/>
              </a:path>
              <a:path fill="lighten" w="277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12" h="21600">
                <a:moveTo>
                  <a:pt x="6850" y="7493"/>
                </a:moveTo>
                <a:lnTo>
                  <a:pt x="10357" y="7493"/>
                </a:lnTo>
                <a:lnTo>
                  <a:pt x="10357" y="12828"/>
                </a:lnTo>
                <a:cubicBezTo>
                  <a:pt x="10357" y="13751"/>
                  <a:pt x="11158" y="14482"/>
                  <a:pt x="12194" y="14482"/>
                </a:cubicBezTo>
                <a:lnTo>
                  <a:pt x="13856" y="14482"/>
                </a:lnTo>
                <a:cubicBezTo>
                  <a:pt x="14892" y="14482"/>
                  <a:pt x="15693" y="13751"/>
                  <a:pt x="15693" y="12828"/>
                </a:cubicBezTo>
                <a:lnTo>
                  <a:pt x="15693" y="7493"/>
                </a:lnTo>
                <a:lnTo>
                  <a:pt x="13856" y="7493"/>
                </a:lnTo>
                <a:lnTo>
                  <a:pt x="17364" y="3985"/>
                </a:lnTo>
                <a:lnTo>
                  <a:pt x="21037" y="7493"/>
                </a:lnTo>
                <a:lnTo>
                  <a:pt x="19200" y="7493"/>
                </a:lnTo>
                <a:lnTo>
                  <a:pt x="19200" y="12828"/>
                </a:lnTo>
                <a:cubicBezTo>
                  <a:pt x="19200" y="15596"/>
                  <a:pt x="16624" y="18155"/>
                  <a:pt x="13856" y="18155"/>
                </a:cubicBezTo>
                <a:lnTo>
                  <a:pt x="12194" y="18155"/>
                </a:lnTo>
                <a:cubicBezTo>
                  <a:pt x="9426" y="18155"/>
                  <a:pt x="6850" y="15596"/>
                  <a:pt x="6850" y="12828"/>
                </a:cubicBez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0" dur="indefinite" restart="never" nodeType="tmRoot">
          <p:childTnLst>
            <p:seq>
              <p:cTn id="971" dur="indefinite" nodeType="mainSeq">
                <p:childTnLst>
                  <p:par>
                    <p:cTn id="972" nodeType="clickEffect" fill="hold">
                      <p:stCondLst>
                        <p:cond delay="indefinite"/>
                      </p:stCondLst>
                      <p:childTnLst>
                        <p:par>
                          <p:cTn id="9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nodeType="clickEffect" fill="hold">
                      <p:stCondLst>
                        <p:cond delay="indefinite"/>
                      </p:stCondLst>
                      <p:childTnLst>
                        <p:par>
                          <p:cTn id="9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nodeType="clickEffect" fill="hold">
                      <p:stCondLst>
                        <p:cond delay="indefinite"/>
                      </p:stCondLst>
                      <p:childTnLst>
                        <p:par>
                          <p:cTn id="9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87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Опыт № 6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64216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«Загадка воздушного шарика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00"/>
                </a:solidFill>
                <a:latin typeface="Arial"/>
              </a:rPr>
              <a:t>Почему воздушный шар, потертый о шерсть, притягивается к поверхности 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и трении шара о шерсть из-за движения свободных электронов происходит процесс электризации, в результате чего на поверхности шара и шерсти накапливается электрический заряд. Наэлектризованное тело способно притягивать к себе различные тела: пушинки, ворсинки меха, кусочки бумаги и т.д. и притягиваться само к той или иной поверхност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AutoShape 4"/>
          <p:cNvSpPr/>
          <p:nvPr/>
        </p:nvSpPr>
        <p:spPr>
          <a:xfrm>
            <a:off x="8317080" y="6165720"/>
            <a:ext cx="647640" cy="505080"/>
          </a:xfrm>
          <a:custGeom>
            <a:avLst/>
            <a:gdLst>
              <a:gd name="textAreaLeft" fmla="*/ 32400 w 647640"/>
              <a:gd name="textAreaRight" fmla="*/ 614880 w 647640"/>
              <a:gd name="textAreaTop" fmla="*/ 32760 h 505080"/>
              <a:gd name="textAreaBottom" fmla="*/ 472680 h 505080"/>
            </a:gdLst>
            <a:ahLst/>
            <a:rect l="textAreaLeft" t="textAreaTop" r="textAreaRight" b="textAreaBottom"/>
            <a:pathLst>
              <a:path w="27692" h="21600">
                <a:moveTo>
                  <a:pt x="0" y="0"/>
                </a:moveTo>
                <a:lnTo>
                  <a:pt x="27692" y="0"/>
                </a:lnTo>
                <a:lnTo>
                  <a:pt x="27692" y="21600"/>
                </a:lnTo>
                <a:lnTo>
                  <a:pt x="0" y="21600"/>
                </a:lnTo>
                <a:close/>
              </a:path>
              <a:path fill="lightenLess" w="27692" h="21600">
                <a:moveTo>
                  <a:pt x="0" y="0"/>
                </a:moveTo>
                <a:lnTo>
                  <a:pt x="27692" y="0"/>
                </a:lnTo>
                <a:lnTo>
                  <a:pt x="26292" y="1400"/>
                </a:lnTo>
                <a:lnTo>
                  <a:pt x="1400" y="1400"/>
                </a:lnTo>
                <a:close/>
              </a:path>
              <a:path fill="darken" w="27692" h="21600">
                <a:moveTo>
                  <a:pt x="27692" y="0"/>
                </a:moveTo>
                <a:lnTo>
                  <a:pt x="27692" y="21600"/>
                </a:lnTo>
                <a:lnTo>
                  <a:pt x="26292" y="20200"/>
                </a:lnTo>
                <a:lnTo>
                  <a:pt x="26292" y="1400"/>
                </a:lnTo>
                <a:close/>
              </a:path>
              <a:path fill="darkenLess" w="27692" h="21600">
                <a:moveTo>
                  <a:pt x="276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292" y="20200"/>
                </a:lnTo>
                <a:close/>
              </a:path>
              <a:path fill="lighten" w="276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692" h="21600">
                <a:moveTo>
                  <a:pt x="6840" y="7493"/>
                </a:moveTo>
                <a:lnTo>
                  <a:pt x="10347" y="7493"/>
                </a:lnTo>
                <a:lnTo>
                  <a:pt x="10347" y="12828"/>
                </a:lnTo>
                <a:cubicBezTo>
                  <a:pt x="10347" y="13751"/>
                  <a:pt x="11148" y="14482"/>
                  <a:pt x="12184" y="14482"/>
                </a:cubicBezTo>
                <a:lnTo>
                  <a:pt x="13846" y="14482"/>
                </a:lnTo>
                <a:cubicBezTo>
                  <a:pt x="14882" y="14482"/>
                  <a:pt x="15683" y="13751"/>
                  <a:pt x="15683" y="12828"/>
                </a:cubicBezTo>
                <a:lnTo>
                  <a:pt x="15683" y="7493"/>
                </a:lnTo>
                <a:lnTo>
                  <a:pt x="13846" y="7493"/>
                </a:lnTo>
                <a:lnTo>
                  <a:pt x="17354" y="3985"/>
                </a:lnTo>
                <a:lnTo>
                  <a:pt x="21027" y="7493"/>
                </a:lnTo>
                <a:lnTo>
                  <a:pt x="19190" y="7493"/>
                </a:lnTo>
                <a:lnTo>
                  <a:pt x="19190" y="12828"/>
                </a:lnTo>
                <a:cubicBezTo>
                  <a:pt x="19190" y="15596"/>
                  <a:pt x="16614" y="18155"/>
                  <a:pt x="13846" y="18155"/>
                </a:cubicBezTo>
                <a:lnTo>
                  <a:pt x="12184" y="18155"/>
                </a:lnTo>
                <a:cubicBezTo>
                  <a:pt x="9416" y="18155"/>
                  <a:pt x="6840" y="15596"/>
                  <a:pt x="6840" y="12828"/>
                </a:cubicBez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4" dur="indefinite" restart="never" nodeType="tmRoot">
          <p:childTnLst>
            <p:seq>
              <p:cTn id="985" dur="indefinite" nodeType="mainSeq">
                <p:childTnLst>
                  <p:par>
                    <p:cTn id="986" nodeType="clickEffect" fill="hold">
                      <p:stCondLst>
                        <p:cond delay="indefinite"/>
                      </p:stCondLst>
                      <p:childTnLst>
                        <p:par>
                          <p:cTn id="9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0" nodeType="clickEffect" fill="hold">
                      <p:stCondLst>
                        <p:cond delay="indefinite"/>
                      </p:stCondLst>
                      <p:childTnLst>
                        <p:par>
                          <p:cTn id="9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WordArt 2"/>
          <p:cNvSpPr txBox="1"/>
          <p:nvPr/>
        </p:nvSpPr>
        <p:spPr>
          <a:xfrm>
            <a:off x="395280" y="0"/>
            <a:ext cx="8353440" cy="734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поздравляем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победителя игр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"САМЫЙ УМНЫ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ФИЗИК - 2011"!!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575" name="Picture 4" descr="7b3"/>
          <p:cNvPicPr/>
          <p:nvPr/>
        </p:nvPicPr>
        <p:blipFill>
          <a:blip r:embed="rId1"/>
          <a:stretch/>
        </p:blipFill>
        <p:spPr>
          <a:xfrm>
            <a:off x="1763640" y="115920"/>
            <a:ext cx="1285920" cy="1285920"/>
          </a:xfrm>
          <a:prstGeom prst="rect">
            <a:avLst/>
          </a:prstGeom>
          <a:ln w="0">
            <a:noFill/>
          </a:ln>
        </p:spPr>
      </p:pic>
      <p:pic>
        <p:nvPicPr>
          <p:cNvPr id="576" name="Picture 5" descr="7b3"/>
          <p:cNvPicPr/>
          <p:nvPr/>
        </p:nvPicPr>
        <p:blipFill>
          <a:blip r:embed="rId2"/>
          <a:stretch/>
        </p:blipFill>
        <p:spPr>
          <a:xfrm>
            <a:off x="7740720" y="5445000"/>
            <a:ext cx="1285920" cy="1285920"/>
          </a:xfrm>
          <a:prstGeom prst="rect">
            <a:avLst/>
          </a:prstGeom>
          <a:ln w="0">
            <a:noFill/>
          </a:ln>
        </p:spPr>
      </p:pic>
      <p:pic>
        <p:nvPicPr>
          <p:cNvPr id="577" name="Picture 6" descr="7b3"/>
          <p:cNvPicPr/>
          <p:nvPr/>
        </p:nvPicPr>
        <p:blipFill>
          <a:blip r:embed="rId3"/>
          <a:stretch/>
        </p:blipFill>
        <p:spPr>
          <a:xfrm>
            <a:off x="5219640" y="5300640"/>
            <a:ext cx="1285920" cy="1214640"/>
          </a:xfrm>
          <a:prstGeom prst="rect">
            <a:avLst/>
          </a:prstGeom>
          <a:ln w="0">
            <a:noFill/>
          </a:ln>
        </p:spPr>
      </p:pic>
      <p:pic>
        <p:nvPicPr>
          <p:cNvPr id="578" name="Picture 7" descr="7b3"/>
          <p:cNvPicPr/>
          <p:nvPr/>
        </p:nvPicPr>
        <p:blipFill>
          <a:blip r:embed="rId4"/>
          <a:stretch/>
        </p:blipFill>
        <p:spPr>
          <a:xfrm>
            <a:off x="6443640" y="4437000"/>
            <a:ext cx="1285920" cy="1285920"/>
          </a:xfrm>
          <a:prstGeom prst="rect">
            <a:avLst/>
          </a:prstGeom>
          <a:ln w="0">
            <a:noFill/>
          </a:ln>
        </p:spPr>
      </p:pic>
      <p:pic>
        <p:nvPicPr>
          <p:cNvPr id="579" name="Picture 8" descr="7b3"/>
          <p:cNvPicPr/>
          <p:nvPr/>
        </p:nvPicPr>
        <p:blipFill>
          <a:blip r:embed="rId5"/>
          <a:stretch/>
        </p:blipFill>
        <p:spPr>
          <a:xfrm>
            <a:off x="611280" y="620640"/>
            <a:ext cx="1285920" cy="128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08000" y="188640"/>
            <a:ext cx="801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00"/>
                </a:solidFill>
                <a:latin typeface="Arial"/>
              </a:rPr>
              <a:t>Королев Сергей Павлови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3" name="Picture 4" descr="korolev2"/>
          <p:cNvPicPr/>
          <p:nvPr/>
        </p:nvPicPr>
        <p:blipFill>
          <a:blip r:embed="rId1"/>
          <a:stretch/>
        </p:blipFill>
        <p:spPr>
          <a:xfrm>
            <a:off x="4859280" y="1341360"/>
            <a:ext cx="3684600" cy="504036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5" descr="ANd9GcQrMIEhf-8tHTkCl72VeBhko23NF_k_fgqtdDnx-Gb_qSdX6L9U"/>
          <p:cNvPicPr/>
          <p:nvPr/>
        </p:nvPicPr>
        <p:blipFill>
          <a:blip r:embed="rId2"/>
          <a:stretch/>
        </p:blipFill>
        <p:spPr>
          <a:xfrm>
            <a:off x="179280" y="4221000"/>
            <a:ext cx="3800520" cy="220032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6" descr="ANd9GcTyv4RAXnfQjUb79IuOpe9XmR5ifykux8dK9lH1vZmpRc_jMGHL"/>
          <p:cNvPicPr/>
          <p:nvPr/>
        </p:nvPicPr>
        <p:blipFill>
          <a:blip r:embed="rId3"/>
          <a:stretch/>
        </p:blipFill>
        <p:spPr>
          <a:xfrm>
            <a:off x="324000" y="1314360"/>
            <a:ext cx="3384360" cy="267012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7" descr="земля"/>
          <p:cNvPicPr/>
          <p:nvPr/>
        </p:nvPicPr>
        <p:blipFill>
          <a:blip r:embed="rId4"/>
          <a:stretch/>
        </p:blipFill>
        <p:spPr>
          <a:xfrm>
            <a:off x="8101080" y="0"/>
            <a:ext cx="1042920" cy="77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Picture 4" descr="536486[1]"/>
          <p:cNvPicPr/>
          <p:nvPr/>
        </p:nvPicPr>
        <p:blipFill>
          <a:blip r:embed="rId1"/>
          <a:stretch/>
        </p:blipFill>
        <p:spPr>
          <a:xfrm>
            <a:off x="755640" y="0"/>
            <a:ext cx="7128000" cy="685800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5" descr="земля"/>
          <p:cNvPicPr/>
          <p:nvPr/>
        </p:nvPicPr>
        <p:blipFill>
          <a:blip r:embed="rId2"/>
          <a:stretch/>
        </p:blipFill>
        <p:spPr>
          <a:xfrm>
            <a:off x="7885080" y="0"/>
            <a:ext cx="1258920" cy="94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Picture 4" descr="381142[1]"/>
          <p:cNvPicPr/>
          <p:nvPr/>
        </p:nvPicPr>
        <p:blipFill>
          <a:blip r:embed="rId1"/>
          <a:stretch/>
        </p:blipFill>
        <p:spPr>
          <a:xfrm>
            <a:off x="1476360" y="0"/>
            <a:ext cx="5759640" cy="685800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5" descr="земля"/>
          <p:cNvPicPr/>
          <p:nvPr/>
        </p:nvPicPr>
        <p:blipFill>
          <a:blip r:embed="rId2"/>
          <a:stretch/>
        </p:blipFill>
        <p:spPr>
          <a:xfrm>
            <a:off x="0" y="0"/>
            <a:ext cx="1476360" cy="11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Picture 4" descr="317446[1]"/>
          <p:cNvPicPr/>
          <p:nvPr/>
        </p:nvPicPr>
        <p:blipFill>
          <a:blip r:embed="rId1"/>
          <a:stretch/>
        </p:blipFill>
        <p:spPr>
          <a:xfrm>
            <a:off x="1209600" y="0"/>
            <a:ext cx="6667560" cy="685800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5" descr="земля"/>
          <p:cNvPicPr/>
          <p:nvPr/>
        </p:nvPicPr>
        <p:blipFill>
          <a:blip r:embed="rId2"/>
          <a:stretch/>
        </p:blipFill>
        <p:spPr>
          <a:xfrm>
            <a:off x="0" y="0"/>
            <a:ext cx="1187280" cy="94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4" descr="300355[1]"/>
          <p:cNvPicPr/>
          <p:nvPr/>
        </p:nvPicPr>
        <p:blipFill>
          <a:blip r:embed="rId1"/>
          <a:stretch/>
        </p:blipFill>
        <p:spPr>
          <a:xfrm>
            <a:off x="1116000" y="0"/>
            <a:ext cx="6696000" cy="685800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5" descr="300355[1]"/>
          <p:cNvPicPr/>
          <p:nvPr/>
        </p:nvPicPr>
        <p:blipFill>
          <a:blip r:embed="rId2"/>
          <a:stretch/>
        </p:blipFill>
        <p:spPr>
          <a:xfrm>
            <a:off x="1116000" y="0"/>
            <a:ext cx="6696000" cy="685800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7" descr="земля"/>
          <p:cNvPicPr/>
          <p:nvPr/>
        </p:nvPicPr>
        <p:blipFill>
          <a:blip r:embed="rId3"/>
          <a:stretch/>
        </p:blipFill>
        <p:spPr>
          <a:xfrm>
            <a:off x="0" y="0"/>
            <a:ext cx="1187280" cy="88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Picture 4" descr="462858[1]"/>
          <p:cNvPicPr/>
          <p:nvPr/>
        </p:nvPicPr>
        <p:blipFill>
          <a:blip r:embed="rId1"/>
          <a:stretch/>
        </p:blipFill>
        <p:spPr>
          <a:xfrm>
            <a:off x="179280" y="189000"/>
            <a:ext cx="8856720" cy="644688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5" descr="земля"/>
          <p:cNvPicPr/>
          <p:nvPr/>
        </p:nvPicPr>
        <p:blipFill>
          <a:blip r:embed="rId2"/>
          <a:stretch/>
        </p:blipFill>
        <p:spPr>
          <a:xfrm>
            <a:off x="7740720" y="189000"/>
            <a:ext cx="1295280" cy="94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1T09:49:24Z</dcterms:created>
  <dc:creator>учитель</dc:creator>
  <dc:description/>
  <dc:language>en-US</dc:language>
  <cp:lastModifiedBy>Ирина</cp:lastModifiedBy>
  <dcterms:modified xsi:type="dcterms:W3CDTF">2013-02-07T18:36:51Z</dcterms:modified>
  <cp:revision>24</cp:revision>
  <dc:subject/>
  <dc:title>Слайд 1</dc:title>
</cp:coreProperties>
</file>