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21.gif" ContentType="image/gif"/>
  <Override PartName="/ppt/media/image1.png" ContentType="image/png"/>
  <Override PartName="/ppt/media/image2.png" ContentType="image/png"/>
  <Override PartName="/ppt/media/image14.jpeg" ContentType="image/jpeg"/>
  <Override PartName="/ppt/media/image5.gif" ContentType="image/gi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46BC-D524-4111-8762-67C7B85E3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A527-5CEE-49FF-96C1-B81C0A129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C3E-6DCF-4EB1-B6FC-85F7BB94B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62EC-DAEE-4FBE-8616-08DFB29636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0C7B-0378-4DA8-9C29-4F483F8E7D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925-EC04-4540-BAD7-EFA87646C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12F9-7A9F-406B-AA23-6C02F7F27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A2AF-E63D-497C-BB96-81E53BC037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3F6C-A5FF-4626-871E-F65512910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F5E43-C0CC-4FAF-997B-5631D4DDB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090C-0BA8-4EB9-A232-12AA28492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A592-0031-4EC9-8FBC-E526C43A0D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1EAF-C780-4F31-9A04-7CCA705D8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9E59-0157-4465-990D-C777ED124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5F6-2EB1-42EF-9993-2BEB0DF8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5B9-F022-4B49-952B-93A86EC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62E-67FD-4669-B6AB-CA76AB60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1146-47C2-473C-A6AA-1C5EEAD1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5427-444E-42E7-A9C5-0A944AEB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3CD3-483B-4EEC-A9C4-C9D08983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F2EC-5AB7-4875-B383-93C47204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BAC9-FCB9-465A-B992-6E2EE706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CFB7-3895-43E4-AF23-C4AB2F0D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0BAB-708B-420E-BB8F-1182C48B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670D-4A78-4849-AA53-60AC8794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2FE-5A1D-4248-A3A4-4B1D448D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D89C-898E-4EBD-8E60-C0DB5149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C0C0-7C99-4BDF-A3D6-6D4474D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83EA-2C8E-45E4-B707-7982013A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AD08-C2C7-413E-B656-59D5C9B4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21A8-E129-483C-8A1D-639F7459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F6AEF-3DCA-440C-A0EE-AFDCC788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489F1-F260-450C-88F9-42066F94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9EC3-3A19-4969-AEBC-3F0869C3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9B62-CC32-458C-9556-E5F1D4DA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C996C-E8F7-40CA-8E15-00607E48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A58-DA84-4578-A738-1ABD7EA3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BC6D9-7F61-49C3-8C74-BDD84407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F148-6B22-4156-BB77-7707395B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13EF-BAB9-482A-8FAE-079A47DD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AC99-129F-401D-9E53-7A9A0028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1DF7B-EA5E-4931-B2D1-D86715E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B5C8-E4C8-4D48-AD7B-EB7043E5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2051-F9EE-4736-8199-1F19F91E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1154-1280-45DE-B879-8B894038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5093F-6287-4725-A1EE-A0850043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09580-3D16-48EC-851E-497B9BF0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7FA7-F6C2-4FF2-8727-275075AA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91C3-F5B8-4D23-BC6D-6E51376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8AF4-3E39-4EEB-82FB-F910F8EC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9FF1-F75C-4F17-923D-3C07EAB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DCB26-232B-460F-AAB0-4091C78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01907-7AF3-4729-A15F-EFDAFEF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9CA46-2AAC-43A1-A2C1-8F6BF2D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297C-CE5A-41DB-B000-2EDCE259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1E09-1F18-4201-8A6A-2F96688D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2A4C5-9CEF-4C60-863F-3274EF9D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1BBE-C042-4E15-98CB-53340A19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39B-A532-4ABF-8914-EDBC728D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31FBD-591B-4C97-91F8-819D6F0C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5D845-5F21-471D-90D6-20C21164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5B6C-42D4-42B1-802B-7B6E2366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FE07E-420B-4DE3-B408-2AA7570B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EFA53-A13C-44CF-A464-E6AABBE0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A9020-1331-4B7E-B2F0-B73F33E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3B83A-2AD2-4B82-87EC-DF58076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2D59B-0CAB-4698-B202-A3F7E46F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28D0-8F78-4CA3-9EBA-08C5EE61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AA59-667B-4746-862B-80818D9A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BB3-58DF-479C-A5CD-0251C00E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E7EB5-CFCE-4212-A4CF-36A835EA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880-1873-41BD-95ED-51D72E4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55B7-F3AE-4E4D-9D98-B6362F9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538-A987-4E75-BFCC-BD292B06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486-23A8-4BB1-9222-5C135E72D6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3E76-7A0F-443C-A715-728589EC94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2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2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3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36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40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4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4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826B-5AA9-4555-9F60-F0847B29496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DF1-CAAD-4E6E-AE11-215DFAA43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289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30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307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311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315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319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7969-D354-410F-A2C8-71D9BB0B284C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5.xml"/><Relationship Id="rId3" Type="http://schemas.openxmlformats.org/officeDocument/2006/relationships/slide" Target="slide21.xml"/><Relationship Id="rId4" Type="http://schemas.openxmlformats.org/officeDocument/2006/relationships/slide" Target="slide23.xml"/><Relationship Id="rId5" Type="http://schemas.openxmlformats.org/officeDocument/2006/relationships/slide" Target="slide27.xml"/><Relationship Id="rId6" Type="http://schemas.openxmlformats.org/officeDocument/2006/relationships/slide" Target="slide29.xml"/><Relationship Id="rId7" Type="http://schemas.openxmlformats.org/officeDocument/2006/relationships/slide" Target="slide32.xml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6335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ллектуальная игра-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3"/>
          <p:cNvSpPr txBox="1"/>
          <p:nvPr/>
        </p:nvSpPr>
        <p:spPr>
          <a:xfrm>
            <a:off x="179280" y="189000"/>
            <a:ext cx="8569440" cy="64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МЫЙ 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МНЫЙ 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ЗИК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79" name="Picture 7" descr="7b3"/>
          <p:cNvPicPr/>
          <p:nvPr/>
        </p:nvPicPr>
        <p:blipFill>
          <a:blip r:embed="rId1"/>
          <a:stretch/>
        </p:blipFill>
        <p:spPr>
          <a:xfrm>
            <a:off x="3708360" y="1125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7b3"/>
          <p:cNvPicPr/>
          <p:nvPr/>
        </p:nvPicPr>
        <p:blipFill>
          <a:blip r:embed="rId2"/>
          <a:stretch/>
        </p:blipFill>
        <p:spPr>
          <a:xfrm>
            <a:off x="7740720" y="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7b3"/>
          <p:cNvPicPr/>
          <p:nvPr/>
        </p:nvPicPr>
        <p:blipFill>
          <a:blip r:embed="rId3"/>
          <a:stretch/>
        </p:blipFill>
        <p:spPr>
          <a:xfrm>
            <a:off x="108000" y="557208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   Как направлена мгновенная скорость при движении по окруж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от центра окружности     Б. по касательной к окружност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 к центру окру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   Где год длится дольше, на Марсе или на Сатур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 на Марс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инаково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атурн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3.    С какой скоростью движется Земля вокруг Солн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 30 м/с           Б. 30 км/с          В. 1200 км/мин           Г. 900 км/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4.     Какой физический закон лежит в основе реактивно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 1 закон Ньютона                                 Б. 2 закон Ньютона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 Закон сохранения импульса            Г. закон сохранения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ова форма траектории тела, движущегося со скорост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0 км/с вокруг Зем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окружность              Б. эллипс                В. при такой скорости т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кинет орбиту Земли, и полетит в космическое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Кто впервые назвал Вселенную космос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Гагарин    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Архимед       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Эйнштейн  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Пифа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7.     Как нужно изменить расстояние между телами, чтобы сила их взаимного притяжения увеличилась в 4 раз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величить в 2 раза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 уменьшить в 2 раз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величить в 4 раза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меньшить в 4 р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. Человек, стоящий на лодке, начинает идти от носа лодки к корме. Что произойдет с лодкой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лодка поплывет в сторону, противоположную направ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ижения человека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лодка останется на месте                               В. уто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 Какая из стрелок показывает направление центростремительного ускорения в точке А?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.  2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 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4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2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                                                                              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Какую скорость получит модель ракеты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0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г, и массой пороха в ней 100 г, а газы вырываются из сопла со скоростью 100 м/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10 м/с              Б. 33 м/с                 В. 300 м/с                Г. 33 км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 величина, равная произведению массы тела на скорость его дви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мощность          Б. энергия          В. ускорение            Г. импуль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скорение свободного падения на Земле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8,9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Б. 9,8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В. 12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Г. 26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3"/>
          <p:cNvSpPr/>
          <p:nvPr/>
        </p:nvSpPr>
        <p:spPr>
          <a:xfrm>
            <a:off x="7020000" y="1916280"/>
            <a:ext cx="1584360" cy="15825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 flipH="1">
            <a:off x="6372000" y="270828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7020000" y="2708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 flipV="1">
            <a:off x="7020000" y="2060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7020000" y="2708280"/>
            <a:ext cx="5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0"/>
          <p:cNvSpPr/>
          <p:nvPr/>
        </p:nvSpPr>
        <p:spPr>
          <a:xfrm>
            <a:off x="7308720" y="1557360"/>
            <a:ext cx="1224000" cy="28728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89308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огда был запущен первый ИС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49г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57г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61г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7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С какой высоты свободно падает сосулька, если расстояние до земли она преодолела за 4 с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= 10 м/с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)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30 м               Б. 80 м                  В. 100 м             Г. 120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. Больно ли космонавту при ударе в невесомос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не будет больно, т.к. в невесомости   космонавт легче перыш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Б. будет больно, но не так больно как при ударе на земле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. не будет больно, т.к. космонавт в гермош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Г. будет больно, и в невесомости можно набить шиш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6.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Кто первый рассчитал скорость, которой должно обладать тело,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чтобы преодолеть земное притяж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Мюнхгаузен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Ньютон     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Циолковский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Корол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7. В настоящее время средняя высота орбиты полета МКС составляет 342,9 км. Какова скорость вращения МКС, если экваториальный радиус Земли 6378 км, а период обращения станции вокруг Земли 92 ми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. 7,6 км/с             Б. 459 км/с           В. 343 км/с              Г. 343 м/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421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аком году совершила космический полет первая женщина Валентина Терешков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7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1973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0_20a04_3c1aefd2_XL"/>
          <p:cNvPicPr/>
          <p:nvPr/>
        </p:nvPicPr>
        <p:blipFill>
          <a:blip r:embed="rId1"/>
          <a:stretch/>
        </p:blipFill>
        <p:spPr>
          <a:xfrm>
            <a:off x="324000" y="2060640"/>
            <a:ext cx="5680080" cy="4260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baba_jaga"/>
          <p:cNvPicPr/>
          <p:nvPr/>
        </p:nvPicPr>
        <p:blipFill>
          <a:blip r:embed="rId2"/>
          <a:stretch/>
        </p:blipFill>
        <p:spPr>
          <a:xfrm>
            <a:off x="6227640" y="2565360"/>
            <a:ext cx="27259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Дополнительные вопросы 1 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93250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о движется равномерно по окружности. Как изменится его центростремительное ускорение при увеличении скорости равномерного движения в 2 раза и уменьшении радиуса окружности в 4 ра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2 раза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8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еличится в 16 раз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измен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уменьшится в 2 раза       Д. уменьшится в 8 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ченый, открывший закон всемирного тягот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Архимед          Б. Евклид            В. Демокрит           Г. Ньют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космосе побывали граждане более 30 государств мира. 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лько три страны имеют возможность самостоя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уществлять пилотируемые полеты: Россия, США и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пони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гли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1965 году первым летчиком-космонавтом, вышедшим в открытый космос, стал Алексей Леонов. На какое максимальное расстояние удалился Леонов от корабля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,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,5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,35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,35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какую максимальную высоту поднимется тело, брошенное вертикально вверх со скоростью 40 м/с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Б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0 м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80 м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00 м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4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684360" y="476280"/>
            <a:ext cx="8062560" cy="3136680"/>
            <a:chOff x="684360" y="476280"/>
            <a:chExt cx="8062560" cy="3136680"/>
          </a:xfrm>
        </p:grpSpPr>
        <p:sp>
          <p:nvSpPr>
            <p:cNvPr id="423" name="Rectangle 3"/>
            <p:cNvSpPr/>
            <p:nvPr/>
          </p:nvSpPr>
          <p:spPr>
            <a:xfrm>
              <a:off x="7940880" y="1642320"/>
              <a:ext cx="80460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4"/>
            <p:cNvSpPr/>
            <p:nvPr/>
          </p:nvSpPr>
          <p:spPr>
            <a:xfrm>
              <a:off x="7132680" y="1642320"/>
              <a:ext cx="8078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Ъ 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5"/>
            <p:cNvSpPr/>
            <p:nvPr/>
          </p:nvSpPr>
          <p:spPr>
            <a:xfrm>
              <a:off x="6328440" y="1642320"/>
              <a:ext cx="8042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6"/>
            <p:cNvSpPr/>
            <p:nvPr/>
          </p:nvSpPr>
          <p:spPr>
            <a:xfrm>
              <a:off x="5520240" y="1642320"/>
              <a:ext cx="8078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7"/>
            <p:cNvSpPr/>
            <p:nvPr/>
          </p:nvSpPr>
          <p:spPr>
            <a:xfrm>
              <a:off x="4715640" y="1642320"/>
              <a:ext cx="80460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8"/>
            <p:cNvSpPr/>
            <p:nvPr/>
          </p:nvSpPr>
          <p:spPr>
            <a:xfrm>
              <a:off x="390924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9"/>
            <p:cNvSpPr/>
            <p:nvPr/>
          </p:nvSpPr>
          <p:spPr>
            <a:xfrm>
              <a:off x="310284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0"/>
            <p:cNvSpPr/>
            <p:nvPr/>
          </p:nvSpPr>
          <p:spPr>
            <a:xfrm>
              <a:off x="229680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1"/>
            <p:cNvSpPr/>
            <p:nvPr/>
          </p:nvSpPr>
          <p:spPr>
            <a:xfrm>
              <a:off x="149040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684360" y="1642320"/>
              <a:ext cx="80604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3"/>
            <p:cNvSpPr/>
            <p:nvPr/>
          </p:nvSpPr>
          <p:spPr>
            <a:xfrm>
              <a:off x="7940880" y="476280"/>
              <a:ext cx="80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"/>
            <p:cNvSpPr/>
            <p:nvPr/>
          </p:nvSpPr>
          <p:spPr>
            <a:xfrm>
              <a:off x="7132680" y="476280"/>
              <a:ext cx="8078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"/>
            <p:cNvSpPr/>
            <p:nvPr/>
          </p:nvSpPr>
          <p:spPr>
            <a:xfrm>
              <a:off x="6328440" y="476280"/>
              <a:ext cx="8042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16"/>
            <p:cNvSpPr/>
            <p:nvPr/>
          </p:nvSpPr>
          <p:spPr>
            <a:xfrm>
              <a:off x="5520240" y="476280"/>
              <a:ext cx="8078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17"/>
            <p:cNvSpPr/>
            <p:nvPr/>
          </p:nvSpPr>
          <p:spPr>
            <a:xfrm>
              <a:off x="4715640" y="476280"/>
              <a:ext cx="80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8"/>
            <p:cNvSpPr/>
            <p:nvPr/>
          </p:nvSpPr>
          <p:spPr>
            <a:xfrm>
              <a:off x="390924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9"/>
            <p:cNvSpPr/>
            <p:nvPr/>
          </p:nvSpPr>
          <p:spPr>
            <a:xfrm>
              <a:off x="310284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0"/>
            <p:cNvSpPr/>
            <p:nvPr/>
          </p:nvSpPr>
          <p:spPr>
            <a:xfrm>
              <a:off x="229680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1"/>
            <p:cNvSpPr/>
            <p:nvPr/>
          </p:nvSpPr>
          <p:spPr>
            <a:xfrm>
              <a:off x="149040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2"/>
            <p:cNvSpPr/>
            <p:nvPr/>
          </p:nvSpPr>
          <p:spPr>
            <a:xfrm>
              <a:off x="684360" y="476280"/>
              <a:ext cx="80604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3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3"/>
            <p:cNvSpPr/>
            <p:nvPr/>
          </p:nvSpPr>
          <p:spPr>
            <a:xfrm>
              <a:off x="684360" y="476280"/>
              <a:ext cx="80614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4"/>
            <p:cNvSpPr/>
            <p:nvPr/>
          </p:nvSpPr>
          <p:spPr>
            <a:xfrm>
              <a:off x="684360" y="1642320"/>
              <a:ext cx="8061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684360" y="3611880"/>
              <a:ext cx="806148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6"/>
            <p:cNvSpPr/>
            <p:nvPr/>
          </p:nvSpPr>
          <p:spPr>
            <a:xfrm>
              <a:off x="684360" y="476280"/>
              <a:ext cx="1080" cy="3135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>
              <a:off x="149040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8"/>
            <p:cNvSpPr/>
            <p:nvPr/>
          </p:nvSpPr>
          <p:spPr>
            <a:xfrm>
              <a:off x="229680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29"/>
            <p:cNvSpPr/>
            <p:nvPr/>
          </p:nvSpPr>
          <p:spPr>
            <a:xfrm>
              <a:off x="31028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30"/>
            <p:cNvSpPr/>
            <p:nvPr/>
          </p:nvSpPr>
          <p:spPr>
            <a:xfrm>
              <a:off x="390924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>
              <a:off x="471564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32"/>
            <p:cNvSpPr/>
            <p:nvPr/>
          </p:nvSpPr>
          <p:spPr>
            <a:xfrm>
              <a:off x="55202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33"/>
            <p:cNvSpPr/>
            <p:nvPr/>
          </p:nvSpPr>
          <p:spPr>
            <a:xfrm>
              <a:off x="632844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34"/>
            <p:cNvSpPr/>
            <p:nvPr/>
          </p:nvSpPr>
          <p:spPr>
            <a:xfrm>
              <a:off x="7132680" y="476280"/>
              <a:ext cx="144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35"/>
            <p:cNvSpPr/>
            <p:nvPr/>
          </p:nvSpPr>
          <p:spPr>
            <a:xfrm>
              <a:off x="7940880" y="476280"/>
              <a:ext cx="1080" cy="313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6"/>
            <p:cNvSpPr/>
            <p:nvPr/>
          </p:nvSpPr>
          <p:spPr>
            <a:xfrm>
              <a:off x="8745840" y="476280"/>
              <a:ext cx="1080" cy="3135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37"/>
          <p:cNvGrpSpPr/>
          <p:nvPr/>
        </p:nvGrpSpPr>
        <p:grpSpPr>
          <a:xfrm>
            <a:off x="900000" y="3933720"/>
            <a:ext cx="7704000" cy="2131920"/>
            <a:chOff x="900000" y="3933720"/>
            <a:chExt cx="7704000" cy="2131920"/>
          </a:xfrm>
        </p:grpSpPr>
        <p:sp>
          <p:nvSpPr>
            <p:cNvPr id="458" name="Rectangle 38"/>
            <p:cNvSpPr/>
            <p:nvPr/>
          </p:nvSpPr>
          <p:spPr>
            <a:xfrm>
              <a:off x="7520040" y="3933720"/>
              <a:ext cx="10825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39"/>
            <p:cNvSpPr/>
            <p:nvPr/>
          </p:nvSpPr>
          <p:spPr>
            <a:xfrm>
              <a:off x="6574320" y="3933720"/>
              <a:ext cx="9457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0"/>
            <p:cNvSpPr/>
            <p:nvPr/>
          </p:nvSpPr>
          <p:spPr>
            <a:xfrm>
              <a:off x="5629680" y="3933720"/>
              <a:ext cx="9442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41"/>
            <p:cNvSpPr/>
            <p:nvPr/>
          </p:nvSpPr>
          <p:spPr>
            <a:xfrm>
              <a:off x="4682520" y="3933720"/>
              <a:ext cx="94716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42"/>
            <p:cNvSpPr/>
            <p:nvPr/>
          </p:nvSpPr>
          <p:spPr>
            <a:xfrm>
              <a:off x="3736080" y="3933720"/>
              <a:ext cx="9460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43"/>
            <p:cNvSpPr/>
            <p:nvPr/>
          </p:nvSpPr>
          <p:spPr>
            <a:xfrm>
              <a:off x="2792160" y="3933720"/>
              <a:ext cx="9439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44"/>
            <p:cNvSpPr/>
            <p:nvPr/>
          </p:nvSpPr>
          <p:spPr>
            <a:xfrm>
              <a:off x="1844280" y="3933720"/>
              <a:ext cx="94752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45"/>
            <p:cNvSpPr/>
            <p:nvPr/>
          </p:nvSpPr>
          <p:spPr>
            <a:xfrm>
              <a:off x="900000" y="3933720"/>
              <a:ext cx="944280" cy="21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4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46"/>
            <p:cNvSpPr/>
            <p:nvPr/>
          </p:nvSpPr>
          <p:spPr>
            <a:xfrm>
              <a:off x="900000" y="3933720"/>
              <a:ext cx="77029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47"/>
            <p:cNvSpPr/>
            <p:nvPr/>
          </p:nvSpPr>
          <p:spPr>
            <a:xfrm>
              <a:off x="900000" y="6064560"/>
              <a:ext cx="77029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48"/>
            <p:cNvSpPr/>
            <p:nvPr/>
          </p:nvSpPr>
          <p:spPr>
            <a:xfrm>
              <a:off x="900000" y="3933720"/>
              <a:ext cx="1440" cy="213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49"/>
            <p:cNvSpPr/>
            <p:nvPr/>
          </p:nvSpPr>
          <p:spPr>
            <a:xfrm>
              <a:off x="18442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50"/>
            <p:cNvSpPr/>
            <p:nvPr/>
          </p:nvSpPr>
          <p:spPr>
            <a:xfrm>
              <a:off x="279216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1"/>
            <p:cNvSpPr/>
            <p:nvPr/>
          </p:nvSpPr>
          <p:spPr>
            <a:xfrm>
              <a:off x="37360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2"/>
            <p:cNvSpPr/>
            <p:nvPr/>
          </p:nvSpPr>
          <p:spPr>
            <a:xfrm>
              <a:off x="468252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53"/>
            <p:cNvSpPr/>
            <p:nvPr/>
          </p:nvSpPr>
          <p:spPr>
            <a:xfrm>
              <a:off x="562968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54"/>
            <p:cNvSpPr/>
            <p:nvPr/>
          </p:nvSpPr>
          <p:spPr>
            <a:xfrm>
              <a:off x="6574320" y="3933720"/>
              <a:ext cx="108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55"/>
            <p:cNvSpPr/>
            <p:nvPr/>
          </p:nvSpPr>
          <p:spPr>
            <a:xfrm>
              <a:off x="7520040" y="3933720"/>
              <a:ext cx="1440" cy="213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56"/>
            <p:cNvSpPr/>
            <p:nvPr/>
          </p:nvSpPr>
          <p:spPr>
            <a:xfrm>
              <a:off x="8602920" y="3933720"/>
              <a:ext cx="1080" cy="213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042920" y="404640"/>
          <a:ext cx="7056360" cy="2476800"/>
        </p:xfrm>
        <a:graphic>
          <a:graphicData uri="http://schemas.openxmlformats.org/drawingml/2006/table">
            <a:tbl>
              <a:tblPr/>
              <a:tblGrid>
                <a:gridCol w="882720"/>
                <a:gridCol w="880920"/>
                <a:gridCol w="882720"/>
                <a:gridCol w="882720"/>
                <a:gridCol w="880920"/>
                <a:gridCol w="882720"/>
                <a:gridCol w="881280"/>
                <a:gridCol w="882360"/>
              </a:tblGrid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М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У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11280" y="3213000"/>
          <a:ext cx="8075520" cy="2917800"/>
        </p:xfrm>
        <a:graphic>
          <a:graphicData uri="http://schemas.openxmlformats.org/drawingml/2006/table">
            <a:tbl>
              <a:tblPr/>
              <a:tblGrid>
                <a:gridCol w="672840"/>
                <a:gridCol w="673200"/>
                <a:gridCol w="673200"/>
                <a:gridCol w="673200"/>
                <a:gridCol w="672840"/>
                <a:gridCol w="673200"/>
                <a:gridCol w="671400"/>
                <a:gridCol w="673200"/>
                <a:gridCol w="673200"/>
                <a:gridCol w="673200"/>
                <a:gridCol w="672840"/>
                <a:gridCol w="6732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9" name=""/>
          <p:cNvGraphicFramePr/>
          <p:nvPr/>
        </p:nvGraphicFramePr>
        <p:xfrm>
          <a:off x="468360" y="333360"/>
          <a:ext cx="7991280" cy="2381400"/>
        </p:xfrm>
        <a:graphic>
          <a:graphicData uri="http://schemas.openxmlformats.org/drawingml/2006/table">
            <a:tbl>
              <a:tblPr/>
              <a:tblGrid>
                <a:gridCol w="798480"/>
                <a:gridCol w="799920"/>
                <a:gridCol w="798840"/>
                <a:gridCol w="799920"/>
                <a:gridCol w="798480"/>
                <a:gridCol w="798480"/>
                <a:gridCol w="800280"/>
                <a:gridCol w="798480"/>
                <a:gridCol w="799920"/>
                <a:gridCol w="7984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457200" y="3213000"/>
          <a:ext cx="8218440" cy="2917800"/>
        </p:xfrm>
        <a:graphic>
          <a:graphicData uri="http://schemas.openxmlformats.org/drawingml/2006/table">
            <a:tbl>
              <a:tblPr/>
              <a:tblGrid>
                <a:gridCol w="685800"/>
                <a:gridCol w="684360"/>
                <a:gridCol w="685800"/>
                <a:gridCol w="684000"/>
                <a:gridCol w="685800"/>
                <a:gridCol w="684360"/>
                <a:gridCol w="682560"/>
                <a:gridCol w="685800"/>
                <a:gridCol w="684360"/>
                <a:gridCol w="685800"/>
                <a:gridCol w="684000"/>
                <a:gridCol w="6858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395280" y="765000"/>
            <a:ext cx="8302320" cy="5040000"/>
            <a:chOff x="395280" y="765000"/>
            <a:chExt cx="8302320" cy="5040000"/>
          </a:xfrm>
        </p:grpSpPr>
        <p:sp>
          <p:nvSpPr>
            <p:cNvPr id="482" name="Rectangle 3"/>
            <p:cNvSpPr/>
            <p:nvPr/>
          </p:nvSpPr>
          <p:spPr>
            <a:xfrm>
              <a:off x="5929920" y="3285000"/>
              <a:ext cx="27662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4"/>
            <p:cNvSpPr/>
            <p:nvPr/>
          </p:nvSpPr>
          <p:spPr>
            <a:xfrm>
              <a:off x="3161520" y="3285000"/>
              <a:ext cx="27680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5"/>
            <p:cNvSpPr/>
            <p:nvPr/>
          </p:nvSpPr>
          <p:spPr>
            <a:xfrm>
              <a:off x="395280" y="3285000"/>
              <a:ext cx="2766240" cy="25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"/>
            <p:cNvSpPr/>
            <p:nvPr/>
          </p:nvSpPr>
          <p:spPr>
            <a:xfrm>
              <a:off x="5929920" y="765000"/>
              <a:ext cx="27662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7"/>
            <p:cNvSpPr/>
            <p:nvPr/>
          </p:nvSpPr>
          <p:spPr>
            <a:xfrm>
              <a:off x="3161520" y="765000"/>
              <a:ext cx="27680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8"/>
            <p:cNvSpPr/>
            <p:nvPr/>
          </p:nvSpPr>
          <p:spPr>
            <a:xfrm>
              <a:off x="395280" y="765000"/>
              <a:ext cx="2766240" cy="25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9"/>
            <p:cNvSpPr/>
            <p:nvPr/>
          </p:nvSpPr>
          <p:spPr>
            <a:xfrm>
              <a:off x="395280" y="765000"/>
              <a:ext cx="8301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10"/>
            <p:cNvSpPr/>
            <p:nvPr/>
          </p:nvSpPr>
          <p:spPr>
            <a:xfrm>
              <a:off x="395280" y="3285000"/>
              <a:ext cx="8301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11"/>
            <p:cNvSpPr/>
            <p:nvPr/>
          </p:nvSpPr>
          <p:spPr>
            <a:xfrm>
              <a:off x="395280" y="5803560"/>
              <a:ext cx="830124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12"/>
            <p:cNvSpPr/>
            <p:nvPr/>
          </p:nvSpPr>
          <p:spPr>
            <a:xfrm>
              <a:off x="395280" y="765000"/>
              <a:ext cx="1080" cy="503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3"/>
            <p:cNvSpPr/>
            <p:nvPr/>
          </p:nvSpPr>
          <p:spPr>
            <a:xfrm>
              <a:off x="3161520" y="765000"/>
              <a:ext cx="1440" cy="503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5929920" y="765000"/>
              <a:ext cx="1080" cy="5038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>
              <a:off x="8696520" y="765000"/>
              <a:ext cx="1080" cy="503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WordArt 16"/>
          <p:cNvSpPr txBox="1"/>
          <p:nvPr/>
        </p:nvSpPr>
        <p:spPr>
          <a:xfrm>
            <a:off x="539640" y="981000"/>
            <a:ext cx="22035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НЫЕ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6" name="WordArt 17"/>
          <p:cNvSpPr txBox="1"/>
          <p:nvPr/>
        </p:nvSpPr>
        <p:spPr>
          <a:xfrm>
            <a:off x="6012000" y="907920"/>
            <a:ext cx="2427120" cy="22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ВЕТОВ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7" name="WordArt 18"/>
          <p:cNvSpPr txBox="1"/>
          <p:nvPr/>
        </p:nvSpPr>
        <p:spPr>
          <a:xfrm>
            <a:off x="3276720" y="3429000"/>
            <a:ext cx="2287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БО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8" name="WordArt 19"/>
          <p:cNvSpPr txBox="1"/>
          <p:nvPr/>
        </p:nvSpPr>
        <p:spPr>
          <a:xfrm>
            <a:off x="250920" y="3213000"/>
            <a:ext cx="2881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ЛЕКТР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ГНИТ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9" name="WordArt 20"/>
          <p:cNvSpPr txBox="1"/>
          <p:nvPr/>
        </p:nvSpPr>
        <p:spPr>
          <a:xfrm>
            <a:off x="3203640" y="836640"/>
            <a:ext cx="252252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ЕХАНИЧЕ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Я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0" name="AutoShape 21">
            <a:hlinkClick r:id="rId1" action="ppaction://hlinksldjump"/>
          </p:cNvPr>
          <p:cNvSpPr/>
          <p:nvPr/>
        </p:nvSpPr>
        <p:spPr>
          <a:xfrm>
            <a:off x="2268360" y="263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2">
            <a:hlinkClick r:id="rId2" action="ppaction://hlinksldjump"/>
          </p:cNvPr>
          <p:cNvSpPr/>
          <p:nvPr/>
        </p:nvSpPr>
        <p:spPr>
          <a:xfrm>
            <a:off x="5219640" y="270828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3">
            <a:hlinkClick r:id="rId3" action="ppaction://hlinksldjump"/>
          </p:cNvPr>
          <p:cNvSpPr/>
          <p:nvPr/>
        </p:nvSpPr>
        <p:spPr>
          <a:xfrm>
            <a:off x="7956720" y="270828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4">
            <a:hlinkClick r:id="rId4" action="ppaction://hlinksldjump"/>
          </p:cNvPr>
          <p:cNvSpPr/>
          <p:nvPr/>
        </p:nvSpPr>
        <p:spPr>
          <a:xfrm>
            <a:off x="234000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5">
            <a:hlinkClick r:id="rId5" action="ppaction://hlinksldjump"/>
          </p:cNvPr>
          <p:cNvSpPr/>
          <p:nvPr/>
        </p:nvSpPr>
        <p:spPr>
          <a:xfrm>
            <a:off x="5003640" y="5157720"/>
            <a:ext cx="505080" cy="35892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387" h="21600">
                <a:moveTo>
                  <a:pt x="0" y="0"/>
                </a:moveTo>
                <a:lnTo>
                  <a:pt x="30387" y="0"/>
                </a:lnTo>
                <a:lnTo>
                  <a:pt x="30387" y="21600"/>
                </a:lnTo>
                <a:lnTo>
                  <a:pt x="0" y="21600"/>
                </a:lnTo>
                <a:close/>
              </a:path>
              <a:path fill="lightenLess" w="30387" h="21600">
                <a:moveTo>
                  <a:pt x="0" y="0"/>
                </a:moveTo>
                <a:lnTo>
                  <a:pt x="30387" y="0"/>
                </a:lnTo>
                <a:lnTo>
                  <a:pt x="28987" y="1400"/>
                </a:lnTo>
                <a:lnTo>
                  <a:pt x="1400" y="1400"/>
                </a:lnTo>
                <a:close/>
              </a:path>
              <a:path fill="darken" w="30387" h="21600">
                <a:moveTo>
                  <a:pt x="30387" y="0"/>
                </a:moveTo>
                <a:lnTo>
                  <a:pt x="30387" y="21600"/>
                </a:lnTo>
                <a:lnTo>
                  <a:pt x="28987" y="20200"/>
                </a:lnTo>
                <a:lnTo>
                  <a:pt x="28987" y="1400"/>
                </a:lnTo>
                <a:close/>
              </a:path>
              <a:path fill="darkenLess" w="30387" h="21600">
                <a:moveTo>
                  <a:pt x="303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87" y="20200"/>
                </a:lnTo>
                <a:close/>
              </a:path>
              <a:path fill="lighten" w="303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6">
            <a:hlinkClick r:id="rId6" action="ppaction://hlinksldjump"/>
          </p:cNvPr>
          <p:cNvSpPr/>
          <p:nvPr/>
        </p:nvSpPr>
        <p:spPr>
          <a:xfrm>
            <a:off x="7885080" y="530064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7">
            <a:hlinkClick r:id="rId7" action="ppaction://hlinksldjump"/>
          </p:cNvPr>
          <p:cNvSpPr/>
          <p:nvPr/>
        </p:nvSpPr>
        <p:spPr>
          <a:xfrm>
            <a:off x="8172360" y="616572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29"/>
          <p:cNvSpPr txBox="1"/>
          <p:nvPr/>
        </p:nvSpPr>
        <p:spPr>
          <a:xfrm>
            <a:off x="6012000" y="3573360"/>
            <a:ext cx="2016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1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екр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000" y="324000"/>
            <a:ext cx="82119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УЧЕНЫЕ</a:t>
            </a: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ФИЗИКИ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7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Древнегреческий ученый, первый создавший учебник физи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2. Итальянский ученый, впервые измеривший атмосферное давл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3.Ученый, на своей голове испытавший действие падающего ябло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ого ученого называют отцом авиа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5. Древнегреческий ученый, который со словами «Эврика! Эврика!» купался в ван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какой стране жил и работал ученый Ленц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7. Ученый, создавший планетарную модель ато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. Древнегреческий ученый, первым высказавшийся, что все вещества состоят их мельчайших част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9. Ученый, доказавший, что нас окружают не только тела, но и пол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ой древнегреческий ученый в 3 веке открыл закон прямолинейного распространения све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. Ученый, во сн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иде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вший таблицу химических элемент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2. Ученый, закон которого объясняет шарообразную форму мыльных пузыр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50 лет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вого полета человека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419280" y="1600200"/>
            <a:ext cx="572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2 апреля 1961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Юрий Алексеевич Гагар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Герой Советского Сою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ANd9GcQd_ohSOnv2HFtrG1HosgGtjmnv1zbnbQETee9RNBxcFqSqRxJ2YA"/>
          <p:cNvPicPr/>
          <p:nvPr/>
        </p:nvPicPr>
        <p:blipFill>
          <a:blip r:embed="rId1"/>
          <a:stretch/>
        </p:blipFill>
        <p:spPr>
          <a:xfrm>
            <a:off x="250920" y="1773360"/>
            <a:ext cx="3133800" cy="4390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ANd9GcRPPZPj55Uwp2Hot-gdXbsYkfPc8L1NyIDo7NV4WKGvXVq-bS1V"/>
          <p:cNvPicPr/>
          <p:nvPr/>
        </p:nvPicPr>
        <p:blipFill>
          <a:blip r:embed="rId2"/>
          <a:stretch/>
        </p:blipFill>
        <p:spPr>
          <a:xfrm>
            <a:off x="4932360" y="3357720"/>
            <a:ext cx="3887640" cy="31492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7"/>
          <p:cNvSpPr/>
          <p:nvPr/>
        </p:nvSpPr>
        <p:spPr>
          <a:xfrm>
            <a:off x="684360" y="630864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осток-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земля"/>
          <p:cNvPicPr/>
          <p:nvPr/>
        </p:nvPicPr>
        <p:blipFill>
          <a:blip r:embed="rId3"/>
          <a:stretch/>
        </p:blipFill>
        <p:spPr>
          <a:xfrm>
            <a:off x="250920" y="33480"/>
            <a:ext cx="115236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Ученый, в честь которого названа единица измерения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Немецкий ученый, установивший зависимость силы тока от напряжения и сопротив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Кто впервые обнаружил взаимодействие проводника с током и магнитной стрел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Изобретатель ради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В честь какого ученого названа единица частоты колебаний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. Первый русский академик, изучавший вместе с профессором Рихманом атмосферное электр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. Ученый, рассчитавший величину электрического заряда элект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честь какого ученого названа единица измерения абсолютной температу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1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Ученый, имя которого носит закон о силе упругости, возникающей при деформац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3">
            <a:hlinkClick r:id="rId1" action="ppaction://hlinksldjump"/>
          </p:cNvPr>
          <p:cNvSpPr/>
          <p:nvPr/>
        </p:nvSpPr>
        <p:spPr>
          <a:xfrm>
            <a:off x="8352000" y="635328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7493"/>
                </a:moveTo>
                <a:lnTo>
                  <a:pt x="13444" y="7493"/>
                </a:lnTo>
                <a:lnTo>
                  <a:pt x="13444" y="12828"/>
                </a:lnTo>
                <a:cubicBezTo>
                  <a:pt x="13444" y="13751"/>
                  <a:pt x="14245" y="14482"/>
                  <a:pt x="15280" y="14482"/>
                </a:cubicBezTo>
                <a:lnTo>
                  <a:pt x="16943" y="14482"/>
                </a:lnTo>
                <a:cubicBezTo>
                  <a:pt x="17979" y="14482"/>
                  <a:pt x="18779" y="13751"/>
                  <a:pt x="18779" y="12828"/>
                </a:cubicBezTo>
                <a:lnTo>
                  <a:pt x="18779" y="7493"/>
                </a:lnTo>
                <a:lnTo>
                  <a:pt x="16943" y="7493"/>
                </a:lnTo>
                <a:lnTo>
                  <a:pt x="20450" y="3985"/>
                </a:lnTo>
                <a:lnTo>
                  <a:pt x="24123" y="7493"/>
                </a:lnTo>
                <a:lnTo>
                  <a:pt x="22287" y="7493"/>
                </a:lnTo>
                <a:lnTo>
                  <a:pt x="22287" y="12828"/>
                </a:lnTo>
                <a:cubicBezTo>
                  <a:pt x="22287" y="15596"/>
                  <a:pt x="19711" y="18155"/>
                  <a:pt x="16943" y="18155"/>
                </a:cubicBezTo>
                <a:lnTo>
                  <a:pt x="15280" y="18155"/>
                </a:lnTo>
                <a:cubicBezTo>
                  <a:pt x="12513" y="18155"/>
                  <a:pt x="9936" y="15596"/>
                  <a:pt x="9936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55640" y="324000"/>
            <a:ext cx="77817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СВЕТОВЫЕ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302680" cy="62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 распространяется свет в однородной прозрачной сре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Разноцветная дуга в небе после дождя в солнечную пого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фокусов у всякой линз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Явление, происходящее при переходе света из одной среды в другую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Экран телевизора – это холодный или горячий источник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цветов в радуг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обирающая линза человеческого гла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стественный источник света для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й буквой обозначается угол падения луч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птический прибор для изучения мельчайших час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Лупа – это собирающая или рассеивающая лин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. Единица измерения оптической силы линз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3. Какое изображение дает рассеивающая линз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Является ли источником света Лу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Как называется расстояние от оптического центра до фокуса линз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Видимое излуч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Чему равен угол отражения, если угол падения луча 30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8. Какие затмения происходят чаще: солнечные или лунны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9. Очки с рассеивающими линзами необходимы при дальнозоркости или близору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0. Чему рав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скорость света в вакуум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1. Возможно ли наблюдать радугу на Лу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7885080" y="566100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8" y="14482"/>
                  <a:pt x="14524" y="14482"/>
                </a:cubicBezTo>
                <a:lnTo>
                  <a:pt x="16187" y="14482"/>
                </a:lnTo>
                <a:cubicBezTo>
                  <a:pt x="17222" y="14482"/>
                  <a:pt x="18023" y="13751"/>
                  <a:pt x="18023" y="12828"/>
                </a:cubicBezTo>
                <a:lnTo>
                  <a:pt x="18023" y="7493"/>
                </a:lnTo>
                <a:lnTo>
                  <a:pt x="16187" y="7493"/>
                </a:lnTo>
                <a:lnTo>
                  <a:pt x="19694" y="3985"/>
                </a:lnTo>
                <a:lnTo>
                  <a:pt x="23367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4" y="18155"/>
                  <a:pt x="16187" y="18155"/>
                </a:cubicBezTo>
                <a:lnTo>
                  <a:pt x="14524" y="18155"/>
                </a:lnTo>
                <a:cubicBezTo>
                  <a:pt x="11756" y="18155"/>
                  <a:pt x="9180" y="15596"/>
                  <a:pt x="918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323640"/>
            <a:ext cx="8223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ЭЛЕКТР</a:t>
            </a: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ОМАГНИТНЫЕ</a:t>
            </a: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видов зарядов существует в природ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ибор, определяющий заряжено тело или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ещества, не проводящие электриче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в знак заряда электрон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уществует ли магнитное поле у Лун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том, потерявший один или несколько электрон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аправленное движение заряженных част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Сколько полюсов у источника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Электрический разряд в атмосфер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 взаимодействуют одноименные заря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й магнитный полюс  на северном географическом полюсе Земли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ое действие электрического ток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блюдается в электрической ламп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ый, теоретически обосновавший существование электромагнитных вол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915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4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тройство, название которого на греческом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зыке означает «создатель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. Единица измерения электрического заря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6. Составная центральная часть ат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7. Устройство дл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мыкания электрической цепи в случае короткого замыкания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. Источником какого тока – постоянного или переменного – является гальванический элемен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9. Что означает в переводе слова «электрон», «электричество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0. Ученый, изучавший живое электричество на лягуш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1. Аппарат для разговора по проводам при помощи электрической энер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2. Обладает ли магнитными свойствами такой металл, как золот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Радиоволна – поперечная или продольна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AutoShape 3"/>
          <p:cNvSpPr/>
          <p:nvPr/>
        </p:nvSpPr>
        <p:spPr>
          <a:xfrm>
            <a:off x="7956720" y="602136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7493"/>
                </a:moveTo>
                <a:lnTo>
                  <a:pt x="8636" y="7493"/>
                </a:lnTo>
                <a:lnTo>
                  <a:pt x="8636" y="12828"/>
                </a:lnTo>
                <a:cubicBezTo>
                  <a:pt x="8636" y="13751"/>
                  <a:pt x="9437" y="14482"/>
                  <a:pt x="10472" y="14482"/>
                </a:cubicBezTo>
                <a:lnTo>
                  <a:pt x="12135" y="14482"/>
                </a:lnTo>
                <a:cubicBezTo>
                  <a:pt x="13171" y="14482"/>
                  <a:pt x="13971" y="13751"/>
                  <a:pt x="13971" y="12828"/>
                </a:cubicBezTo>
                <a:lnTo>
                  <a:pt x="13971" y="7493"/>
                </a:lnTo>
                <a:lnTo>
                  <a:pt x="12135" y="7493"/>
                </a:lnTo>
                <a:lnTo>
                  <a:pt x="15642" y="3985"/>
                </a:lnTo>
                <a:lnTo>
                  <a:pt x="19315" y="7493"/>
                </a:lnTo>
                <a:lnTo>
                  <a:pt x="17479" y="7493"/>
                </a:lnTo>
                <a:lnTo>
                  <a:pt x="17479" y="12828"/>
                </a:lnTo>
                <a:cubicBezTo>
                  <a:pt x="17479" y="15596"/>
                  <a:pt x="14903" y="18155"/>
                  <a:pt x="12135" y="18155"/>
                </a:cubicBezTo>
                <a:lnTo>
                  <a:pt x="10472" y="18155"/>
                </a:lnTo>
                <a:cubicBezTo>
                  <a:pt x="7705" y="18155"/>
                  <a:pt x="5128" y="15596"/>
                  <a:pt x="5128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8598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Arial"/>
              </a:rPr>
              <a:t>МЕХАНИЧЕСКИЕ Я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ело, размерами которого можно пренебречь в данны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зменение взаимного расположения тел с течением време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 обладают тела, способные совершить работ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вижение, при котором не меняется скор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акая физическая величина характеризует инертность те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мя, за которое совершается одно полное колебан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чник звука, испускающий единственную частоту, так называемый «чистый тон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у равно ускорение свободного падения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уны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ектория, описываемая стрелкой ча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вижение, при котором не меняется ускор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Чему равен вес тела массой 50 кг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лебания, частоты которых больше 20 кГц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Физическая величина, характеризующая быстроту выполнения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Какой энергией обладают движущиеся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Дает ли выигрыш в силе неподвижный бл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Отношение пройденного пути ко времени про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Сила, препятствующая движению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Чему равн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я космическая скор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Движение, при котором все точки тела движутся одинако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Раздел механики, изучающий условия покоя т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Ученый, сформулировавший три закона классической механи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метр среды, влияющий на скорость зву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Время обращения Земли вокруг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4. С какой скоростью вращается Земля вокруг своей ос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5. Какой ученый создал геоцентрическую систему мировоззр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824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79640" y="0"/>
            <a:ext cx="5905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Б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449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измерения времен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пределения расстоя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впервые сконструированный Галилее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пределения плотности жид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изобретенный в 1714 году Фаренгейто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ют вес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определяющий расположение частей свет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ют мощн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преобразующий звуковые колебания в электрически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измерения атмосферного да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 прибором измеряется объем жидк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, фиксирующий электромагнитные колеба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бор для обнаружения электрического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4. Динамометр, определяющий мускульную сил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5. Прибор, с помощью которого сделал свое открытие Броун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. Прибор, измеряющий работу электрического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7. Прибор для измерения массы т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8. Прибор, определяющий давление, больше или меньше атмосферног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. Прибор для определения влажности воздух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. Прибор, измеряющий силу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1. Прибор для измерения электрического сопротивл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2. Прибор для измерения скорости движени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3. Прибор, изменяющий силу тока в цеп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4. Прибор для измерения напряжения то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5. Прибор, определяющий степень электризации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8172360" y="6165720"/>
            <a:ext cx="792360" cy="505080"/>
          </a:xfrm>
          <a:custGeom>
            <a:avLst/>
            <a:gdLst>
              <a:gd name="textAreaLeft" fmla="*/ 32760 w 792360"/>
              <a:gd name="textAreaRight" fmla="*/ 759960 w 792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77" h="21600">
                <a:moveTo>
                  <a:pt x="9932" y="7493"/>
                </a:moveTo>
                <a:lnTo>
                  <a:pt x="13440" y="7493"/>
                </a:lnTo>
                <a:lnTo>
                  <a:pt x="13440" y="12828"/>
                </a:lnTo>
                <a:cubicBezTo>
                  <a:pt x="13440" y="13751"/>
                  <a:pt x="14240" y="14482"/>
                  <a:pt x="15276" y="14482"/>
                </a:cubicBezTo>
                <a:lnTo>
                  <a:pt x="16938" y="14482"/>
                </a:lnTo>
                <a:cubicBezTo>
                  <a:pt x="17974" y="14482"/>
                  <a:pt x="18775" y="13751"/>
                  <a:pt x="18775" y="12828"/>
                </a:cubicBezTo>
                <a:lnTo>
                  <a:pt x="18775" y="7493"/>
                </a:lnTo>
                <a:lnTo>
                  <a:pt x="16938" y="7493"/>
                </a:lnTo>
                <a:lnTo>
                  <a:pt x="20446" y="3985"/>
                </a:lnTo>
                <a:lnTo>
                  <a:pt x="24119" y="7493"/>
                </a:lnTo>
                <a:lnTo>
                  <a:pt x="22283" y="7493"/>
                </a:lnTo>
                <a:lnTo>
                  <a:pt x="22283" y="12828"/>
                </a:lnTo>
                <a:cubicBezTo>
                  <a:pt x="22283" y="15596"/>
                  <a:pt x="19706" y="18155"/>
                  <a:pt x="16938" y="18155"/>
                </a:cubicBezTo>
                <a:lnTo>
                  <a:pt x="15276" y="18155"/>
                </a:lnTo>
                <a:cubicBezTo>
                  <a:pt x="12508" y="18155"/>
                  <a:pt x="9932" y="15596"/>
                  <a:pt x="9932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СМ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ольский ученый, который создал теорию о вращении Земли и заложил основы современной астроном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Ученый, внесший большой вклад в научную и техническую разработку космических полетов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ими часами следует измерять время в условиях невесомости: маятниковыми, пружинными или песочным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го называют отцом космонавт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ово примерно расстояние от Земли до Солнц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называется наша Галакти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Ученый, впервые спроектировавший ракету для межпланетных сообщ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-52992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звезда: желтая или белая имеет большую температур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Циолковский Константин Эдуард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726923806"/>
          <p:cNvPicPr/>
          <p:nvPr/>
        </p:nvPicPr>
        <p:blipFill>
          <a:blip r:embed="rId1"/>
          <a:stretch/>
        </p:blipFill>
        <p:spPr>
          <a:xfrm>
            <a:off x="3851280" y="1844640"/>
            <a:ext cx="4608360" cy="3686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ziol"/>
          <p:cNvPicPr/>
          <p:nvPr/>
        </p:nvPicPr>
        <p:blipFill>
          <a:blip r:embed="rId2"/>
          <a:stretch/>
        </p:blipFill>
        <p:spPr>
          <a:xfrm>
            <a:off x="250920" y="1773360"/>
            <a:ext cx="3249360" cy="3671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земля"/>
          <p:cNvPicPr/>
          <p:nvPr/>
        </p:nvPicPr>
        <p:blipFill>
          <a:blip r:embed="rId3"/>
          <a:stretch/>
        </p:blipFill>
        <p:spPr>
          <a:xfrm>
            <a:off x="7667640" y="0"/>
            <a:ext cx="1476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9. Чудо – птица, алый хвост, полетела  в стаю звезд. Что эт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0. Кому из летчиков - космонавтов принадлежит фраза «Поехали!»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. Самая большая планета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2. Что легче: улететь с Земли на Луну или с Луны на Земл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3. Планета Сс, названная в честь богини любв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4. Действует ли сила тяжести в состоянии невесомост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5. Можно ли сварить вкрутую яйцо на Марс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6. Кто первым ступил на поверхность Лу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7. Ученый, открывший 4 спутника Юпитер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. Способ общения между космонавтами во время полет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9. Красная планета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. Каков примерно радиус Земл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1. Группа звезд на неб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2. Самый распространенный газ во Вселенно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3. Одно из малых тел Сс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4. Линия, разделяющая светлую и темную стороны Лун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 Какой буквой названа самая яркая звезда созвезд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4"/>
          <p:cNvSpPr/>
          <p:nvPr/>
        </p:nvSpPr>
        <p:spPr>
          <a:xfrm>
            <a:off x="8172360" y="6165720"/>
            <a:ext cx="792360" cy="505080"/>
          </a:xfrm>
          <a:custGeom>
            <a:avLst/>
            <a:gdLst>
              <a:gd name="textAreaLeft" fmla="*/ 32760 w 792360"/>
              <a:gd name="textAreaRight" fmla="*/ 759960 w 792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77" h="21600">
                <a:moveTo>
                  <a:pt x="9932" y="7493"/>
                </a:moveTo>
                <a:lnTo>
                  <a:pt x="13440" y="7493"/>
                </a:lnTo>
                <a:lnTo>
                  <a:pt x="13440" y="12828"/>
                </a:lnTo>
                <a:cubicBezTo>
                  <a:pt x="13440" y="13751"/>
                  <a:pt x="14240" y="14482"/>
                  <a:pt x="15276" y="14482"/>
                </a:cubicBezTo>
                <a:lnTo>
                  <a:pt x="16938" y="14482"/>
                </a:lnTo>
                <a:cubicBezTo>
                  <a:pt x="17974" y="14482"/>
                  <a:pt x="18775" y="13751"/>
                  <a:pt x="18775" y="12828"/>
                </a:cubicBezTo>
                <a:lnTo>
                  <a:pt x="18775" y="7493"/>
                </a:lnTo>
                <a:lnTo>
                  <a:pt x="16938" y="7493"/>
                </a:lnTo>
                <a:lnTo>
                  <a:pt x="20446" y="3985"/>
                </a:lnTo>
                <a:lnTo>
                  <a:pt x="24119" y="7493"/>
                </a:lnTo>
                <a:lnTo>
                  <a:pt x="22283" y="7493"/>
                </a:lnTo>
                <a:lnTo>
                  <a:pt x="22283" y="12828"/>
                </a:lnTo>
                <a:cubicBezTo>
                  <a:pt x="22283" y="15596"/>
                  <a:pt x="19706" y="18155"/>
                  <a:pt x="16938" y="18155"/>
                </a:cubicBezTo>
                <a:lnTo>
                  <a:pt x="15276" y="18155"/>
                </a:lnTo>
                <a:cubicBezTo>
                  <a:pt x="12508" y="18155"/>
                  <a:pt x="9932" y="15596"/>
                  <a:pt x="9932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ополнительное задани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2 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ое количество теплоты отдает стакан кипятка (250 см³), остывая до температуры 14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l-GR" sz="36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1000кг/м³·0,00025м³=025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0,25кг·4200Дж/(кг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·(100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- 14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)== 90300 Дж = 90,3 кД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0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468360" y="981000"/>
            <a:ext cx="8229240" cy="4530600"/>
            <a:chOff x="468360" y="981000"/>
            <a:chExt cx="8229240" cy="4530600"/>
          </a:xfrm>
        </p:grpSpPr>
        <p:sp>
          <p:nvSpPr>
            <p:cNvPr id="535" name="Rectangle 3"/>
            <p:cNvSpPr/>
            <p:nvPr/>
          </p:nvSpPr>
          <p:spPr>
            <a:xfrm>
              <a:off x="595368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4"/>
            <p:cNvSpPr/>
            <p:nvPr/>
          </p:nvSpPr>
          <p:spPr>
            <a:xfrm>
              <a:off x="321084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5"/>
            <p:cNvSpPr/>
            <p:nvPr/>
          </p:nvSpPr>
          <p:spPr>
            <a:xfrm>
              <a:off x="468360" y="324576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6"/>
            <p:cNvSpPr/>
            <p:nvPr/>
          </p:nvSpPr>
          <p:spPr>
            <a:xfrm>
              <a:off x="595368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7"/>
            <p:cNvSpPr/>
            <p:nvPr/>
          </p:nvSpPr>
          <p:spPr>
            <a:xfrm>
              <a:off x="321084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 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8"/>
            <p:cNvSpPr/>
            <p:nvPr/>
          </p:nvSpPr>
          <p:spPr>
            <a:xfrm>
              <a:off x="468360" y="981000"/>
              <a:ext cx="2742480" cy="226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ОПЫТ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№ </a:t>
              </a:r>
              <a:r>
                <a:rPr b="1" i="1" lang="en-GB" sz="40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i="1" lang="ru-RU" sz="40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40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9"/>
            <p:cNvSpPr/>
            <p:nvPr/>
          </p:nvSpPr>
          <p:spPr>
            <a:xfrm>
              <a:off x="468360" y="981000"/>
              <a:ext cx="822816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0"/>
            <p:cNvSpPr/>
            <p:nvPr/>
          </p:nvSpPr>
          <p:spPr>
            <a:xfrm>
              <a:off x="468360" y="3245760"/>
              <a:ext cx="822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1"/>
            <p:cNvSpPr/>
            <p:nvPr/>
          </p:nvSpPr>
          <p:spPr>
            <a:xfrm>
              <a:off x="468360" y="5510520"/>
              <a:ext cx="82281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2"/>
            <p:cNvSpPr/>
            <p:nvPr/>
          </p:nvSpPr>
          <p:spPr>
            <a:xfrm>
              <a:off x="468360" y="981000"/>
              <a:ext cx="1080" cy="452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13"/>
            <p:cNvSpPr/>
            <p:nvPr/>
          </p:nvSpPr>
          <p:spPr>
            <a:xfrm>
              <a:off x="3210840" y="981000"/>
              <a:ext cx="1080" cy="452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14"/>
            <p:cNvSpPr/>
            <p:nvPr/>
          </p:nvSpPr>
          <p:spPr>
            <a:xfrm>
              <a:off x="5953680" y="981000"/>
              <a:ext cx="1080" cy="452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15"/>
            <p:cNvSpPr/>
            <p:nvPr/>
          </p:nvSpPr>
          <p:spPr>
            <a:xfrm>
              <a:off x="8696520" y="981000"/>
              <a:ext cx="1080" cy="452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AutoShape 16"/>
          <p:cNvSpPr/>
          <p:nvPr/>
        </p:nvSpPr>
        <p:spPr>
          <a:xfrm>
            <a:off x="7956720" y="486900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40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40" y="20200"/>
                </a:lnTo>
                <a:lnTo>
                  <a:pt x="36340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0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/>
          <p:cNvSpPr/>
          <p:nvPr/>
        </p:nvSpPr>
        <p:spPr>
          <a:xfrm>
            <a:off x="5219640" y="494172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/>
          <p:cNvSpPr/>
          <p:nvPr/>
        </p:nvSpPr>
        <p:spPr>
          <a:xfrm>
            <a:off x="2411280" y="494172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/>
          <p:cNvSpPr/>
          <p:nvPr/>
        </p:nvSpPr>
        <p:spPr>
          <a:xfrm>
            <a:off x="7812000" y="2708280"/>
            <a:ext cx="505080" cy="28908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719" h="21600">
                <a:moveTo>
                  <a:pt x="0" y="0"/>
                </a:moveTo>
                <a:lnTo>
                  <a:pt x="37719" y="0"/>
                </a:lnTo>
                <a:lnTo>
                  <a:pt x="37719" y="21600"/>
                </a:lnTo>
                <a:lnTo>
                  <a:pt x="0" y="21600"/>
                </a:lnTo>
                <a:close/>
              </a:path>
              <a:path fill="lightenLess" w="37719" h="21600">
                <a:moveTo>
                  <a:pt x="0" y="0"/>
                </a:moveTo>
                <a:lnTo>
                  <a:pt x="37719" y="0"/>
                </a:lnTo>
                <a:lnTo>
                  <a:pt x="36319" y="1400"/>
                </a:lnTo>
                <a:lnTo>
                  <a:pt x="1400" y="1400"/>
                </a:lnTo>
                <a:close/>
              </a:path>
              <a:path fill="darken" w="37719" h="21600">
                <a:moveTo>
                  <a:pt x="37719" y="0"/>
                </a:moveTo>
                <a:lnTo>
                  <a:pt x="37719" y="21600"/>
                </a:lnTo>
                <a:lnTo>
                  <a:pt x="36319" y="20200"/>
                </a:lnTo>
                <a:lnTo>
                  <a:pt x="36319" y="1400"/>
                </a:lnTo>
                <a:close/>
              </a:path>
              <a:path fill="darkenLess" w="37719" h="21600">
                <a:moveTo>
                  <a:pt x="37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19" y="20200"/>
                </a:lnTo>
                <a:close/>
              </a:path>
              <a:path fill="lighten" w="37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/>
          <p:cNvSpPr/>
          <p:nvPr/>
        </p:nvSpPr>
        <p:spPr>
          <a:xfrm>
            <a:off x="5148360" y="2708280"/>
            <a:ext cx="504720" cy="28908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693" h="21600">
                <a:moveTo>
                  <a:pt x="0" y="0"/>
                </a:moveTo>
                <a:lnTo>
                  <a:pt x="37693" y="0"/>
                </a:lnTo>
                <a:lnTo>
                  <a:pt x="37693" y="21600"/>
                </a:lnTo>
                <a:lnTo>
                  <a:pt x="0" y="21600"/>
                </a:lnTo>
                <a:close/>
              </a:path>
              <a:path fill="lightenLess" w="37693" h="21600">
                <a:moveTo>
                  <a:pt x="0" y="0"/>
                </a:moveTo>
                <a:lnTo>
                  <a:pt x="37693" y="0"/>
                </a:lnTo>
                <a:lnTo>
                  <a:pt x="36293" y="1400"/>
                </a:lnTo>
                <a:lnTo>
                  <a:pt x="1400" y="1400"/>
                </a:lnTo>
                <a:close/>
              </a:path>
              <a:path fill="darken" w="37693" h="21600">
                <a:moveTo>
                  <a:pt x="37693" y="0"/>
                </a:moveTo>
                <a:lnTo>
                  <a:pt x="37693" y="21600"/>
                </a:lnTo>
                <a:lnTo>
                  <a:pt x="36293" y="20200"/>
                </a:lnTo>
                <a:lnTo>
                  <a:pt x="36293" y="1400"/>
                </a:lnTo>
                <a:close/>
              </a:path>
              <a:path fill="darkenLess" w="37693" h="21600">
                <a:moveTo>
                  <a:pt x="376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93" y="20200"/>
                </a:lnTo>
                <a:close/>
              </a:path>
              <a:path fill="lighten" w="376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/>
          <p:cNvSpPr/>
          <p:nvPr/>
        </p:nvSpPr>
        <p:spPr>
          <a:xfrm>
            <a:off x="2411280" y="2781360"/>
            <a:ext cx="505080" cy="288720"/>
          </a:xfrm>
          <a:custGeom>
            <a:avLst/>
            <a:gdLst>
              <a:gd name="textAreaLeft" fmla="*/ 18720 w 505080"/>
              <a:gd name="textAreaRight" fmla="*/ 486360 w 50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66" h="21600">
                <a:moveTo>
                  <a:pt x="0" y="0"/>
                </a:moveTo>
                <a:lnTo>
                  <a:pt x="37766" y="0"/>
                </a:lnTo>
                <a:lnTo>
                  <a:pt x="37766" y="21600"/>
                </a:lnTo>
                <a:lnTo>
                  <a:pt x="0" y="21600"/>
                </a:lnTo>
                <a:close/>
              </a:path>
              <a:path fill="lightenLess" w="37766" h="21600">
                <a:moveTo>
                  <a:pt x="0" y="0"/>
                </a:moveTo>
                <a:lnTo>
                  <a:pt x="37766" y="0"/>
                </a:lnTo>
                <a:lnTo>
                  <a:pt x="36366" y="1400"/>
                </a:lnTo>
                <a:lnTo>
                  <a:pt x="1400" y="1400"/>
                </a:lnTo>
                <a:close/>
              </a:path>
              <a:path fill="darken" w="37766" h="21600">
                <a:moveTo>
                  <a:pt x="37766" y="0"/>
                </a:moveTo>
                <a:lnTo>
                  <a:pt x="37766" y="21600"/>
                </a:lnTo>
                <a:lnTo>
                  <a:pt x="36366" y="20200"/>
                </a:lnTo>
                <a:lnTo>
                  <a:pt x="36366" y="1400"/>
                </a:lnTo>
                <a:close/>
              </a:path>
              <a:path fill="darkenLess" w="37766" h="21600">
                <a:moveTo>
                  <a:pt x="37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66" y="20200"/>
                </a:lnTo>
                <a:close/>
              </a:path>
              <a:path fill="lighten" w="37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/>
          <p:cNvSpPr/>
          <p:nvPr/>
        </p:nvSpPr>
        <p:spPr>
          <a:xfrm>
            <a:off x="8317080" y="6237360"/>
            <a:ext cx="504720" cy="288720"/>
          </a:xfrm>
          <a:custGeom>
            <a:avLst/>
            <a:gdLst>
              <a:gd name="textAreaLeft" fmla="*/ 18720 w 504720"/>
              <a:gd name="textAreaRight" fmla="*/ 486000 w 504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7739" h="21600">
                <a:moveTo>
                  <a:pt x="0" y="0"/>
                </a:moveTo>
                <a:lnTo>
                  <a:pt x="37739" y="0"/>
                </a:lnTo>
                <a:lnTo>
                  <a:pt x="37739" y="21600"/>
                </a:lnTo>
                <a:lnTo>
                  <a:pt x="0" y="21600"/>
                </a:lnTo>
                <a:close/>
              </a:path>
              <a:path fill="lightenLess" w="37739" h="21600">
                <a:moveTo>
                  <a:pt x="0" y="0"/>
                </a:moveTo>
                <a:lnTo>
                  <a:pt x="37739" y="0"/>
                </a:lnTo>
                <a:lnTo>
                  <a:pt x="36340" y="1400"/>
                </a:lnTo>
                <a:lnTo>
                  <a:pt x="1400" y="1400"/>
                </a:lnTo>
                <a:close/>
              </a:path>
              <a:path fill="darken" w="37739" h="21600">
                <a:moveTo>
                  <a:pt x="37739" y="0"/>
                </a:moveTo>
                <a:lnTo>
                  <a:pt x="37739" y="21600"/>
                </a:lnTo>
                <a:lnTo>
                  <a:pt x="36340" y="20200"/>
                </a:lnTo>
                <a:lnTo>
                  <a:pt x="36340" y="1400"/>
                </a:lnTo>
                <a:close/>
              </a:path>
              <a:path fill="darkenLess" w="37739" h="21600">
                <a:moveTo>
                  <a:pt x="37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0" y="20200"/>
                </a:lnTo>
                <a:close/>
              </a:path>
              <a:path fill="lighten" w="37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353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«На взлете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Что является причиной движения шари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ижение шарика является реактивным, основанным на законе сохранения импульса. Струи воздуха, вырываемые из шарика с одной скоростью, придают скорость шарику, имеющую направление противоположное направлению скорости воздуха. Чем больше скорость вырываемого воздуха, тем больше скорость полета шар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8317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" descr="jet1"/>
          <p:cNvPicPr/>
          <p:nvPr/>
        </p:nvPicPr>
        <p:blipFill>
          <a:blip r:embed="rId1"/>
          <a:stretch/>
        </p:blipFill>
        <p:spPr>
          <a:xfrm rot="16200000">
            <a:off x="-156240" y="776880"/>
            <a:ext cx="169056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0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«Полет монеты и бумажк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Почему в первом опыте бумажка отстает от монеты, а во втором они падают одновременн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характер движения влияют в основном две силы: сила тяжест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g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и сопротивление воздуха, зависящее от формы и размеров тела  и физических свойств среды, в которой движется среда. Из 2 закона Ньютон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=g-Fₒ/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скорение падающего тела зависит от массы: чем больше масса, тем больше ускорение его движения. Поэтому ускорение монеты больше. Во втором случа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ₒ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действует только на монету, а сила тяжести сообщает одинаковое ускорение, в следствии чего монета и бумажка упадут одновременно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849636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РЕЗКИЙ УДАР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шарик увеличивается в объеме с каждым выдохом человека и в конечном итоге шарик лопну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дуваемая порция воздуха увеличивает внутреннее давление газа, в результате чего шар и увеличивается в объеме. При максимальном внутреннем давлении воздуха резина шарика разрывается и шарик лопаетс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838836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МЫЛЬНЫЙ ПУЗЫРЬ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мыльный пузырь некоторое время поднимается вверх, а потом опускае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дух, вдуваемый человеком в мыльный пузырь, теплый и его плотность меньше плотности окружающего воздуха. Поэтому мыльный пузырь сначала поднимается. Через некоторое время воздух в пузыре охлаждается, его плотность станет больше и пузырь начнет снижа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4"/>
          <p:cNvSpPr/>
          <p:nvPr/>
        </p:nvSpPr>
        <p:spPr>
          <a:xfrm>
            <a:off x="824400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ВЕДЕРКО С ВОДО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вода не выливается из опрокинутого вверх дном ведер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казанный случай – проявление инерции, правда вращать ведро надо достаточно быстро. Расчеты показывают, что для радиуса вращени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=70 см достаточно круговой скорости 2,6 м/с, что соответствует частоте вращения руки – полтора оборота в секунд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да не выливается из вращающегося ведра вследствие своей ине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8172360" y="602136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пыт №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«Загадка воздушного шарик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Arial"/>
              </a:rPr>
              <a:t>Почему воздушный шар, потертый о шерсть, притягивается к поверхности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 трении шара о шерсть из-за движения свободных электронов происходит процесс электризации, в результате чего на поверхности шара и шерсти накапливается электрический заряд. Наэлектризованное тело способно притягивать к себе различные тела: пушинки, ворсинки меха, кусочки бумаги и т.д. и притягиваться само к той или и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831708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7493"/>
                </a:moveTo>
                <a:lnTo>
                  <a:pt x="10347" y="7493"/>
                </a:lnTo>
                <a:lnTo>
                  <a:pt x="10347" y="12828"/>
                </a:lnTo>
                <a:cubicBezTo>
                  <a:pt x="10347" y="13751"/>
                  <a:pt x="11148" y="14482"/>
                  <a:pt x="12184" y="14482"/>
                </a:cubicBezTo>
                <a:lnTo>
                  <a:pt x="13846" y="14482"/>
                </a:lnTo>
                <a:cubicBezTo>
                  <a:pt x="14882" y="14482"/>
                  <a:pt x="15683" y="13751"/>
                  <a:pt x="15683" y="12828"/>
                </a:cubicBezTo>
                <a:lnTo>
                  <a:pt x="15683" y="7493"/>
                </a:lnTo>
                <a:lnTo>
                  <a:pt x="13846" y="7493"/>
                </a:lnTo>
                <a:lnTo>
                  <a:pt x="17354" y="3985"/>
                </a:lnTo>
                <a:lnTo>
                  <a:pt x="21027" y="7493"/>
                </a:lnTo>
                <a:lnTo>
                  <a:pt x="19190" y="7493"/>
                </a:lnTo>
                <a:lnTo>
                  <a:pt x="19190" y="12828"/>
                </a:lnTo>
                <a:cubicBezTo>
                  <a:pt x="19190" y="15596"/>
                  <a:pt x="16614" y="18155"/>
                  <a:pt x="13846" y="18155"/>
                </a:cubicBezTo>
                <a:lnTo>
                  <a:pt x="12184" y="18155"/>
                </a:lnTo>
                <a:cubicBezTo>
                  <a:pt x="9416" y="18155"/>
                  <a:pt x="6840" y="15596"/>
                  <a:pt x="6840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2"/>
          <p:cNvSpPr txBox="1"/>
          <p:nvPr/>
        </p:nvSpPr>
        <p:spPr>
          <a:xfrm>
            <a:off x="395280" y="0"/>
            <a:ext cx="8353440" cy="734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бедителя иг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САМЫЙ УМ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ИЗИК - 2011"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75" name="Picture 4" descr="7b3"/>
          <p:cNvPicPr/>
          <p:nvPr/>
        </p:nvPicPr>
        <p:blipFill>
          <a:blip r:embed="rId1"/>
          <a:stretch/>
        </p:blipFill>
        <p:spPr>
          <a:xfrm>
            <a:off x="1763640" y="1159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7b3"/>
          <p:cNvPicPr/>
          <p:nvPr/>
        </p:nvPicPr>
        <p:blipFill>
          <a:blip r:embed="rId2"/>
          <a:stretch/>
        </p:blipFill>
        <p:spPr>
          <a:xfrm>
            <a:off x="7740720" y="5445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7b3"/>
          <p:cNvPicPr/>
          <p:nvPr/>
        </p:nvPicPr>
        <p:blipFill>
          <a:blip r:embed="rId3"/>
          <a:stretch/>
        </p:blipFill>
        <p:spPr>
          <a:xfrm>
            <a:off x="5219640" y="53006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7b3"/>
          <p:cNvPicPr/>
          <p:nvPr/>
        </p:nvPicPr>
        <p:blipFill>
          <a:blip r:embed="rId4"/>
          <a:stretch/>
        </p:blipFill>
        <p:spPr>
          <a:xfrm>
            <a:off x="6443640" y="443700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7b3"/>
          <p:cNvPicPr/>
          <p:nvPr/>
        </p:nvPicPr>
        <p:blipFill>
          <a:blip r:embed="rId5"/>
          <a:stretch/>
        </p:blipFill>
        <p:spPr>
          <a:xfrm>
            <a:off x="611280" y="6206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0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Королев Сергей Павло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korolev2"/>
          <p:cNvPicPr/>
          <p:nvPr/>
        </p:nvPicPr>
        <p:blipFill>
          <a:blip r:embed="rId1"/>
          <a:stretch/>
        </p:blipFill>
        <p:spPr>
          <a:xfrm>
            <a:off x="4859280" y="1341360"/>
            <a:ext cx="3684600" cy="5040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ANd9GcQrMIEhf-8tHTkCl72VeBhko23NF_k_fgqtdDnx-Gb_qSdX6L9U"/>
          <p:cNvPicPr/>
          <p:nvPr/>
        </p:nvPicPr>
        <p:blipFill>
          <a:blip r:embed="rId2"/>
          <a:stretch/>
        </p:blipFill>
        <p:spPr>
          <a:xfrm>
            <a:off x="179280" y="4221000"/>
            <a:ext cx="3800520" cy="22003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ANd9GcTyv4RAXnfQjUb79IuOpe9XmR5ifykux8dK9lH1vZmpRc_jMGHL"/>
          <p:cNvPicPr/>
          <p:nvPr/>
        </p:nvPicPr>
        <p:blipFill>
          <a:blip r:embed="rId3"/>
          <a:stretch/>
        </p:blipFill>
        <p:spPr>
          <a:xfrm>
            <a:off x="324000" y="1314360"/>
            <a:ext cx="3384360" cy="2670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земля"/>
          <p:cNvPicPr/>
          <p:nvPr/>
        </p:nvPicPr>
        <p:blipFill>
          <a:blip r:embed="rId4"/>
          <a:stretch/>
        </p:blipFill>
        <p:spPr>
          <a:xfrm>
            <a:off x="8101080" y="0"/>
            <a:ext cx="10429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536486[1]"/>
          <p:cNvPicPr/>
          <p:nvPr/>
        </p:nvPicPr>
        <p:blipFill>
          <a:blip r:embed="rId1"/>
          <a:stretch/>
        </p:blipFill>
        <p:spPr>
          <a:xfrm>
            <a:off x="755640" y="0"/>
            <a:ext cx="7128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земля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381142[1]"/>
          <p:cNvPicPr/>
          <p:nvPr/>
        </p:nvPicPr>
        <p:blipFill>
          <a:blip r:embed="rId1"/>
          <a:stretch/>
        </p:blipFill>
        <p:spPr>
          <a:xfrm>
            <a:off x="1476360" y="0"/>
            <a:ext cx="575964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земля"/>
          <p:cNvPicPr/>
          <p:nvPr/>
        </p:nvPicPr>
        <p:blipFill>
          <a:blip r:embed="rId2"/>
          <a:stretch/>
        </p:blipFill>
        <p:spPr>
          <a:xfrm>
            <a:off x="0" y="0"/>
            <a:ext cx="147636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317446[1]"/>
          <p:cNvPicPr/>
          <p:nvPr/>
        </p:nvPicPr>
        <p:blipFill>
          <a:blip r:embed="rId1"/>
          <a:stretch/>
        </p:blipFill>
        <p:spPr>
          <a:xfrm>
            <a:off x="1209600" y="0"/>
            <a:ext cx="6667560" cy="68580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земля"/>
          <p:cNvPicPr/>
          <p:nvPr/>
        </p:nvPicPr>
        <p:blipFill>
          <a:blip r:embed="rId2"/>
          <a:stretch/>
        </p:blipFill>
        <p:spPr>
          <a:xfrm>
            <a:off x="0" y="0"/>
            <a:ext cx="1187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300355[1]"/>
          <p:cNvPicPr/>
          <p:nvPr/>
        </p:nvPicPr>
        <p:blipFill>
          <a:blip r:embed="rId1"/>
          <a:stretch/>
        </p:blipFill>
        <p:spPr>
          <a:xfrm>
            <a:off x="1116000" y="0"/>
            <a:ext cx="6696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300355[1]"/>
          <p:cNvPicPr/>
          <p:nvPr/>
        </p:nvPicPr>
        <p:blipFill>
          <a:blip r:embed="rId2"/>
          <a:stretch/>
        </p:blipFill>
        <p:spPr>
          <a:xfrm>
            <a:off x="1116000" y="0"/>
            <a:ext cx="6696000" cy="6858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земля"/>
          <p:cNvPicPr/>
          <p:nvPr/>
        </p:nvPicPr>
        <p:blipFill>
          <a:blip r:embed="rId3"/>
          <a:stretch/>
        </p:blipFill>
        <p:spPr>
          <a:xfrm>
            <a:off x="0" y="0"/>
            <a:ext cx="11872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462858[1]"/>
          <p:cNvPicPr/>
          <p:nvPr/>
        </p:nvPicPr>
        <p:blipFill>
          <a:blip r:embed="rId1"/>
          <a:stretch/>
        </p:blipFill>
        <p:spPr>
          <a:xfrm>
            <a:off x="179280" y="189000"/>
            <a:ext cx="8856720" cy="64468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земля"/>
          <p:cNvPicPr/>
          <p:nvPr/>
        </p:nvPicPr>
        <p:blipFill>
          <a:blip r:embed="rId2"/>
          <a:stretch/>
        </p:blipFill>
        <p:spPr>
          <a:xfrm>
            <a:off x="7740720" y="189000"/>
            <a:ext cx="1295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9:49:24Z</dcterms:created>
  <dc:creator>учитель</dc:creator>
  <dc:description/>
  <dc:language>en-US</dc:language>
  <cp:lastModifiedBy>Ирина</cp:lastModifiedBy>
  <dcterms:modified xsi:type="dcterms:W3CDTF">2013-02-07T18:36:51Z</dcterms:modified>
  <cp:revision>24</cp:revision>
  <dc:subject/>
  <dc:title>Слайд 1</dc:title>
</cp:coreProperties>
</file>