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.png" ContentType="image/png"/>
  <Override PartName="/ppt/media/image19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4.wmf" ContentType="image/x-wmf"/>
  <Override PartName="/ppt/media/image12.jpeg" ContentType="image/jpe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C5B3-3F0E-4FEE-9454-69FCB782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3FF6-E618-4C98-9302-9257B7DC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4D5-C7D3-4FDC-B738-9FBD533A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8688-39DE-46A3-A516-3F77DA8C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2F2D-3276-453C-97AB-D93932AE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D99E-F06D-4DBF-BC03-BD7786EF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84D9-EAF4-4A7D-9CDB-33DF729B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B256-9819-4951-94D9-BA7A8D08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F60-366D-4497-8846-147EDB04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F5B2-3684-4F29-8205-D81417B6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E2AA-2ED4-44E1-96FB-CBA4DD26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7B38-7284-44FA-B0D1-DC39BB8B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A954-D602-463E-B4B6-B4F71ED67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Классный ча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90560" y="2637000"/>
            <a:ext cx="83534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Ты и тво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уща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фессия 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6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Имиджмейкер должен уме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едугадывать ситу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Разбираться во всех мелоч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Убедить клиента в важности перемен во внешности, в поведении, в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350676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075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Требования к деловым качествам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сокий уровень понятийн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витые коммуникативные  организаторские спосо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мение получать и обрабатывать нужную информацию, оценивать, сравнивать и усваивать 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еативность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3456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Медицинские противопоказ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ыраженные дефекты ре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альтониз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ыраженные нервно-психологические заболе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900760" y="2492280"/>
            <a:ext cx="26179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Художник по костюм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Хороший глазом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Чувство гармонии и вку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Способность  воспринимать и различать широкий спектр цветов и их оттен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Художественные спосо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Высокий уровень развития памя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Хорошее развитие мелкой моторики 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4624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3739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арикмах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43909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Толерантность к многочисленным межличностным контакт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Хорошо развитая тонкая моторика, тонкая зрительная координация, точность и скорость дви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Развитое пространственное восприятие величины и формы предм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Развитая зрительная пам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3456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Специалист по рекламе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должен облад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46432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РГАНИЗАТОРСКИМИ  СПОСОБНОСТЯМИ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(ВКЛЮЧАЮЩИЕ ТАКИЕ КАЧЕСТВА КАК ЦЕЛЕУСТРЕМЛЕННОСТЬ, РЕШИТЕЛЬНОСТЬ, ТВОРЧЕСКИЙ ПОДХОД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ЗВИТЫМИ КОММУНИКАТИВНЫМИ СПОСОБНОСТЯМИ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(УМЕНИЕМ ВХОДИТЬ В КОНТАКТ, НАЛАЖИВАТЬ ВЗАИМООТНОШЕНИЯ, БЫТЬ ПРОФЕССИОНАЛЬНО КОМПЕТЕНТНЫМ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ХОРОШО РАЗВИТЫМИ АНАЛИТИЧЕСКИМИ СПОСОБНОСТЯМИ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УМЕНИЕМ ПОЛУЧАТЬ И ОБРАБАТЫВАТЬ НУЖНУЮ ИНФОРМАЦИЮ, ОЦЕНИВАТЬ, СРАВНИВАТЬ И УСВАИВАТЬ Е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1413000"/>
            <a:ext cx="428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СЕГДА НАХОДИТЬСЯ В КУРСЕ ПОСЛЕДНИХ СОБЫТИЙ,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НОВОВВЕДЕНИЙ, ТЕНДЕНЦИЙ И ТЕХНОЛОГИЧЕСКИХ ИДЕЙ В  СФЕРЕ ПИАРА, РЕКЛАМЫ И СРЕДСТВ МАССОВОЙ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МЕНИЕМ ПРАВИЛЬНО И ПОНЯТНО ИЗЪЯСНЯТЬСЯ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ОРАТОРСКИМИ СПОСОБ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( ГРАММОТНОЕ ВЫРАЖЕНИЕ МЫСЛИ, УМЕНИЕМ ВЕСТИ ПЕРЕГОВОРЫ, СПОСОБНОСТЬЮ УБЕЖДА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МЕНИЕМ СЛУШАТЬ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ХОРОШЕЙ РАЗВИТОЙ ПАМЯТЬЮ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4804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92360" y="549360"/>
            <a:ext cx="25192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ХОЧ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2492280"/>
            <a:ext cx="2374920" cy="10080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ИЖ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4221000"/>
            <a:ext cx="244764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НУ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549360"/>
            <a:ext cx="244800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НА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276640"/>
            <a:ext cx="237672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О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5516640"/>
            <a:ext cx="230364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ОМНЕВАЮ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00720" y="4437000"/>
            <a:ext cx="228276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ЛЫШ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2349360"/>
            <a:ext cx="1800360" cy="16574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фе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03640" y="1484280"/>
            <a:ext cx="100836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08720" y="2997360"/>
            <a:ext cx="1008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3716280"/>
            <a:ext cx="1295280" cy="86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005360"/>
            <a:ext cx="0" cy="1511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556000" y="3573360"/>
            <a:ext cx="1224000" cy="7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16000" y="2707920"/>
            <a:ext cx="863640" cy="14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634920" y="1413000"/>
            <a:ext cx="57636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Формула выбора професс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4000" y="1413000"/>
            <a:ext cx="842472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НУЖНО"+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ЧУ"+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МОГУ"=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ХОРОШИЙ ВЫБОР"</a:t>
            </a:r>
            <a:endParaRPr b="0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При выборе профессии обрати внимание 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Виды деятельности специалиста выбранной профе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Что необходимо знать специалисту выбранной профе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Что должен уметь специалист выбранной профе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Какие требования предъявляются  к деловым качеств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Медицинские противопоказ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97964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476280"/>
            <a:ext cx="811512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entury Schoolbook"/>
              </a:rPr>
              <a:t>«Теперь, когда мы научились ле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entury Schoolbook"/>
              </a:rPr>
              <a:t>по воздуху, как птицы, плавать п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entury Schoolbook"/>
              </a:rPr>
              <a:t>водой, как рыбы, нам не хват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entury Schoolbook"/>
              </a:rPr>
              <a:t>                </a:t>
            </a:r>
            <a:r>
              <a:rPr b="1" lang="en-US" sz="3200" spc="-1" strike="noStrike">
                <a:solidFill>
                  <a:srgbClr val="333399"/>
                </a:solidFill>
                <a:latin typeface="Century Schoolbook"/>
              </a:rPr>
              <a:t>только одн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научиться жить на земл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                 </a:t>
            </a: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как люди»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entury Schoolbook"/>
              </a:rPr>
              <a:t>                                         </a:t>
            </a:r>
            <a:r>
              <a:rPr b="1" lang="en-US" sz="3600" spc="-1" strike="noStrike">
                <a:solidFill>
                  <a:srgbClr val="333399"/>
                </a:solidFill>
                <a:latin typeface="Century Schoolbook"/>
              </a:rPr>
              <a:t>Б. Шо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47640" y="4292640"/>
            <a:ext cx="46800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7993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« ЕСЛИ ЧЕЛОВЕК НЕ ЗНАЕТ,  К  КАКОЙ ПРИСТАНИ ОН ДЕРЖИТ ПУТЬ, ДЛЯ НЕГО НИ ОДИН ВЕТЕР НЕ БУДЕТ ПОПУТНЫ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                                 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Сене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808280" cy="191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1163520" cy="1827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9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Тест «Профпригоднос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овогодняя ночь для тебя – лучшее время, чт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А) выспать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Б) посмотреть телевизор вместе с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емь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) оказа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227640" y="4689360"/>
            <a:ext cx="27720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Из трех подарков ты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предпочел б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76720" y="160020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А) удочку, набор дл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ыши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Б) коньки и лыж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) турпутевку 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билет 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интересное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редст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2708280"/>
            <a:ext cx="327348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Отправляться в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путешествие лучше всег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А) в одиночк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Б) с семьей или друзья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) с незнакомой группой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чтобы была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озможность обрести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овых друз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27306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 Если бы ты оказался в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одиночестве на острове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или в лесу, т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569916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А) почувствовал бы полную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воб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Б) занялся бы поиском выхода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каким-нибудь дел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) ощутил бы тоску, неприят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т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94400" y="3141720"/>
            <a:ext cx="3370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 В свое свободное время 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ты любиш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6346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А) читать, посещать библиотеку, шахматную секцию, зоопарк, лес, ловить рыбу, мечта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Б) рисовать, читать, заниматься спортом, музыкой, шитьем или вязанием, ходить в походы, разговаривать по телефону, смотреть телевиз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В) заниматься спортом, танцами, играть в ансамбле, петь в хоре, участвовать в спектаклях и концертах, путешествовать с друзьями, ходить компанией в ки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16800" y="3500280"/>
            <a:ext cx="2340000" cy="32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67276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Arial"/>
              </a:rPr>
              <a:t>Имиджмейке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40590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омогает создать образ преуспевающе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Он представляет типаж клиента, опираясь на линии его фигуры и лица, подбирает одежду, прическу и обувь, выявляет стиль, создает профессиональный образ и даже корректирует поведение кли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4319640" cy="417672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Имиджмейкеру необходимо зн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3760920" cy="3887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0" y="2276640"/>
            <a:ext cx="4038480" cy="34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авила макияж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иль одеж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сновы психологии и этике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начение поз, жестов, мим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0:58:44Z</dcterms:created>
  <dc:creator>учитель</dc:creator>
  <dc:description/>
  <dc:language>en-US</dc:language>
  <cp:lastModifiedBy>учитель</cp:lastModifiedBy>
  <dcterms:modified xsi:type="dcterms:W3CDTF">2010-02-19T04:40:16Z</dcterms:modified>
  <cp:revision>7</cp:revision>
  <dc:subject/>
  <dc:title>Классный час</dc:title>
</cp:coreProperties>
</file>