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.png" ContentType="image/png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4.wmf" ContentType="image/x-wmf"/>
  <Override PartName="/ppt/media/image12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0B3-8983-4821-964D-230D6048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027-AB85-4446-9FFE-E8C019F4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2F4-827D-4346-820D-2177DBD7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B32-10E1-44CA-870E-09D87FBA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C75-55AB-4EAC-A048-5D868CFF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FCD-85DA-4BB8-93CB-6C203330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23A-7B7D-41F6-AD9E-2DF9AD19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BE4-62BB-42A5-9DF9-B32B5640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4A0-7428-4444-BF2F-09468866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54E-47E3-4ED7-9AA8-24799BCE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3AE-FF18-4923-8B6D-89406C72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88B-9E59-4C15-9B44-6E4D5AF1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C406-72C1-4B81-B178-4380AA680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Классный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90560" y="2637000"/>
            <a:ext cx="83534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Ты и тво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уща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я 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6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Имиджмейкер должен уме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едугадывать ситу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збираться во всех мелоч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бедить клиента в важности перемен во внешности, в поведении, в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35067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Требования к деловым качества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сокий уровень понятийн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тые коммуникативные  организаторские 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мение получать и обрабатывать нужную информацию, оценивать, сравнивать и усваивать 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еативнос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456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Медицинские противопоказ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раженные дефекты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альтониз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раженные нервно-психологически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00760" y="2492280"/>
            <a:ext cx="26179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Художник по костюм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ороший глазом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Чувство гармонии и вк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пособность  воспринимать и различать широкий спектр цветов и их оттен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удожественные 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ысокий уровень развития памя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орошее развитие мелкой моторики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4624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373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арикмах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3909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олерантность к многочисленным межличностным контак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орошо развитая тонкая моторика, тонкая зрительная координация, точность и скорость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звитое пространственное восприятие величины и формы предм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звитая зрительная пам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Специалист по рекламе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олжен облад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6432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РГАНИЗАТОРСКИМИ  СПОСОБНОСТЯМИ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(ВКЛЮЧАЮЩИЕ ТАКИЕ КАЧЕСТВА КАК ЦЕЛЕУСТРЕМЛЕННОСТЬ, РЕШИТЕЛЬНОСТЬ, ТВОРЧЕСКИЙ ПОДХОД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ЗВИТЫМИ КОММУНИКАТИВНЫМИ СПОСОБНОСТЯМИ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(УМЕНИЕМ ВХОДИТЬ В КОНТАКТ, НАЛАЖИВАТЬ ВЗАИМООТНОШЕНИЯ, БЫТЬ ПРОФЕССИОНАЛЬНО КОМПЕТЕНТНЫМ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ХОРОШО РАЗВИТЫМИ АНАЛИТИЧЕСКИМИ СПОСОБНОСТЯМИ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УМЕНИЕМ ПОЛУЧАТЬ И ОБРАБАТЫВАТЬ НУЖНУЮ ИНФОРМАЦИЮ, ОЦЕНИВАТЬ, СРАВНИВАТЬ И УСВ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413000"/>
            <a:ext cx="428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СЕГДА НАХОДИТЬСЯ В КУРСЕ ПОСЛЕДНИХ СОБЫТИЙ,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НОВОВВЕДЕНИЙ, ТЕНДЕНЦИЙ И ТЕХНОЛОГИЧЕСКИХ ИДЕЙ В  СФЕРЕ ПИАРА, РЕКЛАМЫ И СРЕДСТВ МАСС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МЕНИЕМ ПРАВИЛЬНО И ПОНЯТНО ИЗЪЯСНЯТЬС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РАТОРСКИМИ СПОСОБ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 ГРАММОТНОЕ ВЫРАЖЕНИЕ МЫСЛИ, УМЕНИЕМ ВЕСТИ ПЕРЕГОВОРЫ, СПОСОБНОСТЬЮ УБЕЖДА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МЕНИЕМ СЛУША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ХОРОШЕЙ РАЗВИТОЙ ПАМЯТЬЮ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4804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92360" y="549360"/>
            <a:ext cx="25192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ХО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2492280"/>
            <a:ext cx="2374920" cy="1008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Ж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4221000"/>
            <a:ext cx="24476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549360"/>
            <a:ext cx="244800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Н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276640"/>
            <a:ext cx="237672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5516640"/>
            <a:ext cx="23036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МНЕВАЮ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4437000"/>
            <a:ext cx="228276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ЛЫ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349360"/>
            <a:ext cx="1800360" cy="16574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484280"/>
            <a:ext cx="100836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299736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3716280"/>
            <a:ext cx="1295280" cy="86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005360"/>
            <a:ext cx="0" cy="151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556000" y="3573360"/>
            <a:ext cx="122400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16000" y="2707920"/>
            <a:ext cx="863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634920" y="1413000"/>
            <a:ext cx="57636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Формула выбора професс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1413000"/>
            <a:ext cx="842472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НУЖНО"+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"+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МОГУ"=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РОШИЙ ВЫБОР"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При выборе профессии обрати внимание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иды деятельности специалиста выбранной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Что необходимо знать специалисту выбранной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Что должен уметь специалист выбранной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акие требования предъявляются  к деловым качеств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едицинские противопоказ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97964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476280"/>
            <a:ext cx="81151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«Теперь, когда мы научились ле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по воздуху, как птицы, плавать п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водой, как рыбы, нам не хват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                </a:t>
            </a: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только одн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научиться жить на земл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как люди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               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Century Schoolbook"/>
              </a:rPr>
              <a:t>Б. Ш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4292640"/>
            <a:ext cx="4680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79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« ЕСЛИ ЧЕЛОВЕК НЕ ЗНАЕТ,  К  КАКОЙ ПРИСТАНИ ОН ДЕРЖИТ ПУТЬ, ДЛЯ НЕГО НИ ОДИН ВЕТЕР НЕ БУДЕТ ПОПУТНЫ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ене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1163520" cy="182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9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Тест «Профпригодно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вогодняя ночь для тебя – лучшее время, чт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) выспа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) посмотреть телевизор вместе с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емь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) оказ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27640" y="4689360"/>
            <a:ext cx="27720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Из трех подарков ты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предпочел 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) удочку, набор дл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ыши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) коньки и лы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) турпутевку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илет 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нтересно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едст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32734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Отправляться в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путешествие лучше все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) в одиноч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) с семьей или друзь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) с незнакомой группой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чтобы была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зможность обрести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овы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27306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Если бы ты оказался в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одиночестве на острове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или в лесу, т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56991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А) почувствовал бы полную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воб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Б) занялся бы поиском выхода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ким-нибудь дел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) ощутил бы тоску, неприят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94400" y="3141720"/>
            <a:ext cx="3370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В свое свободное время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ты любиш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6346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) читать, посещать библиотеку, шахматную секцию, зоопарк, лес, ловить рыбу, мечт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) рисовать, читать, заниматься спортом, музыкой, шитьем или вязанием, ходить в походы, разговаривать по телефону, смотреть телевиз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) заниматься спортом, танцами, играть в ансамбле, петь в хоре, участвовать в спектаклях и концертах, путешествовать с друзьями, ходить компанией в ки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16800" y="3500280"/>
            <a:ext cx="234000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6727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"/>
              </a:rPr>
              <a:t>Имиджмейке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40590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могает создать образ преуспевающе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н представляет типаж клиента, опираясь на линии его фигуры и лица, подбирает одежду, прическу и обувь, выявляет стиль, создает профессиональный образ и даже корректирует поведение кл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4319640" cy="417672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Имиджмейкеру необходимо зн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3760920" cy="3887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0" y="2276640"/>
            <a:ext cx="4038480" cy="3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авила макияж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иль одеж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сновы психологии и этик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начение поз, жестов, ми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0:58:44Z</dcterms:created>
  <dc:creator>учитель</dc:creator>
  <dc:description/>
  <dc:language>en-US</dc:language>
  <cp:lastModifiedBy>учитель</cp:lastModifiedBy>
  <dcterms:modified xsi:type="dcterms:W3CDTF">2010-02-19T04:40:16Z</dcterms:modified>
  <cp:revision>7</cp:revision>
  <dc:subject/>
  <dc:title>Классный час</dc:title>
</cp:coreProperties>
</file>