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7.wmf" ContentType="image/x-wmf"/>
  <Override PartName="/ppt/media/image2.png" ContentType="image/png"/>
  <Override PartName="/ppt/media/image19.wmf" ContentType="image/x-wmf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4.wmf" ContentType="image/x-wmf"/>
  <Override PartName="/ppt/media/image12.jpeg" ContentType="image/jpeg"/>
  <Override PartName="/ppt/media/image5.wmf" ContentType="image/x-wmf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7AA4-594E-46E1-977D-0B24E8526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0934-207C-436C-8B53-4E628612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DD01-F529-41F2-A40B-7DD45CE3E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9B7E-D9DD-4ACE-9139-476E3EA80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175E-CAF4-436A-9E6E-A43032CE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B428-786E-450F-8E59-B9541AF8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48E2-091C-4F0F-B3A6-7BD18110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3F68-66C9-4E68-BA5E-60EB8DD3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3E88-2539-4C99-A38E-82A3288E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AF37-B251-4E1B-BC84-1BDB12B3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B1CF-7E0D-434C-8E0D-CADC47D4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E14F-AFC5-4933-9BD9-AB54C5A1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A96B-2340-49DB-887A-87F98BDE2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Arial"/>
              </a:rPr>
              <a:t>Классный ча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90560" y="2637000"/>
            <a:ext cx="835344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«Ты и тво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удущая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фессия 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6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Имиджмейкер должен уме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редугадывать ситу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Разбираться во всех мелоч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Убедить клиента в важности перемен во внешности, в поведении, в р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435640" y="2781360"/>
            <a:ext cx="350676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5075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Требования к деловым качествам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ысокий уровень понятийного мыш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азвитые коммуникативные  организаторские способ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мение получать и обрабатывать нужную информацию, оценивать, сравнивать и усваивать е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реативность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364000" y="1844640"/>
            <a:ext cx="3456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Медицинские противопоказ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584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Выраженные дефекты реч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Дальтониз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Выраженные нервно-психологические заболе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900760" y="2492280"/>
            <a:ext cx="2617920" cy="36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Художник по костюм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Хороший глазоме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Чувство гармонии и вку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Способность  воспринимать и различать широкий спектр цветов и их оттен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Художественные способ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Высокий уровень развития памя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Хорошее развитие мелкой моторики ру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364000" y="1413000"/>
            <a:ext cx="34624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3739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Парикмахе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439092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Толерантность к многочисленным межличностным контакт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Хорошо развитая тонкая моторика, тонкая зрительная координация, точность и скорость движ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Развитое пространственное восприятие величины и формы предме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Развитая зрительная памя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364000" y="1197000"/>
            <a:ext cx="3456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Специалист по рекламе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должен облада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46432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ОРГАНИЗАТОРСКИМИ  СПОСОБНОСТЯМИ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(ВКЛЮЧАЮЩИЕ ТАКИЕ КАЧЕСТВА КАК ЦЕЛЕУСТРЕМЛЕННОСТЬ, РЕШИТЕЛЬНОСТЬ, ТВОРЧЕСКИЙ ПОДХОД И Т.Д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РАЗВИТЫМИ КОММУНИКАТИВНЫМИ СПОСОБНОСТЯМИ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(УМЕНИЕМ ВХОДИТЬ В КОНТАКТ, НАЛАЖИВАТЬ ВЗАИМООТНОШЕНИЯ, БЫТЬ ПРОФЕССИОНАЛЬНО КОМПЕТЕНТНЫМ И Т.Д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ХОРОШО РАЗВИТЫМИ АНАЛИТИЧЕСКИМИ СПОСОБНОСТЯМИ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: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УМЕНИЕМ ПОЛУЧАТЬ И ОБРАБАТЫВАТЬ НУЖНУЮ ИНФОРМАЦИЮ, ОЦЕНИВАТЬ, СРАВНИВАТЬ И УСВАИВАТЬ Е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3280" y="1413000"/>
            <a:ext cx="4284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СЕГДА НАХОДИТЬСЯ В КУРСЕ ПОСЛЕДНИХ СОБЫТИЙ,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НОВОВВЕДЕНИЙ, ТЕНДЕНЦИЙ И ТЕХНОЛОГИЧЕСКИХ ИДЕЙ В  СФЕРЕ ПИАРА, РЕКЛАМЫ И СРЕДСТВ МАССОВОЙ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УМЕНИЕМ ПРАВИЛЬНО И ПОНЯТНО ИЗЪЯСНЯТЬС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ОРАТОРСКИМИ СПОСОБНОСТ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( ГРАММОТНОЕ ВЫРАЖЕНИЕ МЫСЛИ, УМЕНИЕМ ВЕСТИ ПЕРЕГОВОРЫ, СПОСОБНОСТЬЮ УБЕЖДАТ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УМЕНИЕМ СЛУШАТЬ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ХОРОШЕЙ РАЗВИТОЙ ПАМЯТЬЮ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48040" cy="22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92360" y="549360"/>
            <a:ext cx="251928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ХОЧ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516720" y="2492280"/>
            <a:ext cx="2374920" cy="10080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ИЖ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4221000"/>
            <a:ext cx="244764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НУЖ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549360"/>
            <a:ext cx="244800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ЗНА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2276640"/>
            <a:ext cx="237672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МО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5516640"/>
            <a:ext cx="230364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ОМНЕВАЮ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00720" y="4437000"/>
            <a:ext cx="228276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ЛЫШ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2349360"/>
            <a:ext cx="1800360" cy="16574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фе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003640" y="1484280"/>
            <a:ext cx="1008360" cy="936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08720" y="2997360"/>
            <a:ext cx="1008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92720" y="3716280"/>
            <a:ext cx="1295280" cy="865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4005360"/>
            <a:ext cx="0" cy="1511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556000" y="3573360"/>
            <a:ext cx="1224000" cy="719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2916000" y="2707920"/>
            <a:ext cx="863640" cy="14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3634920" y="1413000"/>
            <a:ext cx="576360" cy="1008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Формула выбора професс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24000" y="1413000"/>
            <a:ext cx="8424720" cy="42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НУЖНО"+</a:t>
            </a:r>
            <a:endParaRPr b="0" lang="en-US" sz="1800" spc="1" strike="noStrike">
              <a:ln w="25560">
                <a:solidFill>
                  <a:srgbClr val="ffff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ХОЧУ"+</a:t>
            </a:r>
            <a:endParaRPr b="0" lang="en-US" sz="1800" spc="1" strike="noStrike">
              <a:ln w="25560">
                <a:solidFill>
                  <a:srgbClr val="ffff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МОГУ"=</a:t>
            </a:r>
            <a:endParaRPr b="0" lang="en-US" sz="1800" spc="1" strike="noStrike">
              <a:ln w="25560">
                <a:solidFill>
                  <a:srgbClr val="ffff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ХОРОШИЙ ВЫБОР"</a:t>
            </a:r>
            <a:endParaRPr b="0" lang="en-US" sz="1800" spc="1" strike="noStrike">
              <a:ln w="25560">
                <a:solidFill>
                  <a:srgbClr val="ffff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При выборе профессии обрати внимание н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Виды деятельности специалиста выбранной професс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Что необходимо знать специалисту выбранной професс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Что должен уметь специалист выбранной професс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Какие требования предъявляются  к деловым качества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Медицинские противопоказ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020000" y="404640"/>
            <a:ext cx="1979640" cy="15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24000" y="476280"/>
            <a:ext cx="8115120" cy="43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entury Schoolbook"/>
              </a:rPr>
              <a:t>«Теперь, когда мы научились лет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entury Schoolbook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entury Schoolbook"/>
              </a:rPr>
              <a:t>по воздуху, как птицы, плавать по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entury Schoolbook"/>
              </a:rPr>
              <a:t>водой, как рыбы, нам не хвата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entury Schoolbook"/>
              </a:rPr>
              <a:t>                </a:t>
            </a:r>
            <a:r>
              <a:rPr b="1" lang="en-US" sz="3200" spc="-1" strike="noStrike">
                <a:solidFill>
                  <a:srgbClr val="333399"/>
                </a:solidFill>
                <a:latin typeface="Century Schoolbook"/>
              </a:rPr>
              <a:t>только одног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en-US" sz="4000" spc="-1" strike="noStrike">
                <a:solidFill>
                  <a:srgbClr val="ff0000"/>
                </a:solidFill>
                <a:latin typeface="Century Schoolbook"/>
              </a:rPr>
              <a:t>научиться жить на земле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entury Schoolbook"/>
              </a:rPr>
              <a:t>                 </a:t>
            </a:r>
            <a:r>
              <a:rPr b="1" lang="en-US" sz="4000" spc="-1" strike="noStrike">
                <a:solidFill>
                  <a:srgbClr val="ff0000"/>
                </a:solidFill>
                <a:latin typeface="Century Schoolbook"/>
              </a:rPr>
              <a:t>как люди»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entury Schoolbook"/>
              </a:rPr>
              <a:t>                                         </a:t>
            </a:r>
            <a:r>
              <a:rPr b="1" lang="en-US" sz="3600" spc="-1" strike="noStrike">
                <a:solidFill>
                  <a:srgbClr val="333399"/>
                </a:solidFill>
                <a:latin typeface="Century Schoolbook"/>
              </a:rPr>
              <a:t>Б. Шо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47640" y="4292640"/>
            <a:ext cx="468000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79930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« ЕСЛИ ЧЕЛОВЕК НЕ ЗНАЕТ,  К  КАКОЙ ПРИСТАНИ ОН ДЕРЖИТ ПУТЬ, ДЛЯ НЕГО НИ ОДИН ВЕТЕР НЕ БУДЕТ ПОПУТНЫМ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                                   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Сене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808280" cy="1914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885080" y="115920"/>
            <a:ext cx="1163520" cy="1827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9000"/>
                            </p:stCondLst>
                            <p:childTnLst>
                              <p:par>
                                <p:cTn id="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9900"/>
                            </p:stCondLst>
                            <p:childTnLst>
                              <p:par>
                                <p:cTn id="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Тест «Профпригодность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овогодняя ночь для тебя – лучшее время, что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А) выспать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Б) посмотреть телевизор вместе с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семь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) оказа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227640" y="4689360"/>
            <a:ext cx="277200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 Из трех подарков ты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предпочел б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7672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А) удочку, набор для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ыши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Б) коньки и лыж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) турпутевку 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билет н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интересное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представ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2708280"/>
            <a:ext cx="327348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 Отправляться в 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путешествие лучше всег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           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А) в одиноч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           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Б) с семьей или друзья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           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) с незнакомой группой,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               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чтобы была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               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озможность обрести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               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новых друз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79280" y="3141720"/>
            <a:ext cx="273060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. Если бы ты оказался в 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одиночестве на острове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или в лесу, т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2421000"/>
            <a:ext cx="569916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А) почувствовал бы полную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свобод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Б) занялся бы поиском выхода 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каким-нибудь дел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В) ощутил бы тоску, неприят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стр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594400" y="3141720"/>
            <a:ext cx="337032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. В свое свободное время  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ты любиш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6346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А) читать, посещать библиотеку, шахматную секцию, зоопарк, лес, ловить рыбу, мечта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Б) рисовать, читать, заниматься спортом, музыкой, шитьем или вязанием, ходить в походы, разговаривать по телефону, смотреть телевизо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В) заниматься спортом, танцами, играть в ансамбле, петь в хоре, участвовать в спектаклях и концертах, путешествовать с друзьями, ходить компанией в кин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616800" y="3500280"/>
            <a:ext cx="2340000" cy="32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67276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0000"/>
                </a:solidFill>
                <a:uFillTx/>
                <a:latin typeface="Arial"/>
              </a:rPr>
              <a:t>Имиджмейке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405900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помогает создать образ преуспевающего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Он представляет типаж клиента, опираясь на линии его фигуры и лица, подбирает одежду, прическу и обувь, выявляет стиль, создает профессиональный образ и даже корректирует поведение кли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43280" y="2492280"/>
            <a:ext cx="4319640" cy="4176720"/>
          </a:xfrm>
          <a:prstGeom prst="rect">
            <a:avLst/>
          </a:prstGeom>
          <a:ln w="0">
            <a:noFill/>
          </a:ln>
        </p:spPr>
      </p:pic>
    </p:spTree>
  </p:cSld>
  <p:transition advTm="16000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Имиджмейкеру необходимо зна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79280" y="2781360"/>
            <a:ext cx="3760920" cy="38876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0" y="2276640"/>
            <a:ext cx="4038480" cy="34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равила макияж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тиль одежд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сновы психологии и этике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Значение поз, жестов, мим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10:58:44Z</dcterms:created>
  <dc:creator>учитель</dc:creator>
  <dc:description/>
  <dc:language>en-US</dc:language>
  <cp:lastModifiedBy>учитель</cp:lastModifiedBy>
  <dcterms:modified xsi:type="dcterms:W3CDTF">2010-02-19T04:40:16Z</dcterms:modified>
  <cp:revision>7</cp:revision>
  <dc:subject/>
  <dc:title>Классный час</dc:title>
</cp:coreProperties>
</file>