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4DF2-DA43-469A-8C1B-51CDF4969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B1C6-1431-4F29-964D-136E6CC6A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02C-64FA-4F7D-86BA-264A21E7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F0F-334D-4B6A-8168-6B13082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E7A-878F-4495-8ECA-BBBACA7D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7C9-49EA-4676-9B9C-5646FE53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BEE-468C-4AB6-ADC6-8458279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AC6-CABE-40D6-B7E0-754D4BCD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FEB-2C82-4691-8753-94081904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FAE-4D7D-4FA2-A645-E2D212D4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28E-93BA-45E9-A4F8-673B51FB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B92-7BA8-4BA3-82C3-201EB1E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2DA-A4B9-4D26-8537-7F8B93D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A93-8C9A-46E4-BF8D-15E6FC3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760-1D16-49BA-A464-2974272FA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Users\9999\Desktop\Без имени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5" descr=""/>
          <p:cNvPicPr/>
          <p:nvPr/>
        </p:nvPicPr>
        <p:blipFill>
          <a:blip r:embed="rId1"/>
          <a:stretch/>
        </p:blipFill>
        <p:spPr>
          <a:xfrm>
            <a:off x="542880" y="3713040"/>
            <a:ext cx="8352000" cy="2090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015920" y="111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ье и счастье наших детей во многом зависит от постановки физической культуры в детском саду   и семь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Академик Н.М.Ам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348080" y="5494320"/>
            <a:ext cx="42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довникова Яна, воспитанница  группы кратковременного пребывания детей  при МБОУ «Большеяниковская С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оспитатель  Васильева И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2411280" y="1025640"/>
            <a:ext cx="4651560" cy="29797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" descr=""/>
          <p:cNvPicPr/>
          <p:nvPr/>
        </p:nvPicPr>
        <p:blipFill>
          <a:blip r:embed="rId3"/>
          <a:stretch/>
        </p:blipFill>
        <p:spPr>
          <a:xfrm>
            <a:off x="3097080" y="1109520"/>
            <a:ext cx="257184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56760" y="4857840"/>
            <a:ext cx="3071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979640" y="42609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игура для метания в 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928800" y="428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68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теплую погоду, когда снег  мокрый,  интересно поиграть в    снежки.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www.maam.ru/images/photos/f76acbc76717f19d9497840479329d3a.jpg"/>
          <p:cNvPicPr/>
          <p:nvPr/>
        </p:nvPicPr>
        <p:blipFill>
          <a:blip r:embed="rId1"/>
          <a:srcRect l="6386" t="38997" r="51916" b="8308"/>
          <a:stretch/>
        </p:blipFill>
        <p:spPr>
          <a:xfrm>
            <a:off x="3203640" y="1773360"/>
            <a:ext cx="182412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ля упражнения в беге и ходьб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Admin\Мои документы\Мои рисунки\images (1).jpg"/>
          <p:cNvPicPr/>
          <p:nvPr/>
        </p:nvPicPr>
        <p:blipFill>
          <a:blip r:embed="rId1"/>
          <a:stretch/>
        </p:blipFill>
        <p:spPr>
          <a:xfrm>
            <a:off x="3059280" y="1341360"/>
            <a:ext cx="2085840" cy="1560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835280" y="328464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нтересно бегать по снежному лабири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витие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Admin\Мои документы\Мои рисунки\3a198b82412806c70eec791d8f4246a0.jpg.jpg"/>
          <p:cNvPicPr/>
          <p:nvPr/>
        </p:nvPicPr>
        <p:blipFill>
          <a:blip r:embed="rId1"/>
          <a:stretch/>
        </p:blipFill>
        <p:spPr>
          <a:xfrm>
            <a:off x="3419640" y="1700280"/>
            <a:ext cx="202068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900000" y="3716280"/>
            <a:ext cx="79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орошо было бы построить осьминога для перешаг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ля хождения по возвышен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Admin\Мои документы\Мои рисунки\a4dda3c4560e55f6a922268e74bfeebe.jpg.jpg"/>
          <p:cNvPicPr/>
          <p:nvPr/>
        </p:nvPicPr>
        <p:blipFill>
          <a:blip r:embed="rId1"/>
          <a:stretch/>
        </p:blipFill>
        <p:spPr>
          <a:xfrm>
            <a:off x="3276720" y="1773360"/>
            <a:ext cx="1942920" cy="145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547640" y="37162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мейка для 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71680" y="471492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имой много птиц погибает от холода и голода. Поэтому мы предлагаем сделать для птиц кормушки с крышей. Мы будем им давать нежареные семечки подсолнечника, пшено, хле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6" descr=""/>
          <p:cNvPicPr/>
          <p:nvPr/>
        </p:nvPicPr>
        <p:blipFill>
          <a:blip r:embed="rId1"/>
          <a:stretch/>
        </p:blipFill>
        <p:spPr>
          <a:xfrm>
            <a:off x="1908000" y="401760"/>
            <a:ext cx="5046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1071720" cy="148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4714920"/>
            <a:ext cx="797256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stroygigant.ru/storage/a0/aa/a0aa458a21d8ac84f888cff0b8895989.jpg"/>
          <p:cNvPicPr/>
          <p:nvPr/>
        </p:nvPicPr>
        <p:blipFill>
          <a:blip r:embed="rId3"/>
          <a:stretch/>
        </p:blipFill>
        <p:spPr>
          <a:xfrm>
            <a:off x="2484360" y="20955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находится на начальной стадии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ходе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дет понимание дошкольниками простейших связей между временем года и пого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растает двигательная активность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дет укрепление семейных связей, участвуя в совместно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арт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am.ru/detskijsad/snezhnye-postroiki-dlja-razvitija-dvigatelnoi-aktivnosti-detei.htm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images.rambler.ru/search?query=%D0%BA%D0%B0%D1%80%D1%82%D0%B8%D0%BD%D0%BA%D0%B8%20%D0%97%D0%B8%D0%BC%D0%BD%D0%B8%D0%B5%20%D0%B7%D0%B0%D0%B1%D0%B0%D0%B2%D1%8B&amp;utm_source=rambler-search&amp;utm_medium=mixup&amp;utm_campaign=images_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комфортных условий для развития двигательной активности и игровой деятельности. Улучшение эстетического облика участка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ить перечень зимних видов игр  и забав, развл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воспитатель детского сада, дети,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68360" y="2205000"/>
            <a:ext cx="72864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принимают активное участие в мероприятиях по реализации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ы снежные постройки; снежные фиг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ы  соответствующие площадки для  ходьбы на лыжах,  для катания на санках и ледян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ешены кормушки для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9284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а – раздолье для зимних игр и забав. Сколько веселья, радости и удовольствия доставляют нам игры в снежки, катание на санках, лыжах или коньках, спуски с ледяных г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снежных построек обогащает зимнюю прогулку, создает условия для развития  самостоятельной игровой, познавательной деятельности, двигательн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Еще территорию детского сада  можно   украсить   следующими снеж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игурами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Users\Раиса\Pictures\Рисунок2.jpg"/>
          <p:cNvPicPr/>
          <p:nvPr/>
        </p:nvPicPr>
        <p:blipFill>
          <a:blip r:embed="rId1"/>
          <a:stretch/>
        </p:blipFill>
        <p:spPr>
          <a:xfrm>
            <a:off x="4821120" y="3808440"/>
            <a:ext cx="198288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rcRect l="10746" t="11177" r="15481" b="-1493"/>
          <a:stretch/>
        </p:blipFill>
        <p:spPr>
          <a:xfrm>
            <a:off x="1825560" y="1628640"/>
            <a:ext cx="16272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rcRect l="14139" t="6290" r="20553" b="6290"/>
          <a:stretch/>
        </p:blipFill>
        <p:spPr>
          <a:xfrm>
            <a:off x="5364000" y="1523880"/>
            <a:ext cx="1125720" cy="173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Раиса\Pictures\Рисунок4.png"/>
          <p:cNvPicPr/>
          <p:nvPr/>
        </p:nvPicPr>
        <p:blipFill>
          <a:blip r:embed="rId4"/>
          <a:stretch/>
        </p:blipFill>
        <p:spPr>
          <a:xfrm>
            <a:off x="1908000" y="3733920"/>
            <a:ext cx="1463760" cy="153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если слепить светофор, то он нам будет напоминать, что надо быть осторожными на  дорог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Admin\Мои документы\Мои рисунки\i.jpg"/>
          <p:cNvPicPr/>
          <p:nvPr/>
        </p:nvPicPr>
        <p:blipFill>
          <a:blip r:embed="rId1"/>
          <a:srcRect l="41488" t="7897" r="48661" b="46688"/>
          <a:stretch/>
        </p:blipFill>
        <p:spPr>
          <a:xfrm>
            <a:off x="3851280" y="971640"/>
            <a:ext cx="861840" cy="29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4714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ужно сделать ледяную  горку, где бы мы с удовольствием катались бы с помощью ледянок.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214800" y="357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селое ка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Admin\Мои документы\Мои рисунки\detsad-19450-1444245522.jpg"/>
          <p:cNvPicPr/>
          <p:nvPr/>
        </p:nvPicPr>
        <p:blipFill>
          <a:blip r:embed="rId1"/>
          <a:srcRect l="44026" t="36934" r="5367" b="0"/>
          <a:stretch/>
        </p:blipFill>
        <p:spPr>
          <a:xfrm>
            <a:off x="3214800" y="2133720"/>
            <a:ext cx="190656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 лыжа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00120" y="393372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А покататься на лыжах мы можем на стадионе, где проло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хорошая лыж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Documents and Settings\Admin\Мои документы\Мои рисунки\i.jpg"/>
          <p:cNvPicPr/>
          <p:nvPr/>
        </p:nvPicPr>
        <p:blipFill>
          <a:blip r:embed="rId1"/>
          <a:srcRect l="30146" t="11995" r="41997" b="18241"/>
          <a:stretch/>
        </p:blipFill>
        <p:spPr>
          <a:xfrm>
            <a:off x="3348000" y="1954080"/>
            <a:ext cx="126360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чень распространенной зимней забавой может стать катание на конь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619280" y="40356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6600"/>
                </a:solidFill>
                <a:latin typeface="Arial"/>
              </a:rPr>
              <a:t>Я ВЫБИРАЮ ЛЕДЯНУЮ ДОРОЖКУ ДЛЯ СКОЛЬЖ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Documents and Settings\Admin\Мои документы\Мои рисунки\i (1).jpg"/>
          <p:cNvPicPr/>
          <p:nvPr/>
        </p:nvPicPr>
        <p:blipFill>
          <a:blip r:embed="rId1"/>
          <a:srcRect l="0" t="13209" r="37511" b="0"/>
          <a:stretch/>
        </p:blipFill>
        <p:spPr>
          <a:xfrm>
            <a:off x="3143160" y="1773360"/>
            <a:ext cx="1609920" cy="167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3:26:44Z</dcterms:created>
  <dc:creator>Admin</dc:creator>
  <dc:description/>
  <dc:language>en-US</dc:language>
  <cp:lastModifiedBy>Раиса</cp:lastModifiedBy>
  <dcterms:modified xsi:type="dcterms:W3CDTF">2021-03-06T21:41:27Z</dcterms:modified>
  <cp:revision>265</cp:revision>
  <dc:subject/>
  <dc:title>Зимние фантазии</dc:title>
</cp:coreProperties>
</file>