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9639-D2AA-415C-8CD7-F6AECB4465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FF3A-D364-402C-92AC-7A90986AB5B0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90FB-FEFD-494E-B4F0-370C5631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AE8E-DCF6-4E46-B4AD-7C85D3C5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6CFE-E1F1-43A6-8516-3463F3E8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47E7-700F-4630-BDB7-EF142559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4FE8-BF97-41BA-B29D-C23B2F8A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61EA-9AB9-42C5-8920-EFE55FF9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1B3E-6C44-4D1B-AC82-31270EA3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ABAA-9903-4D38-B49C-EF9CD73C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6D27-02AC-418B-AAEF-5461F659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5318-6DB4-4B22-91A5-358365F4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81EC-8423-449D-8489-4BC4FB7F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2E3D-05E5-49B6-A114-37E2D1DC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EE62-FFC2-48B6-94C9-EA8E6C6F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DEEA-A06B-47E0-830F-DDCFA269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7FFD-93D0-4752-BB30-B2BC52A7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88DA-0E72-43F4-B509-D59EC345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662E-B08D-4E2C-85A6-07331A29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1C4DA-DEA1-46E4-A2D5-1900EBD9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F2C5B-B334-4AA1-81E0-B68D1ED1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E320-D65D-4066-9967-91DC2501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D34F-3E2E-452B-AF76-782CBAE6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6F93-ED9E-4031-BF73-38319C9B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4EC9-CFDC-46D2-8FCE-29E7CE2F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8B54A-B549-4C3A-A33E-8B049244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A8C06-236D-4C68-A5A9-A33DCC51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9D9DA-CDD0-440A-BC57-ADF63ABE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6914-350E-4DFF-8C2D-37C82D6E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1F69-BA43-434B-8F27-666612B0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9AE58-D050-42D9-BCF5-8CE957BB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2AB7-F01E-46E8-B5B3-642C6A2A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9093D-47C4-4EFA-90B0-13F5B757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CE48A-A7AB-406E-B931-0A59ECCB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FB933-FA87-4A2E-8CC7-6AFEB6C9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424-62A9-4AC0-A450-C6F14984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6706F-5E64-4040-8759-ABDE3B8D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EAA2-AE57-46CD-9E27-741C6FD5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48E22-6A31-4848-9C9C-51349C72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628B-0AE5-476C-A8CF-C153B9CF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4987-8F94-459E-9C5A-0FA0490C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44D73-8872-4C83-AA5F-ED3A08CA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CB7A8-6325-473A-9A9E-71789724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90AFF-9588-43CB-9D79-8D6F9E4B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D8CAE-3C35-4E6F-9E49-625F6E4A2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928-93E0-43A5-8D79-C8B3DF57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15A-9EAB-4866-80F8-51DB0F7E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951-3813-48FC-AC2C-A91A8BB3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C72-A026-4634-8ED2-D8868B58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B90-836E-4CB4-AF7B-8C7EB9CF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A851-A861-4F26-9714-FC0D5C65A7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1B39-0580-499B-99A7-5845012F81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95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7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98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1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3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4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0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21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22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2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9FE6-311D-4B05-9C36-DCC9071D89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7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0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1B92-0A5E-4882-A67B-FBB7D47BA0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rud.ru/userfiles/gallery/99/b_99c22ccd612eaf4f00211d00040e48d8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rud.ru/userfiles/gallery/99/b_99c22ccd612eaf4f00211d00040e48d8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едор Павлович Решетник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24000" y="414972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omic Sans MS"/>
              </a:rPr>
              <a:t>«Опять двойка!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2916360" y="5732640"/>
            <a:ext cx="5184720" cy="69372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Носалева Т.Н. МКОУ «Полдневская СОШ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лковый словарь И. С. Ожегов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орит – соотношение красок по тону, насыщенности цве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Яркий колорит – тусклый колори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м о главном геро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живает ли он за двой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мы узнаем об эт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е ли вы , внимательно рассмотрев фрагмент, предположить, почему мальчик получил двой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говорит его «бывалый» портф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рад приходу мальчика из шко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5"/>
          <p:cNvSpPr/>
          <p:nvPr/>
        </p:nvSpPr>
        <p:spPr>
          <a:xfrm>
            <a:off x="4643280" y="442908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ака радуется, ластится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анно смотрит в глаз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вет гулять, уперлась лапами  в грудь, любимая собач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4140360" cy="660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1"/>
          <p:cNvSpPr/>
          <p:nvPr/>
        </p:nvSpPr>
        <p:spPr>
          <a:xfrm>
            <a:off x="611280" y="144468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 виноватым видом, видавший виды портфель, верный дру__, с радос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ым визгом, пальто на вырост, преданный взгля__, порозовевш__ щеки, виля_т хвостом, хохолок на макушк_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Мама и младший брат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40305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згляд ма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дежды ма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Что ждет от     сы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Выражение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 чем дума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точечный рисунок (3)"/>
          <p:cNvPicPr/>
          <p:nvPr/>
        </p:nvPicPr>
        <p:blipFill>
          <a:blip r:embed="rId1"/>
          <a:stretch/>
        </p:blipFill>
        <p:spPr>
          <a:xfrm>
            <a:off x="5076720" y="1052640"/>
            <a:ext cx="2990880" cy="56624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142880" y="0"/>
            <a:ext cx="454356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жите о маме мальч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уда мы узнаем, что она очень расстроен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дет себя братишка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он смеетс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8" descr="точечный рисунок (3)"/>
          <p:cNvPicPr/>
          <p:nvPr/>
        </p:nvPicPr>
        <p:blipFill>
          <a:blip r:embed="rId2"/>
          <a:stretch/>
        </p:blipFill>
        <p:spPr>
          <a:xfrm>
            <a:off x="0" y="347760"/>
            <a:ext cx="4143240" cy="65102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18" name="TextBox 7"/>
          <p:cNvSpPr/>
          <p:nvPr/>
        </p:nvSpPr>
        <p:spPr>
          <a:xfrm>
            <a:off x="4286160" y="3143160"/>
            <a:ext cx="485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ма расстроена, огорчена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трит с укоризной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тчаяньи опустилась на стул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и уронила на колен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4286160" y="50007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атишка: катается на велосипед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трит и ехидно подсмеивает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8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Старшая сестра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44625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смотр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выгляди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дел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равните сестру с братом-двоечни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точечный рисунок (2)"/>
          <p:cNvPicPr/>
          <p:nvPr/>
        </p:nvPicPr>
        <p:blipFill>
          <a:blip r:embed="rId1"/>
          <a:stretch/>
        </p:blipFill>
        <p:spPr>
          <a:xfrm>
            <a:off x="5292720" y="1341360"/>
            <a:ext cx="3224160" cy="47736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48320" y="142560"/>
            <a:ext cx="40384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от и сестра- отличниц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а относится к очередной двойке брат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8" descr="точечный рисунок (2)"/>
          <p:cNvPicPr/>
          <p:nvPr/>
        </p:nvPicPr>
        <p:blipFill>
          <a:blip r:embed="rId2"/>
          <a:stretch/>
        </p:blipFill>
        <p:spPr>
          <a:xfrm>
            <a:off x="0" y="0"/>
            <a:ext cx="4637160" cy="6858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426" name="TextBox 7"/>
          <p:cNvSpPr/>
          <p:nvPr/>
        </p:nvSpPr>
        <p:spPr>
          <a:xfrm>
            <a:off x="4714920" y="3000240"/>
            <a:ext cx="42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ятный вид, аккуратна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и и тетради лежат ровной    стопко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отрит осуждающе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рдито, с укоризно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7" descr="Картинка 4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писание главного героя картин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2060"/>
                </a:solidFill>
                <a:uFillTx/>
                <a:latin typeface="Arial"/>
              </a:rPr>
              <a:t>1. Внешн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0066"/>
                </a:solidFill>
                <a:latin typeface="Arial"/>
              </a:rPr>
              <a:t>Лицо: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круглое, румяное, раскрасневшееся от мороза, пухлые губы, живые, немного грустные глаз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етлая голова с хохолком на макуш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топыренные уши, белобрысые вол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2060"/>
                </a:solidFill>
                <a:uFillTx/>
                <a:latin typeface="Arial"/>
              </a:rPr>
              <a:t>2. Одеж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авшее виды зимнее пальто с рыжим лисьим воротником; темно-серые брюки; черные ботинк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6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Описание главного героя картин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14200" y="856800"/>
            <a:ext cx="87868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застыл на пороге комн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т двинуться с м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опустив голову , ни на кого не гляд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4. Состоя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ыдно смотреть в глаза матери, совестно перед старшей сестрой, досадно, что младший братишка смеется над ни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 грустное, виноватое, глаза опущены, брови сдвинуты, кажется, что он вот-вот расплач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5. Портф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вший виды, «бывалый» портфель, небрежно перевязан веревкой, из него торчат блестящие коньки – причина двой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0" name="Picture 4" descr="13"/>
          <p:cNvPicPr/>
          <p:nvPr/>
        </p:nvPicPr>
        <p:blipFill>
          <a:blip r:embed="rId1"/>
          <a:stretch/>
        </p:blipFill>
        <p:spPr>
          <a:xfrm>
            <a:off x="395280" y="189000"/>
            <a:ext cx="4248000" cy="63356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860720" y="1989000"/>
            <a:ext cx="428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Ф. П. Решетников-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народный художник СССР, академик, лауреат Государственных премий СССР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843120"/>
            <a:ext cx="8229600" cy="90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Arial"/>
              </a:rPr>
              <a:t>Построить предложения из предложенных слов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ржит, руках, портфель, в, потертый, мальчик, рва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го, сестра, с осуждением, на, смот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осипеде, на, смеется, братишка, маленький, братом, н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, смотрит, осуждением, мама, переживает, очень, сына, 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чь, хорошую, слушать, и, хорош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Описание сестры и матери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13840" y="714240"/>
            <a:ext cx="8929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за: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дит на стуле, сложив руки на коленях. Она с немым упреком смотрит на сы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дежда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на ней розовая блузка, темная юбка и красный передник, который сразу привлекает наше внимание, так как остальные тона блёклые. Этим ярким теплым цветом художник хотел подчеркнуть своё любовное отношение и сочувствие к матери геро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ест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за: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а возмущена поведением брата. Всем своим видом сестра выражает осуждение, неодобрение. Ей непонятно, как можно так, спустя рукава, относиться к учеб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словицы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делал дело – гуляй смел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умным разговаривать, что меду напить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орошая книга, да чтец пло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з труда не вытянешь и рыбку из п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 учась и лаптя не сплетеш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5"/>
          <p:cNvSpPr/>
          <p:nvPr/>
        </p:nvSpPr>
        <p:spPr>
          <a:xfrm>
            <a:off x="142920" y="714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Основная мысль картин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TextBox 6"/>
          <p:cNvSpPr/>
          <p:nvPr/>
        </p:nvSpPr>
        <p:spPr>
          <a:xfrm>
            <a:off x="142920" y="235728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есело приносить домой двойк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WordArt 5"/>
          <p:cNvSpPr txBox="1"/>
          <p:nvPr/>
        </p:nvSpPr>
        <p:spPr>
          <a:xfrm>
            <a:off x="826920" y="260280"/>
            <a:ext cx="727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лан сочинения</a:t>
            </a:r>
            <a:endParaRPr b="0" lang="en-US" sz="2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230760" y="1452600"/>
            <a:ext cx="8992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упл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ча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Главный герой (внешность, поза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тфель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Собака – верный друг мальчи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суждающий взгляд матер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Отношение старшей сестры к ситу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Отношение младшего брата к ситу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ое отношение к картин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24000" y="2924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993366"/>
                </a:solidFill>
                <a:latin typeface="Arial"/>
              </a:rPr>
              <a:t>«За мир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точечный рисунок (4)"/>
          <p:cNvPicPr/>
          <p:nvPr/>
        </p:nvPicPr>
        <p:blipFill>
          <a:blip r:embed="rId1"/>
          <a:stretch/>
        </p:blipFill>
        <p:spPr>
          <a:xfrm>
            <a:off x="250920" y="254160"/>
            <a:ext cx="5546520" cy="6603840"/>
          </a:xfrm>
          <a:prstGeom prst="rect">
            <a:avLst/>
          </a:prstGeom>
          <a:ln w="31680">
            <a:solidFill>
              <a:srgbClr val="993366"/>
            </a:solidFill>
            <a:miter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122400"/>
            <a:ext cx="731664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За уроками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96" name="BLOGGER_PHOTO_ID_5158617275588137442" descr="reshetnikov013"/>
          <p:cNvPicPr/>
          <p:nvPr/>
        </p:nvPicPr>
        <p:blipFill>
          <a:blip r:embed="rId1"/>
          <a:stretch/>
        </p:blipFill>
        <p:spPr>
          <a:xfrm>
            <a:off x="539640" y="1000080"/>
            <a:ext cx="806472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«Нарушитель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98" name="BLOGGER_PHOTO_ID_5158617404437156338" descr="reshetnikov014"/>
          <p:cNvPicPr/>
          <p:nvPr/>
        </p:nvPicPr>
        <p:blipFill>
          <a:blip r:embed="rId1"/>
          <a:stretch/>
        </p:blipFill>
        <p:spPr>
          <a:xfrm>
            <a:off x="826920" y="1052640"/>
            <a:ext cx="734544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0066"/>
                </a:solidFill>
                <a:latin typeface="Arial"/>
              </a:rPr>
              <a:t>«Достали языка»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00" name="Picture 7" descr="точечный рисунок (5)"/>
          <p:cNvPicPr/>
          <p:nvPr/>
        </p:nvPicPr>
        <p:blipFill>
          <a:blip r:embed="rId1"/>
          <a:stretch/>
        </p:blipFill>
        <p:spPr>
          <a:xfrm>
            <a:off x="357120" y="1357200"/>
            <a:ext cx="8337600" cy="5450040"/>
          </a:xfrm>
          <a:prstGeom prst="rect">
            <a:avLst/>
          </a:prstGeom>
          <a:ln w="31680">
            <a:solidFill>
              <a:srgbClr val="993366"/>
            </a:solidFill>
            <a:miter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651280" y="2276640"/>
            <a:ext cx="29509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000" spc="-1" strike="noStrike">
                <a:solidFill>
                  <a:srgbClr val="993366"/>
                </a:solidFill>
                <a:latin typeface="Arial"/>
              </a:rPr>
              <a:t>«Прибыл на каникулы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5" descr="точечный рисунок (6)"/>
          <p:cNvPicPr/>
          <p:nvPr/>
        </p:nvPicPr>
        <p:blipFill>
          <a:blip r:embed="rId1"/>
          <a:stretch/>
        </p:blipFill>
        <p:spPr>
          <a:xfrm>
            <a:off x="0" y="0"/>
            <a:ext cx="5867280" cy="6799320"/>
          </a:xfrm>
          <a:prstGeom prst="rect">
            <a:avLst/>
          </a:prstGeom>
          <a:ln w="31680">
            <a:solidFill>
              <a:srgbClr val="993366"/>
            </a:solidFill>
            <a:miter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7" descr="Картинка 4 из 9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Толковый словарь И. С. Ожегова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рьер – это внутреннее пространство помещения, а также его устройство, убранств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Оформление интерьера, уютный интерье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08:26:06Z</dcterms:created>
  <dc:creator>Марина Робертовна</dc:creator>
  <dc:description/>
  <dc:language>en-US</dc:language>
  <cp:lastModifiedBy>Татьяна</cp:lastModifiedBy>
  <dcterms:modified xsi:type="dcterms:W3CDTF">2021-03-07T18:41:51Z</dcterms:modified>
  <cp:revision>25</cp:revision>
  <dc:subject/>
  <dc:title>Федор Павлович Решетников</dc:title>
</cp:coreProperties>
</file>