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A0E5-6144-4EDD-989C-8599E7F3A0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3549-7067-44B1-8BCE-ED1F13E2833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336-9ECA-4333-96AF-74AC5583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82B-6C55-4D9D-86A4-66399A0B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16D-9057-4BA6-8179-6437CE34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0BD-156A-4B7B-84FC-66F6C419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217F-C252-4B34-B034-5C16BDF0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86B7-D7E7-4CD0-AEA1-A26997D0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6BC8-20D3-4D8F-AE17-67E52C70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EB5E-699C-4332-86BE-199E37E2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6059-AB63-42D9-8826-9AE04799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3421-C0A4-4AE4-B435-18069D06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D1E5-CF2C-4D71-B47E-C4CCB200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155-86BD-4CDF-A53A-D34E8DD9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1750-4EB1-4E1F-87F1-685FDEF6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462A-A0BA-4594-B015-41937F96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AB46-5652-478D-82C7-7328345A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8D05-8B89-46F5-8BD4-D013CD08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F2EC-A92C-4688-A840-28202D71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3CEC4-01B1-45B3-800F-C95455E5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39FDE-598E-4FB9-AF97-C45DFAAC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69945-3562-4420-8266-83F4DBE1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68D99-BBE5-4F22-B04C-5E74BF43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428CC-47BE-4E5E-BE77-89FB9765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B87-CEE8-4664-BF72-FD303FC6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2CC5B-DFE0-459D-AF65-C8C47741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1CB3-877A-4999-849E-CF55C20D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10B3F-BE22-4B64-965B-9F6732D9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DD78-0FF5-45D9-BC5D-6D861D49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AF83A-85CC-4DEF-BDC8-46351616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A3D6-B819-4C18-87E2-147C6F8A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A9C15-3D89-4AAB-B0A5-566A829B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2B6CF-B518-4271-9BD0-CC778083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08FEA-0819-4579-BAAD-0901AF98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EE4CC-4A91-45A8-8542-46F8C022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CBF-BD2C-46F6-AE79-1D0B600F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C855A-9A30-40D3-A31C-702544E0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DF758-A32D-413F-9100-5195C227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08130-72FA-4D23-BAFC-0D05F9FD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D1331-F084-476B-BD00-7C0410DF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F8489-3EB8-4FAF-BDB0-ACA6E19B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D9CED-31FA-4B88-B601-7E11B4F3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8EAB9-7347-461A-BD80-C1803FB6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2052C-A4F6-4DAC-BE4E-E66F4C03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BE38A-6811-4513-8BEC-E1A2E7EF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036-68FA-4D6F-B637-B6A6BEEF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F13-DBD0-4EB7-93DC-FC37914F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997B-B33F-45D7-B850-3027A098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19F-9047-40A7-A764-48932394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80A-E025-4A31-B56A-8FE17DC9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8930-A1B4-480B-AAAF-DB13D4B75E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0562-0E3E-4EB3-8587-27CCFD6701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9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95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9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7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9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9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0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1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0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0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1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21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22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2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E769-ABA1-4044-AA0D-00E6BABAE6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0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70E1-3460-4CA5-9358-C896FAA3A5C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rud.ru/userfiles/gallery/99/b_99c22ccd612eaf4f00211d00040e48d8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rud.ru/userfiles/gallery/99/b_99c22ccd612eaf4f00211d00040e48d8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Федор Павлович Решетник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24000" y="414972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Comic Sans MS"/>
              </a:rPr>
              <a:t>«Опять двойка!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2916360" y="5732640"/>
            <a:ext cx="5184720" cy="69372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Носалева Т.Н. МКОУ «Полдневская СОШ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лковый словарь И. С. Ожегов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орит – соотношение красок по тону, насыщенности цве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Яркий колорит – тусклый колор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4572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ворим о главном геро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живает ли он за двой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мы узнаем об э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е ли вы , внимательно рассмотрев фрагмент, предположить, почему мальчик получил двой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говорит его «бывалый» портф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рад приходу мальчика из шко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5"/>
          <p:cNvSpPr/>
          <p:nvPr/>
        </p:nvSpPr>
        <p:spPr>
          <a:xfrm>
            <a:off x="4643280" y="4429080"/>
            <a:ext cx="43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бака радуется, ластитс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анно смотрит в глаз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овет гулять, уперлась лапами  в грудь, любимая собач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1" name="Picture 5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140360" cy="660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611280" y="144468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 виноватым видом, видавший виды портфель, верный дру__, с радос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ым визгом, пальто на вырост, преданный взгля__, порозовевш__ щеки, виля_т хвостом, хохолок на макушк_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ама и младший брат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0305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згляд ма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дежды ма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Что ждет от     сы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ыражение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 чем дум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8" descr="точечный рисунок (3)"/>
          <p:cNvPicPr/>
          <p:nvPr/>
        </p:nvPicPr>
        <p:blipFill>
          <a:blip r:embed="rId1"/>
          <a:stretch/>
        </p:blipFill>
        <p:spPr>
          <a:xfrm>
            <a:off x="5076720" y="1052640"/>
            <a:ext cx="2990880" cy="56624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142880" y="0"/>
            <a:ext cx="454356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 о маме мальч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мы узнаем, что она очень расстроен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едет себя братишк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 смеетс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8" descr="точечный рисунок (3)"/>
          <p:cNvPicPr/>
          <p:nvPr/>
        </p:nvPicPr>
        <p:blipFill>
          <a:blip r:embed="rId2"/>
          <a:stretch/>
        </p:blipFill>
        <p:spPr>
          <a:xfrm>
            <a:off x="0" y="347760"/>
            <a:ext cx="4143240" cy="65102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418" name="TextBox 7"/>
          <p:cNvSpPr/>
          <p:nvPr/>
        </p:nvSpPr>
        <p:spPr>
          <a:xfrm>
            <a:off x="4286160" y="3143160"/>
            <a:ext cx="485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ма расстроена, огорчен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отрит с укоризной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тчаяньи опустилась на стул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и уронила на колен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Box 8"/>
          <p:cNvSpPr/>
          <p:nvPr/>
        </p:nvSpPr>
        <p:spPr>
          <a:xfrm>
            <a:off x="4286160" y="50007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ратишка: катается на велосипед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отрит и ехидно подсмеивае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Старшая сестра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44625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смотри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выгляди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дел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авните сестру с братом-двоечни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точечный рисунок (2)"/>
          <p:cNvPicPr/>
          <p:nvPr/>
        </p:nvPicPr>
        <p:blipFill>
          <a:blip r:embed="rId1"/>
          <a:stretch/>
        </p:blipFill>
        <p:spPr>
          <a:xfrm>
            <a:off x="5292720" y="1341360"/>
            <a:ext cx="3224160" cy="47736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648320" y="142560"/>
            <a:ext cx="40384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 и сестра- отличниц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а относится к очередной двойке брат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8" descr="точечный рисунок (2)"/>
          <p:cNvPicPr/>
          <p:nvPr/>
        </p:nvPicPr>
        <p:blipFill>
          <a:blip r:embed="rId2"/>
          <a:stretch/>
        </p:blipFill>
        <p:spPr>
          <a:xfrm>
            <a:off x="0" y="0"/>
            <a:ext cx="4637160" cy="6858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426" name="TextBox 7"/>
          <p:cNvSpPr/>
          <p:nvPr/>
        </p:nvSpPr>
        <p:spPr>
          <a:xfrm>
            <a:off x="4714920" y="3000240"/>
            <a:ext cx="421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ятный вид, аккуратн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и и тетради лежат ровной    стопк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отрит осуждающе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рдито, с укоризн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7" descr="Картинка 4 из 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исание главного героя карти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2060"/>
                </a:solidFill>
                <a:uFillTx/>
                <a:latin typeface="Arial"/>
              </a:rPr>
              <a:t>1. Внеш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66"/>
                </a:solidFill>
                <a:latin typeface="Arial"/>
              </a:rPr>
              <a:t>Лицо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руглое, румяное, раскрасневшееся от мороза, пухлые губы, живые, немного грустные гла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ветлая голова с хохолком на макуш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топыренные уши, белобрысые вол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2060"/>
                </a:solidFill>
                <a:uFillTx/>
                <a:latin typeface="Arial"/>
              </a:rPr>
              <a:t>2. Одеж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авшее виды зимнее пальто с рыжим лисьим воротником; темно-серые брюки; черные ботин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Описание главного героя картин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14200" y="856800"/>
            <a:ext cx="87868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застыл на пороге комна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жет двинуться с ме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, опустив голову , ни на кого не гляд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4. Состо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ыдно смотреть в глаза матери, совестно перед старшей сестрой, досадно, что младший братишка смеется над н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о грустное, виноватое, глаза опущены, брови сдвинуты, кажется, что он вот-вот расплач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5. Портф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вший виды, «бывалый» портфель, небрежно перевязан веревкой, из него торчат блестящие коньки – причина двой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0" name="Picture 4" descr="13"/>
          <p:cNvPicPr/>
          <p:nvPr/>
        </p:nvPicPr>
        <p:blipFill>
          <a:blip r:embed="rId1"/>
          <a:stretch/>
        </p:blipFill>
        <p:spPr>
          <a:xfrm>
            <a:off x="395280" y="189000"/>
            <a:ext cx="4248000" cy="63356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860720" y="1989000"/>
            <a:ext cx="428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Ф. П. Решетников-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народный художник СССР, академик, лауреат Государственных премий ССС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843120"/>
            <a:ext cx="8229600" cy="90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Построить предложения из предложенных слов: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жит, руках, портфель, в, потертый, мальчик, рва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го, сестра, с осуждением, на, смот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осипеде, на, смеется, братишка, маленький, братом, н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, смотрит, осуждением, мама, переживает, очень, сына, 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ь, хорошую, слушать, и, 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Описание сестры и матери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13840" y="714240"/>
            <a:ext cx="8929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за: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дит на стуле, сложив руки на коленях. Она с немым упреком смотрит на сы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дежда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на ней розовая блузка, темная юбка и красный передник, который сразу привлекает наше внимание, так как остальные тона блёклые. Этим ярким теплым цветом художник хотел подчеркнуть своё любовное отношение и сочувствие к матери геро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ест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за: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а возмущена поведением брата. Всем своим видом сестра выражает осуждение, неодобрение. Ей непонятно, как можно так, спустя рукава, относиться к учеб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словиц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делал дело – гуляй смел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умным разговаривать, что меду напить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рошая книга, да чтец пло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з труда не вытянешь и рыбку из пру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учась и лаптя не сплетеш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5"/>
          <p:cNvSpPr/>
          <p:nvPr/>
        </p:nvSpPr>
        <p:spPr>
          <a:xfrm>
            <a:off x="142920" y="714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Основная мысль картин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Box 6"/>
          <p:cNvSpPr/>
          <p:nvPr/>
        </p:nvSpPr>
        <p:spPr>
          <a:xfrm>
            <a:off x="142920" y="235728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село приносить домой двойки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WordArt 5"/>
          <p:cNvSpPr txBox="1"/>
          <p:nvPr/>
        </p:nvSpPr>
        <p:spPr>
          <a:xfrm>
            <a:off x="826920" y="260280"/>
            <a:ext cx="7274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н сочинения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30760" y="1452600"/>
            <a:ext cx="8992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упл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ча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Главный герой (внешность, поз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тфель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Собака – верный друг мальч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суждающий взгляд матер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Отношение старшей сестры к ситу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Отношение младшего брата к ситу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ое отношение к картин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724000" y="2924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993366"/>
                </a:solidFill>
                <a:latin typeface="Arial"/>
              </a:rPr>
              <a:t>«За мир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точечный рисунок (4)"/>
          <p:cNvPicPr/>
          <p:nvPr/>
        </p:nvPicPr>
        <p:blipFill>
          <a:blip r:embed="rId1"/>
          <a:stretch/>
        </p:blipFill>
        <p:spPr>
          <a:xfrm>
            <a:off x="250920" y="254160"/>
            <a:ext cx="5546520" cy="6603840"/>
          </a:xfrm>
          <a:prstGeom prst="rect">
            <a:avLst/>
          </a:prstGeom>
          <a:ln w="31680">
            <a:solidFill>
              <a:srgbClr val="993366"/>
            </a:solidFill>
            <a:miter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122400"/>
            <a:ext cx="73166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За уроками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96" name="BLOGGER_PHOTO_ID_5158617275588137442" descr="reshetnikov013"/>
          <p:cNvPicPr/>
          <p:nvPr/>
        </p:nvPicPr>
        <p:blipFill>
          <a:blip r:embed="rId1"/>
          <a:stretch/>
        </p:blipFill>
        <p:spPr>
          <a:xfrm>
            <a:off x="539640" y="1000080"/>
            <a:ext cx="806472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Нарушитель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98" name="BLOGGER_PHOTO_ID_5158617404437156338" descr="reshetnikov014"/>
          <p:cNvPicPr/>
          <p:nvPr/>
        </p:nvPicPr>
        <p:blipFill>
          <a:blip r:embed="rId1"/>
          <a:stretch/>
        </p:blipFill>
        <p:spPr>
          <a:xfrm>
            <a:off x="826920" y="1052640"/>
            <a:ext cx="7345440" cy="54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0066"/>
                </a:solidFill>
                <a:latin typeface="Arial"/>
              </a:rPr>
              <a:t>«Достали языка»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00" name="Picture 7" descr="точечный рисунок (5)"/>
          <p:cNvPicPr/>
          <p:nvPr/>
        </p:nvPicPr>
        <p:blipFill>
          <a:blip r:embed="rId1"/>
          <a:stretch/>
        </p:blipFill>
        <p:spPr>
          <a:xfrm>
            <a:off x="357120" y="1357200"/>
            <a:ext cx="8337600" cy="5450040"/>
          </a:xfrm>
          <a:prstGeom prst="rect">
            <a:avLst/>
          </a:prstGeom>
          <a:ln w="31680">
            <a:solidFill>
              <a:srgbClr val="993366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51280" y="2276640"/>
            <a:ext cx="29509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993366"/>
                </a:solidFill>
                <a:latin typeface="Arial"/>
              </a:rPr>
              <a:t>«Прибыл на каникулы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5" descr="точечный рисунок (6)"/>
          <p:cNvPicPr/>
          <p:nvPr/>
        </p:nvPicPr>
        <p:blipFill>
          <a:blip r:embed="rId1"/>
          <a:stretch/>
        </p:blipFill>
        <p:spPr>
          <a:xfrm>
            <a:off x="0" y="0"/>
            <a:ext cx="5867280" cy="6799320"/>
          </a:xfrm>
          <a:prstGeom prst="rect">
            <a:avLst/>
          </a:prstGeom>
          <a:ln w="31680">
            <a:solidFill>
              <a:srgbClr val="993366"/>
            </a:solidFill>
            <a:miter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7" descr="Картинка 4 из 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лковый словарь И. С. Ожегов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рьер – это внутреннее пространство помещения, а также его устройство, убранств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Оформление интерьера, уютный интерье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08:26:06Z</dcterms:created>
  <dc:creator>Марина Робертовна</dc:creator>
  <dc:description/>
  <dc:language>en-US</dc:language>
  <cp:lastModifiedBy>Татьяна</cp:lastModifiedBy>
  <dcterms:modified xsi:type="dcterms:W3CDTF">2021-03-07T18:41:51Z</dcterms:modified>
  <cp:revision>25</cp:revision>
  <dc:subject/>
  <dc:title>Федор Павлович Решетников</dc:title>
</cp:coreProperties>
</file>