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17CF-12B0-45AA-8051-30CCBB6E1D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503C-AB8C-4BF3-9AD2-8A5B4E834ED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8F2E-B5F5-4792-857C-DFAA86DF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1E8-80B6-44BE-A587-E8F914FE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3E2-A3A1-43F6-B65A-6ED88A1F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B249-8305-4F39-9A91-B560D50A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0DD3-0556-467F-B863-767AEC12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F459-DC85-4C6C-9511-6635806A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11DA-93DE-409C-A375-2FFE05CA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06AC-8C7F-403B-B94B-1D2DEA75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7B09-A013-4F23-9147-3FB83C86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1EB7-CF98-4614-A46C-04EE7962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B6C9-43AE-46D6-9AAD-4F2DF8F1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D42-CAEE-400D-AACA-24A0DD5D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18B1-6BB4-41A2-BB2D-66C38059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5DB1-34AC-408D-84D7-7483BA65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81AD-2CA7-43B0-BB73-91CEC3F5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E460-B62C-4175-B331-56EC25A7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E2F6-23FB-4AE6-B7A7-32711EC8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EDA77-063F-45B0-99FB-67348E5B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D44B-51C6-48DE-82A7-FAE9C1EA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576E2-FCAB-4047-ADEC-7AF0A3CC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C0426-23AD-4C05-BAB3-A3661BCD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E81EA-CC2F-47CE-A7E1-D6484D23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C64-C932-4F92-85E6-0F67116B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E7D36-E58A-4FAC-A1F2-FE1560A0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8F07E-192B-4DFA-A358-5645D0A4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C38C7-CE7A-4400-9193-A7D71D67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5D68-5D97-4B0E-8746-3E1CC262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E8856-AFB0-40A1-B6D2-E1E0217B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17137-AD9B-4CB1-BAFE-D9303DFE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E141-DD76-4C8F-BFC0-CF511E3D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5611F-47E3-435E-9C90-83B7D091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A255A-B5E3-4E5F-8DFF-3FC2FA1F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6001E-50CE-4CE3-ABF2-A1A05699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D32-B808-4073-A716-A61256F6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D4363-6460-4AF5-B604-96A802DA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DC817-0BCE-452A-B77B-929BFDF3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24DDA-BA0A-4034-ACA7-95D4F907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4EDD8-FFCB-4D0C-8469-273AC27F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63679-73AB-4BF5-9AC4-867E0E05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444BC-D731-46E4-B6E7-329A2BD6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30132-CD63-45D3-A4BB-7E95E107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E964A-2C50-43E6-B557-06194625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63CDD-67DE-4821-ADC8-2DF3BD08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BB6-3E8F-455A-B30A-4F9DB4DA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875-6721-4ACA-AB4A-36273B7F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7B6-6E9B-4F19-9565-0E745573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587-9481-4CC2-991F-47BC06F2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275-3EB5-457E-BE4C-C1464E26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43F9-DD0D-408F-A136-64B297BB5D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ECAC-E8B0-45D1-8B2D-C7C0E8B82A3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9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95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9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7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9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9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0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1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0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0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1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21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22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2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595A-E135-4C38-805A-57FE2A65B8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0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3645-C6F1-46A6-97E9-3BE3ED34BB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rud.ru/userfiles/gallery/99/b_99c22ccd612eaf4f00211d00040e48d8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rud.ru/userfiles/gallery/99/b_99c22ccd612eaf4f00211d00040e48d8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Федор Павлович Решетник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24000" y="414972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Comic Sans MS"/>
              </a:rPr>
              <a:t>«Опять двойка!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2916360" y="5732640"/>
            <a:ext cx="5184720" cy="69372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Носалева Т.Н. МКОУ «Полдневская СОШ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лковый словарь И. С. Ожегов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орит – соотношение красок по тону, насыщенности цве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Яркий колорит – тусклый колор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0" y="-360"/>
            <a:ext cx="4572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ворим о главном геро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живает ли он за двой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мы узнаем об э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е ли вы , внимательно рассмотрев фрагмент, предположить, почему мальчик получил двой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говорит его «бывалый» портф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рад приходу мальчика из шко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5"/>
          <p:cNvSpPr/>
          <p:nvPr/>
        </p:nvSpPr>
        <p:spPr>
          <a:xfrm>
            <a:off x="4643280" y="4429080"/>
            <a:ext cx="43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бака радуется, ластитс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анно смотрит в глаз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овет гулять, уперлась лапами  в грудь, любимая собач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1" name="Picture 5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140360" cy="660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"/>
          <p:cNvSpPr/>
          <p:nvPr/>
        </p:nvSpPr>
        <p:spPr>
          <a:xfrm>
            <a:off x="611280" y="144468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 виноватым видом, видавший виды портфель, верный дру__, с радос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ым визгом, пальто на вырост, преданный взгля__, порозовевш__ щеки, виля_т хвостом, хохолок на макушк_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ама и младший брат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0305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згляд ма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дежды ма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Что ждет от     сы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ыражение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 чем дум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8" descr="точечный рисунок (3)"/>
          <p:cNvPicPr/>
          <p:nvPr/>
        </p:nvPicPr>
        <p:blipFill>
          <a:blip r:embed="rId1"/>
          <a:stretch/>
        </p:blipFill>
        <p:spPr>
          <a:xfrm>
            <a:off x="5076720" y="1052640"/>
            <a:ext cx="2990880" cy="56624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142880" y="0"/>
            <a:ext cx="454356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 о маме мальч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мы узнаем, что она очень расстроен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едет себя братишка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 смеетс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8" descr="точечный рисунок (3)"/>
          <p:cNvPicPr/>
          <p:nvPr/>
        </p:nvPicPr>
        <p:blipFill>
          <a:blip r:embed="rId2"/>
          <a:stretch/>
        </p:blipFill>
        <p:spPr>
          <a:xfrm>
            <a:off x="0" y="347760"/>
            <a:ext cx="4143240" cy="65102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418" name="TextBox 7"/>
          <p:cNvSpPr/>
          <p:nvPr/>
        </p:nvSpPr>
        <p:spPr>
          <a:xfrm>
            <a:off x="4286160" y="3143160"/>
            <a:ext cx="485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ма расстроена, огорчен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отрит с укоризной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тчаяньи опустилась на стул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и уронила на колен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Box 8"/>
          <p:cNvSpPr/>
          <p:nvPr/>
        </p:nvSpPr>
        <p:spPr>
          <a:xfrm>
            <a:off x="4286160" y="50007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ратишка: катается на велосипед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отрит и ехидно подсмеивае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Старшая сестра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44625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смотри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выгляди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дел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авните сестру с братом-двоечни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точечный рисунок (2)"/>
          <p:cNvPicPr/>
          <p:nvPr/>
        </p:nvPicPr>
        <p:blipFill>
          <a:blip r:embed="rId1"/>
          <a:stretch/>
        </p:blipFill>
        <p:spPr>
          <a:xfrm>
            <a:off x="5292720" y="1341360"/>
            <a:ext cx="3224160" cy="47736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648320" y="142560"/>
            <a:ext cx="40384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 и сестра- отличниц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а относится к очередной двойке брат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8" descr="точечный рисунок (2)"/>
          <p:cNvPicPr/>
          <p:nvPr/>
        </p:nvPicPr>
        <p:blipFill>
          <a:blip r:embed="rId2"/>
          <a:stretch/>
        </p:blipFill>
        <p:spPr>
          <a:xfrm>
            <a:off x="0" y="0"/>
            <a:ext cx="4637160" cy="6858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426" name="TextBox 7"/>
          <p:cNvSpPr/>
          <p:nvPr/>
        </p:nvSpPr>
        <p:spPr>
          <a:xfrm>
            <a:off x="4714920" y="3000240"/>
            <a:ext cx="421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ятный вид, аккуратн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и и тетради лежат ровной    стопк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отрит осуждающе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рдито, с укоризн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7" descr="Картинка 4 из 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исание главного героя карти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2060"/>
                </a:solidFill>
                <a:uFillTx/>
                <a:latin typeface="Arial"/>
              </a:rPr>
              <a:t>1. Внеш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66"/>
                </a:solidFill>
                <a:latin typeface="Arial"/>
              </a:rPr>
              <a:t>Лицо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руглое, румяное, раскрасневшееся от мороза, пухлые губы, живые, немного грустные гла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ветлая голова с хохолком на макуш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топыренные уши, белобрысые вол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2060"/>
                </a:solidFill>
                <a:uFillTx/>
                <a:latin typeface="Arial"/>
              </a:rPr>
              <a:t>2. Одеж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авшее виды зимнее пальто с рыжим лисьим воротником; темно-серые брюки; черные ботин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Описание главного героя картин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14200" y="856800"/>
            <a:ext cx="87868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застыл на пороге комна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жет двинуться с ме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, опустив голову , ни на кого не гляд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4. Состоя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ыдно смотреть в глаза матери, совестно перед старшей сестрой, досадно, что младший братишка смеется над н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о грустное, виноватое, глаза опущены, брови сдвинуты, кажется, что он вот-вот расплач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5. Портф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вший виды, «бывалый» портфель, небрежно перевязан веревкой, из него торчат блестящие коньки – причина двой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0" name="Picture 4" descr="13"/>
          <p:cNvPicPr/>
          <p:nvPr/>
        </p:nvPicPr>
        <p:blipFill>
          <a:blip r:embed="rId1"/>
          <a:stretch/>
        </p:blipFill>
        <p:spPr>
          <a:xfrm>
            <a:off x="395280" y="189000"/>
            <a:ext cx="4248000" cy="63356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860720" y="1989000"/>
            <a:ext cx="428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Ф. П. Решетников-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народный художник СССР, академик, лауреат Государственных премий ССС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843120"/>
            <a:ext cx="8229600" cy="90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Построить предложения из предложенных слов: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жит, руках, портфель, в, потертый, мальчик, рва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го, сестра, с осуждением, на, смот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осипеде, на, смеется, братишка, маленький, братом, н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, смотрит, осуждением, мама, переживает, очень, сына, 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ь, хорошую, слушать, и, 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Описание сестры и матери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13840" y="714240"/>
            <a:ext cx="8929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за: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дит на стуле, сложив руки на коленях. Она с немым упреком смотрит на сы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дежда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на ней розовая блузка, темная юбка и красный передник, который сразу привлекает наше внимание, так как остальные тона блёклые. Этим ярким теплым цветом художник хотел подчеркнуть своё любовное отношение и сочувствие к матери геро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ест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за: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а возмущена поведением брата. Всем своим видом сестра выражает осуждение, неодобрение. Ей непонятно, как можно так, спустя рукава, относиться к учеб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словиц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делал дело – гуляй смел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умным разговаривать, что меду напить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рошая книга, да чтец пло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з труда не вытянешь и рыбку из пру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учась и лаптя не сплетеш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5"/>
          <p:cNvSpPr/>
          <p:nvPr/>
        </p:nvSpPr>
        <p:spPr>
          <a:xfrm>
            <a:off x="142920" y="714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Основная мысль картин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TextBox 6"/>
          <p:cNvSpPr/>
          <p:nvPr/>
        </p:nvSpPr>
        <p:spPr>
          <a:xfrm>
            <a:off x="142920" y="235728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село приносить домой двойки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WordArt 5"/>
          <p:cNvSpPr txBox="1"/>
          <p:nvPr/>
        </p:nvSpPr>
        <p:spPr>
          <a:xfrm>
            <a:off x="826920" y="260280"/>
            <a:ext cx="7274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ан сочинения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30760" y="1452600"/>
            <a:ext cx="8992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упл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ча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Главный герой (внешность, поз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тфель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Собака – верный друг мальч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суждающий взгляд матер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Отношение старшей сестры к ситу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Отношение младшего брата к ситу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ое отношение к картин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724000" y="2924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993366"/>
                </a:solidFill>
                <a:latin typeface="Arial"/>
              </a:rPr>
              <a:t>«За мир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точечный рисунок (4)"/>
          <p:cNvPicPr/>
          <p:nvPr/>
        </p:nvPicPr>
        <p:blipFill>
          <a:blip r:embed="rId1"/>
          <a:stretch/>
        </p:blipFill>
        <p:spPr>
          <a:xfrm>
            <a:off x="250920" y="254160"/>
            <a:ext cx="5546520" cy="6603840"/>
          </a:xfrm>
          <a:prstGeom prst="rect">
            <a:avLst/>
          </a:prstGeom>
          <a:ln w="31680">
            <a:solidFill>
              <a:srgbClr val="993366"/>
            </a:solidFill>
            <a:miter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122400"/>
            <a:ext cx="73166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За уроками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96" name="BLOGGER_PHOTO_ID_5158617275588137442" descr="reshetnikov013"/>
          <p:cNvPicPr/>
          <p:nvPr/>
        </p:nvPicPr>
        <p:blipFill>
          <a:blip r:embed="rId1"/>
          <a:stretch/>
        </p:blipFill>
        <p:spPr>
          <a:xfrm>
            <a:off x="539640" y="1000080"/>
            <a:ext cx="8064720" cy="56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Нарушитель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98" name="BLOGGER_PHOTO_ID_5158617404437156338" descr="reshetnikov014"/>
          <p:cNvPicPr/>
          <p:nvPr/>
        </p:nvPicPr>
        <p:blipFill>
          <a:blip r:embed="rId1"/>
          <a:stretch/>
        </p:blipFill>
        <p:spPr>
          <a:xfrm>
            <a:off x="826920" y="1052640"/>
            <a:ext cx="7345440" cy="54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0066"/>
                </a:solidFill>
                <a:latin typeface="Arial"/>
              </a:rPr>
              <a:t>«Достали языка»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00" name="Picture 7" descr="точечный рисунок (5)"/>
          <p:cNvPicPr/>
          <p:nvPr/>
        </p:nvPicPr>
        <p:blipFill>
          <a:blip r:embed="rId1"/>
          <a:stretch/>
        </p:blipFill>
        <p:spPr>
          <a:xfrm>
            <a:off x="357120" y="1357200"/>
            <a:ext cx="8337600" cy="5450040"/>
          </a:xfrm>
          <a:prstGeom prst="rect">
            <a:avLst/>
          </a:prstGeom>
          <a:ln w="31680">
            <a:solidFill>
              <a:srgbClr val="993366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51280" y="2276640"/>
            <a:ext cx="29509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993366"/>
                </a:solidFill>
                <a:latin typeface="Arial"/>
              </a:rPr>
              <a:t>«Прибыл на каникулы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5" descr="точечный рисунок (6)"/>
          <p:cNvPicPr/>
          <p:nvPr/>
        </p:nvPicPr>
        <p:blipFill>
          <a:blip r:embed="rId1"/>
          <a:stretch/>
        </p:blipFill>
        <p:spPr>
          <a:xfrm>
            <a:off x="0" y="0"/>
            <a:ext cx="5867280" cy="6799320"/>
          </a:xfrm>
          <a:prstGeom prst="rect">
            <a:avLst/>
          </a:prstGeom>
          <a:ln w="31680">
            <a:solidFill>
              <a:srgbClr val="993366"/>
            </a:solidFill>
            <a:miter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7" descr="Картинка 4 из 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лковый словарь И. С. Ожегов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рьер – это внутреннее пространство помещения, а также его устройство, убранств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Оформление интерьера, уютный интерье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08:26:06Z</dcterms:created>
  <dc:creator>Марина Робертовна</dc:creator>
  <dc:description/>
  <dc:language>en-US</dc:language>
  <cp:lastModifiedBy>Татьяна</cp:lastModifiedBy>
  <dcterms:modified xsi:type="dcterms:W3CDTF">2021-03-07T18:41:51Z</dcterms:modified>
  <cp:revision>25</cp:revision>
  <dc:subject/>
  <dc:title>Федор Павлович Решетников</dc:title>
</cp:coreProperties>
</file>