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B27-E943-4290-B9FB-79A21453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FE2-FF8C-4B56-B577-8B830408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D61-E40F-467C-8201-BA32710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47A-5750-4691-BA78-C88485D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DD8-D4C0-4289-8197-1FDCFC6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AFA-16EF-4529-9111-4A01D46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D59-66F4-457F-8948-EAF379F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A0C-527F-44EE-821C-A179AA75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904-4AA2-4869-9EDA-23BC95AF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689-3E37-4E6F-AE1C-C16800C8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C61-4470-45D2-82BE-6CEBB34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10B-9DD9-4189-93D8-352A54F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884-7DE3-4516-BB79-400E07CF9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ирягин В.В.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Печ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Fisika</cp:lastModifiedBy>
  <dcterms:modified xsi:type="dcterms:W3CDTF">2021-03-09T11:39:39Z</dcterms:modified>
  <cp:revision>34</cp:revision>
  <dc:subject/>
  <dc:title>Слайд 1</dc:title>
</cp:coreProperties>
</file>