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7D4-4D03-49B7-80A7-8CD0240E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66E-8250-4E9A-AAAE-77B2EC98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F71-276E-4432-99E4-3A74F0FD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3FE-CC0E-4632-98C9-689414DE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B80-543B-4896-B55C-81F71745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6F5-7CAE-4C88-804B-032F742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955-466D-4FA1-97D5-D0268798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1A2-031E-4932-B5FD-B5E8B895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5F5-8951-4A34-AB01-1C69196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5C0-5989-4EF6-BC9D-89D8784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5B2-4E0B-4A05-89A2-DCE34EB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D99-4694-46A5-8F13-678347F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BDBB-FC33-4560-9A0E-257F47A90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ирягин В.В.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Печ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Fisika</cp:lastModifiedBy>
  <dcterms:modified xsi:type="dcterms:W3CDTF">2021-03-09T11:39:39Z</dcterms:modified>
  <cp:revision>34</cp:revision>
  <dc:subject/>
  <dc:title>Слайд 1</dc:title>
</cp:coreProperties>
</file>