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41D4-B953-4315-A4C5-EDDB3A725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B6CE-0898-4D88-A98E-158213CF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E248-526C-478D-82B0-800FF50B8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A53E-E67C-47A4-8D47-D3900D5C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9E66-76DA-426E-9A33-AF795884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05D3-1C69-4ACD-B3B4-5A44E75A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8C25-DCC7-4F0D-8A8E-B3D03EBA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41FB-D563-4355-83AC-A9425FB5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0DE8-D1B5-4827-BB76-193B748E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7946-4002-482B-8203-5C7F3F06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6D9F-5023-4E6F-A9B2-78B999DC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A102-1133-4CDC-B51F-A1416968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7162-BCEE-498B-AC70-5536807F94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9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8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2.xm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br>
              <a:rPr sz="9600"/>
            </a:b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на дороге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260280"/>
            <a:ext cx="64008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кторина п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ам дорожного дви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324000" y="5229360"/>
            <a:ext cx="756108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мирягин В.В., преподаватель-организатор ОБ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У «Средняя общеобразовательная школ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10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. Печ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Управляющая кнопка: документ 4">
            <a:hlinkClick r:id="" action="ppaction://hlinkshowjump?jump=lastslide"/>
          </p:cNvPr>
          <p:cNvSpPr/>
          <p:nvPr/>
        </p:nvSpPr>
        <p:spPr>
          <a:xfrm>
            <a:off x="8317080" y="595008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Less" w="21600" h="25209">
                <a:moveTo>
                  <a:pt x="5273" y="5790"/>
                </a:moveTo>
                <a:lnTo>
                  <a:pt x="12271" y="5790"/>
                </a:lnTo>
                <a:lnTo>
                  <a:pt x="16327" y="9288"/>
                </a:lnTo>
                <a:lnTo>
                  <a:pt x="16327" y="19420"/>
                </a:lnTo>
                <a:lnTo>
                  <a:pt x="5273" y="19420"/>
                </a:lnTo>
                <a:close/>
              </a:path>
              <a:path fill="darken" w="21600" h="25209">
                <a:moveTo>
                  <a:pt x="12271" y="5790"/>
                </a:moveTo>
                <a:lnTo>
                  <a:pt x="16327" y="9288"/>
                </a:lnTo>
                <a:lnTo>
                  <a:pt x="12271" y="928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Может ли пешеход двигаться по автомагистрал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28760" y="20718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по крайней левой поло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3" descr="10.jpg"/>
          <p:cNvPicPr/>
          <p:nvPr/>
        </p:nvPicPr>
        <p:blipFill>
          <a:blip r:embed="rId5"/>
          <a:stretch/>
        </p:blipFill>
        <p:spPr>
          <a:xfrm>
            <a:off x="3714840" y="4070520"/>
            <a:ext cx="4857840" cy="23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то может первым начать движение (для машин горит красный свет)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28600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Зелёная маш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ешех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Синяя маш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3" descr="9.jpg"/>
          <p:cNvPicPr/>
          <p:nvPr/>
        </p:nvPicPr>
        <p:blipFill>
          <a:blip r:embed="rId5"/>
          <a:stretch/>
        </p:blipFill>
        <p:spPr>
          <a:xfrm>
            <a:off x="3857760" y="4140360"/>
            <a:ext cx="4757760" cy="22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 ли водитель красной машины въехать на пешеходный переход, если за ним образовался затор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28760" y="264312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Да, если на переходе нет пешеход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3" descr="7.jpg"/>
          <p:cNvPicPr/>
          <p:nvPr/>
        </p:nvPicPr>
        <p:blipFill>
          <a:blip r:embed="rId5"/>
          <a:stretch/>
        </p:blipFill>
        <p:spPr>
          <a:xfrm>
            <a:off x="3571920" y="4643280"/>
            <a:ext cx="50972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214360"/>
            <a:ext cx="822960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прям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3" descr="1.jpg"/>
          <p:cNvPicPr/>
          <p:nvPr/>
        </p:nvPicPr>
        <p:blipFill>
          <a:blip r:embed="rId5"/>
          <a:stretch/>
        </p:blipFill>
        <p:spPr>
          <a:xfrm>
            <a:off x="3143160" y="4214880"/>
            <a:ext cx="559764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14308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напра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3" descr="2.jpg"/>
          <p:cNvPicPr/>
          <p:nvPr/>
        </p:nvPicPr>
        <p:blipFill>
          <a:blip r:embed="rId5"/>
          <a:stretch/>
        </p:blipFill>
        <p:spPr>
          <a:xfrm>
            <a:off x="3071880" y="4143240"/>
            <a:ext cx="550080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2214360"/>
            <a:ext cx="822960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напра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3" descr="3.jpg"/>
          <p:cNvPicPr/>
          <p:nvPr/>
        </p:nvPicPr>
        <p:blipFill>
          <a:blip r:embed="rId5"/>
          <a:stretch/>
        </p:blipFill>
        <p:spPr>
          <a:xfrm>
            <a:off x="3224160" y="4214880"/>
            <a:ext cx="541512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28600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напра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28668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3" descr="4.jpg"/>
          <p:cNvPicPr/>
          <p:nvPr/>
        </p:nvPicPr>
        <p:blipFill>
          <a:blip r:embed="rId5"/>
          <a:stretch/>
        </p:blipFill>
        <p:spPr>
          <a:xfrm>
            <a:off x="3429000" y="4305240"/>
            <a:ext cx="521496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жете ли вы, являясь водителем синей машины, начать движен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28564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Да, во все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, только прямо и напра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3" descr="5.jpg"/>
          <p:cNvPicPr/>
          <p:nvPr/>
        </p:nvPicPr>
        <p:blipFill>
          <a:blip r:embed="rId5"/>
          <a:stretch/>
        </p:blipFill>
        <p:spPr>
          <a:xfrm>
            <a:off x="3286080" y="4214880"/>
            <a:ext cx="5318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Где должны двигаться группы дете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071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Только по тротуарам и пешеходным дорожкам, а при их отсутствии – по обочин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Только по тротуар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Только по пешеходным дорожк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Управляющая кнопка: справка 3">
            <a:hlinkClick r:id="rId4" action="ppaction://hlinksldjump"/>
          </p:cNvPr>
          <p:cNvSpPr/>
          <p:nvPr/>
        </p:nvSpPr>
        <p:spPr>
          <a:xfrm>
            <a:off x="142920" y="635796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Где пассажир обязан производить посадку и высадку в (из) транспортного средств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В любом мес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Со стороны тротуара или обочины и только после полной остановки транспортного сред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Со стороны проезжей ч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4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5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6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7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8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9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0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Л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1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2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3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4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5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6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7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8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9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0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ЕЛЕ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1" action="ppaction://hlinksldjump"/>
                        </a:rPr>
                        <a:t>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2" action="ppaction://hlinksldjump"/>
                        </a:rPr>
                        <a:t>1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3" action="ppaction://hlinksldjump"/>
                        </a:rPr>
                        <a:t>1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4" action="ppaction://hlinksldjump"/>
                        </a:rPr>
                        <a:t>20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5" action="ppaction://hlinksldjump"/>
                        </a:rPr>
                        <a:t>25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огут ли дети до 12-летнего возраста ездить на заднем сиденье мотоцикл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500200"/>
            <a:ext cx="822960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Могут, но только с использованием специальных детских удерживающих устройст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428760" cy="357120"/>
          </a:xfrm>
          <a:custGeom>
            <a:avLst/>
            <a:gdLst>
              <a:gd name="textAreaLeft" fmla="*/ 23040 w 428760"/>
              <a:gd name="textAreaRight" fmla="*/ 405720 w 42876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29" h="21600">
                <a:moveTo>
                  <a:pt x="0" y="0"/>
                </a:moveTo>
                <a:lnTo>
                  <a:pt x="25929" y="0"/>
                </a:lnTo>
                <a:lnTo>
                  <a:pt x="25929" y="21600"/>
                </a:lnTo>
                <a:lnTo>
                  <a:pt x="0" y="21600"/>
                </a:lnTo>
                <a:close/>
              </a:path>
              <a:path fill="lightenLess" w="25929" h="21600">
                <a:moveTo>
                  <a:pt x="0" y="0"/>
                </a:moveTo>
                <a:lnTo>
                  <a:pt x="25929" y="0"/>
                </a:lnTo>
                <a:lnTo>
                  <a:pt x="24529" y="1400"/>
                </a:lnTo>
                <a:lnTo>
                  <a:pt x="1400" y="1400"/>
                </a:lnTo>
                <a:close/>
              </a:path>
              <a:path fill="darken" w="25929" h="21600">
                <a:moveTo>
                  <a:pt x="25929" y="0"/>
                </a:moveTo>
                <a:lnTo>
                  <a:pt x="25929" y="21600"/>
                </a:lnTo>
                <a:lnTo>
                  <a:pt x="24529" y="20200"/>
                </a:lnTo>
                <a:lnTo>
                  <a:pt x="24529" y="1400"/>
                </a:lnTo>
                <a:close/>
              </a:path>
              <a:path fill="darkenLess" w="25929" h="21600">
                <a:moveTo>
                  <a:pt x="25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9" y="20200"/>
                </a:lnTo>
                <a:close/>
              </a:path>
              <a:path fill="lighten" w="25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9" h="21600">
                <a:moveTo>
                  <a:pt x="1296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929" h="21600">
                <a:moveTo>
                  <a:pt x="14070" y="14281"/>
                </a:moveTo>
                <a:lnTo>
                  <a:pt x="14070" y="12323"/>
                </a:lnTo>
                <a:cubicBezTo>
                  <a:pt x="14070" y="11496"/>
                  <a:pt x="14400" y="10800"/>
                  <a:pt x="15001" y="10800"/>
                </a:cubicBezTo>
                <a:cubicBezTo>
                  <a:pt x="16132" y="10800"/>
                  <a:pt x="17029" y="9434"/>
                  <a:pt x="17029" y="7849"/>
                </a:cubicBezTo>
                <a:cubicBezTo>
                  <a:pt x="17029" y="5534"/>
                  <a:pt x="15175" y="3794"/>
                  <a:pt x="12964" y="3794"/>
                </a:cubicBezTo>
                <a:cubicBezTo>
                  <a:pt x="10754" y="3794"/>
                  <a:pt x="9082" y="5534"/>
                  <a:pt x="9082" y="7849"/>
                </a:cubicBezTo>
                <a:lnTo>
                  <a:pt x="10936" y="7849"/>
                </a:lnTo>
                <a:cubicBezTo>
                  <a:pt x="10936" y="6709"/>
                  <a:pt x="11859" y="5821"/>
                  <a:pt x="12964" y="5821"/>
                </a:cubicBezTo>
                <a:cubicBezTo>
                  <a:pt x="14070" y="5821"/>
                  <a:pt x="15001" y="6709"/>
                  <a:pt x="15001" y="7849"/>
                </a:cubicBezTo>
                <a:cubicBezTo>
                  <a:pt x="15001" y="8589"/>
                  <a:pt x="14531" y="9320"/>
                  <a:pt x="14070" y="9320"/>
                </a:cubicBezTo>
                <a:cubicBezTo>
                  <a:pt x="12964" y="9320"/>
                  <a:pt x="11859" y="10800"/>
                  <a:pt x="11859" y="12323"/>
                </a:cubicBezTo>
                <a:lnTo>
                  <a:pt x="11859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ому должен уступить дорогу водитель при выезде на дорогу с прилегающей территори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642760"/>
            <a:ext cx="822960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Транспортным средствам и пешеходам, движущимся по 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Только пешеходам, движущимся по 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Имеет преимущества перед транспортными средствами, движущимся по 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то при ДТП обязан сделать водитель, причастный к нем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071800"/>
            <a:ext cx="8229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Продолжить дви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Остановить транспортное средство, включить аварийную световую сигнализацию и выставить знак аварийной останов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Скрыться с места происшеств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й из этих знаков разрешает движение только пешехода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28760" y="42145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3" descr="12.jpg"/>
          <p:cNvPicPr/>
          <p:nvPr/>
        </p:nvPicPr>
        <p:blipFill>
          <a:blip r:embed="rId1"/>
          <a:stretch/>
        </p:blipFill>
        <p:spPr>
          <a:xfrm>
            <a:off x="1571760" y="2071800"/>
            <a:ext cx="60735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Какой из этих знаков называется «Главная дорога»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3" descr="11.jpg"/>
          <p:cNvPicPr/>
          <p:nvPr/>
        </p:nvPicPr>
        <p:blipFill>
          <a:blip r:embed="rId1"/>
          <a:stretch/>
        </p:blipFill>
        <p:spPr>
          <a:xfrm>
            <a:off x="1000080" y="2071800"/>
            <a:ext cx="6997680" cy="185724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5"/>
          <p:cNvSpPr/>
          <p:nvPr/>
        </p:nvSpPr>
        <p:spPr>
          <a:xfrm>
            <a:off x="2000160" y="428616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2 и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й из этих знаков называется «Движение запрещено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4357800"/>
            <a:ext cx="8229600" cy="17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3" descr="14.jpg"/>
          <p:cNvPicPr/>
          <p:nvPr/>
        </p:nvPicPr>
        <p:blipFill>
          <a:blip r:embed="rId1"/>
          <a:stretch/>
        </p:blipFill>
        <p:spPr>
          <a:xfrm>
            <a:off x="1857240" y="2286000"/>
            <a:ext cx="50659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й из этих знаков называется «Железнодорожный переезд со шлагбаумом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457164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Управляющая кнопка: справка 3"/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3" descr="15.jpg"/>
          <p:cNvPicPr/>
          <p:nvPr/>
        </p:nvPicPr>
        <p:blipFill>
          <a:blip r:embed="rId1"/>
          <a:stretch/>
        </p:blipFill>
        <p:spPr>
          <a:xfrm>
            <a:off x="1428840" y="2500200"/>
            <a:ext cx="6102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й из этих знаков называется «Реверсивное движение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42145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Управляющая кнопка: справка 3"/>
          <p:cNvSpPr/>
          <p:nvPr/>
        </p:nvSpPr>
        <p:spPr>
          <a:xfrm>
            <a:off x="285840" y="635796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3" descr="13.jpg"/>
          <p:cNvPicPr/>
          <p:nvPr/>
        </p:nvPicPr>
        <p:blipFill>
          <a:blip r:embed="rId1"/>
          <a:stretch/>
        </p:blipFill>
        <p:spPr>
          <a:xfrm>
            <a:off x="1714680" y="2071800"/>
            <a:ext cx="57276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ЕРН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Управляющая кнопка: домой 4"/>
          <p:cNvSpPr/>
          <p:nvPr/>
        </p:nvSpPr>
        <p:spPr>
          <a:xfrm>
            <a:off x="7596360" y="5732640"/>
            <a:ext cx="792000" cy="64908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6353" h="21600">
                <a:moveTo>
                  <a:pt x="0" y="0"/>
                </a:moveTo>
                <a:lnTo>
                  <a:pt x="26353" y="0"/>
                </a:lnTo>
                <a:lnTo>
                  <a:pt x="26353" y="21600"/>
                </a:lnTo>
                <a:lnTo>
                  <a:pt x="0" y="21600"/>
                </a:lnTo>
                <a:close/>
              </a:path>
              <a:path fill="lightenLess" w="26353" h="21600">
                <a:moveTo>
                  <a:pt x="0" y="0"/>
                </a:moveTo>
                <a:lnTo>
                  <a:pt x="26353" y="0"/>
                </a:lnTo>
                <a:lnTo>
                  <a:pt x="24953" y="1400"/>
                </a:lnTo>
                <a:lnTo>
                  <a:pt x="1400" y="1400"/>
                </a:lnTo>
                <a:close/>
              </a:path>
              <a:path fill="darken" w="26353" h="21600">
                <a:moveTo>
                  <a:pt x="26353" y="0"/>
                </a:moveTo>
                <a:lnTo>
                  <a:pt x="26353" y="21600"/>
                </a:lnTo>
                <a:lnTo>
                  <a:pt x="24953" y="20200"/>
                </a:lnTo>
                <a:lnTo>
                  <a:pt x="24953" y="1400"/>
                </a:lnTo>
                <a:close/>
              </a:path>
              <a:path fill="darkenLess" w="26353" h="21600">
                <a:moveTo>
                  <a:pt x="263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3" y="20200"/>
                </a:lnTo>
                <a:close/>
              </a:path>
              <a:path fill="lighten" w="263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3" h="21600">
                <a:moveTo>
                  <a:pt x="13177" y="3837"/>
                </a:moveTo>
                <a:lnTo>
                  <a:pt x="15753" y="6448"/>
                </a:lnTo>
                <a:lnTo>
                  <a:pt x="15753" y="4707"/>
                </a:lnTo>
                <a:lnTo>
                  <a:pt x="17529" y="4707"/>
                </a:lnTo>
                <a:lnTo>
                  <a:pt x="17529" y="8224"/>
                </a:lnTo>
                <a:lnTo>
                  <a:pt x="20140" y="10800"/>
                </a:lnTo>
                <a:lnTo>
                  <a:pt x="18486" y="10800"/>
                </a:lnTo>
                <a:lnTo>
                  <a:pt x="18486" y="17989"/>
                </a:lnTo>
                <a:lnTo>
                  <a:pt x="7867" y="17989"/>
                </a:lnTo>
                <a:lnTo>
                  <a:pt x="7867" y="10800"/>
                </a:lnTo>
                <a:lnTo>
                  <a:pt x="6214" y="10800"/>
                </a:lnTo>
                <a:close/>
              </a:path>
              <a:path fill="darkenLess" w="26353" h="21600">
                <a:moveTo>
                  <a:pt x="15753" y="6448"/>
                </a:moveTo>
                <a:lnTo>
                  <a:pt x="15753" y="4707"/>
                </a:lnTo>
                <a:lnTo>
                  <a:pt x="17529" y="4707"/>
                </a:lnTo>
                <a:lnTo>
                  <a:pt x="17529" y="8224"/>
                </a:lnTo>
                <a:close/>
              </a:path>
              <a:path fill="darkenLess" w="26353" h="21600">
                <a:moveTo>
                  <a:pt x="12254" y="14299"/>
                </a:moveTo>
                <a:lnTo>
                  <a:pt x="14099" y="14299"/>
                </a:lnTo>
                <a:lnTo>
                  <a:pt x="14099" y="17989"/>
                </a:lnTo>
                <a:lnTo>
                  <a:pt x="18486" y="17989"/>
                </a:lnTo>
                <a:lnTo>
                  <a:pt x="18486" y="10800"/>
                </a:lnTo>
                <a:lnTo>
                  <a:pt x="7867" y="10800"/>
                </a:lnTo>
                <a:lnTo>
                  <a:pt x="7867" y="17989"/>
                </a:lnTo>
                <a:lnTo>
                  <a:pt x="12254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НЕВЕРН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Управляющая кнопка: домой 4"/>
          <p:cNvSpPr/>
          <p:nvPr/>
        </p:nvSpPr>
        <p:spPr>
          <a:xfrm>
            <a:off x="7740720" y="566100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5" h="21600">
                <a:moveTo>
                  <a:pt x="11868" y="3837"/>
                </a:moveTo>
                <a:lnTo>
                  <a:pt x="14444" y="6448"/>
                </a:lnTo>
                <a:lnTo>
                  <a:pt x="14444" y="4707"/>
                </a:lnTo>
                <a:lnTo>
                  <a:pt x="16219" y="4707"/>
                </a:lnTo>
                <a:lnTo>
                  <a:pt x="16219" y="8224"/>
                </a:lnTo>
                <a:lnTo>
                  <a:pt x="18831" y="10800"/>
                </a:lnTo>
                <a:lnTo>
                  <a:pt x="17177" y="10800"/>
                </a:lnTo>
                <a:lnTo>
                  <a:pt x="17177" y="17989"/>
                </a:lnTo>
                <a:lnTo>
                  <a:pt x="6558" y="17989"/>
                </a:lnTo>
                <a:lnTo>
                  <a:pt x="6558" y="10800"/>
                </a:lnTo>
                <a:lnTo>
                  <a:pt x="4905" y="10800"/>
                </a:lnTo>
                <a:close/>
              </a:path>
              <a:path fill="darkenLess" w="23735" h="21600">
                <a:moveTo>
                  <a:pt x="14444" y="6448"/>
                </a:moveTo>
                <a:lnTo>
                  <a:pt x="14444" y="4707"/>
                </a:lnTo>
                <a:lnTo>
                  <a:pt x="16219" y="4707"/>
                </a:lnTo>
                <a:lnTo>
                  <a:pt x="16219" y="8224"/>
                </a:lnTo>
                <a:close/>
              </a:path>
              <a:path fill="darkenLess" w="23735" h="21600">
                <a:moveTo>
                  <a:pt x="10945" y="14299"/>
                </a:moveTo>
                <a:lnTo>
                  <a:pt x="12790" y="14299"/>
                </a:lnTo>
                <a:lnTo>
                  <a:pt x="12790" y="17989"/>
                </a:lnTo>
                <a:lnTo>
                  <a:pt x="17177" y="17989"/>
                </a:lnTo>
                <a:lnTo>
                  <a:pt x="17177" y="10800"/>
                </a:lnTo>
                <a:lnTo>
                  <a:pt x="6558" y="10800"/>
                </a:lnTo>
                <a:lnTo>
                  <a:pt x="6558" y="17989"/>
                </a:lnTo>
                <a:lnTo>
                  <a:pt x="10945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Какое движение транспортных средств установлено в Российской Федераци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214440"/>
            <a:ext cx="822960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Правосторонн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Левосторонн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. В обоих направлен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85840" y="628668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РАВИЛЬНЫЕ ОТВЕ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600200"/>
          <a:ext cx="8229600" cy="46148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л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еле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2" name="Управляющая кнопка: домой 4">
            <a:hlinkClick r:id="" action="ppaction://hlinkshowjump?jump=firstslide"/>
          </p:cNvPr>
          <p:cNvSpPr/>
          <p:nvPr/>
        </p:nvSpPr>
        <p:spPr>
          <a:xfrm>
            <a:off x="357120" y="21420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483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а дорожного дви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стольная игра «Я – пешеход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ртинки и схемы дорожных ситуаций из личного архива ав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то такое перекрёсток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Место пересечения, примыкания или разветвление дорог на одном уровне, ограниченное воображаемыми линиями, соединяющими соответственно противоположные, наиболее удалённые от центра перекрёстка начала закруглений проезжих час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Выезды с прилегающих территор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Управляющая кнопка: справка 3">
            <a:hlinkClick r:id="rId3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то такое главная дорог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Дорога, на которой предоставлено право преимущественного проезда нерегулируемых перекрёст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Дорога с твёрдым покрытием (асфальт и т.п.) по отношению к грунто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. Оба вышеперечисленных опреде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то такое тротуар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Элемент дороги, предназначенный для движения безрельсовых транспортных средст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Элемент дороги, предназначенный для движения пешеходов и примыкающий к проезжей части или отделённый от неё газон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. Элемент дороги, предназначенный для движения маршрутных транспортных </a:t>
            </a: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средст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Управляющая кнопка: справка 3">
            <a:hlinkClick r:id="rId5" action="ppaction://hlinksldjump"/>
          </p:cNvPr>
          <p:cNvSpPr/>
          <p:nvPr/>
        </p:nvSpPr>
        <p:spPr>
          <a:xfrm>
            <a:off x="214200" y="628668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9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кое транспортное средство называется маршрутны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28760" y="1785960"/>
            <a:ext cx="8229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а. Транспортное средство, кроме мопеда, приводимое в движение двигателе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б. Устройство, предназначенное для перевозки по дорогам людей, грузов или оборудования, установленного на нё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в. Транспортное средство общего пользования (автобус, троллейбус, трамвай), предназначенное для перевозки по дорогам людей и движущееся по установленному маршруту с обозначенными местами остановок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о какой полосе дороги должны двигаться велосипедист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92852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По той, на которой меньше всего транспор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По крайней пра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По крайней лев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3" descr="6.jpg"/>
          <p:cNvPicPr/>
          <p:nvPr/>
        </p:nvPicPr>
        <p:blipFill>
          <a:blip r:embed="rId5"/>
          <a:stretch/>
        </p:blipFill>
        <p:spPr>
          <a:xfrm>
            <a:off x="3886200" y="4572000"/>
            <a:ext cx="47577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На каком рисунке машины не нарушают правила дорожного движен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21472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На левом рисун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На правом рисун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 обоих рисун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Управляющая кнопка: справка 3">
            <a:hlinkClick r:id="rId4" action="ppaction://hlinksldjump"/>
          </p:cNvPr>
          <p:cNvSpPr/>
          <p:nvPr/>
        </p:nvSpPr>
        <p:spPr>
          <a:xfrm>
            <a:off x="214200" y="6357960"/>
            <a:ext cx="357480" cy="35712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22" h="21600">
                <a:moveTo>
                  <a:pt x="0" y="0"/>
                </a:moveTo>
                <a:lnTo>
                  <a:pt x="21622" y="0"/>
                </a:lnTo>
                <a:lnTo>
                  <a:pt x="21622" y="21600"/>
                </a:lnTo>
                <a:lnTo>
                  <a:pt x="0" y="21600"/>
                </a:lnTo>
                <a:close/>
              </a:path>
              <a:path fill="lightenLess" w="21622" h="21600">
                <a:moveTo>
                  <a:pt x="0" y="0"/>
                </a:moveTo>
                <a:lnTo>
                  <a:pt x="21622" y="0"/>
                </a:lnTo>
                <a:lnTo>
                  <a:pt x="20222" y="1400"/>
                </a:lnTo>
                <a:lnTo>
                  <a:pt x="1400" y="1400"/>
                </a:lnTo>
                <a:close/>
              </a:path>
              <a:path fill="darken" w="21622" h="21600">
                <a:moveTo>
                  <a:pt x="21622" y="0"/>
                </a:moveTo>
                <a:lnTo>
                  <a:pt x="21622" y="21600"/>
                </a:lnTo>
                <a:lnTo>
                  <a:pt x="20222" y="20200"/>
                </a:lnTo>
                <a:lnTo>
                  <a:pt x="20222" y="1400"/>
                </a:lnTo>
                <a:close/>
              </a:path>
              <a:path fill="darkenLess" w="21622" h="21600">
                <a:moveTo>
                  <a:pt x="21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2" y="20200"/>
                </a:lnTo>
                <a:close/>
              </a:path>
              <a:path fill="lighten" w="21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2" h="21600">
                <a:moveTo>
                  <a:pt x="1081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22" h="21600">
                <a:moveTo>
                  <a:pt x="11916" y="14281"/>
                </a:moveTo>
                <a:lnTo>
                  <a:pt x="11916" y="12323"/>
                </a:lnTo>
                <a:cubicBezTo>
                  <a:pt x="11916" y="11496"/>
                  <a:pt x="12247" y="10800"/>
                  <a:pt x="12848" y="10800"/>
                </a:cubicBezTo>
                <a:cubicBezTo>
                  <a:pt x="13979" y="10800"/>
                  <a:pt x="14876" y="9434"/>
                  <a:pt x="14876" y="7849"/>
                </a:cubicBezTo>
                <a:cubicBezTo>
                  <a:pt x="14876" y="5534"/>
                  <a:pt x="13022" y="3794"/>
                  <a:pt x="10811" y="3794"/>
                </a:cubicBezTo>
                <a:cubicBezTo>
                  <a:pt x="8600" y="3794"/>
                  <a:pt x="6929" y="5534"/>
                  <a:pt x="6929" y="7849"/>
                </a:cubicBezTo>
                <a:lnTo>
                  <a:pt x="8783" y="7849"/>
                </a:lnTo>
                <a:cubicBezTo>
                  <a:pt x="8783" y="6709"/>
                  <a:pt x="9706" y="5821"/>
                  <a:pt x="10811" y="5821"/>
                </a:cubicBezTo>
                <a:cubicBezTo>
                  <a:pt x="11916" y="5821"/>
                  <a:pt x="12848" y="6709"/>
                  <a:pt x="12848" y="7849"/>
                </a:cubicBezTo>
                <a:cubicBezTo>
                  <a:pt x="12848" y="8589"/>
                  <a:pt x="12378" y="9320"/>
                  <a:pt x="11916" y="9320"/>
                </a:cubicBezTo>
                <a:cubicBezTo>
                  <a:pt x="10811" y="9320"/>
                  <a:pt x="9706" y="10800"/>
                  <a:pt x="9706" y="12323"/>
                </a:cubicBezTo>
                <a:lnTo>
                  <a:pt x="9706" y="142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8.jpg"/>
          <p:cNvPicPr/>
          <p:nvPr/>
        </p:nvPicPr>
        <p:blipFill>
          <a:blip r:embed="rId5"/>
          <a:stretch/>
        </p:blipFill>
        <p:spPr>
          <a:xfrm>
            <a:off x="3571920" y="4143240"/>
            <a:ext cx="484344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29:00Z</dcterms:created>
  <dc:creator>Владелец</dc:creator>
  <dc:description/>
  <dc:language>en-US</dc:language>
  <cp:lastModifiedBy>Fisika</cp:lastModifiedBy>
  <dcterms:modified xsi:type="dcterms:W3CDTF">2021-03-09T11:39:39Z</dcterms:modified>
  <cp:revision>34</cp:revision>
  <dc:subject/>
  <dc:title>Слайд 1</dc:title>
</cp:coreProperties>
</file>