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gif" ContentType="image/gif"/>
  <Override PartName="/ppt/media/image13.jpeg" ContentType="image/jpeg"/>
  <Override PartName="/ppt/media/image20.gif" ContentType="image/gif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5.gif" ContentType="image/gif"/>
  <Override PartName="/ppt/media/image6.jpeg" ContentType="image/jpeg"/>
  <Override PartName="/ppt/media/image10.png" ContentType="image/png"/>
  <Override PartName="/ppt/media/image24.png" ContentType="image/png"/>
  <Override PartName="/ppt/media/image18.jpeg" ContentType="image/jpeg"/>
  <Override PartName="/ppt/media/image19.wmf" ContentType="image/x-wmf"/>
  <Override PartName="/ppt/media/image14.jpeg" ContentType="image/jpeg"/>
  <Override PartName="/ppt/media/image17.gif" ContentType="image/gif"/>
  <Override PartName="/ppt/media/image16.gif" ContentType="image/gif"/>
  <Override PartName="/ppt/media/image21.png" ContentType="image/png"/>
  <Override PartName="/ppt/media/image1.jpeg" ContentType="image/jpeg"/>
  <Override PartName="/ppt/media/image3.png" ContentType="image/png"/>
  <Override PartName="/ppt/media/image26.png" ContentType="image/png"/>
  <Override PartName="/ppt/media/image23.gif" ContentType="image/gif"/>
  <Override PartName="/ppt/media/image4.jpeg" ContentType="image/jpeg"/>
  <Override PartName="/ppt/media/image2.png" ContentType="image/png"/>
  <Override PartName="/ppt/media/image22.gif" ContentType="image/gif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3983-A414-4192-8006-719D20095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5DBA-05E0-4799-8DDA-D5CEE16D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7764-3FED-48DE-ACF0-D2F12F236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DF53-BDA3-4FA6-B058-672B93081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00E3-17B9-4674-924F-1E895B88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01A8-DD1C-4E25-AA54-B0ED0E22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1DF2-915A-4524-B22A-5C1E9909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D173-F457-4C43-A18C-766C8E41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0DC3-6AC0-4366-AEEC-AC50B717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B93C-F7EC-4266-8DD4-AA3085CB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C844-AE33-43E9-A338-B83A7A8F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F93F-DD2A-487A-91C3-DF27FB1D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1860-026A-4951-9005-DC30465C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B7E3-C678-441A-BC92-3FB034E1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D92E-B0D9-478B-8421-4458354F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D8CB-A415-48BD-923C-6B5DB055B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7936-00A3-4D14-9DB1-2A28F0C5E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87295-C712-4BDE-B875-EB450BFDC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013AB-5C20-485D-853F-F6A0BE41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44004-F755-4470-9DEB-72033F2F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48839-B5ED-4ECC-A3C5-56AC942E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FC669-01B1-4740-A508-78540EEC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0810-8BE5-4623-8851-7194D17F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A12ED-F784-4A9B-A7F4-5759B372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311D2-86AC-4184-8AB9-9DDD937D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65472-DDAC-4BE9-85B5-D3925083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EB192-E1BE-461A-A705-E332AB8B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16E4D-B35E-4C46-A554-CA464B98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A0FEC-3285-42B2-820D-FA7F33AC2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9656C-9D0D-48B5-88F2-A126052E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E4B98-19BC-4CA8-9C1C-D4BC6DD7C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B89F8-4F40-4EA9-B958-3BC24BB9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40F35-B93F-4721-8E88-F54B22A3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C914-17DF-413F-878D-D804A24D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858EC-FC07-42F3-91C5-A465FFF7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281D7-70CF-4475-9CC4-3EA6FA25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8F62B-C7BE-4E6A-8839-A4C6C152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83435-6DBC-4A03-847E-4F48AC2D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47017-B87C-4F9D-8186-81909A60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CCA66-5AF6-4834-9403-9EC5D77D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ADCC1-1FDF-4502-8D34-8E3AB54C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2B6DE-0BD4-41C4-8E02-A72438754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CA3A4-7757-4F79-B93A-4981CDAF8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A4CE-9A44-43FE-B510-57AC811F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4783-B44B-4A75-81CB-AF88890E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42EB-2825-4DCA-B316-BABC8EB6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4342-F7D6-411B-BCFC-ADB22EB9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B39E-E853-4915-9AB4-096FBA9C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CBD1-2D18-474C-847C-E2DE66EB53FD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1805-43EA-4D8F-B1DB-0603FD7CFB8C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CA3A-9757-430B-B852-13A1C4547F1A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9CA8-5171-4FF0-AF2D-5EF8A321C045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3.jpeg"/><Relationship Id="rId8" Type="http://schemas.openxmlformats.org/officeDocument/2006/relationships/image" Target="../media/image15.gif"/><Relationship Id="rId9" Type="http://schemas.openxmlformats.org/officeDocument/2006/relationships/image" Target="../media/image15.gif"/><Relationship Id="rId10" Type="http://schemas.openxmlformats.org/officeDocument/2006/relationships/image" Target="../media/image15.gif"/><Relationship Id="rId11" Type="http://schemas.openxmlformats.org/officeDocument/2006/relationships/image" Target="../media/image15.gif"/><Relationship Id="rId12" Type="http://schemas.openxmlformats.org/officeDocument/2006/relationships/image" Target="../media/image15.gif"/><Relationship Id="rId13" Type="http://schemas.openxmlformats.org/officeDocument/2006/relationships/image" Target="../media/image15.gif"/><Relationship Id="rId14" Type="http://schemas.openxmlformats.org/officeDocument/2006/relationships/image" Target="../media/image15.gif"/><Relationship Id="rId15" Type="http://schemas.openxmlformats.org/officeDocument/2006/relationships/image" Target="../media/image15.gif"/><Relationship Id="rId16" Type="http://schemas.openxmlformats.org/officeDocument/2006/relationships/image" Target="../media/image15.gif"/><Relationship Id="rId17" Type="http://schemas.openxmlformats.org/officeDocument/2006/relationships/image" Target="../media/image15.gif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3.jpeg"/><Relationship Id="rId6" Type="http://schemas.openxmlformats.org/officeDocument/2006/relationships/image" Target="../media/image18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9.wmf"/><Relationship Id="rId9" Type="http://schemas.openxmlformats.org/officeDocument/2006/relationships/image" Target="../media/image20.gif"/><Relationship Id="rId10" Type="http://schemas.openxmlformats.org/officeDocument/2006/relationships/image" Target="../media/image20.gif"/><Relationship Id="rId11" Type="http://schemas.openxmlformats.org/officeDocument/2006/relationships/image" Target="../media/image21.png"/><Relationship Id="rId12" Type="http://schemas.openxmlformats.org/officeDocument/2006/relationships/image" Target="../media/image22.gif"/><Relationship Id="rId13" Type="http://schemas.openxmlformats.org/officeDocument/2006/relationships/image" Target="../media/image23.gif"/><Relationship Id="rId14" Type="http://schemas.openxmlformats.org/officeDocument/2006/relationships/image" Target="../media/image22.gif"/><Relationship Id="rId15" Type="http://schemas.openxmlformats.org/officeDocument/2006/relationships/image" Target="../media/image21.png"/><Relationship Id="rId16" Type="http://schemas.openxmlformats.org/officeDocument/2006/relationships/image" Target="../media/image24.png"/><Relationship Id="rId17" Type="http://schemas.openxmlformats.org/officeDocument/2006/relationships/image" Target="../media/image25.png"/><Relationship Id="rId18" Type="http://schemas.openxmlformats.org/officeDocument/2006/relationships/image" Target="../media/image25.png"/><Relationship Id="rId19" Type="http://schemas.openxmlformats.org/officeDocument/2006/relationships/image" Target="../media/image26.pn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6"/>
          <p:cNvSpPr/>
          <p:nvPr/>
        </p:nvSpPr>
        <p:spPr>
          <a:xfrm>
            <a:off x="1905120" y="1447920"/>
            <a:ext cx="5333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Советы Бобр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Суперзуб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"/>
          <p:cNvSpPr/>
          <p:nvPr/>
        </p:nvSpPr>
        <p:spPr>
          <a:xfrm>
            <a:off x="3657600" y="4952880"/>
            <a:ext cx="525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: воспит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онтьева Ольга Вячеслав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"/>
          <p:cNvSpPr/>
          <p:nvPr/>
        </p:nvSpPr>
        <p:spPr>
          <a:xfrm>
            <a:off x="4106880" y="601992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2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d60093"/>
                </a:solidFill>
                <a:latin typeface="Times New Roman"/>
              </a:rPr>
              <a:t>Как правильно чистить зубы?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2361960"/>
            <a:ext cx="464832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Зубы нужно чистить 2 раза в день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утром и вечером, качественной зубной пастой и щетко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4" descr="Чистить много зубы вредно"/>
          <p:cNvPicPr/>
          <p:nvPr/>
        </p:nvPicPr>
        <p:blipFill>
          <a:blip r:embed="rId1"/>
          <a:stretch/>
        </p:blipFill>
        <p:spPr>
          <a:xfrm>
            <a:off x="7162920" y="1523880"/>
            <a:ext cx="1827000" cy="20955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teeth"/>
          <p:cNvPicPr/>
          <p:nvPr/>
        </p:nvPicPr>
        <p:blipFill>
          <a:blip r:embed="rId2"/>
          <a:stretch/>
        </p:blipFill>
        <p:spPr>
          <a:xfrm>
            <a:off x="5867280" y="3352680"/>
            <a:ext cx="1855800" cy="2133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740201"/>
          <p:cNvPicPr/>
          <p:nvPr/>
        </p:nvPicPr>
        <p:blipFill>
          <a:blip r:embed="rId3"/>
          <a:stretch/>
        </p:blipFill>
        <p:spPr>
          <a:xfrm>
            <a:off x="7543800" y="3886200"/>
            <a:ext cx="1397160" cy="2362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toothbrush_brushing_m_a_sx"/>
          <p:cNvPicPr/>
          <p:nvPr/>
        </p:nvPicPr>
        <p:blipFill>
          <a:blip r:embed="rId4"/>
          <a:stretch/>
        </p:blipFill>
        <p:spPr>
          <a:xfrm>
            <a:off x="6705720" y="5715000"/>
            <a:ext cx="8571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12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d60093"/>
                </a:solidFill>
                <a:latin typeface="Times New Roman"/>
              </a:rPr>
              <a:t>Наружные поверхности зубов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роизводят выметающие движения от десны к зубу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4" descr="очищение наружных поверхностей зубов, стоматология Евродент"/>
          <p:cNvPicPr/>
          <p:nvPr/>
        </p:nvPicPr>
        <p:blipFill>
          <a:blip r:embed="rId1"/>
          <a:stretch/>
        </p:blipFill>
        <p:spPr>
          <a:xfrm>
            <a:off x="4419720" y="1752480"/>
            <a:ext cx="42764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72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d60093"/>
                </a:solidFill>
                <a:latin typeface="Times New Roman"/>
              </a:rPr>
              <a:t>Внутренние поверхности передних зубов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2209320"/>
            <a:ext cx="373392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зубная щетка располагается вертикально, направление движения – от десны к  краю зуб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4" descr="очищение внутренних поверхностей жевательных зубов, стоматология Евродент"/>
          <p:cNvPicPr/>
          <p:nvPr/>
        </p:nvPicPr>
        <p:blipFill>
          <a:blip r:embed="rId1"/>
          <a:stretch/>
        </p:blipFill>
        <p:spPr>
          <a:xfrm>
            <a:off x="4648320" y="1828800"/>
            <a:ext cx="416700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96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d60093"/>
                </a:solidFill>
                <a:latin typeface="Times New Roman"/>
              </a:rPr>
              <a:t>Жевательные поверхности зубов: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6840" y="2133720"/>
            <a:ext cx="38862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зубную щетку располагают горизонтально    и производят чистящие движения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4" descr="очищение жевательных поверхностей зубов, стоматологическая клиника Евродент"/>
          <p:cNvPicPr/>
          <p:nvPr/>
        </p:nvPicPr>
        <p:blipFill>
          <a:blip r:embed="rId1"/>
          <a:stretch/>
        </p:blipFill>
        <p:spPr>
          <a:xfrm>
            <a:off x="4495680" y="1828800"/>
            <a:ext cx="429588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560"/>
                            </p:stCondLst>
                            <p:childTnLst>
                              <p:par>
                                <p:cTn id="1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Times New Roman"/>
              </a:rPr>
              <a:t>Советы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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после приема пищи нет возможности почистить зубы, нужно хотя бы тщательно прополоскать рот водой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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ороший результат так же дает применение жевательной резинки без сахара. Но при этом необходимо помнить, что жевательную резинку нужно жевать после еды не более 10 минут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9" descr="Рисунок1"/>
          <p:cNvPicPr/>
          <p:nvPr/>
        </p:nvPicPr>
        <p:blipFill>
          <a:blip r:embed="rId1"/>
          <a:stretch/>
        </p:blipFill>
        <p:spPr>
          <a:xfrm>
            <a:off x="7391520" y="5410080"/>
            <a:ext cx="1191960" cy="1447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Рисунок1"/>
          <p:cNvPicPr/>
          <p:nvPr/>
        </p:nvPicPr>
        <p:blipFill>
          <a:blip r:embed="rId2"/>
          <a:stretch/>
        </p:blipFill>
        <p:spPr>
          <a:xfrm>
            <a:off x="6172200" y="5410080"/>
            <a:ext cx="1192320" cy="1447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1" descr="Рисунок1"/>
          <p:cNvPicPr/>
          <p:nvPr/>
        </p:nvPicPr>
        <p:blipFill>
          <a:blip r:embed="rId3"/>
          <a:stretch/>
        </p:blipFill>
        <p:spPr>
          <a:xfrm>
            <a:off x="5029200" y="5410080"/>
            <a:ext cx="1192320" cy="14479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2" descr="Рисунок1"/>
          <p:cNvPicPr/>
          <p:nvPr/>
        </p:nvPicPr>
        <p:blipFill>
          <a:blip r:embed="rId4"/>
          <a:stretch/>
        </p:blipFill>
        <p:spPr>
          <a:xfrm>
            <a:off x="3886200" y="5410080"/>
            <a:ext cx="1192320" cy="1447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3" descr="Рисунок1"/>
          <p:cNvPicPr/>
          <p:nvPr/>
        </p:nvPicPr>
        <p:blipFill>
          <a:blip r:embed="rId5"/>
          <a:stretch/>
        </p:blipFill>
        <p:spPr>
          <a:xfrm>
            <a:off x="2716200" y="5410080"/>
            <a:ext cx="1192320" cy="1447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4" descr="Рисунок1"/>
          <p:cNvPicPr/>
          <p:nvPr/>
        </p:nvPicPr>
        <p:blipFill>
          <a:blip r:embed="rId6"/>
          <a:stretch/>
        </p:blipFill>
        <p:spPr>
          <a:xfrm>
            <a:off x="1600200" y="5410080"/>
            <a:ext cx="1192320" cy="14479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5" descr="Рисунок1"/>
          <p:cNvPicPr/>
          <p:nvPr/>
        </p:nvPicPr>
        <p:blipFill>
          <a:blip r:embed="rId7"/>
          <a:stretch/>
        </p:blipFill>
        <p:spPr>
          <a:xfrm>
            <a:off x="457200" y="5410080"/>
            <a:ext cx="1192320" cy="144792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18"/>
          <p:cNvSpPr/>
          <p:nvPr/>
        </p:nvSpPr>
        <p:spPr>
          <a:xfrm>
            <a:off x="8710560" y="6400800"/>
            <a:ext cx="433440" cy="45720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457200"/>
              <a:gd name="textAreaBottom" fmla="*/ 429120 h 457200"/>
            </a:gdLst>
            <a:ahLst/>
            <a:rect l="textAreaLeft" t="textAreaTop" r="textAreaRight" b="textAreaBottom"/>
            <a:pathLst>
              <a:path w="21600" h="22783">
                <a:moveTo>
                  <a:pt x="0" y="0"/>
                </a:moveTo>
                <a:lnTo>
                  <a:pt x="21600" y="0"/>
                </a:lnTo>
                <a:lnTo>
                  <a:pt x="21600" y="22783"/>
                </a:lnTo>
                <a:lnTo>
                  <a:pt x="0" y="22783"/>
                </a:lnTo>
                <a:close/>
              </a:path>
              <a:path fill="lightenLess" w="21600" h="22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83">
                <a:moveTo>
                  <a:pt x="21600" y="0"/>
                </a:moveTo>
                <a:lnTo>
                  <a:pt x="21600" y="22783"/>
                </a:lnTo>
                <a:lnTo>
                  <a:pt x="20200" y="21383"/>
                </a:lnTo>
                <a:lnTo>
                  <a:pt x="20200" y="1400"/>
                </a:lnTo>
                <a:close/>
              </a:path>
              <a:path fill="darkenLess" w="21600" h="22783">
                <a:moveTo>
                  <a:pt x="21600" y="22783"/>
                </a:moveTo>
                <a:lnTo>
                  <a:pt x="0" y="22783"/>
                </a:lnTo>
                <a:lnTo>
                  <a:pt x="1400" y="21383"/>
                </a:lnTo>
                <a:lnTo>
                  <a:pt x="20200" y="21383"/>
                </a:lnTo>
                <a:close/>
              </a:path>
              <a:path fill="lighten" w="21600" h="22783">
                <a:moveTo>
                  <a:pt x="0" y="22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83"/>
                </a:lnTo>
                <a:close/>
              </a:path>
              <a:path fill="darken" w="21600" h="22783">
                <a:moveTo>
                  <a:pt x="10800" y="4429"/>
                </a:moveTo>
                <a:lnTo>
                  <a:pt x="13376" y="7040"/>
                </a:lnTo>
                <a:lnTo>
                  <a:pt x="13376" y="5299"/>
                </a:lnTo>
                <a:lnTo>
                  <a:pt x="15152" y="5299"/>
                </a:lnTo>
                <a:lnTo>
                  <a:pt x="15152" y="8815"/>
                </a:lnTo>
                <a:lnTo>
                  <a:pt x="17763" y="11392"/>
                </a:lnTo>
                <a:lnTo>
                  <a:pt x="16109" y="11392"/>
                </a:lnTo>
                <a:lnTo>
                  <a:pt x="16109" y="18581"/>
                </a:lnTo>
                <a:lnTo>
                  <a:pt x="5491" y="18581"/>
                </a:lnTo>
                <a:lnTo>
                  <a:pt x="5491" y="11392"/>
                </a:lnTo>
                <a:lnTo>
                  <a:pt x="3837" y="11392"/>
                </a:lnTo>
                <a:close/>
              </a:path>
              <a:path fill="darkenLess" w="21600" h="22783">
                <a:moveTo>
                  <a:pt x="13376" y="7040"/>
                </a:moveTo>
                <a:lnTo>
                  <a:pt x="13376" y="5299"/>
                </a:lnTo>
                <a:lnTo>
                  <a:pt x="15152" y="5299"/>
                </a:lnTo>
                <a:lnTo>
                  <a:pt x="15152" y="8815"/>
                </a:lnTo>
                <a:close/>
              </a:path>
              <a:path fill="darkenLess" w="21600" h="22783">
                <a:moveTo>
                  <a:pt x="9877" y="14890"/>
                </a:moveTo>
                <a:lnTo>
                  <a:pt x="11723" y="14890"/>
                </a:lnTo>
                <a:lnTo>
                  <a:pt x="11723" y="18581"/>
                </a:lnTo>
                <a:lnTo>
                  <a:pt x="16109" y="18581"/>
                </a:lnTo>
                <a:lnTo>
                  <a:pt x="16109" y="11392"/>
                </a:lnTo>
                <a:lnTo>
                  <a:pt x="5491" y="11392"/>
                </a:lnTo>
                <a:lnTo>
                  <a:pt x="5491" y="18581"/>
                </a:lnTo>
                <a:lnTo>
                  <a:pt x="9877" y="185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9" descr="tooth_waving_sx"/>
          <p:cNvPicPr/>
          <p:nvPr/>
        </p:nvPicPr>
        <p:blipFill>
          <a:blip r:embed="rId8"/>
          <a:stretch/>
        </p:blipFill>
        <p:spPr>
          <a:xfrm>
            <a:off x="6019920" y="457200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0" descr="tooth_waving_sx"/>
          <p:cNvPicPr/>
          <p:nvPr/>
        </p:nvPicPr>
        <p:blipFill>
          <a:blip r:embed="rId9"/>
          <a:stretch/>
        </p:blipFill>
        <p:spPr>
          <a:xfrm flipH="1">
            <a:off x="5257800" y="45720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2" descr="tooth_waving_sx"/>
          <p:cNvPicPr/>
          <p:nvPr/>
        </p:nvPicPr>
        <p:blipFill>
          <a:blip r:embed="rId10"/>
          <a:stretch/>
        </p:blipFill>
        <p:spPr>
          <a:xfrm>
            <a:off x="4419720" y="457200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3" descr="tooth_waving_sx"/>
          <p:cNvPicPr/>
          <p:nvPr/>
        </p:nvPicPr>
        <p:blipFill>
          <a:blip r:embed="rId11"/>
          <a:stretch/>
        </p:blipFill>
        <p:spPr>
          <a:xfrm flipH="1">
            <a:off x="3657600" y="45720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4" descr="tooth_waving_sx"/>
          <p:cNvPicPr/>
          <p:nvPr/>
        </p:nvPicPr>
        <p:blipFill>
          <a:blip r:embed="rId12"/>
          <a:stretch/>
        </p:blipFill>
        <p:spPr>
          <a:xfrm>
            <a:off x="2819520" y="457200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5" descr="tooth_waving_sx"/>
          <p:cNvPicPr/>
          <p:nvPr/>
        </p:nvPicPr>
        <p:blipFill>
          <a:blip r:embed="rId13"/>
          <a:stretch/>
        </p:blipFill>
        <p:spPr>
          <a:xfrm>
            <a:off x="7696080" y="4572000"/>
            <a:ext cx="857520" cy="8571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6" descr="tooth_waving_sx"/>
          <p:cNvPicPr/>
          <p:nvPr/>
        </p:nvPicPr>
        <p:blipFill>
          <a:blip r:embed="rId14"/>
          <a:stretch/>
        </p:blipFill>
        <p:spPr>
          <a:xfrm flipH="1">
            <a:off x="6858000" y="45720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7" descr="tooth_waving_sx"/>
          <p:cNvPicPr/>
          <p:nvPr/>
        </p:nvPicPr>
        <p:blipFill>
          <a:blip r:embed="rId15"/>
          <a:stretch/>
        </p:blipFill>
        <p:spPr>
          <a:xfrm>
            <a:off x="1143000" y="457200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8" descr="tooth_waving_sx"/>
          <p:cNvPicPr/>
          <p:nvPr/>
        </p:nvPicPr>
        <p:blipFill>
          <a:blip r:embed="rId16"/>
          <a:stretch/>
        </p:blipFill>
        <p:spPr>
          <a:xfrm flipH="1">
            <a:off x="1980720" y="45720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9" descr="tooth_waving_sx"/>
          <p:cNvPicPr/>
          <p:nvPr/>
        </p:nvPicPr>
        <p:blipFill>
          <a:blip r:embed="rId17"/>
          <a:stretch/>
        </p:blipFill>
        <p:spPr>
          <a:xfrm flipH="1">
            <a:off x="304920" y="45720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Рисунок13"/>
          <p:cNvPicPr/>
          <p:nvPr/>
        </p:nvPicPr>
        <p:blipFill>
          <a:blip r:embed="rId1"/>
          <a:stretch/>
        </p:blipFill>
        <p:spPr>
          <a:xfrm>
            <a:off x="3200400" y="3200400"/>
            <a:ext cx="1084320" cy="1452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Рисунок13"/>
          <p:cNvPicPr/>
          <p:nvPr/>
        </p:nvPicPr>
        <p:blipFill>
          <a:blip r:embed="rId2"/>
          <a:stretch/>
        </p:blipFill>
        <p:spPr>
          <a:xfrm>
            <a:off x="1219320" y="1676520"/>
            <a:ext cx="1031760" cy="13809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Рисунок13"/>
          <p:cNvPicPr/>
          <p:nvPr/>
        </p:nvPicPr>
        <p:blipFill>
          <a:blip r:embed="rId3"/>
          <a:stretch/>
        </p:blipFill>
        <p:spPr>
          <a:xfrm>
            <a:off x="3962520" y="228600"/>
            <a:ext cx="1089000" cy="1457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Рисунок28"/>
          <p:cNvPicPr/>
          <p:nvPr/>
        </p:nvPicPr>
        <p:blipFill>
          <a:blip r:embed="rId4"/>
          <a:stretch/>
        </p:blipFill>
        <p:spPr>
          <a:xfrm>
            <a:off x="457200" y="2057400"/>
            <a:ext cx="765000" cy="1085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7" descr="Рисунок1"/>
          <p:cNvPicPr/>
          <p:nvPr/>
        </p:nvPicPr>
        <p:blipFill>
          <a:blip r:embed="rId5"/>
          <a:stretch/>
        </p:blipFill>
        <p:spPr>
          <a:xfrm>
            <a:off x="4495680" y="2133720"/>
            <a:ext cx="816120" cy="99036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23"/>
          <p:cNvSpPr/>
          <p:nvPr/>
        </p:nvSpPr>
        <p:spPr>
          <a:xfrm>
            <a:off x="4954680" y="3352680"/>
            <a:ext cx="88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d60093"/>
                </a:solidFill>
                <a:latin typeface="Times New Roman"/>
              </a:rPr>
              <a:t>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4"/>
          <p:cNvSpPr/>
          <p:nvPr/>
        </p:nvSpPr>
        <p:spPr>
          <a:xfrm>
            <a:off x="4192920" y="3352680"/>
            <a:ext cx="88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d60093"/>
                </a:solidFill>
                <a:latin typeface="Times New Roman"/>
              </a:rPr>
              <a:t>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5"/>
          <p:cNvSpPr/>
          <p:nvPr/>
        </p:nvSpPr>
        <p:spPr>
          <a:xfrm>
            <a:off x="4878720" y="380880"/>
            <a:ext cx="88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d60093"/>
                </a:solidFill>
                <a:latin typeface="Times New Roman"/>
              </a:rPr>
              <a:t>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6"/>
          <p:cNvSpPr/>
          <p:nvPr/>
        </p:nvSpPr>
        <p:spPr>
          <a:xfrm>
            <a:off x="5716800" y="3352680"/>
            <a:ext cx="88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d60093"/>
                </a:solidFill>
                <a:latin typeface="Times New Roman"/>
              </a:rPr>
              <a:t>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7"/>
          <p:cNvSpPr/>
          <p:nvPr/>
        </p:nvSpPr>
        <p:spPr>
          <a:xfrm>
            <a:off x="3049920" y="1752480"/>
            <a:ext cx="88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d60093"/>
                </a:solidFill>
                <a:latin typeface="Times New Roman"/>
              </a:rPr>
              <a:t>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8"/>
          <p:cNvSpPr/>
          <p:nvPr/>
        </p:nvSpPr>
        <p:spPr>
          <a:xfrm>
            <a:off x="6402600" y="457200"/>
            <a:ext cx="88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d60093"/>
                </a:solidFill>
                <a:latin typeface="Times New Roman"/>
              </a:rPr>
              <a:t>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0"/>
          <p:cNvSpPr/>
          <p:nvPr/>
        </p:nvSpPr>
        <p:spPr>
          <a:xfrm>
            <a:off x="8002800" y="457200"/>
            <a:ext cx="72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d60093"/>
                </a:solidFill>
                <a:latin typeface="Times New Roman"/>
              </a:rPr>
              <a:t>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1"/>
          <p:cNvSpPr/>
          <p:nvPr/>
        </p:nvSpPr>
        <p:spPr>
          <a:xfrm>
            <a:off x="2058840" y="1773360"/>
            <a:ext cx="120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d60093"/>
                </a:solidFill>
                <a:latin typeface="Times New Roman"/>
              </a:rPr>
              <a:t>ш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4"/>
          <p:cNvSpPr/>
          <p:nvPr/>
        </p:nvSpPr>
        <p:spPr>
          <a:xfrm>
            <a:off x="7621560" y="1676520"/>
            <a:ext cx="113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d60093"/>
                </a:solidFill>
                <a:latin typeface="Times New Roman"/>
              </a:rPr>
              <a:t>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5" descr="STA49279-n"/>
          <p:cNvPicPr/>
          <p:nvPr/>
        </p:nvPicPr>
        <p:blipFill>
          <a:blip r:embed="rId6"/>
          <a:stretch/>
        </p:blipFill>
        <p:spPr>
          <a:xfrm>
            <a:off x="5410080" y="2286000"/>
            <a:ext cx="1266840" cy="62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8" name="Object 39"/>
          <p:cNvGraphicFramePr/>
          <p:nvPr/>
        </p:nvGraphicFramePr>
        <p:xfrm>
          <a:off x="3809880" y="5181480"/>
          <a:ext cx="1003320" cy="1382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9" name="Object 3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5181480"/>
                    <a:ext cx="10033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0" name="Picture 42" descr="eda51"/>
          <p:cNvPicPr/>
          <p:nvPr/>
        </p:nvPicPr>
        <p:blipFill>
          <a:blip r:embed="rId9"/>
          <a:stretch/>
        </p:blipFill>
        <p:spPr>
          <a:xfrm>
            <a:off x="228600" y="533520"/>
            <a:ext cx="974880" cy="12189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3" descr="eda51"/>
          <p:cNvPicPr/>
          <p:nvPr/>
        </p:nvPicPr>
        <p:blipFill>
          <a:blip r:embed="rId10"/>
          <a:stretch/>
        </p:blipFill>
        <p:spPr>
          <a:xfrm>
            <a:off x="533520" y="3581280"/>
            <a:ext cx="974520" cy="1219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4" descr="Рисунок18"/>
          <p:cNvPicPr/>
          <p:nvPr/>
        </p:nvPicPr>
        <p:blipFill>
          <a:blip r:embed="rId11"/>
          <a:stretch/>
        </p:blipFill>
        <p:spPr>
          <a:xfrm>
            <a:off x="7238880" y="762120"/>
            <a:ext cx="730440" cy="9381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6" descr="Рисунок13"/>
          <p:cNvPicPr/>
          <p:nvPr/>
        </p:nvPicPr>
        <p:blipFill>
          <a:blip r:embed="rId12"/>
          <a:stretch/>
        </p:blipFill>
        <p:spPr>
          <a:xfrm flipH="1">
            <a:off x="3200400" y="838080"/>
            <a:ext cx="752400" cy="8384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7" descr="eda20"/>
          <p:cNvPicPr/>
          <p:nvPr/>
        </p:nvPicPr>
        <p:blipFill>
          <a:blip r:embed="rId13"/>
          <a:stretch/>
        </p:blipFill>
        <p:spPr>
          <a:xfrm rot="17838600">
            <a:off x="6805800" y="2109240"/>
            <a:ext cx="866520" cy="9144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8" descr="Рисунок13"/>
          <p:cNvPicPr/>
          <p:nvPr/>
        </p:nvPicPr>
        <p:blipFill>
          <a:blip r:embed="rId14"/>
          <a:stretch/>
        </p:blipFill>
        <p:spPr>
          <a:xfrm flipH="1">
            <a:off x="2286000" y="3733920"/>
            <a:ext cx="820800" cy="9144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1" descr="Рисунок18"/>
          <p:cNvPicPr/>
          <p:nvPr/>
        </p:nvPicPr>
        <p:blipFill>
          <a:blip r:embed="rId15"/>
          <a:stretch/>
        </p:blipFill>
        <p:spPr>
          <a:xfrm>
            <a:off x="4876920" y="5410080"/>
            <a:ext cx="730080" cy="9381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D:\клипарты\еда раст\лимон.png"/>
          <p:cNvPicPr/>
          <p:nvPr/>
        </p:nvPicPr>
        <p:blipFill>
          <a:blip r:embed="rId16"/>
          <a:stretch/>
        </p:blipFill>
        <p:spPr>
          <a:xfrm>
            <a:off x="2514600" y="5562720"/>
            <a:ext cx="1157400" cy="693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3" descr="0f75d7694604"/>
          <p:cNvPicPr/>
          <p:nvPr/>
        </p:nvPicPr>
        <p:blipFill>
          <a:blip r:embed="rId17"/>
          <a:stretch/>
        </p:blipFill>
        <p:spPr>
          <a:xfrm>
            <a:off x="6629400" y="3886200"/>
            <a:ext cx="1447920" cy="7603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4" descr="0f75d7694604"/>
          <p:cNvPicPr/>
          <p:nvPr/>
        </p:nvPicPr>
        <p:blipFill>
          <a:blip r:embed="rId18"/>
          <a:stretch/>
        </p:blipFill>
        <p:spPr>
          <a:xfrm>
            <a:off x="1752480" y="990720"/>
            <a:ext cx="1447920" cy="76032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57"/>
          <p:cNvSpPr/>
          <p:nvPr/>
        </p:nvSpPr>
        <p:spPr>
          <a:xfrm>
            <a:off x="1068480" y="3808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d60093"/>
                </a:solidFill>
                <a:latin typeface="Times New Roman"/>
              </a:rPr>
              <a:t>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9" descr="3159"/>
          <p:cNvPicPr/>
          <p:nvPr/>
        </p:nvPicPr>
        <p:blipFill>
          <a:blip r:embed="rId19"/>
          <a:srcRect l="5467" t="1343" r="4153" b="2793"/>
          <a:stretch/>
        </p:blipFill>
        <p:spPr>
          <a:xfrm>
            <a:off x="5715000" y="685800"/>
            <a:ext cx="91908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User</cp:lastModifiedBy>
  <dcterms:modified xsi:type="dcterms:W3CDTF">2021-03-16T17:45:34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