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17.gif" ContentType="image/gif"/>
  <Override PartName="/ppt/media/image16.gif" ContentType="image/gif"/>
  <Override PartName="/ppt/media/image21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3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FEC-35F4-42B0-A8D9-4E3B7AB9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9E0-E01E-4B11-9BC1-95A91650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59D-2AE8-4813-81F0-81A82F71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1C7-55B8-4EED-A8EB-DFB4E1B2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DEE-03E1-4E79-9F8E-EAE269A5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80A0-E9F5-432A-A946-B86F0696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CD29-20D9-41EA-8F6D-6BFD86CB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ED21-6049-4177-87E3-8E99334C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36DD-49E8-42C8-84C6-98D13F03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1D4B-04DE-40C5-8DAE-D858C11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4779-42C4-42D7-A864-23CAEDDD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DC8-BBBE-4068-8A52-27305CF6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61AA-3D7B-491F-82CD-81C8335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6D18-A1CF-4E9C-9F82-BBA02F4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874E-7638-4242-A0EE-CC768D2C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2AEA-CA59-4734-8C1F-D73D8A2F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67A3-39DC-4A8C-B4BD-F8084482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124C-9AA3-4966-8E61-20BDED72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96C0-5466-4B65-B8BA-C3AF3AC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91E6-4952-4759-B183-8BB3D73B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C1FA-CD76-4BCE-9071-D6CF3642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BFD6-6FC2-472D-B4C5-D10A5CF1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5BC-F2B9-4C07-A30F-5B4C116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DDD1-983A-4571-968A-6B56145B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D29A-D821-4808-81EA-7E22E10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A66D-83CD-4ED7-9DE8-72B8AC0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5E58-4D98-4EB4-AB0E-BE798B9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0591-A1E1-4AED-A0C2-5F41920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59F0-E4F0-4504-A4A3-834946C2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113B-EC41-4CEC-B611-350B08D6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E61B-77A1-4339-8B17-B7B06A1D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65DA-2744-4A9C-94FA-D035F91D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1FDB-C67B-4137-A170-0054A4FA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538-6D58-4354-8721-C6A8BD6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90C7-81DA-4D57-B9A7-B3AFEAB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7213-3624-40F4-8438-1B9144EC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AA63-C420-4E99-9170-DF89DF62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BC7D-C753-407E-9A59-A79E1019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A9C9-839E-4E2E-9C58-E36BEDB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1249-6055-4A17-A2A2-C977D8D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B761-E202-4DD5-B2F4-8DA4DF48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189C-4A6A-4BE1-8418-F8BAD99E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0719-E064-417C-B50D-B6CBE86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90B-2475-4B53-B5E1-5DFBDD4B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404-0A6E-405B-B6A2-BEC2BCD4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0B2-A55C-483D-85A1-D95B367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7BE-8024-47B8-89F1-6CB7436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AB4-7E34-44BD-9146-59B6F918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1FE8-63F5-4800-A485-E52F00274E1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33B-EC23-4D4F-9679-C504489B4A2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69A-98A8-46FF-BB96-29B1EFB7109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2B95-19C9-4B32-8FFE-FE9BBD31E07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2.gif"/><Relationship Id="rId15" Type="http://schemas.openxmlformats.org/officeDocument/2006/relationships/image" Target="../media/image21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6"/>
          <p:cNvSpPr/>
          <p:nvPr/>
        </p:nvSpPr>
        <p:spPr>
          <a:xfrm>
            <a:off x="1905120" y="14479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веты Боб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уперзуб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657600" y="49528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тьева Ольг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4106880" y="60199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Как правильно чистить зубы?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361960"/>
            <a:ext cx="46483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ы нужно чистить 2 раза в ден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тром и вечером, качественной зубной пастой и щетк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Чистить много зубы вредно"/>
          <p:cNvPicPr/>
          <p:nvPr/>
        </p:nvPicPr>
        <p:blipFill>
          <a:blip r:embed="rId1"/>
          <a:stretch/>
        </p:blipFill>
        <p:spPr>
          <a:xfrm>
            <a:off x="7162920" y="1523880"/>
            <a:ext cx="1827000" cy="20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teeth"/>
          <p:cNvPicPr/>
          <p:nvPr/>
        </p:nvPicPr>
        <p:blipFill>
          <a:blip r:embed="rId2"/>
          <a:stretch/>
        </p:blipFill>
        <p:spPr>
          <a:xfrm>
            <a:off x="5867280" y="3352680"/>
            <a:ext cx="1855800" cy="213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740201"/>
          <p:cNvPicPr/>
          <p:nvPr/>
        </p:nvPicPr>
        <p:blipFill>
          <a:blip r:embed="rId3"/>
          <a:stretch/>
        </p:blipFill>
        <p:spPr>
          <a:xfrm>
            <a:off x="7543800" y="3886200"/>
            <a:ext cx="1397160" cy="2362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toothbrush_brushing_m_a_sx"/>
          <p:cNvPicPr/>
          <p:nvPr/>
        </p:nvPicPr>
        <p:blipFill>
          <a:blip r:embed="rId4"/>
          <a:stretch/>
        </p:blipFill>
        <p:spPr>
          <a:xfrm>
            <a:off x="6705720" y="57150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Наружные поверхности зуб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изводят выметающие движения от десны к зубу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очищение наружных поверхностей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419720" y="1752480"/>
            <a:ext cx="4276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Внутренние поверхности передних зуб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209320"/>
            <a:ext cx="3733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ная щетка располагается вертикально, направление движения – от десны к  краю зуб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очищение внутренних поверхностей жевательных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648320" y="1828800"/>
            <a:ext cx="4167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Жевательные поверхности зубов: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ную щетку располагают горизонтально    и производят чистящие движения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очищение жевательных поверхностей зубов, стоматологическая клиника Евродент"/>
          <p:cNvPicPr/>
          <p:nvPr/>
        </p:nvPicPr>
        <p:blipFill>
          <a:blip r:embed="rId1"/>
          <a:stretch/>
        </p:blipFill>
        <p:spPr>
          <a:xfrm>
            <a:off x="4495680" y="1828800"/>
            <a:ext cx="4295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Times New Roman"/>
              </a:rPr>
              <a:t>Советы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ле приема пищи нет возможности почистить зубы, нужно хотя бы тщательно прополоскать рот вод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й результат так же дает применение жевательной резинки без сахара. Но при этом необходимо помнить, что жевательную резинку нужно жевать после еды не более 10 мин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9" descr="Рисунок1"/>
          <p:cNvPicPr/>
          <p:nvPr/>
        </p:nvPicPr>
        <p:blipFill>
          <a:blip r:embed="rId1"/>
          <a:stretch/>
        </p:blipFill>
        <p:spPr>
          <a:xfrm>
            <a:off x="7391520" y="5410080"/>
            <a:ext cx="1191960" cy="14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Рисунок1"/>
          <p:cNvPicPr/>
          <p:nvPr/>
        </p:nvPicPr>
        <p:blipFill>
          <a:blip r:embed="rId2"/>
          <a:stretch/>
        </p:blipFill>
        <p:spPr>
          <a:xfrm>
            <a:off x="6172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Рисунок1"/>
          <p:cNvPicPr/>
          <p:nvPr/>
        </p:nvPicPr>
        <p:blipFill>
          <a:blip r:embed="rId3"/>
          <a:stretch/>
        </p:blipFill>
        <p:spPr>
          <a:xfrm>
            <a:off x="5029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Рисунок1"/>
          <p:cNvPicPr/>
          <p:nvPr/>
        </p:nvPicPr>
        <p:blipFill>
          <a:blip r:embed="rId4"/>
          <a:stretch/>
        </p:blipFill>
        <p:spPr>
          <a:xfrm>
            <a:off x="3886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Рисунок1"/>
          <p:cNvPicPr/>
          <p:nvPr/>
        </p:nvPicPr>
        <p:blipFill>
          <a:blip r:embed="rId5"/>
          <a:stretch/>
        </p:blipFill>
        <p:spPr>
          <a:xfrm>
            <a:off x="2716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Рисунок1"/>
          <p:cNvPicPr/>
          <p:nvPr/>
        </p:nvPicPr>
        <p:blipFill>
          <a:blip r:embed="rId6"/>
          <a:stretch/>
        </p:blipFill>
        <p:spPr>
          <a:xfrm>
            <a:off x="1600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Рисунок1"/>
          <p:cNvPicPr/>
          <p:nvPr/>
        </p:nvPicPr>
        <p:blipFill>
          <a:blip r:embed="rId7"/>
          <a:stretch/>
        </p:blipFill>
        <p:spPr>
          <a:xfrm>
            <a:off x="457200" y="5410080"/>
            <a:ext cx="11923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8"/>
          <p:cNvSpPr/>
          <p:nvPr/>
        </p:nvSpPr>
        <p:spPr>
          <a:xfrm>
            <a:off x="8710560" y="64008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10800" y="4429"/>
                </a:moveTo>
                <a:lnTo>
                  <a:pt x="13376" y="7040"/>
                </a:lnTo>
                <a:lnTo>
                  <a:pt x="13376" y="5299"/>
                </a:lnTo>
                <a:lnTo>
                  <a:pt x="15152" y="5299"/>
                </a:lnTo>
                <a:lnTo>
                  <a:pt x="15152" y="8815"/>
                </a:lnTo>
                <a:lnTo>
                  <a:pt x="17763" y="11392"/>
                </a:lnTo>
                <a:lnTo>
                  <a:pt x="16109" y="11392"/>
                </a:lnTo>
                <a:lnTo>
                  <a:pt x="16109" y="18581"/>
                </a:lnTo>
                <a:lnTo>
                  <a:pt x="5491" y="18581"/>
                </a:lnTo>
                <a:lnTo>
                  <a:pt x="5491" y="11392"/>
                </a:lnTo>
                <a:lnTo>
                  <a:pt x="3837" y="11392"/>
                </a:lnTo>
                <a:close/>
              </a:path>
              <a:path fill="darkenLess" w="21600" h="22783">
                <a:moveTo>
                  <a:pt x="13376" y="7040"/>
                </a:moveTo>
                <a:lnTo>
                  <a:pt x="13376" y="5299"/>
                </a:lnTo>
                <a:lnTo>
                  <a:pt x="15152" y="5299"/>
                </a:lnTo>
                <a:lnTo>
                  <a:pt x="15152" y="8815"/>
                </a:lnTo>
                <a:close/>
              </a:path>
              <a:path fill="darkenLess" w="21600" h="22783">
                <a:moveTo>
                  <a:pt x="9877" y="14890"/>
                </a:moveTo>
                <a:lnTo>
                  <a:pt x="11723" y="14890"/>
                </a:lnTo>
                <a:lnTo>
                  <a:pt x="11723" y="18581"/>
                </a:lnTo>
                <a:lnTo>
                  <a:pt x="16109" y="18581"/>
                </a:lnTo>
                <a:lnTo>
                  <a:pt x="16109" y="11392"/>
                </a:lnTo>
                <a:lnTo>
                  <a:pt x="5491" y="11392"/>
                </a:lnTo>
                <a:lnTo>
                  <a:pt x="5491" y="18581"/>
                </a:lnTo>
                <a:lnTo>
                  <a:pt x="9877" y="185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9" descr="tooth_waving_sx"/>
          <p:cNvPicPr/>
          <p:nvPr/>
        </p:nvPicPr>
        <p:blipFill>
          <a:blip r:embed="rId8"/>
          <a:stretch/>
        </p:blipFill>
        <p:spPr>
          <a:xfrm>
            <a:off x="60199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tooth_waving_sx"/>
          <p:cNvPicPr/>
          <p:nvPr/>
        </p:nvPicPr>
        <p:blipFill>
          <a:blip r:embed="rId9"/>
          <a:stretch/>
        </p:blipFill>
        <p:spPr>
          <a:xfrm flipH="1">
            <a:off x="52578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tooth_waving_sx"/>
          <p:cNvPicPr/>
          <p:nvPr/>
        </p:nvPicPr>
        <p:blipFill>
          <a:blip r:embed="rId10"/>
          <a:stretch/>
        </p:blipFill>
        <p:spPr>
          <a:xfrm>
            <a:off x="44197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3" descr="tooth_waving_sx"/>
          <p:cNvPicPr/>
          <p:nvPr/>
        </p:nvPicPr>
        <p:blipFill>
          <a:blip r:embed="rId11"/>
          <a:stretch/>
        </p:blipFill>
        <p:spPr>
          <a:xfrm flipH="1">
            <a:off x="36576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4" descr="tooth_waving_sx"/>
          <p:cNvPicPr/>
          <p:nvPr/>
        </p:nvPicPr>
        <p:blipFill>
          <a:blip r:embed="rId12"/>
          <a:stretch/>
        </p:blipFill>
        <p:spPr>
          <a:xfrm>
            <a:off x="28195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tooth_waving_sx"/>
          <p:cNvPicPr/>
          <p:nvPr/>
        </p:nvPicPr>
        <p:blipFill>
          <a:blip r:embed="rId13"/>
          <a:stretch/>
        </p:blipFill>
        <p:spPr>
          <a:xfrm>
            <a:off x="7696080" y="4572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tooth_waving_sx"/>
          <p:cNvPicPr/>
          <p:nvPr/>
        </p:nvPicPr>
        <p:blipFill>
          <a:blip r:embed="rId14"/>
          <a:stretch/>
        </p:blipFill>
        <p:spPr>
          <a:xfrm flipH="1">
            <a:off x="6858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tooth_waving_sx"/>
          <p:cNvPicPr/>
          <p:nvPr/>
        </p:nvPicPr>
        <p:blipFill>
          <a:blip r:embed="rId15"/>
          <a:stretch/>
        </p:blipFill>
        <p:spPr>
          <a:xfrm>
            <a:off x="114300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tooth_waving_sx"/>
          <p:cNvPicPr/>
          <p:nvPr/>
        </p:nvPicPr>
        <p:blipFill>
          <a:blip r:embed="rId16"/>
          <a:stretch/>
        </p:blipFill>
        <p:spPr>
          <a:xfrm flipH="1">
            <a:off x="1980720" y="4572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9" descr="tooth_waving_sx"/>
          <p:cNvPicPr/>
          <p:nvPr/>
        </p:nvPicPr>
        <p:blipFill>
          <a:blip r:embed="rId17"/>
          <a:stretch/>
        </p:blipFill>
        <p:spPr>
          <a:xfrm flipH="1">
            <a:off x="304920" y="4572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Рисунок13"/>
          <p:cNvPicPr/>
          <p:nvPr/>
        </p:nvPicPr>
        <p:blipFill>
          <a:blip r:embed="rId1"/>
          <a:stretch/>
        </p:blipFill>
        <p:spPr>
          <a:xfrm>
            <a:off x="3200400" y="3200400"/>
            <a:ext cx="1084320" cy="1452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Рисунок13"/>
          <p:cNvPicPr/>
          <p:nvPr/>
        </p:nvPicPr>
        <p:blipFill>
          <a:blip r:embed="rId2"/>
          <a:stretch/>
        </p:blipFill>
        <p:spPr>
          <a:xfrm>
            <a:off x="1219320" y="1676520"/>
            <a:ext cx="1031760" cy="1380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Рисунок13"/>
          <p:cNvPicPr/>
          <p:nvPr/>
        </p:nvPicPr>
        <p:blipFill>
          <a:blip r:embed="rId3"/>
          <a:stretch/>
        </p:blipFill>
        <p:spPr>
          <a:xfrm>
            <a:off x="3962520" y="228600"/>
            <a:ext cx="1089000" cy="1457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исунок28"/>
          <p:cNvPicPr/>
          <p:nvPr/>
        </p:nvPicPr>
        <p:blipFill>
          <a:blip r:embed="rId4"/>
          <a:stretch/>
        </p:blipFill>
        <p:spPr>
          <a:xfrm>
            <a:off x="457200" y="2057400"/>
            <a:ext cx="765000" cy="108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Рисунок1"/>
          <p:cNvPicPr/>
          <p:nvPr/>
        </p:nvPicPr>
        <p:blipFill>
          <a:blip r:embed="rId5"/>
          <a:stretch/>
        </p:blipFill>
        <p:spPr>
          <a:xfrm>
            <a:off x="4495680" y="2133720"/>
            <a:ext cx="816120" cy="99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3"/>
          <p:cNvSpPr/>
          <p:nvPr/>
        </p:nvSpPr>
        <p:spPr>
          <a:xfrm>
            <a:off x="495468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419292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4878720" y="3808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571680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3049920" y="17524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6402600" y="45720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8002800" y="45720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2058840" y="1773360"/>
            <a:ext cx="12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7621560" y="16765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5" descr="STA49279-n"/>
          <p:cNvPicPr/>
          <p:nvPr/>
        </p:nvPicPr>
        <p:blipFill>
          <a:blip r:embed="rId6"/>
          <a:stretch/>
        </p:blipFill>
        <p:spPr>
          <a:xfrm>
            <a:off x="5410080" y="2286000"/>
            <a:ext cx="126684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39"/>
          <p:cNvGraphicFramePr/>
          <p:nvPr/>
        </p:nvGraphicFramePr>
        <p:xfrm>
          <a:off x="3809880" y="5181480"/>
          <a:ext cx="1003320" cy="13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181480"/>
                    <a:ext cx="10033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42" descr="eda51"/>
          <p:cNvPicPr/>
          <p:nvPr/>
        </p:nvPicPr>
        <p:blipFill>
          <a:blip r:embed="rId9"/>
          <a:stretch/>
        </p:blipFill>
        <p:spPr>
          <a:xfrm>
            <a:off x="228600" y="533520"/>
            <a:ext cx="974880" cy="121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3" descr="eda51"/>
          <p:cNvPicPr/>
          <p:nvPr/>
        </p:nvPicPr>
        <p:blipFill>
          <a:blip r:embed="rId10"/>
          <a:stretch/>
        </p:blipFill>
        <p:spPr>
          <a:xfrm>
            <a:off x="533520" y="3581280"/>
            <a:ext cx="9745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4" descr="Рисунок18"/>
          <p:cNvPicPr/>
          <p:nvPr/>
        </p:nvPicPr>
        <p:blipFill>
          <a:blip r:embed="rId11"/>
          <a:stretch/>
        </p:blipFill>
        <p:spPr>
          <a:xfrm>
            <a:off x="7238880" y="762120"/>
            <a:ext cx="730440" cy="938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6" descr="Рисунок13"/>
          <p:cNvPicPr/>
          <p:nvPr/>
        </p:nvPicPr>
        <p:blipFill>
          <a:blip r:embed="rId12"/>
          <a:stretch/>
        </p:blipFill>
        <p:spPr>
          <a:xfrm flipH="1">
            <a:off x="3200400" y="83808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7" descr="eda20"/>
          <p:cNvPicPr/>
          <p:nvPr/>
        </p:nvPicPr>
        <p:blipFill>
          <a:blip r:embed="rId13"/>
          <a:stretch/>
        </p:blipFill>
        <p:spPr>
          <a:xfrm rot="17838600">
            <a:off x="6805800" y="2109240"/>
            <a:ext cx="86652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8" descr="Рисунок13"/>
          <p:cNvPicPr/>
          <p:nvPr/>
        </p:nvPicPr>
        <p:blipFill>
          <a:blip r:embed="rId14"/>
          <a:stretch/>
        </p:blipFill>
        <p:spPr>
          <a:xfrm flipH="1">
            <a:off x="2286000" y="3733920"/>
            <a:ext cx="8208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1" descr="Рисунок18"/>
          <p:cNvPicPr/>
          <p:nvPr/>
        </p:nvPicPr>
        <p:blipFill>
          <a:blip r:embed="rId15"/>
          <a:stretch/>
        </p:blipFill>
        <p:spPr>
          <a:xfrm>
            <a:off x="4876920" y="5410080"/>
            <a:ext cx="730080" cy="938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D:\клипарты\еда раст\лимон.png"/>
          <p:cNvPicPr/>
          <p:nvPr/>
        </p:nvPicPr>
        <p:blipFill>
          <a:blip r:embed="rId16"/>
          <a:stretch/>
        </p:blipFill>
        <p:spPr>
          <a:xfrm>
            <a:off x="2514600" y="5562720"/>
            <a:ext cx="1157400" cy="693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3" descr="0f75d7694604"/>
          <p:cNvPicPr/>
          <p:nvPr/>
        </p:nvPicPr>
        <p:blipFill>
          <a:blip r:embed="rId17"/>
          <a:stretch/>
        </p:blipFill>
        <p:spPr>
          <a:xfrm>
            <a:off x="6629400" y="3886200"/>
            <a:ext cx="1447920" cy="760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4" descr="0f75d7694604"/>
          <p:cNvPicPr/>
          <p:nvPr/>
        </p:nvPicPr>
        <p:blipFill>
          <a:blip r:embed="rId18"/>
          <a:stretch/>
        </p:blipFill>
        <p:spPr>
          <a:xfrm>
            <a:off x="1752480" y="990720"/>
            <a:ext cx="1447920" cy="7603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7"/>
          <p:cNvSpPr/>
          <p:nvPr/>
        </p:nvSpPr>
        <p:spPr>
          <a:xfrm>
            <a:off x="1068480" y="380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9" descr="3159"/>
          <p:cNvPicPr/>
          <p:nvPr/>
        </p:nvPicPr>
        <p:blipFill>
          <a:blip r:embed="rId19"/>
          <a:srcRect l="5467" t="1343" r="4153" b="2793"/>
          <a:stretch/>
        </p:blipFill>
        <p:spPr>
          <a:xfrm>
            <a:off x="5715000" y="685800"/>
            <a:ext cx="919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1-03-16T17:45:3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