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17.gif" ContentType="image/gif"/>
  <Override PartName="/ppt/media/image16.gif" ContentType="image/gif"/>
  <Override PartName="/ppt/media/image21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3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48C-EED2-4713-BDCE-0D39C345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D2B-7B53-4D2C-9E7B-C8BE547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E8A-0A43-4B5B-8531-93441140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D68-E3BE-4CA5-9235-C20A23D2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79CA-17ED-471A-B6E6-FA493B07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B50E-05E1-4AEF-ABB4-CBC19A91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2FE4-C0E6-4B3F-9ED5-D1B1F60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F09-27C6-4BCA-87D8-F3AAC989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401A-60C7-45B9-916F-03782173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1EF-9ABC-4C2F-AC98-C2A2E713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A9A0-7D46-4CAB-8C3F-0313365A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EC9-4D90-4DC5-8AC0-7405429F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5D05-7C3F-466A-95A4-AE8824A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F702-904C-4712-B058-E23EEBC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EDC4-B5AF-493C-98FC-2A00E795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F0B6-7DE5-4F39-8186-697C8505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0488-6E4A-49BD-B0FE-A7EA3770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ED22-ABAF-4328-BE0F-253108DF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75D5-BCAB-4FEE-8940-63621D2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D886-F026-491E-A5E7-D3B0813B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323B-2483-4F28-8C92-7D42B357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D7D2-9546-4524-A107-B75D9310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027-9696-49CF-8FBF-AE02FEE5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2640-7277-41A9-8041-54436CC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E3AF-2E7D-4D57-AC7E-D38D028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785D-AA55-4EA8-875A-16D426D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2240-9CE6-4B55-AAAA-1F8AD05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0CEC-E5D6-4556-9A3E-C66E53AF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30E3-9CC0-4257-9C8E-39B29E70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8258-BB54-4713-9E44-7842B30F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5B555-7441-4117-BE89-E19D101B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1874-BD2B-4EA1-885F-2C49F28C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BBBC-C1C2-495A-96BC-B1E7B24C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377-221C-4833-91A8-BDC901A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E4C0C-BCCD-4A96-990C-649F17D9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24865-7177-4FF9-AA6D-9952389A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B97A-AFC7-4786-B970-3211827F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EEC9-DDC3-4534-9268-D31F1C3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A607-289F-433E-87C7-FC86674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F0B6-E958-4794-8AC7-572B488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48A0-2DD3-4820-91A2-15E36DA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A5FC-E222-4342-A1FE-B691F9C5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29BB-29AD-48B4-875F-63FAD473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E08-99C5-4B7D-B716-4886FEF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346-57A1-4C8F-B76D-2B3808DC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AD9-30D9-4539-9A05-C8A72B9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75E-5434-47D2-935B-7D36FEEB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E04-041D-4C53-825C-0221C0DD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E25-A6D8-440D-A771-6A3FEB2C36D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7F27-6586-4F64-A08D-CDE25914716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EBE2-EEF8-4CD0-A1C5-9376840C9C9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DA33-BFA0-4BDD-B440-A5239F6EFC9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wm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image" Target="../media/image22.gif"/><Relationship Id="rId15" Type="http://schemas.openxmlformats.org/officeDocument/2006/relationships/image" Target="../media/image21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6"/>
          <p:cNvSpPr/>
          <p:nvPr/>
        </p:nvSpPr>
        <p:spPr>
          <a:xfrm>
            <a:off x="1905120" y="144792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веты Боб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уперзуб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657600" y="49528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тьева Ольг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4106880" y="60199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Как правильно чистить зубы?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361960"/>
            <a:ext cx="46483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ы нужно чистить 2 раза в ден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тром и вечером, качественной зубной пастой и щетк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Чистить много зубы вредно"/>
          <p:cNvPicPr/>
          <p:nvPr/>
        </p:nvPicPr>
        <p:blipFill>
          <a:blip r:embed="rId1"/>
          <a:stretch/>
        </p:blipFill>
        <p:spPr>
          <a:xfrm>
            <a:off x="7162920" y="1523880"/>
            <a:ext cx="1827000" cy="20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teeth"/>
          <p:cNvPicPr/>
          <p:nvPr/>
        </p:nvPicPr>
        <p:blipFill>
          <a:blip r:embed="rId2"/>
          <a:stretch/>
        </p:blipFill>
        <p:spPr>
          <a:xfrm>
            <a:off x="5867280" y="3352680"/>
            <a:ext cx="1855800" cy="213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740201"/>
          <p:cNvPicPr/>
          <p:nvPr/>
        </p:nvPicPr>
        <p:blipFill>
          <a:blip r:embed="rId3"/>
          <a:stretch/>
        </p:blipFill>
        <p:spPr>
          <a:xfrm>
            <a:off x="7543800" y="3886200"/>
            <a:ext cx="1397160" cy="2362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toothbrush_brushing_m_a_sx"/>
          <p:cNvPicPr/>
          <p:nvPr/>
        </p:nvPicPr>
        <p:blipFill>
          <a:blip r:embed="rId4"/>
          <a:stretch/>
        </p:blipFill>
        <p:spPr>
          <a:xfrm>
            <a:off x="6705720" y="57150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Наружные поверхности зуб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изводят выметающие движения от десны к зубу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очищение наружных поверхностей зубов, стоматология Евродент"/>
          <p:cNvPicPr/>
          <p:nvPr/>
        </p:nvPicPr>
        <p:blipFill>
          <a:blip r:embed="rId1"/>
          <a:stretch/>
        </p:blipFill>
        <p:spPr>
          <a:xfrm>
            <a:off x="4419720" y="1752480"/>
            <a:ext cx="4276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Внутренние поверхности передних зуб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209320"/>
            <a:ext cx="37339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ная щетка располагается вертикально, направление движения – от десны к  краю зуб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очищение внутренних поверхностей жевательных зубов, стоматология Евродент"/>
          <p:cNvPicPr/>
          <p:nvPr/>
        </p:nvPicPr>
        <p:blipFill>
          <a:blip r:embed="rId1"/>
          <a:stretch/>
        </p:blipFill>
        <p:spPr>
          <a:xfrm>
            <a:off x="4648320" y="1828800"/>
            <a:ext cx="4167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Жевательные поверхности зубов: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ную щетку располагают горизонтально    и производят чистящие движения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очищение жевательных поверхностей зубов, стоматологическая клиника Евродент"/>
          <p:cNvPicPr/>
          <p:nvPr/>
        </p:nvPicPr>
        <p:blipFill>
          <a:blip r:embed="rId1"/>
          <a:stretch/>
        </p:blipFill>
        <p:spPr>
          <a:xfrm>
            <a:off x="4495680" y="1828800"/>
            <a:ext cx="4295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Times New Roman"/>
              </a:rPr>
              <a:t>Советы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после приема пищи нет возможности почистить зубы, нужно хотя бы тщательно прополоскать рот вод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ий результат так же дает применение жевательной резинки без сахара. Но при этом необходимо помнить, что жевательную резинку нужно жевать после еды не более 10 мину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9" descr="Рисунок1"/>
          <p:cNvPicPr/>
          <p:nvPr/>
        </p:nvPicPr>
        <p:blipFill>
          <a:blip r:embed="rId1"/>
          <a:stretch/>
        </p:blipFill>
        <p:spPr>
          <a:xfrm>
            <a:off x="7391520" y="5410080"/>
            <a:ext cx="1191960" cy="144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Рисунок1"/>
          <p:cNvPicPr/>
          <p:nvPr/>
        </p:nvPicPr>
        <p:blipFill>
          <a:blip r:embed="rId2"/>
          <a:stretch/>
        </p:blipFill>
        <p:spPr>
          <a:xfrm>
            <a:off x="6172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Рисунок1"/>
          <p:cNvPicPr/>
          <p:nvPr/>
        </p:nvPicPr>
        <p:blipFill>
          <a:blip r:embed="rId3"/>
          <a:stretch/>
        </p:blipFill>
        <p:spPr>
          <a:xfrm>
            <a:off x="5029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Рисунок1"/>
          <p:cNvPicPr/>
          <p:nvPr/>
        </p:nvPicPr>
        <p:blipFill>
          <a:blip r:embed="rId4"/>
          <a:stretch/>
        </p:blipFill>
        <p:spPr>
          <a:xfrm>
            <a:off x="3886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Рисунок1"/>
          <p:cNvPicPr/>
          <p:nvPr/>
        </p:nvPicPr>
        <p:blipFill>
          <a:blip r:embed="rId5"/>
          <a:stretch/>
        </p:blipFill>
        <p:spPr>
          <a:xfrm>
            <a:off x="2716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Рисунок1"/>
          <p:cNvPicPr/>
          <p:nvPr/>
        </p:nvPicPr>
        <p:blipFill>
          <a:blip r:embed="rId6"/>
          <a:stretch/>
        </p:blipFill>
        <p:spPr>
          <a:xfrm>
            <a:off x="1600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Рисунок1"/>
          <p:cNvPicPr/>
          <p:nvPr/>
        </p:nvPicPr>
        <p:blipFill>
          <a:blip r:embed="rId7"/>
          <a:stretch/>
        </p:blipFill>
        <p:spPr>
          <a:xfrm>
            <a:off x="457200" y="5410080"/>
            <a:ext cx="1192320" cy="1447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8"/>
          <p:cNvSpPr/>
          <p:nvPr/>
        </p:nvSpPr>
        <p:spPr>
          <a:xfrm>
            <a:off x="8710560" y="640080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10800" y="4429"/>
                </a:moveTo>
                <a:lnTo>
                  <a:pt x="13376" y="7040"/>
                </a:lnTo>
                <a:lnTo>
                  <a:pt x="13376" y="5299"/>
                </a:lnTo>
                <a:lnTo>
                  <a:pt x="15152" y="5299"/>
                </a:lnTo>
                <a:lnTo>
                  <a:pt x="15152" y="8815"/>
                </a:lnTo>
                <a:lnTo>
                  <a:pt x="17763" y="11392"/>
                </a:lnTo>
                <a:lnTo>
                  <a:pt x="16109" y="11392"/>
                </a:lnTo>
                <a:lnTo>
                  <a:pt x="16109" y="18581"/>
                </a:lnTo>
                <a:lnTo>
                  <a:pt x="5491" y="18581"/>
                </a:lnTo>
                <a:lnTo>
                  <a:pt x="5491" y="11392"/>
                </a:lnTo>
                <a:lnTo>
                  <a:pt x="3837" y="11392"/>
                </a:lnTo>
                <a:close/>
              </a:path>
              <a:path fill="darkenLess" w="21600" h="22783">
                <a:moveTo>
                  <a:pt x="13376" y="7040"/>
                </a:moveTo>
                <a:lnTo>
                  <a:pt x="13376" y="5299"/>
                </a:lnTo>
                <a:lnTo>
                  <a:pt x="15152" y="5299"/>
                </a:lnTo>
                <a:lnTo>
                  <a:pt x="15152" y="8815"/>
                </a:lnTo>
                <a:close/>
              </a:path>
              <a:path fill="darkenLess" w="21600" h="22783">
                <a:moveTo>
                  <a:pt x="9877" y="14890"/>
                </a:moveTo>
                <a:lnTo>
                  <a:pt x="11723" y="14890"/>
                </a:lnTo>
                <a:lnTo>
                  <a:pt x="11723" y="18581"/>
                </a:lnTo>
                <a:lnTo>
                  <a:pt x="16109" y="18581"/>
                </a:lnTo>
                <a:lnTo>
                  <a:pt x="16109" y="11392"/>
                </a:lnTo>
                <a:lnTo>
                  <a:pt x="5491" y="11392"/>
                </a:lnTo>
                <a:lnTo>
                  <a:pt x="5491" y="18581"/>
                </a:lnTo>
                <a:lnTo>
                  <a:pt x="9877" y="185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9" descr="tooth_waving_sx"/>
          <p:cNvPicPr/>
          <p:nvPr/>
        </p:nvPicPr>
        <p:blipFill>
          <a:blip r:embed="rId8"/>
          <a:stretch/>
        </p:blipFill>
        <p:spPr>
          <a:xfrm>
            <a:off x="60199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tooth_waving_sx"/>
          <p:cNvPicPr/>
          <p:nvPr/>
        </p:nvPicPr>
        <p:blipFill>
          <a:blip r:embed="rId9"/>
          <a:stretch/>
        </p:blipFill>
        <p:spPr>
          <a:xfrm flipH="1">
            <a:off x="52578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" descr="tooth_waving_sx"/>
          <p:cNvPicPr/>
          <p:nvPr/>
        </p:nvPicPr>
        <p:blipFill>
          <a:blip r:embed="rId10"/>
          <a:stretch/>
        </p:blipFill>
        <p:spPr>
          <a:xfrm>
            <a:off x="44197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3" descr="tooth_waving_sx"/>
          <p:cNvPicPr/>
          <p:nvPr/>
        </p:nvPicPr>
        <p:blipFill>
          <a:blip r:embed="rId11"/>
          <a:stretch/>
        </p:blipFill>
        <p:spPr>
          <a:xfrm flipH="1">
            <a:off x="36576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4" descr="tooth_waving_sx"/>
          <p:cNvPicPr/>
          <p:nvPr/>
        </p:nvPicPr>
        <p:blipFill>
          <a:blip r:embed="rId12"/>
          <a:stretch/>
        </p:blipFill>
        <p:spPr>
          <a:xfrm>
            <a:off x="28195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tooth_waving_sx"/>
          <p:cNvPicPr/>
          <p:nvPr/>
        </p:nvPicPr>
        <p:blipFill>
          <a:blip r:embed="rId13"/>
          <a:stretch/>
        </p:blipFill>
        <p:spPr>
          <a:xfrm>
            <a:off x="7696080" y="45720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tooth_waving_sx"/>
          <p:cNvPicPr/>
          <p:nvPr/>
        </p:nvPicPr>
        <p:blipFill>
          <a:blip r:embed="rId14"/>
          <a:stretch/>
        </p:blipFill>
        <p:spPr>
          <a:xfrm flipH="1">
            <a:off x="68580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tooth_waving_sx"/>
          <p:cNvPicPr/>
          <p:nvPr/>
        </p:nvPicPr>
        <p:blipFill>
          <a:blip r:embed="rId15"/>
          <a:stretch/>
        </p:blipFill>
        <p:spPr>
          <a:xfrm>
            <a:off x="114300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" descr="tooth_waving_sx"/>
          <p:cNvPicPr/>
          <p:nvPr/>
        </p:nvPicPr>
        <p:blipFill>
          <a:blip r:embed="rId16"/>
          <a:stretch/>
        </p:blipFill>
        <p:spPr>
          <a:xfrm flipH="1">
            <a:off x="1980720" y="4572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9" descr="tooth_waving_sx"/>
          <p:cNvPicPr/>
          <p:nvPr/>
        </p:nvPicPr>
        <p:blipFill>
          <a:blip r:embed="rId17"/>
          <a:stretch/>
        </p:blipFill>
        <p:spPr>
          <a:xfrm flipH="1">
            <a:off x="304920" y="45720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Рисунок13"/>
          <p:cNvPicPr/>
          <p:nvPr/>
        </p:nvPicPr>
        <p:blipFill>
          <a:blip r:embed="rId1"/>
          <a:stretch/>
        </p:blipFill>
        <p:spPr>
          <a:xfrm>
            <a:off x="3200400" y="3200400"/>
            <a:ext cx="1084320" cy="1452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Рисунок13"/>
          <p:cNvPicPr/>
          <p:nvPr/>
        </p:nvPicPr>
        <p:blipFill>
          <a:blip r:embed="rId2"/>
          <a:stretch/>
        </p:blipFill>
        <p:spPr>
          <a:xfrm>
            <a:off x="1219320" y="1676520"/>
            <a:ext cx="1031760" cy="1380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Рисунок13"/>
          <p:cNvPicPr/>
          <p:nvPr/>
        </p:nvPicPr>
        <p:blipFill>
          <a:blip r:embed="rId3"/>
          <a:stretch/>
        </p:blipFill>
        <p:spPr>
          <a:xfrm>
            <a:off x="3962520" y="228600"/>
            <a:ext cx="1089000" cy="1457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Рисунок28"/>
          <p:cNvPicPr/>
          <p:nvPr/>
        </p:nvPicPr>
        <p:blipFill>
          <a:blip r:embed="rId4"/>
          <a:stretch/>
        </p:blipFill>
        <p:spPr>
          <a:xfrm>
            <a:off x="457200" y="2057400"/>
            <a:ext cx="765000" cy="108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Рисунок1"/>
          <p:cNvPicPr/>
          <p:nvPr/>
        </p:nvPicPr>
        <p:blipFill>
          <a:blip r:embed="rId5"/>
          <a:stretch/>
        </p:blipFill>
        <p:spPr>
          <a:xfrm>
            <a:off x="4495680" y="2133720"/>
            <a:ext cx="816120" cy="99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3"/>
          <p:cNvSpPr/>
          <p:nvPr/>
        </p:nvSpPr>
        <p:spPr>
          <a:xfrm>
            <a:off x="495468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419292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4878720" y="3808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571680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3049920" y="17524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6402600" y="45720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8002800" y="457200"/>
            <a:ext cx="7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2058840" y="1773360"/>
            <a:ext cx="12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7621560" y="167652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5" descr="STA49279-n"/>
          <p:cNvPicPr/>
          <p:nvPr/>
        </p:nvPicPr>
        <p:blipFill>
          <a:blip r:embed="rId6"/>
          <a:stretch/>
        </p:blipFill>
        <p:spPr>
          <a:xfrm>
            <a:off x="5410080" y="2286000"/>
            <a:ext cx="126684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Object 39"/>
          <p:cNvGraphicFramePr/>
          <p:nvPr/>
        </p:nvGraphicFramePr>
        <p:xfrm>
          <a:off x="3809880" y="5181480"/>
          <a:ext cx="1003320" cy="13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181480"/>
                    <a:ext cx="10033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Picture 42" descr="eda51"/>
          <p:cNvPicPr/>
          <p:nvPr/>
        </p:nvPicPr>
        <p:blipFill>
          <a:blip r:embed="rId9"/>
          <a:stretch/>
        </p:blipFill>
        <p:spPr>
          <a:xfrm>
            <a:off x="228600" y="533520"/>
            <a:ext cx="974880" cy="121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3" descr="eda51"/>
          <p:cNvPicPr/>
          <p:nvPr/>
        </p:nvPicPr>
        <p:blipFill>
          <a:blip r:embed="rId10"/>
          <a:stretch/>
        </p:blipFill>
        <p:spPr>
          <a:xfrm>
            <a:off x="533520" y="3581280"/>
            <a:ext cx="97452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4" descr="Рисунок18"/>
          <p:cNvPicPr/>
          <p:nvPr/>
        </p:nvPicPr>
        <p:blipFill>
          <a:blip r:embed="rId11"/>
          <a:stretch/>
        </p:blipFill>
        <p:spPr>
          <a:xfrm>
            <a:off x="7238880" y="762120"/>
            <a:ext cx="730440" cy="938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6" descr="Рисунок13"/>
          <p:cNvPicPr/>
          <p:nvPr/>
        </p:nvPicPr>
        <p:blipFill>
          <a:blip r:embed="rId12"/>
          <a:stretch/>
        </p:blipFill>
        <p:spPr>
          <a:xfrm flipH="1">
            <a:off x="3200400" y="83808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7" descr="eda20"/>
          <p:cNvPicPr/>
          <p:nvPr/>
        </p:nvPicPr>
        <p:blipFill>
          <a:blip r:embed="rId13"/>
          <a:stretch/>
        </p:blipFill>
        <p:spPr>
          <a:xfrm rot="17838600">
            <a:off x="6805800" y="2109240"/>
            <a:ext cx="866520" cy="914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8" descr="Рисунок13"/>
          <p:cNvPicPr/>
          <p:nvPr/>
        </p:nvPicPr>
        <p:blipFill>
          <a:blip r:embed="rId14"/>
          <a:stretch/>
        </p:blipFill>
        <p:spPr>
          <a:xfrm flipH="1">
            <a:off x="2286000" y="3733920"/>
            <a:ext cx="8208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1" descr="Рисунок18"/>
          <p:cNvPicPr/>
          <p:nvPr/>
        </p:nvPicPr>
        <p:blipFill>
          <a:blip r:embed="rId15"/>
          <a:stretch/>
        </p:blipFill>
        <p:spPr>
          <a:xfrm>
            <a:off x="4876920" y="5410080"/>
            <a:ext cx="730080" cy="938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D:\клипарты\еда раст\лимон.png"/>
          <p:cNvPicPr/>
          <p:nvPr/>
        </p:nvPicPr>
        <p:blipFill>
          <a:blip r:embed="rId16"/>
          <a:stretch/>
        </p:blipFill>
        <p:spPr>
          <a:xfrm>
            <a:off x="2514600" y="5562720"/>
            <a:ext cx="1157400" cy="693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3" descr="0f75d7694604"/>
          <p:cNvPicPr/>
          <p:nvPr/>
        </p:nvPicPr>
        <p:blipFill>
          <a:blip r:embed="rId17"/>
          <a:stretch/>
        </p:blipFill>
        <p:spPr>
          <a:xfrm>
            <a:off x="6629400" y="3886200"/>
            <a:ext cx="1447920" cy="760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4" descr="0f75d7694604"/>
          <p:cNvPicPr/>
          <p:nvPr/>
        </p:nvPicPr>
        <p:blipFill>
          <a:blip r:embed="rId18"/>
          <a:stretch/>
        </p:blipFill>
        <p:spPr>
          <a:xfrm>
            <a:off x="1752480" y="990720"/>
            <a:ext cx="1447920" cy="7603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7"/>
          <p:cNvSpPr/>
          <p:nvPr/>
        </p:nvSpPr>
        <p:spPr>
          <a:xfrm>
            <a:off x="1068480" y="380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9" descr="3159"/>
          <p:cNvPicPr/>
          <p:nvPr/>
        </p:nvPicPr>
        <p:blipFill>
          <a:blip r:embed="rId19"/>
          <a:srcRect l="5467" t="1343" r="4153" b="2793"/>
          <a:stretch/>
        </p:blipFill>
        <p:spPr>
          <a:xfrm>
            <a:off x="5715000" y="685800"/>
            <a:ext cx="9190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21-03-16T17:45:3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