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37C2-4FDA-448F-8EEA-336B2A29357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BC96-12DB-4A58-BD26-D0594631F4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1669-784D-41FB-80E9-CA62DCE63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FDD-6AC7-4AB3-9037-CCB6B344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E2F-D310-4585-A850-829B1AB4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41AE2-9CE9-4C4A-90B1-D8B6A927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C102-06B5-4901-B6FC-F6EA6462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42ABC-0545-4A60-8FD6-3A5222F1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8DEFE-8DF2-407D-9877-DFFF67DC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B2A29-A3CF-4125-B33E-B17FEBCF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3B5CB-4440-454A-A48C-B4D581B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2B799-7DF2-4FE6-BA38-C59F7BBE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6EC37-3F6C-4317-BEDF-4F0ACF3D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D2726-796E-4076-8634-1BF29A86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8EACE-B30E-4525-9A4D-271B82C0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822-C955-4D4F-9250-94EDEAAE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2AC92-C93B-4ED0-81BF-FCD01FB2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51FE1-7458-4A6E-B184-D6DA5901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403E9-E4CD-415C-84C2-619BBFEF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B8A63-37AB-445B-9946-4689D88E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115B4-8515-4151-B9A8-BB09C175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4462D-9E21-41D9-848D-2B0CE7A8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2681F-8929-4425-8B84-5D9B55E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C20AE-5F71-4FB8-955B-F69C42C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6F47D-A684-45D7-9BE1-58958960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8E218-9640-4DD7-AA7E-BE1F816C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D22-5674-48BB-8E93-29A1BF92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410CB-974E-46D3-A65A-296EC895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1B9F5-DCA2-42BD-98A8-C372ADD8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11393-8FDD-454C-90C0-065399C6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6583C-0312-4244-9291-A6DBFEDA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21944-32D5-4CA6-8F5D-52369A32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A08BE-FE44-45C0-874B-E8E0B246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26C85-8126-4BF5-8A07-1975986C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B8AF4-611A-4D7B-9D3B-A4C1056C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52064-9EAC-410F-BFCB-B6F9C7F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E2E5D-EA48-436E-ACBD-55325A1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B2CE-1664-4450-AD8E-7C9E1778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89370-04AC-41C4-9F06-9DDFF051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1A9FC-46D6-482E-AA8F-D5D41F1D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744CB-6AE5-4BA0-9153-DBA23451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69489-5644-4C2B-838E-C3884A02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64405-AF0D-432D-8412-6A1200EB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34C41-74F9-406F-9E8F-213D506F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05788-0ED3-4EDD-831C-3868C517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A9EA8-B7AA-4A96-AAD1-77F21815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96AA7-9EDE-459A-A35F-EBF25358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81A7D-06E7-4F19-A21C-4CC16A3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56DE-908E-434B-AA1C-B4C09AE9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13782-7414-4FD6-ACE1-D4F7233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3219B-965A-4014-9A25-18A82F5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F11F3-AC3C-4AE6-B14D-5C239A5A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036FB-4DF9-4C72-8B97-0D8C7618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631A4-4D1F-4369-AE25-59E284A4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45E36-9BE4-42BA-8B45-2CA0E998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7FE33-A133-40B1-866B-CC68F5C6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ACC1D-2DDC-4A1A-B4DB-241EEB6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6199F-D8A0-4228-8E70-F0288829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55CC8-D81A-4593-A68D-53711FA5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42A9-202A-49FA-BA55-621FEA97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1DAE8D-A768-404A-A494-41A598A7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411DA-8A04-460D-90D5-0156825C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AE1F4-D6BA-4724-BC6C-472644D8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C2114-A6EA-45B6-A6CE-F1E4A75B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D7601-EFB6-4587-83F5-87AC4EF2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617597-DAF1-410E-9F5B-69B0289E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091EA-792F-46D2-B64D-391CAB31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59962-97AE-413F-9473-EB7320D5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B8F67-4B84-4AA3-AC10-1DE3B0DA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B80B0-1FDD-4AF8-A09F-AAD40A53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8F80-3E12-4C6A-9093-01B3299F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7C5F4-66AE-4B35-AB93-1A0E3A56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63F9F-E9B8-43FE-8BA6-43F09CF76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F8A5C-A61F-4656-B1B7-BF5EB7A6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1A5A3-9B6C-48AD-A612-398296F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3276E3-353F-4A40-BAAD-5599155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D9D0EB-07AB-4903-9FBA-456C2646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A39CB8-059F-4ECE-AC40-BE0E8ACD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4B590-8A45-43C6-BF54-2A8EC4658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E91F0-9E0B-441D-A9EE-4BE3CD01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199CC-BEBF-4C6F-B17F-4524504A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0A6E-9929-4242-B8C4-22050410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98285-C2A7-4107-BF89-51F0C88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C3C418-69D1-49EE-B314-76CB29B1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311546-EFE0-4AA5-9728-8F24EF23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969B1-A591-4304-A8ED-8D7820B8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2F795-27D0-4AD8-AEB2-6AA7AFB5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39FF2-EF42-4CF0-B8A6-C580F298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E400F-2151-4867-A2FD-AE769CA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C635A8-70B2-40C3-A0FB-157F5410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B87234-45F8-4E5C-B9E4-638AC222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569963-8D41-419E-ACB2-F429A160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1638-1A68-4AED-B39F-DF703730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479DB0-61FF-416A-A023-E9E6B0BC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0FB27-33CE-409B-B3E2-242E7680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6135D1-E715-42C1-AFA3-F25DC3A8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1139A-9E80-4091-BA89-929CF800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9CBDA-A540-4401-ABDB-BCE6B6F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BCF90-CFBD-422C-A32B-04DD662E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793F7-F885-4355-A2F6-04F84B67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DC27C-83D3-42A3-88DD-29FFB8A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FBBC5-76E0-4363-AA6D-D90B329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733B5-8D80-451B-BA97-0CE32058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8A5B-F098-41C6-B39D-C199E515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91F14-F904-4A24-8100-EDBC3BA4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D4AD87-2367-4608-A7B6-468A778C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871A5-D46F-4316-A5C7-A77553E8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C9B2E4-F78F-42AE-9E89-49C0DFF7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44534-43D6-4526-AF83-3C7753AE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C1AA3-D3F4-452A-A882-3AF7FE30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B86E4-CA5F-4F67-B8C1-FA8FAE2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C17C57-769A-484D-98C9-D07F367F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C7A639-C769-423A-BD61-930C9562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3D242C-0635-42A9-89F8-58540CB5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377-908C-471F-AF36-A8322B57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F00B-C6F1-4A8C-A5C5-A567BAF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124108-F760-4D6E-9056-D2A53AFF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2640A-9966-43DB-B85B-2F9398E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88BA5-BBB9-4AAB-BE3E-8D635F5C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66B247-3EB3-466D-B3B7-E170ED72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BACBF-242B-4958-A812-2ABD5791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7563E-8422-455C-97B5-038C48C9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3A325-0DE1-4E86-BAC1-525884D0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FBFF4B-00E1-481E-85F3-55A44AD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28A34-9426-414C-BDB0-4C897960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D929E4-FABF-4AB7-97F9-960E1FB9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A3DB-1C91-49DF-91F2-BD60DDF1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2A42E3-AD5C-40AA-863B-C9AFC8C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CC4CB-1FD5-40CE-AEB9-BDB54AFF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2815CF-54EC-46BB-B728-BB183F35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E13F7-4AD9-4EFF-814B-B3BF67D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53C79-D2D1-4A92-822B-23E6E100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3AC0C-7604-4662-A26F-A883E856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2CAE1-0AFE-4AB8-9B4D-9D5E74D9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6CD5C-FDBB-409E-BB0C-AA88D0CB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D8B7CE-8B95-402C-9DD9-9FF2B8F3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BA952-2A24-4306-84D6-21A5279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5FEF-8D28-403F-AA8C-60A32160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E077C8-1094-4275-AF1F-9195551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63001-01BE-4E65-AEDF-7AC6A62C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A83159-244B-428E-8BA2-F8E78B59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EC5D6-B26F-4585-BC82-9E5EC55E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193BC-736D-43E1-8631-93926941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B1699-7DB5-4733-9FC6-EF6B1628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79C581-F4BC-40DF-8C52-FBEBB784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D0F34-1F79-45AF-9A89-4F056A33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E77942-A76F-4F4F-8703-97C70C35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54B35A-FB12-4F83-9ECC-3A9CA5A4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829-F5A2-4DCF-BE7B-3D2622A5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6EA0CF-4F18-46DB-B73B-22B75220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10DE2-A49D-4E84-B3E2-0B2098FD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F34658-5F9B-4F91-93C0-3C363CA7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1B96D-7DCD-421A-8CD6-C859C72C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D16BAD-6939-4102-B991-16ABBEFA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89D325-098B-4A0F-B9C1-2994795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F2D068-B38F-49BA-BD00-D11F59D8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F7139-8712-4AA5-9178-7EEA218A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1F7F1-6D6B-465F-B188-54D78FA2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F1078-EEFE-4A00-964D-4011D571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A7C0-A9BC-4791-B79B-60EFF309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D88A6-34A2-436E-96A6-7F2282B5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2D395-B09E-4850-A231-29766A4E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A0455-1DDB-4924-9D08-4E7804EB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B030E-19E2-4F8F-98EF-482CB23C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8DD268-8847-474D-9EB5-8715EE82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A27AFE-AC3E-4A32-9C11-9838D926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DB090-769D-4B74-ADA2-9DF2E86B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A9FCE9-2F19-433D-83EE-C37BD65D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58988E-F2EF-45A5-8671-916F3AD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E6A4CB-4318-4FDB-89AF-DC1F46AF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C0340-3C24-43E2-AC14-99339DE0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DB1C4F-43C3-4B5A-ADB9-747E3A27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38DE8-1DC5-4A9E-87F8-56D38C5D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8D73A-1A08-41F6-9BCD-E9A7ABF0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19420-D095-440D-879F-75AE808A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386AB1-E79A-4F3B-BF85-BBE92A1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02B489-7408-4A67-9563-03039C9C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D9FA91-B82C-46B9-B7F7-BEEABDB4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075CE7-4F57-457E-96BA-731FF26D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EE8BD-D83F-472C-9A91-D741011C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C85C4-1BF4-4CF6-908D-154AC0AE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6F553-08BD-4260-AB81-A326DCEE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AE135-8EC2-4DBF-8BB5-DCA6BD24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3543C9-C9B0-4220-B9E8-41690686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2DBBF-5207-472E-A3E1-493C8A14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AA2738-73A1-4B32-B9DA-299CA9E3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EC715C-37CB-4B86-886D-AAB68AF2D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EE64C8-1AD2-44BD-9EEB-CB721BD12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34B9DD-B233-4D1A-844F-00CDE3D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D14B8-C243-4288-80F7-A030F91D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6A19F3-3AE4-4F54-BBB9-953ADC76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C9246B-723A-4033-A77B-5A77763D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1880-4061-4946-913E-9CDB834B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7EF10-79DF-476D-98DD-13D0D530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DD3B44-DD59-4A18-81CD-3B40B037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8999D-3876-483E-BF44-F4D3CA5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8E8FC-7F4A-45F8-B70E-CEE3B97A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CD08E5-BEAA-4D97-A5D5-CDF1D7D6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218CD7-B2CD-4D1A-A123-5D21A9E3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B13DEF-6AEC-4660-A60C-9A5694B6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9B518C-63ED-44A0-B065-FC297BA2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D63302-6D08-4E51-916C-62A19FD7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05EF01-774D-43E9-9B65-81EC0F35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9C27B-EDE9-4D9B-9565-0CA2F3C1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676977-A886-41A6-A7B9-DE41A5C2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92CB11-689C-4937-8D5A-048D8FE8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DF87B2-BBEE-497C-A223-45E37ECE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66317F-2088-471B-AE11-7E117AFE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21761-BBD0-4D0F-9B14-FA916744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65D33C-89AC-4B64-A47E-8C4030CE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0DA77C-E4CD-4BCA-8DAB-130DD5F5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84075C-05BB-4F27-B157-C3FB1EA1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2EA0F4-5975-4C3E-9817-C1B645F2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5E2113-360D-4219-B1FF-89D8737A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A565B-CE55-42E1-8BFC-DCA251BF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00A15D-00B8-466A-BBD5-FB84ACCE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8056C-4F95-4ED5-807C-E67453E0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186436-461C-4AA9-A73E-3D159DE1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6FBF6D-0DDA-4482-97D3-72496D56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D56996-05DF-4ED0-AD1C-DD4AC30B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95EE7D-A363-4406-B72D-F17B881E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F46221-9E51-473A-B86F-D255FE02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423C5D-D871-4743-86B8-5E9027CD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97BD66-7F29-4615-B114-85DBD127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956C82-BA21-4E3B-94D7-316198E9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E0A-D54A-4796-B57C-BFAFE81C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DB08D-2238-4243-93C9-77771577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626EF4-A400-4AB2-A360-303AEC1F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15AF57-BF30-4C63-9DB8-539D0887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A0D4C2-067E-453E-B7DD-86795FB1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1F946A-1D2B-4CE1-BA46-69BD7764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0D8699-08A8-4929-A9A8-2D85F23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C3D847-8E39-4DD1-A99F-45A7B04A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75D4C-FAE1-41DC-8151-CFD7ACBD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7543A8-81AB-44F1-BF9A-48FDD1F1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94551E-B524-4C50-8ACB-B82079F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FC1B41-6BA5-4D51-B89C-232E84D9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CAA0-4406-4D31-869E-BDB1B74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A056CA-5FC2-4E62-92EC-6A1468C1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990DB6-F7F9-45F6-8CE9-74E2D28E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57252D-5C7B-41EF-862F-17BB2717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D7CD53-D709-4169-AE36-4DA5693F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CEF445-39C6-495D-BB6C-BF43997E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05365A-7368-4F39-8EFF-F4D2CF1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A0C644-9BAE-4B3B-88F2-911A22E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6A0CFE-0DF8-4169-BE49-22F38CE1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09325E-36F6-474E-8825-8D7DB7B0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68A86D-E2D4-4211-AA68-850B63B6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5505-DEF5-4444-B56D-5BD6951D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A99FAC-E9FE-4CED-A8A1-33545FD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34F2CD-028C-4931-8835-AB70B627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4E9E31-093F-49A7-9B74-8908907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B71279-F103-4BDC-BB08-E85E9E99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39D9E9-4062-4397-86CE-820E32E2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1F9048-21D1-466D-B291-E470B697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C53951-6232-43BE-A321-C28EE5B7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FFF4008-6A64-467D-AB14-700686B5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96D12A-049F-424E-A32E-A70E0D44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D87485-9EC3-4E9F-81E4-EB07418D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861E4-1100-433E-9078-B9D8113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41E716-80C6-4661-AD9D-F44717E5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890D66-E7CC-4EAE-8563-0112EF1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0E54ED-F723-4005-B23A-8493AB01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FE80D7-F11A-40E1-9336-64500C7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B3913C-7233-4679-B344-A2733BCA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951F16-305A-479A-9FB7-D94561EA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56C98A-899E-4DED-958F-20B8EBC0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A923D2-6480-4A7F-80EB-CC5E538F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810ABF-872F-4C30-BDCD-7E4FD26A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D1D416-7A12-4280-9BEC-5F7D2C12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08EE-9033-47E2-AD4F-DFEC8B7B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3EED5A-6150-461F-B80A-B815288B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D2F815-CF73-4F73-883A-11746F71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49ECF0-A3F4-4F4C-9089-AC04994E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69B08C-95E8-483F-8462-E1D5AFFF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EBB06D-5628-45E7-ADD1-BCC68122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8E81E7-D751-4B12-9CA6-DB66EA12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E19170-EE5F-4DCE-A583-7B9476F0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39A22A-BFEB-436B-987A-403A206D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D092AE-C3E3-4794-9291-80B4FFE2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CC0F42-105B-4E11-AB6D-52DA0D52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8478-FE5E-4EDE-B699-9A08F625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132F0B-8C8A-4D4E-A51A-D12EF138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934998-4301-4A9E-864B-971AB59D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3C3834-2626-4957-ABBD-75C43AB1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59C132-220A-4187-9BB4-60C42DD4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27993C-9EDE-4006-90A4-6A4BF81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EB2F10-E202-4795-969C-1FCE03F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F948C0-62F2-4B18-AB7E-C78940C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14CCFB-5285-495B-92E3-2EA9493F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22D553-9006-4B41-B508-7DB79DEE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B1046C-9E93-4B3E-AB9B-E568B7A4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0578-894C-4BB5-BD4F-247AF228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4837D3-B837-40C9-AB54-E4AC4349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A56033-0CD7-4672-8F60-93C070E7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0515FF-A70A-4FAA-890A-E856B42E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1AEC75-6FA6-4CD4-8809-2B8BFCF8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8BBDAD-FA44-4657-A5AA-BA441451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86DA4C-A7C4-4635-8AC2-37081634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BE5F08-0AEA-4B08-8470-CB34E7E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B6A78D-C376-4BFE-9568-2B150571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56D0A7-4EC9-4908-A30A-711AEB6A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6806CA-416F-407F-A070-18AA947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000D3-5347-46CD-919B-7D22C192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372BD6-1BF9-4E51-A60F-955C6A48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B09EF3-D2A4-423A-A980-2A128F68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16F65D-4AEF-4029-AECB-348FB81D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885878-18C7-4B42-874E-54365DDB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2494CD-7BB1-4727-97E9-75FB2843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E80708-5396-418C-A373-5CAFAA31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1F0390-EA3F-4BB1-9283-91DD9534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5D14CC-0A42-4936-B17A-51F247B9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D241B3A-9CF9-4D02-9DB8-FD4A2896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A1028F-78A0-42F3-9AFD-4A1CD9C5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02AAD-230A-47D3-8B89-AFA98A67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15A8E1-E595-4C57-B70E-7C101C8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F223BF6-167C-447E-83DD-26ADB4D5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7DFBB9-8BAA-43E8-8662-C2BB3F92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37C291-81F1-49E1-9313-683A1102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8CB728-6E7C-4744-B3D7-0A34CED8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801914-8D2F-4A6E-83D3-4C383FFA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844FA6-E6A7-4275-B401-2AF11204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5577D1-C566-4929-8C4E-73A8475E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B1927D-F7F5-4ED3-ABCB-F07F1B47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E594D0-4877-4FF6-830A-D89B217C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17ECC-CA07-4E95-9C3C-F09D4A71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4394F4-7733-407B-99FF-001BD379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B6FA7B-0ED9-4157-8754-3757026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3598FF-6184-4644-B471-855F7D62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5EF3E7-1718-4379-AD04-587A5EA2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E76CCF-05D0-4D48-BA05-C8692505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C8FE4F-0CDC-4D9C-AD05-06980D0C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01F3AB-50BA-4A67-B738-E9C86A20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3F675A-710B-4AB3-8C7D-1BD11D51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89335C-515D-4017-87C6-B802BD76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6396E8-CD5B-4F97-AE45-589634B9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A28-C5C6-48BB-979E-21ADD5B3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A0012-2FF5-4184-B51E-48A0CB7C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6874D4-8BF8-4223-A523-96BECE20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504D81A-968B-496A-A1F5-87A41417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42C234-D38E-41A3-9F0D-3FE8D2F9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AB1699-2F72-405B-9A39-303A159E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497402B-96CE-4033-BF82-D0356748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21C3BA-1DCD-496B-A544-4FBEF9A8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E1AD2C-CA3B-4063-9173-7CE13849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323816-297D-4CFE-8D0C-69F0938B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825C5F-A404-41F7-9535-E23EFE9E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C49CF9-CB40-4B05-9DFB-695F0319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4A1A3-8437-4EEE-94CE-932EB24C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D15E02-F78D-4440-BE47-A107108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688A9C-1A3C-4A6C-8F74-A6121FB8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770094-938C-422C-9BDE-883B0769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DEA00A-53C8-453E-BAF3-5CEAD78D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E3BF17-E302-4E7B-8959-EFEFD570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70C3B9-0BB6-4DD9-918A-146D2B93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957807-9E2C-41BC-958F-E15BC4E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8788D9-76AB-4918-8030-79B9ABF4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912A3D-4A5B-4721-B019-DAEE78D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718C54-33A5-42CE-8E13-6689C899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DE0F6-D9F5-461E-9ACD-FC5AF58E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BD9D35-3078-4C07-8063-BB181E89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668484-8031-4D9D-83E6-04DBB04A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48012F-8963-44FA-9B4F-9B2153AD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934A0D-0D70-49C3-B706-9C3222E5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86101B-C0EF-4B87-A562-9D8587B2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1742E0-D3BD-4294-84FF-D7ACC49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9FA3ED3-1BD1-40FE-AE4E-7D637C7A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681A48-42C7-4956-BB8C-E575DFBF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EBEEE7E-9136-4006-A201-2C09D814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437C9C-C961-4D11-AB6D-12F0C7E5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A5411-470C-4240-A287-C907606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72A163-BBA9-4377-B611-A7490C5E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EAA213-E395-4B34-956E-795C2176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6FD2F6-6E84-4D28-8E1F-B3439939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EF3CC-356B-433D-B825-1F616247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2DF6B-EB50-49AB-98E6-D40ACC3C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B714-FE87-45A7-BD8A-48097FFE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ACFE-C0A1-41B0-81D9-544E9CA5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08D03-E2A7-4A87-9FEE-2D2C7281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6A44-B355-43EB-BB1C-53A557C0B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C10-0A63-4904-9450-36502D5E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43FD7-0DAF-434C-801D-79317B6C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00F0-EB0C-4B81-BD51-395DC938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B97BF-2FB1-4CE8-B10A-A65A8D1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0FD44-88CA-46F6-9F19-38446EDC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B90BD-47ED-46B1-82F9-145702E8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7E14B-F720-4606-ADD5-9C3A52D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73D60-880F-45BB-94C3-DE9A29E2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3343F-68C9-46DA-A986-74AD383B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F140-F710-4365-AB86-1FC40E78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976AC-86F7-45C7-9022-52264078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FBB-156C-4B80-BB40-0A68B5FF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731C-2B38-4B76-A8D7-0820F399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CDB3E-AFF2-4D35-A066-3877C4B2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3566B-A29F-4191-BD9D-6F89E0E1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0F209-B1FC-4D3F-8E70-190AD698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D86B1-7231-4989-A1BD-69C4E56C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2AB11-9D0D-423D-9260-05B2B4D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D7936-CE10-470C-B9D2-0316CE2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015CE-E44E-4624-B562-EE3DF3D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7DA7D-F5D8-4407-B6B9-2E3E0E75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7EC8-E66D-461D-95AF-9237B74E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740-5C3A-48B5-BDC3-FE8E864B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87F9D-C1F2-4F56-9BE8-7867F192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88379-F874-4CD1-8CA4-B79F2062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3C2B-1ADA-4623-9338-13FB0451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555F5-A5C2-4250-80CF-C22930D4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482CB-6034-426C-8A91-E2EEA84F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CC6C8-C77E-4684-8D79-302E9F86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ED362-5968-4BD1-A5FC-01CB24DF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8D7FC-7D6B-4291-BCF1-B70A399C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3ABC6-F499-4186-A7A4-03C81636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6D71B-6531-4D3C-B9FA-DDB0901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8DB-683D-4EB5-A8A3-6C4FC4F0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D1646-9D7B-4D29-8983-72E421CA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5306-658E-4217-859B-BD5AC04E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7BCCF-8F92-4651-A894-CD9BCF48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4DB26-CE85-477A-B021-B17DE271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9622E-D24A-4BDB-BE8E-65847F46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B27D2-EB61-4091-8BF3-35F02D69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76358-FBC9-4D3C-8E06-78D75EC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7CB87-8BF9-4C77-85C8-2BA59FDC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FCDD0-958B-4D53-B4B5-7ECA0E53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4A7FF-497A-433F-9C60-8DB49B0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C0B2-DBA9-41E9-8177-A9C72AC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5D21E-DEE9-4FC3-A62E-A333B5C0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82678-767E-435F-AA7B-FF0775E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850FE-7C10-4178-9E12-4B916BA5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0EF15-67F0-4D24-9CA5-4AD2385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75F66-8FD8-49DE-A871-1D710B25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5897C-BD18-4D99-8EFF-CF037D24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50C5B-0141-4921-A076-6F1E5822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6C073-1DB2-4F80-AEC1-DF791502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2F44E-D1E2-4F4E-8DD8-8A7BBA26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C134C-246A-4391-ABAE-83A532E3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A5D9-9914-413A-AA81-2397CFD1BC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72EA-4023-4C29-921F-46B6C06A4E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68E-A85D-446A-90AF-DE0F4D12AA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EBDC-F0A4-4370-9817-F6F1355DB4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1518-2328-46F6-858A-69D74524C8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0987-3BE3-461C-9CBE-FF108C7472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1D23-749D-49A2-9254-F4E747B7EE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767C-97DB-414B-9D2B-AE83D581D9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9A7D-271E-49D3-A49B-F4F875F0F1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DD47-4A4A-4250-8809-AB7042A05B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C67B-EC71-414C-8468-752D257BA2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C578-5FCA-4DE4-ADAA-FA31EBD372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818-3658-45D2-B881-5F99C04E3F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8097-0A03-4EDC-A41F-BB4901F62D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9B64-7428-49DC-ABE1-2A7B8CC0B4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4AA1-D5C3-463D-A7FD-05CB84815A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4F9-4664-4450-90EE-3FC38C34A0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4304-7D48-4AED-BD88-027DDA9542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8F0-88B4-40D8-82A9-C681626E4F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BF01-5025-4F27-B8F9-7ED9996CDB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60F0-055E-4F5A-8BD3-07BAE34353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3E61-F8A3-466B-84A1-A94062AC5B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9AE0-F29B-4DF1-BC05-53A263DC5D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F2B7-E615-42BD-8CB7-F622012E2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4AEB-71D5-4737-B0EF-53E75C320C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E00E-0CBD-4C5E-9B12-C50138BD98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01EC-47E3-4FFB-B17C-723B3FD635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41C6-7387-4FAD-9C73-714EF84A54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F4F1-061F-4E06-9E5F-D8DD8104DD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808D-4033-45C0-A10F-B9B80556F5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F70A-2AE4-4B0A-B32A-5E739CC2A6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4796-0E7B-407C-985C-64D5077AA2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99DE-D440-4249-87C5-9B1F635D29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27D4-374E-4BB7-9B76-8EAFD1BDA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53FA-34D8-489E-8745-7879B57E11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F5BC-7D57-4F81-91B7-36AA5D4ECD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0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197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е  бюджетное дошкольное 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«город Бугуруслан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етский сад общеразвивающего вида № 23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 приоритетным осуществлением физического развития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ник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-клас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Monotype Corsiva"/>
                <a:ea typeface="Times New Roman"/>
              </a:rPr>
              <a:t>«Ознакомление  детей с художественной  литературой    с использованием  социо-игровых технолог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TextBox 10"/>
          <p:cNvSpPr/>
          <p:nvPr/>
        </p:nvSpPr>
        <p:spPr>
          <a:xfrm>
            <a:off x="5181480" y="495288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тьева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TextBox 11"/>
          <p:cNvSpPr/>
          <p:nvPr/>
        </p:nvSpPr>
        <p:spPr>
          <a:xfrm>
            <a:off x="2590920" y="62485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гуруслан, 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3106160" y="-5432040"/>
            <a:ext cx="7596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533880" y="22896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7. Просмотр  мультфильма  по басне  И.А. Кры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«Стрекоза и Мурав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C:\Users\оля\Desktop\Мастер-класс\Стрекоза-и-муравей.jpg"/>
          <p:cNvPicPr/>
          <p:nvPr/>
        </p:nvPicPr>
        <p:blipFill>
          <a:blip r:embed="rId2"/>
          <a:stretch/>
        </p:blipFill>
        <p:spPr>
          <a:xfrm>
            <a:off x="1944720" y="2646360"/>
            <a:ext cx="5261040" cy="36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3106160" y="-5355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914400" y="167688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Calibri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Calibri"/>
              </a:rPr>
              <a:t>за внимание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етодика  В. М. Бука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малыми груп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6201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накомство  с  басней  И. А.Крылова «Стрекоза и Муравей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685800" y="28951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491" name="Picture 5" descr=""/>
          <p:cNvPicPr/>
          <p:nvPr/>
        </p:nvPicPr>
        <p:blipFill>
          <a:blip r:embed="rId2"/>
          <a:stretch/>
        </p:blipFill>
        <p:spPr>
          <a:xfrm>
            <a:off x="384120" y="1676520"/>
            <a:ext cx="4267080" cy="502920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6" descr=""/>
          <p:cNvPicPr/>
          <p:nvPr/>
        </p:nvPicPr>
        <p:blipFill>
          <a:blip r:embed="rId3"/>
          <a:stretch/>
        </p:blipFill>
        <p:spPr>
          <a:xfrm>
            <a:off x="4495680" y="2209680"/>
            <a:ext cx="3276720" cy="4343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3" name="Picture 3" descr=""/>
          <p:cNvPicPr/>
          <p:nvPr/>
        </p:nvPicPr>
        <p:blipFill>
          <a:blip r:embed="rId4"/>
          <a:stretch/>
        </p:blipFill>
        <p:spPr>
          <a:xfrm>
            <a:off x="644400" y="4800600"/>
            <a:ext cx="27846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Определите черты характера  главных герое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коза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рав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а для справок: легкомысленность, беззаботность, справедливость, усердие, лень, жадность, беспечность, несерьёзность, бесшабашность, веселье, грациозность, запасливость, доброта, безжалостность,  жизнерадостность, глупость, чёрствость, весёлость, трудолюб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пословицами.</a:t>
            </a:r>
            <a:br>
              <a:rPr sz="3600"/>
            </a:br>
            <a:br>
              <a:rPr sz="3600"/>
            </a:br>
            <a:br>
              <a:rPr sz="1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60984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пословиц можно отнести к Стрекозе? А какие пословицы можно отнести к Муравью? Объясните их значен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сеешь, то и пожнё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прохлопали, осень протопали, а тут и снег на голов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 — время, а потехе — час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 пролетишь — зимой с сумой побежиш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яй, гуляй — зато потом не пеня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летом родится, то зимой пригодитс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л дело — гуляй смел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«Загадочные животны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838080" y="114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 У Х Е Т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Й Е В А Р У 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Ё С О Л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 С О Н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Ц И С И Л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Л Ё З О К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В О 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Р Т О К Е З С                 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Ш К А М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А Р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Н О Р О В  </a:t>
            </a:r>
            <a:br>
              <a:rPr sz="2200"/>
            </a:b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У Щ 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«В мире крылатых  выражений»  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бъяснить значение с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762480" y="167688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зима катит в глаза»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ертвело чисто поле 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лой тоской удручена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лянуться не успела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лову вскружило…»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ягких муравах у нас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кому же в ум пойдет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 до вешних только дне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 Решите  ребу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Picture 2" descr="C:\Users\оля\Desktop\Мастер-класс\ребус.jpg"/>
          <p:cNvPicPr/>
          <p:nvPr/>
        </p:nvPicPr>
        <p:blipFill>
          <a:blip r:embed="rId2"/>
          <a:stretch/>
        </p:blipFill>
        <p:spPr>
          <a:xfrm>
            <a:off x="609480" y="1371600"/>
            <a:ext cx="7242120" cy="51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3106160" y="-535572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914400" y="167688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6. Пантом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(обыграть  эпизод  басни  по рол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я</dc:creator>
  <dc:description/>
  <dc:language>en-US</dc:language>
  <cp:lastModifiedBy>Windows User</cp:lastModifiedBy>
  <dcterms:modified xsi:type="dcterms:W3CDTF">2021-03-19T11:00:06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