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E0A5-3B24-45B6-8692-1A1F7D656FC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C6DB-9849-437A-A3C0-9F4FFD8809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6535-FDA7-4907-92CD-90A950FF7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8AA-541E-4DE2-9E4E-9CB300D4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C0D-A63D-4367-9921-C23519CC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F85E0-2C53-460E-B8CF-F4D31B38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50C01-4E4C-4037-965C-9A2BA999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CB286-0C64-44E3-AB5C-96DE0473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554E7-611B-4DD3-95F0-4AB11F92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5322C-0C1D-4D3D-A6EC-E2CC232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0CBA9-3874-40C5-B652-C942109C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26529-CF19-4C28-AD77-33CDF79C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8EBBE-20C4-4F7A-8235-94B4E066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1BF2B-3F2A-4212-B01B-85FBB9E2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02D52-EDE2-4568-B9A8-2F9B14C3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EFE-0224-4A17-9E22-213E9E28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AA904-F515-4040-A0B8-1C265C56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8413D-5640-4BA8-880F-8B6A9253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D2607-0EA1-4B9C-99E4-F51C60C8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5C353-4558-4F86-BD82-328D6301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E3EFA-88BA-4662-8222-2F62F9DB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E696C-ABDB-4A1C-942C-7A7C891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A7D80-DC2A-44FF-9427-066CD2B0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D8B10-EEF0-4F6C-8CFA-2AFB6739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4D856-563C-4C78-9A2F-ACF00614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CD51F-4BE7-4BBE-8F67-B3195E04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201-1185-412D-8384-8ABABC35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BA4C7-692F-471E-937C-D16C73CD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3F20E-4F07-4F5B-89B5-6505CFF7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EBF03-3AF9-4BA3-ACBE-86DE60C2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8DDEE-4EF3-4C4F-8B74-7CDBDFC7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1DB84-3955-4006-AD3C-84EA4258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3BAAC-650D-4338-9A61-040E3185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55972-FC3F-4216-8B0B-F646538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70209-2DDE-4636-83EE-6EDE629D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95193-0B5C-42B3-BB95-2FA26D18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5E640-5C12-4F83-9694-A87E77D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FD47-27EA-4B7A-887C-25B5A6A3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DA0C1-154C-480D-BED3-4A159321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52A5F-0EE4-4A46-80BA-3048FC28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51FEC-3391-4091-A6B3-25DED086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5F37D-91B8-4D91-9898-78AA4F4D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FA32B-39A2-4257-9B28-1DC166FE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C09C0-EB81-41C9-92AE-DBBE8F01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A5BEE-35AB-47E2-BE24-A8727095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41DD3-988E-4DB9-A295-E98457A1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107D1-E4E6-43E3-9FE6-D9CD816E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C55D5-C12E-4439-AF0F-029C21FF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1540-DFC1-42EC-8C1B-D7824EEB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FF886-1675-4474-866A-EB637EA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43A09-ACAE-485C-A28B-508C9325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6B1E3-A9A2-41A2-8A37-AA79AA57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5A5A0-47E2-4667-A10A-8A4E0F23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61403-8405-4592-B80E-3BD3A6C5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BC1D1-C869-4C66-B400-205BA9E2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C3D92-FC88-49F4-8C5F-3E2845DC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02775-0183-4909-A1D5-1211BF2B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40992-BEF6-4928-8814-DBE6C78A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52DBD-443C-4C21-8C2F-69755EB5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6666-691B-4463-B4FA-7F02315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480E8-D015-458A-8CCA-A485D621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41679-566C-4AF4-9CFA-730D442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2787B-D84D-4576-8E50-59323D38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35395-B44C-4188-9B8B-7A55D7D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2D800-4E47-4E9C-9F08-E31D3892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A059D-E7DD-469E-8BBB-8C72665A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74D83-B27D-4B86-A0B2-4644CAFC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103AD-94F4-408E-B906-9330781F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1849A-C0A0-49A6-AAC0-9C8612D3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E67C5-9C27-473E-BD1E-28959D80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7078-D23C-4A1C-B73F-691E01F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4FE8C-CBCD-4B27-8D3C-741E9024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16442-8C34-4541-96FB-40A9D539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F5416-CA3D-4BFF-91A8-A891838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A0C49-BCA6-4BAC-A4F3-F6294075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74AA0-29F4-4B28-87CF-7A6A9187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24D06-D8B3-47A9-9431-A35398FE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FAB83-95C3-4CDE-914F-4A7D238F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061EA-8733-4D1F-9EB2-FDFF8D39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F4F94-9702-481E-9764-1C74A45F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0544B-F530-4E6A-94C7-767377E9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45A4-93AA-4168-9377-14336E4D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8BD76-677F-405B-A7B3-BFF9232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2FF7D-19FD-4F7D-846D-E32AC13B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9D9D2-0634-4716-85E6-475145E8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0E27C-5C87-42F5-A164-9788B0C1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497094-DAA2-4633-AA08-23891133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CC0C7-2966-4913-83B6-4EBEBC2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89BC9-2001-45F7-8FD0-544E8B1D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519336-D28E-41FF-A08B-19C68FF6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F8EEF-EC30-4309-8383-DEB05871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19B1B-36EF-4B6A-916B-3B683922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84C0-04B7-43C8-AF38-394EFB41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6EBD9-C6AA-4A67-8D57-8729E1F2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1ECC1-8D73-4260-A1E0-05B5E0E6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19DD8-6122-4573-B2B3-B2F241CC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592F0-5967-4C34-B26E-538F6B6F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48EF0-B211-42DA-B654-2668DF36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CCFCD-C8DD-4F83-9159-6FDD8B87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32B90-CE10-4CA4-92C1-2BB6A615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A0881-8C48-4E07-9971-FCA2EC5B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802C7-D849-4D39-94D8-135CD167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C7DFD6-1AA8-4F28-ABE5-EADB5C0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D3FF-ACCD-4FAE-9D63-4B0D2FB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1ED57-8325-4879-BA38-378BC987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CB768-DD35-4165-A748-684EBAC1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89EA3-F6B0-4C5A-A955-A6360B29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97F85-7425-44BF-8696-42E86373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40A9CC-6FA4-4738-8502-7696BF8C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3BFEA-53CC-4F11-9A96-460F3BD4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EB665-E347-4B9A-B39C-872CF73C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2889C-38E9-4412-9EF0-85DF78D2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1DE10-A387-410D-AD9B-1AD382F6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52684-6A1C-4F96-A786-ADACB37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827-6847-4C68-944C-388920DA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F67F-AFEE-4893-96C8-D3A5575F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6769A-CDE8-4F25-9F6E-87AD974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83AF5-DFA9-4829-B93E-E7B2F28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4C03A-B036-4491-A120-69AEBA09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824D0-4B18-4165-A059-C655DD35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53921-703B-41DD-AEFF-CE926C40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BF02C-370D-471C-A8E4-70A99147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B12105-91C0-4EF3-AA6B-F32B7FD5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F75262-3CDE-444A-88A4-02E1529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2A7A7C-1B4A-4D59-9ACD-DD782037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61B05-DEBE-4807-B16E-01AEB5BF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BDE4-C198-4127-B72E-B8F5F6B6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A85DC-5943-4C83-8293-75DBD2DE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EDCCD-3B92-4576-AD58-31D69585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88DD7-18D2-4D52-B6BF-3CE94C34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CF1DD-0A86-4AC1-8966-F362DCA5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F8D22-2D0F-4DAD-A9DB-CAA4174D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F2CA4-463B-49C0-8054-64F53EBE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58B43-3B7E-44A3-94D9-BE8AA48A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AB3ED5-BE19-454B-94EB-CF65CCE7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330AD-F568-4883-8326-FA820B43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FB50A0-9B8B-4787-9467-84B2E2CC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3864-4187-4155-93F4-A43E73B0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C24CB-1E39-4A98-8855-07BEB8EE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0EACF-76C5-4802-B8A4-F70463F9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9BF8BA-9F3A-442E-BC83-412D2179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56C40D-B375-4356-8045-14DD413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855EB2-9919-4DFE-A28C-95E3FC40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92DEE-48FE-4520-B540-CF2E901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E8CAFA-5824-44CB-8061-A7326049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7C8A4B-8A7D-41ED-8BA9-3C161D46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A200D-19B2-41DA-B017-CE7FFA24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5C232-B393-4593-8635-142C5EA4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700E-C132-41BE-88CA-4644C44E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D2C90-F0D5-49C5-BBFB-79C1297B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0A5E55-2504-4A15-943E-9DA72050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6A2A2-CFEE-41F5-90C9-937B03F5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4F552B-C1F1-4CDD-BF93-A1E41D11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DFD65-1911-45E9-80BC-A4FBA2C9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8DFD9-C56F-418E-B215-B3BBBCD3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41EBD-DCA2-4264-B590-2008F811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846078-C56B-4022-AC60-F9733891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420B56-CC09-462A-BCE7-31E6AD8C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97C23-05CA-42D5-820B-309AF206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12D7-0C82-497C-B39A-408A7286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0C823-C88F-46AF-9E33-6CBF3834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5C2CC-BF85-447D-939E-816155BA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943DB-2704-4B6C-BB2A-C2A11BAE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107AD1-A49C-4C3D-969E-816AA763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FE4F7-8DDF-4CC0-A0DF-B7C2F825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A9295-13C0-44F4-B664-E1645899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A12956-2A47-4224-B3CE-A216C95C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EFC709-E95B-484C-B034-45ECA152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3D01C-0E80-4933-A618-0756BBF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B9BB6A-D871-4B80-B64E-81EBAB47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95B6-8D68-43C7-A6E9-D23252A5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A52C46-94A0-4AE8-A566-F2B37A83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C65538-495F-4C67-A5FF-82E84CAC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93BE33-9646-42AC-B7CD-75BDBB96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F27CC2-6FD8-4197-A504-A8109B27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D5958C-D7DE-4112-BEC1-77D2872B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3DF4D2-5ED9-44CA-9D95-23256665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5AC835-C260-45C2-9907-A8C8E9A1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213850-3E91-473A-B46F-BD4043EB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F43D4F-9283-4F91-951E-7BE9D236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00564-F3E9-4F4D-B054-9622D7A8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5D1B-C3E7-4551-B173-70F25A48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B7F16E-2C2F-4B3F-B04A-C9ACB5D8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0710AA-F7FD-4426-92EE-878534C3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5AFBEA-29FA-43C4-88E9-935AB23A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ABE4D4-5CA3-4ECF-87ED-5BF7DDC7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629EBB-5331-4A47-AB21-0E1933B4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F50330-E509-469F-9DCB-0C242F69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A9B683-BE1C-4D22-9241-B26ECD58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EDCF79-E4D5-46A5-B4AB-2BC595D6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E46D0E-ADEC-4736-BE3A-8BBF06F1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93318B-5324-4B5E-903D-3EEC3ED5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A405-478A-4DE7-932D-CA36FABB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5138FD-C94A-4B4C-AB10-4B3662EB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94AD1F-3CF7-4C67-BD0F-3EDFD33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46F938-B5B7-4706-86AA-A3D4A9EA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EF6FC7-F89D-4D02-8923-8A61AE85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9F0416-B987-49DF-B2EC-301589F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B2D064-9173-442F-B67A-775484C4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EFBFBA-5A35-433A-BA90-E2919DA0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88B10B-1B34-4AB6-B843-D16932B9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698BC4-A448-4592-9CD9-AA8C1F74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D3B7BF-988F-45B5-983F-01262D76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3D16A-0C61-4967-80F4-84F039E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219416-7784-4C03-855D-3E1F1843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B1EEDE-5B79-4EA7-B83B-C2E81CB8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149635-8042-4C9F-B335-4290F89D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3756BE-6E67-461E-A450-8B2F17D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2000FE-7A64-48B9-98F2-BA0779D3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D77C02-E31D-4985-97AF-E54ED1A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3EBC40-67C3-44BA-94B9-A0671317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401A8F-F298-4482-AA66-352B5D39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945EE-1B99-4216-BDE2-1218B451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0B9DE0-E697-4C17-88B5-C610C673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595B-F32B-450A-9568-8B31583E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3FBD01-3DCA-4DB2-81FE-4942FF88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49FEA4-5D11-439F-A2D0-EB20AEE6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00EA31-8FAE-456A-863E-FE68E4E4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9515C6-8C47-4BB7-B3BF-F1FE1A5D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A2C0F6-EF85-488B-89C0-F4813EBE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0F9FA4-8913-48C3-A5FE-C720199E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F19FD2-E0CA-43C1-A2E3-2C053E5F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1D9085-4111-4B95-B76C-211B48A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6E2023-FFF5-4C49-9AD1-54B9E4A2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FDCCAF-215C-423A-9740-9C25ACF7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3E4-A876-4151-8348-9C9631F1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D7B5-E286-4DCC-AF24-55EA5C1A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8FE76F-91F0-43B6-B7D9-A91B4C48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60589F-033B-4BA0-AE29-40AF677B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62F62C-716A-46D1-B99F-992FD356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FC21C9-AFBE-47BD-93F6-46587B14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601573-A0C7-4914-A05F-373EB1E0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0AA342-9584-49F2-A903-FC1BB245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886785-5525-41F7-96B4-A7E2DC5B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3F345A-FDD0-4304-A225-A6538ACE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1EEDA3-82EF-44EA-AD39-1F457AEE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227622-A214-42AA-9349-A7A95AC1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A70F-9E40-455B-B9E7-81F42CFA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9C653A-C733-44FB-B310-BD620270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5D180A-8AF6-4B68-859C-F313113B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86C4C2-3B1F-418D-8307-0B9946A3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A7BBEC-ED80-4568-8308-49463DC7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46280D-459D-47F7-A1BA-8DA4D571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7478BC-BA83-41C1-9FD9-A551B3E7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BE26EF-03A3-4A26-892B-75172835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C13350-2584-49FC-9899-629CD19E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FD6D4B-FF58-42C8-A473-ADC1B728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EF525C-FEBF-4D37-B4EC-4020C2E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BE4A-3CD4-419E-A9EB-94307521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909404-381C-42A2-AEDB-D23E8BAD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0C6947-5EBE-43BA-9E68-4C58D9D7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608AE8-9F7B-4DF7-AFFE-4CC8CA24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C30638-B21F-40D5-9A3A-79FDF96C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2F1FBB-65F9-45F1-9699-53DE6930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7986B7-D73A-4962-B245-22C7CFFC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26BE69-EDAF-44F3-BD2E-56592674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3563F5-A653-4135-A37A-E9D92A1D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962835-81AE-46B3-96CE-AD690188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88C315-0F1C-42BC-A726-AB0878AB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B66F-FEB1-4CDE-8A31-C1912B4A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990620-160C-4898-B8BA-5D9BABD8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C794B9-AC11-42DC-BAF7-222430FC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1ED4C6-D14F-4BCD-8F70-2A4E8D47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47503A-8550-4E3E-9DEA-5870D1C8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B83AB5-8188-42B2-A902-36FA005F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E36ED3-6260-4DB9-967A-7C62C326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E0D879-8196-4EB3-9433-F273EF5B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E5D572-C63F-4D87-A109-B37B47E6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2C5401-AFF3-4865-9EEA-2D17FD5C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E79ECF-8165-40C6-89E4-F5103A98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0BE8-5B98-4451-A00B-000451F9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2C6586-CCD7-4946-9806-D2DB7ACA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0B0682-8F9B-4791-AFEC-0151B29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F92644-4BA7-4CAC-BA00-3CCA4968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262579-E501-4E08-93F1-1DC08E73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5D8BF9-4A7D-435F-8C5B-FC32D5ED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9F7982-BBFE-4079-82F7-D9048623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CE8DEF-C7DC-47CA-BFD8-CA38B0AE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91E463-3B35-4D1A-90AA-B5964F89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2A6E5D-9208-4310-B6B5-7B953DEB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18F635-0D53-46BB-BAE1-2D014746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5D45-7BE5-4EFA-8F39-FA32825E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0377CB-FC70-408E-B123-B5A75478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10D94C-5CA5-4759-8087-5254F14F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C98511-5AAA-4E35-BB10-609D0D36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C5C2CE-4D7F-4468-AC82-74D3DAD3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E6231A-184F-485C-8F1B-1905AD5A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E7860A-6DDE-4D25-872E-111E0886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CF0357-1972-4A0D-BDE5-30F4465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E13BF8-FD7D-4D7D-8C24-112B043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C4FCAE-8D70-4B34-957C-8D5C3F91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6293CD-931E-4F75-8046-17899CF5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3A75-3095-4A07-A3CC-AECA68B7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4630D0-890C-4265-82E8-4E764A49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FA13A5-2981-44A0-BFF6-60C3AD25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5A1053-BD25-41FA-883E-FF085BFE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F6A267-04CC-45FB-A0CD-71568F61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947BB7-D17F-403B-8D88-79236067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4E8EB3-F0F2-4BD3-99BE-3F1D9B04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D7ABCA-5901-424B-8046-14BBBA45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1FCF39-104F-4250-A2E6-C2060C0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F34C80-F3C8-4D9D-B0DD-B8E4EFBD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92C3EC-3974-49BA-863A-D1B5DF2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6013-CB5F-4A4F-B56E-DA5F3C6A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A7A6BF-DB53-4B49-BB25-42F9DF5C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DA7F55-D343-47FA-BBB2-C8364F5E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122BA8-9B1E-4126-A4F8-605055AB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DB696A-BC08-44C5-B976-EBA66AEC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5333C0-280D-46A5-AAE0-4FFC081D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6AC2B5-D011-4836-9BBB-34762417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72E62C-10DF-4613-ABB0-25582F0D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C9DD5F-46D9-4FD3-86B1-6A623537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7C8877-363B-48A7-ABC0-986F05DE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42829C-3EA1-4EB6-8BB7-CA010F2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DBB87-EE54-4D6E-A850-9BFB831B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41D6ED-20D7-4C93-8554-AFBE8AC0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224364-B673-46CF-8EBA-EE91032F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63F954-951B-4A0B-8837-76AC2388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40DCEC-35F8-44AC-AC3A-6818FC7F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650A79-9E36-4DF3-8586-AD467093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12F40C-131C-4841-97AD-7BA5831C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276CCE-DDF2-46CE-984F-F528DF1E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7D6793-37CA-4F02-823B-54099BDE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2B6C8D-FF39-4042-A72D-3FCAC158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E7C498-5AB3-4004-ACC2-C8BB4D1A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DE62-14BA-471F-B8D9-8CC6C0B9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2473D1-69AB-4729-89FA-85B0D1A1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AAABD3-585B-4080-800F-8048991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95D56B-3C6F-4581-80B0-BF67930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72CEC8-3062-4F34-8015-B09E9FAC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AF8D0B-29A5-4FDD-8053-F7677D25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284089-CB4C-48AC-A5F4-5D0F5AF7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B51F04-6E24-4446-9A59-E8DF2D26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78F010-F407-44CD-972F-16B9C930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6726B2-6F67-4469-9305-378B9791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24D444-7A5C-483A-AB54-79AEACAB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A78-AF6E-4C4D-B798-81A9A1BC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B9961-0B5C-467D-974B-E1B8888F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62E96F-26C1-4F17-B002-2F668015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AAB505-C8FA-4D09-8661-B78704A3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EFA5CF-F5E3-47AB-A9BF-BF99B8D6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8B2865-B69D-4306-9232-ED8E0498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30F45D-12E9-4D2B-B1E3-4CDB33D5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D9F20B-CF2F-4DAF-BB0A-C5F78B4E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D5CC77-5D03-4B9B-B410-36A65A7F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0E5D97-EB66-4504-9C1D-6DF9C0F7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2FD07D-DD4A-486F-AC9A-2AED8F45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539729-5523-49FC-B817-C7E9BA0F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82F1-65E7-42EF-856E-F0827E27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102B6E-D2BD-4EE8-89C5-C09D7760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9A8235-D08A-430C-97B6-077AFB27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1B7680-9695-4042-B9FE-EE864CE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AF066B-52BA-4C69-A0DD-B1055ED9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18C9BE-22EB-497F-95E7-DECED0B0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50FBC7-8CBB-4B79-8813-9AA4F16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44399F-C644-41CE-B2AA-84FACAB7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E86E6A-830C-459B-A0B7-789100F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CF146F-5B1C-4409-8838-50EC15DC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1543AE-EBC0-4E52-9FDD-774C8C3C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EB5E6-841D-4EBB-BBB5-369D6394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0628DD-3919-4607-91F4-2E00050D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BA9C50-A3AA-4021-8F9A-0B610F42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888B41-4FD9-43D8-86CC-508C8ED8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30FB84-00D4-4EF8-9699-2ACA3BC3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D74146-9E7D-4AB4-AB80-A6F66805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C05B99-68F9-40B4-85CA-98063ACC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C1FB3A-18F7-4272-BA37-B723D70A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CF989B-B6C0-485D-B9D7-7BCFD5D6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4B1CAC-2EE5-40BB-98FB-9A4528F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278D07-0649-460D-A80A-31017FA3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B232-5927-4490-8156-C5A205E8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19A744-D1CC-4538-A1ED-F7BF901A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201835-134F-4A5F-8589-B3208257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D91472-3A7F-43E0-B256-0F9BDBE3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BE60-E215-4D05-904F-2FF53F40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4044-C335-43EF-AFFA-2B088E99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04ED7-693C-47CF-912F-0236B1DB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BD411-B93C-4676-B0D8-9DD3029D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87A7-D84C-44FF-85DE-706D3C2B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85DE-5588-4406-AE37-8FD5C00A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37A-99D2-49BC-AAF3-531BB7BE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D22BF-9945-4D28-A331-9B3A498E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B21BC-D7B0-4494-928D-9EAD688E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8E25C-D4DB-470A-8253-7537406B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2862F-2221-42F7-882D-0D2041D3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682D0-6B44-4FFE-A9EB-B9C3256A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929E7-9C49-49A5-815C-B2E8F045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0A2C-5E92-4F33-A686-699DD9B3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07D31-14CD-46F6-8CC8-EF31EB6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3078B-0CB7-4397-B6A7-DDBDF912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D3B0A-489A-472B-A1D0-5B1B1685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A69-797B-4687-8A91-53A70F16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72DE6-0DC2-4AF1-9D41-3D6653E9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40176-9EF2-4B45-9CC9-73E4E726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6107E-8915-4479-9E6D-4215AC61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5826-C179-471F-97A4-EA98D463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7A4CE-5EAA-4511-9312-C721ACB6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3FB80-8802-4089-A797-DCAABD6B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145D3-8AF2-4929-84A3-F876F320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A2B9B-119B-4105-933A-22904EF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9B43C-0045-4078-BEE3-2A4E20AE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486A0-4CF3-4739-B145-D3510D6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D38-2DE4-4154-A12F-FB9112DB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BBAEA-9B45-447C-B760-06893487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7FCC-F4DB-4DAD-BF05-2F3024C7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7551F-04FF-457D-9C14-4C8DD009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D3464-F635-4285-A958-21EE7E30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B8D70-310A-43D6-BB88-37E63FC3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85C8B-EB1B-4C24-BCE8-63F78031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72564-1A23-406A-83F1-4BA0DD1E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9A858-768E-4646-ACA0-3B3EEC5C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5D22F-068E-4982-A2E1-37A6573C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E0102-EE42-4095-867C-E5124187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488-3295-43FC-B835-0544CB0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9566-533D-4BE6-B9C6-BB484B43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206C7-7607-4215-BF86-C2AF690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0156A-D6BD-4398-8BBF-B469BB72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D40FB-CE64-4C99-A0C7-07232C39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862AF-0F34-4972-B269-871BFD3C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11FB7-2855-4E4A-8DED-375C2714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17085-3438-4DF0-8701-097D6C80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B45FA-3A46-4255-A163-614B8CBA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87D54-E44A-4BC6-9273-DDBA5901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D7E78-82F5-4711-B5BE-4052CE32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5DD-4738-443E-8FCC-32351CB4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718F4-3B6B-4B1C-8CC5-31C62218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5D93E-132D-49C1-96FF-27DE5567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476CE-5899-43A3-B3AE-E55464D6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D0C5-5F4F-4659-B45A-F3B456EB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0E866-9CE9-4C1D-BAF0-F9E78194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9EECA-D7C8-4E96-9DF3-32AED99E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85C60-C108-4DBD-A448-30F27F6D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8FD0A-46A9-4A2D-B388-C1DD2E8A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4BDB1-47CF-4ACC-A53D-E9411067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2D864-0002-4DBE-AF8F-7D7ED995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D58-0414-4327-94AB-53B349CB8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D065-3C23-4203-A59D-9369896B2E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2926-F743-427F-8F6D-3D0BEC4E22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F7FE-291D-45F9-90C9-D89BB21D83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F17C-564D-4020-B1DA-D429CF407E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6247-EDFB-4E44-BCCF-8878EFADF2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94E1-5A11-4E91-9A38-128D492B36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9819-F323-4F92-8219-795A636BAD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E98A-5CDD-4771-9B4E-C2DD1C82C2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3B51-1B8B-4C57-86EA-EF19C12B82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17E-75E3-45B7-BDCF-31A5F5B1AA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C4A1-2701-4527-BEE4-4725E15F3C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0C5C-80C1-4FEF-A469-59BC887D9A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0F9D-0BBB-49CD-850C-0F80309027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E41B-3207-4827-8877-CDD9E6D8D0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A0A2-40DE-4B85-BA0C-6893124200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12B1-3E35-489C-97D8-2130CD952D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B1B6-0E50-49AF-B901-A316E6C9BB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99B1-3FDE-46A3-9CBF-EEC90817DB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68CA-2922-48B9-9749-158CFDD60A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F4C9-1D63-449F-98BA-3C1C2B1BBA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76CC-0A91-4A7F-979F-4D36B375DA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CB6B-E77E-4844-9522-DE5A979962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326B-DCC4-4E9D-929B-9E0924108D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FE63-C204-4CF6-82AB-D40CC899BD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A345-C994-49DB-8F6F-979BB9FE50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9483-1D91-4AF3-BFD5-009A0B409E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3FBF-B0D4-4FC3-8489-FAC1ABBB79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14B1-82BE-41FF-BAD6-7BA2EACCBA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5BD5-075E-4C2B-8F00-0EFC0A7B5C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EB05-D10D-4841-B99E-6DDBEE24D7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1EFE-F726-4792-A3A7-4E86F885E2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B289-2978-41CA-8E74-044A51B90D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5571-06B6-45AC-83D4-740C1791AD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7000-275F-4E78-B8DF-363E92147A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31F1-F2EC-4C45-8AE8-5D0328A823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 бюджетное дошко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«город Бугуруслан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етский сад общеразвивающего вида № 23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 приоритетным осуществлением физического развити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ник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-клас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Monotype Corsiva"/>
                <a:ea typeface="Times New Roman"/>
              </a:rPr>
              <a:t>«Ознакомление  детей с художественной  литературой    с использованием  социо-игровых технолог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0"/>
          <p:cNvSpPr/>
          <p:nvPr/>
        </p:nvSpPr>
        <p:spPr>
          <a:xfrm>
            <a:off x="5181480" y="495288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ть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1"/>
          <p:cNvSpPr/>
          <p:nvPr/>
        </p:nvSpPr>
        <p:spPr>
          <a:xfrm>
            <a:off x="2590920" y="62485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гуруслан, 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3106160" y="-543204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533880" y="22896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7. Просмотр  мультфильма  по басне  И.А. Кры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«Стрекоза и Мурав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3" descr="C:\Users\оля\Desktop\Мастер-класс\Стрекоза-и-муравей.jpg"/>
          <p:cNvPicPr/>
          <p:nvPr/>
        </p:nvPicPr>
        <p:blipFill>
          <a:blip r:embed="rId2"/>
          <a:stretch/>
        </p:blipFill>
        <p:spPr>
          <a:xfrm>
            <a:off x="1944720" y="2646360"/>
            <a:ext cx="5261040" cy="36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3106160" y="-535572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914400" y="167688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  <a:ea typeface="Calibri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  <a:ea typeface="Calibri"/>
              </a:rPr>
              <a:t>за внимание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етодика  В. М. Бук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малыми групп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Знакомство  с  басней  И. А.Крылова «Стрекоза и Муравей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491" name="Picture 5" descr=""/>
          <p:cNvPicPr/>
          <p:nvPr/>
        </p:nvPicPr>
        <p:blipFill>
          <a:blip r:embed="rId2"/>
          <a:stretch/>
        </p:blipFill>
        <p:spPr>
          <a:xfrm>
            <a:off x="384120" y="1676520"/>
            <a:ext cx="4267080" cy="502920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6" descr=""/>
          <p:cNvPicPr/>
          <p:nvPr/>
        </p:nvPicPr>
        <p:blipFill>
          <a:blip r:embed="rId3"/>
          <a:stretch/>
        </p:blipFill>
        <p:spPr>
          <a:xfrm>
            <a:off x="4495680" y="2209680"/>
            <a:ext cx="3276720" cy="434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3" name="Picture 3" descr=""/>
          <p:cNvPicPr/>
          <p:nvPr/>
        </p:nvPicPr>
        <p:blipFill>
          <a:blip r:embed="rId4"/>
          <a:stretch/>
        </p:blipFill>
        <p:spPr>
          <a:xfrm>
            <a:off x="644400" y="4800600"/>
            <a:ext cx="2784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Определите черты характера  главных геро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коза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а для справок: легкомысленность, беззаботность, справедливость, усердие, лень, жадность, беспечность, несерьёзность, бесшабашность, веселье, грациозность, запасливость, доброта, безжалостность,  жизнерадостность, глупость, чёрствость, весёлость, трудолюб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пословицами.</a:t>
            </a:r>
            <a:br>
              <a:rPr sz="3600"/>
            </a:br>
            <a:br>
              <a:rPr sz="3600"/>
            </a:br>
            <a:br>
              <a:rPr sz="1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60984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 пословиц можно отнести к Стрекозе? А какие пословицы можно отнести к Муравью? Объясните их значе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сеешь, то и пожн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прохлопали, осень протопали, а тут и снег на голов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— время, а потехе — ча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пролетишь — зимой с сумой побежиш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яй, гуляй — зато потом не пеня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летом родится, то зимой пригодит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дело — гуляй смел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«Загадочные животны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838080" y="114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 У Х Е Т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Й Е В А Р У 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Ё С О Л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Л С О Н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Ц И С И Л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Л Ё З О К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В О 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Р Т О К Е З С                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Ш К А М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А Р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Н О Р О В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У Щ 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«В мире крылатых  выражений»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бъяснить значение с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762480" y="167688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зима катит в глаза»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мертвело чисто поле 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лой тоской удручена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лянуться не успела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лову вскружило…»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ягких муравах у нас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кому же в ум пойдет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до вешних только дне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 Решите  реб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4" name="Picture 2" descr="C:\Users\оля\Desktop\Мастер-класс\ребус.jpg"/>
          <p:cNvPicPr/>
          <p:nvPr/>
        </p:nvPicPr>
        <p:blipFill>
          <a:blip r:embed="rId2"/>
          <a:stretch/>
        </p:blipFill>
        <p:spPr>
          <a:xfrm>
            <a:off x="609480" y="1371600"/>
            <a:ext cx="7242120" cy="51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3106160" y="-535572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914400" y="167688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6. Пантом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(обыграть  эпизод  басни  по рол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я</dc:creator>
  <dc:description/>
  <dc:language>en-US</dc:language>
  <cp:lastModifiedBy>Windows User</cp:lastModifiedBy>
  <dcterms:modified xsi:type="dcterms:W3CDTF">2021-03-19T11:00:06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