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CC08-F372-4664-8EEF-7E00892C00C5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3235-CD14-42BA-BE12-79E33A61A4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095E-309E-483B-A87E-44873C61F6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D4E-0C73-4CCD-99F9-60933F4B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62AC-496D-49C4-B344-1EAB7F89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788CB-847A-4528-B1F6-9D76C151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EFEAB-92EC-4B38-ADE0-C36FF942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57F14-38EE-40A2-8481-0BC386F5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398FC-CDFF-48EE-99FD-786D4CB1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B962A-3448-4F89-968C-DC4934EB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A9B09-C123-4955-855C-C7CF3296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90D49-0AA0-4BF2-B214-378C68CF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6060A-FA3F-4F2D-86F1-10FF3B5A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DC25D-0953-4AEB-8EB4-F4F61D68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74A9A-6450-4EF9-8816-F23806BB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838-A05D-4555-9A4A-88E87DCD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75C74-9BF9-4DDF-9684-1BB501E6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3EC99-2487-4DF9-9590-BAF4533B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EFEA4-70B8-4164-8150-C4868BEB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568D1-A474-4EAA-AD74-F4C4D506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A6320-1EE5-40C5-9BA5-49CD834D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ED087-ED42-4CA8-A4C2-C952A2A9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2C0EB-19EE-4A6D-BAB8-C777714D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4B56C-6E9E-4D01-A6C3-9E8D0F35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1DA72-3F81-4E19-930F-E8E9357D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ECBE2-3925-44F1-BA20-A3C257A1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C9E7-B8BC-49AC-B1D3-CC15246B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FC459-90E8-4CE8-B097-6E248A32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95592-36EB-423B-86BD-C563E4A5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72074-0F3B-49C3-9D48-0AEABF6A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30DBF-DC06-4977-92CB-A98D8806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40871-20AD-4752-8BCC-5C14723F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4E39C-E34A-47CF-B335-D86BEDAF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18BDA-8AB8-441C-9274-359C5173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C663C-BB87-4E5F-962A-8A01731C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0EBDC-4962-44FF-849A-8E893B5E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E197E-12AE-44BD-9C88-141E8288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546D-6C51-420F-9DDB-4C81F7CD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0544A-2FA8-4833-B12D-DB121227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B8165-49C8-4CF0-AF0F-5F5634B0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F5324-DA32-4A98-9220-4C40540D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B7E90-375B-4097-87E3-DFBA7312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E30FC-E461-4043-AB3D-95405CF5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48080-80E1-47F0-89A8-117B457E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9644A-4E72-489B-B2A8-4B67A0F8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EF988-A932-411C-A52C-1CEB7D5B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E36F7-E1D2-40A6-84AA-8B379EE5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9A618-0CD7-4409-922B-BA1C8A68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FEFF-8C9F-4C83-BFE0-654203D2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C18E4-CF8B-4BF4-B011-F15A2E70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338C5-C3A5-4C7C-A04A-82FB8281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398C1-2538-42FF-99C2-27DFCFAF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079E3-147D-4C5C-92E5-E44DA18C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4CF2F-69F5-4491-AAAF-50572277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CCCB5-E4D4-4A61-ACCA-6D2FA372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48005E-2E96-4309-A947-6E2645A8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BA7EDB-C7D9-4154-9469-A7F80FA1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C6780-6D2C-4343-ACD8-28F861C0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E1A48-FA03-4989-B775-BD0E274C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5B80-85CC-49B5-988B-AF811BEB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DF8AF-A380-437B-B3AA-9D4D2C5E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BB4E8-B8C9-4264-ABF9-604E5C8D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F7132-EC9B-42C6-A982-AC154FEF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D74B9-9474-49D2-8C94-3F257DFC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5B978-F790-482C-8634-5862C82D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20F3D-4198-4F91-B06E-BFAB9070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24EB4-D227-4D24-B067-6377D334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42238-B220-4BFF-B9D6-F5E777FD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A9CB78-A767-42E8-B9A2-91C9F26C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348C3F-0C47-4D50-8F47-4AE6451E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807D-BC98-42E9-B973-525531FB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97B06-2E42-488B-BA1D-45D5AB3F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9BAE1D-577B-4549-9B9C-36FCE12C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C852E6-388F-4495-B171-026AC910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038DA9-FDCC-4D0D-8C20-E3F7ADC0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A42B82-F133-4F87-9A1C-96D8B0B2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5034F-5CB0-4E71-8471-3546DFF3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6BE862-1AF8-43D6-A015-D7A09D8D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75CCE-FF87-4F7A-ADA1-A7AEF24C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021D9D-1546-477A-AB7A-A0325029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FAB156-95EE-48D4-B28C-2D87F649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68A5-4887-46A8-B02D-558A6604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55F625-2537-4321-813B-48C8996D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E9AA7A-C0A3-4EC7-8D56-910739B9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CBEECC-FD3C-4630-AB22-61B49518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2E5563-FD76-4AFA-959E-4C6266A1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8BD5E5-9B12-4242-9ADB-B73440B3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37C214-E6D1-49FE-A4A7-AFDA3EFD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60A4D-B3A1-4AA0-B169-18E378C2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6D84D2-38AB-401D-A6DE-352740AD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7025D4-4993-4B91-9492-BFFA47CC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471A50-115F-4459-A3E3-D4D14554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5A7A-02D6-4D72-97A1-A5DAE568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AFEA70-EF04-49DD-942C-93DC22FD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8A013C-015D-4A66-A163-C95DC3BA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8DC62B-0C9C-4DA7-8821-238AA044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428A18-6192-4995-BE85-A5BEC790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2F9FDD-8224-4642-87EF-255042C4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F2568C-E67B-49F9-A520-FCB725A1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0C6149-B9EF-46E8-B0BD-D46B94B0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E1C6DB-464C-4952-8137-38852036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314AEB-DC4C-4499-8D3C-6C234965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FE0D98-9175-445D-B3DA-A7C547FD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D350-EF2F-4FBA-9886-738096BE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EECA9F-5031-4075-B707-312CD5EC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0A39FE-DBF0-4937-8EBF-EA2FDF49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6E7CE5-7595-4076-A6A6-F3A82E6F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759215-090E-4D82-BA90-AF7B1C07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4CF5F7-6EA7-452A-A85A-81BFA6FD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F51DB5-6D1D-4DE7-BDFA-43635072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4FFFC1-9C57-4293-AC00-52D2FA6A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726EF2-DD0C-4518-9F9F-552B46FB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261300-C220-4ED2-8B1E-21147155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AAED9E-6AE8-4CA0-938D-B17F1270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52D-419A-4F33-8513-D5591179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7473-4F5F-41AB-B727-B7AF05C7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9C5B9B-B821-49A2-ABD7-C548B4B3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C7BA39-3A8E-423E-8DC6-07A55F9F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A933EC-1CA3-49DC-981D-6A1FF853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EA2212-57D8-40CF-8C56-0DFCC431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4ECD8B-5F4E-4853-AEC9-D13292F9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15E147-E45D-42DC-B232-C9A150B5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C58BD1-E584-46D9-B039-33E64E26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555EE6-4734-44C9-94D8-3095B2F5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9AA4ED-9E2E-4BEE-B669-E2AE8868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A6A05F-2206-43AB-805F-DF279FA2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BFC5-5000-4723-BDB4-DB5B789C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02268F-6C30-4F1D-8C71-7E77E1C7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6CF85B-59DD-4DDC-99DD-E7A5A2F2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11DC3D-E7C1-4468-94BB-F5D4B1F6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4B33FE-9953-4F1B-A663-C69E33BB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8C28BA-0B68-422D-8643-DE87AB3D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B4FB39-8FD5-4192-A9A3-48809D07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1B9663-003E-4D93-B6E1-ED12048F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18183D-F3FA-4939-A4B7-049A0CF3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D47B9E-E4FC-4033-ABD1-7C874023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C1C95E-A965-473D-8846-6FDEF8D4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D8B9-3EA1-44BC-89B3-EB44D9E8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E0760B-44A1-48E8-BF25-8E55B1D1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238FE1-6A87-4387-B799-B8364226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D0F172-BB22-40D9-A0A6-8885E7EE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B21056-9538-4F5F-9389-686C0DA6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29F029-CCFF-465E-8E05-BF51E140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D7D509-BEA2-45A6-8269-49C52DBC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5548EA-F376-4E80-83A9-4264F78A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231ACD-686F-469B-90D4-73C7A931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18EA90-2B24-4019-A85A-A4439F1A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226B7A-9C8C-402C-BB2B-73033F53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BEC3-E3D8-475C-A72D-7B021679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7FA22E-FC98-43FC-936D-D69AD8F4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B349C6-B1B0-41EA-9BE5-A9044F06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13D694-A4C6-4705-979C-81655723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24EC1F-DE95-4361-AEFE-F951CBAA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0BC66A-6797-40A1-9B43-36756730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0DC819-FB61-4FDA-B117-D4E5AA91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908A33-746D-4EFF-A20C-37F57DE4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EB4799-AD76-4891-8BBB-DC630CC2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C7BF84-1D63-43B0-BB1F-3188EB07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3FA518-D1F5-439C-9CD3-8C078B82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F8DA-F0CF-47BF-900A-37DE38D5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BF57C4-6DA7-4ED1-BAA9-6C583C14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1D6922-229A-4D66-9E4F-783D02FF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D74637-417A-4270-8259-2A3E4068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278774-B0FB-4461-BC9E-96A782AF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B01379-A0CD-47A5-A60B-EFD5A9AA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65F5CB-4936-44D0-9E53-F0DEF125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D50C06-E618-4DAC-A714-73CD8858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779DB6-2AA5-4109-81C9-9B3DD1B7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CDA201-92BD-495D-A978-171DDA46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AAEDE0-14FC-4EAB-8551-61EE76F1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87E20-83EC-427B-8F2C-E480BCCB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110A8B-00F8-4038-B4EB-114A4CBE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AF96F6-FEB0-42A8-97E1-2B739704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FDA041-C626-4F8F-82AC-1C02A162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42CD6C-07A9-461C-9CE1-6B9EB161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9AAFBC-6FF7-4F59-B0F3-CE2B0754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6D0FAA-90FA-48FF-AF33-A39F4D18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4796E1-0E3B-4092-8DC3-FF03CF43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D22616-8E3D-425F-BF1A-F322B42B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ADEA99-B781-47CC-9042-30CD14BC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536770-B6B9-4AE7-95F5-3E79D7F5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7CFF3-B689-4B0B-8C82-8D58C25D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F95498-D577-4F45-8414-AA716939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11D545-E596-4994-9DF0-C36A8121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D1D2D0-04C6-4F46-B7AD-E089FC73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5E7835-3366-4203-B413-BAC4F4A8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AD5435-9FA4-476B-A5C3-AB81561F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E51485-97B8-44EE-8062-ACE91BD9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B92F40-A6A4-4FA9-ABE4-CCC2A7F7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BF4D34-D970-4E35-9757-08E540CC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89B70F-00BA-45FF-939A-69396569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9AA9A3-C185-4AD0-91DF-760A1AB9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440EE-31C4-4677-B7D1-FA8ABB6F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CD340A-2B8A-4A7A-8216-DE008D01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B1FAFC-C7D8-4BD4-A2B8-B6DD3DD4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6EF04A-4020-4B5A-9744-1F5CE299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643205-54F2-4A43-AC36-5DC19AB7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17CE9B-55C2-4328-83DC-4B4CB10F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967FD1-CC69-46EB-8D4C-4B066F14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3538A4-E3A8-478C-A635-28EBF68C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82C158-208F-4F16-A3C5-A1B9C8DB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2F2054-B752-4F3A-B1E6-8D35E264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CB78AB-02A4-4D60-BA2A-7D76C32E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704AE-1B4E-4611-A322-CCF3E6D6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610A20-8CC1-4FD8-B8C3-D6A410EC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C13D48-75E2-466A-A472-D631CD1F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01FFB0-7ECB-4DEC-A2AE-BC4DDA50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2B3F47-2CD9-4BDE-BACA-158ACECC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3807C1-2D4E-4BAB-A9F1-81C2C21A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A4B1F3-DA10-448B-9281-16BC64F6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9AB2BC-BC70-49BE-AD9D-517BC2FE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8A092F-CC03-4A30-B17A-1FE6AB35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9BBB6F-2811-42C7-A0DE-62507283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B6A9D4-3AAE-4F02-A7B3-C9AECAEE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BBA06-FB50-41B9-8F06-6E4AA559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E013DD-DE43-4544-8869-C4979089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374D71-94E5-422A-B28C-4FEC88D3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649E02-6401-41A3-A29B-A1E62E21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F16C37-858F-4D71-A519-70D34652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0794D6-7164-4671-9CFC-3063161A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FCD224-A468-49B3-A878-7D186C43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7CD477-7154-4D10-A4C9-D4915B36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5C63EE-8132-4A51-866C-F52F2DAF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F2FC23-3C18-418F-82E1-BB5333CC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38ED7A-D3B9-432E-96EB-37DDD3E5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524-4E0F-447D-AB71-E1CDC992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4864A-9596-4D10-B932-BB0D52AC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AC10BC-6435-44A8-8A50-645A4FA1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8AEFB1-BE7A-48A2-8D4C-65EFB4A2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0468E1-7C38-41DE-B514-30A1C9AD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11844C-B5EE-4F00-A746-20FE1B7C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5C5A36-5D7D-40B7-BFF8-5A466C2D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F10ECE-0701-45E6-830F-10CE83FB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9A1D37-2ED3-4EC8-A5B4-46E103C6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1FD3B9-617E-44DA-8AF3-9384EBE2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00CAA2-E2EF-4F3B-BBDA-0B30AB55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3C3040-71BD-4360-97DA-DB8196F2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255FA-7744-402B-9A8C-7C62D279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5F6A2F-8387-48BA-A7F8-7F0F93E5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EA7DB8-75B5-4BF1-B73C-52734746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C9AEE8-648D-4EF2-9859-2F191CBA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A1B73C-93A6-4AC2-91C8-5EDD3B9D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261DF2-19E2-4490-92F8-AF91A146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7918BF-2B3A-41D9-9F14-BA9E497E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B506A5-3093-4733-8528-AEB93272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28700B-5294-416E-9840-CB040B6C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C80B82-8226-4B18-A6C2-2F266CA1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195A7A-65ED-40F4-8354-3005F5C7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C1FF0-6E7D-47A0-A11E-C6C42FD0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B8BAD3-1B3B-4EC7-9E93-1E8CABE5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11143C-46B1-468D-AAF4-88C2587E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0A1A0E-820D-45D2-9683-E3E2F293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48C554-25B3-40D5-ADF2-248A6DBF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C65C9C-4E2A-4C04-8D01-423CBC70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8ABF21-CA2A-498D-8966-6CF63D21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69B4D7-664E-4C41-B247-6CEEC359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EA1AF3-9954-4F21-A673-95DD0695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095516-10C0-4E97-8069-FAF17FE1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5558CB-7E04-4E3E-AD1D-AC5054D8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30A31-20A2-4D24-AF23-B4F2D890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259D98-D3FE-42FC-AB0B-D3698FC5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76E1E3-9A92-44D5-AE76-FEFF958F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071684-111F-4840-B0A2-DBF3C9F1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FD8EF5-47F4-46F2-83B5-F9A6BAB7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79431D-6F05-4316-928C-C1749F31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7E275D-2101-4FF3-85D8-91F0C8A7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17487E-EF05-4B2E-AEDE-4740B57F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8C5D07-CBEE-4ED7-AB7F-0DFC3D05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192B99-8D7F-43F3-919D-3F4D751A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7E7181-5A3E-4D75-9E19-92AF1AC1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212D1-216D-4B7C-99FB-7AE0D459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54704F-D156-484B-8B7D-31995478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5184F7-D7B2-4C0A-98B7-E98C8113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F1F2F41-E1C4-440D-8F44-122A9487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8D0C52-A199-407C-AB91-D67C43E8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E9F616-8EA6-4855-834B-E9D46B02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24D4C4-96EB-4989-BE2B-C51542CA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E4D54A-1BC5-4993-B045-C52D8F92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36179B-90E8-4D28-95A6-F656784F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491E8E-A7AA-451C-93B3-3FCE881F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F6847F-CEF5-4079-B139-50D37ACA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F228D-5A30-463E-A923-E79A5962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4CC9EA-8707-45BF-9C16-63C7F5ED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F88AA5-F875-4828-BB6B-F6DBF5CC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50E6AA-C06F-4613-A14B-42BB590C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218887-8DC7-4E59-9105-2B15DC87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01A705-7A6D-4F6A-A80E-953F6D59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9F49A5-2D11-4F30-90B2-1357916A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5D3224-8D9D-4987-B108-A41B6BC0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C697D5-E4FB-40E7-A8E6-99230B99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16A039-E711-4393-A8FE-D212B475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198D9A-F3E1-4E8E-931E-BD7146E4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7F960-D98A-49C0-BB98-AA7D5C0D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6A3FE2-31F4-4B53-BD7F-97F01289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3E4EAF-8FF0-4D82-BCE2-AAC8B396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80FC51-35E4-47F2-838D-306D85DE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C9E981-B124-413A-ABA8-DE2854A5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91796A-68E4-443B-85A7-31C389BB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7779A2-B3AD-42EC-ADCF-1001AA83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806231-F342-4661-BC11-94FE2001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964358-A69B-4045-8057-F98D8925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220FB8-A916-486D-B3FF-536CAB93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FEBA02-68F3-46CE-B1DD-EA441EA8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B6B96-CDCC-49F3-B6E1-B1DDE6E0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3365BF-7F6C-457A-9011-00C88CAF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5AFADE-E33A-4093-8F98-286A6BBE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133824-AB85-4AA1-8523-EA8226A3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C55A6CC-FAAD-4174-A896-AD839922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C76A0E-E97F-4195-A9F2-FC05B9B8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D7C428-7995-4090-8D67-63C03736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DC3C8C-A589-4ECF-BE09-D0E79D30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BCA91C-4063-43BA-9F1C-6F9B6FB1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DA6D41-0017-490B-9DB4-8AAC76F7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E9A93B-44DC-4594-9A37-52CD9B1B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283FC-E909-490C-AEA4-0292B959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87DB89-A7C1-4E29-B96C-8F8A2AA1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51FE0F-A294-45BC-B2B9-5EDDBB76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BF3C73-3509-44EF-B2C1-6FD40905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3D3F40-96EF-46B9-9961-A6D476DF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1E6560-26F5-4C1B-BCCA-B8EF0159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FEBADC-1353-4969-AF90-BC9BBF98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28D311-AAE1-425E-80F9-5674F730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3C530B-A93C-4D66-8A14-E8BD25AC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DEAAD3E-5BCE-47F7-BEEB-71AAEAAF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3D11CBB-F8E7-4900-9F92-F871D51B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EDEF9-1A2A-4B87-BF2F-4DF32ABD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430B24-5EAA-4720-8AD8-068DA179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F07ACD-66FA-4B0C-B310-B02A782A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B1404F-B5C0-4B39-8521-8C7AF2B3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770630-5D46-413D-AD84-804FA164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205E62F-129F-4342-AA49-18CBB42C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A21758A-743F-49D4-A472-818D4FD9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EDD34D-8A82-44A1-B358-2037095A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512243B-8ED1-4374-9E10-4C2BC164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A74FA68-00D8-49A0-9C44-3A5589B9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859749A-62F1-4A31-8505-56776D9A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A05-2E8F-4374-BA0F-8557A0BC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C7523-3451-40E9-B2BC-82FE8599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53A28B-F858-414E-9C98-EAB8F019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DDC8CE-0D90-44C0-9C3A-4B3B42D5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ED0BD15-8580-483E-B50E-2189BEB3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7EF2791-1F32-467A-AAD6-473D71FD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F2EB4C-4D34-48CC-8DFD-BDD620BD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F563CC-FA8B-411D-A9BE-9B583FFB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5671F8-B1F4-4B78-A77A-CCB73B7A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EAE0CA-0C63-4169-BFEB-1FB568F2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27E1648-844D-4B62-9CB7-3D08F923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783BF15-5A0F-497A-97F0-31DCA045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FFF6D-154C-4B7E-BE39-32CE46D7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167268-17BF-4E2E-963C-5FED7596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1C1DA27-8306-4861-A987-A1F01FC8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B0A6F4E-1370-4005-92DF-B0C03EEB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A5FBA0-4D9C-499F-BED7-73C488A7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43DC31-AC64-481D-A46C-4463F5B7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144B57-EC7D-4D6B-8F81-A5F3B0AA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E943F4-5CB6-476B-9826-1E3F886B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6AF6577-DC33-419A-B954-5E0C973C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C61ED0-847C-4AAA-9C8C-787D2D29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787BE66-89FB-4189-9EA8-6730CEB5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30AD6-80DD-4DF0-B0CA-EE6A4848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BE070C1-AEEB-44C5-9CF5-D4D616A9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A7770D4-D64F-4097-9C74-D7CE6A15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DA0016-4242-4B4E-962A-93F73A8F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F41E6C2-385C-4DBC-9F72-CF40DE6D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231CECF-E53A-48C8-B038-246D9B7A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85CE2A9-810C-475E-A18C-14C28CBD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A3BFB1-54DA-4185-B989-5E0FF2BD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AC03F59-C5E2-4685-A74B-396D1501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CD3E99-C0E0-4258-8A37-28BEF967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6089F4-2954-4AE2-B183-ADFF08B6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2738-42B6-4644-83F0-6169ABF9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F3BDF93-6061-4C52-ADDB-1210FF9D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FE5793-9730-4753-822B-C948B730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5051CD-47F1-40E2-8EC3-D16E03E8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46EDD-4F8D-40EB-8023-6B2370BE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B9851-41C2-41EC-9846-17EAE98F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2FA62-C704-4C7F-B86A-F35C4EF2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FC5FC-C801-4841-8246-72089CF3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F1068-C37B-41F9-A86A-44BDEF6C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CFF50-9631-4F46-8469-B87FAF8A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A96-86CD-4770-AE3F-159D1C77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6432E-FF4D-4973-BCE6-47EB4D8B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6F993-AB87-400B-A6DA-6E8CE6ED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0C199-7FF7-4EB3-84F6-22E0F135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0B18A-4A5F-4AEB-831A-5950BCEE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AAC65-BAD3-42A8-8F82-D41F770B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621D1-006B-44B7-9145-85AD8375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6EFB5-8CE7-4D24-B1F9-EB50A174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05688-0E51-4959-BBC5-88A85FA5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95B28-69CC-4F6C-82EC-E6FB72FA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263A8-17A2-4E27-9B07-3ECDA78C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7009-11BC-4B0C-927D-51A9B77F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37D23-C5C7-49DD-80DF-FEE8BEA6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F2160-3C8D-419F-B1B5-33D97A00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B3B1A-C7B8-4F41-A048-B63D5326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7FCF1-5250-4D32-91D5-1E0D924D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D7AA8-4789-417E-A174-BBF2B145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75833-73C4-477D-9E69-777B933E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D91A2-262F-4F6B-9613-98E24E6F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BFBB6-A2FA-4E85-8655-4D6B57BF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8C5CF-F425-4110-959E-53BA5C87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9E756-833A-4D28-9A69-58788475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90BD-5C32-4C97-8EAE-9E6B81DA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FCA1F-5DC0-49BB-AF3A-BFE599DE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AF51C-C99A-4AB9-96FC-9097D39A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1CDE9-AAD1-4D19-94F2-3A40F5D6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8E3C9-6EFF-448C-9465-6E653F3E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4FA5B-3147-4750-9031-F7843745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FA73B-0877-45C4-9964-C20809E0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5E5D9-BC04-4D3E-9757-872D0D06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E4B48-05A3-4010-A7EF-03D8598D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65314-1D06-493C-BCCE-D92EB439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0F297-33F5-4F12-AEE6-7F48BEC6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553F-9E54-4006-B9AD-54F11D89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B3DE6-1E69-4DFD-8729-03DAEC35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6B3BA-5FC9-42AC-9071-054D3413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CAA12-6D2C-490B-A77D-6C27BE81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3B242-D3A6-41DF-87D5-8BE5AA36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2ED7F-4E86-49B3-89F4-25597BF7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7636C-7B14-40DB-9F4B-AC0A140B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11FF6-BD93-4371-AB95-3B11BBEB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E915A-400A-495D-B001-8EE8AB52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02F9A-A2E7-4AAF-AE22-00FFD6FB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60232-E526-464C-B459-FFBF343B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CEE-8AD8-4FDF-BA56-B23C0421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1DF4E-1299-44C4-8E30-A7F8990D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42EDD-F606-4CAA-AA0E-7AE5BC30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75CC5-B2FF-467A-935D-74771B7D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89DF4-3719-4FB7-9705-3EA170F1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88BE4-1AC2-464C-881B-24CC9475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DA8A9-191B-488A-A2C0-F1C3EFA3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2E779-8617-4395-8C6A-A7DD87B4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68E01-4D04-43C3-9CD2-C867D436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0D4BE-B799-455E-9A17-257B1C17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3148C-49D5-446A-8996-487BCEBC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A004-31DB-4A13-807D-56D094BD42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0F78-B699-43B7-9E30-398F59D49A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5746-3595-4BDA-89D7-FDCF79BCD5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41DD-417F-4ECF-8FB6-B96A90567D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3220-2658-49B4-A6BB-C11E3B4EA7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8D56-404B-4AD4-89BF-7DC16A9363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F052-1F1A-4A74-BFBD-C85671B0AA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396B-5B01-484C-AB9E-C894DFD437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EA74-FE13-4F2C-AEFE-D1D13F7558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850D-1099-4A61-992E-1049D1460D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2785-894E-4876-8778-DB0B08F7D9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0E30-6FF6-4AA0-9B9A-9CCBD32FA4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D01E-B317-4188-8191-DF877FB55B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B559-4ACD-4F49-9750-4F36F0E898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C5E2-9424-4838-BA40-596533D12B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72BA-C64A-4613-8FAE-37A28E1558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0316-B7EF-4A7C-9B8D-9983D6EF33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6ACE-7D58-4C7E-8AFC-C3CA8C2A29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0343-CA15-427B-8289-16D0B7BDDA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5C3D-FD6B-4C17-8895-E90A79AE20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66E4-BE94-4E5C-92BF-F339CDEE03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448D-13FA-4C39-9D8F-666851E78B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E0DD-1053-4F87-A074-E4DF684DBB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C956-9391-45EE-8D65-2550E7C2CE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7079-0E47-4831-A037-15D5A4922D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F052-3CB1-4BD9-A6BD-13BEC5EF31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C5B5-E679-4942-B69E-BF7667FC9E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D69D-6B7E-4602-91C3-D5A41FFD6A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BBE3-9FD4-4CDD-87F4-AE3CF8FFB1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FEBE-832C-425B-AB09-02DFDFFE95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A3B5-3977-48E3-B339-46B6458701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1BBE-B7D6-4E8A-95BB-83D5932E43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B704-A8DE-4232-9190-4F613058A8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4CEE-CF45-47F4-ABC8-F7091C1BF8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799C-2EF0-41AE-AE8D-8C67FE1D05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F23E-FCFD-49F3-A075-4578995242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0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 бюджетное дошкольное 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образования «город Бугуруслан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етский сад общеразвивающего вида № 23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 приоритетным осуществлением физического развития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ник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астер-клас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Monotype Corsiva"/>
                <a:ea typeface="Times New Roman"/>
              </a:rPr>
              <a:t>«Ознакомление  детей с художественной  литературой    с использованием  социо-игровых технолог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Box 10"/>
          <p:cNvSpPr/>
          <p:nvPr/>
        </p:nvSpPr>
        <p:spPr>
          <a:xfrm>
            <a:off x="5181480" y="495288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онтьева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Box 11"/>
          <p:cNvSpPr/>
          <p:nvPr/>
        </p:nvSpPr>
        <p:spPr>
          <a:xfrm>
            <a:off x="2590920" y="624852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гуруслан, 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3106160" y="-5432040"/>
            <a:ext cx="759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533880" y="22896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7. Просмотр  мультфильма  по басне  И.А. Кры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«Стрекоза и Мурав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9" name="Picture 3" descr="C:\Users\оля\Desktop\Мастер-класс\Стрекоза-и-муравей.jpg"/>
          <p:cNvPicPr/>
          <p:nvPr/>
        </p:nvPicPr>
        <p:blipFill>
          <a:blip r:embed="rId2"/>
          <a:stretch/>
        </p:blipFill>
        <p:spPr>
          <a:xfrm>
            <a:off x="1944720" y="2646360"/>
            <a:ext cx="5261040" cy="36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3106160" y="-535572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914400" y="167688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  <a:ea typeface="Calibri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  <a:ea typeface="Calibri"/>
              </a:rPr>
              <a:t>за внимание 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етодика  В. М. Бука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 type="subTitle"/>
          </p:nvPr>
        </p:nvSpPr>
        <p:spPr>
          <a:xfrm>
            <a:off x="914400" y="266652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малыми групп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Знакомство  с  басней  И. А.Крылова «Стрекоза и Муравей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491" name="Picture 5" descr=""/>
          <p:cNvPicPr/>
          <p:nvPr/>
        </p:nvPicPr>
        <p:blipFill>
          <a:blip r:embed="rId2"/>
          <a:stretch/>
        </p:blipFill>
        <p:spPr>
          <a:xfrm>
            <a:off x="384120" y="1676520"/>
            <a:ext cx="4267080" cy="5029200"/>
          </a:xfrm>
          <a:prstGeom prst="rect">
            <a:avLst/>
          </a:prstGeom>
          <a:ln w="0">
            <a:noFill/>
          </a:ln>
        </p:spPr>
      </p:pic>
      <p:pic>
        <p:nvPicPr>
          <p:cNvPr id="1492" name="Picture 6" descr=""/>
          <p:cNvPicPr/>
          <p:nvPr/>
        </p:nvPicPr>
        <p:blipFill>
          <a:blip r:embed="rId3"/>
          <a:stretch/>
        </p:blipFill>
        <p:spPr>
          <a:xfrm>
            <a:off x="4495680" y="2209680"/>
            <a:ext cx="3276720" cy="4343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93" name="Picture 3" descr=""/>
          <p:cNvPicPr/>
          <p:nvPr/>
        </p:nvPicPr>
        <p:blipFill>
          <a:blip r:embed="rId4"/>
          <a:stretch/>
        </p:blipFill>
        <p:spPr>
          <a:xfrm>
            <a:off x="644400" y="4800600"/>
            <a:ext cx="2784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Определите черты характера  главных геро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коза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а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а для справок: легкомысленность, беззаботность, справедливость, усердие, лень, жадность, беспечность, несерьёзность, бесшабашность, веселье, грациозность, запасливость, доброта, безжалостность,  жизнерадостность, глупость, чёрствость, весёлость, трудолюб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с пословицами.</a:t>
            </a:r>
            <a:br>
              <a:rPr sz="3600"/>
            </a:br>
            <a:br>
              <a:rPr sz="3600"/>
            </a:br>
            <a:br>
              <a:rPr sz="1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60984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з пословиц можно отнести к Стрекозе? А какие пословицы можно отнести к Муравью? Объясните их значен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сеешь, то и пожнё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 прохлопали, осень протопали, а тут и снег на голов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 — время, а потехе — час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 пролетишь — зимой с сумой побежиш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ляй, гуляй — зато потом не пеня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летом родится, то зимой пригодитс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л дело — гуляй смел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«Загадочные животны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ubTitle"/>
          </p:nvPr>
        </p:nvSpPr>
        <p:spPr>
          <a:xfrm>
            <a:off x="838080" y="1143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П У Х Е Т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Й Е В А Р У 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Ё С О Л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Л С О Н  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Ц И С И Л  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Л Ё З О К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В О 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Р Т О К Е З С                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Ш К А М  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А Р  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Н О Р О В  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У Щ 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«В мире крылатых  выражений»  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объяснить значение с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ubTitle"/>
          </p:nvPr>
        </p:nvSpPr>
        <p:spPr>
          <a:xfrm>
            <a:off x="762480" y="167688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зима катит в глаза» 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мертвело чисто поле 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лой тоской удручена…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лянуться не успела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олову вскружило…»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мягких муравах у нас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кому же в ум пойдет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до вешних только дней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6629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 Решите  ребу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4" name="Picture 2" descr="C:\Users\оля\Desktop\Мастер-класс\ребус.jpg"/>
          <p:cNvPicPr/>
          <p:nvPr/>
        </p:nvPicPr>
        <p:blipFill>
          <a:blip r:embed="rId2"/>
          <a:stretch/>
        </p:blipFill>
        <p:spPr>
          <a:xfrm>
            <a:off x="609480" y="1371600"/>
            <a:ext cx="7242120" cy="51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3106160" y="-535572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914400" y="167688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6. Пантом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(обыграть  эпизод  басни  по роля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я</dc:creator>
  <dc:description/>
  <dc:language>en-US</dc:language>
  <cp:lastModifiedBy>Windows User</cp:lastModifiedBy>
  <dcterms:modified xsi:type="dcterms:W3CDTF">2021-03-19T11:00:06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