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A99-E24A-425B-A69B-E566B29A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D6B-2B82-4FF1-AB7A-929BE58D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981-1568-4087-9EA0-140B923E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591-F350-4D69-A198-6ACE9B8B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EB9-8052-4198-9E2A-F1494D85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45D-31AC-4DA0-91EA-63F6ED41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51A-F044-4035-A484-345F532D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6E9-2D8C-477D-8C34-E46C649B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D86-EF0F-435E-8189-B3732684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5AB-353A-49F5-BF8B-76E88477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119-7DF8-42DB-BF7C-BF1FE4D9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3C5-2591-4EA8-9AB3-EA4EE5CA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12B2-9442-4E50-93B6-B9B1FE4E5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Как нарисовать сакуру, как нарисовать цветы вишни"/>
          <p:cNvPicPr/>
          <p:nvPr/>
        </p:nvPicPr>
        <p:blipFill>
          <a:blip r:embed="rId1"/>
          <a:stretch/>
        </p:blipFill>
        <p:spPr>
          <a:xfrm>
            <a:off x="1133640" y="1432080"/>
            <a:ext cx="6887880" cy="6784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49400" y="47628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10f97"/>
                </a:solidFill>
                <a:latin typeface="Arial"/>
              </a:rPr>
              <a:t>Рисуем цветущую веточку  виш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692640" y="190080"/>
            <a:ext cx="69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Вот такая должна получиться ветка   ви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Как нарисовать сакуру, как нарисовать цветы вишни"/>
          <p:cNvPicPr/>
          <p:nvPr/>
        </p:nvPicPr>
        <p:blipFill>
          <a:blip r:embed="rId1"/>
          <a:srcRect l="0" t="9562" r="0" b="0"/>
          <a:stretch/>
        </p:blipFill>
        <p:spPr>
          <a:xfrm>
            <a:off x="690480" y="981000"/>
            <a:ext cx="7967880" cy="540072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ttps://i.artfile.me/wallpaper/23-12-2012/3600x3075/cvety-sakura-vishnya-vetka-691490.jpg"/>
          <p:cNvPicPr/>
          <p:nvPr/>
        </p:nvPicPr>
        <p:blipFill>
          <a:blip r:embed="rId1"/>
          <a:srcRect l="0" t="0" r="0" b="12600"/>
          <a:stretch/>
        </p:blipFill>
        <p:spPr>
          <a:xfrm>
            <a:off x="395280" y="404640"/>
            <a:ext cx="8431200" cy="6293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539640" y="547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Весной необыкновенно красиво цветут плодовые дере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Сегодня мы будем рисовать цветущую веточку вишни. Они цветут розовыми или белыми цв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s://avatars.mds.yandex.net/get-pdb/1394998/55f08a3e-9e0c-4625-abff-60de9f1ac138/s1200?webp=false"/>
          <p:cNvPicPr/>
          <p:nvPr/>
        </p:nvPicPr>
        <p:blipFill>
          <a:blip r:embed="rId1"/>
          <a:stretch/>
        </p:blipFill>
        <p:spPr>
          <a:xfrm>
            <a:off x="536400" y="3068640"/>
            <a:ext cx="3195720" cy="347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s://million-wallpapers.ru/wallpapers/3/7/16079593663944919692/sakura-rozovye-vesna-cvety-vishnya-lepestki-vetka.jpg"/>
          <p:cNvPicPr/>
          <p:nvPr/>
        </p:nvPicPr>
        <p:blipFill>
          <a:blip r:embed="rId2"/>
          <a:stretch/>
        </p:blipFill>
        <p:spPr>
          <a:xfrm>
            <a:off x="4265640" y="2371680"/>
            <a:ext cx="4554360" cy="302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га\Desktop\временная\1422.jpg"/>
          <p:cNvPicPr/>
          <p:nvPr/>
        </p:nvPicPr>
        <p:blipFill>
          <a:blip r:embed="rId1"/>
          <a:stretch/>
        </p:blipFill>
        <p:spPr>
          <a:xfrm>
            <a:off x="231840" y="450720"/>
            <a:ext cx="8759880" cy="581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95280" y="18900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нимательно посмотрите на изображение вишневой веточки, определитесь где и что нахо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исование мы начнем с центрового самого большого цветка, для этого сначала рисуем два нижних лепестка, потом оставшиеся лепестки. В середине цветка вишни рисуем кружочек, внутри него много кружочков, потом рисуем тыч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Как нарисовать сакуру, как нарисовать цветы вишни"/>
          <p:cNvPicPr/>
          <p:nvPr/>
        </p:nvPicPr>
        <p:blipFill>
          <a:blip r:embed="rId1"/>
          <a:srcRect l="0" t="7559" r="0" b="0"/>
          <a:stretch/>
        </p:blipFill>
        <p:spPr>
          <a:xfrm>
            <a:off x="1908000" y="2852640"/>
            <a:ext cx="5183280" cy="359100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324000" y="3794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Рисуем сверху нарисованного цветка  вишни два чуть-чуть раскрывшихся бу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На следующем слайде  показаны этапы рисования такого бутона. Все бутоны рисуются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Как нарисовать сакуру, как нарисовать цветы вишни"/>
          <p:cNvPicPr/>
          <p:nvPr/>
        </p:nvPicPr>
        <p:blipFill>
          <a:blip r:embed="rId1"/>
          <a:srcRect l="0" t="7269" r="0" b="0"/>
          <a:stretch/>
        </p:blipFill>
        <p:spPr>
          <a:xfrm>
            <a:off x="1835280" y="2279520"/>
            <a:ext cx="6100560" cy="423864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Как нарисовать сакуру, как нарисовать цветы вишни"/>
          <p:cNvPicPr/>
          <p:nvPr/>
        </p:nvPicPr>
        <p:blipFill>
          <a:blip r:embed="rId1"/>
          <a:srcRect l="0" t="9058" r="0" b="0"/>
          <a:stretch/>
        </p:blipFill>
        <p:spPr>
          <a:xfrm>
            <a:off x="611280" y="404640"/>
            <a:ext cx="8346960" cy="5688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Как нарисовать сакуру, как нарисовать цветы вишни"/>
          <p:cNvPicPr/>
          <p:nvPr/>
        </p:nvPicPr>
        <p:blipFill>
          <a:blip r:embed="rId2"/>
          <a:srcRect l="0" t="3943" r="37456" b="0"/>
          <a:stretch/>
        </p:blipFill>
        <p:spPr>
          <a:xfrm>
            <a:off x="1135080" y="260280"/>
            <a:ext cx="469116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273680" y="304200"/>
            <a:ext cx="57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Times New Roman"/>
              </a:rPr>
              <a:t>Рисуем два боковых цветка   ви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Как нарисовать сакуру, как нарисовать цветы вишни"/>
          <p:cNvPicPr/>
          <p:nvPr/>
        </p:nvPicPr>
        <p:blipFill>
          <a:blip r:embed="rId1"/>
          <a:srcRect l="0" t="0" r="36058" b="0"/>
          <a:stretch/>
        </p:blipFill>
        <p:spPr>
          <a:xfrm>
            <a:off x="900000" y="1022400"/>
            <a:ext cx="4608720" cy="5402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Как нарисовать сакуру, как нарисовать цветы вишни"/>
          <p:cNvPicPr/>
          <p:nvPr/>
        </p:nvPicPr>
        <p:blipFill>
          <a:blip r:embed="rId2"/>
          <a:srcRect l="0" t="10670" r="-6898" b="0"/>
          <a:stretch/>
        </p:blipFill>
        <p:spPr>
          <a:xfrm>
            <a:off x="900000" y="1628640"/>
            <a:ext cx="7704360" cy="4826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796680" y="2757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3c3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Теперь рисуем саму ветку и бутончики на в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6" descr="Как нарисовать сакуру, как нарисовать цветы вишни"/>
          <p:cNvPicPr/>
          <p:nvPr/>
        </p:nvPicPr>
        <p:blipFill>
          <a:blip r:embed="rId1"/>
          <a:stretch/>
        </p:blipFill>
        <p:spPr>
          <a:xfrm>
            <a:off x="1476360" y="1182600"/>
            <a:ext cx="6923160" cy="518976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971720" y="47736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Рисуем оставшиеся цветки   ви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Как нарисовать сакуру, как нарисовать цветы вишни"/>
          <p:cNvPicPr/>
          <p:nvPr/>
        </p:nvPicPr>
        <p:blipFill>
          <a:blip r:embed="rId1"/>
          <a:srcRect l="0" t="10469" r="0" b="14979"/>
          <a:stretch/>
        </p:blipFill>
        <p:spPr>
          <a:xfrm>
            <a:off x="684360" y="1628640"/>
            <a:ext cx="8245440" cy="460872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04:07:54Z</dcterms:created>
  <dc:creator>Еленга Берюхова</dc:creator>
  <dc:description/>
  <dc:language>en-US</dc:language>
  <cp:lastModifiedBy>Ирина</cp:lastModifiedBy>
  <dcterms:modified xsi:type="dcterms:W3CDTF">2020-05-04T07:58:20Z</dcterms:modified>
  <cp:revision>14</cp:revision>
  <dc:subject/>
  <dc:title>Слайд 1</dc:title>
</cp:coreProperties>
</file>