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75B-47E7-4F51-A0F7-6B79E5A9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C74-4318-40C7-BDC0-8FBE4FE4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850-D9BF-41CC-8C8E-AF19D8C9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E6A-0B49-487D-B443-E8EAC39A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0BB-F128-40BE-9D7F-E506D449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EB4-5862-4CC5-832E-E67DD3D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D11-5AC6-4106-9502-C0EF331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F78-BD9F-47D5-B0E1-4C67106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45C-B7CC-44E1-A4AA-6B20DD07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C15-4A8C-4463-9336-A03141A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3C5-C67D-493F-91C4-C7EDF50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EB4-CCDF-4031-A938-BD36EF9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C26-E40D-4392-9A73-3989748EA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shcola-8vida.edusite.ru/p168aa1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4" descr="дневник-открытый-23289001.jpg"/>
          <p:cNvPicPr/>
          <p:nvPr/>
        </p:nvPicPr>
        <p:blipFill>
          <a:blip r:embed="rId1"/>
          <a:srcRect l="5646" t="6812" r="4697" b="11143"/>
          <a:stretch/>
        </p:blipFill>
        <p:spPr>
          <a:xfrm>
            <a:off x="0" y="1571760"/>
            <a:ext cx="6858000" cy="678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D:\ШКОЛА\15-16\юбилей школы 45\юбилей 45\Юбилей 45 (летопись\p57_img_20150915_122205.jpg"/>
          <p:cNvPicPr/>
          <p:nvPr/>
        </p:nvPicPr>
        <p:blipFill>
          <a:blip r:embed="rId2"/>
          <a:srcRect l="6272" t="4155" r="2900" b="8461"/>
          <a:stretch/>
        </p:blipFill>
        <p:spPr>
          <a:xfrm>
            <a:off x="4929120" y="142920"/>
            <a:ext cx="18226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38577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  казенное  общеобразовательно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реждение   «Богородская школа №8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1285920" y="8143920"/>
            <a:ext cx="464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адрес: Нижегородская обл., г.Богородс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алова, д.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8-831-70-23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shcola-8vida.edusite.ru/p168a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00040" y="2214720"/>
            <a:ext cx="2643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 РМЦ  является консультативно-методическое сопровождение деятельности  педагогических работников  общеобразовательных организаций  г. Богородска и Богородского района, их консультирование по актуальным вопросам коррекционной педагогики, построение сети методической, консультативной, информационной поддержки образовательных учреждений по вопросам в обла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, коррекции, воспитания и социальной адаптац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, интеллектуальными нарушениями, ТМНР,  РАС и детей-инвалид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28760" y="5857920"/>
            <a:ext cx="27144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Ресурсного методического центра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т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онно-метод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сульт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71920" y="2214720"/>
          <a:ext cx="2714760" cy="535752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</a:tblGrid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РМ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17179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- психолог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– логоп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педагогам ОО в рамках психолого - педагогического сопровождения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286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профессионально трудового обуч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о - ма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в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дство, декоративно-прикладное садовод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ОО в рамках изучаемого профиля трудов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25" descr="C:\Users\1\Desktop\эмблема ГКОУ.jpg"/>
          <p:cNvPicPr/>
          <p:nvPr/>
        </p:nvPicPr>
        <p:blipFill>
          <a:blip r:embed="rId4"/>
          <a:srcRect l="0" t="0" r="0" b="3816"/>
          <a:stretch/>
        </p:blipFill>
        <p:spPr>
          <a:xfrm>
            <a:off x="71280" y="142920"/>
            <a:ext cx="14050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1214280" y="71424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сурсный методический цен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0:42:47Z</dcterms:created>
  <dc:creator>1</dc:creator>
  <dc:description/>
  <dc:language>en-US</dc:language>
  <cp:lastModifiedBy>1</cp:lastModifiedBy>
  <dcterms:modified xsi:type="dcterms:W3CDTF">2021-03-26T05:59:14Z</dcterms:modified>
  <cp:revision>12</cp:revision>
  <dc:subject/>
  <dc:title>Государственное казенное образовательное учреждение «Богородская школа №8»</dc:title>
</cp:coreProperties>
</file>