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155F-4D11-4142-8CBD-C6D83D3BD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5C3B-3250-42B7-886D-8FDABDEA0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4903-D123-4E15-A6F1-E82D3EBB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B00B-B09A-4930-96BD-CC6BFDEDD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BF9-38F9-45C4-B2A3-60C8055A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688-820C-4DBA-96E0-EFAAFEA86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14B1-59D4-40A9-AD85-CA288984E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59EB-7C45-409B-8AA7-1E0C2FA4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837A-53BE-4545-AC27-4A9CBF5D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53D0-924B-47FA-8404-70557C1C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1DE4-5AA8-4737-9D34-A3F89CA5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E24-E43E-44C9-B988-AF313022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5C0A2-F1A4-4D2B-A57C-D7B0BA5763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s://shcola-8vida.edusite.ru/p168aa1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4" descr="дневник-открытый-23289001.jpg"/>
          <p:cNvPicPr/>
          <p:nvPr/>
        </p:nvPicPr>
        <p:blipFill>
          <a:blip r:embed="rId1"/>
          <a:srcRect l="5646" t="6812" r="4697" b="11143"/>
          <a:stretch/>
        </p:blipFill>
        <p:spPr>
          <a:xfrm>
            <a:off x="0" y="1571760"/>
            <a:ext cx="6858000" cy="6786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D:\ШКОЛА\15-16\юбилей школы 45\юбилей 45\Юбилей 45 (летопись\p57_img_20150915_122205.jpg"/>
          <p:cNvPicPr/>
          <p:nvPr/>
        </p:nvPicPr>
        <p:blipFill>
          <a:blip r:embed="rId2"/>
          <a:srcRect l="6272" t="4155" r="2900" b="8461"/>
          <a:stretch/>
        </p:blipFill>
        <p:spPr>
          <a:xfrm>
            <a:off x="4929120" y="142920"/>
            <a:ext cx="1822680" cy="138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4280" y="142920"/>
            <a:ext cx="38577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  казенное  общеобразовательно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чреждение   «Богородская школа №8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1285920" y="8143920"/>
            <a:ext cx="4643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адрес: Нижегородская обл., г.Богородск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. Салова, д.1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8-831-70-231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s://shcola-8vida.edusite.ru/p168aa1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0"/>
          <p:cNvSpPr/>
          <p:nvPr/>
        </p:nvSpPr>
        <p:spPr>
          <a:xfrm>
            <a:off x="500040" y="2214720"/>
            <a:ext cx="26431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ой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ятельности  РМЦ  является консультативно-методическое сопровождение деятельности  педагогических работников  общеобразовательных организаций  г. Богородска и Богородского района, их консультирование по актуальным вопросам коррекционной педагогики, построение сети методической, консультативной, информационной поддержки образовательных учреждений по вопросам в обла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, коррекции, воспитания и социальной адаптац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й с ОВЗ, интеллектуальными нарушениями, ТМНР,  РАС и детей-инвалид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1"/>
          <p:cNvSpPr/>
          <p:nvPr/>
        </p:nvSpPr>
        <p:spPr>
          <a:xfrm>
            <a:off x="428760" y="5857920"/>
            <a:ext cx="27144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</a:t>
            </a:r>
            <a:r>
              <a:rPr b="1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 Ресурсного методического центра 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налитическ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нформационн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рганизационно-методическ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Консультационная деятельность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3571920" y="2214720"/>
          <a:ext cx="2714760" cy="5357520"/>
        </p:xfrm>
        <a:graphic>
          <a:graphicData uri="http://schemas.openxmlformats.org/drawingml/2006/table">
            <a:tbl>
              <a:tblPr/>
              <a:tblGrid>
                <a:gridCol w="1285920"/>
                <a:gridCol w="1428840"/>
              </a:tblGrid>
              <a:tr h="409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РМ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>
                      <a:noFill/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ия рабо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17179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ь-дефектолог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- психологи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– логопеды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й педаго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 методической помощи педагогам ОО в рамках психолого - педагогического сопровождения обучающихс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36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ориент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 w="5760">
                      <a:solidFill>
                        <a:srgbClr val="b9cde5"/>
                      </a:solidFill>
                    </a:lnB>
                    <a:noFill/>
                  </a:tcPr>
                </a:tc>
              </a:tr>
              <a:tr h="2867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еля профессионально трудового обучения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вей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ляр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атурно - маляр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вное дело;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оводство, декоративно-прикладное садовод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b9cde5"/>
                      </a:solidFill>
                    </a:lnR>
                    <a:lnT w="5760">
                      <a:solidFill>
                        <a:srgbClr val="b9cde5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азание  методической помощи ОО в рамках изучаемого профиля трудового обу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b9cde5"/>
                      </a:solidFill>
                    </a:lnL>
                    <a:lnR>
                      <a:noFill/>
                    </a:lnR>
                    <a:lnT w="5760">
                      <a:solidFill>
                        <a:srgbClr val="b9cde5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8" name="Picture 25" descr="C:\Users\1\Desktop\эмблема ГКОУ.jpg"/>
          <p:cNvPicPr/>
          <p:nvPr/>
        </p:nvPicPr>
        <p:blipFill>
          <a:blip r:embed="rId4"/>
          <a:srcRect l="0" t="0" r="0" b="3816"/>
          <a:stretch/>
        </p:blipFill>
        <p:spPr>
          <a:xfrm>
            <a:off x="71280" y="142920"/>
            <a:ext cx="140508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10"/>
          <p:cNvSpPr/>
          <p:nvPr/>
        </p:nvSpPr>
        <p:spPr>
          <a:xfrm>
            <a:off x="1214280" y="714240"/>
            <a:ext cx="364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сурсный методический цен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0:42:47Z</dcterms:created>
  <dc:creator>1</dc:creator>
  <dc:description/>
  <dc:language>en-US</dc:language>
  <cp:lastModifiedBy>1</cp:lastModifiedBy>
  <dcterms:modified xsi:type="dcterms:W3CDTF">2021-03-26T05:59:14Z</dcterms:modified>
  <cp:revision>12</cp:revision>
  <dc:subject/>
  <dc:title>Государственное казенное образовательное учреждение «Богородская школа №8»</dc:title>
</cp:coreProperties>
</file>