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A45-02C8-45E7-A099-0A5DB5DB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83C-5DB2-4CE3-9A0A-13C50A98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4E0-B3C3-47EB-965F-2D2AEE51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BDC-8D71-41E0-9E5C-E3BF369C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DFA-DF22-46C8-AF8B-E006E1E3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B90-B650-4690-8E4F-6335E21F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FE1-F9BC-44A1-9306-073E65FC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8BC-4784-4887-9A2B-1D8F4CE3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742-368B-4DB7-AAEB-C706A578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CF8-52C3-4F10-9422-3FE8147F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3FE-E6F3-4245-96E5-51E8F62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A5D-6DD7-4CE9-AD1D-6BCB8535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E6A2-43E4-4D94-9371-24F416E65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9080"/>
            <a:ext cx="8320320" cy="1449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s://ped-kopilka.ru/upload/blogs2/2018/3/57964_9fffc198536c8273b6ff4d1d2ae852df.jpg.jpg"/>
          <p:cNvPicPr/>
          <p:nvPr/>
        </p:nvPicPr>
        <p:blipFill>
          <a:blip r:embed="rId2"/>
          <a:stretch/>
        </p:blipFill>
        <p:spPr>
          <a:xfrm>
            <a:off x="2644920" y="1484280"/>
            <a:ext cx="3836880" cy="5113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68360" y="189000"/>
            <a:ext cx="158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. На боковой нижней ветке рисуем вторую птицу. Дорисовываем почки на ветках кустар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ped-kopilka.ru/upload/blogs2/2018/3/57964_981c5dd381b4c17bdf52f4d7998bf02d.jpg.jpg"/>
          <p:cNvPicPr/>
          <p:nvPr/>
        </p:nvPicPr>
        <p:blipFill>
          <a:blip r:embed="rId1"/>
          <a:stretch/>
        </p:blipFill>
        <p:spPr>
          <a:xfrm>
            <a:off x="2160720" y="189000"/>
            <a:ext cx="6783120" cy="6264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95120" y="333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ш весенний пейзаж го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s://ped-kopilka.ru/upload/blogs2/2018/3/57964_9fffc198536c8273b6ff4d1d2ae852df.jpg.jpg"/>
          <p:cNvPicPr/>
          <p:nvPr/>
        </p:nvPicPr>
        <p:blipFill>
          <a:blip r:embed="rId1"/>
          <a:srcRect l="3311" t="0" r="0" b="0"/>
          <a:stretch/>
        </p:blipFill>
        <p:spPr>
          <a:xfrm>
            <a:off x="4211640" y="260280"/>
            <a:ext cx="4597560" cy="6337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ped-kopilka.ru/upload/blogs2/2018/3/57964_f6bc3b3235bfa6f1a30760b2aa9ac149.jpg.jpg"/>
          <p:cNvPicPr/>
          <p:nvPr/>
        </p:nvPicPr>
        <p:blipFill>
          <a:blip r:embed="rId1"/>
          <a:stretch/>
        </p:blipFill>
        <p:spPr>
          <a:xfrm>
            <a:off x="2411280" y="404640"/>
            <a:ext cx="4597560" cy="61264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63360" y="-136440"/>
            <a:ext cx="2571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ELENA\Desktop\я\16-03-2020_12-48-18\Screenshot_20200316-124215.jpg"/>
          <p:cNvPicPr/>
          <p:nvPr/>
        </p:nvPicPr>
        <p:blipFill>
          <a:blip r:embed="rId1"/>
          <a:stretch/>
        </p:blipFill>
        <p:spPr>
          <a:xfrm>
            <a:off x="250920" y="333360"/>
            <a:ext cx="3668760" cy="4967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Picture 5" descr="C:\Users\ELENA\Desktop\я\16-03-2020_12-48-18\Screenshot_20200316-124149.jpg"/>
          <p:cNvPicPr/>
          <p:nvPr/>
        </p:nvPicPr>
        <p:blipFill>
          <a:blip r:embed="rId2"/>
          <a:stretch/>
        </p:blipFill>
        <p:spPr>
          <a:xfrm>
            <a:off x="5224320" y="260280"/>
            <a:ext cx="3719520" cy="5184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4" name="Picture 4" descr="C:\Users\ELENA\Desktop\я\16-03-2020_12-48-18\Screenshot_20200316-124202.jpg"/>
          <p:cNvPicPr/>
          <p:nvPr/>
        </p:nvPicPr>
        <p:blipFill>
          <a:blip r:embed="rId3"/>
          <a:stretch/>
        </p:blipFill>
        <p:spPr>
          <a:xfrm>
            <a:off x="3132000" y="3933720"/>
            <a:ext cx="2355840" cy="2735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Смачиваем половину листа бумаги водой, чтобы быстро не высыхала. В правом верхнем углу закрашиваем маленькую четверть круга белой гуашью. Это будет диск солнца. Продолжаем рисовать дугу жёлтой краской, делая плавный переход между белой и желтой линией, размывая водой и белой гуа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ped-kopilka.ru/upload/blogs2/2018/3/57964_181829e4bb8aef762d5911f22d0fb319.jpg.jpg"/>
          <p:cNvPicPr/>
          <p:nvPr/>
        </p:nvPicPr>
        <p:blipFill>
          <a:blip r:embed="rId1"/>
          <a:stretch/>
        </p:blipFill>
        <p:spPr>
          <a:xfrm>
            <a:off x="1042920" y="1773360"/>
            <a:ext cx="6496200" cy="4859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ped-kopilka.ru/upload/blogs2/2018/3/57964_9f7d3256872aea6ed6de74c819e2d34d.jpg.jpg"/>
          <p:cNvPicPr/>
          <p:nvPr/>
        </p:nvPicPr>
        <p:blipFill>
          <a:blip r:embed="rId1"/>
          <a:stretch/>
        </p:blipFill>
        <p:spPr>
          <a:xfrm>
            <a:off x="1116000" y="333360"/>
            <a:ext cx="7680240" cy="6191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24000" y="26028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Добавляем линии оранжевой и красной краски, немного размывая водой. Следующая четверть круга – малиновая краска. На край малиновой краски вливаем немного сиреневой или фиолетовой краски. Заканчиваем рисовать диск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ped-kopilka.ru/upload/blogs2/2018/3/57964_1ffe592cf39544888c22d280d2ff525a.jpg.jpg"/>
          <p:cNvPicPr/>
          <p:nvPr/>
        </p:nvPicPr>
        <p:blipFill>
          <a:blip r:embed="rId1"/>
          <a:stretch/>
        </p:blipFill>
        <p:spPr>
          <a:xfrm>
            <a:off x="4140360" y="260280"/>
            <a:ext cx="4741560" cy="631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8360" y="189000"/>
            <a:ext cx="266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Смачиваем вторую половину листа водой. Далее рисуем фон неба синей, тёмно-синей и фиолетовой краской. Точно также, плавно закругляя линии, рисуем дуги под солнцем. Делаем плавные переходы краски, размывая водой и белой гуа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s://ped-kopilka.ru/upload/blogs2/2018/3/57964_7375e093a00c35d2e522d52c87369687.jpg.jpg"/>
          <p:cNvPicPr/>
          <p:nvPr/>
        </p:nvPicPr>
        <p:blipFill>
          <a:blip r:embed="rId1"/>
          <a:stretch/>
        </p:blipFill>
        <p:spPr>
          <a:xfrm>
            <a:off x="4211640" y="254160"/>
            <a:ext cx="4756320" cy="64213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0920" y="333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Рисуем кустарник чёрной акварелью, немного мешая её с тёмно- синей краской. На кустарнике рисуем набухшие п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ped-kopilka.ru/upload/blogs2/2018/3/57964_7ec300ba07914cc0cfddaa87a88776ca.jpg.jpg"/>
          <p:cNvPicPr/>
          <p:nvPr/>
        </p:nvPicPr>
        <p:blipFill>
          <a:blip r:embed="rId1"/>
          <a:stretch/>
        </p:blipFill>
        <p:spPr>
          <a:xfrm>
            <a:off x="4140360" y="212760"/>
            <a:ext cx="4741560" cy="631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ped-kopilka.ru/upload/blogs2/2018/3/57964_1206f6c19e23f508b718f5316878debf.jpg.jpg"/>
          <p:cNvPicPr/>
          <p:nvPr/>
        </p:nvPicPr>
        <p:blipFill>
          <a:blip r:embed="rId1"/>
          <a:stretch/>
        </p:blipFill>
        <p:spPr>
          <a:xfrm>
            <a:off x="4140360" y="333360"/>
            <a:ext cx="4525920" cy="6335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. На ветке, направленной в середину солнца, рисуем птицу. Также смешивая чёрную и синею аквар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ped-kopilka.ru/upload/blogs2/2018/3/57964_1445694881c07b0dd33b323fdf55982f.jpg.jpg"/>
          <p:cNvPicPr/>
          <p:nvPr/>
        </p:nvPicPr>
        <p:blipFill>
          <a:blip r:embed="rId1"/>
          <a:stretch/>
        </p:blipFill>
        <p:spPr>
          <a:xfrm>
            <a:off x="1187280" y="927000"/>
            <a:ext cx="7772400" cy="58262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ped-kopilka.ru/upload/blogs2/2018/3/57964_b1b2bf960cf5f3edd1d6aa4531d4c864.jpg.jpg"/>
          <p:cNvPicPr/>
          <p:nvPr/>
        </p:nvPicPr>
        <p:blipFill>
          <a:blip r:embed="rId1"/>
          <a:stretch/>
        </p:blipFill>
        <p:spPr>
          <a:xfrm>
            <a:off x="2614680" y="260280"/>
            <a:ext cx="4754520" cy="6337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6T09:07:19Z</dcterms:created>
  <dc:creator>ELENA</dc:creator>
  <dc:description/>
  <dc:language>en-US</dc:language>
  <cp:lastModifiedBy>Ирина</cp:lastModifiedBy>
  <dcterms:modified xsi:type="dcterms:W3CDTF">2020-05-14T10:59:00Z</dcterms:modified>
  <cp:revision>6</cp:revision>
  <dc:subject/>
  <dc:title>Слайд 1</dc:title>
</cp:coreProperties>
</file>