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AABC-847E-421C-8A4C-50DB4DE87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F299-7DBD-4291-88AF-316FE12E2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D5B2-F590-4BB7-B893-8E03DBEFF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F9DA-3E67-4395-9725-B7E46C737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694F-8821-473C-9E38-6F8DC8B01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181F-C2EE-4893-AAA7-56EB60228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EE16-176F-46C5-896B-A1F987578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4BCA-1CB1-4023-9CD0-423721582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0050-3A5F-44CD-B862-EEDA5ACDC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C966-B156-4E00-A2E0-12D7F6AF1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6387-17F6-42CE-9E09-5484AE77D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F326-DF37-4848-8DEF-48B6560F6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E5BC5-03B3-4720-9DB9-D29E87D109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4" descr=""/>
          <p:cNvPicPr/>
          <p:nvPr/>
        </p:nvPicPr>
        <p:blipFill>
          <a:blip r:embed="rId1"/>
          <a:stretch/>
        </p:blipFill>
        <p:spPr>
          <a:xfrm>
            <a:off x="426960" y="19080"/>
            <a:ext cx="8320320" cy="14493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https://ped-kopilka.ru/upload/blogs2/2018/3/57964_9fffc198536c8273b6ff4d1d2ae852df.jpg.jpg"/>
          <p:cNvPicPr/>
          <p:nvPr/>
        </p:nvPicPr>
        <p:blipFill>
          <a:blip r:embed="rId2"/>
          <a:stretch/>
        </p:blipFill>
        <p:spPr>
          <a:xfrm>
            <a:off x="2644920" y="1484280"/>
            <a:ext cx="3836880" cy="511344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1"/>
          <p:cNvSpPr/>
          <p:nvPr/>
        </p:nvSpPr>
        <p:spPr>
          <a:xfrm>
            <a:off x="468360" y="189000"/>
            <a:ext cx="1582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6. На боковой нижней ветке рисуем вторую птицу. Дорисовываем почки на ветках кустар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https://ped-kopilka.ru/upload/blogs2/2018/3/57964_981c5dd381b4c17bdf52f4d7998bf02d.jpg.jpg"/>
          <p:cNvPicPr/>
          <p:nvPr/>
        </p:nvPicPr>
        <p:blipFill>
          <a:blip r:embed="rId1"/>
          <a:stretch/>
        </p:blipFill>
        <p:spPr>
          <a:xfrm>
            <a:off x="2160720" y="189000"/>
            <a:ext cx="6783120" cy="626436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1"/>
          <p:cNvSpPr/>
          <p:nvPr/>
        </p:nvSpPr>
        <p:spPr>
          <a:xfrm>
            <a:off x="195120" y="333360"/>
            <a:ext cx="29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Наш весенний пейзаж го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https://ped-kopilka.ru/upload/blogs2/2018/3/57964_9fffc198536c8273b6ff4d1d2ae852df.jpg.jpg"/>
          <p:cNvPicPr/>
          <p:nvPr/>
        </p:nvPicPr>
        <p:blipFill>
          <a:blip r:embed="rId1"/>
          <a:srcRect l="3311" t="0" r="0" b="0"/>
          <a:stretch/>
        </p:blipFill>
        <p:spPr>
          <a:xfrm>
            <a:off x="4211640" y="260280"/>
            <a:ext cx="4597560" cy="633744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https://ped-kopilka.ru/upload/blogs2/2018/3/57964_f6bc3b3235bfa6f1a30760b2aa9ac149.jpg.jpg"/>
          <p:cNvPicPr/>
          <p:nvPr/>
        </p:nvPicPr>
        <p:blipFill>
          <a:blip r:embed="rId1"/>
          <a:stretch/>
        </p:blipFill>
        <p:spPr>
          <a:xfrm>
            <a:off x="2411280" y="404640"/>
            <a:ext cx="4597560" cy="612648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AutoShape 2"/>
          <p:cNvSpPr/>
          <p:nvPr/>
        </p:nvSpPr>
        <p:spPr>
          <a:xfrm>
            <a:off x="63360" y="-136440"/>
            <a:ext cx="25718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C:\Users\ELENA\Desktop\я\16-03-2020_12-48-18\Screenshot_20200316-124215.jpg"/>
          <p:cNvPicPr/>
          <p:nvPr/>
        </p:nvPicPr>
        <p:blipFill>
          <a:blip r:embed="rId1"/>
          <a:stretch/>
        </p:blipFill>
        <p:spPr>
          <a:xfrm>
            <a:off x="250920" y="333360"/>
            <a:ext cx="3668760" cy="496728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63" name="Picture 5" descr="C:\Users\ELENA\Desktop\я\16-03-2020_12-48-18\Screenshot_20200316-124149.jpg"/>
          <p:cNvPicPr/>
          <p:nvPr/>
        </p:nvPicPr>
        <p:blipFill>
          <a:blip r:embed="rId2"/>
          <a:stretch/>
        </p:blipFill>
        <p:spPr>
          <a:xfrm>
            <a:off x="5224320" y="260280"/>
            <a:ext cx="3719520" cy="518472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64" name="Picture 4" descr="C:\Users\ELENA\Desktop\я\16-03-2020_12-48-18\Screenshot_20200316-124202.jpg"/>
          <p:cNvPicPr/>
          <p:nvPr/>
        </p:nvPicPr>
        <p:blipFill>
          <a:blip r:embed="rId3"/>
          <a:stretch/>
        </p:blipFill>
        <p:spPr>
          <a:xfrm>
            <a:off x="3132000" y="3933720"/>
            <a:ext cx="2355840" cy="273528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1"/>
          <p:cNvSpPr/>
          <p:nvPr/>
        </p:nvSpPr>
        <p:spPr>
          <a:xfrm>
            <a:off x="468360" y="26028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1.Смачиваем половину листа бумаги водой, чтобы быстро не высыхала. В правом верхнем углу закрашиваем маленькую четверть круга белой гуашью. Это будет диск солнца. Продолжаем рисовать дугу жёлтой краской, делая плавный переход между белой и желтой линией, размывая водой и белой гуаш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https://ped-kopilka.ru/upload/blogs2/2018/3/57964_181829e4bb8aef762d5911f22d0fb319.jpg.jpg"/>
          <p:cNvPicPr/>
          <p:nvPr/>
        </p:nvPicPr>
        <p:blipFill>
          <a:blip r:embed="rId1"/>
          <a:stretch/>
        </p:blipFill>
        <p:spPr>
          <a:xfrm>
            <a:off x="1042920" y="1773360"/>
            <a:ext cx="6496200" cy="485928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s://ped-kopilka.ru/upload/blogs2/2018/3/57964_9f7d3256872aea6ed6de74c819e2d34d.jpg.jpg"/>
          <p:cNvPicPr/>
          <p:nvPr/>
        </p:nvPicPr>
        <p:blipFill>
          <a:blip r:embed="rId1"/>
          <a:stretch/>
        </p:blipFill>
        <p:spPr>
          <a:xfrm>
            <a:off x="1116000" y="333360"/>
            <a:ext cx="7680240" cy="619128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1"/>
          <p:cNvSpPr/>
          <p:nvPr/>
        </p:nvSpPr>
        <p:spPr>
          <a:xfrm>
            <a:off x="324000" y="260280"/>
            <a:ext cx="345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2. Добавляем линии оранжевой и красной краски, немного размывая водой. Следующая четверть круга – малиновая краска. На край малиновой краски вливаем немного сиреневой или фиолетовой краски. Заканчиваем рисовать диск солн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https://ped-kopilka.ru/upload/blogs2/2018/3/57964_1ffe592cf39544888c22d280d2ff525a.jpg.jpg"/>
          <p:cNvPicPr/>
          <p:nvPr/>
        </p:nvPicPr>
        <p:blipFill>
          <a:blip r:embed="rId1"/>
          <a:stretch/>
        </p:blipFill>
        <p:spPr>
          <a:xfrm>
            <a:off x="4140360" y="260280"/>
            <a:ext cx="4741560" cy="631836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468360" y="189000"/>
            <a:ext cx="2663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3. Смачиваем вторую половину листа водой. Далее рисуем фон неба синей, тёмно-синей и фиолетовой краской. Точно также, плавно закругляя линии, рисуем дуги под солнцем. Делаем плавные переходы краски, размывая водой и белой гуаш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https://ped-kopilka.ru/upload/blogs2/2018/3/57964_7375e093a00c35d2e522d52c87369687.jpg.jpg"/>
          <p:cNvPicPr/>
          <p:nvPr/>
        </p:nvPicPr>
        <p:blipFill>
          <a:blip r:embed="rId1"/>
          <a:stretch/>
        </p:blipFill>
        <p:spPr>
          <a:xfrm>
            <a:off x="4211640" y="254160"/>
            <a:ext cx="4756320" cy="642132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250920" y="333360"/>
            <a:ext cx="316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4. Рисуем кустарник чёрной акварелью, немного мешая её с тёмно- синей краской. На кустарнике рисуем набухшие поч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https://ped-kopilka.ru/upload/blogs2/2018/3/57964_7ec300ba07914cc0cfddaa87a88776ca.jpg.jpg"/>
          <p:cNvPicPr/>
          <p:nvPr/>
        </p:nvPicPr>
        <p:blipFill>
          <a:blip r:embed="rId1"/>
          <a:stretch/>
        </p:blipFill>
        <p:spPr>
          <a:xfrm>
            <a:off x="4140360" y="212760"/>
            <a:ext cx="4741560" cy="631836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s://ped-kopilka.ru/upload/blogs2/2018/3/57964_1206f6c19e23f508b718f5316878debf.jpg.jpg"/>
          <p:cNvPicPr/>
          <p:nvPr/>
        </p:nvPicPr>
        <p:blipFill>
          <a:blip r:embed="rId1"/>
          <a:stretch/>
        </p:blipFill>
        <p:spPr>
          <a:xfrm>
            <a:off x="4140360" y="333360"/>
            <a:ext cx="4525920" cy="633564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"/>
          <p:cNvSpPr/>
          <p:nvPr/>
        </p:nvSpPr>
        <p:spPr>
          <a:xfrm>
            <a:off x="395280" y="189000"/>
            <a:ext cx="85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5. На ветке, направленной в середину солнца, рисуем птицу. Также смешивая чёрную и синею акварел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https://ped-kopilka.ru/upload/blogs2/2018/3/57964_1445694881c07b0dd33b323fdf55982f.jpg.jpg"/>
          <p:cNvPicPr/>
          <p:nvPr/>
        </p:nvPicPr>
        <p:blipFill>
          <a:blip r:embed="rId1"/>
          <a:stretch/>
        </p:blipFill>
        <p:spPr>
          <a:xfrm>
            <a:off x="1187280" y="927000"/>
            <a:ext cx="7772400" cy="582624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s://ped-kopilka.ru/upload/blogs2/2018/3/57964_b1b2bf960cf5f3edd1d6aa4531d4c864.jpg.jpg"/>
          <p:cNvPicPr/>
          <p:nvPr/>
        </p:nvPicPr>
        <p:blipFill>
          <a:blip r:embed="rId1"/>
          <a:stretch/>
        </p:blipFill>
        <p:spPr>
          <a:xfrm>
            <a:off x="2614680" y="260280"/>
            <a:ext cx="4754520" cy="633744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3-16T09:07:19Z</dcterms:created>
  <dc:creator>ELENA</dc:creator>
  <dc:description/>
  <dc:language>en-US</dc:language>
  <cp:lastModifiedBy>Ирина</cp:lastModifiedBy>
  <dcterms:modified xsi:type="dcterms:W3CDTF">2020-05-14T10:59:00Z</dcterms:modified>
  <cp:revision>6</cp:revision>
  <dc:subject/>
  <dc:title>Слайд 1</dc:title>
</cp:coreProperties>
</file>