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5A07-919D-4B93-AFA7-E987CB49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38E-A042-4415-AB52-B87B3F50C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687E-A0F9-4E82-A1CD-DC715F072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F286-F06D-47DF-8A90-45A9A40F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1AB-AAA3-47B0-99AF-1037F777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C33D-48E5-4E05-B5C6-0E6815F1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648A-892D-456C-A3AA-F29C84B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84C1-B303-40B8-9969-5DC0E6A2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2CED-A35E-4A57-AD62-611650507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9EA5-88FF-4F60-A743-BA6F2D9E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3DC7-244D-4AA0-90A8-E6324AB0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6FD1-7DED-4FBC-92A3-C324443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0F0A-B04B-4C88-97B1-92F3F5973F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9080"/>
            <a:ext cx="8320320" cy="1449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https://ped-kopilka.ru/upload/blogs2/2018/3/57964_9fffc198536c8273b6ff4d1d2ae852df.jpg.jpg"/>
          <p:cNvPicPr/>
          <p:nvPr/>
        </p:nvPicPr>
        <p:blipFill>
          <a:blip r:embed="rId2"/>
          <a:stretch/>
        </p:blipFill>
        <p:spPr>
          <a:xfrm>
            <a:off x="2644920" y="1484280"/>
            <a:ext cx="3836880" cy="5113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468360" y="189000"/>
            <a:ext cx="1582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. На боковой нижней ветке рисуем вторую птицу. Дорисовываем почки на ветках кустарн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s://ped-kopilka.ru/upload/blogs2/2018/3/57964_981c5dd381b4c17bdf52f4d7998bf02d.jpg.jpg"/>
          <p:cNvPicPr/>
          <p:nvPr/>
        </p:nvPicPr>
        <p:blipFill>
          <a:blip r:embed="rId1"/>
          <a:stretch/>
        </p:blipFill>
        <p:spPr>
          <a:xfrm>
            <a:off x="2160720" y="189000"/>
            <a:ext cx="6783120" cy="6264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95120" y="333360"/>
            <a:ext cx="29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ш весенний пейзаж го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s://ped-kopilka.ru/upload/blogs2/2018/3/57964_9fffc198536c8273b6ff4d1d2ae852df.jpg.jpg"/>
          <p:cNvPicPr/>
          <p:nvPr/>
        </p:nvPicPr>
        <p:blipFill>
          <a:blip r:embed="rId1"/>
          <a:srcRect l="3311" t="0" r="0" b="0"/>
          <a:stretch/>
        </p:blipFill>
        <p:spPr>
          <a:xfrm>
            <a:off x="4211640" y="260280"/>
            <a:ext cx="459756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s://ped-kopilka.ru/upload/blogs2/2018/3/57964_f6bc3b3235bfa6f1a30760b2aa9ac149.jpg.jpg"/>
          <p:cNvPicPr/>
          <p:nvPr/>
        </p:nvPicPr>
        <p:blipFill>
          <a:blip r:embed="rId1"/>
          <a:stretch/>
        </p:blipFill>
        <p:spPr>
          <a:xfrm>
            <a:off x="2411280" y="404640"/>
            <a:ext cx="4597560" cy="61264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63360" y="-136440"/>
            <a:ext cx="2571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Users\ELENA\Desktop\я\16-03-2020_12-48-18\Screenshot_20200316-124215.jpg"/>
          <p:cNvPicPr/>
          <p:nvPr/>
        </p:nvPicPr>
        <p:blipFill>
          <a:blip r:embed="rId1"/>
          <a:stretch/>
        </p:blipFill>
        <p:spPr>
          <a:xfrm>
            <a:off x="250920" y="333360"/>
            <a:ext cx="3668760" cy="4967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3" name="Picture 5" descr="C:\Users\ELENA\Desktop\я\16-03-2020_12-48-18\Screenshot_20200316-124149.jpg"/>
          <p:cNvPicPr/>
          <p:nvPr/>
        </p:nvPicPr>
        <p:blipFill>
          <a:blip r:embed="rId2"/>
          <a:stretch/>
        </p:blipFill>
        <p:spPr>
          <a:xfrm>
            <a:off x="5224320" y="260280"/>
            <a:ext cx="3719520" cy="51847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4" name="Picture 4" descr="C:\Users\ELENA\Desktop\я\16-03-2020_12-48-18\Screenshot_20200316-124202.jpg"/>
          <p:cNvPicPr/>
          <p:nvPr/>
        </p:nvPicPr>
        <p:blipFill>
          <a:blip r:embed="rId3"/>
          <a:stretch/>
        </p:blipFill>
        <p:spPr>
          <a:xfrm>
            <a:off x="3132000" y="3933720"/>
            <a:ext cx="2355840" cy="2735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1"/>
          <p:cNvSpPr/>
          <p:nvPr/>
        </p:nvSpPr>
        <p:spPr>
          <a:xfrm>
            <a:off x="468360" y="260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Смачиваем половину листа бумаги водой, чтобы быстро не высыхала. В правом верхнем углу закрашиваем маленькую четверть круга белой гуашью. Это будет диск солнца. Продолжаем рисовать дугу жёлтой краской, делая плавный переход между белой и желтой линией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s://ped-kopilka.ru/upload/blogs2/2018/3/57964_181829e4bb8aef762d5911f22d0fb319.jpg.jpg"/>
          <p:cNvPicPr/>
          <p:nvPr/>
        </p:nvPicPr>
        <p:blipFill>
          <a:blip r:embed="rId1"/>
          <a:stretch/>
        </p:blipFill>
        <p:spPr>
          <a:xfrm>
            <a:off x="1042920" y="1773360"/>
            <a:ext cx="6496200" cy="4859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ttps://ped-kopilka.ru/upload/blogs2/2018/3/57964_9f7d3256872aea6ed6de74c819e2d34d.jpg.jpg"/>
          <p:cNvPicPr/>
          <p:nvPr/>
        </p:nvPicPr>
        <p:blipFill>
          <a:blip r:embed="rId1"/>
          <a:stretch/>
        </p:blipFill>
        <p:spPr>
          <a:xfrm>
            <a:off x="1116000" y="333360"/>
            <a:ext cx="7680240" cy="619128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324000" y="260280"/>
            <a:ext cx="345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Добавляем линии оранжевой и красной краски, немного размывая водой. Следующая четверть круга – малиновая краска. На край малиновой краски вливаем немного сиреневой или фиолетовой краски. Заканчиваем рисовать диск солн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https://ped-kopilka.ru/upload/blogs2/2018/3/57964_1ffe592cf39544888c22d280d2ff525a.jpg.jpg"/>
          <p:cNvPicPr/>
          <p:nvPr/>
        </p:nvPicPr>
        <p:blipFill>
          <a:blip r:embed="rId1"/>
          <a:stretch/>
        </p:blipFill>
        <p:spPr>
          <a:xfrm>
            <a:off x="4140360" y="26028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468360" y="189000"/>
            <a:ext cx="266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Смачиваем вторую половину листа водой. Далее рисуем фон неба синей, тёмно-синей и фиолетовой краской. Точно также, плавно закругляя линии, рисуем дуги под солнцем. Делаем плавные переходы краски, размывая водой и белой гуаш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s://ped-kopilka.ru/upload/blogs2/2018/3/57964_7375e093a00c35d2e522d52c87369687.jpg.jpg"/>
          <p:cNvPicPr/>
          <p:nvPr/>
        </p:nvPicPr>
        <p:blipFill>
          <a:blip r:embed="rId1"/>
          <a:stretch/>
        </p:blipFill>
        <p:spPr>
          <a:xfrm>
            <a:off x="4211640" y="254160"/>
            <a:ext cx="4756320" cy="642132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"/>
          <p:cNvSpPr/>
          <p:nvPr/>
        </p:nvSpPr>
        <p:spPr>
          <a:xfrm>
            <a:off x="250920" y="333360"/>
            <a:ext cx="316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Рисуем кустарник чёрной акварелью, немного мешая её с тёмно- синей краской. На кустарнике рисуем набухшие п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https://ped-kopilka.ru/upload/blogs2/2018/3/57964_7ec300ba07914cc0cfddaa87a88776ca.jpg.jpg"/>
          <p:cNvPicPr/>
          <p:nvPr/>
        </p:nvPicPr>
        <p:blipFill>
          <a:blip r:embed="rId1"/>
          <a:stretch/>
        </p:blipFill>
        <p:spPr>
          <a:xfrm>
            <a:off x="4140360" y="212760"/>
            <a:ext cx="4741560" cy="631836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s://ped-kopilka.ru/upload/blogs2/2018/3/57964_1206f6c19e23f508b718f5316878debf.jpg.jpg"/>
          <p:cNvPicPr/>
          <p:nvPr/>
        </p:nvPicPr>
        <p:blipFill>
          <a:blip r:embed="rId1"/>
          <a:stretch/>
        </p:blipFill>
        <p:spPr>
          <a:xfrm>
            <a:off x="4140360" y="333360"/>
            <a:ext cx="4525920" cy="63356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Прямоугольник 1"/>
          <p:cNvSpPr/>
          <p:nvPr/>
        </p:nvSpPr>
        <p:spPr>
          <a:xfrm>
            <a:off x="395280" y="18900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5. На ветке, направленной в середину солнца, рисуем птицу. Также смешивая чёрную и синею аквар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s://ped-kopilka.ru/upload/blogs2/2018/3/57964_1445694881c07b0dd33b323fdf55982f.jpg.jpg"/>
          <p:cNvPicPr/>
          <p:nvPr/>
        </p:nvPicPr>
        <p:blipFill>
          <a:blip r:embed="rId1"/>
          <a:stretch/>
        </p:blipFill>
        <p:spPr>
          <a:xfrm>
            <a:off x="1187280" y="927000"/>
            <a:ext cx="7772400" cy="58262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s://ped-kopilka.ru/upload/blogs2/2018/3/57964_b1b2bf960cf5f3edd1d6aa4531d4c864.jpg.jpg"/>
          <p:cNvPicPr/>
          <p:nvPr/>
        </p:nvPicPr>
        <p:blipFill>
          <a:blip r:embed="rId1"/>
          <a:stretch/>
        </p:blipFill>
        <p:spPr>
          <a:xfrm>
            <a:off x="2614680" y="260280"/>
            <a:ext cx="4754520" cy="6337440"/>
          </a:xfrm>
          <a:prstGeom prst="rect">
            <a:avLst/>
          </a:prstGeom>
          <a:ln cap="sq" w="38160">
            <a:solidFill>
              <a:srgbClr val="c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6T09:07:19Z</dcterms:created>
  <dc:creator>ELENA</dc:creator>
  <dc:description/>
  <dc:language>en-US</dc:language>
  <cp:lastModifiedBy>Ирина</cp:lastModifiedBy>
  <dcterms:modified xsi:type="dcterms:W3CDTF">2020-05-14T10:59:00Z</dcterms:modified>
  <cp:revision>6</cp:revision>
  <dc:subject/>
  <dc:title>Слайд 1</dc:title>
</cp:coreProperties>
</file>