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00682-0F8E-46B5-8BE3-DC3B5F612C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82170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6840" y="4501800"/>
            <a:ext cx="82170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B2665-831A-4A9D-A644-D2D9E3CE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684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740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8EEF-D8EC-4FF8-B9E5-3F883793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5320" y="224964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13440" y="224964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6840" y="450180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5320" y="450180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13440" y="450180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3AFA2-CFEA-4298-A391-7D2CFB05AD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ECA4A-8E50-432D-B782-D1D23BBC70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2249640"/>
            <a:ext cx="821700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83588-8D01-487D-BCD1-3726F35D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82170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C9F8A-0ED3-415D-BB78-E2C49210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6BE5C-CB0E-46C4-91A4-94C9FA6A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1D7F6-C1CA-411C-8F2C-B48A1A26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1019160"/>
            <a:ext cx="82170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361AD-618B-4DA5-B846-5ACA3449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A9729-B32D-45AE-8301-ABD13FA1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6840" y="2249640"/>
            <a:ext cx="821700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5D78E-213E-48F2-BD85-B7A2C4EA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740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4742D-F085-461C-BDCB-61603FD7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501800"/>
            <a:ext cx="82170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8049B-3C18-487E-B180-189ED000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82170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501800"/>
            <a:ext cx="82170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2273D-7E2E-4B5A-BA06-8EBFE7C6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740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64717-65CF-4B0D-B16E-927DEA23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5320" y="224964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3440" y="224964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50180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5320" y="450180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3440" y="450180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57E0A-5148-4C38-9389-A822081BFF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E7E3-EB59-4769-8999-B563C70E1A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6840" y="2249640"/>
            <a:ext cx="821700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A70D-BD5D-4389-9C70-E2CA40F3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82170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617F-9168-495A-BBE5-B0258660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D4B4-BB37-4AC4-92F7-84B75DD3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43DA-74E6-42AD-BEDE-75FF70DD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82170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C6D61-8BA9-4308-889D-677DF257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6840" y="1019160"/>
            <a:ext cx="82170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119A-B161-4E20-982E-E59E654D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568E-5132-4753-B1D9-9795C039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740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EF7B-2A2F-44CF-824E-D795BA88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4501800"/>
            <a:ext cx="82170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A487-E639-46C7-8CC0-AA535EE3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82170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6840" y="4501800"/>
            <a:ext cx="82170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D291-41C3-4FF2-A580-00437953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740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6E4B-D788-4C18-98A9-C00BB847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5320" y="224964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13440" y="224964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6840" y="450180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5320" y="450180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13440" y="4501800"/>
            <a:ext cx="264564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8763-525D-4358-B469-87A1B93DA2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3F9F-C031-4500-8748-715500AE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22EBB-25AB-4315-88DF-E4051DED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6840" y="1019160"/>
            <a:ext cx="82170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C481F-0142-4BD7-814C-92805A6D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0A255-4A30-4216-B694-31514285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7400" y="450180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6BA6D-FCB5-4DEB-A0D7-83DD883A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7400" y="2249640"/>
            <a:ext cx="40096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501800"/>
            <a:ext cx="82170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8DFC-7B14-48AC-AD3C-3A30060A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Rectangle 4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Rectangle 5"/>
          <p:cNvSpPr/>
          <p:nvPr/>
        </p:nvSpPr>
        <p:spPr>
          <a:xfrm flipV="1">
            <a:off x="5410080" y="43704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5407200" y="496800"/>
            <a:ext cx="3063600" cy="28800"/>
          </a:xfrm>
          <a:custGeom>
            <a:avLst/>
            <a:gdLst>
              <a:gd name="textAreaLeft" fmla="*/ 1080 w 3063600"/>
              <a:gd name="textAreaRight" fmla="*/ 3062520 w 3063600"/>
              <a:gd name="textAreaTop" fmla="*/ 1080 h 28800"/>
              <a:gd name="textAreaBottom" fmla="*/ 27720 h 28800"/>
            </a:gdLst>
            <a:ahLst/>
            <a:rect l="textAreaLeft" t="textAreaTop" r="textAreaRight" b="textAreaBottom"/>
            <a:pathLst>
              <a:path w="3063870" h="28575">
                <a:moveTo>
                  <a:pt x="4762" y="0"/>
                </a:moveTo>
                <a:lnTo>
                  <a:pt x="4761" y="0"/>
                </a:lnTo>
                <a:cubicBezTo>
                  <a:pt x="2132" y="0"/>
                  <a:pt x="0" y="2132"/>
                  <a:pt x="0" y="4761"/>
                </a:cubicBezTo>
                <a:lnTo>
                  <a:pt x="0" y="23813"/>
                </a:lnTo>
                <a:cubicBezTo>
                  <a:pt x="0" y="26442"/>
                  <a:pt x="2132" y="28575"/>
                  <a:pt x="4762" y="28575"/>
                </a:cubicBezTo>
                <a:lnTo>
                  <a:pt x="3059108" y="28575"/>
                </a:lnTo>
                <a:cubicBezTo>
                  <a:pt x="3061737" y="28575"/>
                  <a:pt x="3063870" y="26442"/>
                  <a:pt x="3063870" y="23813"/>
                </a:cubicBezTo>
                <a:lnTo>
                  <a:pt x="3063870" y="4762"/>
                </a:lnTo>
                <a:cubicBezTo>
                  <a:pt x="3063870" y="2132"/>
                  <a:pt x="3061737" y="0"/>
                  <a:pt x="3059108" y="0"/>
                </a:cubicBezTo>
                <a:lnTo>
                  <a:pt x="47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7373880" y="588960"/>
            <a:ext cx="1600200" cy="36360"/>
          </a:xfrm>
          <a:custGeom>
            <a:avLst/>
            <a:gdLst>
              <a:gd name="textAreaLeft" fmla="*/ 1440 w 1600200"/>
              <a:gd name="textAreaRight" fmla="*/ 1598760 w 1600200"/>
              <a:gd name="textAreaTop" fmla="*/ 1440 h 36360"/>
              <a:gd name="textAreaBottom" fmla="*/ 34920 h 36360"/>
            </a:gdLst>
            <a:ahLst/>
            <a:rect l="textAreaLeft" t="textAreaTop" r="textAreaRight" b="textAreaBottom"/>
            <a:pathLst>
              <a:path w="1600200" h="36511">
                <a:moveTo>
                  <a:pt x="6085" y="0"/>
                </a:moveTo>
                <a:lnTo>
                  <a:pt x="6084" y="0"/>
                </a:lnTo>
                <a:cubicBezTo>
                  <a:pt x="2724" y="0"/>
                  <a:pt x="0" y="2724"/>
                  <a:pt x="0" y="6084"/>
                </a:cubicBezTo>
                <a:lnTo>
                  <a:pt x="0" y="30426"/>
                </a:lnTo>
                <a:cubicBezTo>
                  <a:pt x="0" y="33786"/>
                  <a:pt x="2724" y="36511"/>
                  <a:pt x="6085" y="36511"/>
                </a:cubicBezTo>
                <a:lnTo>
                  <a:pt x="1594115" y="36511"/>
                </a:lnTo>
                <a:cubicBezTo>
                  <a:pt x="1597475" y="36511"/>
                  <a:pt x="1600200" y="33786"/>
                  <a:pt x="1600200" y="30426"/>
                </a:cubicBezTo>
                <a:lnTo>
                  <a:pt x="1600200" y="6085"/>
                </a:lnTo>
                <a:cubicBezTo>
                  <a:pt x="1600200" y="2724"/>
                  <a:pt x="1597475" y="0"/>
                  <a:pt x="1594115" y="0"/>
                </a:cubicBezTo>
                <a:lnTo>
                  <a:pt x="608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Rectangle 13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6840" y="2249640"/>
            <a:ext cx="82170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560" y="415800"/>
            <a:ext cx="944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.10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Text Box 17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2"/>
          </p:nvPr>
        </p:nvSpPr>
        <p:spPr>
          <a:xfrm>
            <a:off x="8173800" y="-11520"/>
            <a:ext cx="7491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F961FE-4870-42AD-A2A0-00160636DED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eb80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Freeform 6"/>
          <p:cNvSpPr/>
          <p:nvPr/>
        </p:nvSpPr>
        <p:spPr>
          <a:xfrm>
            <a:off x="5410080" y="3962520"/>
            <a:ext cx="3063960" cy="27000"/>
          </a:xfrm>
          <a:custGeom>
            <a:avLst/>
            <a:gdLst>
              <a:gd name="textAreaLeft" fmla="*/ 1080 w 3063960"/>
              <a:gd name="textAreaRight" fmla="*/ 3062880 w 3063960"/>
              <a:gd name="textAreaTop" fmla="*/ 1080 h 27000"/>
              <a:gd name="textAreaBottom" fmla="*/ 25920 h 27000"/>
            </a:gdLst>
            <a:ahLst/>
            <a:rect l="textAreaLeft" t="textAreaTop" r="textAreaRight" b="textAreaBottom"/>
            <a:pathLst>
              <a:path w="3063870" h="26983">
                <a:moveTo>
                  <a:pt x="4497" y="0"/>
                </a:moveTo>
                <a:lnTo>
                  <a:pt x="4496" y="0"/>
                </a:lnTo>
                <a:cubicBezTo>
                  <a:pt x="2013" y="0"/>
                  <a:pt x="0" y="2013"/>
                  <a:pt x="0" y="4496"/>
                </a:cubicBezTo>
                <a:lnTo>
                  <a:pt x="0" y="22486"/>
                </a:lnTo>
                <a:cubicBezTo>
                  <a:pt x="0" y="24969"/>
                  <a:pt x="2013" y="26983"/>
                  <a:pt x="4497" y="26983"/>
                </a:cubicBezTo>
                <a:lnTo>
                  <a:pt x="3059373" y="26983"/>
                </a:lnTo>
                <a:cubicBezTo>
                  <a:pt x="3061856" y="26983"/>
                  <a:pt x="3063870" y="24969"/>
                  <a:pt x="3063870" y="22486"/>
                </a:cubicBezTo>
                <a:lnTo>
                  <a:pt x="3063870" y="4497"/>
                </a:lnTo>
                <a:cubicBezTo>
                  <a:pt x="3063870" y="2013"/>
                  <a:pt x="3061856" y="0"/>
                  <a:pt x="3059373" y="0"/>
                </a:cubicBezTo>
                <a:lnTo>
                  <a:pt x="44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Freeform 7"/>
          <p:cNvSpPr/>
          <p:nvPr/>
        </p:nvSpPr>
        <p:spPr>
          <a:xfrm>
            <a:off x="7377120" y="4060800"/>
            <a:ext cx="1600200" cy="36360"/>
          </a:xfrm>
          <a:custGeom>
            <a:avLst/>
            <a:gdLst>
              <a:gd name="textAreaLeft" fmla="*/ 1440 w 1600200"/>
              <a:gd name="textAreaRight" fmla="*/ 1598760 w 1600200"/>
              <a:gd name="textAreaTop" fmla="*/ 1440 h 36360"/>
              <a:gd name="textAreaBottom" fmla="*/ 34920 h 36360"/>
            </a:gdLst>
            <a:ahLst/>
            <a:rect l="textAreaLeft" t="textAreaTop" r="textAreaRight" b="textAreaBottom"/>
            <a:pathLst>
              <a:path w="1600200" h="36511">
                <a:moveTo>
                  <a:pt x="6085" y="0"/>
                </a:moveTo>
                <a:lnTo>
                  <a:pt x="6084" y="0"/>
                </a:lnTo>
                <a:cubicBezTo>
                  <a:pt x="2724" y="0"/>
                  <a:pt x="0" y="2724"/>
                  <a:pt x="0" y="6084"/>
                </a:cubicBezTo>
                <a:lnTo>
                  <a:pt x="0" y="30426"/>
                </a:lnTo>
                <a:cubicBezTo>
                  <a:pt x="0" y="33786"/>
                  <a:pt x="2724" y="36511"/>
                  <a:pt x="6085" y="36511"/>
                </a:cubicBezTo>
                <a:lnTo>
                  <a:pt x="1594115" y="36511"/>
                </a:lnTo>
                <a:cubicBezTo>
                  <a:pt x="1597475" y="36511"/>
                  <a:pt x="1600200" y="33786"/>
                  <a:pt x="1600200" y="30426"/>
                </a:cubicBezTo>
                <a:lnTo>
                  <a:pt x="1600200" y="6085"/>
                </a:lnTo>
                <a:cubicBezTo>
                  <a:pt x="1600200" y="2724"/>
                  <a:pt x="1597475" y="0"/>
                  <a:pt x="1594115" y="0"/>
                </a:cubicBezTo>
                <a:lnTo>
                  <a:pt x="608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2249640"/>
            <a:ext cx="82170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3"/>
          </p:nvPr>
        </p:nvSpPr>
        <p:spPr>
          <a:xfrm>
            <a:off x="6705720" y="4206960"/>
            <a:ext cx="9475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30.10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4"/>
          </p:nvPr>
        </p:nvSpPr>
        <p:spPr>
          <a:xfrm>
            <a:off x="8319960" y="-104760"/>
            <a:ext cx="7351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2C5BC0-D732-4AB4-B802-5B4DDAD9B90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Rectangle 4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Rectangle 5"/>
          <p:cNvSpPr/>
          <p:nvPr/>
        </p:nvSpPr>
        <p:spPr>
          <a:xfrm flipV="1">
            <a:off x="5410080" y="43704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6"/>
          <p:cNvSpPr/>
          <p:nvPr/>
        </p:nvSpPr>
        <p:spPr>
          <a:xfrm>
            <a:off x="5407200" y="496800"/>
            <a:ext cx="3063600" cy="28800"/>
          </a:xfrm>
          <a:custGeom>
            <a:avLst/>
            <a:gdLst>
              <a:gd name="textAreaLeft" fmla="*/ 1080 w 3063600"/>
              <a:gd name="textAreaRight" fmla="*/ 3062520 w 3063600"/>
              <a:gd name="textAreaTop" fmla="*/ 1080 h 28800"/>
              <a:gd name="textAreaBottom" fmla="*/ 27720 h 28800"/>
            </a:gdLst>
            <a:ahLst/>
            <a:rect l="textAreaLeft" t="textAreaTop" r="textAreaRight" b="textAreaBottom"/>
            <a:pathLst>
              <a:path w="3063870" h="28575">
                <a:moveTo>
                  <a:pt x="4762" y="0"/>
                </a:moveTo>
                <a:lnTo>
                  <a:pt x="4761" y="0"/>
                </a:lnTo>
                <a:cubicBezTo>
                  <a:pt x="2132" y="0"/>
                  <a:pt x="0" y="2132"/>
                  <a:pt x="0" y="4761"/>
                </a:cubicBezTo>
                <a:lnTo>
                  <a:pt x="0" y="23813"/>
                </a:lnTo>
                <a:cubicBezTo>
                  <a:pt x="0" y="26442"/>
                  <a:pt x="2132" y="28575"/>
                  <a:pt x="4762" y="28575"/>
                </a:cubicBezTo>
                <a:lnTo>
                  <a:pt x="3059108" y="28575"/>
                </a:lnTo>
                <a:cubicBezTo>
                  <a:pt x="3061737" y="28575"/>
                  <a:pt x="3063870" y="26442"/>
                  <a:pt x="3063870" y="23813"/>
                </a:cubicBezTo>
                <a:lnTo>
                  <a:pt x="3063870" y="4762"/>
                </a:lnTo>
                <a:cubicBezTo>
                  <a:pt x="3063870" y="2132"/>
                  <a:pt x="3061737" y="0"/>
                  <a:pt x="3059108" y="0"/>
                </a:cubicBezTo>
                <a:lnTo>
                  <a:pt x="47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7"/>
          <p:cNvSpPr/>
          <p:nvPr/>
        </p:nvSpPr>
        <p:spPr>
          <a:xfrm>
            <a:off x="7373880" y="588960"/>
            <a:ext cx="1600200" cy="36360"/>
          </a:xfrm>
          <a:custGeom>
            <a:avLst/>
            <a:gdLst>
              <a:gd name="textAreaLeft" fmla="*/ 1440 w 1600200"/>
              <a:gd name="textAreaRight" fmla="*/ 1598760 w 1600200"/>
              <a:gd name="textAreaTop" fmla="*/ 1440 h 36360"/>
              <a:gd name="textAreaBottom" fmla="*/ 34920 h 36360"/>
            </a:gdLst>
            <a:ahLst/>
            <a:rect l="textAreaLeft" t="textAreaTop" r="textAreaRight" b="textAreaBottom"/>
            <a:pathLst>
              <a:path w="1600200" h="36511">
                <a:moveTo>
                  <a:pt x="6085" y="0"/>
                </a:moveTo>
                <a:lnTo>
                  <a:pt x="6084" y="0"/>
                </a:lnTo>
                <a:cubicBezTo>
                  <a:pt x="2724" y="0"/>
                  <a:pt x="0" y="2724"/>
                  <a:pt x="0" y="6084"/>
                </a:cubicBezTo>
                <a:lnTo>
                  <a:pt x="0" y="30426"/>
                </a:lnTo>
                <a:cubicBezTo>
                  <a:pt x="0" y="33786"/>
                  <a:pt x="2724" y="36511"/>
                  <a:pt x="6085" y="36511"/>
                </a:cubicBezTo>
                <a:lnTo>
                  <a:pt x="1594115" y="36511"/>
                </a:lnTo>
                <a:cubicBezTo>
                  <a:pt x="1597475" y="36511"/>
                  <a:pt x="1600200" y="33786"/>
                  <a:pt x="1600200" y="30426"/>
                </a:cubicBezTo>
                <a:lnTo>
                  <a:pt x="1600200" y="6085"/>
                </a:lnTo>
                <a:cubicBezTo>
                  <a:pt x="1600200" y="2724"/>
                  <a:pt x="1597475" y="0"/>
                  <a:pt x="1594115" y="0"/>
                </a:cubicBezTo>
                <a:lnTo>
                  <a:pt x="608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019160"/>
            <a:ext cx="8217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6840" y="2249640"/>
            <a:ext cx="82170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5"/>
          </p:nvPr>
        </p:nvSpPr>
        <p:spPr>
          <a:xfrm>
            <a:off x="6583320" y="612360"/>
            <a:ext cx="9446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30.10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6"/>
          </p:nvPr>
        </p:nvSpPr>
        <p:spPr>
          <a:xfrm>
            <a:off x="8173800" y="-103680"/>
            <a:ext cx="74916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2FA606-3ACF-4914-8CA0-48BB2607BDD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457200" y="240192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Всероссийская олимпиада школьник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1079640" y="4508640"/>
            <a:ext cx="703728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rebuchet MS"/>
              </a:rPr>
              <a:t>Леонардо да Вин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539640" y="950760"/>
            <a:ext cx="83631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804c19"/>
                </a:solidFill>
                <a:latin typeface="Times New Roman"/>
              </a:rPr>
              <a:t>Для Леонардо заниматься искусством значило производить научные выкладки, наблюдения и опыты. Он воплощает все многообразие мироздания посредством пропорций, перспективы и светотени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804c19"/>
                </a:solidFill>
                <a:latin typeface="Times New Roman"/>
              </a:rPr>
              <a:t>Живопись его (подобно другим художникам Ренессанса) была связана с оптикой и физикой, с анатомией и математикой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804c19"/>
                </a:solidFill>
                <a:latin typeface="Times New Roman"/>
              </a:rPr>
              <a:t>"Живопись, - пишет Леонардо, - наука и законная дочь природы... родственница Бога". Изучая природу, художник-естествоиспытатель тем самым познает "божественный ум", утверждает свое подобие верховному Творцу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75760" y="717480"/>
            <a:ext cx="4403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1. Определите имя автора работы и ее название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2. Укажите страну, в которой творил художник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3. Укажите эпоху, которой принадлежит творчество художник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4. Составьте несколько смысловых рядов из названий произведений искусства и (или) их авторов, включая в каждый из них предложенное произведение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5. Кратко поясните принцип состава ряд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859280" y="720720"/>
            <a:ext cx="3944880" cy="58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395280" y="506520"/>
            <a:ext cx="8221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Картины Леонардо да Винч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539640" y="1357200"/>
            <a:ext cx="2160720" cy="3022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3414600" y="1357200"/>
            <a:ext cx="2021040" cy="3011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428760" y="4680000"/>
            <a:ext cx="3892320" cy="2062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4"/>
          <a:stretch/>
        </p:blipFill>
        <p:spPr>
          <a:xfrm>
            <a:off x="6184800" y="1357200"/>
            <a:ext cx="2432160" cy="3105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5"/>
          <a:stretch/>
        </p:blipFill>
        <p:spPr>
          <a:xfrm>
            <a:off x="4643280" y="4680000"/>
            <a:ext cx="412272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9040" y="549360"/>
            <a:ext cx="822168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Trebuchet MS"/>
              </a:rPr>
              <a:t>Художники итальянского Возрождения</a:t>
            </a:r>
            <a:endParaRPr b="0" lang="en-US" sz="28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3873600" y="1114560"/>
            <a:ext cx="2054160" cy="3060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254160" y="1190520"/>
            <a:ext cx="2976480" cy="286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5927760" y="4251240"/>
            <a:ext cx="2700360" cy="2432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4"/>
          <a:stretch/>
        </p:blipFill>
        <p:spPr>
          <a:xfrm>
            <a:off x="6568920" y="1133640"/>
            <a:ext cx="2071800" cy="2892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5"/>
          <a:stretch/>
        </p:blipFill>
        <p:spPr>
          <a:xfrm>
            <a:off x="347760" y="4251240"/>
            <a:ext cx="4692600" cy="24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720720"/>
            <a:ext cx="82216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Портреты эпохи Возрождения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349360" y="1989000"/>
            <a:ext cx="2095560" cy="3122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139680" y="1504800"/>
            <a:ext cx="2127240" cy="3122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3"/>
          <a:stretch/>
        </p:blipFill>
        <p:spPr>
          <a:xfrm>
            <a:off x="4537080" y="2637000"/>
            <a:ext cx="2160720" cy="298584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" descr=""/>
          <p:cNvPicPr/>
          <p:nvPr/>
        </p:nvPicPr>
        <p:blipFill>
          <a:blip r:embed="rId4"/>
          <a:stretch/>
        </p:blipFill>
        <p:spPr>
          <a:xfrm>
            <a:off x="6788160" y="3429000"/>
            <a:ext cx="2155680" cy="30891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591840" y="6332400"/>
            <a:ext cx="594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занелло Портрет принцессы (Портрет Джиневры д’Эсте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552240"/>
            <a:ext cx="82198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Картины из собрания Лувра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053040" y="1163520"/>
            <a:ext cx="2700360" cy="4023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1673280" y="1371600"/>
            <a:ext cx="3246480" cy="2232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4186080" y="4170240"/>
            <a:ext cx="3218040" cy="25466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" descr=""/>
          <p:cNvPicPr/>
          <p:nvPr/>
        </p:nvPicPr>
        <p:blipFill>
          <a:blip r:embed="rId4"/>
          <a:stretch/>
        </p:blipFill>
        <p:spPr>
          <a:xfrm>
            <a:off x="395280" y="3720960"/>
            <a:ext cx="3105000" cy="265428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2"/>
          <p:cNvSpPr/>
          <p:nvPr/>
        </p:nvSpPr>
        <p:spPr>
          <a:xfrm>
            <a:off x="48960" y="6488280"/>
            <a:ext cx="41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ubuntu"/>
              </a:rPr>
              <a:t>БРЕЙГЕЛЬ ПИТЕР СТАРШИЙ Калек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644040"/>
            <a:ext cx="34560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Мадонна</a:t>
            </a:r>
            <a:br>
              <a:rPr sz="4000"/>
            </a:br>
            <a:r>
              <a:rPr b="0" lang="ru-RU" sz="4000" spc="-1" strike="noStrike">
                <a:solidFill>
                  <a:srgbClr val="4f271c"/>
                </a:solidFill>
                <a:latin typeface="Trebuchet MS"/>
              </a:rPr>
              <a:t>в скалах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9" name="Дата 2"/>
          <p:cNvSpPr/>
          <p:nvPr/>
        </p:nvSpPr>
        <p:spPr>
          <a:xfrm>
            <a:off x="6586560" y="415800"/>
            <a:ext cx="9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0.10.1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0" name="Рисунок 3" descr=""/>
          <p:cNvPicPr/>
          <p:nvPr/>
        </p:nvPicPr>
        <p:blipFill>
          <a:blip r:embed="rId1"/>
          <a:stretch/>
        </p:blipFill>
        <p:spPr>
          <a:xfrm>
            <a:off x="4716360" y="431640"/>
            <a:ext cx="4089600" cy="63072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4"/>
          <p:cNvSpPr/>
          <p:nvPr/>
        </p:nvSpPr>
        <p:spPr>
          <a:xfrm>
            <a:off x="407520" y="630864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увр, Париж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550800" y="256536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нняя картина из двух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4" descr=""/>
          <p:cNvPicPr/>
          <p:nvPr/>
        </p:nvPicPr>
        <p:blipFill>
          <a:blip r:embed="rId1"/>
          <a:stretch/>
        </p:blipFill>
        <p:spPr>
          <a:xfrm>
            <a:off x="2700360" y="689040"/>
            <a:ext cx="391464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539640" y="1979640"/>
            <a:ext cx="8228160" cy="30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f271c"/>
                </a:solidFill>
                <a:latin typeface="Times New Roman"/>
              </a:rPr>
              <a:t>Леонардо да Винчи сказал: «Искусство – главная наука»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4f271c"/>
                </a:solidFill>
                <a:latin typeface="Times New Roman"/>
              </a:rPr>
              <a:t>На чём основаны эти слова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7:24:52Z</dcterms:created>
  <dc:creator>Admin</dc:creator>
  <dc:description/>
  <dc:language>en-US</dc:language>
  <cp:lastModifiedBy>VVZ</cp:lastModifiedBy>
  <dcterms:modified xsi:type="dcterms:W3CDTF">2021-03-28T07:19:42Z</dcterms:modified>
  <cp:revision>12</cp:revision>
  <dc:subject/>
  <dc:title>Всероссийская олимпиада</dc:title>
</cp:coreProperties>
</file>