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DDF1-20C0-4D3D-B3AF-65BE5933D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E589-E231-403B-AD71-77FD141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1A1C-0E2A-4E45-BBF9-1E9BC32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F2BC-375A-4961-983A-50F988529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19F7-68DC-416A-8743-798F8AFC7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3F1F3-8A32-4C3E-A033-454386DB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814D6-F889-439D-83A2-024E17F0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92A38-B19B-410D-AE91-0A930080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51CD1-8BDA-4325-AD7B-3CD29993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A91FA-2A0B-40EC-85AE-0673B2EC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9CF38-6BD2-470C-A425-590243A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766F-430A-4B53-A0E7-D5D9D43A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E956-2BC2-443D-8F9F-C5BA0D8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1AD8-85BB-41EE-B67C-7474FDA9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DC033-622C-4A9B-9BAC-3A45375E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122B2-FA9C-4413-BD5B-41212FF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096F-9C96-46FF-94F1-612CF90C5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188B-43E7-4BE1-B152-E634E62BC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433-B886-478E-9089-0B13541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39E9-1313-4BFD-9E61-FD1F16DC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DA4-CB7E-4B95-B00D-2B0243A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7AD-9B7F-43D5-9E89-5F7C0C8E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E5BA-BEE9-43B8-853D-15E871F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8992-94DB-48F9-B44C-58A059E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860-A765-4CA1-B3E5-D063E8D6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27DC-175A-4BCA-BEBD-65F899D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534-550C-409D-9BAE-701870AD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DCAE-6DD3-4395-A420-C5EE6AEC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6BEF-1338-48BD-B5CB-86AA20F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5821-2AC5-4993-A7D3-B6C22A28F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9523-144A-409A-9D22-75D1BBC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DB43-8884-482D-9379-5871F34F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1255-F2E9-40DC-AB1A-9FFE3895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4DAA-6FD4-45E0-8535-578D1617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DC98-56AB-4B83-AADA-62C5A3D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6B7C-A4DA-4CD2-AF76-EBF10F38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560" y="415800"/>
            <a:ext cx="944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1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3800" y="-11520"/>
            <a:ext cx="749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FE8335-4A75-478C-B98E-526579FFB65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5410080" y="3962520"/>
            <a:ext cx="3063960" cy="27000"/>
          </a:xfrm>
          <a:custGeom>
            <a:avLst/>
            <a:gdLst>
              <a:gd name="textAreaLeft" fmla="*/ 1080 w 3063960"/>
              <a:gd name="textAreaRight" fmla="*/ 3062880 w 30639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3870" h="26983">
                <a:moveTo>
                  <a:pt x="4497" y="0"/>
                </a:moveTo>
                <a:lnTo>
                  <a:pt x="4496" y="0"/>
                </a:lnTo>
                <a:cubicBezTo>
                  <a:pt x="2013" y="0"/>
                  <a:pt x="0" y="2013"/>
                  <a:pt x="0" y="4496"/>
                </a:cubicBezTo>
                <a:lnTo>
                  <a:pt x="0" y="22486"/>
                </a:lnTo>
                <a:cubicBezTo>
                  <a:pt x="0" y="24969"/>
                  <a:pt x="2013" y="26983"/>
                  <a:pt x="4497" y="26983"/>
                </a:cubicBezTo>
                <a:lnTo>
                  <a:pt x="3059373" y="26983"/>
                </a:lnTo>
                <a:cubicBezTo>
                  <a:pt x="3061856" y="26983"/>
                  <a:pt x="3063870" y="24969"/>
                  <a:pt x="3063870" y="22486"/>
                </a:cubicBezTo>
                <a:lnTo>
                  <a:pt x="3063870" y="4497"/>
                </a:lnTo>
                <a:cubicBezTo>
                  <a:pt x="3063870" y="2013"/>
                  <a:pt x="3061856" y="0"/>
                  <a:pt x="3059373" y="0"/>
                </a:cubicBezTo>
                <a:lnTo>
                  <a:pt x="44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7377120" y="406080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6705720" y="4206960"/>
            <a:ext cx="947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319960" y="-104760"/>
            <a:ext cx="7351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0A4827-5A2B-4F6D-B9C3-0B6D9139710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6583320" y="612360"/>
            <a:ext cx="9446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8173800" y="-103680"/>
            <a:ext cx="7491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F47429-51C2-4403-9FBF-F5ED2775534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сероссийская олимпиада школьн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079640" y="4508640"/>
            <a:ext cx="70372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rebuchet MS"/>
              </a:rPr>
              <a:t>Леонардо да Вин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539640" y="950760"/>
            <a:ext cx="8363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Для Леонардо заниматься искусством значило производить научные выкладки, наблюдения и опыты. Он воплощает все многообразие мироздания посредством пропорций, перспективы и светотен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Живопись его (подобно другим художникам Ренессанса) была связана с оптикой и физикой, с анатомией и математико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"Живопись, - пишет Леонардо, - наука и законная дочь природы... родственница Бога". Изучая природу, художник-естествоиспытатель тем самым познает "божественный ум", утверждает свое подобие верховному Творцу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75760" y="717480"/>
            <a:ext cx="4403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 Определите имя автора работы и ее назва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Укажите страну, в которой творил художни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 Укажите эпоху, которой принадлежит творчество худож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 Составьте несколько смысловых рядов из названий произведений искусства и (или) их авторов, включая в каждый из них предложенное произведе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 Кратко поясните принцип состава ряд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9280" y="720720"/>
            <a:ext cx="394488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395280" y="506520"/>
            <a:ext cx="82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Картины Леонардо да Винч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39640" y="1357200"/>
            <a:ext cx="2160720" cy="3022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414600" y="1357200"/>
            <a:ext cx="2021040" cy="301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428760" y="4680000"/>
            <a:ext cx="389232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6184800" y="1357200"/>
            <a:ext cx="2432160" cy="3105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5"/>
          <a:stretch/>
        </p:blipFill>
        <p:spPr>
          <a:xfrm>
            <a:off x="4643280" y="4680000"/>
            <a:ext cx="41227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549360"/>
            <a:ext cx="82216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Художники итальянского Возрождения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873600" y="1114560"/>
            <a:ext cx="2054160" cy="306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254160" y="1190520"/>
            <a:ext cx="2976480" cy="28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5927760" y="4251240"/>
            <a:ext cx="2700360" cy="2432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4"/>
          <a:stretch/>
        </p:blipFill>
        <p:spPr>
          <a:xfrm>
            <a:off x="6568920" y="1133640"/>
            <a:ext cx="2071800" cy="289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5"/>
          <a:stretch/>
        </p:blipFill>
        <p:spPr>
          <a:xfrm>
            <a:off x="347760" y="4251240"/>
            <a:ext cx="46926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72072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Портреты эпохи Возрождения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349360" y="1989000"/>
            <a:ext cx="2095560" cy="312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39680" y="1504800"/>
            <a:ext cx="2127240" cy="3122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537080" y="2637000"/>
            <a:ext cx="2160720" cy="29858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4"/>
          <a:stretch/>
        </p:blipFill>
        <p:spPr>
          <a:xfrm>
            <a:off x="6788160" y="3429000"/>
            <a:ext cx="2155680" cy="3089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591840" y="6332400"/>
            <a:ext cx="59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занелло Портрет принцессы (Портрет Джиневры д’Эсте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552240"/>
            <a:ext cx="8219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Картины из собрания Лувра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053040" y="1163520"/>
            <a:ext cx="2700360" cy="402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1673280" y="1371600"/>
            <a:ext cx="324648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4186080" y="4170240"/>
            <a:ext cx="3218040" cy="2546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"/>
          <p:cNvPicPr/>
          <p:nvPr/>
        </p:nvPicPr>
        <p:blipFill>
          <a:blip r:embed="rId4"/>
          <a:stretch/>
        </p:blipFill>
        <p:spPr>
          <a:xfrm>
            <a:off x="395280" y="3720960"/>
            <a:ext cx="3105000" cy="26542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48960" y="648828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ubuntu"/>
              </a:rPr>
              <a:t>БРЕЙГЕЛЬ ПИТЕР СТАРШИЙ Калек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644040"/>
            <a:ext cx="34560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Мадонна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в скалах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9" name="Дата 2"/>
          <p:cNvSpPr/>
          <p:nvPr/>
        </p:nvSpPr>
        <p:spPr>
          <a:xfrm>
            <a:off x="6586560" y="415800"/>
            <a:ext cx="9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.10.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4716360" y="431640"/>
            <a:ext cx="4089600" cy="6307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07520" y="630864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вр, Париж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550800" y="2565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няя картина из двух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4" descr=""/>
          <p:cNvPicPr/>
          <p:nvPr/>
        </p:nvPicPr>
        <p:blipFill>
          <a:blip r:embed="rId1"/>
          <a:stretch/>
        </p:blipFill>
        <p:spPr>
          <a:xfrm>
            <a:off x="2700360" y="689040"/>
            <a:ext cx="39146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539640" y="1979640"/>
            <a:ext cx="822816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imes New Roman"/>
              </a:rPr>
              <a:t>Леонардо да Винчи сказал: «Искусство – главная наука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4f271c"/>
                </a:solidFill>
                <a:latin typeface="Times New Roman"/>
              </a:rPr>
              <a:t>На чём основаны эти слов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24:52Z</dcterms:created>
  <dc:creator>Admin</dc:creator>
  <dc:description/>
  <dc:language>en-US</dc:language>
  <cp:lastModifiedBy>VVZ</cp:lastModifiedBy>
  <dcterms:modified xsi:type="dcterms:W3CDTF">2021-03-28T07:19:42Z</dcterms:modified>
  <cp:revision>12</cp:revision>
  <dc:subject/>
  <dc:title>Всероссийская олимпиада</dc:title>
</cp:coreProperties>
</file>