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DEC3-4428-4024-985E-DBDF5C79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BA60-B4D8-4DFD-B0FE-3E673BF5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8456-BA4B-4F11-A3C2-C2C9D4A5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5911-5D03-439E-81FD-C28274FB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9286-F393-4B66-8F1B-17C8F9ED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6FDB-60F4-4C46-8B53-CC2D9A20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9B0F-5E9E-4B10-83C5-5E6A72C4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2D11-C59F-4454-8488-98C06638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0A56-5D31-4DAF-A231-3B4D9AE2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E530-B69B-4DC9-B91A-907F4D62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E223-4093-4D81-A037-7FF8EF9B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8CBE-49DC-4485-8946-E931AFE2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BD76-B82B-47BA-A900-E5A1BE4FA8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707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02920" y="1773360"/>
            <a:ext cx="626436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логопедического обслед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211280" y="4581000"/>
            <a:ext cx="475308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читель-логопед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азеина Мадина Фарит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 что обратить вниман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Чтение сказок, стихов, потеш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ор литературы должен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ответствовать возрас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уровню развития ребенка, близок его жизненному опы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ясняйте значение незнакомых слов ребен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ы с ребенком хорошо развивают речь. В игре 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только пассивный слушатель, но ему приходится актив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ьзоваться реч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6300720" y="4653000"/>
            <a:ext cx="214812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 что обратить вниман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общении с ребенком во время занятий, прогулок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ения литератур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забывайте показывать детям св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терес к совместн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перебивай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бенк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отворачивайтес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он 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чит рассказывать – другими словами, не дай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одозрить, что вас мало интересует то, о чем он говор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5796000" y="4102200"/>
            <a:ext cx="282888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важаемые родител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законные представители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могите своему ребенку овладеть всем богатством русского языка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делайте его речь чистой, правильной и красиво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изношение зву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пятом году жизни достаточная подвижность мышц артикуляционного аппарата дает возможность ребенку осуществлять более точные движения языком, губами, необходимые для произношения более сложных звуко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, ж, щ, ч, р, рь, л, л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этом возрасте значительно улучшае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ношение звуков. Полностью исчезает смягченн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ношение согласных звуков (сани=сяни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норме к 5 годам ребенок должен произносить в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вуки правильн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онетический экр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2"/>
          <a:stretch/>
        </p:blipFill>
        <p:spPr>
          <a:xfrm>
            <a:off x="406440" y="155736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Мадина\Desktop\image (1)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логовая структура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се разнообразие слоговых структу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формируется к 3 год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зм формирования слоговой структуры сл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ществует самостоятельно; он не связан напрямую 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змом звукопроизнош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оговая структура может иногда быть наруш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ложных и малознакомых слов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 что обратить вниман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ю речи ребенка способствует провед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тикуляционной гимнастики до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5867280" y="3213000"/>
            <a:ext cx="22622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-5724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 что обратить вниман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елкая мотор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Насколько развита мелкая моторика, настолько развита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чь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Массаж рук (щетками, карандашам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азлы, мозаики, перебирание мелких предм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Шнуровки, застегивание пуговиц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Рисование, лепка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азвитие речевого дыха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истки, вертушки, трубочки, надувание шаров и игруш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10188720" y="3284640"/>
            <a:ext cx="16174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 что обратить вниман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733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курсии в лес, в зоопарк, на выставки, в музе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ещение театров, праздников, спортив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роприят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3564000" y="4925880"/>
            <a:ext cx="2160360" cy="1365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5724360" y="3152880"/>
            <a:ext cx="2519640" cy="1530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4"/>
          <a:stretch/>
        </p:blipFill>
        <p:spPr>
          <a:xfrm>
            <a:off x="971640" y="3141720"/>
            <a:ext cx="244800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 что обратить вниман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седы. Не забывайте, что решающее значение для развития речи ребенка имеет его общение с вами. Постарайтесь во время совместных прогулок с детьми обращать их внимание на значимые объекты: магазины, больницы, школы и т.д. Рассказывайте, кто там работает, для чего эти учреждения. В парках, в лесу говорите о явлениях природы, животных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олжайте и дополняйте сказанное ребенком – делайте его предлож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остраненны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5867280" y="4437000"/>
            <a:ext cx="220032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7:48:36Z</dcterms:created>
  <dc:creator>Мадина</dc:creator>
  <dc:description/>
  <dc:language>en-US</dc:language>
  <cp:lastModifiedBy>Мадина</cp:lastModifiedBy>
  <dcterms:modified xsi:type="dcterms:W3CDTF">2021-04-04T19:47:40Z</dcterms:modified>
  <cp:revision>9</cp:revision>
  <dc:subject/>
  <dc:title>Презентация PowerPoint</dc:title>
</cp:coreProperties>
</file>