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C8B6-6D12-4E63-89EA-BDDF64C99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F3A5-FA9C-4DCF-BFD0-BC302BCBB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55D7-CE95-49FC-87AE-3F4A465F5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9CE8-6A9B-49D6-B434-19F60643D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5BBD-893C-48D0-8BDD-E32A5CDB9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C379-6A4B-4E8D-9331-0FADF4ED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BC1C-CEED-4543-A06F-128B30521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79A8-4FD4-4401-8CB9-19520E151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09E2-A6EA-4209-88D0-F61D1AF9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AD42-F02B-426B-A938-5B3B079A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8295-53EF-4FC2-B28D-D330453C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D8B7-D81A-45C7-9961-F957369E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55B33-23A5-4434-9969-E096D3DDC5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34920"/>
            <a:ext cx="9144000" cy="67071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02920" y="1773360"/>
            <a:ext cx="6264360" cy="25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ультаты логопедического обслед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211280" y="4581000"/>
            <a:ext cx="475308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Учитель-логопед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Мазеина Мадина Фарито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а что обратить внимани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Чтение сказок, стихов, потеше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бор литературы должен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ответствовать возраст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уровню развития ребенка, близок его жизненному опыт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ъясняйте значение незнакомых слов ребен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гры с ребенком хорошо развивают речь. В игре 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только пассивный слушатель, но ему приходится актив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ьзоваться речь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6300720" y="4653000"/>
            <a:ext cx="2148120" cy="16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а что обратить внимани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общении с ребенком во время занятий, прогулок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ения литературы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забывайте показывать детям св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нтерес к совместной деятель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перебивайт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бенка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отворачивайтесь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ка он 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кончит рассказывать – другими словами, не дайт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одозрить, что вас мало интересует то, о чем он говори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5796000" y="4102200"/>
            <a:ext cx="282888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Уважаемые родители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(законные представители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омогите своему ребенку овладеть всем богатством русского языка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делайте его речь чистой, правильной и красивой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оизношение зву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пятом году жизни достаточная подвижность мышц артикуляционного аппарата дает возможность ребенку осуществлять более точные движения языком, губами, необходимые для произношения более сложных звуков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, ж, щ, ч, р, рь, л, л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этом возрасте значительно улучшает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изношение звуков. Полностью исчезает смягченно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изношение согласных звуков (сани=сяни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 норме к 5 годам ребенок должен произносить вс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звуки правильно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Фонетический экра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Объект 3" descr=""/>
          <p:cNvPicPr/>
          <p:nvPr/>
        </p:nvPicPr>
        <p:blipFill>
          <a:blip r:embed="rId2"/>
          <a:stretch/>
        </p:blipFill>
        <p:spPr>
          <a:xfrm>
            <a:off x="406440" y="155736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Мадина\Desktop\image (1)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логовая структура сл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се разнообразие слоговых структу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формируется к 3 года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ханизм формирования слоговой структуры сло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ществует самостоятельно; он не связан напрямую 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ханизмом звукопроизнош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оговая структура может иногда быть наруше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сложных и малознакомых слов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а что обратить внимани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тию речи ребенка способствует провед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ртикуляционной гимнастики до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2"/>
          <a:stretch/>
        </p:blipFill>
        <p:spPr>
          <a:xfrm>
            <a:off x="5867280" y="3213000"/>
            <a:ext cx="226224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-57240" y="22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а что обратить внимани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Мелкая мотори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Насколько развита мелкая моторика, настолько развита 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чь ребен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Массаж рук (щетками, карандашами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Пазлы, мозаики, перебирание мелких предме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Шнуровки, застегивание пуговиц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Рисование, лепка…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Развитие речевого дыха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истки, вертушки, трубочки, надувание шаров и игруше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10188720" y="3284640"/>
            <a:ext cx="16174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а что обратить внимани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7330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кскурсии в лес, в зоопарк, на выставки, в музе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ещение театров, праздников, спортивны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роприят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3564000" y="4925880"/>
            <a:ext cx="2160360" cy="1365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"/>
          <p:cNvPicPr/>
          <p:nvPr/>
        </p:nvPicPr>
        <p:blipFill>
          <a:blip r:embed="rId3"/>
          <a:stretch/>
        </p:blipFill>
        <p:spPr>
          <a:xfrm>
            <a:off x="5724360" y="3152880"/>
            <a:ext cx="2519640" cy="1530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"/>
          <p:cNvPicPr/>
          <p:nvPr/>
        </p:nvPicPr>
        <p:blipFill>
          <a:blip r:embed="rId4"/>
          <a:stretch/>
        </p:blipFill>
        <p:spPr>
          <a:xfrm>
            <a:off x="971640" y="3141720"/>
            <a:ext cx="244800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а что обратить внимани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еседы. Не забывайте, что решающее значение для развития речи ребенка имеет его общение с вами. Постарайтесь во время совместных прогулок с детьми обращать их внимание на значимые объекты: магазины, больницы, школы и т.д. Рассказывайте, кто там работает, для чего эти учреждения. В парках, в лесу говорите о явлениях природы, животных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должайте и дополняйте сказанное ребенком – делайте его предложен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пространенны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2"/>
          <a:stretch/>
        </p:blipFill>
        <p:spPr>
          <a:xfrm>
            <a:off x="5867280" y="4437000"/>
            <a:ext cx="2200320" cy="15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1T17:48:36Z</dcterms:created>
  <dc:creator>Мадина</dc:creator>
  <dc:description/>
  <dc:language>en-US</dc:language>
  <cp:lastModifiedBy>Мадина</cp:lastModifiedBy>
  <dcterms:modified xsi:type="dcterms:W3CDTF">2021-04-04T19:47:40Z</dcterms:modified>
  <cp:revision>9</cp:revision>
  <dc:subject/>
  <dc:title>Презентация PowerPoint</dc:title>
</cp:coreProperties>
</file>