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6A0-88E3-4498-A77C-A74EA835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13A-25F3-4229-9B02-ADB322A5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A23-9F67-48AD-9B91-85CC10D3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DAB-29A6-4478-A109-EA9556CD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6D38-FE08-4A82-ADE5-2FAE77F9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3555-AA94-426C-B58D-1D8B7369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226B-6280-4DED-9129-822902C3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9BC-1D18-4930-8188-8DB98E2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F787-2575-4372-8CAE-71436689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40F8-6E62-41C9-A274-18F70C4B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2AFB-571C-4BC5-A9FA-BA2062DD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F75-7423-4E33-B3CD-D5B5C25F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6BDD-EC95-4957-883A-A39A2455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B58F-8432-4226-815A-082192A3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6846-AF8F-4D0A-AC3A-F2B2D582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B7A9-A8F3-4EF3-897E-1EBD6C9B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8C0-D773-4583-A0CD-B385EDCB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FFFB-778F-4C42-A89D-7F08AFCA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610B-81D3-4C1F-871E-7065ED7B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B01D-E496-4309-884B-1BAF085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E882C-6B40-4428-B115-96A9DB9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78C6-2CCF-470D-BA03-04013AC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548-1C4B-4AF9-8D98-565F0A9F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5DFC-3CC1-4B4E-8A4C-95FBDF6A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100E-0149-451E-8EA7-110E39D9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4A919-9C24-4679-8763-BD19D49B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7EA2-D483-4930-A0ED-6CEDA26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B943-FF0A-4020-AD9D-C97FCEC8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A07E-2D4B-48D5-9030-A455154D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8316-2AD3-4ACC-912E-7D4DB87C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C40-DDA4-4378-8597-859918CE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9A8-23CD-4AFA-B2A3-9BF4B161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E71-40BD-4E16-B276-4013E739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812-290D-4F6F-86D5-E7555DA4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97A-E528-4248-81D4-64717A1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324-2BA0-405C-92D7-88B1D03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5F79-9C01-4E1E-AA6C-47CAF9929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7A7D-DF97-4F9A-8362-5027352A956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C58-C656-4BED-A288-5AF011A5A9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85560" y="3716280"/>
            <a:ext cx="6643800" cy="25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Развитие основных видов движений детей второй младшей группы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дготовили воспитатели: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ебекова Г.И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Оруджова С.Д.</a:t>
            </a: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Объект 5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388764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6faea"/>
                </a:solidFill>
                <a:latin typeface="Tahoma"/>
              </a:rPr>
              <a:t>Прыжки.</a:t>
            </a:r>
            <a:br>
              <a:rPr sz="3600"/>
            </a:br>
            <a:r>
              <a:rPr b="0" lang="ru-RU" sz="2000" spc="-1" strike="noStrike">
                <a:solidFill>
                  <a:srgbClr val="f6faea"/>
                </a:solidFill>
                <a:latin typeface="Tahoma"/>
              </a:rPr>
              <a:t>Упражнения в прыжках укрепляют костно-мышечный аппарат ног, туловища, тренируют глазомер, координацию движений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76" name="Содержимое 5" descr="IMG_7213.JPG"/>
          <p:cNvPicPr/>
          <p:nvPr/>
        </p:nvPicPr>
        <p:blipFill>
          <a:blip r:embed="rId1"/>
          <a:stretch/>
        </p:blipFill>
        <p:spPr>
          <a:xfrm>
            <a:off x="250920" y="2781360"/>
            <a:ext cx="2903400" cy="3502080"/>
          </a:xfrm>
          <a:prstGeom prst="rect">
            <a:avLst/>
          </a:prstGeom>
          <a:ln w="0">
            <a:noFill/>
          </a:ln>
        </p:spPr>
      </p:pic>
      <p:pic>
        <p:nvPicPr>
          <p:cNvPr id="277" name="Содержимое 7" descr="IMG_7246.JPG"/>
          <p:cNvPicPr/>
          <p:nvPr/>
        </p:nvPicPr>
        <p:blipFill>
          <a:blip r:embed="rId2"/>
          <a:stretch/>
        </p:blipFill>
        <p:spPr>
          <a:xfrm>
            <a:off x="6300720" y="3500280"/>
            <a:ext cx="2384640" cy="3111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357048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олзание.</a:t>
            </a:r>
            <a:br>
              <a:rPr sz="32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При ползании активно работает верхний плечевой пояс, мышцы рук и шеи, что создает хорошие предпосылки для воспитания у детей правильной осанки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80" name="Содержимое 8" descr="IMG_7191.JPG"/>
          <p:cNvPicPr/>
          <p:nvPr/>
        </p:nvPicPr>
        <p:blipFill>
          <a:blip r:embed="rId1"/>
          <a:stretch/>
        </p:blipFill>
        <p:spPr>
          <a:xfrm>
            <a:off x="1692360" y="206064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214200"/>
            <a:ext cx="9001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ahoma"/>
              </a:rPr>
              <a:t>Упражнения на развитие мелкой моторики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468360" y="141120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ижения пальцев и кистей рук имеют особое развивающее значение, так как оказывают огромное влияние на развитие речевой и всей высшей нервной деятельности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оде пальчиковых игр дети, повторяя движения взрослых, активируют моторику рук. Тем самым вырабатывается ловкость, умение управлять своими движениями, концентрировать внимание на одном виде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492360" y="3567240"/>
            <a:ext cx="41752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5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42200" cy="5967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D:\фото физо\IMG_7215.JPG"/>
          <p:cNvPicPr/>
          <p:nvPr/>
        </p:nvPicPr>
        <p:blipFill>
          <a:blip r:embed="rId2"/>
          <a:stretch/>
        </p:blipFill>
        <p:spPr>
          <a:xfrm>
            <a:off x="5435640" y="1714680"/>
            <a:ext cx="3173400" cy="422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D:\фото физо\IMG_7207.JPG"/>
          <p:cNvPicPr/>
          <p:nvPr/>
        </p:nvPicPr>
        <p:blipFill>
          <a:blip r:embed="rId3"/>
          <a:stretch/>
        </p:blipFill>
        <p:spPr>
          <a:xfrm>
            <a:off x="755640" y="2108160"/>
            <a:ext cx="425772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50920" y="981000"/>
            <a:ext cx="8518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95280" y="907920"/>
            <a:ext cx="8569440" cy="70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Здоровье свыше нам дан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чись, малыш, беречь его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8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106960" cy="3443040"/>
          </a:xfrm>
          <a:prstGeom prst="rect">
            <a:avLst/>
          </a:prstGeom>
          <a:ln w="57240">
            <a:solidFill>
              <a:srgbClr val="0066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й из приоритетных задач формирования здорового образа жизни у детей дошкольного возраста является создание мотивации, обучение и привитие навыков здорового образа жиз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жным направлением в формировании у детей основ здорового образа жизни является правильно организованная предметно-пространственная среда, прежде всего это двигательная предметно-развивающая среда. Она должна носить развивающий характер, быть разнообразной, динамичной, трансформируемой, полифункциональн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ировании предметно-пространственной среды, способствующей формированию здорового образа жизни детей дошкольников, мы учли следующие фак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индивидуальные социально-психологические особенности дет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особенности их эмоционально-личностного развит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индивидуальные интересы, склонности, предпочтения и потреб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особенности физического развития и здоровь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0920" y="115560"/>
            <a:ext cx="80866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ш физкультурный уголо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0" name="Содержимое 14" descr="IMG_7205.JPG"/>
          <p:cNvPicPr/>
          <p:nvPr/>
        </p:nvPicPr>
        <p:blipFill>
          <a:blip r:embed="rId1"/>
          <a:stretch/>
        </p:blipFill>
        <p:spPr>
          <a:xfrm>
            <a:off x="1000080" y="1857240"/>
            <a:ext cx="3143160" cy="4214880"/>
          </a:xfrm>
          <a:prstGeom prst="rect">
            <a:avLst/>
          </a:prstGeom>
          <a:ln w="0">
            <a:noFill/>
          </a:ln>
        </p:spPr>
      </p:pic>
      <p:pic>
        <p:nvPicPr>
          <p:cNvPr id="261" name="Содержимое 13" descr="IMG_7204.JPG"/>
          <p:cNvPicPr/>
          <p:nvPr/>
        </p:nvPicPr>
        <p:blipFill>
          <a:blip r:embed="rId2"/>
          <a:stretch/>
        </p:blipFill>
        <p:spPr>
          <a:xfrm>
            <a:off x="5124600" y="1857240"/>
            <a:ext cx="30859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пражнения на равновесие, массаж стоп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2133720"/>
            <a:ext cx="8137800" cy="33858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новесие обеспечивается сложным сочетанием в дейст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ичных анализаторов – мышечного, вестибулярно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рительного, кожного, объединяемых регулирующим влия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льной нерв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в равновесии помогают регулировать переме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тра тяжести тела и мышечные усилия, направляемые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хранение равнове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ногократное выполнение таких движений способствует развитию координации, ориентировке в пространстве, воспитывает самообладание, смел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D:\фото физо\IMG_7201.JPG"/>
          <p:cNvPicPr/>
          <p:nvPr/>
        </p:nvPicPr>
        <p:blipFill>
          <a:blip r:embed="rId1"/>
          <a:stretch/>
        </p:blipFill>
        <p:spPr>
          <a:xfrm>
            <a:off x="357120" y="3571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D:\фото физо\IMG_7203.JPG"/>
          <p:cNvPicPr/>
          <p:nvPr/>
        </p:nvPicPr>
        <p:blipFill>
          <a:blip r:embed="rId2"/>
          <a:stretch/>
        </p:blipFill>
        <p:spPr>
          <a:xfrm>
            <a:off x="4071960" y="2857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осание, метание укрепляют мышцы плечевого пояса, туловища, мелкие мышцы рук, способствуют развитию глазомера, меткости, координации движений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7" name="Содержимое 8" descr="IMG_7232.JPG"/>
          <p:cNvPicPr/>
          <p:nvPr/>
        </p:nvPicPr>
        <p:blipFill>
          <a:blip r:embed="rId1"/>
          <a:stretch/>
        </p:blipFill>
        <p:spPr>
          <a:xfrm>
            <a:off x="961920" y="2019240"/>
            <a:ext cx="3029040" cy="4038840"/>
          </a:xfrm>
          <a:prstGeom prst="rect">
            <a:avLst/>
          </a:prstGeom>
          <a:ln w="0">
            <a:noFill/>
          </a:ln>
        </p:spPr>
      </p:pic>
      <p:pic>
        <p:nvPicPr>
          <p:cNvPr id="268" name="Содержимое 9" descr="IMG_7233.JPG"/>
          <p:cNvPicPr/>
          <p:nvPr/>
        </p:nvPicPr>
        <p:blipFill>
          <a:blip r:embed="rId2"/>
          <a:stretch/>
        </p:blipFill>
        <p:spPr>
          <a:xfrm>
            <a:off x="5153040" y="201924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D:\фото физо\SPMT6335.JPG"/>
          <p:cNvPicPr/>
          <p:nvPr/>
        </p:nvPicPr>
        <p:blipFill>
          <a:blip r:embed="rId1"/>
          <a:stretch/>
        </p:blipFill>
        <p:spPr>
          <a:xfrm>
            <a:off x="142920" y="5000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D:\фото физо\APQR2580.JPG"/>
          <p:cNvPicPr/>
          <p:nvPr/>
        </p:nvPicPr>
        <p:blipFill>
          <a:blip r:embed="rId2"/>
          <a:stretch/>
        </p:blipFill>
        <p:spPr>
          <a:xfrm>
            <a:off x="4500720" y="328608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5500800" y="100008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гры с мячом развивают ловкость, ритмичность и точность дв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ext Box 9" descr=""/>
          <p:cNvPicPr/>
          <p:nvPr/>
        </p:nvPicPr>
        <p:blipFill>
          <a:blip r:embed="rId1"/>
          <a:stretch/>
        </p:blipFill>
        <p:spPr>
          <a:xfrm>
            <a:off x="2255760" y="4516560"/>
            <a:ext cx="4168800" cy="142056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8" descr="NRCG6037.JPG"/>
          <p:cNvPicPr/>
          <p:nvPr/>
        </p:nvPicPr>
        <p:blipFill>
          <a:blip r:embed="rId2"/>
          <a:stretch/>
        </p:blipFill>
        <p:spPr>
          <a:xfrm>
            <a:off x="539640" y="69228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274" name="Содержимое 10" descr="OWJA9008.JPG"/>
          <p:cNvPicPr/>
          <p:nvPr/>
        </p:nvPicPr>
        <p:blipFill>
          <a:blip r:embed="rId3"/>
          <a:stretch/>
        </p:blipFill>
        <p:spPr>
          <a:xfrm>
            <a:off x="5148360" y="692280"/>
            <a:ext cx="3095640" cy="309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7:28:53Z</dcterms:created>
  <dc:creator>Галя</dc:creator>
  <dc:description/>
  <dc:language>en-US</dc:language>
  <cp:lastModifiedBy>Адаптация</cp:lastModifiedBy>
  <dcterms:modified xsi:type="dcterms:W3CDTF">2021-04-05T07:15:53Z</dcterms:modified>
  <cp:revision>24</cp:revision>
  <dc:subject/>
  <dc:title>МДОУ «Центр развития ребёнка – детский сад №14»</dc:title>
</cp:coreProperties>
</file>