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4BC-A811-4BC3-83D3-DE7F083A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5E5-6BED-4BC8-A88C-A9A927C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B1A-17EE-46D0-B8F0-689EDB0E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CB7-28AC-4A5E-81B9-5B05C900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2F3-CC1E-403F-88E0-9BAA292A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3611-1F0D-4BC0-AF5A-F12BA160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E4C8-8628-44EC-8C2A-C3CCBA8D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2AE9-EC02-4656-8B4B-46E5EC3F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E6B0-53A7-4EB7-8CC1-E939E192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FF27-619C-4202-A397-EFB7E102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B1B4-69C0-45DE-B183-77052BF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D54-EEF1-46AA-9D9A-EE384E63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553E-4342-4CD9-9930-0BB2D78D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21E2-F689-4D4F-B357-25F7BC3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3E07-8679-4ECD-953B-E40C9120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332A-C7AF-4F18-BD95-BDB0C6BC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EBCE-6DCA-4A63-83B3-3D066384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6653-2B3E-425F-BF6B-5AEAAC5E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FE94-697B-49B7-9077-CA7FD50E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863D-7971-4215-B2E4-FD6408F1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1C7C-2125-464C-8653-81E930E6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F28A-304E-4499-A166-CA5E224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C1E-0F78-4176-A633-A07AF871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55F9-3E36-4C6E-94AD-89FDAB14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F47F-B913-4D70-A63D-A11EE77D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48B7-C452-4972-8723-2B546C15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FDDA-2E39-4807-9D68-936B686D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BAAC-8A9A-4657-BC82-B3212607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ED83-0E7D-491E-8381-E87A9E6A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AD55-6447-4545-BF76-171BD2F5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DB5-A1E2-4C43-9B40-B852693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4BB-F083-49FD-B765-970280DE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D31-CE2F-412D-AB7E-6B7B3BEA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B63-5FEE-45C0-AAAC-31C01C3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D84-B76F-4771-8EEA-9DEDB62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B2C-1EE4-4554-954F-45BE7C8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F517-A893-414C-B98C-3F94F315A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26FE-47ED-44A3-B3D8-10F06A4187B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8DCB-5931-469B-9958-44E1704CA3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85560" y="3716280"/>
            <a:ext cx="6643800" cy="25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звитие основных видов движений детей второй младшей группы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одготовили воспитатели: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Гебекова Г.И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Оруджова С.Д.</a:t>
            </a: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Объект 5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88764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ffcc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faea"/>
                </a:solidFill>
                <a:latin typeface="Tahoma"/>
              </a:rPr>
              <a:t>Прыжки.</a:t>
            </a:r>
            <a:br>
              <a:rPr sz="3600"/>
            </a:br>
            <a:r>
              <a:rPr b="0" lang="ru-RU" sz="2000" spc="-1" strike="noStrike">
                <a:solidFill>
                  <a:srgbClr val="f6faea"/>
                </a:solidFill>
                <a:latin typeface="Tahoma"/>
              </a:rPr>
              <a:t>Упражнения в прыжках укрепляют костно-мышечный аппарат ног, туловища, тренируют глазомер, координацию движений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76" name="Содержимое 5" descr="IMG_7213.JPG"/>
          <p:cNvPicPr/>
          <p:nvPr/>
        </p:nvPicPr>
        <p:blipFill>
          <a:blip r:embed="rId1"/>
          <a:stretch/>
        </p:blipFill>
        <p:spPr>
          <a:xfrm>
            <a:off x="250920" y="2781360"/>
            <a:ext cx="2903400" cy="3502080"/>
          </a:xfrm>
          <a:prstGeom prst="rect">
            <a:avLst/>
          </a:prstGeom>
          <a:ln w="0">
            <a:noFill/>
          </a:ln>
        </p:spPr>
      </p:pic>
      <p:pic>
        <p:nvPicPr>
          <p:cNvPr id="277" name="Содержимое 7" descr="IMG_7246.JPG"/>
          <p:cNvPicPr/>
          <p:nvPr/>
        </p:nvPicPr>
        <p:blipFill>
          <a:blip r:embed="rId2"/>
          <a:stretch/>
        </p:blipFill>
        <p:spPr>
          <a:xfrm>
            <a:off x="6300720" y="3500280"/>
            <a:ext cx="2384640" cy="3111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357048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олзание.</a:t>
            </a:r>
            <a:br>
              <a:rPr sz="3200"/>
            </a:b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При ползании активно работает верхний плечевой пояс, мышцы рук и шеи, что создает хорошие предпосылки для воспитания у детей правильной осанки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80" name="Содержимое 8" descr="IMG_7191.JPG"/>
          <p:cNvPicPr/>
          <p:nvPr/>
        </p:nvPicPr>
        <p:blipFill>
          <a:blip r:embed="rId1"/>
          <a:stretch/>
        </p:blipFill>
        <p:spPr>
          <a:xfrm>
            <a:off x="1692360" y="206064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9001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ahoma"/>
              </a:rPr>
              <a:t>Упражнения на развитие мелкой моторики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468360" y="141120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ижения пальцев и кистей рук имеют особое развивающее значение, так как оказывают огромное влияние на развитие речевой и всей высшей нервной деятельности ребе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ходе пальчиковых игр дети, повторяя движения взрослых, активируют моторику рук. Тем самым вырабатывается ловкость, умение управлять своими движениями, концентрировать внимание на одном виде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492360" y="3567240"/>
            <a:ext cx="417528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5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42200" cy="5967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D:\фото физо\IMG_7215.JPG"/>
          <p:cNvPicPr/>
          <p:nvPr/>
        </p:nvPicPr>
        <p:blipFill>
          <a:blip r:embed="rId2"/>
          <a:stretch/>
        </p:blipFill>
        <p:spPr>
          <a:xfrm>
            <a:off x="5435640" y="1714680"/>
            <a:ext cx="3173400" cy="4228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D:\фото физо\IMG_7207.JPG"/>
          <p:cNvPicPr/>
          <p:nvPr/>
        </p:nvPicPr>
        <p:blipFill>
          <a:blip r:embed="rId3"/>
          <a:stretch/>
        </p:blipFill>
        <p:spPr>
          <a:xfrm>
            <a:off x="755640" y="2108160"/>
            <a:ext cx="4257720" cy="31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50920" y="981000"/>
            <a:ext cx="85183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95280" y="907920"/>
            <a:ext cx="8569440" cy="70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Здоровье свыше нам дан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чись, малыш, беречь его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8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5106960" cy="34430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ой из приоритетных задач формирования здорового образа жизни у детей дошкольного возраста является создание мотивации, обучение и привитие навыков здорового образа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жным направлением в формировании у детей основ здорового образа жизни является правильно организованная предметно-пространственная среда, прежде всего это двигательная предметно-развивающая среда. Она должна носить развивающий характер, быть разнообразной, динамичной, трансформируемой, полифункциональн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оектировании предметно-пространственной среды, способствующей формированию здорового образа жизни детей дошкольников, мы учли следующие фак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индивидуальные социально-психологические особенности де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особенности их эмоционально-личностного развит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индивидуальные интересы, склонности, предпочтения и потреб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особенности физического развития и здоровья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0866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ш физкультурный уголо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0" name="Содержимое 14" descr="IMG_7205.JPG"/>
          <p:cNvPicPr/>
          <p:nvPr/>
        </p:nvPicPr>
        <p:blipFill>
          <a:blip r:embed="rId1"/>
          <a:stretch/>
        </p:blipFill>
        <p:spPr>
          <a:xfrm>
            <a:off x="1000080" y="1857240"/>
            <a:ext cx="3143160" cy="4214880"/>
          </a:xfrm>
          <a:prstGeom prst="rect">
            <a:avLst/>
          </a:prstGeom>
          <a:ln w="0">
            <a:noFill/>
          </a:ln>
        </p:spPr>
      </p:pic>
      <p:pic>
        <p:nvPicPr>
          <p:cNvPr id="261" name="Содержимое 13" descr="IMG_7204.JPG"/>
          <p:cNvPicPr/>
          <p:nvPr/>
        </p:nvPicPr>
        <p:blipFill>
          <a:blip r:embed="rId2"/>
          <a:stretch/>
        </p:blipFill>
        <p:spPr>
          <a:xfrm>
            <a:off x="5124600" y="1857240"/>
            <a:ext cx="30859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пражнения на равновесие, массаж стоп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2133720"/>
            <a:ext cx="8137800" cy="33858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новесие обеспечивается сложным сочетанием в действ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личных анализаторов – мышечного, вестибулярног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рительного, кожного, объединяемых регулирующим влияни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альной нерв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ражнения в равновесии помогают регулировать переме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а тяжести тела и мышечные усилия, направляемые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хранение равнове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ногократное выполнение таких движений способствует развитию координации, ориентировке в пространстве, воспитывает самообладание, смел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D:\фото физо\IMG_7201.JPG"/>
          <p:cNvPicPr/>
          <p:nvPr/>
        </p:nvPicPr>
        <p:blipFill>
          <a:blip r:embed="rId1"/>
          <a:stretch/>
        </p:blipFill>
        <p:spPr>
          <a:xfrm>
            <a:off x="357120" y="3571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D:\фото физо\IMG_7203.JPG"/>
          <p:cNvPicPr/>
          <p:nvPr/>
        </p:nvPicPr>
        <p:blipFill>
          <a:blip r:embed="rId2"/>
          <a:stretch/>
        </p:blipFill>
        <p:spPr>
          <a:xfrm>
            <a:off x="4071960" y="2857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осание, метание укрепляют мышцы плечевого пояса, туловища, мелкие мышцы рук, способствуют развитию глазомера, меткости, координации движений.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7" name="Содержимое 8" descr="IMG_7232.JPG"/>
          <p:cNvPicPr/>
          <p:nvPr/>
        </p:nvPicPr>
        <p:blipFill>
          <a:blip r:embed="rId1"/>
          <a:stretch/>
        </p:blipFill>
        <p:spPr>
          <a:xfrm>
            <a:off x="961920" y="2019240"/>
            <a:ext cx="3029040" cy="403884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9" descr="IMG_7233.JPG"/>
          <p:cNvPicPr/>
          <p:nvPr/>
        </p:nvPicPr>
        <p:blipFill>
          <a:blip r:embed="rId2"/>
          <a:stretch/>
        </p:blipFill>
        <p:spPr>
          <a:xfrm>
            <a:off x="5153040" y="2019240"/>
            <a:ext cx="30290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D:\фото физо\SPMT6335.JPG"/>
          <p:cNvPicPr/>
          <p:nvPr/>
        </p:nvPicPr>
        <p:blipFill>
          <a:blip r:embed="rId1"/>
          <a:stretch/>
        </p:blipFill>
        <p:spPr>
          <a:xfrm>
            <a:off x="142920" y="5000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D:\фото физо\APQR2580.JPG"/>
          <p:cNvPicPr/>
          <p:nvPr/>
        </p:nvPicPr>
        <p:blipFill>
          <a:blip r:embed="rId2"/>
          <a:stretch/>
        </p:blipFill>
        <p:spPr>
          <a:xfrm>
            <a:off x="4500720" y="328608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/>
          <p:cNvSpPr/>
          <p:nvPr/>
        </p:nvSpPr>
        <p:spPr>
          <a:xfrm>
            <a:off x="5500800" y="100008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ы с мячом развивают ловкость, ритмичность и точность дви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ext Box 9" descr=""/>
          <p:cNvPicPr/>
          <p:nvPr/>
        </p:nvPicPr>
        <p:blipFill>
          <a:blip r:embed="rId1"/>
          <a:stretch/>
        </p:blipFill>
        <p:spPr>
          <a:xfrm>
            <a:off x="2255760" y="4516560"/>
            <a:ext cx="4168800" cy="142056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8" descr="NRCG6037.JPG"/>
          <p:cNvPicPr/>
          <p:nvPr/>
        </p:nvPicPr>
        <p:blipFill>
          <a:blip r:embed="rId2"/>
          <a:stretch/>
        </p:blipFill>
        <p:spPr>
          <a:xfrm>
            <a:off x="539640" y="69228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274" name="Содержимое 10" descr="OWJA9008.JPG"/>
          <p:cNvPicPr/>
          <p:nvPr/>
        </p:nvPicPr>
        <p:blipFill>
          <a:blip r:embed="rId3"/>
          <a:stretch/>
        </p:blipFill>
        <p:spPr>
          <a:xfrm>
            <a:off x="5148360" y="692280"/>
            <a:ext cx="3095640" cy="309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28:53Z</dcterms:created>
  <dc:creator>Галя</dc:creator>
  <dc:description/>
  <dc:language>en-US</dc:language>
  <cp:lastModifiedBy>Адаптация</cp:lastModifiedBy>
  <dcterms:modified xsi:type="dcterms:W3CDTF">2021-04-05T07:15:53Z</dcterms:modified>
  <cp:revision>24</cp:revision>
  <dc:subject/>
  <dc:title>МДОУ «Центр развития ребёнка – детский сад №14»</dc:title>
</cp:coreProperties>
</file>