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AE4-5653-42C0-9951-757D9259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31C-3D23-4429-A391-E5A6456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CF9-199A-4303-822E-8B30E6C8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135-CCAF-4E11-A807-0B6FCD50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142F-721A-4310-8720-FD5D5194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2293-F7A6-420D-AC2C-4709927E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7E45-FB75-4D79-AC36-3E3FFDFF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4F62-C95A-4B26-A458-A0335A38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8626-F04A-498E-AF9B-9AD23595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D7D1-F732-41EB-AC88-62B04743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9D0D-89C1-4976-A497-A962A91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4C7-D29C-4F9F-B928-0A00A437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12FB-AA67-4736-9203-4F5A45C9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6B64-4A7D-4E37-AE08-35DEAA90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FBC4-4BBF-4D8C-AD4B-943BAD4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E664-17A8-4E51-B50E-759A669F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CB43-6180-4B7A-860E-8856F1B1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DD3-E34B-4AEF-8EB0-0E296843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E49-A290-4AA2-A87F-0878B143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765-65FC-4B75-ABFC-34EBAA44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A9C-01F1-4E15-A2B2-8746519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630-67FE-4B78-AFF2-AABA8DB5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F5B-C17A-4E2E-8B57-57DAF697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98B-0DED-402C-AE81-4384D73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16F-D81B-4DB7-B352-AC6911C61BB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FEC0-D93D-4C29-8003-4C2BD12A265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t-n.ru/profil.aspx?cat_no=692&amp;d_no=9658" TargetMode="External"/><Relationship Id="rId2" Type="http://schemas.openxmlformats.org/officeDocument/2006/relationships/hyperlink" Target="http://www.it-n.ru/profil.aspx?cat_no=692&amp;d_no=9658" TargetMode="External"/><Relationship Id="rId3" Type="http://schemas.openxmlformats.org/officeDocument/2006/relationships/hyperlink" Target="http://www.it-n.ru/profil.aspx?cat_no=692&amp;d_no=9658" TargetMode="External"/><Relationship Id="rId4" Type="http://schemas.openxmlformats.org/officeDocument/2006/relationships/hyperlink" Target="http://www.it-n.ru/profil.aspx?cat_no=692&amp;d_no=9658" TargetMode="External"/><Relationship Id="rId5" Type="http://schemas.openxmlformats.org/officeDocument/2006/relationships/hyperlink" Target="http://images.yandex.ru/" TargetMode="External"/><Relationship Id="rId6" Type="http://schemas.openxmlformats.org/officeDocument/2006/relationships/hyperlink" Target="http://ru.wikipedia.org/wiki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6;&#1083;&#1082;&#1086;&#1074;&#1099;&#1081;_&#1089;&#1083;&#1086;&#1074;&#1072;&#1088;&#1100;_&#1078;&#1080;&#1074;&#1086;&#1075;&#1086;_&#1074;&#1077;&#1083;&#1080;&#1082;&#1086;&#1088;&#1091;&#1089;&#1089;&#1082;&#1086;&#1075;&#1086;_&#1103;&#1079;&#1099;&#1082;&#1072;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92360" y="3716280"/>
            <a:ext cx="4319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Georgia"/>
                <a:ea typeface="Arial"/>
              </a:rPr>
              <a:t>5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Georgia"/>
                <a:ea typeface="Arial"/>
              </a:rPr>
              <a:t>Нежельская С.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9280" y="1413000"/>
            <a:ext cx="8020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множение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туральных чисел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и его свойства.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24000" y="333360"/>
            <a:ext cx="7343640" cy="1150920"/>
          </a:xfrm>
          <a:prstGeom prst="wedgeRoundRectCallout">
            <a:avLst>
              <a:gd name="adj1" fmla="val -48333"/>
              <a:gd name="adj2" fmla="val 192620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При умножении любого числа на нуль всегда будет нул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771640" y="3141720"/>
            <a:ext cx="5040360" cy="1224000"/>
            <a:chOff x="2771640" y="3141720"/>
            <a:chExt cx="5040360" cy="1224000"/>
          </a:xfrm>
        </p:grpSpPr>
        <p:sp>
          <p:nvSpPr>
            <p:cNvPr id="621" name=""/>
            <p:cNvSpPr/>
            <p:nvPr/>
          </p:nvSpPr>
          <p:spPr>
            <a:xfrm>
              <a:off x="4067280" y="3789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2771640" y="3141720"/>
              <a:ext cx="5040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0 = 0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1042920" y="981000"/>
            <a:ext cx="2592360" cy="647640"/>
            <a:chOff x="1042920" y="981000"/>
            <a:chExt cx="2592360" cy="647640"/>
          </a:xfrm>
        </p:grpSpPr>
        <p:sp>
          <p:nvSpPr>
            <p:cNvPr id="624" name=""/>
            <p:cNvSpPr txBox="1"/>
            <p:nvPr/>
          </p:nvSpPr>
          <p:spPr>
            <a:xfrm>
              <a:off x="1042920" y="981000"/>
              <a:ext cx="2592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   1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63640" y="1268280"/>
              <a:ext cx="13824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26920" y="2133720"/>
            <a:ext cx="2808360" cy="647640"/>
            <a:chOff x="826920" y="2133720"/>
            <a:chExt cx="2808360" cy="647640"/>
          </a:xfrm>
        </p:grpSpPr>
        <p:sp>
          <p:nvSpPr>
            <p:cNvPr id="627" name=""/>
            <p:cNvSpPr/>
            <p:nvPr/>
          </p:nvSpPr>
          <p:spPr>
            <a:xfrm>
              <a:off x="1908000" y="242100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826920" y="2133720"/>
              <a:ext cx="2808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1   1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826920" y="4869000"/>
            <a:ext cx="3384720" cy="647640"/>
            <a:chOff x="826920" y="4869000"/>
            <a:chExt cx="3384720" cy="647640"/>
          </a:xfrm>
        </p:grpSpPr>
        <p:sp>
          <p:nvSpPr>
            <p:cNvPr id="630" name=""/>
            <p:cNvSpPr/>
            <p:nvPr/>
          </p:nvSpPr>
          <p:spPr>
            <a:xfrm>
              <a:off x="2411280" y="515772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826920" y="4869000"/>
              <a:ext cx="3384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3   1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564000" y="404640"/>
            <a:ext cx="194472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92360" y="1628640"/>
            <a:ext cx="194472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971640" y="3500280"/>
            <a:ext cx="2808360" cy="648000"/>
            <a:chOff x="971640" y="3500280"/>
            <a:chExt cx="2808360" cy="648000"/>
          </a:xfrm>
        </p:grpSpPr>
        <p:sp>
          <p:nvSpPr>
            <p:cNvPr id="635" name=""/>
            <p:cNvSpPr txBox="1"/>
            <p:nvPr/>
          </p:nvSpPr>
          <p:spPr>
            <a:xfrm>
              <a:off x="971640" y="3500280"/>
              <a:ext cx="28083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   78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92360" y="37893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564000" y="2997360"/>
            <a:ext cx="1944720" cy="187308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78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51280" y="4221000"/>
            <a:ext cx="194472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123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2720" y="2133720"/>
            <a:ext cx="3456000" cy="1008000"/>
          </a:xfrm>
          <a:prstGeom prst="wedgeRoundRectCallout">
            <a:avLst>
              <a:gd name="adj1" fmla="val -5763"/>
              <a:gd name="adj2" fmla="val 11047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Сформулируй свойство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547640" y="404640"/>
            <a:ext cx="5761080" cy="1727280"/>
          </a:xfrm>
          <a:prstGeom prst="wedgeRoundRectCallout">
            <a:avLst>
              <a:gd name="adj1" fmla="val -43305"/>
              <a:gd name="adj2" fmla="val 173898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При умножении любого числа на единицу всегда получаем это числ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2771640" y="3141720"/>
            <a:ext cx="5040360" cy="1224000"/>
            <a:chOff x="2771640" y="3141720"/>
            <a:chExt cx="5040360" cy="1224000"/>
          </a:xfrm>
        </p:grpSpPr>
        <p:sp>
          <p:nvSpPr>
            <p:cNvPr id="642" name=""/>
            <p:cNvSpPr/>
            <p:nvPr/>
          </p:nvSpPr>
          <p:spPr>
            <a:xfrm>
              <a:off x="4067280" y="378936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2771640" y="3141720"/>
              <a:ext cx="5040360" cy="12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1 = а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95280" y="260280"/>
            <a:ext cx="8534520" cy="647640"/>
          </a:xfrm>
          <a:prstGeom prst="wedgeRoundRectCallout">
            <a:avLst>
              <a:gd name="adj1" fmla="val 41148"/>
              <a:gd name="adj2" fmla="val 478921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Вычислим удобным способом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258920" y="1341360"/>
            <a:ext cx="4753080" cy="647640"/>
            <a:chOff x="1258920" y="1341360"/>
            <a:chExt cx="4753080" cy="647640"/>
          </a:xfrm>
        </p:grpSpPr>
        <p:sp>
          <p:nvSpPr>
            <p:cNvPr id="646" name=""/>
            <p:cNvSpPr/>
            <p:nvPr/>
          </p:nvSpPr>
          <p:spPr>
            <a:xfrm>
              <a:off x="3276720" y="1628640"/>
              <a:ext cx="14292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340000" y="1628640"/>
              <a:ext cx="14292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1258920" y="1341360"/>
              <a:ext cx="475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0   2   2453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49" name=""/>
          <p:cNvSpPr txBox="1"/>
          <p:nvPr/>
        </p:nvSpPr>
        <p:spPr>
          <a:xfrm>
            <a:off x="1258920" y="1341360"/>
            <a:ext cx="72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556000" y="134136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0000" y="2708280"/>
            <a:ext cx="5050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56000" y="2708280"/>
            <a:ext cx="1429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43280" y="2708280"/>
            <a:ext cx="1429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635280" y="134136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453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619280" y="2492280"/>
            <a:ext cx="14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51280" y="2492280"/>
            <a:ext cx="14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)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227640" y="2708280"/>
            <a:ext cx="5050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900000" y="3716280"/>
            <a:ext cx="5050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692360" y="3500280"/>
            <a:ext cx="4249800" cy="647640"/>
            <a:chOff x="1692360" y="3500280"/>
            <a:chExt cx="4249800" cy="647640"/>
          </a:xfrm>
        </p:grpSpPr>
        <p:sp>
          <p:nvSpPr>
            <p:cNvPr id="660" name=""/>
            <p:cNvSpPr/>
            <p:nvPr/>
          </p:nvSpPr>
          <p:spPr>
            <a:xfrm>
              <a:off x="3205440" y="37875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692360" y="3500280"/>
              <a:ext cx="42498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   2453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1187280" y="4221000"/>
            <a:ext cx="460872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24530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L 0.05521 0.16274 E">
                                      <p:cBhvr>
                                        <p:cTn id="643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7407E-006 L 0.07882 0.16274 E">
                                      <p:cBhvr>
                                        <p:cTn id="664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0.11042 0.16274 E">
                                      <p:cBhvr>
                                        <p:cTn id="699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971640" y="620640"/>
            <a:ext cx="4176720" cy="504720"/>
            <a:chOff x="971640" y="620640"/>
            <a:chExt cx="4176720" cy="504720"/>
          </a:xfrm>
        </p:grpSpPr>
        <p:sp>
          <p:nvSpPr>
            <p:cNvPr id="664" name=""/>
            <p:cNvSpPr/>
            <p:nvPr/>
          </p:nvSpPr>
          <p:spPr>
            <a:xfrm>
              <a:off x="3312360" y="788400"/>
              <a:ext cx="12492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62320" y="788400"/>
              <a:ext cx="12492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971640" y="620640"/>
              <a:ext cx="4176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35   4   25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6227640" y="189000"/>
            <a:ext cx="3095640" cy="151272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2350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826920" y="1916280"/>
            <a:ext cx="4176720" cy="504720"/>
            <a:chOff x="826920" y="1916280"/>
            <a:chExt cx="4176720" cy="504720"/>
          </a:xfrm>
        </p:grpSpPr>
        <p:sp>
          <p:nvSpPr>
            <p:cNvPr id="669" name=""/>
            <p:cNvSpPr/>
            <p:nvPr/>
          </p:nvSpPr>
          <p:spPr>
            <a:xfrm>
              <a:off x="3490920" y="213192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74560" y="2131920"/>
              <a:ext cx="12564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826920" y="1916280"/>
              <a:ext cx="4176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   2121   5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6227640" y="1557360"/>
            <a:ext cx="3095640" cy="151272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4242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826920" y="3429000"/>
            <a:ext cx="4176720" cy="504720"/>
            <a:chOff x="826920" y="3429000"/>
            <a:chExt cx="4176720" cy="504720"/>
          </a:xfrm>
        </p:grpSpPr>
        <p:sp>
          <p:nvSpPr>
            <p:cNvPr id="674" name=""/>
            <p:cNvSpPr/>
            <p:nvPr/>
          </p:nvSpPr>
          <p:spPr>
            <a:xfrm>
              <a:off x="1835280" y="3644640"/>
              <a:ext cx="14256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92360" y="3644640"/>
              <a:ext cx="14292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>
              <a:off x="826920" y="3429000"/>
              <a:ext cx="4176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0   821   4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6012000" y="2997360"/>
            <a:ext cx="3457440" cy="151272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16420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971640" y="4797360"/>
            <a:ext cx="4033800" cy="504720"/>
            <a:chOff x="971640" y="4797360"/>
            <a:chExt cx="4033800" cy="504720"/>
          </a:xfrm>
        </p:grpSpPr>
        <p:sp>
          <p:nvSpPr>
            <p:cNvPr id="679" name=""/>
            <p:cNvSpPr txBox="1"/>
            <p:nvPr/>
          </p:nvSpPr>
          <p:spPr>
            <a:xfrm>
              <a:off x="971640" y="4797360"/>
              <a:ext cx="40338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4   27   25 =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21080" y="5013000"/>
              <a:ext cx="14292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87640" y="5013000"/>
              <a:ext cx="14292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6048360" y="4365720"/>
            <a:ext cx="3095640" cy="151272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2700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721440" y="907920"/>
            <a:ext cx="7790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В четырёх школах нашего города 368 девочек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которых мальчики дёргают за косички в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среднем 3 раза в день каждую (причём ка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дома, так и в школе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             </a:t>
            </a: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Сколько раз были дёрнуты косички з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             </a:t>
            </a: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сентябрь у всех девочек в четырё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                  </a:t>
            </a: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школах города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140360" y="3538800"/>
            <a:ext cx="4531680" cy="2939760"/>
            <a:chOff x="4140360" y="3538800"/>
            <a:chExt cx="4531680" cy="2939760"/>
          </a:xfrm>
        </p:grpSpPr>
        <p:grpSp>
          <p:nvGrpSpPr>
            <p:cNvPr id="685" name=""/>
            <p:cNvGrpSpPr/>
            <p:nvPr/>
          </p:nvGrpSpPr>
          <p:grpSpPr>
            <a:xfrm>
              <a:off x="5868720" y="3645000"/>
              <a:ext cx="1218960" cy="1762200"/>
              <a:chOff x="5868720" y="3645000"/>
              <a:chExt cx="1218960" cy="1762200"/>
            </a:xfrm>
          </p:grpSpPr>
          <p:pic>
            <p:nvPicPr>
              <p:cNvPr id="6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868720" y="364500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7" name=""/>
              <p:cNvGrpSpPr/>
              <p:nvPr/>
            </p:nvGrpSpPr>
            <p:grpSpPr>
              <a:xfrm>
                <a:off x="6087240" y="4306320"/>
                <a:ext cx="840240" cy="984600"/>
                <a:chOff x="6087240" y="4306320"/>
                <a:chExt cx="840240" cy="9846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157440" y="433368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501960" y="476064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271920" y="463680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473880" y="463680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541200" y="463680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193440" y="470304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675480" y="470304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339240" y="450468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675480" y="434052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759720" y="465588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117840" y="432504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087240" y="466128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406560" y="434736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423480" y="430632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524280" y="431820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7524720" y="3612600"/>
              <a:ext cx="1142640" cy="1784880"/>
              <a:chOff x="7524720" y="3612600"/>
              <a:chExt cx="1142640" cy="1784880"/>
            </a:xfrm>
          </p:grpSpPr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24720" y="3645000"/>
                <a:ext cx="114264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7708680" y="470808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909920" y="466056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07" name=""/>
              <p:cNvGrpSpPr/>
              <p:nvPr/>
            </p:nvGrpSpPr>
            <p:grpSpPr>
              <a:xfrm>
                <a:off x="8111160" y="3612600"/>
                <a:ext cx="391320" cy="347400"/>
                <a:chOff x="8111160" y="3612600"/>
                <a:chExt cx="391320" cy="347400"/>
              </a:xfrm>
            </p:grpSpPr>
            <p:sp>
              <p:nvSpPr>
                <p:cNvPr id="708" name=""/>
                <p:cNvSpPr/>
                <p:nvPr/>
              </p:nvSpPr>
              <p:spPr>
                <a:xfrm rot="720600">
                  <a:off x="8136720" y="3644640"/>
                  <a:ext cx="33984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rot="720600">
                  <a:off x="8278200" y="375120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7690680" y="3617640"/>
                <a:ext cx="348840" cy="408960"/>
                <a:chOff x="7690680" y="3617640"/>
                <a:chExt cx="348840" cy="408960"/>
              </a:xfrm>
            </p:grpSpPr>
            <p:sp>
              <p:nvSpPr>
                <p:cNvPr id="711" name=""/>
                <p:cNvSpPr/>
                <p:nvPr/>
              </p:nvSpPr>
              <p:spPr>
                <a:xfrm rot="17028000">
                  <a:off x="7687800" y="368604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17028000">
                  <a:off x="7835040" y="378792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3" name=""/>
            <p:cNvGrpSpPr/>
            <p:nvPr/>
          </p:nvGrpSpPr>
          <p:grpSpPr>
            <a:xfrm>
              <a:off x="6516360" y="3538800"/>
              <a:ext cx="1218960" cy="1787400"/>
              <a:chOff x="6516360" y="3538800"/>
              <a:chExt cx="1218960" cy="1787400"/>
            </a:xfrm>
          </p:grpSpPr>
          <p:pic>
            <p:nvPicPr>
              <p:cNvPr id="7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16360" y="3573360"/>
                <a:ext cx="121896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6712560" y="4636440"/>
                <a:ext cx="84996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927480" y="4589280"/>
                <a:ext cx="435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2f1311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143840" y="3538800"/>
                <a:ext cx="414000" cy="352800"/>
                <a:chOff x="7143840" y="3538800"/>
                <a:chExt cx="414000" cy="352800"/>
              </a:xfrm>
            </p:grpSpPr>
            <p:sp>
              <p:nvSpPr>
                <p:cNvPr id="718" name=""/>
                <p:cNvSpPr/>
                <p:nvPr/>
              </p:nvSpPr>
              <p:spPr>
                <a:xfrm rot="720600">
                  <a:off x="7169400" y="357336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rot="720600">
                  <a:off x="7320240" y="3679560"/>
                  <a:ext cx="60120" cy="705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695640" y="3543840"/>
                <a:ext cx="366120" cy="413280"/>
                <a:chOff x="6695640" y="3543840"/>
                <a:chExt cx="366120" cy="413280"/>
              </a:xfrm>
            </p:grpSpPr>
            <p:sp>
              <p:nvSpPr>
                <p:cNvPr id="721" name=""/>
                <p:cNvSpPr/>
                <p:nvPr/>
              </p:nvSpPr>
              <p:spPr>
                <a:xfrm rot="17028000">
                  <a:off x="6701400" y="3605400"/>
                  <a:ext cx="354240" cy="290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rot="17028000">
                  <a:off x="6849000" y="3714480"/>
                  <a:ext cx="58680" cy="723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3" name=""/>
            <p:cNvGrpSpPr/>
            <p:nvPr/>
          </p:nvGrpSpPr>
          <p:grpSpPr>
            <a:xfrm>
              <a:off x="7092720" y="3972960"/>
              <a:ext cx="1142640" cy="1784880"/>
              <a:chOff x="7092720" y="3972960"/>
              <a:chExt cx="1142640" cy="1784880"/>
            </a:xfrm>
          </p:grpSpPr>
          <p:pic>
            <p:nvPicPr>
              <p:cNvPr id="72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2720" y="4005360"/>
                <a:ext cx="114264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5" name=""/>
              <p:cNvSpPr/>
              <p:nvPr/>
            </p:nvSpPr>
            <p:spPr>
              <a:xfrm>
                <a:off x="7276680" y="506844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77920" y="5020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7679160" y="3972960"/>
                <a:ext cx="391320" cy="347400"/>
                <a:chOff x="7679160" y="3972960"/>
                <a:chExt cx="391320" cy="347400"/>
              </a:xfrm>
            </p:grpSpPr>
            <p:sp>
              <p:nvSpPr>
                <p:cNvPr id="728" name=""/>
                <p:cNvSpPr/>
                <p:nvPr/>
              </p:nvSpPr>
              <p:spPr>
                <a:xfrm rot="720600">
                  <a:off x="7704720" y="4005000"/>
                  <a:ext cx="33984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720600">
                  <a:off x="7846200" y="411156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7258680" y="3978000"/>
                <a:ext cx="348840" cy="408960"/>
                <a:chOff x="7258680" y="3978000"/>
                <a:chExt cx="348840" cy="408960"/>
              </a:xfrm>
            </p:grpSpPr>
            <p:sp>
              <p:nvSpPr>
                <p:cNvPr id="731" name=""/>
                <p:cNvSpPr/>
                <p:nvPr/>
              </p:nvSpPr>
              <p:spPr>
                <a:xfrm rot="17028000">
                  <a:off x="7255800" y="404640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7028000">
                  <a:off x="7403040" y="414828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"/>
            <p:cNvGrpSpPr/>
            <p:nvPr/>
          </p:nvGrpSpPr>
          <p:grpSpPr>
            <a:xfrm>
              <a:off x="6516360" y="3970800"/>
              <a:ext cx="1218960" cy="1787040"/>
              <a:chOff x="6516360" y="3970800"/>
              <a:chExt cx="1218960" cy="1787040"/>
            </a:xfrm>
          </p:grpSpPr>
          <p:pic>
            <p:nvPicPr>
              <p:cNvPr id="7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16360" y="4005360"/>
                <a:ext cx="121896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6712560" y="5068440"/>
                <a:ext cx="84996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927480" y="5020920"/>
                <a:ext cx="435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2f1311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7143840" y="3970800"/>
                <a:ext cx="414000" cy="352440"/>
                <a:chOff x="7143840" y="3970800"/>
                <a:chExt cx="414000" cy="352440"/>
              </a:xfrm>
            </p:grpSpPr>
            <p:sp>
              <p:nvSpPr>
                <p:cNvPr id="738" name=""/>
                <p:cNvSpPr/>
                <p:nvPr/>
              </p:nvSpPr>
              <p:spPr>
                <a:xfrm rot="720600">
                  <a:off x="7169400" y="4005360"/>
                  <a:ext cx="36288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rot="720600">
                  <a:off x="7320240" y="4111560"/>
                  <a:ext cx="60120" cy="705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6695640" y="3975840"/>
                <a:ext cx="366120" cy="413280"/>
                <a:chOff x="6695640" y="3975840"/>
                <a:chExt cx="366120" cy="413280"/>
              </a:xfrm>
            </p:grpSpPr>
            <p:sp>
              <p:nvSpPr>
                <p:cNvPr id="741" name=""/>
                <p:cNvSpPr/>
                <p:nvPr/>
              </p:nvSpPr>
              <p:spPr>
                <a:xfrm rot="17028000">
                  <a:off x="6701400" y="4037400"/>
                  <a:ext cx="354240" cy="290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rot="17028000">
                  <a:off x="6849000" y="4146480"/>
                  <a:ext cx="58680" cy="723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7453080" y="4076640"/>
              <a:ext cx="1218960" cy="1762200"/>
              <a:chOff x="7453080" y="4076640"/>
              <a:chExt cx="1218960" cy="1762200"/>
            </a:xfrm>
          </p:grpSpPr>
          <p:pic>
            <p:nvPicPr>
              <p:cNvPr id="74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3080" y="407664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5" name=""/>
              <p:cNvGrpSpPr/>
              <p:nvPr/>
            </p:nvGrpSpPr>
            <p:grpSpPr>
              <a:xfrm>
                <a:off x="7671600" y="4737960"/>
                <a:ext cx="840240" cy="984600"/>
                <a:chOff x="7671600" y="4737960"/>
                <a:chExt cx="840240" cy="9846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7741800" y="4765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8086320" y="5192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856280" y="506844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8058240" y="5068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8125560" y="506844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777800" y="5134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8259840" y="5134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923600" y="4936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259840" y="4772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344080" y="5087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702200" y="4756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671600" y="5092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990920" y="4779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8007840" y="4737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8108640" y="4749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"/>
            <p:cNvGrpSpPr/>
            <p:nvPr/>
          </p:nvGrpSpPr>
          <p:grpSpPr>
            <a:xfrm>
              <a:off x="6084720" y="4076640"/>
              <a:ext cx="1218960" cy="1762200"/>
              <a:chOff x="6084720" y="4076640"/>
              <a:chExt cx="1218960" cy="1762200"/>
            </a:xfrm>
          </p:grpSpPr>
          <p:pic>
            <p:nvPicPr>
              <p:cNvPr id="7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084720" y="407664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"/>
              <p:cNvGrpSpPr/>
              <p:nvPr/>
            </p:nvGrpSpPr>
            <p:grpSpPr>
              <a:xfrm>
                <a:off x="6303240" y="4737960"/>
                <a:ext cx="840240" cy="984600"/>
                <a:chOff x="6303240" y="4737960"/>
                <a:chExt cx="840240" cy="98460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6373440" y="4765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717960" y="5192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487920" y="506844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689880" y="5068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757200" y="506844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409440" y="5134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891480" y="5134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55240" y="4936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891480" y="4772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975720" y="5087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333840" y="4756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303240" y="5092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622560" y="4779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639480" y="4737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740280" y="4749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9" name=""/>
            <p:cNvGrpSpPr/>
            <p:nvPr/>
          </p:nvGrpSpPr>
          <p:grpSpPr>
            <a:xfrm>
              <a:off x="5292360" y="3972960"/>
              <a:ext cx="1142640" cy="1784880"/>
              <a:chOff x="5292360" y="3972960"/>
              <a:chExt cx="1142640" cy="1784880"/>
            </a:xfrm>
          </p:grpSpPr>
          <p:pic>
            <p:nvPicPr>
              <p:cNvPr id="78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292360" y="4005360"/>
                <a:ext cx="114264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"/>
              <p:cNvSpPr/>
              <p:nvPr/>
            </p:nvSpPr>
            <p:spPr>
              <a:xfrm>
                <a:off x="5476320" y="506844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77560" y="5020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5878800" y="3972960"/>
                <a:ext cx="391320" cy="347400"/>
                <a:chOff x="5878800" y="3972960"/>
                <a:chExt cx="391320" cy="347400"/>
              </a:xfrm>
            </p:grpSpPr>
            <p:sp>
              <p:nvSpPr>
                <p:cNvPr id="784" name=""/>
                <p:cNvSpPr/>
                <p:nvPr/>
              </p:nvSpPr>
              <p:spPr>
                <a:xfrm rot="720600">
                  <a:off x="5904360" y="4005000"/>
                  <a:ext cx="33984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720600">
                  <a:off x="6045840" y="411156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5458320" y="3978000"/>
                <a:ext cx="348840" cy="408960"/>
                <a:chOff x="5458320" y="3978000"/>
                <a:chExt cx="348840" cy="408960"/>
              </a:xfrm>
            </p:grpSpPr>
            <p:sp>
              <p:nvSpPr>
                <p:cNvPr id="787" name=""/>
                <p:cNvSpPr/>
                <p:nvPr/>
              </p:nvSpPr>
              <p:spPr>
                <a:xfrm rot="17028000">
                  <a:off x="5455440" y="404640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17028000">
                  <a:off x="5602680" y="414828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9" name=""/>
            <p:cNvGrpSpPr/>
            <p:nvPr/>
          </p:nvGrpSpPr>
          <p:grpSpPr>
            <a:xfrm>
              <a:off x="5580000" y="4076640"/>
              <a:ext cx="1218600" cy="1762200"/>
              <a:chOff x="5580000" y="4076640"/>
              <a:chExt cx="1218600" cy="1762200"/>
            </a:xfrm>
          </p:grpSpPr>
          <p:pic>
            <p:nvPicPr>
              <p:cNvPr id="79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80000" y="4076640"/>
                <a:ext cx="121860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1" name=""/>
              <p:cNvGrpSpPr/>
              <p:nvPr/>
            </p:nvGrpSpPr>
            <p:grpSpPr>
              <a:xfrm>
                <a:off x="5798160" y="4737960"/>
                <a:ext cx="839880" cy="984600"/>
                <a:chOff x="5798160" y="4737960"/>
                <a:chExt cx="839880" cy="98460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5868000" y="4765320"/>
                  <a:ext cx="66924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212880" y="5192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982840" y="506844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184440" y="5068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251760" y="506844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904360" y="5134680"/>
                  <a:ext cx="14544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386040" y="5134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050160" y="4936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386040" y="4772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470280" y="5087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28760" y="4756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798160" y="5092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117480" y="4779000"/>
                  <a:ext cx="22356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134400" y="4737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234840" y="4749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7" name=""/>
            <p:cNvGrpSpPr/>
            <p:nvPr/>
          </p:nvGrpSpPr>
          <p:grpSpPr>
            <a:xfrm>
              <a:off x="4213080" y="3718080"/>
              <a:ext cx="1218960" cy="1761840"/>
              <a:chOff x="4213080" y="3718080"/>
              <a:chExt cx="1218960" cy="1761840"/>
            </a:xfrm>
          </p:grpSpPr>
          <p:pic>
            <p:nvPicPr>
              <p:cNvPr id="8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13080" y="3718080"/>
                <a:ext cx="1218960" cy="176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"/>
              <p:cNvGrpSpPr/>
              <p:nvPr/>
            </p:nvGrpSpPr>
            <p:grpSpPr>
              <a:xfrm>
                <a:off x="4431600" y="4379400"/>
                <a:ext cx="840240" cy="984600"/>
                <a:chOff x="4431600" y="4379400"/>
                <a:chExt cx="840240" cy="98460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4501800" y="440676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846320" y="483372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616280" y="470988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818240" y="470988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885560" y="470988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537800" y="477612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019840" y="477612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683600" y="457776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019840" y="441360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104080" y="472896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462200" y="439812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431600" y="473436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750920" y="442044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767840" y="437940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4868640" y="439128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"/>
            <p:cNvGrpSpPr/>
            <p:nvPr/>
          </p:nvGrpSpPr>
          <p:grpSpPr>
            <a:xfrm>
              <a:off x="4716360" y="4149720"/>
              <a:ext cx="1218600" cy="1762200"/>
              <a:chOff x="4716360" y="4149720"/>
              <a:chExt cx="1218600" cy="1762200"/>
            </a:xfrm>
          </p:grpSpPr>
          <p:pic>
            <p:nvPicPr>
              <p:cNvPr id="82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16360" y="4149720"/>
                <a:ext cx="121860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27" name=""/>
              <p:cNvGrpSpPr/>
              <p:nvPr/>
            </p:nvGrpSpPr>
            <p:grpSpPr>
              <a:xfrm>
                <a:off x="4934520" y="4811040"/>
                <a:ext cx="839880" cy="984600"/>
                <a:chOff x="4934520" y="4811040"/>
                <a:chExt cx="839880" cy="98460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5004360" y="4838400"/>
                  <a:ext cx="66924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349240" y="526536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119200" y="514152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320800" y="514152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388120" y="514152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040720" y="5207760"/>
                  <a:ext cx="14544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522400" y="520776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186520" y="500940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522400" y="484524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606640" y="516060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4965120" y="482976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934520" y="516600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53840" y="4852080"/>
                  <a:ext cx="22356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270760" y="481104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371200" y="482292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3" name=""/>
            <p:cNvGrpSpPr/>
            <p:nvPr/>
          </p:nvGrpSpPr>
          <p:grpSpPr>
            <a:xfrm>
              <a:off x="4140360" y="4186440"/>
              <a:ext cx="1218960" cy="1787400"/>
              <a:chOff x="4140360" y="4186440"/>
              <a:chExt cx="1218960" cy="1787400"/>
            </a:xfrm>
          </p:grpSpPr>
          <p:pic>
            <p:nvPicPr>
              <p:cNvPr id="8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40360" y="4221000"/>
                <a:ext cx="121896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5" name=""/>
              <p:cNvSpPr/>
              <p:nvPr/>
            </p:nvSpPr>
            <p:spPr>
              <a:xfrm>
                <a:off x="4336560" y="5284080"/>
                <a:ext cx="84996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51480" y="5236920"/>
                <a:ext cx="435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2f1311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4767840" y="4186440"/>
                <a:ext cx="414000" cy="352800"/>
                <a:chOff x="4767840" y="4186440"/>
                <a:chExt cx="414000" cy="352800"/>
              </a:xfrm>
            </p:grpSpPr>
            <p:sp>
              <p:nvSpPr>
                <p:cNvPr id="848" name=""/>
                <p:cNvSpPr/>
                <p:nvPr/>
              </p:nvSpPr>
              <p:spPr>
                <a:xfrm rot="720600">
                  <a:off x="4793400" y="422100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720600">
                  <a:off x="4944240" y="4327200"/>
                  <a:ext cx="60120" cy="705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4319640" y="4191480"/>
                <a:ext cx="366120" cy="413280"/>
                <a:chOff x="4319640" y="4191480"/>
                <a:chExt cx="366120" cy="413280"/>
              </a:xfrm>
            </p:grpSpPr>
            <p:sp>
              <p:nvSpPr>
                <p:cNvPr id="851" name=""/>
                <p:cNvSpPr/>
                <p:nvPr/>
              </p:nvSpPr>
              <p:spPr>
                <a:xfrm rot="17028000">
                  <a:off x="4325400" y="4253040"/>
                  <a:ext cx="354240" cy="290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7028000">
                  <a:off x="4473000" y="4362120"/>
                  <a:ext cx="58680" cy="723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3" name=""/>
            <p:cNvGrpSpPr/>
            <p:nvPr/>
          </p:nvGrpSpPr>
          <p:grpSpPr>
            <a:xfrm>
              <a:off x="5148000" y="4546800"/>
              <a:ext cx="1218960" cy="1787400"/>
              <a:chOff x="5148000" y="4546800"/>
              <a:chExt cx="1218960" cy="1787400"/>
            </a:xfrm>
          </p:grpSpPr>
          <p:pic>
            <p:nvPicPr>
              <p:cNvPr id="85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4581360"/>
                <a:ext cx="121896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"/>
              <p:cNvSpPr/>
              <p:nvPr/>
            </p:nvSpPr>
            <p:spPr>
              <a:xfrm>
                <a:off x="5344200" y="5644440"/>
                <a:ext cx="84996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559120" y="5597280"/>
                <a:ext cx="435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2f1311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5775480" y="4546800"/>
                <a:ext cx="414000" cy="352800"/>
                <a:chOff x="5775480" y="4546800"/>
                <a:chExt cx="414000" cy="352800"/>
              </a:xfrm>
            </p:grpSpPr>
            <p:sp>
              <p:nvSpPr>
                <p:cNvPr id="858" name=""/>
                <p:cNvSpPr/>
                <p:nvPr/>
              </p:nvSpPr>
              <p:spPr>
                <a:xfrm rot="720600">
                  <a:off x="5801040" y="458136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720600">
                  <a:off x="5951880" y="4687560"/>
                  <a:ext cx="60120" cy="705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5327280" y="4551840"/>
                <a:ext cx="366120" cy="413280"/>
                <a:chOff x="5327280" y="4551840"/>
                <a:chExt cx="366120" cy="413280"/>
              </a:xfrm>
            </p:grpSpPr>
            <p:sp>
              <p:nvSpPr>
                <p:cNvPr id="861" name=""/>
                <p:cNvSpPr/>
                <p:nvPr/>
              </p:nvSpPr>
              <p:spPr>
                <a:xfrm rot="17028000">
                  <a:off x="5333040" y="4613400"/>
                  <a:ext cx="354240" cy="290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17028000">
                  <a:off x="5480640" y="4722480"/>
                  <a:ext cx="58680" cy="72360"/>
                </a:xfrm>
                <a:prstGeom prst="ellipse">
                  <a:avLst/>
                </a:prstGeom>
                <a:solidFill>
                  <a:srgbClr val="c16059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3" name=""/>
            <p:cNvGrpSpPr/>
            <p:nvPr/>
          </p:nvGrpSpPr>
          <p:grpSpPr>
            <a:xfrm>
              <a:off x="6732360" y="4404600"/>
              <a:ext cx="1142640" cy="1785240"/>
              <a:chOff x="6732360" y="4404600"/>
              <a:chExt cx="1142640" cy="1785240"/>
            </a:xfrm>
          </p:grpSpPr>
          <p:pic>
            <p:nvPicPr>
              <p:cNvPr id="8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32360" y="4437000"/>
                <a:ext cx="114264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6916320" y="550008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117560" y="5452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67" name=""/>
              <p:cNvGrpSpPr/>
              <p:nvPr/>
            </p:nvGrpSpPr>
            <p:grpSpPr>
              <a:xfrm>
                <a:off x="7318800" y="4404600"/>
                <a:ext cx="391320" cy="347760"/>
                <a:chOff x="7318800" y="4404600"/>
                <a:chExt cx="391320" cy="347760"/>
              </a:xfrm>
            </p:grpSpPr>
            <p:sp>
              <p:nvSpPr>
                <p:cNvPr id="868" name=""/>
                <p:cNvSpPr/>
                <p:nvPr/>
              </p:nvSpPr>
              <p:spPr>
                <a:xfrm rot="720600">
                  <a:off x="7344360" y="4436640"/>
                  <a:ext cx="33984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rot="720600">
                  <a:off x="7485840" y="454320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6898320" y="4409640"/>
                <a:ext cx="348840" cy="408960"/>
                <a:chOff x="6898320" y="4409640"/>
                <a:chExt cx="348840" cy="408960"/>
              </a:xfrm>
            </p:grpSpPr>
            <p:sp>
              <p:nvSpPr>
                <p:cNvPr id="871" name=""/>
                <p:cNvSpPr/>
                <p:nvPr/>
              </p:nvSpPr>
              <p:spPr>
                <a:xfrm rot="17028000">
                  <a:off x="6895440" y="447804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rot="17028000">
                  <a:off x="7042680" y="457992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3" name=""/>
            <p:cNvGrpSpPr/>
            <p:nvPr/>
          </p:nvGrpSpPr>
          <p:grpSpPr>
            <a:xfrm>
              <a:off x="4644720" y="4693680"/>
              <a:ext cx="1142640" cy="1784880"/>
              <a:chOff x="4644720" y="4693680"/>
              <a:chExt cx="1142640" cy="1784880"/>
            </a:xfrm>
          </p:grpSpPr>
          <p:pic>
            <p:nvPicPr>
              <p:cNvPr id="87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44720" y="4726080"/>
                <a:ext cx="114264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"/>
              <p:cNvSpPr/>
              <p:nvPr/>
            </p:nvSpPr>
            <p:spPr>
              <a:xfrm>
                <a:off x="4828680" y="578916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29920" y="574164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77" name=""/>
              <p:cNvGrpSpPr/>
              <p:nvPr/>
            </p:nvGrpSpPr>
            <p:grpSpPr>
              <a:xfrm>
                <a:off x="5231160" y="4693680"/>
                <a:ext cx="391320" cy="347400"/>
                <a:chOff x="5231160" y="4693680"/>
                <a:chExt cx="391320" cy="347400"/>
              </a:xfrm>
            </p:grpSpPr>
            <p:sp>
              <p:nvSpPr>
                <p:cNvPr id="878" name=""/>
                <p:cNvSpPr/>
                <p:nvPr/>
              </p:nvSpPr>
              <p:spPr>
                <a:xfrm rot="720600">
                  <a:off x="5256720" y="4725720"/>
                  <a:ext cx="33984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rot="720600">
                  <a:off x="5398200" y="483228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4810680" y="4698720"/>
                <a:ext cx="348840" cy="408960"/>
                <a:chOff x="4810680" y="4698720"/>
                <a:chExt cx="348840" cy="408960"/>
              </a:xfrm>
            </p:grpSpPr>
            <p:sp>
              <p:nvSpPr>
                <p:cNvPr id="881" name=""/>
                <p:cNvSpPr/>
                <p:nvPr/>
              </p:nvSpPr>
              <p:spPr>
                <a:xfrm rot="17028000">
                  <a:off x="4807800" y="476712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17028000">
                  <a:off x="4955040" y="486900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3" name=""/>
            <p:cNvGrpSpPr/>
            <p:nvPr/>
          </p:nvGrpSpPr>
          <p:grpSpPr>
            <a:xfrm>
              <a:off x="5940360" y="4261680"/>
              <a:ext cx="1142640" cy="1785240"/>
              <a:chOff x="5940360" y="4261680"/>
              <a:chExt cx="1142640" cy="1785240"/>
            </a:xfrm>
          </p:grpSpPr>
          <p:pic>
            <p:nvPicPr>
              <p:cNvPr id="88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40360" y="4294080"/>
                <a:ext cx="114264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"/>
              <p:cNvSpPr/>
              <p:nvPr/>
            </p:nvSpPr>
            <p:spPr>
              <a:xfrm>
                <a:off x="6124320" y="535716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325560" y="531000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2f13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6526800" y="4261680"/>
                <a:ext cx="391320" cy="347760"/>
                <a:chOff x="6526800" y="4261680"/>
                <a:chExt cx="391320" cy="347760"/>
              </a:xfrm>
            </p:grpSpPr>
            <p:sp>
              <p:nvSpPr>
                <p:cNvPr id="888" name=""/>
                <p:cNvSpPr/>
                <p:nvPr/>
              </p:nvSpPr>
              <p:spPr>
                <a:xfrm rot="720600">
                  <a:off x="6552360" y="4293720"/>
                  <a:ext cx="33984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rot="720600">
                  <a:off x="6693840" y="440028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6106320" y="4266720"/>
                <a:ext cx="348840" cy="408960"/>
                <a:chOff x="6106320" y="4266720"/>
                <a:chExt cx="348840" cy="408960"/>
              </a:xfrm>
            </p:grpSpPr>
            <p:sp>
              <p:nvSpPr>
                <p:cNvPr id="891" name=""/>
                <p:cNvSpPr/>
                <p:nvPr/>
              </p:nvSpPr>
              <p:spPr>
                <a:xfrm rot="17028000">
                  <a:off x="6103440" y="433512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rot="17028000">
                  <a:off x="6250680" y="443700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3" name=""/>
            <p:cNvGrpSpPr/>
            <p:nvPr/>
          </p:nvGrpSpPr>
          <p:grpSpPr>
            <a:xfrm>
              <a:off x="6156000" y="4653000"/>
              <a:ext cx="1218960" cy="1762200"/>
              <a:chOff x="6156000" y="4653000"/>
              <a:chExt cx="1218960" cy="1762200"/>
            </a:xfrm>
          </p:grpSpPr>
          <p:pic>
            <p:nvPicPr>
              <p:cNvPr id="8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156000" y="465300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95" name=""/>
              <p:cNvGrpSpPr/>
              <p:nvPr/>
            </p:nvGrpSpPr>
            <p:grpSpPr>
              <a:xfrm>
                <a:off x="6374520" y="5314320"/>
                <a:ext cx="840240" cy="984600"/>
                <a:chOff x="6374520" y="5314320"/>
                <a:chExt cx="840240" cy="9846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444720" y="534168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789240" y="576864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59200" y="564480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761160" y="564480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828480" y="564480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480720" y="571104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962760" y="571104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626520" y="551268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962760" y="534852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047000" y="566388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405120" y="533304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374520" y="566928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693840" y="535536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710760" y="531432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811560" y="532620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7164360" y="4510080"/>
              <a:ext cx="1218600" cy="1762200"/>
              <a:chOff x="7164360" y="4510080"/>
              <a:chExt cx="1218600" cy="1762200"/>
            </a:xfrm>
          </p:grpSpPr>
          <p:pic>
            <p:nvPicPr>
              <p:cNvPr id="91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64360" y="4510080"/>
                <a:ext cx="121860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3" name=""/>
              <p:cNvGrpSpPr/>
              <p:nvPr/>
            </p:nvGrpSpPr>
            <p:grpSpPr>
              <a:xfrm>
                <a:off x="7382520" y="5171400"/>
                <a:ext cx="839880" cy="984600"/>
                <a:chOff x="7382520" y="5171400"/>
                <a:chExt cx="839880" cy="98460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7452360" y="5198760"/>
                  <a:ext cx="66924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7d47d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797240" y="562572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567200" y="5501880"/>
                  <a:ext cx="470520" cy="65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768800" y="550188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2f131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836120" y="5501880"/>
                  <a:ext cx="0" cy="6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488720" y="5568120"/>
                  <a:ext cx="14544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970400" y="556812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634520" y="536976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970400" y="520560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054640" y="552096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13120" y="519012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382520" y="552636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701840" y="5212440"/>
                  <a:ext cx="22356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718760" y="517140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819200" y="518328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20"/>
                            </p:stCondLst>
                            <p:childTnLst>
                              <p:par>
                                <p:cTn id="8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840"/>
                            </p:stCondLst>
                            <p:childTnLst>
                              <p:par>
                                <p:cTn id="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200"/>
                            </p:stCondLst>
                            <p:childTnLst>
                              <p:par>
                                <p:cTn id="8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920"/>
                            </p:stCondLst>
                            <p:childTnLst>
                              <p:par>
                                <p:cTn id="8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160"/>
                            </p:stCondLst>
                            <p:childTnLst>
                              <p:par>
                                <p:cTn id="8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320"/>
                            </p:stCondLst>
                            <p:childTnLst>
                              <p:par>
                                <p:cTn id="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250920" y="260280"/>
            <a:ext cx="2590560" cy="1152720"/>
          </a:xfrm>
          <a:prstGeom prst="wedgeRoundRectCallout">
            <a:avLst>
              <a:gd name="adj1" fmla="val -33027"/>
              <a:gd name="adj2" fmla="val 219560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Упрости выражение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187280" y="1844640"/>
            <a:ext cx="4032360" cy="828720"/>
            <a:chOff x="1187280" y="1844640"/>
            <a:chExt cx="4032360" cy="828720"/>
          </a:xfrm>
        </p:grpSpPr>
        <p:sp>
          <p:nvSpPr>
            <p:cNvPr id="931" name=""/>
            <p:cNvSpPr/>
            <p:nvPr/>
          </p:nvSpPr>
          <p:spPr>
            <a:xfrm>
              <a:off x="1187280" y="1844640"/>
              <a:ext cx="4032360" cy="79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1546200" y="1876320"/>
                  <a:ext cx="338472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⋅</m:t>
                      </m:r>
                      <m:r>
                        <m:t xml:space="preserve">у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76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3" name=""/>
          <p:cNvSpPr/>
          <p:nvPr/>
        </p:nvSpPr>
        <p:spPr>
          <a:xfrm>
            <a:off x="5686560" y="1125360"/>
            <a:ext cx="345744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7600у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042920" y="3068640"/>
            <a:ext cx="4032360" cy="828720"/>
            <a:chOff x="1042920" y="3068640"/>
            <a:chExt cx="4032360" cy="828720"/>
          </a:xfrm>
        </p:grpSpPr>
        <p:sp>
          <p:nvSpPr>
            <p:cNvPr id="935" name=""/>
            <p:cNvSpPr/>
            <p:nvPr/>
          </p:nvSpPr>
          <p:spPr>
            <a:xfrm>
              <a:off x="1042920" y="3068640"/>
              <a:ext cx="4032360" cy="79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6" name=""/>
                <p:cNvSpPr txBox="1"/>
                <p:nvPr/>
              </p:nvSpPr>
              <p:spPr>
                <a:xfrm>
                  <a:off x="1552680" y="3100320"/>
                  <a:ext cx="3081240" cy="79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⋅</m:t>
                      </m:r>
                      <m:r>
                        <m:t xml:space="preserve">у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7" name=""/>
          <p:cNvSpPr/>
          <p:nvPr/>
        </p:nvSpPr>
        <p:spPr>
          <a:xfrm>
            <a:off x="5686560" y="2421000"/>
            <a:ext cx="3457440" cy="187308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fed2f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100ху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042920" y="4292640"/>
            <a:ext cx="4032360" cy="792000"/>
            <a:chOff x="1042920" y="4292640"/>
            <a:chExt cx="4032360" cy="792000"/>
          </a:xfrm>
        </p:grpSpPr>
        <p:sp>
          <p:nvSpPr>
            <p:cNvPr id="939" name=""/>
            <p:cNvSpPr/>
            <p:nvPr/>
          </p:nvSpPr>
          <p:spPr>
            <a:xfrm>
              <a:off x="1042920" y="4292640"/>
              <a:ext cx="4032360" cy="79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0" name=""/>
                <p:cNvSpPr txBox="1"/>
                <p:nvPr/>
              </p:nvSpPr>
              <p:spPr>
                <a:xfrm>
                  <a:off x="1427400" y="4373280"/>
                  <a:ext cx="3333600" cy="69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⋅</m:t>
                      </m:r>
                      <m:r>
                        <m:t xml:space="preserve">х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1" name=""/>
          <p:cNvSpPr/>
          <p:nvPr/>
        </p:nvSpPr>
        <p:spPr>
          <a:xfrm>
            <a:off x="5867280" y="3860640"/>
            <a:ext cx="3457800" cy="187344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3500х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116000" y="5516640"/>
            <a:ext cx="4032360" cy="792000"/>
            <a:chOff x="1116000" y="5516640"/>
            <a:chExt cx="4032360" cy="792000"/>
          </a:xfrm>
        </p:grpSpPr>
        <p:sp>
          <p:nvSpPr>
            <p:cNvPr id="943" name=""/>
            <p:cNvSpPr/>
            <p:nvPr/>
          </p:nvSpPr>
          <p:spPr>
            <a:xfrm>
              <a:off x="1116000" y="5516640"/>
              <a:ext cx="4032360" cy="79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4" name=""/>
                <p:cNvSpPr txBox="1"/>
                <p:nvPr/>
              </p:nvSpPr>
              <p:spPr>
                <a:xfrm>
                  <a:off x="1349640" y="5597280"/>
                  <a:ext cx="3636720" cy="69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а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5" name=""/>
          <p:cNvSpPr/>
          <p:nvPr/>
        </p:nvSpPr>
        <p:spPr>
          <a:xfrm>
            <a:off x="5940360" y="5229360"/>
            <a:ext cx="3457800" cy="1873080"/>
          </a:xfrm>
          <a:prstGeom prst="irregularSeal1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300а</a:t>
            </a: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4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втор рисунк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(яблоки, коробка с карандашами, дети, бочка, вёдра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авченко Е.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3"/>
              </a:rPr>
              <a:t>www.it-n.ru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4"/>
              </a:rPr>
              <a:t>/profil.aspx?cat_no=692&amp;d_no=9658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Портреты математиков: Лука Пачоли, Уильям Оутред,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.Лейбниц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есурсы интернет </a:t>
            </a:r>
            <a:r>
              <a:rPr b="0" lang="ru-RU" sz="2800" spc="-1" strike="noStrike" u="sng">
                <a:solidFill>
                  <a:srgbClr val="f0b854"/>
                </a:solidFill>
                <a:uFillTx/>
                <a:latin typeface="Times New Roman"/>
                <a:hlinkClick r:id="rId5"/>
              </a:rPr>
              <a:t>http://images.yandex.ru/</a:t>
            </a: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(по поиску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0b854"/>
                </a:solidFill>
                <a:uFillTx/>
                <a:latin typeface="Arial"/>
                <a:hlinkClick r:id="rId6"/>
              </a:rPr>
              <a:t>http://ru.wikipedia.org/wik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189000"/>
            <a:ext cx="8534160" cy="1368360"/>
          </a:xfrm>
          <a:prstGeom prst="wedgeRoundRectCallout">
            <a:avLst>
              <a:gd name="adj1" fmla="val 34393"/>
              <a:gd name="adj2" fmla="val 219375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Владимир Иванович Даль - автор</a:t>
            </a: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 </a:t>
            </a:r>
            <a:r>
              <a:rPr b="0" lang="en-US" sz="2400" spc="-1" strike="noStrike" u="sng">
                <a:solidFill>
                  <a:srgbClr val="f0b854"/>
                </a:solidFill>
                <a:uFillTx/>
                <a:latin typeface="Georgia"/>
                <a:hlinkClick r:id="rId1"/>
              </a:rPr>
              <a:t>«Толкового словаря живого великорусского языка»</a:t>
            </a:r>
            <a:r>
              <a:rPr b="0" lang="en-US" sz="2400" spc="-1" strike="noStrike" u="sng">
                <a:solidFill>
                  <a:srgbClr val="2f1311"/>
                </a:solidFill>
                <a:uFillTx/>
                <a:latin typeface="Georgia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в своем словаре пишет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12415" t="-2342" r="15174" b="0"/>
          <a:stretch/>
        </p:blipFill>
        <p:spPr>
          <a:xfrm>
            <a:off x="250920" y="2349360"/>
            <a:ext cx="2611440" cy="4319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32000" y="2421000"/>
            <a:ext cx="3888000" cy="4248000"/>
          </a:xfrm>
          <a:custGeom>
            <a:avLst/>
            <a:gdLst>
              <a:gd name="textAreaLeft" fmla="*/ 189720 w 3888000"/>
              <a:gd name="textAreaRight" fmla="*/ 3698280 w 3888000"/>
              <a:gd name="textAreaTop" fmla="*/ 189720 h 4248000"/>
              <a:gd name="textAreaBottom" fmla="*/ 4058280 h 4248000"/>
            </a:gdLst>
            <a:ahLst/>
            <a:rect l="textAreaLeft" t="textAreaTop" r="textAreaRight" b="textAreaBottom"/>
            <a:pathLst>
              <a:path w="21600" h="23600">
                <a:moveTo>
                  <a:pt x="3600" y="0"/>
                </a:moveTo>
                <a:arcTo wR="3600" hR="3600" stAng="16200000" swAng="-5400000"/>
                <a:lnTo>
                  <a:pt x="0" y="20000"/>
                </a:lnTo>
                <a:arcTo wR="3600" hR="3600" stAng="10800000" swAng="-5400000"/>
                <a:lnTo>
                  <a:pt x="18000" y="23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Умножать –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множить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увеличивать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числом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количество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9280" y="260280"/>
            <a:ext cx="8713800" cy="1008000"/>
          </a:xfrm>
          <a:prstGeom prst="wedgeRoundRectCallout">
            <a:avLst>
              <a:gd name="adj1" fmla="val -41421"/>
              <a:gd name="adj2" fmla="val 237402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Значит ли это, что между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умножением</a:t>
            </a: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 и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ложением</a:t>
            </a: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 есть что-то общее?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1341360"/>
            <a:ext cx="6408720" cy="2303640"/>
          </a:xfrm>
          <a:prstGeom prst="wedgeRoundRectCallout">
            <a:avLst>
              <a:gd name="adj1" fmla="val 44675"/>
              <a:gd name="adj2" fmla="val 73226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Умножение можно представить с помощью сложения. Например, я живу в пятикомнатной квартире. В каждой комнате у меня лежит по два яблока. Сколько всего ябло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210400" y="4150800"/>
            <a:ext cx="1247040" cy="962640"/>
            <a:chOff x="2210400" y="4150800"/>
            <a:chExt cx="1247040" cy="962640"/>
          </a:xfrm>
        </p:grpSpPr>
        <p:sp>
          <p:nvSpPr>
            <p:cNvPr id="200" name=""/>
            <p:cNvSpPr/>
            <p:nvPr/>
          </p:nvSpPr>
          <p:spPr>
            <a:xfrm rot="3003000">
              <a:off x="2346120" y="429624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3003600">
              <a:off x="2620080" y="4447080"/>
              <a:ext cx="399240" cy="41868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3003000">
              <a:off x="2498760" y="481428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703960" y="4150800"/>
              <a:ext cx="753480" cy="425160"/>
              <a:chOff x="2703960" y="4150800"/>
              <a:chExt cx="753480" cy="425160"/>
            </a:xfrm>
          </p:grpSpPr>
          <p:sp>
            <p:nvSpPr>
              <p:cNvPr id="204" name=""/>
              <p:cNvSpPr/>
              <p:nvPr/>
            </p:nvSpPr>
            <p:spPr>
              <a:xfrm flipH="1" rot="3003600">
                <a:off x="2788200" y="4169520"/>
                <a:ext cx="194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2836800" y="4156560"/>
                <a:ext cx="620640" cy="419400"/>
                <a:chOff x="2836800" y="4156560"/>
                <a:chExt cx="620640" cy="41940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2836800" y="4156560"/>
                  <a:ext cx="620640" cy="419400"/>
                  <a:chOff x="2836800" y="4156560"/>
                  <a:chExt cx="620640" cy="4194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1206000">
                    <a:off x="2893320" y="4249080"/>
                    <a:ext cx="560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1206000">
                    <a:off x="2845800" y="4324320"/>
                    <a:ext cx="572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"/>
                <p:cNvSpPr/>
                <p:nvPr/>
              </p:nvSpPr>
              <p:spPr>
                <a:xfrm flipH="1" rot="1206000">
                  <a:off x="2939400" y="427032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206000">
                  <a:off x="3013920" y="429768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1206000">
                  <a:off x="3099600" y="434268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 rot="1206000">
                  <a:off x="3048480" y="4245480"/>
                  <a:ext cx="73800" cy="554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 rot="1206000">
                  <a:off x="2984760" y="4216680"/>
                  <a:ext cx="7956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4" name=""/>
          <p:cNvGrpSpPr/>
          <p:nvPr/>
        </p:nvGrpSpPr>
        <p:grpSpPr>
          <a:xfrm>
            <a:off x="1949760" y="3846600"/>
            <a:ext cx="892080" cy="1261440"/>
            <a:chOff x="1949760" y="3846600"/>
            <a:chExt cx="892080" cy="1261440"/>
          </a:xfrm>
        </p:grpSpPr>
        <p:sp>
          <p:nvSpPr>
            <p:cNvPr id="215" name=""/>
            <p:cNvSpPr/>
            <p:nvPr/>
          </p:nvSpPr>
          <p:spPr>
            <a:xfrm rot="20250000">
              <a:off x="2052720" y="432756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rot="20250000">
              <a:off x="2256840" y="433728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50000">
              <a:off x="2507400" y="486720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010960" y="3846600"/>
              <a:ext cx="534600" cy="719280"/>
              <a:chOff x="2010960" y="3846600"/>
              <a:chExt cx="534600" cy="719280"/>
            </a:xfrm>
          </p:grpSpPr>
          <p:sp>
            <p:nvSpPr>
              <p:cNvPr id="219" name=""/>
              <p:cNvSpPr/>
              <p:nvPr/>
            </p:nvSpPr>
            <p:spPr>
              <a:xfrm flipH="1" rot="20250000">
                <a:off x="2062800" y="4228920"/>
                <a:ext cx="194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012760" y="3846600"/>
                <a:ext cx="532800" cy="600840"/>
                <a:chOff x="2012760" y="3846600"/>
                <a:chExt cx="532800" cy="6008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2012760" y="3846600"/>
                  <a:ext cx="532800" cy="600840"/>
                  <a:chOff x="2012760" y="3846600"/>
                  <a:chExt cx="532800" cy="6008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flipH="1" rot="18452400">
                    <a:off x="1950480" y="4045320"/>
                    <a:ext cx="560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 rot="18452400">
                    <a:off x="2022120" y="4093560"/>
                    <a:ext cx="57276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"/>
                <p:cNvSpPr/>
                <p:nvPr/>
              </p:nvSpPr>
              <p:spPr>
                <a:xfrm flipH="1" rot="18452400">
                  <a:off x="2157480" y="425052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rot="18452400">
                  <a:off x="2205720" y="418788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 rot="18452400">
                  <a:off x="2257920" y="413820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rot="18452400">
                  <a:off x="2133720" y="415044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 rot="18452400">
                  <a:off x="2088360" y="4197960"/>
                  <a:ext cx="7920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9" name=""/>
          <p:cNvSpPr txBox="1"/>
          <p:nvPr/>
        </p:nvSpPr>
        <p:spPr>
          <a:xfrm rot="5400000">
            <a:off x="3096000" y="4256640"/>
            <a:ext cx="574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082760" y="4079520"/>
            <a:ext cx="1248840" cy="961560"/>
            <a:chOff x="4082760" y="4079520"/>
            <a:chExt cx="1248840" cy="961560"/>
          </a:xfrm>
        </p:grpSpPr>
        <p:sp>
          <p:nvSpPr>
            <p:cNvPr id="231" name=""/>
            <p:cNvSpPr/>
            <p:nvPr/>
          </p:nvSpPr>
          <p:spPr>
            <a:xfrm rot="3018600">
              <a:off x="4218480" y="422424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3018600">
              <a:off x="4492080" y="437508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3018600">
              <a:off x="4370760" y="474084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577760" y="4079520"/>
              <a:ext cx="753840" cy="426960"/>
              <a:chOff x="4577760" y="4079520"/>
              <a:chExt cx="753840" cy="426960"/>
            </a:xfrm>
          </p:grpSpPr>
          <p:sp>
            <p:nvSpPr>
              <p:cNvPr id="235" name=""/>
              <p:cNvSpPr/>
              <p:nvPr/>
            </p:nvSpPr>
            <p:spPr>
              <a:xfrm flipH="1" rot="3018600">
                <a:off x="4662360" y="4097880"/>
                <a:ext cx="194400" cy="311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710600" y="4085280"/>
                <a:ext cx="621000" cy="421200"/>
                <a:chOff x="4710600" y="4085280"/>
                <a:chExt cx="621000" cy="42120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4710600" y="4085280"/>
                  <a:ext cx="621000" cy="421200"/>
                  <a:chOff x="4710600" y="4085280"/>
                  <a:chExt cx="621000" cy="42120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 flipH="1" rot="1221600">
                    <a:off x="4767480" y="4178880"/>
                    <a:ext cx="560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 rot="1221600">
                    <a:off x="4719960" y="4253760"/>
                    <a:ext cx="5731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 flipH="1" rot="1221600">
                  <a:off x="4813920" y="419976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rot="1221600">
                  <a:off x="4888080" y="422712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 rot="1221600">
                  <a:off x="4973760" y="427212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rot="1221600">
                  <a:off x="4923000" y="417492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H="1" rot="1221600">
                  <a:off x="4858920" y="4146120"/>
                  <a:ext cx="79200" cy="62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" name=""/>
          <p:cNvGrpSpPr/>
          <p:nvPr/>
        </p:nvGrpSpPr>
        <p:grpSpPr>
          <a:xfrm>
            <a:off x="3489120" y="4131720"/>
            <a:ext cx="1280520" cy="961560"/>
            <a:chOff x="3489120" y="4131720"/>
            <a:chExt cx="1280520" cy="961560"/>
          </a:xfrm>
        </p:grpSpPr>
        <p:sp>
          <p:nvSpPr>
            <p:cNvPr id="246" name=""/>
            <p:cNvSpPr/>
            <p:nvPr/>
          </p:nvSpPr>
          <p:spPr>
            <a:xfrm flipH="1" rot="18020400">
              <a:off x="3936600" y="427500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020400">
              <a:off x="3961440" y="445068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rot="18020400">
              <a:off x="4465800" y="476856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489120" y="4163400"/>
              <a:ext cx="748800" cy="505440"/>
              <a:chOff x="3489120" y="4163400"/>
              <a:chExt cx="748800" cy="505440"/>
            </a:xfrm>
          </p:grpSpPr>
          <p:sp>
            <p:nvSpPr>
              <p:cNvPr id="250" name=""/>
              <p:cNvSpPr/>
              <p:nvPr/>
            </p:nvSpPr>
            <p:spPr>
              <a:xfrm rot="18020400">
                <a:off x="3950280" y="417384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3489120" y="4171320"/>
                <a:ext cx="622440" cy="497520"/>
                <a:chOff x="3489120" y="4171320"/>
                <a:chExt cx="622440" cy="49752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3489120" y="4171320"/>
                  <a:ext cx="622440" cy="497520"/>
                  <a:chOff x="3489120" y="4171320"/>
                  <a:chExt cx="622440" cy="49752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rot="19818000">
                    <a:off x="3483000" y="430164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9818000">
                    <a:off x="3535560" y="437220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5" name=""/>
                <p:cNvSpPr/>
                <p:nvPr/>
              </p:nvSpPr>
              <p:spPr>
                <a:xfrm rot="19818000">
                  <a:off x="3942720" y="429300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9818000">
                  <a:off x="3873600" y="433224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19818000">
                  <a:off x="3802680" y="439056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19818000">
                  <a:off x="3807360" y="428580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9818000">
                  <a:off x="3860640" y="424656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"/>
          <p:cNvSpPr txBox="1"/>
          <p:nvPr/>
        </p:nvSpPr>
        <p:spPr>
          <a:xfrm rot="5400000">
            <a:off x="5183640" y="4256640"/>
            <a:ext cx="574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839920" y="3857400"/>
            <a:ext cx="759960" cy="1174320"/>
            <a:chOff x="5839920" y="3857400"/>
            <a:chExt cx="759960" cy="1174320"/>
          </a:xfrm>
        </p:grpSpPr>
        <p:sp>
          <p:nvSpPr>
            <p:cNvPr id="262" name=""/>
            <p:cNvSpPr/>
            <p:nvPr/>
          </p:nvSpPr>
          <p:spPr>
            <a:xfrm rot="21196200">
              <a:off x="5877000" y="431892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21196800">
              <a:off x="6111360" y="4349520"/>
              <a:ext cx="3992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1196200">
              <a:off x="6267600" y="488700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5952960" y="3857400"/>
              <a:ext cx="594000" cy="631080"/>
              <a:chOff x="5952960" y="3857400"/>
              <a:chExt cx="594000" cy="631080"/>
            </a:xfrm>
          </p:grpSpPr>
          <p:sp>
            <p:nvSpPr>
              <p:cNvPr id="266" name=""/>
              <p:cNvSpPr/>
              <p:nvPr/>
            </p:nvSpPr>
            <p:spPr>
              <a:xfrm flipH="1" rot="21196800">
                <a:off x="5972040" y="4166640"/>
                <a:ext cx="194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5952960" y="3857400"/>
                <a:ext cx="594000" cy="535680"/>
                <a:chOff x="5952960" y="3857400"/>
                <a:chExt cx="594000" cy="53568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5952960" y="3857400"/>
                  <a:ext cx="594000" cy="535680"/>
                  <a:chOff x="5952960" y="3857400"/>
                  <a:chExt cx="594000" cy="53568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19399200">
                    <a:off x="5932440" y="4012920"/>
                    <a:ext cx="560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19399200">
                    <a:off x="5983560" y="4079520"/>
                    <a:ext cx="572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 flipH="1" rot="19399200">
                  <a:off x="6086520" y="4198320"/>
                  <a:ext cx="57240" cy="1119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rot="19399200">
                  <a:off x="6150240" y="4151160"/>
                  <a:ext cx="57240" cy="11196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rot="19399200">
                  <a:off x="6220440" y="411696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 rot="19399200">
                  <a:off x="6098760" y="4098960"/>
                  <a:ext cx="7344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 rot="19399200">
                  <a:off x="6041160" y="4132800"/>
                  <a:ext cx="7884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6031800" y="3775680"/>
            <a:ext cx="941400" cy="1278360"/>
            <a:chOff x="6031800" y="3775680"/>
            <a:chExt cx="941400" cy="1278360"/>
          </a:xfrm>
        </p:grpSpPr>
        <p:sp>
          <p:nvSpPr>
            <p:cNvPr id="277" name=""/>
            <p:cNvSpPr/>
            <p:nvPr/>
          </p:nvSpPr>
          <p:spPr>
            <a:xfrm flipH="1" rot="1546800">
              <a:off x="6142320" y="425556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546800">
              <a:off x="6234840" y="426240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rot="1546800">
              <a:off x="6322320" y="478692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392520" y="3775680"/>
              <a:ext cx="532080" cy="736560"/>
              <a:chOff x="6392520" y="3775680"/>
              <a:chExt cx="532080" cy="736560"/>
            </a:xfrm>
          </p:grpSpPr>
          <p:sp>
            <p:nvSpPr>
              <p:cNvPr id="281" name=""/>
              <p:cNvSpPr/>
              <p:nvPr/>
            </p:nvSpPr>
            <p:spPr>
              <a:xfrm rot="1546800">
                <a:off x="6662880" y="417204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6392520" y="3775680"/>
                <a:ext cx="524520" cy="615600"/>
                <a:chOff x="6392520" y="3775680"/>
                <a:chExt cx="524520" cy="6156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6392520" y="3775680"/>
                  <a:ext cx="524520" cy="615600"/>
                  <a:chOff x="6392520" y="3775680"/>
                  <a:chExt cx="524520" cy="6156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rot="3344400">
                    <a:off x="6427080" y="397980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rot="3344400">
                    <a:off x="6335280" y="402552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rot="3344400">
                  <a:off x="6707880" y="418968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344400">
                  <a:off x="6663240" y="412416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3344400">
                  <a:off x="6625080" y="407304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3344400">
                  <a:off x="6726240" y="409032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3344400">
                  <a:off x="6763320" y="413928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"/>
          <p:cNvGrpSpPr/>
          <p:nvPr/>
        </p:nvGrpSpPr>
        <p:grpSpPr>
          <a:xfrm>
            <a:off x="3360600" y="5231880"/>
            <a:ext cx="1248840" cy="961560"/>
            <a:chOff x="3360600" y="5231880"/>
            <a:chExt cx="1248840" cy="961560"/>
          </a:xfrm>
        </p:grpSpPr>
        <p:sp>
          <p:nvSpPr>
            <p:cNvPr id="292" name=""/>
            <p:cNvSpPr/>
            <p:nvPr/>
          </p:nvSpPr>
          <p:spPr>
            <a:xfrm rot="3018600">
              <a:off x="3496320" y="537660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rot="3018600">
              <a:off x="3769920" y="552744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3018600">
              <a:off x="3648600" y="589320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855600" y="5231880"/>
              <a:ext cx="753840" cy="426960"/>
              <a:chOff x="3855600" y="5231880"/>
              <a:chExt cx="753840" cy="426960"/>
            </a:xfrm>
          </p:grpSpPr>
          <p:sp>
            <p:nvSpPr>
              <p:cNvPr id="296" name=""/>
              <p:cNvSpPr/>
              <p:nvPr/>
            </p:nvSpPr>
            <p:spPr>
              <a:xfrm flipH="1" rot="3018600">
                <a:off x="3940200" y="5250240"/>
                <a:ext cx="194400" cy="311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3988440" y="5237640"/>
                <a:ext cx="621000" cy="421200"/>
                <a:chOff x="3988440" y="5237640"/>
                <a:chExt cx="621000" cy="42120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3988440" y="5237640"/>
                  <a:ext cx="621000" cy="421200"/>
                  <a:chOff x="3988440" y="5237640"/>
                  <a:chExt cx="621000" cy="42120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rot="1221600">
                    <a:off x="4045320" y="5331240"/>
                    <a:ext cx="560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rot="1221600">
                    <a:off x="3997800" y="5406120"/>
                    <a:ext cx="5731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44" y="380"/>
                        </a:cubicBezTo>
                        <a:cubicBezTo>
                          <a:pt x="691" y="407"/>
                          <a:pt x="797" y="309"/>
                          <a:pt x="832" y="252"/>
                        </a:cubicBezTo>
                        <a:cubicBezTo>
                          <a:pt x="995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1" name=""/>
                <p:cNvSpPr/>
                <p:nvPr/>
              </p:nvSpPr>
              <p:spPr>
                <a:xfrm flipH="1" rot="1221600">
                  <a:off x="4091760" y="535212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rot="1221600">
                  <a:off x="4165920" y="537948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rot="1221600">
                  <a:off x="4251600" y="542448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rot="1221600">
                  <a:off x="4200840" y="532728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rot="1221600">
                  <a:off x="4136760" y="5298480"/>
                  <a:ext cx="79200" cy="62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6" name=""/>
          <p:cNvGrpSpPr/>
          <p:nvPr/>
        </p:nvGrpSpPr>
        <p:grpSpPr>
          <a:xfrm>
            <a:off x="2766600" y="5284440"/>
            <a:ext cx="1280520" cy="961560"/>
            <a:chOff x="2766600" y="5284440"/>
            <a:chExt cx="1280520" cy="961560"/>
          </a:xfrm>
        </p:grpSpPr>
        <p:sp>
          <p:nvSpPr>
            <p:cNvPr id="307" name=""/>
            <p:cNvSpPr/>
            <p:nvPr/>
          </p:nvSpPr>
          <p:spPr>
            <a:xfrm flipH="1" rot="18020400">
              <a:off x="3214080" y="542772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8020400">
              <a:off x="3238920" y="560340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rot="18020400">
              <a:off x="3743280" y="592128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766600" y="5316120"/>
              <a:ext cx="748800" cy="505440"/>
              <a:chOff x="2766600" y="5316120"/>
              <a:chExt cx="748800" cy="505440"/>
            </a:xfrm>
          </p:grpSpPr>
          <p:sp>
            <p:nvSpPr>
              <p:cNvPr id="311" name=""/>
              <p:cNvSpPr/>
              <p:nvPr/>
            </p:nvSpPr>
            <p:spPr>
              <a:xfrm rot="18020400">
                <a:off x="3227760" y="532656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2766600" y="5324040"/>
                <a:ext cx="622440" cy="497520"/>
                <a:chOff x="2766600" y="5324040"/>
                <a:chExt cx="622440" cy="49752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2766600" y="5324040"/>
                  <a:ext cx="622440" cy="497520"/>
                  <a:chOff x="2766600" y="5324040"/>
                  <a:chExt cx="622440" cy="4975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rot="19818000">
                    <a:off x="2760480" y="545436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rot="19818000">
                    <a:off x="2813040" y="552492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"/>
                <p:cNvSpPr/>
                <p:nvPr/>
              </p:nvSpPr>
              <p:spPr>
                <a:xfrm rot="19818000">
                  <a:off x="3220200" y="544572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9818000">
                  <a:off x="3151080" y="548496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19818000">
                  <a:off x="3080160" y="554328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19818000">
                  <a:off x="3084840" y="543852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19818000">
                  <a:off x="3138120" y="539928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1" name=""/>
          <p:cNvSpPr txBox="1"/>
          <p:nvPr/>
        </p:nvSpPr>
        <p:spPr>
          <a:xfrm>
            <a:off x="4498920" y="5661000"/>
            <a:ext cx="216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3640" y="5375160"/>
            <a:ext cx="7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50920" y="260280"/>
            <a:ext cx="8569080" cy="2160720"/>
          </a:xfrm>
          <a:prstGeom prst="wedgeRoundRectCallout">
            <a:avLst>
              <a:gd name="adj1" fmla="val 36162"/>
              <a:gd name="adj2" fmla="val 111648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Умножить число </a:t>
            </a: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а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на число </a:t>
            </a:r>
            <a:r>
              <a:rPr b="1" i="1" lang="en-US" sz="3200" spc="-1" strike="noStrike">
                <a:solidFill>
                  <a:srgbClr val="6600ff"/>
                </a:solidFill>
                <a:latin typeface="Georgia"/>
              </a:rPr>
              <a:t>b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– это значит найти сумму </a:t>
            </a:r>
            <a:r>
              <a:rPr b="1" i="1" lang="en-US" sz="3200" spc="-1" strike="noStrike">
                <a:solidFill>
                  <a:srgbClr val="6600ff"/>
                </a:solidFill>
                <a:latin typeface="Georgia"/>
              </a:rPr>
              <a:t>b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слагаемых, каждое из которых равно </a:t>
            </a: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а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11280" y="3284640"/>
            <a:ext cx="5473440" cy="649080"/>
            <a:chOff x="611280" y="3284640"/>
            <a:chExt cx="5473440" cy="649080"/>
          </a:xfrm>
        </p:grpSpPr>
        <p:sp>
          <p:nvSpPr>
            <p:cNvPr id="325" name=""/>
            <p:cNvSpPr txBox="1"/>
            <p:nvPr/>
          </p:nvSpPr>
          <p:spPr>
            <a:xfrm>
              <a:off x="611280" y="3284640"/>
              <a:ext cx="547344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  b = a + a + ...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32000" y="3716280"/>
              <a:ext cx="73080" cy="85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rot="16200000">
            <a:off x="4315320" y="2821680"/>
            <a:ext cx="441360" cy="3097080"/>
          </a:xfrm>
          <a:custGeom>
            <a:avLst/>
            <a:gdLst>
              <a:gd name="textAreaLeft" fmla="*/ 281880 w 441360"/>
              <a:gd name="textAreaRight" fmla="*/ 441720 w 441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0360" y="4724280"/>
            <a:ext cx="86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 </a:t>
            </a:r>
            <a:endParaRPr b="1" i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42920" y="260280"/>
            <a:ext cx="7632720" cy="576360"/>
          </a:xfrm>
          <a:prstGeom prst="wedgeRoundRectCallout">
            <a:avLst>
              <a:gd name="adj1" fmla="val -51518"/>
              <a:gd name="adj2" fmla="val 45275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Представь сумму в виде произведения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00000" y="1197000"/>
            <a:ext cx="547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6 + 36 + 36 + 36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516720" y="1125360"/>
            <a:ext cx="2158920" cy="738000"/>
            <a:chOff x="6516720" y="1125360"/>
            <a:chExt cx="2158920" cy="738000"/>
          </a:xfrm>
        </p:grpSpPr>
        <p:sp>
          <p:nvSpPr>
            <p:cNvPr id="333" name=""/>
            <p:cNvSpPr/>
            <p:nvPr/>
          </p:nvSpPr>
          <p:spPr>
            <a:xfrm>
              <a:off x="6516720" y="114408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6691320" y="1125360"/>
                  <a:ext cx="173664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 txBox="1"/>
          <p:nvPr/>
        </p:nvSpPr>
        <p:spPr>
          <a:xfrm>
            <a:off x="3635280" y="4221000"/>
            <a:ext cx="2735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5 + 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867280" y="5805360"/>
            <a:ext cx="3022560" cy="803520"/>
            <a:chOff x="5867280" y="5805360"/>
            <a:chExt cx="3022560" cy="803520"/>
          </a:xfrm>
        </p:grpSpPr>
        <p:sp>
          <p:nvSpPr>
            <p:cNvPr id="337" name=""/>
            <p:cNvSpPr/>
            <p:nvPr/>
          </p:nvSpPr>
          <p:spPr>
            <a:xfrm>
              <a:off x="5902200" y="5824440"/>
              <a:ext cx="2987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867280" y="5805360"/>
                  <a:ext cx="3022560" cy="80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с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9" name=""/>
          <p:cNvSpPr txBox="1"/>
          <p:nvPr/>
        </p:nvSpPr>
        <p:spPr>
          <a:xfrm>
            <a:off x="1332000" y="2205000"/>
            <a:ext cx="50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5 + 105 + 10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516720" y="2060640"/>
            <a:ext cx="2158920" cy="738000"/>
            <a:chOff x="6516720" y="2060640"/>
            <a:chExt cx="2158920" cy="738000"/>
          </a:xfrm>
        </p:grpSpPr>
        <p:sp>
          <p:nvSpPr>
            <p:cNvPr id="341" name=""/>
            <p:cNvSpPr/>
            <p:nvPr/>
          </p:nvSpPr>
          <p:spPr>
            <a:xfrm>
              <a:off x="6516720" y="2079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6562800" y="2060640"/>
                  <a:ext cx="19936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5</m:t>
                      </m:r>
                      <m:r>
                        <m:t xml:space="preserve">⋅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"/>
          <p:cNvSpPr txBox="1"/>
          <p:nvPr/>
        </p:nvSpPr>
        <p:spPr>
          <a:xfrm>
            <a:off x="900000" y="3213000"/>
            <a:ext cx="5473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+ х + х + х + х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516720" y="3068640"/>
            <a:ext cx="2158920" cy="738000"/>
            <a:chOff x="6516720" y="3068640"/>
            <a:chExt cx="2158920" cy="738000"/>
          </a:xfrm>
        </p:grpSpPr>
        <p:sp>
          <p:nvSpPr>
            <p:cNvPr id="345" name=""/>
            <p:cNvSpPr/>
            <p:nvPr/>
          </p:nvSpPr>
          <p:spPr>
            <a:xfrm>
              <a:off x="6516720" y="3087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883200" y="3068640"/>
                  <a:ext cx="13510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⋅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7" name=""/>
          <p:cNvSpPr txBox="1"/>
          <p:nvPr/>
        </p:nvSpPr>
        <p:spPr>
          <a:xfrm>
            <a:off x="1187280" y="5877000"/>
            <a:ext cx="453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c+d) + (c+d)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516720" y="4076640"/>
            <a:ext cx="2158920" cy="738000"/>
            <a:chOff x="6516720" y="4076640"/>
            <a:chExt cx="2158920" cy="738000"/>
          </a:xfrm>
        </p:grpSpPr>
        <p:sp>
          <p:nvSpPr>
            <p:cNvPr id="349" name=""/>
            <p:cNvSpPr/>
            <p:nvPr/>
          </p:nvSpPr>
          <p:spPr>
            <a:xfrm>
              <a:off x="6516720" y="4095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6689880" y="4076640"/>
                  <a:ext cx="17380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42920" y="260280"/>
            <a:ext cx="7632720" cy="576360"/>
          </a:xfrm>
          <a:prstGeom prst="wedgeRoundRectCallout">
            <a:avLst>
              <a:gd name="adj1" fmla="val -51518"/>
              <a:gd name="adj2" fmla="val 452754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Georgia"/>
              </a:rPr>
              <a:t>Представь произведение в виде суммы: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68360" y="1197000"/>
            <a:ext cx="2592360" cy="504720"/>
            <a:chOff x="468360" y="1197000"/>
            <a:chExt cx="2592360" cy="504720"/>
          </a:xfrm>
        </p:grpSpPr>
        <p:sp>
          <p:nvSpPr>
            <p:cNvPr id="353" name=""/>
            <p:cNvSpPr txBox="1"/>
            <p:nvPr/>
          </p:nvSpPr>
          <p:spPr>
            <a:xfrm>
              <a:off x="468360" y="1197000"/>
              <a:ext cx="2592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2  3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63640" y="141300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8604360" y="6713640"/>
            <a:ext cx="142920" cy="14436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971640" y="2205000"/>
            <a:ext cx="2016000" cy="504720"/>
            <a:chOff x="971640" y="2205000"/>
            <a:chExt cx="2016000" cy="504720"/>
          </a:xfrm>
        </p:grpSpPr>
        <p:sp>
          <p:nvSpPr>
            <p:cNvPr id="357" name=""/>
            <p:cNvSpPr/>
            <p:nvPr/>
          </p:nvSpPr>
          <p:spPr>
            <a:xfrm>
              <a:off x="1835280" y="242100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971640" y="2205000"/>
              <a:ext cx="20160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9  5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203640" y="1125360"/>
            <a:ext cx="536580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122 + 122 + 122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42920" y="3141720"/>
            <a:ext cx="1943280" cy="504720"/>
            <a:chOff x="1042920" y="3141720"/>
            <a:chExt cx="1943280" cy="504720"/>
          </a:xfrm>
        </p:grpSpPr>
        <p:sp>
          <p:nvSpPr>
            <p:cNvPr id="361" name=""/>
            <p:cNvSpPr/>
            <p:nvPr/>
          </p:nvSpPr>
          <p:spPr>
            <a:xfrm>
              <a:off x="1617840" y="3357360"/>
              <a:ext cx="14256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1042920" y="3141720"/>
              <a:ext cx="1943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с 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203640" y="2060640"/>
            <a:ext cx="5365800" cy="71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19 + 19+ 19 + 19 + 19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763640" y="4076640"/>
            <a:ext cx="2737080" cy="720720"/>
            <a:chOff x="1763640" y="4076640"/>
            <a:chExt cx="2737080" cy="720720"/>
          </a:xfrm>
        </p:grpSpPr>
        <p:sp>
          <p:nvSpPr>
            <p:cNvPr id="365" name=""/>
            <p:cNvSpPr/>
            <p:nvPr/>
          </p:nvSpPr>
          <p:spPr>
            <a:xfrm>
              <a:off x="3348000" y="429264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1763640" y="4076640"/>
              <a:ext cx="27370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(х-у)  2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3203640" y="3068640"/>
            <a:ext cx="536580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с + с + с + с + с + с + с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3280" y="4005360"/>
            <a:ext cx="4069080" cy="718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9af7d"/>
                </a:solidFill>
                <a:latin typeface="Times New Roman"/>
              </a:rPr>
              <a:t>(х – у) + (х – у)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24000" y="189000"/>
            <a:ext cx="8534160" cy="1368360"/>
          </a:xfrm>
          <a:prstGeom prst="wedgeRoundRectCallout">
            <a:avLst>
              <a:gd name="adj1" fmla="val 34393"/>
              <a:gd name="adj2" fmla="val 219375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9af7d"/>
                </a:solidFill>
                <a:latin typeface="Georgia"/>
              </a:rPr>
              <a:t>Проверь правильность выполнения действий. Отметь неправильные решения, исправь их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24000" y="1773360"/>
            <a:ext cx="3311280" cy="504720"/>
            <a:chOff x="324000" y="1773360"/>
            <a:chExt cx="3311280" cy="504720"/>
          </a:xfrm>
        </p:grpSpPr>
        <p:sp>
          <p:nvSpPr>
            <p:cNvPr id="371" name=""/>
            <p:cNvSpPr txBox="1"/>
            <p:nvPr/>
          </p:nvSpPr>
          <p:spPr>
            <a:xfrm>
              <a:off x="324000" y="1773360"/>
              <a:ext cx="33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 = 2   2   2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49480" y="1989000"/>
              <a:ext cx="14292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86200" y="1989000"/>
              <a:ext cx="142920" cy="1440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V="1">
            <a:off x="1835280" y="1844640"/>
            <a:ext cx="57600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00360" y="1844640"/>
            <a:ext cx="57636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35280" y="1628640"/>
            <a:ext cx="50472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771640" y="1628640"/>
            <a:ext cx="50508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50920" y="2852640"/>
            <a:ext cx="3743280" cy="505080"/>
            <a:chOff x="250920" y="2852640"/>
            <a:chExt cx="3743280" cy="505080"/>
          </a:xfrm>
        </p:grpSpPr>
        <p:sp>
          <p:nvSpPr>
            <p:cNvPr id="379" name=""/>
            <p:cNvSpPr txBox="1"/>
            <p:nvPr/>
          </p:nvSpPr>
          <p:spPr>
            <a:xfrm>
              <a:off x="250920" y="2852640"/>
              <a:ext cx="3743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   3   3 = 27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63640" y="29973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6920" y="29973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4000" y="3933720"/>
            <a:ext cx="2735280" cy="504720"/>
            <a:chOff x="324000" y="3933720"/>
            <a:chExt cx="2735280" cy="504720"/>
          </a:xfrm>
        </p:grpSpPr>
        <p:sp>
          <p:nvSpPr>
            <p:cNvPr id="383" name=""/>
            <p:cNvSpPr txBox="1"/>
            <p:nvPr/>
          </p:nvSpPr>
          <p:spPr>
            <a:xfrm>
              <a:off x="324000" y="3933720"/>
              <a:ext cx="2735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5   5 = 10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84880" y="4078080"/>
              <a:ext cx="13896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50920" y="5013360"/>
            <a:ext cx="3889440" cy="504720"/>
            <a:chOff x="250920" y="5013360"/>
            <a:chExt cx="3889440" cy="504720"/>
          </a:xfrm>
        </p:grpSpPr>
        <p:sp>
          <p:nvSpPr>
            <p:cNvPr id="386" name=""/>
            <p:cNvSpPr/>
            <p:nvPr/>
          </p:nvSpPr>
          <p:spPr>
            <a:xfrm>
              <a:off x="2484360" y="522936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19640" y="5229360"/>
              <a:ext cx="14256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250920" y="5013360"/>
              <a:ext cx="3889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 = 4   4   4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684360" y="3933720"/>
            <a:ext cx="57600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3716280"/>
            <a:ext cx="50472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268360" y="5084640"/>
            <a:ext cx="57636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203640" y="5084640"/>
            <a:ext cx="576360" cy="432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68360" y="4797360"/>
            <a:ext cx="50508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4797360"/>
            <a:ext cx="504720" cy="914400"/>
          </a:xfrm>
          <a:prstGeom prst="ellipse">
            <a:avLst/>
          </a:prstGeom>
          <a:solidFill>
            <a:srgbClr val="fed2f2"/>
          </a:solidFill>
          <a:ln w="9360">
            <a:solidFill>
              <a:srgbClr val="fed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24000" y="6021360"/>
            <a:ext cx="2806560" cy="503280"/>
            <a:chOff x="324000" y="6021360"/>
            <a:chExt cx="2806560" cy="503280"/>
          </a:xfrm>
        </p:grpSpPr>
        <p:sp>
          <p:nvSpPr>
            <p:cNvPr id="396" name=""/>
            <p:cNvSpPr txBox="1"/>
            <p:nvPr/>
          </p:nvSpPr>
          <p:spPr>
            <a:xfrm>
              <a:off x="324000" y="6021360"/>
              <a:ext cx="2806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6   6 = 36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0000" y="6237000"/>
              <a:ext cx="137880" cy="1447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7720" y="404640"/>
            <a:ext cx="75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В двух коробках лежат карандаши, приче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в одной из них в 3 раза больше, чем в друг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Сколько карандашей в обеих коробках, есл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1311"/>
                </a:solidFill>
                <a:latin typeface="Georgia"/>
              </a:rPr>
              <a:t>в меньшей их 12 штук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524600" y="1971360"/>
            <a:ext cx="3970440" cy="3121560"/>
            <a:chOff x="1524600" y="1971360"/>
            <a:chExt cx="3970440" cy="3121560"/>
          </a:xfrm>
        </p:grpSpPr>
        <p:grpSp>
          <p:nvGrpSpPr>
            <p:cNvPr id="400" name=""/>
            <p:cNvGrpSpPr/>
            <p:nvPr/>
          </p:nvGrpSpPr>
          <p:grpSpPr>
            <a:xfrm>
              <a:off x="1524600" y="1974960"/>
              <a:ext cx="3274560" cy="2912760"/>
              <a:chOff x="1524600" y="1974960"/>
              <a:chExt cx="3274560" cy="2912760"/>
            </a:xfrm>
          </p:grpSpPr>
          <p:sp>
            <p:nvSpPr>
              <p:cNvPr id="401" name=""/>
              <p:cNvSpPr/>
              <p:nvPr/>
            </p:nvSpPr>
            <p:spPr>
              <a:xfrm rot="3681600">
                <a:off x="2262960" y="2266560"/>
                <a:ext cx="2046600" cy="2329560"/>
              </a:xfrm>
              <a:custGeom>
                <a:avLst/>
                <a:gdLst/>
                <a:ahLst/>
                <a:rect l="l" t="t" r="r" b="b"/>
                <a:pathLst>
                  <a:path w="2210" h="2441">
                    <a:moveTo>
                      <a:pt x="1016" y="0"/>
                    </a:moveTo>
                    <a:lnTo>
                      <a:pt x="2210" y="52"/>
                    </a:lnTo>
                    <a:lnTo>
                      <a:pt x="1249" y="2200"/>
                    </a:lnTo>
                    <a:lnTo>
                      <a:pt x="1249" y="2200"/>
                    </a:lnTo>
                    <a:lnTo>
                      <a:pt x="2200" y="44"/>
                    </a:lnTo>
                    <a:lnTo>
                      <a:pt x="2200" y="334"/>
                    </a:lnTo>
                    <a:lnTo>
                      <a:pt x="1275" y="2441"/>
                    </a:lnTo>
                    <a:lnTo>
                      <a:pt x="1242" y="2201"/>
                    </a:lnTo>
                    <a:lnTo>
                      <a:pt x="58" y="2201"/>
                    </a:lnTo>
                    <a:lnTo>
                      <a:pt x="0" y="2400"/>
                    </a:lnTo>
                    <a:lnTo>
                      <a:pt x="19" y="2165"/>
                    </a:lnTo>
                    <a:lnTo>
                      <a:pt x="1246" y="2210"/>
                    </a:lnTo>
                    <a:lnTo>
                      <a:pt x="1275" y="2441"/>
                    </a:lnTo>
                    <a:lnTo>
                      <a:pt x="1246" y="2210"/>
                    </a:lnTo>
                    <a:lnTo>
                      <a:pt x="29" y="2156"/>
                    </a:lnTo>
                    <a:lnTo>
                      <a:pt x="10" y="2392"/>
                    </a:lnTo>
                    <a:lnTo>
                      <a:pt x="29" y="2150"/>
                    </a:lnTo>
                    <a:lnTo>
                      <a:pt x="10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66ff3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2f131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1524600" y="2811600"/>
                <a:ext cx="2920320" cy="1357920"/>
                <a:chOff x="1524600" y="2811600"/>
                <a:chExt cx="2920320" cy="1357920"/>
              </a:xfrm>
            </p:grpSpPr>
            <p:sp>
              <p:nvSpPr>
                <p:cNvPr id="403" name=""/>
                <p:cNvSpPr/>
                <p:nvPr/>
              </p:nvSpPr>
              <p:spPr>
                <a:xfrm rot="21204000">
                  <a:off x="2412360" y="2923920"/>
                  <a:ext cx="19987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2f1311"/>
                      </a:solidFill>
                      <a:latin typeface="Times New Roman"/>
                    </a:rPr>
                    <a:t>КАРАНДАШИ</a:t>
                  </a:r>
                  <a:r>
                    <a:rPr b="0" lang="en-US" sz="4000" spc="-1" strike="noStrike">
                      <a:solidFill>
                        <a:srgbClr val="2f1311"/>
                      </a:solidFill>
                      <a:latin typeface="Times New Roman"/>
                    </a:rPr>
                    <a:t> </a:t>
                  </a:r>
                  <a:endParaRPr b="0" lang="en-US" sz="40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1641000">
                  <a:off x="1675800" y="3068280"/>
                  <a:ext cx="1041480" cy="912600"/>
                </a:xfrm>
                <a:custGeom>
                  <a:avLst/>
                  <a:gdLst/>
                  <a:ahLst/>
                  <a:rect l="l" t="t" r="r" b="b"/>
                  <a:pathLst>
                    <a:path w="656" h="544">
                      <a:moveTo>
                        <a:pt x="96" y="0"/>
                      </a:moveTo>
                      <a:lnTo>
                        <a:pt x="656" y="432"/>
                      </a:lnTo>
                      <a:lnTo>
                        <a:pt x="592" y="544"/>
                      </a:lnTo>
                      <a:lnTo>
                        <a:pt x="0" y="96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00"/>
                    </a:gs>
                    <a:gs pos="100000">
                      <a:srgbClr val="66ff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2f1311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5" name=""/>
            <p:cNvGrpSpPr/>
            <p:nvPr/>
          </p:nvGrpSpPr>
          <p:grpSpPr>
            <a:xfrm>
              <a:off x="1770840" y="2207520"/>
              <a:ext cx="1959120" cy="2213280"/>
              <a:chOff x="1770840" y="2207520"/>
              <a:chExt cx="1959120" cy="221328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2124000" y="3285720"/>
                <a:ext cx="1359360" cy="948240"/>
                <a:chOff x="2124000" y="3285720"/>
                <a:chExt cx="1359360" cy="948240"/>
              </a:xfrm>
            </p:grpSpPr>
            <p:sp>
              <p:nvSpPr>
                <p:cNvPr id="407" name=""/>
                <p:cNvSpPr/>
                <p:nvPr/>
              </p:nvSpPr>
              <p:spPr>
                <a:xfrm rot="6892200">
                  <a:off x="2583360" y="3126600"/>
                  <a:ext cx="45828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6892200">
                  <a:off x="2202120" y="3587400"/>
                  <a:ext cx="11556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6892200">
                  <a:off x="2158200" y="366552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6892200">
                  <a:off x="2698560" y="3274560"/>
                  <a:ext cx="40032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2113920" y="3197160"/>
                <a:ext cx="1359720" cy="947160"/>
                <a:chOff x="2113920" y="3197160"/>
                <a:chExt cx="1359720" cy="947160"/>
              </a:xfrm>
            </p:grpSpPr>
            <p:sp>
              <p:nvSpPr>
                <p:cNvPr id="412" name=""/>
                <p:cNvSpPr/>
                <p:nvPr/>
              </p:nvSpPr>
              <p:spPr>
                <a:xfrm rot="6892200">
                  <a:off x="2574360" y="3037320"/>
                  <a:ext cx="4568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6892200">
                  <a:off x="2191680" y="349812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6892200">
                  <a:off x="2148120" y="357588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6892200">
                  <a:off x="2689920" y="3185280"/>
                  <a:ext cx="3988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033280" y="3078720"/>
                <a:ext cx="1357920" cy="947520"/>
                <a:chOff x="2033280" y="3078720"/>
                <a:chExt cx="1357920" cy="947520"/>
              </a:xfrm>
            </p:grpSpPr>
            <p:sp>
              <p:nvSpPr>
                <p:cNvPr id="417" name=""/>
                <p:cNvSpPr/>
                <p:nvPr/>
              </p:nvSpPr>
              <p:spPr>
                <a:xfrm rot="6892200">
                  <a:off x="2491920" y="291996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6892200">
                  <a:off x="2111040" y="338076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6892200">
                  <a:off x="2067480" y="345780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6892200">
                  <a:off x="2606760" y="306828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984320" y="2958120"/>
                <a:ext cx="1359360" cy="946800"/>
                <a:chOff x="1984320" y="2958120"/>
                <a:chExt cx="1359360" cy="946800"/>
              </a:xfrm>
            </p:grpSpPr>
            <p:sp>
              <p:nvSpPr>
                <p:cNvPr id="422" name=""/>
                <p:cNvSpPr/>
                <p:nvPr/>
              </p:nvSpPr>
              <p:spPr>
                <a:xfrm rot="6892200">
                  <a:off x="2444760" y="279828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6892200">
                  <a:off x="2062080" y="325908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6892200">
                  <a:off x="2018520" y="333648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6892200">
                  <a:off x="2559600" y="294660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1949040" y="2842200"/>
                <a:ext cx="1357560" cy="946080"/>
                <a:chOff x="1949040" y="2842200"/>
                <a:chExt cx="1357560" cy="946080"/>
              </a:xfrm>
            </p:grpSpPr>
            <p:sp>
              <p:nvSpPr>
                <p:cNvPr id="427" name=""/>
                <p:cNvSpPr/>
                <p:nvPr/>
              </p:nvSpPr>
              <p:spPr>
                <a:xfrm rot="6892200">
                  <a:off x="2408400" y="2682720"/>
                  <a:ext cx="4568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6892200">
                  <a:off x="2026800" y="3142800"/>
                  <a:ext cx="1152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6892200">
                  <a:off x="1982880" y="322056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6892200">
                  <a:off x="2523600" y="2830680"/>
                  <a:ext cx="3988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1915920" y="2732400"/>
                <a:ext cx="1358280" cy="947520"/>
                <a:chOff x="1915920" y="2732400"/>
                <a:chExt cx="1358280" cy="947520"/>
              </a:xfrm>
            </p:grpSpPr>
            <p:sp>
              <p:nvSpPr>
                <p:cNvPr id="432" name=""/>
                <p:cNvSpPr/>
                <p:nvPr/>
              </p:nvSpPr>
              <p:spPr>
                <a:xfrm rot="6892200">
                  <a:off x="2374920" y="257364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6892200">
                  <a:off x="1993680" y="303408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6892200">
                  <a:off x="1950120" y="311148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6892200">
                  <a:off x="2489760" y="272160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1851480" y="2614680"/>
                <a:ext cx="1360080" cy="948960"/>
                <a:chOff x="1851480" y="2614680"/>
                <a:chExt cx="1360080" cy="948960"/>
              </a:xfrm>
            </p:grpSpPr>
            <p:sp>
              <p:nvSpPr>
                <p:cNvPr id="437" name=""/>
                <p:cNvSpPr/>
                <p:nvPr/>
              </p:nvSpPr>
              <p:spPr>
                <a:xfrm rot="6892200">
                  <a:off x="2311200" y="2455920"/>
                  <a:ext cx="4586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6892200">
                  <a:off x="1929600" y="2917080"/>
                  <a:ext cx="11556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6892200">
                  <a:off x="1885680" y="299484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6892200">
                  <a:off x="2426040" y="2603880"/>
                  <a:ext cx="4006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1827360" y="2488680"/>
                <a:ext cx="1359000" cy="946800"/>
                <a:chOff x="1827360" y="2488680"/>
                <a:chExt cx="1359000" cy="946800"/>
              </a:xfrm>
            </p:grpSpPr>
            <p:sp>
              <p:nvSpPr>
                <p:cNvPr id="442" name=""/>
                <p:cNvSpPr/>
                <p:nvPr/>
              </p:nvSpPr>
              <p:spPr>
                <a:xfrm rot="6892200">
                  <a:off x="2287440" y="232884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6892200">
                  <a:off x="1905120" y="278928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6892200">
                  <a:off x="1861200" y="286704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6892200">
                  <a:off x="2402640" y="247716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1782000" y="2383200"/>
                <a:ext cx="1357920" cy="946080"/>
                <a:chOff x="1782000" y="2383200"/>
                <a:chExt cx="1357920" cy="946080"/>
              </a:xfrm>
            </p:grpSpPr>
            <p:sp>
              <p:nvSpPr>
                <p:cNvPr id="447" name=""/>
                <p:cNvSpPr/>
                <p:nvPr/>
              </p:nvSpPr>
              <p:spPr>
                <a:xfrm rot="6892200">
                  <a:off x="2241720" y="2223720"/>
                  <a:ext cx="4568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6892200">
                  <a:off x="1859760" y="2683800"/>
                  <a:ext cx="1152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6892200">
                  <a:off x="1816200" y="276156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6892200">
                  <a:off x="2356920" y="2371680"/>
                  <a:ext cx="3988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770840" y="2251800"/>
                <a:ext cx="1357920" cy="947520"/>
                <a:chOff x="1770840" y="2251800"/>
                <a:chExt cx="1357920" cy="947520"/>
              </a:xfrm>
            </p:grpSpPr>
            <p:sp>
              <p:nvSpPr>
                <p:cNvPr id="452" name=""/>
                <p:cNvSpPr/>
                <p:nvPr/>
              </p:nvSpPr>
              <p:spPr>
                <a:xfrm rot="6892200">
                  <a:off x="2229480" y="209304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892200">
                  <a:off x="1848600" y="255384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892200">
                  <a:off x="1805040" y="263124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6892200">
                  <a:off x="2344680" y="224136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315520" y="3143520"/>
                <a:ext cx="1359360" cy="947160"/>
                <a:chOff x="2315520" y="3143520"/>
                <a:chExt cx="1359360" cy="947160"/>
              </a:xfrm>
            </p:grpSpPr>
            <p:sp>
              <p:nvSpPr>
                <p:cNvPr id="457" name=""/>
                <p:cNvSpPr/>
                <p:nvPr/>
              </p:nvSpPr>
              <p:spPr>
                <a:xfrm rot="6892200">
                  <a:off x="2775600" y="2983680"/>
                  <a:ext cx="4568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6892200">
                  <a:off x="2393280" y="344520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6892200">
                  <a:off x="2349360" y="352260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6892200">
                  <a:off x="2891160" y="3132360"/>
                  <a:ext cx="3988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c16059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2336760" y="3034800"/>
                <a:ext cx="1361520" cy="949320"/>
                <a:chOff x="2336760" y="3034800"/>
                <a:chExt cx="1361520" cy="949320"/>
              </a:xfrm>
            </p:grpSpPr>
            <p:sp>
              <p:nvSpPr>
                <p:cNvPr id="462" name=""/>
                <p:cNvSpPr/>
                <p:nvPr/>
              </p:nvSpPr>
              <p:spPr>
                <a:xfrm rot="6892200">
                  <a:off x="2797200" y="2875320"/>
                  <a:ext cx="458640" cy="12679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6892200">
                  <a:off x="2414880" y="3337200"/>
                  <a:ext cx="115560" cy="24624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6892200">
                  <a:off x="2371320" y="3414960"/>
                  <a:ext cx="43920" cy="9360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6892200">
                  <a:off x="2912400" y="3024000"/>
                  <a:ext cx="400680" cy="10594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2303640" y="2912400"/>
                <a:ext cx="1358280" cy="947520"/>
                <a:chOff x="2303640" y="2912400"/>
                <a:chExt cx="1358280" cy="947520"/>
              </a:xfrm>
            </p:grpSpPr>
            <p:sp>
              <p:nvSpPr>
                <p:cNvPr id="467" name=""/>
                <p:cNvSpPr/>
                <p:nvPr/>
              </p:nvSpPr>
              <p:spPr>
                <a:xfrm rot="6892200">
                  <a:off x="2762640" y="275364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6892200">
                  <a:off x="2381400" y="321408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6892200">
                  <a:off x="2337840" y="329148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6892200">
                  <a:off x="2877480" y="290196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286360" y="2813040"/>
                <a:ext cx="1357560" cy="946080"/>
                <a:chOff x="2286360" y="2813040"/>
                <a:chExt cx="1357560" cy="946080"/>
              </a:xfrm>
            </p:grpSpPr>
            <p:sp>
              <p:nvSpPr>
                <p:cNvPr id="472" name=""/>
                <p:cNvSpPr/>
                <p:nvPr/>
              </p:nvSpPr>
              <p:spPr>
                <a:xfrm rot="6892200">
                  <a:off x="2745720" y="2653560"/>
                  <a:ext cx="4568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6892200">
                  <a:off x="2364120" y="3113280"/>
                  <a:ext cx="1152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6892200">
                  <a:off x="2320200" y="319104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rot="6892200">
                  <a:off x="2860920" y="2801160"/>
                  <a:ext cx="3988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235600" y="2693160"/>
                <a:ext cx="1359360" cy="946800"/>
                <a:chOff x="2235600" y="2693160"/>
                <a:chExt cx="1359360" cy="946800"/>
              </a:xfrm>
            </p:grpSpPr>
            <p:sp>
              <p:nvSpPr>
                <p:cNvPr id="477" name=""/>
                <p:cNvSpPr/>
                <p:nvPr/>
              </p:nvSpPr>
              <p:spPr>
                <a:xfrm rot="6892200">
                  <a:off x="2696040" y="253332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d5b78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6892200">
                  <a:off x="2313360" y="299412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6892200">
                  <a:off x="2269800" y="307152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6892200">
                  <a:off x="2811240" y="268164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d5b78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2155320" y="2567160"/>
                <a:ext cx="1360080" cy="948960"/>
                <a:chOff x="2155320" y="2567160"/>
                <a:chExt cx="1360080" cy="948960"/>
              </a:xfrm>
            </p:grpSpPr>
            <p:sp>
              <p:nvSpPr>
                <p:cNvPr id="482" name=""/>
                <p:cNvSpPr/>
                <p:nvPr/>
              </p:nvSpPr>
              <p:spPr>
                <a:xfrm rot="6892200">
                  <a:off x="2615040" y="2408400"/>
                  <a:ext cx="4586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6892200">
                  <a:off x="2233440" y="2869200"/>
                  <a:ext cx="11556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6892200">
                  <a:off x="2189520" y="294696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6892200">
                  <a:off x="2730240" y="2556000"/>
                  <a:ext cx="4006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2106360" y="2446920"/>
                <a:ext cx="1358280" cy="947520"/>
                <a:chOff x="2106360" y="2446920"/>
                <a:chExt cx="1358280" cy="947520"/>
              </a:xfrm>
            </p:grpSpPr>
            <p:sp>
              <p:nvSpPr>
                <p:cNvPr id="487" name=""/>
                <p:cNvSpPr/>
                <p:nvPr/>
              </p:nvSpPr>
              <p:spPr>
                <a:xfrm rot="6892200">
                  <a:off x="2565360" y="2288160"/>
                  <a:ext cx="45828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6892200">
                  <a:off x="2184120" y="274896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6892200">
                  <a:off x="2140560" y="282636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6892200">
                  <a:off x="2679840" y="2436120"/>
                  <a:ext cx="40032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055240" y="2339640"/>
                <a:ext cx="1361880" cy="948960"/>
                <a:chOff x="2055240" y="2339640"/>
                <a:chExt cx="1361880" cy="948960"/>
              </a:xfrm>
            </p:grpSpPr>
            <p:sp>
              <p:nvSpPr>
                <p:cNvPr id="492" name=""/>
                <p:cNvSpPr/>
                <p:nvPr/>
              </p:nvSpPr>
              <p:spPr>
                <a:xfrm rot="6892200">
                  <a:off x="2516400" y="2179800"/>
                  <a:ext cx="458280" cy="12679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dc893e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6892200">
                  <a:off x="2133360" y="2641320"/>
                  <a:ext cx="115560" cy="24624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6892200">
                  <a:off x="2090160" y="2719440"/>
                  <a:ext cx="43920" cy="9360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6892200">
                  <a:off x="2631600" y="2328840"/>
                  <a:ext cx="400320" cy="10594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dc893e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004480" y="2207520"/>
                <a:ext cx="1359000" cy="946800"/>
                <a:chOff x="2004480" y="2207520"/>
                <a:chExt cx="1359000" cy="946800"/>
              </a:xfrm>
            </p:grpSpPr>
            <p:sp>
              <p:nvSpPr>
                <p:cNvPr id="497" name=""/>
                <p:cNvSpPr/>
                <p:nvPr/>
              </p:nvSpPr>
              <p:spPr>
                <a:xfrm rot="6892200">
                  <a:off x="2464560" y="204768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6892200">
                  <a:off x="2082240" y="250812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6892200">
                  <a:off x="2038320" y="258552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6892200">
                  <a:off x="2579760" y="219564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2372760" y="3252240"/>
                <a:ext cx="1357200" cy="946080"/>
                <a:chOff x="2372760" y="3252240"/>
                <a:chExt cx="1357200" cy="946080"/>
              </a:xfrm>
            </p:grpSpPr>
            <p:sp>
              <p:nvSpPr>
                <p:cNvPr id="502" name=""/>
                <p:cNvSpPr/>
                <p:nvPr/>
              </p:nvSpPr>
              <p:spPr>
                <a:xfrm rot="6892200">
                  <a:off x="2831760" y="3093120"/>
                  <a:ext cx="456840" cy="12643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6892200">
                  <a:off x="2450520" y="3552840"/>
                  <a:ext cx="1152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6892200">
                  <a:off x="2406600" y="363060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6892200">
                  <a:off x="2946960" y="3240360"/>
                  <a:ext cx="3988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125440" y="3381120"/>
                <a:ext cx="1359720" cy="948240"/>
                <a:chOff x="2125440" y="3381120"/>
                <a:chExt cx="1359720" cy="948240"/>
              </a:xfrm>
            </p:grpSpPr>
            <p:sp>
              <p:nvSpPr>
                <p:cNvPr id="507" name=""/>
                <p:cNvSpPr/>
                <p:nvPr/>
              </p:nvSpPr>
              <p:spPr>
                <a:xfrm rot="6892200">
                  <a:off x="2585160" y="3222000"/>
                  <a:ext cx="45828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6892200">
                  <a:off x="2203560" y="3682800"/>
                  <a:ext cx="11556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6892200">
                  <a:off x="2159640" y="376056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6892200">
                  <a:off x="2700360" y="3369960"/>
                  <a:ext cx="40032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2175480" y="3473640"/>
                <a:ext cx="1359720" cy="947160"/>
                <a:chOff x="2175480" y="3473640"/>
                <a:chExt cx="1359720" cy="947160"/>
              </a:xfrm>
            </p:grpSpPr>
            <p:sp>
              <p:nvSpPr>
                <p:cNvPr id="512" name=""/>
                <p:cNvSpPr/>
                <p:nvPr/>
              </p:nvSpPr>
              <p:spPr>
                <a:xfrm rot="6892200">
                  <a:off x="2635920" y="3313800"/>
                  <a:ext cx="45684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6892200">
                  <a:off x="2253240" y="377532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6892200">
                  <a:off x="2209680" y="385236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6892200">
                  <a:off x="2751120" y="3462480"/>
                  <a:ext cx="39888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66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2351520" y="3362400"/>
                <a:ext cx="1359360" cy="946800"/>
                <a:chOff x="2351520" y="3362400"/>
                <a:chExt cx="1359360" cy="946800"/>
              </a:xfrm>
            </p:grpSpPr>
            <p:sp>
              <p:nvSpPr>
                <p:cNvPr id="517" name=""/>
                <p:cNvSpPr/>
                <p:nvPr/>
              </p:nvSpPr>
              <p:spPr>
                <a:xfrm rot="6892200">
                  <a:off x="2811960" y="3202560"/>
                  <a:ext cx="45684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6892200">
                  <a:off x="2429280" y="3663360"/>
                  <a:ext cx="1152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6892200">
                  <a:off x="2385720" y="3740760"/>
                  <a:ext cx="4356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6892200">
                  <a:off x="2926800" y="3350880"/>
                  <a:ext cx="39888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2361960" y="3460320"/>
                <a:ext cx="1358640" cy="947880"/>
                <a:chOff x="2361960" y="3460320"/>
                <a:chExt cx="1358640" cy="947880"/>
              </a:xfrm>
            </p:grpSpPr>
            <p:sp>
              <p:nvSpPr>
                <p:cNvPr id="522" name=""/>
                <p:cNvSpPr/>
                <p:nvPr/>
              </p:nvSpPr>
              <p:spPr>
                <a:xfrm rot="6892200">
                  <a:off x="2820960" y="3301560"/>
                  <a:ext cx="4586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6892200">
                  <a:off x="2439720" y="3762720"/>
                  <a:ext cx="11556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6892200">
                  <a:off x="2396160" y="3840120"/>
                  <a:ext cx="4392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6892200">
                  <a:off x="2935800" y="3450240"/>
                  <a:ext cx="4006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6" name=""/>
            <p:cNvSpPr/>
            <p:nvPr/>
          </p:nvSpPr>
          <p:spPr>
            <a:xfrm rot="4322400">
              <a:off x="2767680" y="2430360"/>
              <a:ext cx="2567160" cy="2203200"/>
            </a:xfrm>
            <a:custGeom>
              <a:avLst/>
              <a:gdLst/>
              <a:ahLst/>
              <a:rect l="l" t="t" r="r" b="b"/>
              <a:pathLst>
                <a:path w="2210" h="2441">
                  <a:moveTo>
                    <a:pt x="1016" y="0"/>
                  </a:moveTo>
                  <a:lnTo>
                    <a:pt x="2210" y="52"/>
                  </a:lnTo>
                  <a:lnTo>
                    <a:pt x="1249" y="2200"/>
                  </a:lnTo>
                  <a:lnTo>
                    <a:pt x="1249" y="2200"/>
                  </a:lnTo>
                  <a:lnTo>
                    <a:pt x="2200" y="44"/>
                  </a:lnTo>
                  <a:lnTo>
                    <a:pt x="2200" y="334"/>
                  </a:lnTo>
                  <a:lnTo>
                    <a:pt x="1275" y="2441"/>
                  </a:lnTo>
                  <a:lnTo>
                    <a:pt x="1242" y="2201"/>
                  </a:lnTo>
                  <a:lnTo>
                    <a:pt x="58" y="2201"/>
                  </a:lnTo>
                  <a:lnTo>
                    <a:pt x="0" y="2400"/>
                  </a:lnTo>
                  <a:lnTo>
                    <a:pt x="19" y="2165"/>
                  </a:lnTo>
                  <a:lnTo>
                    <a:pt x="1246" y="2210"/>
                  </a:lnTo>
                  <a:lnTo>
                    <a:pt x="1275" y="2441"/>
                  </a:lnTo>
                  <a:lnTo>
                    <a:pt x="1246" y="2210"/>
                  </a:lnTo>
                  <a:lnTo>
                    <a:pt x="29" y="2156"/>
                  </a:lnTo>
                  <a:lnTo>
                    <a:pt x="10" y="2392"/>
                  </a:lnTo>
                  <a:lnTo>
                    <a:pt x="29" y="2150"/>
                  </a:lnTo>
                  <a:lnTo>
                    <a:pt x="10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f131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96800">
              <a:off x="3359160" y="3173760"/>
              <a:ext cx="1998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1311"/>
                  </a:solidFill>
                  <a:latin typeface="Times New Roman"/>
                </a:rPr>
                <a:t>КАРАНДАШИ</a:t>
              </a:r>
              <a:r>
                <a:rPr b="0" lang="en-US" sz="4000" spc="-1" strike="noStrike">
                  <a:solidFill>
                    <a:srgbClr val="2f1311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641000">
              <a:off x="2365560" y="2711160"/>
              <a:ext cx="1120680" cy="1234800"/>
            </a:xfrm>
            <a:custGeom>
              <a:avLst/>
              <a:gdLst/>
              <a:ahLst/>
              <a:rect l="l" t="t" r="r" b="b"/>
              <a:pathLst>
                <a:path w="706" h="778">
                  <a:moveTo>
                    <a:pt x="113" y="0"/>
                  </a:moveTo>
                  <a:lnTo>
                    <a:pt x="706" y="634"/>
                  </a:lnTo>
                  <a:lnTo>
                    <a:pt x="642" y="778"/>
                  </a:lnTo>
                  <a:lnTo>
                    <a:pt x="0" y="83"/>
                  </a:lnTo>
                  <a:lnTo>
                    <a:pt x="1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66ff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f131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694840" y="2637000"/>
            <a:ext cx="3149280" cy="2409840"/>
            <a:chOff x="5694840" y="2637000"/>
            <a:chExt cx="3149280" cy="2409840"/>
          </a:xfrm>
        </p:grpSpPr>
        <p:grpSp>
          <p:nvGrpSpPr>
            <p:cNvPr id="530" name=""/>
            <p:cNvGrpSpPr/>
            <p:nvPr/>
          </p:nvGrpSpPr>
          <p:grpSpPr>
            <a:xfrm>
              <a:off x="5766120" y="2643480"/>
              <a:ext cx="2315520" cy="2403360"/>
              <a:chOff x="5766120" y="2643480"/>
              <a:chExt cx="2315520" cy="2403360"/>
            </a:xfrm>
          </p:grpSpPr>
          <p:sp>
            <p:nvSpPr>
              <p:cNvPr id="531" name=""/>
              <p:cNvSpPr/>
              <p:nvPr/>
            </p:nvSpPr>
            <p:spPr>
              <a:xfrm rot="2349000">
                <a:off x="6237000" y="2854440"/>
                <a:ext cx="1373040" cy="1981080"/>
              </a:xfrm>
              <a:custGeom>
                <a:avLst/>
                <a:gdLst/>
                <a:ahLst/>
                <a:rect l="l" t="t" r="r" b="b"/>
                <a:pathLst>
                  <a:path w="1362" h="1680">
                    <a:moveTo>
                      <a:pt x="626" y="0"/>
                    </a:moveTo>
                    <a:lnTo>
                      <a:pt x="1362" y="36"/>
                    </a:lnTo>
                    <a:lnTo>
                      <a:pt x="770" y="1514"/>
                    </a:lnTo>
                    <a:lnTo>
                      <a:pt x="770" y="1514"/>
                    </a:lnTo>
                    <a:lnTo>
                      <a:pt x="1356" y="30"/>
                    </a:lnTo>
                    <a:lnTo>
                      <a:pt x="1356" y="230"/>
                    </a:lnTo>
                    <a:lnTo>
                      <a:pt x="786" y="1680"/>
                    </a:lnTo>
                    <a:lnTo>
                      <a:pt x="0" y="1652"/>
                    </a:lnTo>
                    <a:lnTo>
                      <a:pt x="12" y="1490"/>
                    </a:lnTo>
                    <a:lnTo>
                      <a:pt x="768" y="1521"/>
                    </a:lnTo>
                    <a:lnTo>
                      <a:pt x="786" y="1680"/>
                    </a:lnTo>
                    <a:lnTo>
                      <a:pt x="768" y="1521"/>
                    </a:lnTo>
                    <a:lnTo>
                      <a:pt x="18" y="1484"/>
                    </a:lnTo>
                    <a:lnTo>
                      <a:pt x="6" y="1646"/>
                    </a:lnTo>
                    <a:lnTo>
                      <a:pt x="18" y="1480"/>
                    </a:lnTo>
                    <a:lnTo>
                      <a:pt x="62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2f1311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9870200">
                <a:off x="6042600" y="3619800"/>
                <a:ext cx="177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2f1311"/>
                    </a:solidFill>
                    <a:latin typeface="Times New Roman"/>
                  </a:rPr>
                  <a:t>КАРАНДАШИ</a:t>
                </a:r>
                <a:r>
                  <a:rPr b="1" lang="en-US" sz="2400" spc="-1" strike="noStrike">
                    <a:solidFill>
                      <a:srgbClr val="2f1311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694840" y="3412800"/>
              <a:ext cx="2090520" cy="1369440"/>
              <a:chOff x="5694840" y="3412800"/>
              <a:chExt cx="2090520" cy="136944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6172200" y="4026600"/>
                <a:ext cx="1338480" cy="755640"/>
                <a:chOff x="6172200" y="4026600"/>
                <a:chExt cx="1338480" cy="755640"/>
              </a:xfrm>
            </p:grpSpPr>
            <p:sp>
              <p:nvSpPr>
                <p:cNvPr id="535" name=""/>
                <p:cNvSpPr/>
                <p:nvPr/>
              </p:nvSpPr>
              <p:spPr>
                <a:xfrm rot="4677000">
                  <a:off x="6598440" y="3763800"/>
                  <a:ext cx="48600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4677000">
                  <a:off x="6311520" y="4573800"/>
                  <a:ext cx="1224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4677000">
                  <a:off x="6287400" y="470052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4677000">
                  <a:off x="6725160" y="3852000"/>
                  <a:ext cx="42444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102720" y="3939840"/>
                <a:ext cx="1338480" cy="755640"/>
                <a:chOff x="6102720" y="3939840"/>
                <a:chExt cx="1338480" cy="755640"/>
              </a:xfrm>
            </p:grpSpPr>
            <p:sp>
              <p:nvSpPr>
                <p:cNvPr id="540" name=""/>
                <p:cNvSpPr/>
                <p:nvPr/>
              </p:nvSpPr>
              <p:spPr>
                <a:xfrm rot="4677000">
                  <a:off x="6528960" y="3676680"/>
                  <a:ext cx="4856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4677000">
                  <a:off x="6242040" y="4487040"/>
                  <a:ext cx="1224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4677000">
                  <a:off x="6217920" y="461340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4677000">
                  <a:off x="6655680" y="3764880"/>
                  <a:ext cx="4240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981400" y="3879360"/>
                <a:ext cx="1339920" cy="756000"/>
                <a:chOff x="5981400" y="3879360"/>
                <a:chExt cx="1339920" cy="756000"/>
              </a:xfrm>
            </p:grpSpPr>
            <p:sp>
              <p:nvSpPr>
                <p:cNvPr id="545" name=""/>
                <p:cNvSpPr/>
                <p:nvPr/>
              </p:nvSpPr>
              <p:spPr>
                <a:xfrm rot="4677000">
                  <a:off x="6408360" y="3615840"/>
                  <a:ext cx="48600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4677000">
                  <a:off x="6121080" y="4426920"/>
                  <a:ext cx="1224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4677000">
                  <a:off x="6097320" y="455328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4677000">
                  <a:off x="6535080" y="3704040"/>
                  <a:ext cx="42444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5883840" y="3787200"/>
                <a:ext cx="1339560" cy="754560"/>
                <a:chOff x="5883840" y="3787200"/>
                <a:chExt cx="1339560" cy="754560"/>
              </a:xfrm>
            </p:grpSpPr>
            <p:sp>
              <p:nvSpPr>
                <p:cNvPr id="550" name=""/>
                <p:cNvSpPr/>
                <p:nvPr/>
              </p:nvSpPr>
              <p:spPr>
                <a:xfrm rot="4677000">
                  <a:off x="6311160" y="3522600"/>
                  <a:ext cx="48420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rot="4677000">
                  <a:off x="6022440" y="4333320"/>
                  <a:ext cx="12204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4677000">
                  <a:off x="5998680" y="445968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4677000">
                  <a:off x="6437880" y="3611160"/>
                  <a:ext cx="42300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783760" y="3727440"/>
                <a:ext cx="1338120" cy="754560"/>
                <a:chOff x="5783760" y="3727440"/>
                <a:chExt cx="1338120" cy="754560"/>
              </a:xfrm>
            </p:grpSpPr>
            <p:sp>
              <p:nvSpPr>
                <p:cNvPr id="555" name=""/>
                <p:cNvSpPr/>
                <p:nvPr/>
              </p:nvSpPr>
              <p:spPr>
                <a:xfrm rot="4677000">
                  <a:off x="6210720" y="3463560"/>
                  <a:ext cx="48420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4677000">
                  <a:off x="5922360" y="4273560"/>
                  <a:ext cx="12204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rot="4677000">
                  <a:off x="5898600" y="439992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4677000">
                  <a:off x="6336720" y="3552120"/>
                  <a:ext cx="42300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5694840" y="3621240"/>
                <a:ext cx="1338480" cy="755640"/>
                <a:chOff x="5694840" y="3621240"/>
                <a:chExt cx="1338480" cy="755640"/>
              </a:xfrm>
            </p:grpSpPr>
            <p:sp>
              <p:nvSpPr>
                <p:cNvPr id="560" name=""/>
                <p:cNvSpPr/>
                <p:nvPr/>
              </p:nvSpPr>
              <p:spPr>
                <a:xfrm rot="4677000">
                  <a:off x="6121080" y="3358080"/>
                  <a:ext cx="4856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4677000">
                  <a:off x="5834160" y="4168440"/>
                  <a:ext cx="1224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4677000">
                  <a:off x="5810040" y="429480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4677000">
                  <a:off x="6247800" y="3446280"/>
                  <a:ext cx="4240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447240" y="3775680"/>
                <a:ext cx="1338120" cy="754560"/>
                <a:chOff x="6447240" y="3775680"/>
                <a:chExt cx="1338120" cy="754560"/>
              </a:xfrm>
            </p:grpSpPr>
            <p:sp>
              <p:nvSpPr>
                <p:cNvPr id="565" name=""/>
                <p:cNvSpPr/>
                <p:nvPr/>
              </p:nvSpPr>
              <p:spPr>
                <a:xfrm rot="4677000">
                  <a:off x="6874200" y="3511800"/>
                  <a:ext cx="48420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4677000">
                  <a:off x="6585840" y="4321800"/>
                  <a:ext cx="12204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4677000">
                  <a:off x="6562080" y="444816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4677000">
                  <a:off x="7000200" y="3600360"/>
                  <a:ext cx="42300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8000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6333840" y="3705840"/>
                <a:ext cx="1339560" cy="754560"/>
                <a:chOff x="6333840" y="3705840"/>
                <a:chExt cx="1339560" cy="754560"/>
              </a:xfrm>
            </p:grpSpPr>
            <p:sp>
              <p:nvSpPr>
                <p:cNvPr id="570" name=""/>
                <p:cNvSpPr/>
                <p:nvPr/>
              </p:nvSpPr>
              <p:spPr>
                <a:xfrm rot="4677000">
                  <a:off x="6761160" y="3441240"/>
                  <a:ext cx="484200" cy="12664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d5b78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4677000">
                  <a:off x="6472440" y="4251960"/>
                  <a:ext cx="12204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4677000">
                  <a:off x="6448680" y="437868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4677000">
                  <a:off x="6887880" y="3529800"/>
                  <a:ext cx="423000" cy="10584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d5b78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6193800" y="3647520"/>
                <a:ext cx="1339920" cy="756000"/>
                <a:chOff x="6193800" y="3647520"/>
                <a:chExt cx="1339920" cy="756000"/>
              </a:xfrm>
            </p:grpSpPr>
            <p:sp>
              <p:nvSpPr>
                <p:cNvPr id="575" name=""/>
                <p:cNvSpPr/>
                <p:nvPr/>
              </p:nvSpPr>
              <p:spPr>
                <a:xfrm rot="4677000">
                  <a:off x="6620760" y="3384000"/>
                  <a:ext cx="486000" cy="12661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4677000">
                  <a:off x="6333120" y="4195080"/>
                  <a:ext cx="122400" cy="24588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4677000">
                  <a:off x="6309360" y="432144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4677000">
                  <a:off x="6747120" y="3472200"/>
                  <a:ext cx="424440" cy="105804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6600cc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6080400" y="3576960"/>
                <a:ext cx="1338480" cy="755640"/>
                <a:chOff x="6080400" y="3576960"/>
                <a:chExt cx="1338480" cy="755640"/>
              </a:xfrm>
            </p:grpSpPr>
            <p:sp>
              <p:nvSpPr>
                <p:cNvPr id="580" name=""/>
                <p:cNvSpPr/>
                <p:nvPr/>
              </p:nvSpPr>
              <p:spPr>
                <a:xfrm rot="4677000">
                  <a:off x="6506640" y="3313800"/>
                  <a:ext cx="48564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4677000">
                  <a:off x="6219720" y="4124160"/>
                  <a:ext cx="12240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4677000">
                  <a:off x="6195600" y="425052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4677000">
                  <a:off x="6633000" y="3402000"/>
                  <a:ext cx="42408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f0b854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5975280" y="3517200"/>
                <a:ext cx="1341360" cy="756360"/>
                <a:chOff x="5975280" y="3517200"/>
                <a:chExt cx="1341360" cy="756360"/>
              </a:xfrm>
            </p:grpSpPr>
            <p:sp>
              <p:nvSpPr>
                <p:cNvPr id="585" name=""/>
                <p:cNvSpPr/>
                <p:nvPr/>
              </p:nvSpPr>
              <p:spPr>
                <a:xfrm rot="4677000">
                  <a:off x="6402600" y="3252960"/>
                  <a:ext cx="486000" cy="126792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dc893e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4677000">
                  <a:off x="6114240" y="4064760"/>
                  <a:ext cx="122400" cy="24624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4677000">
                  <a:off x="6090480" y="4191480"/>
                  <a:ext cx="46440" cy="9360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4677000">
                  <a:off x="6529680" y="3341520"/>
                  <a:ext cx="424440" cy="105948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solidFill>
                  <a:srgbClr val="dc893e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5930280" y="3412800"/>
                <a:ext cx="1338120" cy="754560"/>
                <a:chOff x="5930280" y="3412800"/>
                <a:chExt cx="1338120" cy="754560"/>
              </a:xfrm>
            </p:grpSpPr>
            <p:sp>
              <p:nvSpPr>
                <p:cNvPr id="590" name=""/>
                <p:cNvSpPr/>
                <p:nvPr/>
              </p:nvSpPr>
              <p:spPr>
                <a:xfrm rot="4677000">
                  <a:off x="6357240" y="3148920"/>
                  <a:ext cx="484200" cy="1264680"/>
                </a:xfrm>
                <a:custGeom>
                  <a:avLst/>
                  <a:gdLst/>
                  <a:ahLst/>
                  <a:rect l="l" t="t" r="r" b="b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rot="4677000">
                  <a:off x="6069240" y="3958920"/>
                  <a:ext cx="122040" cy="24552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16059"/>
                    </a:gs>
                    <a:gs pos="50000">
                      <a:srgbClr val="ff9900"/>
                    </a:gs>
                    <a:gs pos="100000">
                      <a:srgbClr val="c16059"/>
                    </a:gs>
                  </a:gsLst>
                  <a:lin ang="131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4677000">
                  <a:off x="6045120" y="4085280"/>
                  <a:ext cx="46440" cy="93240"/>
                </a:xfrm>
                <a:custGeom>
                  <a:avLst/>
                  <a:gdLst/>
                  <a:ahLst/>
                  <a:rect l="l" t="t" r="r" b="b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2f1311"/>
                </a:solidFill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4677000">
                  <a:off x="6483240" y="3237480"/>
                  <a:ext cx="423000" cy="1056600"/>
                </a:xfrm>
                <a:custGeom>
                  <a:avLst/>
                  <a:gdLst/>
                  <a:ahLst/>
                  <a:rect l="l" t="t" r="r" b="b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2f13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6575400" y="2637000"/>
              <a:ext cx="2268720" cy="1636560"/>
            </a:xfrm>
            <a:custGeom>
              <a:avLst/>
              <a:gdLst/>
              <a:ahLst/>
              <a:rect l="l" t="t" r="r" b="b"/>
              <a:pathLst>
                <a:path w="1429" h="1031">
                  <a:moveTo>
                    <a:pt x="1083" y="0"/>
                  </a:moveTo>
                  <a:lnTo>
                    <a:pt x="1428" y="315"/>
                  </a:lnTo>
                  <a:lnTo>
                    <a:pt x="444" y="929"/>
                  </a:lnTo>
                  <a:lnTo>
                    <a:pt x="444" y="929"/>
                  </a:lnTo>
                  <a:lnTo>
                    <a:pt x="1429" y="309"/>
                  </a:lnTo>
                  <a:lnTo>
                    <a:pt x="1334" y="425"/>
                  </a:lnTo>
                  <a:lnTo>
                    <a:pt x="374" y="1031"/>
                  </a:lnTo>
                  <a:lnTo>
                    <a:pt x="430" y="921"/>
                  </a:lnTo>
                  <a:lnTo>
                    <a:pt x="88" y="627"/>
                  </a:lnTo>
                  <a:lnTo>
                    <a:pt x="0" y="700"/>
                  </a:lnTo>
                  <a:lnTo>
                    <a:pt x="82" y="612"/>
                  </a:lnTo>
                  <a:lnTo>
                    <a:pt x="440" y="933"/>
                  </a:lnTo>
                  <a:lnTo>
                    <a:pt x="374" y="1031"/>
                  </a:lnTo>
                  <a:lnTo>
                    <a:pt x="440" y="933"/>
                  </a:lnTo>
                  <a:lnTo>
                    <a:pt x="87" y="610"/>
                  </a:lnTo>
                  <a:lnTo>
                    <a:pt x="6" y="699"/>
                  </a:lnTo>
                  <a:lnTo>
                    <a:pt x="89" y="607"/>
                  </a:lnTo>
                  <a:lnTo>
                    <a:pt x="1083" y="0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5000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2f131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9870800">
              <a:off x="6830640" y="321444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2f1311"/>
                  </a:solidFill>
                  <a:latin typeface="Times New Roman"/>
                </a:rPr>
                <a:t>КАРАНДАШИ</a:t>
              </a:r>
              <a:r>
                <a:rPr b="1" lang="en-US" sz="2400" spc="-1" strike="noStrike">
                  <a:solidFill>
                    <a:srgbClr val="2f1311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81880" y="3606840"/>
              <a:ext cx="685800" cy="666720"/>
            </a:xfrm>
            <a:custGeom>
              <a:avLst/>
              <a:gdLst/>
              <a:ahLst/>
              <a:rect l="l" t="t" r="r" b="b"/>
              <a:pathLst>
                <a:path w="432" h="420">
                  <a:moveTo>
                    <a:pt x="0" y="90"/>
                  </a:moveTo>
                  <a:lnTo>
                    <a:pt x="372" y="420"/>
                  </a:lnTo>
                  <a:lnTo>
                    <a:pt x="432" y="318"/>
                  </a:lnTo>
                  <a:lnTo>
                    <a:pt x="72" y="0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50000">
                  <a:srgbClr val="4d0808"/>
                </a:gs>
                <a:gs pos="100000">
                  <a:srgbClr val="fff200"/>
                </a:gs>
              </a:gsLst>
              <a:lin ang="8100000"/>
            </a:gradFill>
            <a:ln w="9360">
              <a:solidFill>
                <a:srgbClr val="2f1311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97" name=""/>
          <p:cNvSpPr txBox="1"/>
          <p:nvPr/>
        </p:nvSpPr>
        <p:spPr>
          <a:xfrm>
            <a:off x="6588000" y="2708280"/>
            <a:ext cx="936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</a:t>
            </a:r>
            <a:endParaRPr b="1" i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5359320" y="2280960"/>
            <a:ext cx="441360" cy="6769080"/>
          </a:xfrm>
          <a:custGeom>
            <a:avLst/>
            <a:gdLst>
              <a:gd name="textAreaLeft" fmla="*/ 281880 w 441360"/>
              <a:gd name="textAreaRight" fmla="*/ 441720 w 441360"/>
              <a:gd name="textAreaTop" fmla="*/ 176400 h 6769080"/>
              <a:gd name="textAreaBottom" fmla="*/ 6592680 h 67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292720" y="6021360"/>
            <a:ext cx="576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44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40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8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32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4500720" y="404640"/>
            <a:ext cx="2158920" cy="738000"/>
            <a:chOff x="4500720" y="404640"/>
            <a:chExt cx="2158920" cy="738000"/>
          </a:xfrm>
        </p:grpSpPr>
        <p:sp>
          <p:nvSpPr>
            <p:cNvPr id="601" name=""/>
            <p:cNvSpPr/>
            <p:nvPr/>
          </p:nvSpPr>
          <p:spPr>
            <a:xfrm>
              <a:off x="4500720" y="423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2" name=""/>
                <p:cNvSpPr txBox="1"/>
                <p:nvPr/>
              </p:nvSpPr>
              <p:spPr>
                <a:xfrm>
                  <a:off x="4740480" y="404640"/>
                  <a:ext cx="16063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⋅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3" name=""/>
          <p:cNvGrpSpPr/>
          <p:nvPr/>
        </p:nvGrpSpPr>
        <p:grpSpPr>
          <a:xfrm>
            <a:off x="4500720" y="1413000"/>
            <a:ext cx="2158920" cy="738000"/>
            <a:chOff x="4500720" y="1413000"/>
            <a:chExt cx="2158920" cy="738000"/>
          </a:xfrm>
        </p:grpSpPr>
        <p:sp>
          <p:nvSpPr>
            <p:cNvPr id="604" name=""/>
            <p:cNvSpPr/>
            <p:nvPr/>
          </p:nvSpPr>
          <p:spPr>
            <a:xfrm>
              <a:off x="4500720" y="143172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5" name=""/>
                <p:cNvSpPr txBox="1"/>
                <p:nvPr/>
              </p:nvSpPr>
              <p:spPr>
                <a:xfrm>
                  <a:off x="4740480" y="1413000"/>
                  <a:ext cx="16063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6" name=""/>
          <p:cNvSpPr txBox="1"/>
          <p:nvPr/>
        </p:nvSpPr>
        <p:spPr>
          <a:xfrm>
            <a:off x="6948360" y="1125360"/>
            <a:ext cx="5749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=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500720" y="404640"/>
            <a:ext cx="2158920" cy="738000"/>
            <a:chOff x="4500720" y="404640"/>
            <a:chExt cx="2158920" cy="738000"/>
          </a:xfrm>
        </p:grpSpPr>
        <p:sp>
          <p:nvSpPr>
            <p:cNvPr id="608" name=""/>
            <p:cNvSpPr/>
            <p:nvPr/>
          </p:nvSpPr>
          <p:spPr>
            <a:xfrm>
              <a:off x="4500720" y="423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4740480" y="404640"/>
                  <a:ext cx="16063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⋅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0" name=""/>
          <p:cNvGrpSpPr/>
          <p:nvPr/>
        </p:nvGrpSpPr>
        <p:grpSpPr>
          <a:xfrm>
            <a:off x="4500720" y="1413000"/>
            <a:ext cx="2158920" cy="738000"/>
            <a:chOff x="4500720" y="1413000"/>
            <a:chExt cx="2158920" cy="738000"/>
          </a:xfrm>
        </p:grpSpPr>
        <p:sp>
          <p:nvSpPr>
            <p:cNvPr id="611" name=""/>
            <p:cNvSpPr/>
            <p:nvPr/>
          </p:nvSpPr>
          <p:spPr>
            <a:xfrm>
              <a:off x="4500720" y="143172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2" name=""/>
                <p:cNvSpPr txBox="1"/>
                <p:nvPr/>
              </p:nvSpPr>
              <p:spPr>
                <a:xfrm>
                  <a:off x="4740480" y="1413000"/>
                  <a:ext cx="160632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3" name=""/>
          <p:cNvSpPr/>
          <p:nvPr/>
        </p:nvSpPr>
        <p:spPr>
          <a:xfrm>
            <a:off x="6372360" y="692280"/>
            <a:ext cx="215640" cy="1214280"/>
          </a:xfrm>
          <a:prstGeom prst="upDownArrow">
            <a:avLst>
              <a:gd name="adj1" fmla="val 50000"/>
              <a:gd name="adj2" fmla="val 112099"/>
            </a:avLst>
          </a:prstGeom>
          <a:solidFill>
            <a:srgbClr val="339966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5280" y="2349360"/>
            <a:ext cx="6480360" cy="1513080"/>
          </a:xfrm>
          <a:prstGeom prst="wedgeRoundRectCallout">
            <a:avLst>
              <a:gd name="adj1" fmla="val 66657"/>
              <a:gd name="adj2" fmla="val 93439"/>
              <a:gd name="adj3" fmla="val 16667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От перестановки мест множителей произведение не меняетс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771640" y="5084640"/>
            <a:ext cx="3816360" cy="792360"/>
            <a:chOff x="2771640" y="5084640"/>
            <a:chExt cx="3816360" cy="792360"/>
          </a:xfrm>
        </p:grpSpPr>
        <p:sp>
          <p:nvSpPr>
            <p:cNvPr id="616" name=""/>
            <p:cNvSpPr/>
            <p:nvPr/>
          </p:nvSpPr>
          <p:spPr>
            <a:xfrm>
              <a:off x="3419640" y="5516640"/>
              <a:ext cx="1425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7280" y="55166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2771640" y="5084640"/>
              <a:ext cx="3816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b = b   a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21:53:31Z</dcterms:created>
  <dc:creator>MAMA</dc:creator>
  <dc:description/>
  <dc:language>en-US</dc:language>
  <cp:lastModifiedBy>Н</cp:lastModifiedBy>
  <dcterms:modified xsi:type="dcterms:W3CDTF">2021-04-05T16:46:13Z</dcterms:modified>
  <cp:revision>17</cp:revision>
  <dc:subject/>
  <dc:title>Слайд 1</dc:title>
</cp:coreProperties>
</file>