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gif" ContentType="image/gif"/>
  <Override PartName="/ppt/media/image7.jpeg" ContentType="image/jpeg"/>
  <Override PartName="/ppt/media/image18.png" ContentType="image/png"/>
  <Override PartName="/ppt/media/image10.jpeg" ContentType="image/jpeg"/>
  <Override PartName="/ppt/media/image8.jpeg" ContentType="image/jpeg"/>
  <Override PartName="/ppt/media/image6.gif" ContentType="image/gif"/>
  <Override PartName="/ppt/media/image29.gif" ContentType="image/gif"/>
  <Override PartName="/ppt/media/image5.gif" ContentType="image/gif"/>
  <Override PartName="/ppt/media/image28.gif" ContentType="image/gif"/>
  <Override PartName="/ppt/media/image13.jpeg" ContentType="image/jpeg"/>
  <Override PartName="/ppt/media/image20.gif" ContentType="image/gif"/>
  <Override PartName="/ppt/media/image23.png" ContentType="image/png"/>
  <Override PartName="/ppt/media/image26.png" ContentType="image/png"/>
  <Override PartName="/ppt/media/image14.png" ContentType="image/png"/>
  <Override PartName="/ppt/media/image3.gif" ContentType="image/gif"/>
  <Override PartName="/ppt/media/image24.png" ContentType="image/png"/>
  <Override PartName="/ppt/media/image21.gif" ContentType="image/gif"/>
  <Override PartName="/ppt/media/image19.jpeg" ContentType="image/jpeg"/>
  <Override PartName="/ppt/media/image1.jpeg" ContentType="image/jpeg"/>
  <Override PartName="/ppt/media/image17.gif" ContentType="image/gif"/>
  <Override PartName="/ppt/media/image16.jpeg" ContentType="image/jpeg"/>
  <Override PartName="/ppt/media/image22.gif" ContentType="image/gif"/>
  <Override PartName="/ppt/media/image25.png" ContentType="image/png"/>
  <Override PartName="/ppt/media/image2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D10-FCF7-4092-89EE-5CF95A6C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5E6-29F1-4290-B9D0-1CA8941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098-D390-4EBF-94F7-E0F56DD9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2A1-0482-457F-A5D6-22D956B9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F29-CB53-4A2D-B7E2-0E85FDFC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963-D069-4568-8738-3064225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021-32AF-4CE8-8041-4102230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A10-2F9C-4FAF-BF20-85BB41EA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C76-DD1B-4DEB-B7D7-627D448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205-F51D-4BEF-B0DB-1ECD548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219-6C7A-4E64-B6BC-04C6129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B79-FBB8-4CF4-B87F-73B2D09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6897-1E3C-49E5-A800-28B4A338D2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8.jpeg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Box 3"/>
          <p:cNvGrpSpPr/>
          <p:nvPr/>
        </p:nvGrpSpPr>
        <p:grpSpPr>
          <a:xfrm>
            <a:off x="-255600" y="2382840"/>
            <a:ext cx="9375840" cy="939960"/>
            <a:chOff x="-255600" y="2382840"/>
            <a:chExt cx="9375840" cy="939960"/>
          </a:xfrm>
        </p:grpSpPr>
        <p:pic>
          <p:nvPicPr>
            <p:cNvPr id="42" name="TextBox 3" descr=""/>
            <p:cNvPicPr/>
            <p:nvPr/>
          </p:nvPicPr>
          <p:blipFill>
            <a:blip r:embed="rId1"/>
            <a:stretch/>
          </p:blipFill>
          <p:spPr>
            <a:xfrm>
              <a:off x="-255600" y="2382840"/>
              <a:ext cx="937584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-142920" y="2500200"/>
              <a:ext cx="91440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" name="Рисунок 4" descr="5b9f8fda37473265f97efd3ceaef3890.gif"/>
          <p:cNvPicPr/>
          <p:nvPr/>
        </p:nvPicPr>
        <p:blipFill>
          <a:blip r:embed="rId2"/>
          <a:stretch/>
        </p:blipFill>
        <p:spPr>
          <a:xfrm>
            <a:off x="7667640" y="18900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7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785440" cy="197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ffff00"/>
            </a:outerShdw>
          </a:effectLst>
        </p:spPr>
      </p:pic>
      <p:sp>
        <p:nvSpPr>
          <p:cNvPr id="46" name="TextBox 9"/>
          <p:cNvSpPr/>
          <p:nvPr/>
        </p:nvSpPr>
        <p:spPr>
          <a:xfrm>
            <a:off x="1979640" y="1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«Часы нам измеряют труд и с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Определяют встречи и разлу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ля нас часов спокойный, мерный  звон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То мирные, то боевые зву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Над миром ночь безмолвная цари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Пустеет понемногу мостов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И только время с нами говори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вои часы на башне отбивая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.Марш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7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Линия перемены дат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324000" y="189000"/>
            <a:ext cx="85359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оссия лежит в 11 часовых поясах. Москва находится во 2 поясе, а Чукотский полуостров в 1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ля удобства 11 и 12 часовые пояса объединили в од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79280" y="1844640"/>
            <a:ext cx="879012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раз встречают Новый год жители России? Жители какой части России первые отмечают наступление Нового года, а какой последни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79280" y="3213000"/>
            <a:ext cx="878544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 раз, начиная с Дальнего Востока. Последними встречают Новый год жители Калинингра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79280" y="4724280"/>
            <a:ext cx="878544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оскве  10 часов. Сколько в данный момент времени в Якутс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179280" y="5546880"/>
            <a:ext cx="878544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Якутске 16 часов, так как он лежит в 8 часовом поясе, а Москва во 2. Разница во времени 6 ча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324000" y="836640"/>
            <a:ext cx="856908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30 году стрелки часов на территории России были переведены на час вперед по сравнению с поясным времен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было сделано в соответствии с Декретом Совета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время получило названи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КРЕТ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кретное врем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введено с целью использования светлого времени суток и экономии электроэнер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324000" y="4221000"/>
            <a:ext cx="8569080" cy="2533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арте 1991 года декретное время было упразднено. Мы перешли на систему отсчета летнее-зимнее вр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зимой используется поясное время, а летом часы переводятся на час впере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следнее воскресенье марта часы переводят на 1 час вперед, а в последнее воскресенье октября – на 1 час наза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тоге людям не приходится вставать намного раньше восхода солн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5" descr="460971fe3f0c1c784470dea91adaa8cf.gif"/>
          <p:cNvPicPr/>
          <p:nvPr/>
        </p:nvPicPr>
        <p:blipFill>
          <a:blip r:embed="rId3"/>
          <a:stretch/>
        </p:blipFill>
        <p:spPr>
          <a:xfrm>
            <a:off x="7380360" y="3429000"/>
            <a:ext cx="88560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7"/>
          <p:cNvSpPr txBox="1"/>
          <p:nvPr/>
        </p:nvSpPr>
        <p:spPr>
          <a:xfrm>
            <a:off x="2484360" y="11592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Декретное врем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2411280" y="335772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Летнее врем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0" y="66024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озникает вопрос, а по какому времени мы живем сейчас, в 2019 год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В конце октября 2014 года был осуществлен перевод  стрелок  на постоянное «зимнее» время, которое по научному называетс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«поясное», в котором мы сейчас и живем. С тех пор изменения времени не происходи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24000" y="2492280"/>
            <a:ext cx="84960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53966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удобства отсчета времени на территории России и избежание путаницы в связи с большим количеством часовых поясов в России действует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МОСКОВСКОЕ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время.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о </a:t>
            </a: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сковскому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 времени работают весь транспорт и все средства связи нашей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826920" y="836640"/>
            <a:ext cx="7129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сковское врем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468360" y="907920"/>
            <a:ext cx="835344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аком часовом поясе находится Нижний Новгоро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8360" y="2708280"/>
            <a:ext cx="835344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рритории какого часового пояса находится вулкан Ключевская Соп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9" descr="3dac96de6803d637fcc72bc4d0603195.gif"/>
          <p:cNvPicPr/>
          <p:nvPr/>
        </p:nvPicPr>
        <p:blipFill>
          <a:blip r:embed="rId3"/>
          <a:stretch/>
        </p:blipFill>
        <p:spPr>
          <a:xfrm>
            <a:off x="7451640" y="5950080"/>
            <a:ext cx="79056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0"/>
          <p:cNvSpPr txBox="1"/>
          <p:nvPr/>
        </p:nvSpPr>
        <p:spPr>
          <a:xfrm>
            <a:off x="2484360" y="11592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Практ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39640" y="4724280"/>
            <a:ext cx="8353440" cy="100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сколько надо перевести часы пассажирам, летящим из Москвы в Магадан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11280" y="6021360"/>
            <a:ext cx="29527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На 8 часов впер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39640" y="3933720"/>
            <a:ext cx="3384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 11 часовом поя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539640" y="2060640"/>
            <a:ext cx="266400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Во втор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9280" y="333360"/>
            <a:ext cx="878544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ужно ли переводить часы, если мы направляемся из Нижнего Новгорода в г. Соч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ясн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79280" y="1844640"/>
            <a:ext cx="8785440" cy="2838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гда Фернан Магеллан совершил свое кругосветное путешествие, то, несмотря на то, что тщательно вел дневник, «потерял» один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к должен был поступить Магеллан, пересекая линию перемены да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) прибавить су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) убавить су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) оставить все без измен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79280" y="5084640"/>
            <a:ext cx="878544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а №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жите время в городах  Салехарде, Якутске, Магадане, если в Нижнем Новгороде 13 час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476360" y="6308640"/>
            <a:ext cx="741672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 Салехарде15 часов, в Якутске  19 часов, в Магадане  21 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6" descr="104f439dbef97bad2ee2add4b549c2e1.gif"/>
          <p:cNvPicPr/>
          <p:nvPr/>
        </p:nvPicPr>
        <p:blipFill>
          <a:blip r:embed="rId5"/>
          <a:stretch/>
        </p:blipFill>
        <p:spPr>
          <a:xfrm>
            <a:off x="324000" y="6161040"/>
            <a:ext cx="1028520" cy="581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8e12b96d087ec7ce56313c229be3bf91.gif"/>
          <p:cNvPicPr/>
          <p:nvPr/>
        </p:nvPicPr>
        <p:blipFill>
          <a:blip r:embed="rId6"/>
          <a:stretch/>
        </p:blipFill>
        <p:spPr>
          <a:xfrm>
            <a:off x="8028000" y="3860640"/>
            <a:ext cx="581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Скругленная прямоугольная выноска 3"/>
          <p:cNvGrpSpPr/>
          <p:nvPr/>
        </p:nvGrpSpPr>
        <p:grpSpPr>
          <a:xfrm>
            <a:off x="298440" y="828720"/>
            <a:ext cx="1712880" cy="1208160"/>
            <a:chOff x="298440" y="828720"/>
            <a:chExt cx="1712880" cy="1208160"/>
          </a:xfrm>
        </p:grpSpPr>
        <p:pic>
          <p:nvPicPr>
            <p:cNvPr id="129" name="Скругленная прямоугольная выноска 3" descr=""/>
            <p:cNvPicPr/>
            <p:nvPr/>
          </p:nvPicPr>
          <p:blipFill>
            <a:blip r:embed="rId1"/>
            <a:stretch/>
          </p:blipFill>
          <p:spPr>
            <a:xfrm>
              <a:off x="298440" y="828720"/>
              <a:ext cx="17128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92080" y="892080"/>
              <a:ext cx="10591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Местно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5"/>
          <p:cNvSpPr/>
          <p:nvPr/>
        </p:nvSpPr>
        <p:spPr>
          <a:xfrm>
            <a:off x="214200" y="1928880"/>
            <a:ext cx="18846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на одном мериди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ая прямоугольная выноска 7"/>
          <p:cNvGrpSpPr/>
          <p:nvPr/>
        </p:nvGrpSpPr>
        <p:grpSpPr>
          <a:xfrm>
            <a:off x="3267000" y="828720"/>
            <a:ext cx="1616040" cy="1401840"/>
            <a:chOff x="3267000" y="828720"/>
            <a:chExt cx="1616040" cy="1401840"/>
          </a:xfrm>
        </p:grpSpPr>
        <p:pic>
          <p:nvPicPr>
            <p:cNvPr id="133" name="Скругленная прямоугольная выноска 7" descr=""/>
            <p:cNvPicPr/>
            <p:nvPr/>
          </p:nvPicPr>
          <p:blipFill>
            <a:blip r:embed="rId2"/>
            <a:stretch/>
          </p:blipFill>
          <p:spPr>
            <a:xfrm>
              <a:off x="3267000" y="828720"/>
              <a:ext cx="1616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749760" y="892080"/>
              <a:ext cx="1073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Поясно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Box 10"/>
          <p:cNvSpPr/>
          <p:nvPr/>
        </p:nvSpPr>
        <p:spPr>
          <a:xfrm>
            <a:off x="3151080" y="2143080"/>
            <a:ext cx="1855800" cy="611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ремя 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ниц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ового поя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Скругленная прямоугольная выноска 11"/>
          <p:cNvGrpSpPr/>
          <p:nvPr/>
        </p:nvGrpSpPr>
        <p:grpSpPr>
          <a:xfrm>
            <a:off x="5967360" y="755640"/>
            <a:ext cx="2116080" cy="1397160"/>
            <a:chOff x="5967360" y="755640"/>
            <a:chExt cx="2116080" cy="1397160"/>
          </a:xfrm>
        </p:grpSpPr>
        <p:pic>
          <p:nvPicPr>
            <p:cNvPr id="137" name="Скругленная прямоугольная выноска 11" descr=""/>
            <p:cNvPicPr/>
            <p:nvPr/>
          </p:nvPicPr>
          <p:blipFill>
            <a:blip r:embed="rId3"/>
            <a:stretch/>
          </p:blipFill>
          <p:spPr>
            <a:xfrm>
              <a:off x="5967360" y="755640"/>
              <a:ext cx="211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681960" y="824040"/>
              <a:ext cx="13381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иния перемены д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12"/>
          <p:cNvSpPr/>
          <p:nvPr/>
        </p:nvSpPr>
        <p:spPr>
          <a:xfrm>
            <a:off x="5435640" y="2133720"/>
            <a:ext cx="316872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овная линия по 180  меридиану от которой  начинаются новые су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Скругленная прямоугольная выноска 13"/>
          <p:cNvGrpSpPr/>
          <p:nvPr/>
        </p:nvGrpSpPr>
        <p:grpSpPr>
          <a:xfrm>
            <a:off x="1195560" y="3498840"/>
            <a:ext cx="1974600" cy="1212840"/>
            <a:chOff x="1195560" y="3498840"/>
            <a:chExt cx="1974600" cy="1212840"/>
          </a:xfrm>
        </p:grpSpPr>
        <p:pic>
          <p:nvPicPr>
            <p:cNvPr id="141" name="Скругленная прямоугольная выноска 13" descr=""/>
            <p:cNvPicPr/>
            <p:nvPr/>
          </p:nvPicPr>
          <p:blipFill>
            <a:blip r:embed="rId4"/>
            <a:stretch/>
          </p:blipFill>
          <p:spPr>
            <a:xfrm>
              <a:off x="1195560" y="3498840"/>
              <a:ext cx="19746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751040" y="3565440"/>
              <a:ext cx="1355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Декретно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Box 14"/>
          <p:cNvSpPr/>
          <p:nvPr/>
        </p:nvSpPr>
        <p:spPr>
          <a:xfrm>
            <a:off x="324000" y="4675320"/>
            <a:ext cx="35496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ремя, созданное для более полного использования  светлого времени суток. В России в 1930 г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Скругленная прямоугольная выноска 15"/>
          <p:cNvGrpSpPr/>
          <p:nvPr/>
        </p:nvGrpSpPr>
        <p:grpSpPr>
          <a:xfrm>
            <a:off x="5114880" y="3359160"/>
            <a:ext cx="2687760" cy="1457280"/>
            <a:chOff x="5114880" y="3359160"/>
            <a:chExt cx="2687760" cy="1457280"/>
          </a:xfrm>
        </p:grpSpPr>
        <p:pic>
          <p:nvPicPr>
            <p:cNvPr id="145" name="Скругленная прямоугольная выноска 15" descr=""/>
            <p:cNvPicPr/>
            <p:nvPr/>
          </p:nvPicPr>
          <p:blipFill>
            <a:blip r:embed="rId5"/>
            <a:stretch/>
          </p:blipFill>
          <p:spPr>
            <a:xfrm>
              <a:off x="5114880" y="3359160"/>
              <a:ext cx="26877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6183360" y="3425760"/>
              <a:ext cx="154944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alibri"/>
                </a:rPr>
                <a:t>Летнее вре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Box 16"/>
          <p:cNvSpPr/>
          <p:nvPr/>
        </p:nvSpPr>
        <p:spPr>
          <a:xfrm>
            <a:off x="4578480" y="4675320"/>
            <a:ext cx="4182840" cy="2014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еревод времени на час вперед для наиболее полного использования дневного света и экономии электроэнер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конце марта часы переводят на 1 час вперед, в конце октября – на 1 час наза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WordArt 23"/>
          <p:cNvSpPr txBox="1"/>
          <p:nvPr/>
        </p:nvSpPr>
        <p:spPr>
          <a:xfrm>
            <a:off x="2484360" y="18900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Закрепле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1357200" y="1428840"/>
            <a:ext cx="184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250920" y="1484280"/>
            <a:ext cx="855036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2. Знать терми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3. Составить и решить  задачу на определение поясного време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9" descr="0222bc78ff89ba690caa73380eb3d7fe.gif"/>
          <p:cNvPicPr/>
          <p:nvPr/>
        </p:nvPicPr>
        <p:blipFill>
          <a:blip r:embed="rId1"/>
          <a:stretch/>
        </p:blipFill>
        <p:spPr>
          <a:xfrm>
            <a:off x="6858000" y="35712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2" descr="61cfca774becb99b15bf1eed7451022a.gif"/>
          <p:cNvPicPr/>
          <p:nvPr/>
        </p:nvPicPr>
        <p:blipFill>
          <a:blip r:embed="rId2"/>
          <a:stretch/>
        </p:blipFill>
        <p:spPr>
          <a:xfrm>
            <a:off x="4067280" y="5877000"/>
            <a:ext cx="895320" cy="8380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7"/>
          <p:cNvSpPr txBox="1"/>
          <p:nvPr/>
        </p:nvSpPr>
        <p:spPr>
          <a:xfrm>
            <a:off x="2268360" y="404640"/>
            <a:ext cx="4257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84360" y="1484280"/>
            <a:ext cx="8135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- познакомиться с положением России в  часовых пояса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785960" y="1928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84360" y="2979720"/>
            <a:ext cx="6107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знать о видах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76440" y="4005360"/>
            <a:ext cx="8143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- получить представление о практическом значении знаний о време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84360" y="5157720"/>
            <a:ext cx="813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- научиться решать задачи по определению поясного времени с использованием  географической кар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Рисунок 9" descr="096.gif"/>
          <p:cNvPicPr/>
          <p:nvPr/>
        </p:nvPicPr>
        <p:blipFill>
          <a:blip r:embed="rId1"/>
          <a:stretch/>
        </p:blipFill>
        <p:spPr>
          <a:xfrm>
            <a:off x="428760" y="428760"/>
            <a:ext cx="952200" cy="799920"/>
          </a:xfrm>
          <a:prstGeom prst="rect">
            <a:avLst/>
          </a:prstGeom>
          <a:ln w="0">
            <a:noFill/>
          </a:ln>
        </p:spPr>
      </p:pic>
      <p:sp>
        <p:nvSpPr>
          <p:cNvPr id="53" name="WordArt 9"/>
          <p:cNvSpPr txBox="1"/>
          <p:nvPr/>
        </p:nvSpPr>
        <p:spPr>
          <a:xfrm>
            <a:off x="2556000" y="333360"/>
            <a:ext cx="4209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Цели и задачи урока: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357280" y="2214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411280" y="1643040"/>
            <a:ext cx="544680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Местн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Поясн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Декретн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Летне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Часовые поя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Линия перемены д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Verdana"/>
              </a:rPr>
              <a:t>- Московское 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Рисунок 12" descr="57c61ce4bb93eae2f7e1329e9f60c81e.gif"/>
          <p:cNvPicPr/>
          <p:nvPr/>
        </p:nvPicPr>
        <p:blipFill>
          <a:blip r:embed="rId1"/>
          <a:stretch/>
        </p:blipFill>
        <p:spPr>
          <a:xfrm>
            <a:off x="571680" y="428760"/>
            <a:ext cx="1428480" cy="9522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часы.jpg"/>
          <p:cNvPicPr/>
          <p:nvPr/>
        </p:nvPicPr>
        <p:blipFill>
          <a:blip r:embed="rId2"/>
          <a:stretch/>
        </p:blipFill>
        <p:spPr>
          <a:xfrm>
            <a:off x="7643880" y="28584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268360" y="620640"/>
            <a:ext cx="421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Термины и поняти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7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7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7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7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7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7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7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79280" y="836640"/>
            <a:ext cx="8785440" cy="532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 совершает  полный оборот вокруг своей оси (360 градусов) за сутки, т.е. за 24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 каждый момент суток одинаковое время бывает лишь в тех точках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сположенных на одном меридиа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время называют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один час Земля поворачивается на 15 градусов (360:24), поэтому разница между пунктами, расположенными на меридианах, удаленных друг от друга на 15 градусов составляет 1 час, на 30 градусов – 2 часа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зоваться местным временем на территории страны неудоб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411280" y="115920"/>
            <a:ext cx="421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Местное врем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cfdd0d844e3c48d1d3de890e115e06ef.gif"/>
          <p:cNvPicPr/>
          <p:nvPr/>
        </p:nvPicPr>
        <p:blipFill>
          <a:blip r:embed="rId1"/>
          <a:stretch/>
        </p:blipFill>
        <p:spPr>
          <a:xfrm>
            <a:off x="755640" y="260280"/>
            <a:ext cx="666720" cy="542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179280" y="1628640"/>
            <a:ext cx="8785440" cy="4972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я поверхность Земли была разделена по меридианам на 24 пояса (от 0 до 23), разница между которыми  составляла 15 градусов долготы или 1 час времен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елах пояса условились считать время по тому меридиану, который проходит посере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ЯСНОЕ ВРЕМЯ – это время в границах одного часового поя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ясное время впервые было введено в США в 1883 году.         В России – в 1919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 нулевой пояс принят тот пояс, где проходит нулевой (Гринвичский) мериди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 же является 24 пояс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него счет поясам  ведут к востоку, так как Земля вращается с  запада на восток. К востоку от любого пояса время суток будет увеличиваться, к западу – уменьш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2268360" y="189000"/>
            <a:ext cx="4210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89604" dir="2700000" blurRad="0" rotWithShape="0">
                    <a:srgbClr val="ffff00"/>
                  </a:outerShdw>
                </a:effectLst>
                <a:latin typeface="Impact"/>
              </a:rPr>
              <a:t>Поясное время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89604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981000"/>
            <a:ext cx="8785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ля удобства астрономы разработали систему поясног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хема1.jpg"/>
          <p:cNvPicPr/>
          <p:nvPr/>
        </p:nvPicPr>
        <p:blipFill>
          <a:blip r:embed="rId1"/>
          <a:srcRect l="10184" t="13353" r="25002" b="24351"/>
          <a:stretch/>
        </p:blipFill>
        <p:spPr>
          <a:xfrm>
            <a:off x="395280" y="1125360"/>
            <a:ext cx="8429760" cy="5572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6" name="TextBox 2"/>
          <p:cNvSpPr/>
          <p:nvPr/>
        </p:nvSpPr>
        <p:spPr>
          <a:xfrm>
            <a:off x="395280" y="214200"/>
            <a:ext cx="856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Verdana"/>
              </a:rPr>
              <a:t>В пределах пояса условились считать время по тому меридиану, который проходит посередин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Рисунок 3" descr="2bad9273bbe9ae84de951cb99a31ae85.gif"/>
          <p:cNvPicPr/>
          <p:nvPr/>
        </p:nvPicPr>
        <p:blipFill>
          <a:blip r:embed="rId2"/>
          <a:stretch/>
        </p:blipFill>
        <p:spPr>
          <a:xfrm>
            <a:off x="7572240" y="1643040"/>
            <a:ext cx="7905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карта поясного времени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15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219640" y="206064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катеринбу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43280" y="213372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516720" y="170028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Якут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308720" y="2060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Петропавловск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мчат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5508720" y="1844640"/>
            <a:ext cx="285480" cy="288720"/>
            <a:chOff x="5508720" y="1844640"/>
            <a:chExt cx="285480" cy="288720"/>
          </a:xfrm>
        </p:grpSpPr>
        <p:sp>
          <p:nvSpPr>
            <p:cNvPr id="74" name="Oval 10"/>
            <p:cNvSpPr/>
            <p:nvPr/>
          </p:nvSpPr>
          <p:spPr>
            <a:xfrm>
              <a:off x="5578560" y="1917360"/>
              <a:ext cx="14436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5508720" y="1844640"/>
              <a:ext cx="28548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AutoShape 13"/>
          <p:cNvSpPr/>
          <p:nvPr/>
        </p:nvSpPr>
        <p:spPr>
          <a:xfrm>
            <a:off x="4788000" y="1844640"/>
            <a:ext cx="433440" cy="362160"/>
          </a:xfrm>
          <a:custGeom>
            <a:avLst/>
            <a:gdLst/>
            <a:ahLst/>
            <a:rect l="l" t="t" r="r" b="b"/>
            <a:pathLst>
              <a:path w="433388" h="361950">
                <a:moveTo>
                  <a:pt x="0" y="138252"/>
                </a:moveTo>
                <a:lnTo>
                  <a:pt x="165540" y="138253"/>
                </a:lnTo>
                <a:lnTo>
                  <a:pt x="216694" y="0"/>
                </a:lnTo>
                <a:lnTo>
                  <a:pt x="267848" y="138253"/>
                </a:lnTo>
                <a:lnTo>
                  <a:pt x="433388" y="138252"/>
                </a:lnTo>
                <a:lnTo>
                  <a:pt x="299462" y="223696"/>
                </a:lnTo>
                <a:lnTo>
                  <a:pt x="350618" y="361949"/>
                </a:lnTo>
                <a:lnTo>
                  <a:pt x="216694" y="276503"/>
                </a:lnTo>
                <a:lnTo>
                  <a:pt x="82770" y="361949"/>
                </a:lnTo>
                <a:lnTo>
                  <a:pt x="133926" y="223696"/>
                </a:lnTo>
                <a:lnTo>
                  <a:pt x="0" y="138252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5508720" y="1844640"/>
            <a:ext cx="285480" cy="288720"/>
            <a:chOff x="5508720" y="1844640"/>
            <a:chExt cx="285480" cy="288720"/>
          </a:xfrm>
        </p:grpSpPr>
        <p:sp>
          <p:nvSpPr>
            <p:cNvPr id="78" name="Oval 15"/>
            <p:cNvSpPr/>
            <p:nvPr/>
          </p:nvSpPr>
          <p:spPr>
            <a:xfrm>
              <a:off x="5578560" y="1917360"/>
              <a:ext cx="14436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6"/>
            <p:cNvSpPr/>
            <p:nvPr/>
          </p:nvSpPr>
          <p:spPr>
            <a:xfrm>
              <a:off x="5508720" y="1844640"/>
              <a:ext cx="285480" cy="288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Oval 17"/>
          <p:cNvSpPr/>
          <p:nvPr/>
        </p:nvSpPr>
        <p:spPr>
          <a:xfrm>
            <a:off x="6732720" y="1628640"/>
            <a:ext cx="14436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7812000" y="1989000"/>
            <a:ext cx="144720" cy="1429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20"/>
          <p:cNvSpPr txBox="1"/>
          <p:nvPr/>
        </p:nvSpPr>
        <p:spPr>
          <a:xfrm>
            <a:off x="2897280" y="47520"/>
            <a:ext cx="3619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та часовых поясов мира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24000" y="260280"/>
            <a:ext cx="8569080" cy="2228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ницы часовых поясов не проходят строго по меридиан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 их проведении учитывают административное деление страны, чтобы та или иная  административная единиц (область, республика, их столица) находилась в одном часовом пояс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4" descr="p0007.gif"/>
          <p:cNvPicPr/>
          <p:nvPr/>
        </p:nvPicPr>
        <p:blipFill>
          <a:blip r:embed="rId2"/>
          <a:stretch/>
        </p:blipFill>
        <p:spPr>
          <a:xfrm>
            <a:off x="1476360" y="2637000"/>
            <a:ext cx="6429240" cy="40179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203640" y="4294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катеринбу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627280" y="40784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64000" y="4437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Якутс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227640" y="4221000"/>
            <a:ext cx="15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Петропавловск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мчат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2916360" y="378936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0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33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3564000" y="4149720"/>
            <a:ext cx="216000" cy="216000"/>
            <a:chOff x="3564000" y="4149720"/>
            <a:chExt cx="216000" cy="216000"/>
          </a:xfrm>
        </p:grpSpPr>
        <p:sp>
          <p:nvSpPr>
            <p:cNvPr id="91" name="Oval 10"/>
            <p:cNvSpPr/>
            <p:nvPr/>
          </p:nvSpPr>
          <p:spPr>
            <a:xfrm>
              <a:off x="3616560" y="4204080"/>
              <a:ext cx="109080" cy="10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11"/>
            <p:cNvSpPr/>
            <p:nvPr/>
          </p:nvSpPr>
          <p:spPr>
            <a:xfrm>
              <a:off x="3564000" y="4149720"/>
              <a:ext cx="216000" cy="21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Oval 12"/>
          <p:cNvSpPr/>
          <p:nvPr/>
        </p:nvSpPr>
        <p:spPr>
          <a:xfrm flipH="1">
            <a:off x="5616720" y="4402080"/>
            <a:ext cx="69840" cy="69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3"/>
          <p:cNvSpPr/>
          <p:nvPr/>
        </p:nvSpPr>
        <p:spPr>
          <a:xfrm flipH="1">
            <a:off x="6985080" y="4041720"/>
            <a:ext cx="69840" cy="698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4"/>
          <p:cNvSpPr/>
          <p:nvPr/>
        </p:nvSpPr>
        <p:spPr>
          <a:xfrm>
            <a:off x="468360" y="1125360"/>
            <a:ext cx="8209080" cy="21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 новых суток условно считают от 12 часового пояса. Через его середину проходит меридиан 180 градусов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ющий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НИЕЙ ПЕРЕМЕНЫ ДА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указывает также  на переход из Восточного в Западное   полушарие. Пересекая эту линию, мы попадаем из одних суток в друг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50920" y="3857760"/>
            <a:ext cx="864216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экипаж самолета Валерия Чкалова вылетел  в Америку из нашей страны 18 июня 1937 года, летел бе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адки двое су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приземлил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мерике не 20, а 19 июня. Поче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2411280" y="189000"/>
            <a:ext cx="425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53966" dir="2700000" blurRad="0" rotWithShape="0">
                    <a:srgbClr val="ffff00"/>
                  </a:outerShdw>
                </a:effectLst>
                <a:latin typeface="Impact"/>
              </a:rPr>
              <a:t>Линия перемены да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53966" dir="2700000" blurRad="0" rotWithShape="0">
                  <a:srgbClr val="ffff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30:45Z</dcterms:created>
  <dc:creator>Ларичева</dc:creator>
  <dc:description/>
  <dc:language>en-US</dc:language>
  <cp:lastModifiedBy>Раиса</cp:lastModifiedBy>
  <dcterms:modified xsi:type="dcterms:W3CDTF">2019-09-14T05:05:28Z</dcterms:modified>
  <cp:revision>95</cp:revision>
  <dc:subject/>
  <dc:title>Слайд 1</dc:title>
</cp:coreProperties>
</file>