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2A9E-A669-4C30-A481-A72F7035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952-CFAC-43B4-98DC-F4B292E4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AA5-60B2-49E6-9BE3-7EC36BCF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A8C-AA32-451F-8031-2FE18B2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C05-79F0-4396-84A3-91F63BB4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7CD-9859-44D7-BE34-0FB9DC0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B5E4-D495-48DA-B200-49C3D9F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3109-2E13-4463-A299-42B36D7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3C1D-7BD7-4A06-A28B-E8FA790C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733-9288-4382-96A2-93936ED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452-9B0A-4073-8BBE-F1CFB45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FF0-A4C2-4489-A8EC-B6AA7B9D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A20-12C2-4947-A62E-110572F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BD7F-3F35-4646-82CB-B094FA5F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AC5-26A3-4064-AA96-0FC16FAD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59B8-155F-44AD-95D1-6AFE46BA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392-E21F-448D-AFDC-21F4BBF7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EF5-8036-4AF6-9EB1-28ED928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7E6-2816-4EF9-99F1-1DEC04CF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EA5-5FEC-47FD-BBEB-9EE7626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B2B-4980-4355-97ED-786EE6C9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93F-964B-49A2-AA65-BCA74D0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785-E7DC-4538-96EA-26B26572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6A3-32BF-4C84-80DB-A3ECA4C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A14D-022F-4CC7-BDD7-64D3AA9A37A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5FE-4D12-4101-AF55-D8B3351C574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22" descr="0047"/>
          <p:cNvPicPr/>
          <p:nvPr/>
        </p:nvPicPr>
        <p:blipFill>
          <a:blip r:embed="rId1"/>
          <a:stretch/>
        </p:blipFill>
        <p:spPr>
          <a:xfrm>
            <a:off x="611280" y="333360"/>
            <a:ext cx="8113680" cy="62643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23"/>
          <p:cNvSpPr txBox="1"/>
          <p:nvPr/>
        </p:nvSpPr>
        <p:spPr>
          <a:xfrm>
            <a:off x="1116000" y="476280"/>
            <a:ext cx="698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egoe Print"/>
              </a:rPr>
              <a:t>День Птиц!</a:t>
            </a:r>
            <a:endParaRPr b="1" i="1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egoe Print"/>
              <a:ea typeface="Segoe Prin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ово не… вылетит- не поймаеш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Вороб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як… свое болото хвал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Кули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инье не товарищ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учше…в руке, чем … в неб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Синица, Журав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арого…на мякине не проведеш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Воробь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величка, а птич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(Синич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403280" y="404640"/>
            <a:ext cx="648180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ы: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ая весенняя птица скворец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ет. Грач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кол-сапсан при ловле добычи может развить скорость 300 Км\ч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 сов, единственных из птиц – имеются ушные раковины. Слух у них в 50 раз острее, чем у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тица козодой  прилетает по ночам к стадам коров или коз. Чтобы полакомиться моло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ет. Питается мошкам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ницы, живущие в Германии и  Англии, понимают друг друга, но не понимают, что говорят синицы , живущие в Индии и Афганистан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д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ерение птиц, которые живут в клетках, становятся ярч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(наоборо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684360" y="260280"/>
            <a:ext cx="77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ишь - не веришь?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Каждый год я к вам лечу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Зимовать у вас хоч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И еще красней зим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Ярко-красный галстук мой.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негирь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е король, а в короне 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е гусар, а при шпора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На часы не взглядывает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А время знает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Пету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переди- шиль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зади - виль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верху-синее суконце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Снизу - белое полотенце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Ласточк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рылатый, горластый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расные ласты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Мать, отца не знаю, но часто называ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Детей знать не буду- чужим сбу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Кукушк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нем спит, ночью летает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Прохожих пугает.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Фили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Он верен морю, как  матрос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Предвестник бури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 Альбатрос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Другой такой птицы вы не найдете - вместо собаки помощник в охоте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око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Вертится стрекочет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ahoma"/>
              </a:rPr>
              <a:t>Весь день хлопочет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(Сорок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Хищные птицы – это свиреп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охотники, наделенные остры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когтями, клюв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превосходны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зрение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8028000" y="1484280"/>
            <a:ext cx="863640" cy="96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792360" cy="93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4643280" y="3213000"/>
            <a:ext cx="2067120" cy="315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4"/>
          <a:stretch/>
        </p:blipFill>
        <p:spPr>
          <a:xfrm>
            <a:off x="6769080" y="3213000"/>
            <a:ext cx="2374920" cy="30974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2411280" y="620640"/>
            <a:ext cx="460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ищные птицы.</a:t>
            </a:r>
            <a:endParaRPr b="0" lang="en-US" sz="2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50920" y="333072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0" y="4437000"/>
            <a:ext cx="1728720" cy="2116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5148360" y="3645000"/>
            <a:ext cx="3456000" cy="321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1727280" cy="100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5"/>
          <a:stretch/>
        </p:blipFill>
        <p:spPr>
          <a:xfrm>
            <a:off x="395280" y="260280"/>
            <a:ext cx="3600360" cy="21099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3924360" y="6237360"/>
            <a:ext cx="71280" cy="7128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6"/>
          <a:stretch/>
        </p:blipFill>
        <p:spPr>
          <a:xfrm>
            <a:off x="468360" y="2637000"/>
            <a:ext cx="2762280" cy="475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7"/>
          <a:stretch/>
        </p:blipFill>
        <p:spPr>
          <a:xfrm>
            <a:off x="1835280" y="1700280"/>
            <a:ext cx="1990440" cy="503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8"/>
          <a:stretch/>
        </p:blipFill>
        <p:spPr>
          <a:xfrm>
            <a:off x="4140360" y="0"/>
            <a:ext cx="5003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тицы нашего края.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124000" y="364500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916360" cy="4283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3"/>
          <a:stretch/>
        </p:blipFill>
        <p:spPr>
          <a:xfrm>
            <a:off x="3995640" y="1341360"/>
            <a:ext cx="2089080" cy="489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4"/>
          <a:stretch/>
        </p:blipFill>
        <p:spPr>
          <a:xfrm>
            <a:off x="0" y="1268280"/>
            <a:ext cx="3456000" cy="2210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5"/>
          <a:stretch/>
        </p:blipFill>
        <p:spPr>
          <a:xfrm>
            <a:off x="0" y="4076640"/>
            <a:ext cx="1692360" cy="2376720"/>
          </a:xfrm>
          <a:prstGeom prst="rect">
            <a:avLst/>
          </a:prstGeom>
          <a:ln w="0">
            <a:noFill/>
          </a:ln>
        </p:spPr>
      </p:pic>
      <p:sp>
        <p:nvSpPr>
          <p:cNvPr id="163" name="Oval 8"/>
          <p:cNvSpPr/>
          <p:nvPr/>
        </p:nvSpPr>
        <p:spPr>
          <a:xfrm>
            <a:off x="468360" y="6237360"/>
            <a:ext cx="1295280" cy="620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укуш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4356000" y="5805360"/>
            <a:ext cx="1511280" cy="64800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ят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2484360" y="3141720"/>
            <a:ext cx="935280" cy="431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7885080" y="5734080"/>
            <a:ext cx="73080" cy="14436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7596360" y="5734080"/>
            <a:ext cx="1547640" cy="431640"/>
          </a:xfrm>
          <a:prstGeom prst="ellipse">
            <a:avLst/>
          </a:prstGeom>
          <a:solidFill>
            <a:srgbClr val="bfde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роз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13">
            <a:hlinkClick r:id="rId6" action="ppaction://hlinksldjump"/>
          </p:cNvPr>
          <p:cNvSpPr/>
          <p:nvPr/>
        </p:nvSpPr>
        <p:spPr>
          <a:xfrm>
            <a:off x="5867280" y="5877000"/>
            <a:ext cx="73080" cy="7308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868560"/>
            <a:ext cx="95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5378400" y="197172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435640" y="1801440"/>
            <a:ext cx="3573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Ласточки пропа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А вчера с зар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се грачи лет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Да, как сеть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льк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он за той гор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(А. Ф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0920" y="1984680"/>
            <a:ext cx="482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 чужбине свято наблюд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одной обычай стар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 волю птичку выпуска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и светлом празднике вес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(А.С. Пушки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547640" y="48564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Кто автор?</a:t>
            </a:r>
            <a:endParaRPr b="1" i="1" lang="en-US" sz="2000" spc="1" strike="noStrike">
              <a:ln w="9360">
                <a:solidFill>
                  <a:srgbClr val="9933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Кряква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Кряквы встречаются  почти во всём Северном полушарии, а также в Австралии и Новой Зеландии именно эти неприметные уточки стали предками всех домашних уток.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ятлы  проводят большую часть своей жизни на деревьях. Дятел долбит ствол крепким клювом, а затем вытаскивает личинки насекомых с помощью липкого язы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мейству дроздовых относятся многие певчие птицы. Его представители обитают во всех частях света и каждый год объявляют своими песнями о приходе весны. Дроздовые гнездятся на деревьях и кустах, питаются плодами, насекомыми и червями. Иногда в поисках пищи они залетают в с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             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незд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ы строят большие неаккуратные гнезда на вершинах деревьях. Сооружаются они из ветвей и скрепляются глиной и мхом. Изнутри они выкладываются толстым слоем мягкой шер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асточки строят чашеобразные гнезда из глины под крышами зд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жанки не вьют гнезд . Эти птицы откладывают яйца на галечник. Где их пестрые яйца сливаются с камн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дийский ткачик делает гнездо «сшивая» вместе листья паутинным шелком, позаимствованным из паут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Для того чтобы выжить, большинство птиц поднимаются в воздух. Но некоторые из них полностью потеряли способность летать. Они спасаются  от врагов бегством. А пингвины плавают не хуже рыб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60036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665440" cy="2374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8604360" y="6165720"/>
            <a:ext cx="539640" cy="43200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78" h="21600">
                <a:moveTo>
                  <a:pt x="14594" y="14281"/>
                </a:moveTo>
                <a:lnTo>
                  <a:pt x="14594" y="12323"/>
                </a:lnTo>
                <a:cubicBezTo>
                  <a:pt x="14594" y="11496"/>
                  <a:pt x="14925" y="10800"/>
                  <a:pt x="15525" y="10800"/>
                </a:cubicBezTo>
                <a:cubicBezTo>
                  <a:pt x="16657" y="10800"/>
                  <a:pt x="17553" y="9434"/>
                  <a:pt x="17553" y="7849"/>
                </a:cubicBezTo>
                <a:cubicBezTo>
                  <a:pt x="17553" y="5534"/>
                  <a:pt x="15700" y="3794"/>
                  <a:pt x="13489" y="3794"/>
                </a:cubicBezTo>
                <a:cubicBezTo>
                  <a:pt x="11278" y="3794"/>
                  <a:pt x="9607" y="5534"/>
                  <a:pt x="9607" y="7849"/>
                </a:cubicBezTo>
                <a:lnTo>
                  <a:pt x="11461" y="7849"/>
                </a:lnTo>
                <a:cubicBezTo>
                  <a:pt x="11461" y="6709"/>
                  <a:pt x="12383" y="5821"/>
                  <a:pt x="13489" y="5821"/>
                </a:cubicBezTo>
                <a:cubicBezTo>
                  <a:pt x="14594" y="5821"/>
                  <a:pt x="15525" y="6709"/>
                  <a:pt x="15525" y="7849"/>
                </a:cubicBezTo>
                <a:cubicBezTo>
                  <a:pt x="15525" y="8589"/>
                  <a:pt x="15055" y="9320"/>
                  <a:pt x="14594" y="9320"/>
                </a:cubicBezTo>
                <a:cubicBezTo>
                  <a:pt x="13489" y="9320"/>
                  <a:pt x="12383" y="10800"/>
                  <a:pt x="12383" y="12323"/>
                </a:cubicBezTo>
                <a:lnTo>
                  <a:pt x="12383" y="14281"/>
                </a:lnTo>
                <a:close/>
              </a:path>
            </a:pathLst>
          </a:custGeom>
          <a:solidFill>
            <a:srgbClr val="bfde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1332000" y="476280"/>
            <a:ext cx="6408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летающие птицы.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rcRect l="0" t="0" r="2795" b="0"/>
          <a:stretch/>
        </p:blipFill>
        <p:spPr>
          <a:xfrm>
            <a:off x="5148360" y="1125360"/>
            <a:ext cx="3600360" cy="3746520"/>
          </a:xfrm>
          <a:prstGeom prst="rect">
            <a:avLst/>
          </a:prstGeom>
          <a:ln w="0">
            <a:noFill/>
          </a:ln>
        </p:spPr>
      </p:pic>
      <p:pic>
        <p:nvPicPr>
          <p:cNvPr id="179" name="Anim01.wav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250920" y="620640"/>
            <a:ext cx="460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Певчие птицы встречаются  во всех частях света- число их видов превышает </a:t>
            </a:r>
            <a:r>
              <a:rPr b="1" lang="ru-RU" sz="2400" spc="-1" strike="noStrike">
                <a:solidFill>
                  <a:srgbClr val="3333cc"/>
                </a:solidFill>
                <a:latin typeface="Garamond"/>
              </a:rPr>
              <a:t>4000</a:t>
            </a: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. Некоторые поют лучше других, другие хуже, но все они общаются друг с другом с помощью звуков. Как правило, певчие птицы невелики и не вооружены сильными когтями или острыми клювами. Зато их лапки идеально приспособлены для того, чтобы удержать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На ветке, не боясь свалиться</a:t>
            </a:r>
            <a:r>
              <a:rPr b="0" lang="ru-RU" sz="20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Garamond"/>
              </a:rPr>
              <a:t>на землю</a:t>
            </a:r>
            <a:r>
              <a:rPr b="0" lang="ru-RU" sz="1800" spc="-1" strike="noStrike">
                <a:solidFill>
                  <a:srgbClr val="3333cc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4911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У каждого организма есть свои дом. Все виды животных живут во взаимодействии друг с другом. Человек сильно влияет на живую природу. Нужно быть очень осторожным, чтобы это влияние не привело к неизменимым последствия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1403280" y="333360"/>
            <a:ext cx="669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рана птиц.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6" name="Object 3"/>
          <p:cNvGraphicFramePr/>
          <p:nvPr/>
        </p:nvGraphicFramePr>
        <p:xfrm>
          <a:off x="1066680" y="3051000"/>
          <a:ext cx="3702240" cy="19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51000"/>
                    <a:ext cx="370224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4"/>
          <p:cNvGraphicFramePr/>
          <p:nvPr/>
        </p:nvGraphicFramePr>
        <p:xfrm>
          <a:off x="4908600" y="3051000"/>
          <a:ext cx="3701880" cy="197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8600" y="3051000"/>
                    <a:ext cx="370188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4000" y="295200"/>
            <a:ext cx="85690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S0134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569080" cy="629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7c80"/>
                </a:solidFill>
                <a:latin typeface="Monotype Corsiva"/>
              </a:rPr>
              <a:t>Безусловно, птицы играют очень важную роль в природе и жизни человека. И потому  весной обязанность каждого сделать птицам скворечники.  Но в скворечниках, развешанных в большом количестве на стенах и балконах многоэтажных домов, редко услышишь птичий гомон. Надо помнить, что птиц отпугивает шум, движение людей и автотранспорта. Нельзя красить гнездовья - это отпугивает птиц.  И еще надо помнить, что на 1 га (100*100м) следует вывешивать 5-7 скворечников и 10 синичников -это в черте города.  На окраине до 30 скворечников.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Сова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42472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 этом наш праздник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посвященный </a:t>
            </a:r>
            <a:br>
              <a:rPr sz="3200"/>
            </a:br>
            <a:br>
              <a:rPr sz="3200"/>
            </a:b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дню птиц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заканчивается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адеемся, что вы будете беречь 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 охранять птиц!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Птичка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0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Птицы - единственные животные с перьями. Они являются одним из самых больших классов позвоночных животны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Птицы вьют гнезда и выводят птенцов из яиц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Большинство птиц умеет летать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Не летают киви, пингвины и страус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На земле более 9000 видов различных птиц.</a:t>
            </a:r>
            <a:br>
              <a:rPr sz="2000"/>
            </a:b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Птицы живут в открытом море, арктической зоне, тропиках и даже в пустынях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ff9900"/>
                </a:solidFill>
                <a:latin typeface="Tahoma"/>
              </a:rPr>
              <a:t>    Есть домашние птицы, которых человек разводит для питания – куры, утки, индейки и декоративные птицы – голуби, попугай. Которых люди держат в доме.</a:t>
            </a:r>
            <a:endParaRPr b="1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IGEON4"/>
          <p:cNvPicPr/>
          <p:nvPr/>
        </p:nvPicPr>
        <p:blipFill>
          <a:blip r:embed="rId1"/>
          <a:stretch/>
        </p:blipFill>
        <p:spPr>
          <a:xfrm>
            <a:off x="358920" y="189000"/>
            <a:ext cx="8389800" cy="6188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43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Не беспокойте птиц, когда они вьют гнездо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Наблюдайте за отлетом и прилетом птиц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Сделайте для птиц домики и кормушки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Оборудуйте птицам поилки и места для купания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Помогайте птицам, гнездующимся в кустах, в                      постройке гнезда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Сделайте «карманы» для гнезд и воронки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Не разоряйте птичьи гнезда, не касайтесь яичек в них.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  Не держите пойманных птиц в клетках: большинство из них умирают от тоски по свободе.</a:t>
            </a:r>
            <a:endParaRPr b="1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95280" y="549360"/>
            <a:ext cx="83534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СКОЛЬКО ДОБРЫХ СОВЕТОВ</a:t>
            </a:r>
            <a:endParaRPr b="0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Максимальный возраст некоторых птиц (ле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Щегол                                                               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аворонок                                                       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зерная чайка                                                 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овей                                                          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йка серебристая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а                                                                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ист                                                                 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ь                                                            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ин                                                              7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а                                                            1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Скорость, с которой летают некоторые птицы(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КМ/Ч</a:t>
            </a: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рон                                                      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стреб-перепелятник                            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айка                                                      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рока                                                    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лубь                                                    6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ч                                                       7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ь                                                   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тка                                                        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кол                                                     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иж                                                   1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ел                                                    1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Гуси высоко летят - воды будет много, низко - ма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Если дикие утки прилетели жирные - весна будет холодная, долг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Коли грачи прямо на свои гнезда летят, будет скорая весна, талая вода сбежит быстро, тепло установи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Ранний прилет журавлей – весна рання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Ранний прилет грачей и жаворонков - к теплой вес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ahoma"/>
              </a:rPr>
              <a:t>Вороны купаются в лужах ранней весной - к тепл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79640" y="26028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приметы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заводной будильник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Петух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ушитель родного до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Вылупившийся цыплено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ыряльщик в ластах, но без мас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Гус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носчик  младенце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Аист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ылатый почтальон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Голубь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натый чемпион по бег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(Страу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2050920" y="333360"/>
            <a:ext cx="504216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и: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вание какой другой птицы спрятано в слове «жаворонок»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воро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бавьте одну букву к названию русской реки, чтобы получилось название птиц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Иволг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тенцы какой птицы не знают матер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Кукушк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какой птицы самый длинный язык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У дятла-15 см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юбимое лакомство аистов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Лягушки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763640" y="33336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просы: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5:01:53Z</dcterms:created>
  <dc:creator>Аня</dc:creator>
  <dc:description/>
  <dc:language>en-US</dc:language>
  <cp:lastModifiedBy>SH6</cp:lastModifiedBy>
  <dcterms:modified xsi:type="dcterms:W3CDTF">2021-04-05T06:38:58Z</dcterms:modified>
  <cp:revision>14</cp:revision>
  <dc:subject/>
  <dc:title>Слайд 1</dc:title>
</cp:coreProperties>
</file>