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27A-701A-4C3E-9853-8BA8F61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DBA-BDA8-4889-A508-E1E992F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A1E-28F4-45A2-A8B3-BDB818F5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687-D674-4F62-BCC0-B8D05487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B527-E358-41B5-9399-B7E4710C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4C0E-A046-4C5A-8B44-7172603A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2FE-0840-4F1E-A891-BA192C04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2626-2155-4641-A910-403FCD4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410A-18FD-4296-8CC3-8F4C3A4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076-A82F-458F-BC4D-390987F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BFB7-CC77-4121-91FA-0DCC111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8B9-382D-45EB-A0F1-D4F8146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9A57-809B-498D-ACA7-BF302A1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225F-4D1C-4758-8CB9-F450A40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DD3-0903-46D5-819E-F8ABF213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76B-6EF1-427D-8935-3FD8674D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513-61E1-4429-BE7F-7AE04E74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877-929A-4E60-B1F7-B731272E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A07-3C00-492B-BF23-3F05E07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347-7951-4FBD-90AB-CD15A12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BE8-2308-4C72-92E1-6269136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625-F971-4651-92F8-A690076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137-0BD0-4B04-BC5B-00BD11E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09F-5ADC-46F7-9EB9-ADCCF71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5A8-DA59-4C7E-93D5-3B038699B7B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704F-A57F-4807-B98C-5451534E8BE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22" descr="0047"/>
          <p:cNvPicPr/>
          <p:nvPr/>
        </p:nvPicPr>
        <p:blipFill>
          <a:blip r:embed="rId1"/>
          <a:stretch/>
        </p:blipFill>
        <p:spPr>
          <a:xfrm>
            <a:off x="611280" y="333360"/>
            <a:ext cx="8113680" cy="62643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23"/>
          <p:cNvSpPr txBox="1"/>
          <p:nvPr/>
        </p:nvSpPr>
        <p:spPr>
          <a:xfrm>
            <a:off x="1116000" y="47628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egoe Print"/>
              </a:rPr>
              <a:t>День Птиц!</a:t>
            </a:r>
            <a:endParaRPr b="1" i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egoe Print"/>
              <a:ea typeface="Segoe Prin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во не… вылетит- не поймаеш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Вороб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як… свое болото хвал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Кули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инье не товари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учше…в руке, чем … в неб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Синица, Журав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рого…на мякине не проведеш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Воробь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величка, а птич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Синич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403280" y="404640"/>
            <a:ext cx="64818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ы: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ая весенняя птица скворец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ет. Грач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кол-сапсан при ловле добычи может развить скорость 300 Км\ч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 сов, единственных из птиц – имеются ушные раковины. Слух у них в 50 раз острее, чем у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тица козодой  прилетает по ночам к стадам коров или коз. Чтобы полакомиться моло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ет. Питается мошкам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ницы, живущие в Германии и  Англии, понимают друг друга, но не понимают, что говорят синицы , живущие в Индии и Афганистан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ение птиц, которые живут в клетках, становятся ярч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аоборо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684360" y="260280"/>
            <a:ext cx="77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ишь - не веришь?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Каждый год я к вам лечу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Зимовать у вас хоч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И еще красней зим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Ярко-красный галстук мой.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негирь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е король, а в короне 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е гусар, а при шпор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а часы не взглядывает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А время знает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Пету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переди- шиль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зади - виль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верху-синее сукон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низу - белое полотенц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Ласточк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рылатый, горласты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расные ласты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Мать, отца не знаю, но часто называ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Детей знать не буду- чужим сбу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Кукуш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нем спит, ночью летает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Прохожих пугает.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Фили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Он верен морю, как  матрос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Предвестник бури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 Альбатрос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ругой такой птицы вы не найдете - вместо собаки помощник в охот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око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Вертится стрекочет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Весь день хлопочет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орок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Хищные птицы – это свиреп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охотники, наделенные остры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огтями, клюв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превосходн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зрение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8028000" y="1484280"/>
            <a:ext cx="863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9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2067120" cy="315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4"/>
          <a:stretch/>
        </p:blipFill>
        <p:spPr>
          <a:xfrm>
            <a:off x="6769080" y="3213000"/>
            <a:ext cx="2374920" cy="30974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2411280" y="620640"/>
            <a:ext cx="460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ищные птицы.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50920" y="333072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0" y="4437000"/>
            <a:ext cx="1728720" cy="211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456000" cy="321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1727280" cy="100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3600360" cy="2109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3924360" y="623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468360" y="2637000"/>
            <a:ext cx="2762280" cy="47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7"/>
          <a:stretch/>
        </p:blipFill>
        <p:spPr>
          <a:xfrm>
            <a:off x="1835280" y="1700280"/>
            <a:ext cx="1990440" cy="50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4140360" y="0"/>
            <a:ext cx="5003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тицы нашего края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916360" cy="428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995640" y="1341360"/>
            <a:ext cx="2089080" cy="489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0" y="1268280"/>
            <a:ext cx="3456000" cy="221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0" y="4076640"/>
            <a:ext cx="1692360" cy="2376720"/>
          </a:xfrm>
          <a:prstGeom prst="rect">
            <a:avLst/>
          </a:prstGeom>
          <a:ln w="0">
            <a:noFill/>
          </a:ln>
        </p:spPr>
      </p:pic>
      <p:sp>
        <p:nvSpPr>
          <p:cNvPr id="163" name="Oval 8"/>
          <p:cNvSpPr/>
          <p:nvPr/>
        </p:nvSpPr>
        <p:spPr>
          <a:xfrm>
            <a:off x="468360" y="6237360"/>
            <a:ext cx="1295280" cy="620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укуш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356000" y="5805360"/>
            <a:ext cx="1511280" cy="64800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484360" y="3141720"/>
            <a:ext cx="935280" cy="431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7885080" y="5734080"/>
            <a:ext cx="73080" cy="14436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7596360" y="5734080"/>
            <a:ext cx="1547640" cy="431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роз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13">
            <a:hlinkClick r:id="rId6" action="ppaction://hlinksldjump"/>
          </p:cNvPr>
          <p:cNvSpPr/>
          <p:nvPr/>
        </p:nvSpPr>
        <p:spPr>
          <a:xfrm>
            <a:off x="5867280" y="5877000"/>
            <a:ext cx="73080" cy="7308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868560"/>
            <a:ext cx="95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378400" y="197172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435640" y="1801440"/>
            <a:ext cx="3573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Ласточки пропа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 вчера с зар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се грачи ле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а, как сет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льк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он за той гор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(А. Ф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0920" y="1984680"/>
            <a:ext cx="482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 чужбине свято наблюд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одной обычай стар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 волю птичку выпуск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и светлом празднике вес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(А.С. Пушки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547640" y="48564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Кто автор?</a:t>
            </a:r>
            <a:endParaRPr b="1" i="1" lang="en-US" sz="2000" spc="1" strike="noStrike">
              <a:ln w="9360">
                <a:solidFill>
                  <a:srgbClr val="9933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ряква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ряквы встречаются  почти во всём Северном полушарии, а также в Австралии и Новой Зеландии именно эти неприметные уточки стали предками всех домашних уток.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ятлы  проводят большую часть своей жизни на деревьях. Дятел долбит ствол крепким клювом, а затем вытаскивает личинки насекомых с помощью лип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мейству дроздовых относятся многие певчие птицы. Его представители обитают во всех частях света и каждый год объявляют своими песнями о приходе весны. Дроздовые гнездятся на деревьях и кустах, питаются плодами, насекомыми и червями. Иногда в поисках пищи они залетают в с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незд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ы строят большие неаккуратные гнезда на вершинах деревьях. Сооружаются они из ветвей и скрепляются глиной и мхом. Изнутри они выкладываются толстым слоем мягкой шер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сточки строят чашеобразные гнезда из глины под крышами зд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жанки не вьют гнезд . Эти птицы откладывают яйца на галечник. Где их пестрые яйца сливаются с камн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дийский ткачик делает гнездо «сшивая» вместе листья паутинным шелком, позаимствованным из паут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Для того чтобы выжить, большинство птиц поднимаются в воздух. Но некоторые из них полностью потеряли способность летать. Они спасаются  от врагов бегством. А пингвины плавают не хуже ры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60036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665440" cy="2374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8604360" y="616572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78" h="21600">
                <a:moveTo>
                  <a:pt x="14594" y="14281"/>
                </a:moveTo>
                <a:lnTo>
                  <a:pt x="14594" y="12323"/>
                </a:lnTo>
                <a:cubicBezTo>
                  <a:pt x="14594" y="11496"/>
                  <a:pt x="14925" y="10800"/>
                  <a:pt x="15525" y="10800"/>
                </a:cubicBezTo>
                <a:cubicBezTo>
                  <a:pt x="16657" y="10800"/>
                  <a:pt x="17553" y="9434"/>
                  <a:pt x="17553" y="7849"/>
                </a:cubicBezTo>
                <a:cubicBezTo>
                  <a:pt x="17553" y="5534"/>
                  <a:pt x="15700" y="3794"/>
                  <a:pt x="13489" y="3794"/>
                </a:cubicBezTo>
                <a:cubicBezTo>
                  <a:pt x="11278" y="3794"/>
                  <a:pt x="9607" y="5534"/>
                  <a:pt x="9607" y="7849"/>
                </a:cubicBezTo>
                <a:lnTo>
                  <a:pt x="11461" y="7849"/>
                </a:lnTo>
                <a:cubicBezTo>
                  <a:pt x="11461" y="6709"/>
                  <a:pt x="12383" y="5821"/>
                  <a:pt x="13489" y="5821"/>
                </a:cubicBezTo>
                <a:cubicBezTo>
                  <a:pt x="14594" y="5821"/>
                  <a:pt x="15525" y="6709"/>
                  <a:pt x="15525" y="7849"/>
                </a:cubicBezTo>
                <a:cubicBezTo>
                  <a:pt x="15525" y="8589"/>
                  <a:pt x="15055" y="9320"/>
                  <a:pt x="14594" y="9320"/>
                </a:cubicBezTo>
                <a:cubicBezTo>
                  <a:pt x="13489" y="9320"/>
                  <a:pt x="12383" y="10800"/>
                  <a:pt x="12383" y="12323"/>
                </a:cubicBezTo>
                <a:lnTo>
                  <a:pt x="12383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1332000" y="476280"/>
            <a:ext cx="6408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летающие птицы.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rcRect l="0" t="0" r="2795" b="0"/>
          <a:stretch/>
        </p:blipFill>
        <p:spPr>
          <a:xfrm>
            <a:off x="5148360" y="1125360"/>
            <a:ext cx="3600360" cy="3746520"/>
          </a:xfrm>
          <a:prstGeom prst="rect">
            <a:avLst/>
          </a:prstGeom>
          <a:ln w="0">
            <a:noFill/>
          </a:ln>
        </p:spPr>
      </p:pic>
      <p:pic>
        <p:nvPicPr>
          <p:cNvPr id="179" name="Anim01.wav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250920" y="620640"/>
            <a:ext cx="460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Певчие птицы встречаются  во всех частях света- число их видов превышает </a:t>
            </a:r>
            <a:r>
              <a:rPr b="1" lang="ru-RU" sz="2400" spc="-1" strike="noStrike">
                <a:solidFill>
                  <a:srgbClr val="3333cc"/>
                </a:solidFill>
                <a:latin typeface="Garamond"/>
              </a:rPr>
              <a:t>4000</a:t>
            </a: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. Некоторые поют лучше других, другие хуже, но все они общаются друг с другом с помощью звуков. Как правило, певчие птицы невелики и не вооружены сильными когтями или острыми клювами. Зато их лапки идеально приспособлены для того, чтобы удержать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На ветке, не боясь свалиться</a:t>
            </a:r>
            <a:r>
              <a:rPr b="0" lang="ru-RU" sz="20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на землю</a:t>
            </a:r>
            <a:r>
              <a:rPr b="0" lang="ru-RU" sz="1800" spc="-1" strike="noStrike">
                <a:solidFill>
                  <a:srgbClr val="3333cc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4911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У каждого организма есть свои дом. Все виды животных живут во взаимодействии друг с другом. Человек сильно влияет на живую природу. Нужно быть очень осторожным, чтобы это влияние не привело к неизменимым последствия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1403280" y="333360"/>
            <a:ext cx="66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рана птиц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1066680" y="3051000"/>
          <a:ext cx="3702240" cy="19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51000"/>
                    <a:ext cx="370224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4908600" y="3051000"/>
          <a:ext cx="3701880" cy="19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8600" y="3051000"/>
                    <a:ext cx="370188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4000" y="295200"/>
            <a:ext cx="85690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S0134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56908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7c80"/>
                </a:solidFill>
                <a:latin typeface="Monotype Corsiva"/>
              </a:rPr>
              <a:t>Безусловно, птицы играют очень важную роль в природе и жизни человека. И потому  весной обязанность каждого сделать птицам скворечники.  Но в скворечниках, развешанных в большом количестве на стенах и балконах многоэтажных домов, редко услышишь птичий гомон. Надо помнить, что птиц отпугивает шум, движение людей и автотранспорта. Нельзя красить гнездовья - это отпугивает птиц.  И еще надо помнить, что на 1 га (100*100м) следует вывешивать 5-7 скворечников и 10 синичников -это в черте города.  На окраине до 30 скворечников.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Сова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42472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этом наш праздник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посвященный </a:t>
            </a:r>
            <a:br>
              <a:rPr sz="3200"/>
            </a:br>
            <a:br>
              <a:rPr sz="3200"/>
            </a:b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дню птиц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заканчиваетс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деемся, что вы будете беречь 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охранять птиц!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Птичка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0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тицы - единственные животные с перьями. Они являются одним из самых больших классов позвоночных животны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Птицы вьют гнезда и выводят птенцов из яиц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Большинство птиц умеет летат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Не летают киви, пингвины и страус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На земле более 9000 видов различных птиц.</a:t>
            </a:r>
            <a:br>
              <a:rPr sz="2000"/>
            </a:b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Птицы живут в открытом море, арктической зоне, тропиках и даже в пустыня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Есть домашние птицы, которых человек разводит для питания – куры, утки, индейки и декоративные птицы – голуби, попугай. Которых люди держат в доме.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IGEON4"/>
          <p:cNvPicPr/>
          <p:nvPr/>
        </p:nvPicPr>
        <p:blipFill>
          <a:blip r:embed="rId1"/>
          <a:stretch/>
        </p:blipFill>
        <p:spPr>
          <a:xfrm>
            <a:off x="358920" y="189000"/>
            <a:ext cx="8389800" cy="6188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43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Не беспокойте птиц, когда они вьют гнездо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Наблюдайте за отлетом и прилетом птиц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Сделайте для птиц домики и кормушки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Оборудуйте птицам поилки и места для купания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Помогайте птицам, гнездующимся в кустах, в                      постройке гнезда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Сделайте «карманы» для гнезд и воронки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Не разоряйте птичьи гнезда, не касайтесь яичек в них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Не держите пойманных птиц в клетках: большинство из них умирают от тоски по свободе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5280" y="549360"/>
            <a:ext cx="83534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СКОЛЬКО ДОБРЫХ СОВЕТОВ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Максимальный возраст некоторых птиц (ле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Щегол                                                               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аворонок                                                       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зерная чайка                                                 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овей                                                          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йка серебристая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а                                                                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ист                                                                 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ь                                                            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ин                                                              7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а                                                            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Скорость, с которой летают некоторые птицы(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КМ/Ч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                                                      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треб-перепелятник                            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йка                                                      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рока                                                    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ь                                                    6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ч                                                       7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ь                                                   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ка                                                        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кол                                                     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иж                                                   1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ел                                                    1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Гуси высоко летят - воды будет много, низко - ма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Если дикие утки прилетели жирные - весна будет холодная, долг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Коли грачи прямо на свои гнезда летят, будет скорая весна, талая вода сбежит быстро, тепло установи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Ранний прилет журавлей – весна рання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Ранний прилет грачей и жаворонков - к теплой вес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Вороны купаются в лужах ранней весной - к тепл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79640" y="26028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риметы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заводной будильни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Пету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итель родного до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Вылупившийся цыплено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ыряльщик в ластах, но без мас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осчик  младенце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Аис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ылатый почтальо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Голуб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натый чемпион по бег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Страу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2050920" y="333360"/>
            <a:ext cx="504216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и: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вание какой другой птицы спрятано в слове «жаворонок»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воро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бавьте одну букву к названию русской реки, чтобы получилось название птиц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Иволг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тенцы какой птицы не знают матер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Кукушк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какой птицы самый длинный язык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У дятла-15 см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юбимое лакомство аистов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Лягушк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763640" y="33336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просы: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5:01:53Z</dcterms:created>
  <dc:creator>Аня</dc:creator>
  <dc:description/>
  <dc:language>en-US</dc:language>
  <cp:lastModifiedBy>SH6</cp:lastModifiedBy>
  <dcterms:modified xsi:type="dcterms:W3CDTF">2021-04-05T06:38:58Z</dcterms:modified>
  <cp:revision>14</cp:revision>
  <dc:subject/>
  <dc:title>Слайд 1</dc:title>
</cp:coreProperties>
</file>