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9.png" ContentType="image/png"/>
  <Override PartName="/ppt/media/image34.png" ContentType="image/png"/>
  <Override PartName="/ppt/media/image13.png" ContentType="image/png"/>
  <Override PartName="/ppt/media/image33.png" ContentType="image/png"/>
  <Override PartName="/ppt/media/image37.gif" ContentType="image/gif"/>
  <Override PartName="/ppt/media/image35.jpeg" ContentType="image/jpeg"/>
  <Override PartName="/ppt/media/image10.png" ContentType="image/pn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3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dt" idx="2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ftr" idx="2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 type="sldNum" idx="2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B386BD-9A92-4DB5-9124-278D7EE33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D613251-C21A-42B1-BF6D-65CDB82AEB83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5981-7730-447E-9035-A6B0FBC3F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457164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54760"/>
            <a:ext cx="457164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9A74-1955-4434-9B83-E951FB22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02868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EABC-92E6-4FF8-BAE6-04449F699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231280" y="214884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77120" y="214884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5476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231280" y="415476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77120" y="415476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FB85-3896-4107-85A2-AA31B0C8C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415E-3D04-4432-AA4E-D99FACEA7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148840"/>
            <a:ext cx="457164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56A0-ECF4-4204-B063-98EFAB84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457164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705A-7C21-4545-AED9-6C211AD5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BBC1-72EC-478B-A999-2D5B879D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810A-C097-4184-A5CB-851C0A31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080" y="284040"/>
            <a:ext cx="777204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65B8-E4D8-432D-AE69-7BA34116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40F9-C77A-4A6F-A900-929AD62B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2148840"/>
            <a:ext cx="457164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69B1-E728-4461-85CD-130F5EAB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2868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8937-AD6C-4D33-A76B-2FD4ED0B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54760"/>
            <a:ext cx="457164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4C6B-5DAC-41BA-8233-FF52A302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457164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54760"/>
            <a:ext cx="457164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C3CA-1EB5-4425-87AA-374CCFF9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02868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9A64-1078-434A-B0DC-5BCA6F644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231280" y="214884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777120" y="214884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5476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231280" y="415476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3777120" y="415476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39FC-12A9-493C-902A-31308444E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DE462-1913-408D-8CD3-5A0F198F0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800" y="2148840"/>
            <a:ext cx="457164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D762E-75F6-4E69-81B9-6AA50D00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457164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F0971-8302-4D09-8634-2FD1627B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17C56-01CE-4F27-AAF0-64B469FC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DEA7A-5E73-4AAA-9672-3D33E7BF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457164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71BB-B3F9-4577-960D-C6487A24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080" y="284040"/>
            <a:ext cx="777204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7E0DA-6729-4EA0-8F0B-F5750F7E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3275A-1377-4F45-9A6B-139FD157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2868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53BAC-7717-4F83-93A8-61EF1465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54760"/>
            <a:ext cx="457164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95913-59D1-4061-AD6C-2063CFF0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457164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800" y="4154760"/>
            <a:ext cx="457164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64376-77E6-45E2-B89F-14D32152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02868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45781-CBAE-4F89-88FE-1762FFAB7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231280" y="214884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777120" y="214884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800" y="415476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231280" y="415476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3777120" y="415476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75B26-9585-427F-BF2D-2B6568716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DDC2A-7BEE-43D9-A8C8-278805B75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2148840"/>
            <a:ext cx="457164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9A693-26A2-4CCF-BCBA-3581E480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457164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26AB9-8758-4CBF-8727-9BD51FB5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D6EA-FCE2-4156-8DD0-F1258594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C1C3E-F127-47B7-81A0-219E6D92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7C2A9-A899-4317-8AAF-BB5F508A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080" y="284040"/>
            <a:ext cx="777204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76F8F-83D8-4DB6-9045-86641AE3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FA99F-6427-4343-8924-2F292537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02868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CAE03-B73D-456A-BEA6-3BC9858D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54760"/>
            <a:ext cx="457164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B2701-D5E2-4768-98A8-61362249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457164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4154760"/>
            <a:ext cx="457164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84066-4229-4889-9745-3679F510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2868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1D5EF-2BC4-49D7-8680-C38600F72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231280" y="214884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3777120" y="214884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415476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2231280" y="415476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3777120" y="415476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3B97D-0F40-428F-A20C-A101ADA4C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DE8A0-22D8-4DCA-81ED-61969A1D7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181B-7568-47ED-8457-5DA1A237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85800" y="2148840"/>
            <a:ext cx="457164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E0D4D-7EF0-4EE7-AE92-ACDBE3C8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457164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7C769-C115-4DA9-8765-C25D3D05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BE893-366C-4587-B8B2-B9E337D6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32202-9E2C-4154-9691-8684887F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85080" y="284040"/>
            <a:ext cx="777204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29F5A-EC75-48FB-BFF0-25E1BC9E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4DF5C-D914-4F05-BB24-42A10021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02868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80194-CA5B-4024-AC95-34C920EA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54760"/>
            <a:ext cx="457164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00B38-F1CA-47DB-885A-09930B4E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457164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85800" y="4154760"/>
            <a:ext cx="457164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F5238-25DB-4D18-9377-A12C208F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02868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E46BE-A023-47F2-932A-EB384BA29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080" y="284040"/>
            <a:ext cx="777204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E1A4-22E5-4DB0-8F64-86CFC149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231280" y="214884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777120" y="214884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85800" y="415476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231280" y="415476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3777120" y="415476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1077C-C6FD-4B92-9794-226EBDF04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74BC4-B60A-4C0D-A507-75FEEB5B8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85800" y="2148840"/>
            <a:ext cx="457164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A68F1-7F8D-4C6F-851E-E497F0AF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457164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989A7-DC16-47F6-8674-8008C32C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AD887-9AC3-44F6-BACA-87F5A443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C7C59-1AA2-4A88-AEA0-C5C67D92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080" y="284040"/>
            <a:ext cx="777204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A7DAD-7BC7-42E4-BDFD-CB1E52CC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4C088-7B43-4D7D-BAEF-3646B182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2868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56A86-13DB-4892-BA80-53ADA977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54760"/>
            <a:ext cx="457164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D9262-6665-46D4-AD3E-098B552A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CD00-BA36-49F7-8F4E-A48AE592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457164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85800" y="4154760"/>
            <a:ext cx="457164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C976D-E80A-471B-8581-58D0BB02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302868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F41E4-29F4-42D4-B102-94FDC8226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231280" y="214884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777120" y="214884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85800" y="415476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2231280" y="415476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3777120" y="415476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CCB77-8592-4676-A776-96F045D13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F0F33-3AC7-429D-8247-6C67F394E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85800" y="2148840"/>
            <a:ext cx="457164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F2D4D-8B7B-45DD-B271-8D06F949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457164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1C9E0-E93D-4132-9C5A-8C36BCF6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C613B-54AC-40BB-B812-B02418AC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BADA9-79BE-4A6C-BF0E-81E4D195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85080" y="284040"/>
            <a:ext cx="777204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88DCB-850B-4579-B30D-9957EEAC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E5DD9-FA93-4470-AC5C-5812AF9E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2868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FFDB-E55D-4688-8BFE-A57D6535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02868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590DA-AE2F-4D8F-8E36-20BBA3B7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54760"/>
            <a:ext cx="457164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6B242-9477-47E2-B048-69FFAF36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457164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85800" y="4154760"/>
            <a:ext cx="457164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BD388-8604-461D-9C9A-F878219E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302868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C1185-6836-4CFE-8962-998064F92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2231280" y="214884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777120" y="214884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85800" y="415476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2231280" y="415476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3777120" y="415476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97258-6B3D-4890-81BF-3CED54ED8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54760"/>
            <a:ext cx="457164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0439-0FA6-4896-9905-304AA228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360" y="176040"/>
            <a:ext cx="9141480" cy="164556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-5040" y="2058840"/>
            <a:ext cx="9146520" cy="182844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" y="2166480"/>
            <a:ext cx="8603280" cy="173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80000"/>
              </a:lnSpc>
              <a:buNone/>
            </a:pPr>
            <a:r>
              <a:rPr b="0" lang="ru-RU" sz="6000" spc="-1" strike="noStrike" cap="all">
                <a:solidFill>
                  <a:srgbClr val="099bdd"/>
                </a:solidFill>
                <a:latin typeface="Corbel"/>
              </a:rPr>
              <a:t>Образец заголовка</a:t>
            </a:r>
            <a:endParaRPr b="0" lang="ru-RU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1480" y="6422760"/>
            <a:ext cx="259452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0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4191120" y="6422760"/>
            <a:ext cx="4060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265240" y="6422760"/>
            <a:ext cx="70920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1E41498-0E74-47FB-BC47-F28B9A41547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360" y="176040"/>
            <a:ext cx="9141480" cy="164556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ru-RU" sz="4000" spc="-1" strike="noStrike" cap="all">
                <a:solidFill>
                  <a:srgbClr val="099bdd"/>
                </a:solidFill>
                <a:latin typeface="Corbel"/>
              </a:rPr>
              <a:t>Образец заголовка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080" y="2011680"/>
            <a:ext cx="777204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Образец текста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1" marL="4114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Второй уровень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2" marL="6400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ретий уровень</a:t>
            </a: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  <a:p>
            <a:pPr lvl="3" marL="8686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Четвертый уровень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lvl="4" marL="10972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1480" y="6422760"/>
            <a:ext cx="259452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0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191120" y="6422760"/>
            <a:ext cx="4060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265240" y="6422760"/>
            <a:ext cx="70920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6480B9F-569C-44A2-8EB9-EE7A7449BB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 hidden="1"/>
          <p:cNvSpPr/>
          <p:nvPr/>
        </p:nvSpPr>
        <p:spPr>
          <a:xfrm>
            <a:off x="360" y="176040"/>
            <a:ext cx="9141480" cy="164556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dt" idx="7"/>
          </p:nvPr>
        </p:nvSpPr>
        <p:spPr>
          <a:xfrm>
            <a:off x="681480" y="6422760"/>
            <a:ext cx="259452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0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8"/>
          </p:nvPr>
        </p:nvSpPr>
        <p:spPr>
          <a:xfrm>
            <a:off x="4191120" y="6422760"/>
            <a:ext cx="4060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9"/>
          </p:nvPr>
        </p:nvSpPr>
        <p:spPr>
          <a:xfrm>
            <a:off x="8265240" y="6422760"/>
            <a:ext cx="70920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EA6FC16-9656-47D8-9253-33F745C0B89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360" y="176040"/>
            <a:ext cx="9141480" cy="164556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ru-RU" sz="4000" spc="-1" strike="noStrike" cap="all">
                <a:solidFill>
                  <a:srgbClr val="099bdd"/>
                </a:solidFill>
                <a:latin typeface="Corbel"/>
              </a:rPr>
              <a:t>Образец заголовка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681480" y="6422760"/>
            <a:ext cx="259452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0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11"/>
          </p:nvPr>
        </p:nvSpPr>
        <p:spPr>
          <a:xfrm>
            <a:off x="4191120" y="6422760"/>
            <a:ext cx="4060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2"/>
          </p:nvPr>
        </p:nvSpPr>
        <p:spPr>
          <a:xfrm>
            <a:off x="8265240" y="6422760"/>
            <a:ext cx="70920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A12C96F-64DA-43AA-83C9-263518821E0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360" y="176040"/>
            <a:ext cx="9141480" cy="164556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ru-RU" sz="4000" spc="-1" strike="noStrike" cap="all">
                <a:solidFill>
                  <a:srgbClr val="099bdd"/>
                </a:solidFill>
                <a:latin typeface="Corbel"/>
              </a:rPr>
              <a:t>Образец заголовка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2011680"/>
            <a:ext cx="365724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Образец текста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1" marL="4114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Второй уровень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2" marL="6400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ретий уровень</a:t>
            </a: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  <a:p>
            <a:pPr lvl="3" marL="8686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Четвертый уровень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lvl="4" marL="10972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body"/>
          </p:nvPr>
        </p:nvSpPr>
        <p:spPr>
          <a:xfrm>
            <a:off x="4800600" y="2011680"/>
            <a:ext cx="365724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Образец текста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1" marL="4114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Второй уровень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2" marL="6400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ретий уровень</a:t>
            </a: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  <a:p>
            <a:pPr lvl="3" marL="8686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Четвертый уровень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lvl="4" marL="10972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dt" idx="13"/>
          </p:nvPr>
        </p:nvSpPr>
        <p:spPr>
          <a:xfrm>
            <a:off x="681480" y="6422760"/>
            <a:ext cx="259452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0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4"/>
          </p:nvPr>
        </p:nvSpPr>
        <p:spPr>
          <a:xfrm>
            <a:off x="4191120" y="6422760"/>
            <a:ext cx="4060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5"/>
          </p:nvPr>
        </p:nvSpPr>
        <p:spPr>
          <a:xfrm>
            <a:off x="8265240" y="6422760"/>
            <a:ext cx="70920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1A1E2D1-4FCE-4982-AE5E-0696907FD1C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360" y="176040"/>
            <a:ext cx="9141480" cy="164556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ru-RU" sz="4000" spc="-1" strike="noStrike" cap="all">
                <a:solidFill>
                  <a:srgbClr val="099bdd"/>
                </a:solidFill>
                <a:latin typeface="Corbel"/>
              </a:rPr>
              <a:t>Образец заголовка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1913400"/>
            <a:ext cx="3657240" cy="74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Образец текста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body"/>
          </p:nvPr>
        </p:nvSpPr>
        <p:spPr>
          <a:xfrm>
            <a:off x="685800" y="2656440"/>
            <a:ext cx="3657240" cy="35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Образец текста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1" marL="4114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Второй уровень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2" marL="6400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ретий уровень</a:t>
            </a: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  <a:p>
            <a:pPr lvl="3" marL="8686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Четвертый уровень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lvl="4" marL="10972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4800600" y="1913400"/>
            <a:ext cx="3657240" cy="74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Образец текста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body"/>
          </p:nvPr>
        </p:nvSpPr>
        <p:spPr>
          <a:xfrm>
            <a:off x="4800600" y="2656440"/>
            <a:ext cx="3657240" cy="35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Образец текста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1" marL="4114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Второй уровень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2" marL="6400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ретий уровень</a:t>
            </a: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  <a:p>
            <a:pPr lvl="3" marL="8686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Четвертый уровень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lvl="4" marL="10972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dt" idx="16"/>
          </p:nvPr>
        </p:nvSpPr>
        <p:spPr>
          <a:xfrm>
            <a:off x="681480" y="6422760"/>
            <a:ext cx="259452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0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 type="ftr" idx="17"/>
          </p:nvPr>
        </p:nvSpPr>
        <p:spPr>
          <a:xfrm>
            <a:off x="4191120" y="6422760"/>
            <a:ext cx="4060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8"/>
          <p:cNvSpPr>
            <a:spLocks noGrp="1"/>
          </p:cNvSpPr>
          <p:nvPr>
            <p:ph type="sldNum" idx="18"/>
          </p:nvPr>
        </p:nvSpPr>
        <p:spPr>
          <a:xfrm>
            <a:off x="8265240" y="6422760"/>
            <a:ext cx="70920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CFEF5E1-57F7-4ABE-9A28-070B33D9453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360" y="176040"/>
            <a:ext cx="9141480" cy="164556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ru-RU" sz="4000" spc="-1" strike="noStrike" cap="all">
                <a:solidFill>
                  <a:srgbClr val="099bdd"/>
                </a:solidFill>
                <a:latin typeface="Corbel"/>
              </a:rPr>
              <a:t>Образец заголовка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2148840"/>
            <a:ext cx="457164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Образец текста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1" marL="4114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Второй уровень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2" marL="6400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ретий уровень</a:t>
            </a: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  <a:p>
            <a:pPr lvl="3" marL="8686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Четвертый уровень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lvl="4" marL="10972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body"/>
          </p:nvPr>
        </p:nvSpPr>
        <p:spPr>
          <a:xfrm>
            <a:off x="5892480" y="2147400"/>
            <a:ext cx="2559960" cy="34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Образец текста</a:t>
            </a:r>
            <a:endParaRPr b="0" lang="ru-RU" sz="17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dt" idx="19"/>
          </p:nvPr>
        </p:nvSpPr>
        <p:spPr>
          <a:xfrm>
            <a:off x="681480" y="6422760"/>
            <a:ext cx="259452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0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20"/>
          </p:nvPr>
        </p:nvSpPr>
        <p:spPr>
          <a:xfrm>
            <a:off x="4191120" y="6422760"/>
            <a:ext cx="4060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 type="sldNum" idx="21"/>
          </p:nvPr>
        </p:nvSpPr>
        <p:spPr>
          <a:xfrm>
            <a:off x="8265240" y="6422760"/>
            <a:ext cx="70920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0D541FB-AC81-4156-B818-077D1133078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4320" y="2166480"/>
            <a:ext cx="8603280" cy="173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</a:pPr>
            <a:r>
              <a:rPr b="1" lang="ru-RU" sz="6000" spc="-1" strike="noStrike" cap="all">
                <a:solidFill>
                  <a:srgbClr val="0070c0"/>
                </a:solidFill>
                <a:latin typeface="Corbel"/>
              </a:rPr>
              <a:t>Детям о </a:t>
            </a:r>
            <a:r>
              <a:rPr b="1" i="1" lang="ru-RU" sz="6000" spc="-1" strike="noStrike" cap="all">
                <a:solidFill>
                  <a:srgbClr val="0070c0"/>
                </a:solidFill>
                <a:latin typeface="Corbel"/>
              </a:rPr>
              <a:t>космосе</a:t>
            </a:r>
            <a:endParaRPr b="0" lang="ru-RU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473840" y="4005000"/>
            <a:ext cx="720216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rbel"/>
              </a:rPr>
              <a:t>Презентацию подготови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rbel"/>
              </a:rPr>
              <a:t>Потапова М.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rbel"/>
              </a:rPr>
              <a:t>МБОУ «СОШ с. Старица им. Героя Советского Союза Конева П.Ф.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2124000" y="5589720"/>
            <a:ext cx="7019640" cy="126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orbel"/>
              </a:rPr>
              <a:t>Планета Земля – лишь пылинка в огромном черном космосе. 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rbel"/>
              </a:rPr>
              <a:t>Планета не стоит на месте - она вращается вокруг своей оси и одновременно осуществляет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orbel"/>
              </a:rPr>
              <a:t>движение вокруг Солнца.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2771640" y="1268640"/>
            <a:ext cx="3744000" cy="3672000"/>
          </a:xfrm>
          <a:prstGeom prst="rect">
            <a:avLst/>
          </a:prstGeom>
          <a:ln w="7620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1150920" y="5950080"/>
            <a:ext cx="799272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orbel"/>
              </a:rPr>
              <a:t>Благодаря  вращению планеты вокруг своей оси – происходит смена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orbel"/>
              </a:rPr>
              <a:t>суток (утро, день, вечер, ночь).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2483640" y="1556640"/>
            <a:ext cx="4392000" cy="316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857840" y="5589720"/>
            <a:ext cx="4285800" cy="126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orbel"/>
              </a:rPr>
              <a:t>Благодаря  движению Земли вокруг Солнца меняются времена года.</a:t>
            </a: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Corbel"/>
              </a:rPr>
              <a:t>Путешествие вокруг Солнца занимает у Земли один год. </a:t>
            </a: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orbel"/>
              </a:rPr>
              <a:t>Так начинается и заканчивается год. </a:t>
            </a: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Сколько месяцев в году?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2483640" y="1700640"/>
            <a:ext cx="4464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790560" y="5013360"/>
            <a:ext cx="8353080" cy="184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rbel"/>
              </a:rPr>
              <a:t>  </a:t>
            </a:r>
            <a:r>
              <a:rPr b="1" lang="ru-RU" sz="1600" spc="-1" strike="noStrike">
                <a:solidFill>
                  <a:srgbClr val="ff0000"/>
                </a:solidFill>
                <a:latin typeface="Corbel"/>
              </a:rPr>
              <a:t>Во  Вселенной планета Земля не одна (Солнце - это огромная огненная 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rbel"/>
              </a:rPr>
              <a:t>звезда и 9 планет: Меркурий, Венера, Земля, Марс, Юпитер, Сатурн, Уран, Нептун, Плутон).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1691640" y="908640"/>
            <a:ext cx="5904360" cy="410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611280" y="4653000"/>
            <a:ext cx="8532360" cy="220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Corbel"/>
              </a:rPr>
              <a:t>У Земли есть спутник Луна.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2411640" y="908640"/>
            <a:ext cx="4680000" cy="3528000"/>
          </a:xfrm>
          <a:prstGeom prst="rect">
            <a:avLst/>
          </a:prstGeom>
          <a:ln w="7620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7640" y="-747360"/>
            <a:ext cx="8208720" cy="352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</a:tabLst>
            </a:pPr>
            <a:r>
              <a:rPr b="1" lang="ru-RU" sz="1600" spc="-1" strike="noStrike" cap="all">
                <a:solidFill>
                  <a:srgbClr val="099bdd"/>
                </a:solidFill>
                <a:latin typeface="Corbel"/>
              </a:rPr>
              <a:t> </a:t>
            </a:r>
            <a:r>
              <a:rPr b="1" lang="ru-RU" sz="1600" spc="-1" strike="noStrike" cap="all">
                <a:solidFill>
                  <a:srgbClr val="ff0000"/>
                </a:solidFill>
                <a:latin typeface="Corbel"/>
              </a:rPr>
              <a:t>Для того чтобы исследовать космос - первыми отправили в полет собак: Белку и Стрелку. После полета они благополучно  вернулись на Землю</a:t>
            </a:r>
            <a:r>
              <a:rPr b="1" lang="ru-RU" sz="1600" spc="-1" strike="noStrike" cap="all">
                <a:solidFill>
                  <a:srgbClr val="099bdd"/>
                </a:solidFill>
                <a:latin typeface="Corbel"/>
              </a:rPr>
              <a:t>.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1"/>
          <a:stretch/>
        </p:blipFill>
        <p:spPr>
          <a:xfrm>
            <a:off x="2231640" y="2781000"/>
            <a:ext cx="4680000" cy="33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16000" y="5367240"/>
            <a:ext cx="802764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Юрий Алексеевич Гагарин. 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Он был  первым космонавтом, который   совершил полет вокруг Земли на  космическом корабле (ракете ).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50" name="Picture 2" descr="C:\Users\Инна\Pictures\Новая папка\Рисунок1.jpg"/>
          <p:cNvPicPr/>
          <p:nvPr/>
        </p:nvPicPr>
        <p:blipFill>
          <a:blip r:embed="rId1"/>
          <a:stretch/>
        </p:blipFill>
        <p:spPr>
          <a:xfrm>
            <a:off x="467640" y="1124640"/>
            <a:ext cx="2448000" cy="2591280"/>
          </a:xfrm>
          <a:prstGeom prst="rect">
            <a:avLst/>
          </a:prstGeom>
          <a:ln w="76200">
            <a:solidFill>
              <a:srgbClr val="0070c0"/>
            </a:solidFill>
            <a:miter/>
          </a:ln>
        </p:spPr>
      </p:pic>
      <p:pic>
        <p:nvPicPr>
          <p:cNvPr id="351" name="Picture 2" descr=""/>
          <p:cNvPicPr/>
          <p:nvPr/>
        </p:nvPicPr>
        <p:blipFill>
          <a:blip r:embed="rId2"/>
          <a:stretch/>
        </p:blipFill>
        <p:spPr>
          <a:xfrm>
            <a:off x="3276000" y="908640"/>
            <a:ext cx="2880000" cy="34207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"/>
          <p:cNvPicPr/>
          <p:nvPr/>
        </p:nvPicPr>
        <p:blipFill>
          <a:blip r:embed="rId3"/>
          <a:stretch/>
        </p:blipFill>
        <p:spPr>
          <a:xfrm>
            <a:off x="6633720" y="1412640"/>
            <a:ext cx="2016000" cy="2916720"/>
          </a:xfrm>
          <a:prstGeom prst="rect">
            <a:avLst/>
          </a:prstGeom>
          <a:ln w="7620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3640" y="5229360"/>
            <a:ext cx="8229240" cy="11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85000"/>
              </a:lnSpc>
              <a:buNone/>
              <a:tabLst>
                <a:tab algn="l" pos="0"/>
              </a:tabLst>
            </a:pPr>
            <a:r>
              <a:rPr b="1" lang="ru-RU" sz="1600" spc="-1" strike="noStrike" cap="all">
                <a:solidFill>
                  <a:srgbClr val="099bdd"/>
                </a:solidFill>
                <a:latin typeface="Corbel"/>
              </a:rPr>
              <a:t> </a:t>
            </a:r>
            <a:r>
              <a:rPr b="1" lang="ru-RU" sz="1600" spc="-1" strike="noStrike" cap="all">
                <a:solidFill>
                  <a:srgbClr val="ff0000"/>
                </a:solidFill>
                <a:latin typeface="Corbel"/>
              </a:rPr>
              <a:t>Так проходят тренировки космонавтов и идет отбор тех, кто полетит в космос ( умный,  сильный, физически выносливый, волевой, трудолюбивый,  находчивый). 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467640" y="404640"/>
            <a:ext cx="3960000" cy="39600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" descr=""/>
          <p:cNvPicPr/>
          <p:nvPr/>
        </p:nvPicPr>
        <p:blipFill>
          <a:blip r:embed="rId2"/>
          <a:stretch/>
        </p:blipFill>
        <p:spPr>
          <a:xfrm>
            <a:off x="4860000" y="980640"/>
            <a:ext cx="37440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2339640" y="5301360"/>
            <a:ext cx="4608000" cy="82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rbel"/>
              </a:rPr>
              <a:t>Первая женщина – космонавт 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rbel"/>
              </a:rPr>
              <a:t>Валентина Терешкова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860000" y="5301360"/>
            <a:ext cx="4283640" cy="15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2123640" y="404640"/>
            <a:ext cx="4752000" cy="4536000"/>
          </a:xfrm>
          <a:prstGeom prst="rect">
            <a:avLst/>
          </a:prstGeom>
          <a:ln w="7620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788000" y="5445360"/>
            <a:ext cx="3897360" cy="5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5000"/>
          </a:bodyPr>
          <a:p>
            <a:pPr indent="0">
              <a:lnSpc>
                <a:spcPct val="85000"/>
              </a:lnSpc>
              <a:buNone/>
            </a:pPr>
            <a:r>
              <a:rPr b="0" lang="ru-RU" sz="4000" spc="-1" strike="noStrike" cap="all">
                <a:solidFill>
                  <a:srgbClr val="099bdd"/>
                </a:solidFill>
                <a:latin typeface="Corbel"/>
              </a:rPr>
              <a:t>Космонавт на луне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75680" y="2781000"/>
            <a:ext cx="2847960" cy="28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Corbel"/>
              </a:rPr>
              <a:t>Для работы в космосе необходимо иметь специальный костюм (скафандр, комбинезон, обувь, т.д.) Одежда должна быть удобной и практичной, со специальным оборудованием (рацией, с системой  жизнеобеспечения, т.д.)</a:t>
            </a: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4356000" y="476640"/>
            <a:ext cx="43293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3640" y="4372200"/>
            <a:ext cx="76219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</a:tabLst>
            </a:pPr>
            <a:r>
              <a:rPr b="0" lang="ru-RU" sz="2000" spc="-1" strike="noStrike" cap="all">
                <a:solidFill>
                  <a:srgbClr val="ff0000"/>
                </a:solidFill>
                <a:latin typeface="Corbel"/>
              </a:rPr>
              <a:t>Мы живем на планете Земля. Земля – это наш дом. Земля напоминает  форму шара.</a:t>
            </a:r>
            <a:br>
              <a:rPr sz="2000"/>
            </a:b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2699640" y="477000"/>
            <a:ext cx="3888000" cy="268704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33872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0" y="5157720"/>
            <a:ext cx="8819640" cy="169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В космосе космонавт должен быть готов к невесомости.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1547640" y="620640"/>
            <a:ext cx="6336360" cy="43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4211640" y="1052640"/>
            <a:ext cx="4932000" cy="79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Вот так работают космонавты в открытом космосе (изучают планету, берут пробы грунта, пыли; фотографируют, т.д.).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395640" y="836640"/>
            <a:ext cx="3312000" cy="37627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"/>
          <p:cNvPicPr/>
          <p:nvPr/>
        </p:nvPicPr>
        <p:blipFill>
          <a:blip r:embed="rId2"/>
          <a:stretch/>
        </p:blipFill>
        <p:spPr>
          <a:xfrm>
            <a:off x="4356000" y="2718360"/>
            <a:ext cx="366120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716360" y="189000"/>
            <a:ext cx="4427280" cy="194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9000"/>
          </a:bodyPr>
          <a:p>
            <a:pPr indent="0">
              <a:lnSpc>
                <a:spcPct val="85000"/>
              </a:lnSpc>
              <a:buNone/>
              <a:tabLst>
                <a:tab algn="l" pos="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 cap="all">
                <a:solidFill>
                  <a:srgbClr val="ff0000"/>
                </a:solidFill>
                <a:latin typeface="Corbel"/>
              </a:rPr>
              <a:t>Еда космонавтов находится в тюбиках и вакуумных упаковках - в жидком состоянии..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1187640" y="2277000"/>
            <a:ext cx="5688360" cy="3960000"/>
          </a:xfrm>
          <a:prstGeom prst="rect">
            <a:avLst/>
          </a:prstGeom>
          <a:ln w="7620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428000" y="692640"/>
            <a:ext cx="41760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>
              <a:lnSpc>
                <a:spcPct val="85000"/>
              </a:lnSpc>
              <a:buNone/>
            </a:pPr>
            <a:r>
              <a:rPr b="0" lang="ru-RU" sz="2800" spc="-1" strike="noStrike" cap="all">
                <a:solidFill>
                  <a:srgbClr val="ff0000"/>
                </a:solidFill>
                <a:latin typeface="Corbel"/>
              </a:rPr>
              <a:t>Освоение      космоса космонавтами - дает возможность людям на Земле:</a:t>
            </a: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140000" y="260640"/>
            <a:ext cx="4392000" cy="20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4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                       </a:t>
            </a: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6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-29-</a:t>
            </a: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              </a:t>
            </a: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251640" y="260640"/>
            <a:ext cx="3168000" cy="10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0000"/>
                </a:solidFill>
                <a:latin typeface="Corbel"/>
              </a:rPr>
              <a:t>Пользоваться сотовой связью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0000"/>
                </a:solidFill>
                <a:latin typeface="Corbel"/>
              </a:rPr>
              <a:t>Знать о состоянии погоды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0000"/>
                </a:solidFill>
                <a:latin typeface="Corbel"/>
              </a:rPr>
              <a:t>Использовать навигаторы, чтобы легко ориентироваться на дорогах.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Прямоугольник 4"/>
          <p:cNvSpPr/>
          <p:nvPr/>
        </p:nvSpPr>
        <p:spPr>
          <a:xfrm>
            <a:off x="251640" y="6453360"/>
            <a:ext cx="3240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" descr="C:\Users\Инна\Pictures\4bdec23121030b05bb8ba62e564dc6f9.jpg"/>
          <p:cNvPicPr/>
          <p:nvPr/>
        </p:nvPicPr>
        <p:blipFill>
          <a:blip r:embed="rId1"/>
          <a:stretch/>
        </p:blipFill>
        <p:spPr>
          <a:xfrm>
            <a:off x="251640" y="3697200"/>
            <a:ext cx="2764800" cy="24426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C:\Users\Инна\Pictures\Garmin_Dakota_20_big.jpg"/>
          <p:cNvPicPr/>
          <p:nvPr/>
        </p:nvPicPr>
        <p:blipFill>
          <a:blip r:embed="rId2"/>
          <a:stretch/>
        </p:blipFill>
        <p:spPr>
          <a:xfrm>
            <a:off x="6804360" y="3238200"/>
            <a:ext cx="1686960" cy="26823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C:\Users\Инна\Pictures\pc_capture20.gif"/>
          <p:cNvPicPr/>
          <p:nvPr/>
        </p:nvPicPr>
        <p:blipFill>
          <a:blip r:embed="rId3"/>
          <a:stretch/>
        </p:blipFill>
        <p:spPr>
          <a:xfrm>
            <a:off x="3780000" y="3697200"/>
            <a:ext cx="2448000" cy="244260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5"/>
          <p:cNvSpPr/>
          <p:nvPr/>
        </p:nvSpPr>
        <p:spPr>
          <a:xfrm>
            <a:off x="2286000" y="3105720"/>
            <a:ext cx="457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6093000"/>
            <a:ext cx="799272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85000"/>
              </a:lnSpc>
              <a:buNone/>
            </a:pPr>
            <a:r>
              <a:rPr b="0" lang="ru-RU" sz="2000" spc="-1" strike="noStrike" cap="all">
                <a:solidFill>
                  <a:srgbClr val="ff0000"/>
                </a:solidFill>
                <a:latin typeface="Corbel"/>
              </a:rPr>
              <a:t>2. Земля единственная планета, на которой есть жизнь (солнце, воздух и вода).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251000"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500" spc="-1" strike="noStrike">
              <a:solidFill>
                <a:srgbClr val="ffffff"/>
              </a:solidFill>
              <a:latin typeface="Corbel"/>
            </a:endParaRPr>
          </a:p>
          <a:p>
            <a:pPr marL="1251000"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500" spc="-1" strike="noStrike">
              <a:solidFill>
                <a:srgbClr val="ffffff"/>
              </a:solidFill>
              <a:latin typeface="Corbel"/>
            </a:endParaRPr>
          </a:p>
          <a:p>
            <a:pPr marL="1251000"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500" spc="-1" strike="noStrike">
              <a:solidFill>
                <a:srgbClr val="ffffff"/>
              </a:solidFill>
              <a:latin typeface="Corbel"/>
            </a:endParaRPr>
          </a:p>
          <a:p>
            <a:pPr marL="1251000"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500" spc="-1" strike="noStrike">
              <a:solidFill>
                <a:srgbClr val="ffffff"/>
              </a:solidFill>
              <a:latin typeface="Corbel"/>
            </a:endParaRPr>
          </a:p>
          <a:p>
            <a:pPr marL="1251000"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500" spc="-1" strike="noStrike">
              <a:solidFill>
                <a:srgbClr val="ffffff"/>
              </a:solidFill>
              <a:latin typeface="Corbel"/>
            </a:endParaRPr>
          </a:p>
          <a:p>
            <a:pPr marL="1251000"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500" spc="-1" strike="noStrike">
              <a:solidFill>
                <a:srgbClr val="ffffff"/>
              </a:solidFill>
              <a:latin typeface="Corbel"/>
            </a:endParaRPr>
          </a:p>
          <a:p>
            <a:pPr marL="1251000"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500" spc="-1" strike="noStrike">
              <a:solidFill>
                <a:srgbClr val="ffffff"/>
              </a:solidFill>
              <a:latin typeface="Corbel"/>
            </a:endParaRPr>
          </a:p>
          <a:p>
            <a:pPr marL="1251000"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500" spc="-1" strike="noStrike">
              <a:solidFill>
                <a:srgbClr val="ffffff"/>
              </a:solidFill>
              <a:latin typeface="Corbel"/>
            </a:endParaRPr>
          </a:p>
          <a:p>
            <a:pPr marL="1251000"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5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3" name="Picture 4" descr="C:\Users\Инна\Pictures\вода.jpg"/>
          <p:cNvPicPr/>
          <p:nvPr/>
        </p:nvPicPr>
        <p:blipFill>
          <a:blip r:embed="rId1"/>
          <a:stretch/>
        </p:blipFill>
        <p:spPr>
          <a:xfrm>
            <a:off x="6300360" y="2925000"/>
            <a:ext cx="2364840" cy="2220480"/>
          </a:xfrm>
          <a:prstGeom prst="rect">
            <a:avLst/>
          </a:prstGeom>
          <a:ln w="76200">
            <a:solidFill>
              <a:srgbClr val="00b0f0"/>
            </a:solidFill>
            <a:miter/>
          </a:ln>
        </p:spPr>
      </p:pic>
      <p:pic>
        <p:nvPicPr>
          <p:cNvPr id="314" name="Picture 2" descr="C:\Users\ира\Desktop\солнце.jpg"/>
          <p:cNvPicPr/>
          <p:nvPr/>
        </p:nvPicPr>
        <p:blipFill>
          <a:blip r:embed="rId2"/>
          <a:stretch/>
        </p:blipFill>
        <p:spPr>
          <a:xfrm>
            <a:off x="755640" y="2709000"/>
            <a:ext cx="2228400" cy="2047680"/>
          </a:xfrm>
          <a:prstGeom prst="rect">
            <a:avLst/>
          </a:prstGeom>
          <a:ln w="76200">
            <a:solidFill>
              <a:srgbClr val="00b0f0"/>
            </a:solidFill>
            <a:round/>
          </a:ln>
        </p:spPr>
      </p:pic>
      <p:pic>
        <p:nvPicPr>
          <p:cNvPr id="315" name="Picture 3" descr="C:\Users\ира\Desktop\img0.jpg"/>
          <p:cNvPicPr/>
          <p:nvPr/>
        </p:nvPicPr>
        <p:blipFill>
          <a:blip r:embed="rId3"/>
          <a:stretch/>
        </p:blipFill>
        <p:spPr>
          <a:xfrm>
            <a:off x="3132000" y="332640"/>
            <a:ext cx="2843280" cy="2132640"/>
          </a:xfrm>
          <a:prstGeom prst="rect">
            <a:avLst/>
          </a:prstGeom>
          <a:ln w="76200">
            <a:solidFill>
              <a:srgbClr val="00b0f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3959280" y="6021360"/>
            <a:ext cx="5184360" cy="43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Солнце дает нам свет и тепло.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7" name="Picture 2" descr="C:\Users\ира\Desktop\солнце.jpg"/>
          <p:cNvPicPr/>
          <p:nvPr/>
        </p:nvPicPr>
        <p:blipFill>
          <a:blip r:embed="rId1"/>
          <a:stretch/>
        </p:blipFill>
        <p:spPr>
          <a:xfrm>
            <a:off x="1907640" y="620640"/>
            <a:ext cx="5544360" cy="5112360"/>
          </a:xfrm>
          <a:prstGeom prst="rect">
            <a:avLst/>
          </a:prstGeom>
          <a:ln w="76200">
            <a:solidFill>
              <a:srgbClr val="00b0f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</a:pPr>
            <a:br>
              <a:rPr sz="1400"/>
            </a:b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0" y="6237360"/>
            <a:ext cx="6768720" cy="43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Деревья выделяют кислород, которым мы дышим.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0" name="Picture 5" descr=""/>
          <p:cNvPicPr/>
          <p:nvPr/>
        </p:nvPicPr>
        <p:blipFill>
          <a:blip r:embed="rId1"/>
          <a:stretch/>
        </p:blipFill>
        <p:spPr>
          <a:xfrm>
            <a:off x="2267640" y="1340640"/>
            <a:ext cx="46800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5661000"/>
            <a:ext cx="878472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</a:tabLst>
            </a:pPr>
            <a:r>
              <a:rPr b="1" lang="ru-RU" sz="2000" spc="-1" strike="noStrike" cap="all">
                <a:solidFill>
                  <a:srgbClr val="ff0000"/>
                </a:solidFill>
                <a:latin typeface="Corbel"/>
              </a:rPr>
              <a:t>Благодаря водоемам - на планете Земля мы   можем пить пресную воду.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755640" y="1412640"/>
            <a:ext cx="3024000" cy="33843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" descr=""/>
          <p:cNvPicPr/>
          <p:nvPr/>
        </p:nvPicPr>
        <p:blipFill>
          <a:blip r:embed="rId2"/>
          <a:stretch/>
        </p:blipFill>
        <p:spPr>
          <a:xfrm>
            <a:off x="5148000" y="1556640"/>
            <a:ext cx="3240000" cy="30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</a:tabLst>
            </a:pPr>
            <a:r>
              <a:rPr b="0" lang="ru-RU" sz="1400" spc="-1" strike="noStrike" cap="all">
                <a:solidFill>
                  <a:srgbClr val="ff0000"/>
                </a:solidFill>
                <a:latin typeface="Corbel"/>
              </a:rPr>
              <a:t> </a:t>
            </a:r>
            <a:r>
              <a:rPr b="1" lang="ru-RU" sz="1800" spc="-1" strike="noStrike" cap="all">
                <a:solidFill>
                  <a:srgbClr val="ff0000"/>
                </a:solidFill>
                <a:latin typeface="Corbel"/>
              </a:rPr>
              <a:t>Поэтому на планете Земля живут: люди, животные, птицы, рыбы, насекомые.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Picture 4" descr="https://im3-tub-ru.yandex.net/i?id=11ddae1cbfe17b0d13777741cb992e36&amp;n=33&amp;h=215&amp;w=280"/>
          <p:cNvPicPr/>
          <p:nvPr/>
        </p:nvPicPr>
        <p:blipFill>
          <a:blip r:embed="rId1"/>
          <a:stretch/>
        </p:blipFill>
        <p:spPr>
          <a:xfrm>
            <a:off x="3636000" y="2394720"/>
            <a:ext cx="1800000" cy="15836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"/>
          <p:cNvPicPr/>
          <p:nvPr/>
        </p:nvPicPr>
        <p:blipFill>
          <a:blip r:embed="rId2"/>
          <a:stretch/>
        </p:blipFill>
        <p:spPr>
          <a:xfrm>
            <a:off x="797760" y="1545120"/>
            <a:ext cx="2477520" cy="14515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3" descr=""/>
          <p:cNvPicPr/>
          <p:nvPr/>
        </p:nvPicPr>
        <p:blipFill>
          <a:blip r:embed="rId3"/>
          <a:stretch/>
        </p:blipFill>
        <p:spPr>
          <a:xfrm>
            <a:off x="899640" y="3880800"/>
            <a:ext cx="2376000" cy="21492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" descr=""/>
          <p:cNvPicPr/>
          <p:nvPr/>
        </p:nvPicPr>
        <p:blipFill>
          <a:blip r:embed="rId4"/>
          <a:stretch/>
        </p:blipFill>
        <p:spPr>
          <a:xfrm>
            <a:off x="5724000" y="1301400"/>
            <a:ext cx="3247560" cy="16952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"/>
          <p:cNvPicPr/>
          <p:nvPr/>
        </p:nvPicPr>
        <p:blipFill>
          <a:blip r:embed="rId5"/>
          <a:stretch/>
        </p:blipFill>
        <p:spPr>
          <a:xfrm>
            <a:off x="6156000" y="4062240"/>
            <a:ext cx="259200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85000"/>
              </a:lnSpc>
              <a:buNone/>
              <a:tabLst>
                <a:tab algn="l" pos="0"/>
              </a:tabLst>
            </a:pPr>
            <a:r>
              <a:rPr b="1" lang="ru-RU" sz="1800" spc="-1" strike="noStrike" cap="all">
                <a:solidFill>
                  <a:srgbClr val="ff0000"/>
                </a:solidFill>
                <a:latin typeface="Corbel"/>
              </a:rPr>
              <a:t> </a:t>
            </a:r>
            <a:r>
              <a:rPr b="1" lang="ru-RU" sz="1800" spc="-1" strike="noStrike" cap="all">
                <a:solidFill>
                  <a:srgbClr val="ff0000"/>
                </a:solidFill>
                <a:latin typeface="Corbel"/>
              </a:rPr>
              <a:t>На планете Земля растут:  деревья, цветы, ягоды, грибы, т.д.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395280" y="1596960"/>
            <a:ext cx="2881080" cy="18259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"/>
          <p:cNvPicPr/>
          <p:nvPr/>
        </p:nvPicPr>
        <p:blipFill>
          <a:blip r:embed="rId2"/>
          <a:stretch/>
        </p:blipFill>
        <p:spPr>
          <a:xfrm>
            <a:off x="251640" y="3933000"/>
            <a:ext cx="3024720" cy="21600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" descr=""/>
          <p:cNvPicPr/>
          <p:nvPr/>
        </p:nvPicPr>
        <p:blipFill>
          <a:blip r:embed="rId3"/>
          <a:stretch/>
        </p:blipFill>
        <p:spPr>
          <a:xfrm>
            <a:off x="5652000" y="1596960"/>
            <a:ext cx="2952000" cy="17596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5" descr=""/>
          <p:cNvPicPr/>
          <p:nvPr/>
        </p:nvPicPr>
        <p:blipFill>
          <a:blip r:embed="rId4"/>
          <a:stretch/>
        </p:blipFill>
        <p:spPr>
          <a:xfrm>
            <a:off x="5652000" y="3933000"/>
            <a:ext cx="2952000" cy="216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793080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</a:tabLst>
            </a:pPr>
            <a:r>
              <a:rPr b="1" lang="ru-RU" sz="2400" spc="-1" strike="noStrike" cap="all">
                <a:solidFill>
                  <a:srgbClr val="ff0000"/>
                </a:solidFill>
                <a:latin typeface="Corbel"/>
              </a:rPr>
              <a:t>Большая часть Земли покрыта водой</a:t>
            </a:r>
            <a:r>
              <a:rPr b="1" lang="ru-RU" sz="1400" spc="-1" strike="noStrike" cap="all">
                <a:solidFill>
                  <a:srgbClr val="099bdd"/>
                </a:solidFill>
                <a:latin typeface="Corbel"/>
              </a:rPr>
              <a:t>.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2046600" y="908640"/>
            <a:ext cx="4752000" cy="4104000"/>
          </a:xfrm>
          <a:prstGeom prst="rect">
            <a:avLst/>
          </a:prstGeom>
          <a:ln w="7620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каймление">
  <a:themeElements>
    <a:clrScheme name="Окаймление">
      <a:dk1>
        <a:srgbClr val="2c2c2c"/>
      </a:dk1>
      <a:lt1>
        <a:srgbClr val="ffffff"/>
      </a:lt1>
      <a:dk2>
        <a:srgbClr val="099bdd"/>
      </a:dk2>
      <a:lt2>
        <a:srgbClr val="f2f2f2"/>
      </a:lt2>
      <a:accent1>
        <a:srgbClr val="ffc000"/>
      </a:accent1>
      <a:accent2>
        <a:srgbClr val="a5d028"/>
      </a:accent2>
      <a:accent3>
        <a:srgbClr val="08cc78"/>
      </a:accent3>
      <a:accent4>
        <a:srgbClr val="f24099"/>
      </a:accent4>
      <a:accent5>
        <a:srgbClr val="828288"/>
      </a:accent5>
      <a:accent6>
        <a:srgbClr val="f56617"/>
      </a:accent6>
      <a:hlink>
        <a:srgbClr val="005dba"/>
      </a:hlink>
      <a:folHlink>
        <a:srgbClr val="6c606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каймление">
  <a:themeElements>
    <a:clrScheme name="Окаймление">
      <a:dk1>
        <a:srgbClr val="2c2c2c"/>
      </a:dk1>
      <a:lt1>
        <a:srgbClr val="ffffff"/>
      </a:lt1>
      <a:dk2>
        <a:srgbClr val="099bdd"/>
      </a:dk2>
      <a:lt2>
        <a:srgbClr val="f2f2f2"/>
      </a:lt2>
      <a:accent1>
        <a:srgbClr val="ffc000"/>
      </a:accent1>
      <a:accent2>
        <a:srgbClr val="a5d028"/>
      </a:accent2>
      <a:accent3>
        <a:srgbClr val="08cc78"/>
      </a:accent3>
      <a:accent4>
        <a:srgbClr val="f24099"/>
      </a:accent4>
      <a:accent5>
        <a:srgbClr val="828288"/>
      </a:accent5>
      <a:accent6>
        <a:srgbClr val="f56617"/>
      </a:accent6>
      <a:hlink>
        <a:srgbClr val="005dba"/>
      </a:hlink>
      <a:folHlink>
        <a:srgbClr val="6c606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Окаймление">
  <a:themeElements>
    <a:clrScheme name="Окаймление">
      <a:dk1>
        <a:srgbClr val="2c2c2c"/>
      </a:dk1>
      <a:lt1>
        <a:srgbClr val="ffffff"/>
      </a:lt1>
      <a:dk2>
        <a:srgbClr val="099bdd"/>
      </a:dk2>
      <a:lt2>
        <a:srgbClr val="f2f2f2"/>
      </a:lt2>
      <a:accent1>
        <a:srgbClr val="ffc000"/>
      </a:accent1>
      <a:accent2>
        <a:srgbClr val="a5d028"/>
      </a:accent2>
      <a:accent3>
        <a:srgbClr val="08cc78"/>
      </a:accent3>
      <a:accent4>
        <a:srgbClr val="f24099"/>
      </a:accent4>
      <a:accent5>
        <a:srgbClr val="828288"/>
      </a:accent5>
      <a:accent6>
        <a:srgbClr val="f56617"/>
      </a:accent6>
      <a:hlink>
        <a:srgbClr val="005dba"/>
      </a:hlink>
      <a:folHlink>
        <a:srgbClr val="6c606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Окаймление">
  <a:themeElements>
    <a:clrScheme name="Окаймление">
      <a:dk1>
        <a:srgbClr val="2c2c2c"/>
      </a:dk1>
      <a:lt1>
        <a:srgbClr val="ffffff"/>
      </a:lt1>
      <a:dk2>
        <a:srgbClr val="099bdd"/>
      </a:dk2>
      <a:lt2>
        <a:srgbClr val="f2f2f2"/>
      </a:lt2>
      <a:accent1>
        <a:srgbClr val="ffc000"/>
      </a:accent1>
      <a:accent2>
        <a:srgbClr val="a5d028"/>
      </a:accent2>
      <a:accent3>
        <a:srgbClr val="08cc78"/>
      </a:accent3>
      <a:accent4>
        <a:srgbClr val="f24099"/>
      </a:accent4>
      <a:accent5>
        <a:srgbClr val="828288"/>
      </a:accent5>
      <a:accent6>
        <a:srgbClr val="f56617"/>
      </a:accent6>
      <a:hlink>
        <a:srgbClr val="005dba"/>
      </a:hlink>
      <a:folHlink>
        <a:srgbClr val="6c606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Окаймление">
  <a:themeElements>
    <a:clrScheme name="Окаймление">
      <a:dk1>
        <a:srgbClr val="2c2c2c"/>
      </a:dk1>
      <a:lt1>
        <a:srgbClr val="ffffff"/>
      </a:lt1>
      <a:dk2>
        <a:srgbClr val="099bdd"/>
      </a:dk2>
      <a:lt2>
        <a:srgbClr val="f2f2f2"/>
      </a:lt2>
      <a:accent1>
        <a:srgbClr val="ffc000"/>
      </a:accent1>
      <a:accent2>
        <a:srgbClr val="a5d028"/>
      </a:accent2>
      <a:accent3>
        <a:srgbClr val="08cc78"/>
      </a:accent3>
      <a:accent4>
        <a:srgbClr val="f24099"/>
      </a:accent4>
      <a:accent5>
        <a:srgbClr val="828288"/>
      </a:accent5>
      <a:accent6>
        <a:srgbClr val="f56617"/>
      </a:accent6>
      <a:hlink>
        <a:srgbClr val="005dba"/>
      </a:hlink>
      <a:folHlink>
        <a:srgbClr val="6c606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Окаймление">
  <a:themeElements>
    <a:clrScheme name="Окаймление">
      <a:dk1>
        <a:srgbClr val="2c2c2c"/>
      </a:dk1>
      <a:lt1>
        <a:srgbClr val="ffffff"/>
      </a:lt1>
      <a:dk2>
        <a:srgbClr val="099bdd"/>
      </a:dk2>
      <a:lt2>
        <a:srgbClr val="f2f2f2"/>
      </a:lt2>
      <a:accent1>
        <a:srgbClr val="ffc000"/>
      </a:accent1>
      <a:accent2>
        <a:srgbClr val="a5d028"/>
      </a:accent2>
      <a:accent3>
        <a:srgbClr val="08cc78"/>
      </a:accent3>
      <a:accent4>
        <a:srgbClr val="f24099"/>
      </a:accent4>
      <a:accent5>
        <a:srgbClr val="828288"/>
      </a:accent5>
      <a:accent6>
        <a:srgbClr val="f56617"/>
      </a:accent6>
      <a:hlink>
        <a:srgbClr val="005dba"/>
      </a:hlink>
      <a:folHlink>
        <a:srgbClr val="6c606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Окаймление">
  <a:themeElements>
    <a:clrScheme name="Окаймление">
      <a:dk1>
        <a:srgbClr val="2c2c2c"/>
      </a:dk1>
      <a:lt1>
        <a:srgbClr val="ffffff"/>
      </a:lt1>
      <a:dk2>
        <a:srgbClr val="099bdd"/>
      </a:dk2>
      <a:lt2>
        <a:srgbClr val="f2f2f2"/>
      </a:lt2>
      <a:accent1>
        <a:srgbClr val="ffc000"/>
      </a:accent1>
      <a:accent2>
        <a:srgbClr val="a5d028"/>
      </a:accent2>
      <a:accent3>
        <a:srgbClr val="08cc78"/>
      </a:accent3>
      <a:accent4>
        <a:srgbClr val="f24099"/>
      </a:accent4>
      <a:accent5>
        <a:srgbClr val="828288"/>
      </a:accent5>
      <a:accent6>
        <a:srgbClr val="f56617"/>
      </a:accent6>
      <a:hlink>
        <a:srgbClr val="005dba"/>
      </a:hlink>
      <a:folHlink>
        <a:srgbClr val="6c606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99bdd"/>
      </a:dk2>
      <a:lt2>
        <a:srgbClr val="f2f2f2"/>
      </a:lt2>
      <a:accent1>
        <a:srgbClr val="ffc000"/>
      </a:accent1>
      <a:accent2>
        <a:srgbClr val="a5d028"/>
      </a:accent2>
      <a:accent3>
        <a:srgbClr val="08cc78"/>
      </a:accent3>
      <a:accent4>
        <a:srgbClr val="f24099"/>
      </a:accent4>
      <a:accent5>
        <a:srgbClr val="828288"/>
      </a:accent5>
      <a:accent6>
        <a:srgbClr val="f56617"/>
      </a:accent6>
      <a:hlink>
        <a:srgbClr val="005dba"/>
      </a:hlink>
      <a:folHlink>
        <a:srgbClr val="6c606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M03090430[[fn=Окаймление]]</Template>
  <TotalTime>1194</TotalTime>
  <Application>LibreOffice/7.4.7.2$Linux_X86_64 LibreOffice_project/40$Build-2</Application>
  <AppVersion>15.0000</AppVersion>
  <Words>437</Words>
  <Paragraphs>10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1T10:58:39Z</dcterms:created>
  <dc:creator>Инна</dc:creator>
  <dc:description/>
  <dc:language>en-US</dc:language>
  <cp:lastModifiedBy>Маргарита</cp:lastModifiedBy>
  <dcterms:modified xsi:type="dcterms:W3CDTF">2021-04-05T10:19:56Z</dcterms:modified>
  <cp:revision>129</cp:revision>
  <dc:subject/>
  <dc:title>Мы живем на планете Земля. Земля – это наш дом. По форме планета круглая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23</vt:r8>
  </property>
</Properties>
</file>