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9.png" ContentType="image/png"/>
  <Override PartName="/ppt/media/image34.png" ContentType="image/png"/>
  <Override PartName="/ppt/media/image13.png" ContentType="image/png"/>
  <Override PartName="/ppt/media/image33.png" ContentType="image/png"/>
  <Override PartName="/ppt/media/image37.gif" ContentType="image/gif"/>
  <Override PartName="/ppt/media/image35.jpeg" ContentType="image/jpeg"/>
  <Override PartName="/ppt/media/image10.png" ContentType="image/pn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3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dt" idx="2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ftr" idx="2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 type="sldNum" idx="2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3E0718-16AD-4EE0-8C30-BEAA326B2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5F842F-71CF-4100-8809-6284773127EE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84F2-9ED8-4F27-85CD-79BD09714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457164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54760"/>
            <a:ext cx="457164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1F02-BE97-4E61-9080-1D1C5D8C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02868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3098-5501-473E-948E-082450447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231280" y="214884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77120" y="214884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5476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231280" y="415476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77120" y="415476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98E6-AF0D-4618-96EC-E2447060E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895A-A3F2-4B5F-A667-E0C521545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148840"/>
            <a:ext cx="457164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E725-85DA-45D8-BB13-E371B46C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457164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BA93-BBB5-42C6-8FC2-B49B1AE6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E8BE-568C-4B87-8922-12C540BC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F26E-365E-4F00-B4C2-51BE5F56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080" y="284040"/>
            <a:ext cx="777204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5BC4-D713-4D88-ABC7-43005CD1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804B-B97F-442F-AD46-E39CCBE5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2148840"/>
            <a:ext cx="457164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2A21-F1E2-4B9D-B66F-8F1F9615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2868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E377-CED2-4CE8-886A-64EBF4E5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54760"/>
            <a:ext cx="457164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670D-2F3D-42AD-84D1-DB8ABAB1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457164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54760"/>
            <a:ext cx="457164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ADBD-63AC-4097-9C3D-032462EC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02868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D0EE-DD44-4E5E-993F-CB4D7B36E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231280" y="214884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777120" y="214884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5476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231280" y="415476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3777120" y="415476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579C-8F8A-473B-81A1-6781805FD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3EF08-F761-4F88-8053-B784DCDA3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800" y="2148840"/>
            <a:ext cx="457164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E8EFD-2A65-473C-8996-D1249941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457164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E9CF9-38F1-4453-AF28-8AB3B0F7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6B05E-3CDB-4768-B523-69A2C274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F91FD-D3F6-4190-B705-0961C676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457164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B029-84A1-44CC-A985-4D0DFEC5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080" y="284040"/>
            <a:ext cx="777204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9B89A-88A8-423D-B8B0-6026837A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4705C-14FA-45B4-9D63-AE3A468A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2868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A5344-EEF7-4DB2-A345-C28A0602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54760"/>
            <a:ext cx="457164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A2EBA-0355-41FE-9D1F-81444F71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457164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800" y="4154760"/>
            <a:ext cx="457164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5BF9D-1A74-4C4A-930D-80087684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02868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4FE68-33D0-49B1-8406-88086088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231280" y="214884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777120" y="214884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800" y="415476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231280" y="415476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3777120" y="415476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08657-0E07-48D1-89DA-1443FD24E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5CDF8-E003-4393-AFDE-BE6D0E321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2148840"/>
            <a:ext cx="457164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3ECB0-2A7F-4F3D-966C-BEA71E14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457164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5EDF4-9683-4920-8D6A-9C133989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6BBD-311F-4895-B5E5-F4722FE6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C1D19-8E7C-47FB-AE90-91681DB9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A0D8A-551E-4A35-B69F-E460483D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080" y="284040"/>
            <a:ext cx="777204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048B1-F8F5-467E-ACB1-F8A38061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CE548-9C01-4367-98FD-FA3D722A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02868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1137D-B00A-4704-AF89-E890E584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54760"/>
            <a:ext cx="457164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58DFF-7777-46EE-99B0-21316C64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457164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4154760"/>
            <a:ext cx="457164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1EF95-FD03-4487-84E2-CE40A65C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2868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4307A-D95E-436B-83E3-51B15E757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231280" y="214884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3777120" y="214884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415476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2231280" y="415476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3777120" y="415476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643F5-CDCB-4EEF-8A71-B5F0DC26C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67E9E-75F6-45B1-BDA5-68CD73464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8D0F-AE9E-40B3-A82D-0BEF3204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85800" y="2148840"/>
            <a:ext cx="457164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47BAA-ACF4-4452-9468-3F777116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457164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4D288-548D-4EAF-BAE9-5984F9BE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A886E-86B8-46FF-AAB4-4D8C42A2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58F40-C28B-4A36-BD4D-58A34630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85080" y="284040"/>
            <a:ext cx="777204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30521-AA63-4A0E-8B67-28445564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8D69B-B959-499E-938C-1E2CFDDB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02868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2D188-4461-4249-9D51-582FE1A4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54760"/>
            <a:ext cx="457164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F8CEB-CC3C-4AAB-B251-E5412440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457164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85800" y="4154760"/>
            <a:ext cx="457164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9A672-A3D9-4F8D-B97C-8D77D64E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02868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7FB1D-6DC5-4672-BF0F-0E06A8DBD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080" y="284040"/>
            <a:ext cx="777204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B393-3F6C-49B4-ACE1-13916CE5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231280" y="214884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777120" y="214884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85800" y="415476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231280" y="415476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3777120" y="415476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4EC21-6A36-4FAB-A8CF-51274CFA6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A7AE1-085A-4535-8B75-509D40C5D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85800" y="2148840"/>
            <a:ext cx="457164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971BB-7245-4372-9B49-CEC8287D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457164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807E9-BD58-43A4-950D-BE61021E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B3634-FF1E-477C-AD1D-B40DC742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39793-D9BD-4745-A95B-C1604460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080" y="284040"/>
            <a:ext cx="777204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690DA-0BDB-4294-A04B-A8DFDE4E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2CD3B-6317-4C83-B8AF-3465AC46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2868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A73D1-07EB-45B5-95E8-63F62FF2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54760"/>
            <a:ext cx="457164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411A3-A790-4FC7-B023-6374F6FA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978F-9B2D-4F55-B47E-593B26B3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457164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85800" y="4154760"/>
            <a:ext cx="457164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07D48-B1B4-4BA3-B399-B75A248D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302868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F069F-0F11-411C-A2A1-398748392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231280" y="214884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777120" y="214884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85800" y="415476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2231280" y="415476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3777120" y="415476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27A3E-25A6-4F9B-9555-F288A9725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D4362-D297-44EE-AA2C-2B90A2DD4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85800" y="2148840"/>
            <a:ext cx="457164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531F7-A0FC-4CCA-8A0C-F13D7E1B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457164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95882-3CF7-4C79-AD82-EA765CCC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853A7-6B98-481C-9D99-38383554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6B77B-BD86-48BE-8E7B-454E8C08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85080" y="284040"/>
            <a:ext cx="777204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714CC-435B-418D-9849-10A3D091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7A552-8A89-41EC-98F5-8C3E5408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2868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E350-2F78-4D04-9E63-57F4215D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02868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6190E-E9E9-4ECF-9EE0-DFB5C94E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54760"/>
            <a:ext cx="457164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70987-6241-482B-B38C-C9C4E0FA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457164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85800" y="4154760"/>
            <a:ext cx="457164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ADEE7-8927-40C1-BA5D-A1612917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3028680" y="415476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DCE72-1AE7-4AD3-B0BF-AB815A0E7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2231280" y="214884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777120" y="214884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85800" y="415476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2231280" y="415476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3777120" y="4154760"/>
            <a:ext cx="147168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77824-8181-4E86-91DD-0A5DE4FF9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28680" y="2148840"/>
            <a:ext cx="223092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54760"/>
            <a:ext cx="4571640" cy="18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D257-9914-4AED-9B26-3656FF90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360" y="176040"/>
            <a:ext cx="9141480" cy="164556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-5040" y="2058840"/>
            <a:ext cx="9146520" cy="182844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" y="2166480"/>
            <a:ext cx="8603280" cy="173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80000"/>
              </a:lnSpc>
              <a:buNone/>
            </a:pPr>
            <a:r>
              <a:rPr b="0" lang="ru-RU" sz="6000" spc="-1" strike="noStrike" cap="all">
                <a:solidFill>
                  <a:srgbClr val="099bdd"/>
                </a:solidFill>
                <a:latin typeface="Corbel"/>
              </a:rPr>
              <a:t>Образец заголовка</a:t>
            </a:r>
            <a:endParaRPr b="0" lang="ru-RU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1480" y="6422760"/>
            <a:ext cx="259452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0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4191120" y="6422760"/>
            <a:ext cx="4060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265240" y="6422760"/>
            <a:ext cx="70920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EE36CE5-6E32-40D3-8CE1-03DEE0E6728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360" y="176040"/>
            <a:ext cx="9141480" cy="164556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ru-RU" sz="4000" spc="-1" strike="noStrike" cap="all">
                <a:solidFill>
                  <a:srgbClr val="099bdd"/>
                </a:solidFill>
                <a:latin typeface="Corbel"/>
              </a:rPr>
              <a:t>Образец заголовка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080" y="2011680"/>
            <a:ext cx="777204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Образец текста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1" marL="4114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Второй уровень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2" marL="6400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ретий уровень</a:t>
            </a: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  <a:p>
            <a:pPr lvl="3" marL="8686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Четвертый уровень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lvl="4" marL="10972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1480" y="6422760"/>
            <a:ext cx="259452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0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191120" y="6422760"/>
            <a:ext cx="4060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265240" y="6422760"/>
            <a:ext cx="70920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CF0C35C-5000-4C73-8F3D-FD59F55A58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 hidden="1"/>
          <p:cNvSpPr/>
          <p:nvPr/>
        </p:nvSpPr>
        <p:spPr>
          <a:xfrm>
            <a:off x="360" y="176040"/>
            <a:ext cx="9141480" cy="164556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dt" idx="7"/>
          </p:nvPr>
        </p:nvSpPr>
        <p:spPr>
          <a:xfrm>
            <a:off x="681480" y="6422760"/>
            <a:ext cx="259452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0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8"/>
          </p:nvPr>
        </p:nvSpPr>
        <p:spPr>
          <a:xfrm>
            <a:off x="4191120" y="6422760"/>
            <a:ext cx="4060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9"/>
          </p:nvPr>
        </p:nvSpPr>
        <p:spPr>
          <a:xfrm>
            <a:off x="8265240" y="6422760"/>
            <a:ext cx="70920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51A440F-8137-411B-B7FA-3983E0159F9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360" y="176040"/>
            <a:ext cx="9141480" cy="164556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ru-RU" sz="4000" spc="-1" strike="noStrike" cap="all">
                <a:solidFill>
                  <a:srgbClr val="099bdd"/>
                </a:solidFill>
                <a:latin typeface="Corbel"/>
              </a:rPr>
              <a:t>Образец заголовка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681480" y="6422760"/>
            <a:ext cx="259452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0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11"/>
          </p:nvPr>
        </p:nvSpPr>
        <p:spPr>
          <a:xfrm>
            <a:off x="4191120" y="6422760"/>
            <a:ext cx="4060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2"/>
          </p:nvPr>
        </p:nvSpPr>
        <p:spPr>
          <a:xfrm>
            <a:off x="8265240" y="6422760"/>
            <a:ext cx="70920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479C09C-F2F5-4E36-B6E7-AF6CD87BC8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360" y="176040"/>
            <a:ext cx="9141480" cy="164556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ru-RU" sz="4000" spc="-1" strike="noStrike" cap="all">
                <a:solidFill>
                  <a:srgbClr val="099bdd"/>
                </a:solidFill>
                <a:latin typeface="Corbel"/>
              </a:rPr>
              <a:t>Образец заголовка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2011680"/>
            <a:ext cx="365724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Образец текста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1" marL="4114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Второй уровень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2" marL="6400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ретий уровень</a:t>
            </a: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  <a:p>
            <a:pPr lvl="3" marL="8686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Четвертый уровень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lvl="4" marL="10972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body"/>
          </p:nvPr>
        </p:nvSpPr>
        <p:spPr>
          <a:xfrm>
            <a:off x="4800600" y="2011680"/>
            <a:ext cx="365724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Образец текста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1" marL="4114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Второй уровень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2" marL="6400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ретий уровень</a:t>
            </a: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  <a:p>
            <a:pPr lvl="3" marL="8686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Четвертый уровень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lvl="4" marL="10972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dt" idx="13"/>
          </p:nvPr>
        </p:nvSpPr>
        <p:spPr>
          <a:xfrm>
            <a:off x="681480" y="6422760"/>
            <a:ext cx="259452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0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4"/>
          </p:nvPr>
        </p:nvSpPr>
        <p:spPr>
          <a:xfrm>
            <a:off x="4191120" y="6422760"/>
            <a:ext cx="4060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5"/>
          </p:nvPr>
        </p:nvSpPr>
        <p:spPr>
          <a:xfrm>
            <a:off x="8265240" y="6422760"/>
            <a:ext cx="70920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C636885-28E5-4B7F-A8F3-D6BD9CED94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360" y="176040"/>
            <a:ext cx="9141480" cy="164556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ru-RU" sz="4000" spc="-1" strike="noStrike" cap="all">
                <a:solidFill>
                  <a:srgbClr val="099bdd"/>
                </a:solidFill>
                <a:latin typeface="Corbel"/>
              </a:rPr>
              <a:t>Образец заголовка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1913400"/>
            <a:ext cx="3657240" cy="74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Образец текста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body"/>
          </p:nvPr>
        </p:nvSpPr>
        <p:spPr>
          <a:xfrm>
            <a:off x="685800" y="2656440"/>
            <a:ext cx="3657240" cy="35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Образец текста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1" marL="4114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Второй уровень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2" marL="6400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ретий уровень</a:t>
            </a: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  <a:p>
            <a:pPr lvl="3" marL="8686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Четвертый уровень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lvl="4" marL="10972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4800600" y="1913400"/>
            <a:ext cx="3657240" cy="74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Образец текста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body"/>
          </p:nvPr>
        </p:nvSpPr>
        <p:spPr>
          <a:xfrm>
            <a:off x="4800600" y="2656440"/>
            <a:ext cx="3657240" cy="35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Образец текста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1" marL="4114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Второй уровень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2" marL="6400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ретий уровень</a:t>
            </a: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  <a:p>
            <a:pPr lvl="3" marL="8686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Четвертый уровень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lvl="4" marL="10972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dt" idx="16"/>
          </p:nvPr>
        </p:nvSpPr>
        <p:spPr>
          <a:xfrm>
            <a:off x="681480" y="6422760"/>
            <a:ext cx="259452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0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 type="ftr" idx="17"/>
          </p:nvPr>
        </p:nvSpPr>
        <p:spPr>
          <a:xfrm>
            <a:off x="4191120" y="6422760"/>
            <a:ext cx="4060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8"/>
          <p:cNvSpPr>
            <a:spLocks noGrp="1"/>
          </p:cNvSpPr>
          <p:nvPr>
            <p:ph type="sldNum" idx="18"/>
          </p:nvPr>
        </p:nvSpPr>
        <p:spPr>
          <a:xfrm>
            <a:off x="8265240" y="6422760"/>
            <a:ext cx="70920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78D72AD-6813-48BA-A5B0-0CD83C4BD55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360" y="176040"/>
            <a:ext cx="9141480" cy="164556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080" y="284040"/>
            <a:ext cx="777204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ru-RU" sz="4000" spc="-1" strike="noStrike" cap="all">
                <a:solidFill>
                  <a:srgbClr val="099bdd"/>
                </a:solidFill>
                <a:latin typeface="Corbel"/>
              </a:rPr>
              <a:t>Образец заголовка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2148840"/>
            <a:ext cx="457164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Образец текста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1" marL="4114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Второй уровень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2" marL="6400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ретий уровень</a:t>
            </a: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  <a:p>
            <a:pPr lvl="3" marL="8686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Четвертый уровень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lvl="4" marL="10972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body"/>
          </p:nvPr>
        </p:nvSpPr>
        <p:spPr>
          <a:xfrm>
            <a:off x="5892480" y="2147400"/>
            <a:ext cx="2559960" cy="34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orbel"/>
              </a:rPr>
              <a:t>Образец текста</a:t>
            </a:r>
            <a:endParaRPr b="0" lang="ru-RU" sz="17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dt" idx="19"/>
          </p:nvPr>
        </p:nvSpPr>
        <p:spPr>
          <a:xfrm>
            <a:off x="681480" y="6422760"/>
            <a:ext cx="259452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05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20"/>
          </p:nvPr>
        </p:nvSpPr>
        <p:spPr>
          <a:xfrm>
            <a:off x="4191120" y="6422760"/>
            <a:ext cx="4060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 type="sldNum" idx="21"/>
          </p:nvPr>
        </p:nvSpPr>
        <p:spPr>
          <a:xfrm>
            <a:off x="8265240" y="6422760"/>
            <a:ext cx="70920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82E6844-E356-4113-801C-75B733AA216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4320" y="2166480"/>
            <a:ext cx="8603280" cy="173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</a:pPr>
            <a:r>
              <a:rPr b="1" lang="ru-RU" sz="6000" spc="-1" strike="noStrike" cap="all">
                <a:solidFill>
                  <a:srgbClr val="0070c0"/>
                </a:solidFill>
                <a:latin typeface="Corbel"/>
              </a:rPr>
              <a:t>Детям о </a:t>
            </a:r>
            <a:r>
              <a:rPr b="1" i="1" lang="ru-RU" sz="6000" spc="-1" strike="noStrike" cap="all">
                <a:solidFill>
                  <a:srgbClr val="0070c0"/>
                </a:solidFill>
                <a:latin typeface="Corbel"/>
              </a:rPr>
              <a:t>космосе</a:t>
            </a:r>
            <a:endParaRPr b="0" lang="ru-RU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473840" y="4005000"/>
            <a:ext cx="720216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rbel"/>
              </a:rPr>
              <a:t>Презентацию подготови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rbel"/>
              </a:rPr>
              <a:t>Потапова М.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rbel"/>
              </a:rPr>
              <a:t>МБОУ «СОШ с. Старица им. Героя Советского Союза Конева П.Ф.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2124000" y="5589720"/>
            <a:ext cx="7019640" cy="126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orbel"/>
              </a:rPr>
              <a:t>Планета Земля – лишь пылинка в огромном черном космосе. 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rbel"/>
              </a:rPr>
              <a:t>Планета не стоит на месте - она вращается вокруг своей оси и одновременно осуществляет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orbel"/>
              </a:rPr>
              <a:t>движение вокруг Солнца.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2771640" y="1268640"/>
            <a:ext cx="3744000" cy="3672000"/>
          </a:xfrm>
          <a:prstGeom prst="rect">
            <a:avLst/>
          </a:prstGeom>
          <a:ln w="7620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1150920" y="5950080"/>
            <a:ext cx="799272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orbel"/>
              </a:rPr>
              <a:t>Благодаря  вращению планеты вокруг своей оси – происходит смена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orbel"/>
              </a:rPr>
              <a:t>суток (утро, день, вечер, ночь).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2483640" y="1556640"/>
            <a:ext cx="4392000" cy="316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857840" y="5589720"/>
            <a:ext cx="4285800" cy="126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orbel"/>
              </a:rPr>
              <a:t>Благодаря  движению Земли вокруг Солнца меняются времена года.</a:t>
            </a: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Corbel"/>
              </a:rPr>
              <a:t>Путешествие вокруг Солнца занимает у Земли один год. </a:t>
            </a: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orbel"/>
              </a:rPr>
              <a:t>Так начинается и заканчивается год. </a:t>
            </a: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Сколько месяцев в году?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2483640" y="1700640"/>
            <a:ext cx="4464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790560" y="5013360"/>
            <a:ext cx="8353080" cy="184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rbel"/>
              </a:rPr>
              <a:t>  </a:t>
            </a:r>
            <a:r>
              <a:rPr b="1" lang="ru-RU" sz="1600" spc="-1" strike="noStrike">
                <a:solidFill>
                  <a:srgbClr val="ff0000"/>
                </a:solidFill>
                <a:latin typeface="Corbel"/>
              </a:rPr>
              <a:t>Во  Вселенной планета Земля не одна (Солнце - это огромная огненная 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rbel"/>
              </a:rPr>
              <a:t>звезда и 9 планет: Меркурий, Венера, Земля, Марс, Юпитер, Сатурн, Уран, Нептун, Плутон).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1691640" y="908640"/>
            <a:ext cx="5904360" cy="410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611280" y="4653000"/>
            <a:ext cx="8532360" cy="220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Corbel"/>
              </a:rPr>
              <a:t>У Земли есть спутник Луна.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2411640" y="908640"/>
            <a:ext cx="4680000" cy="3528000"/>
          </a:xfrm>
          <a:prstGeom prst="rect">
            <a:avLst/>
          </a:prstGeom>
          <a:ln w="7620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7640" y="-747360"/>
            <a:ext cx="8208720" cy="352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</a:tabLst>
            </a:pPr>
            <a:r>
              <a:rPr b="1" lang="ru-RU" sz="1600" spc="-1" strike="noStrike" cap="all">
                <a:solidFill>
                  <a:srgbClr val="099bdd"/>
                </a:solidFill>
                <a:latin typeface="Corbel"/>
              </a:rPr>
              <a:t> </a:t>
            </a:r>
            <a:r>
              <a:rPr b="1" lang="ru-RU" sz="1600" spc="-1" strike="noStrike" cap="all">
                <a:solidFill>
                  <a:srgbClr val="ff0000"/>
                </a:solidFill>
                <a:latin typeface="Corbel"/>
              </a:rPr>
              <a:t>Для того чтобы исследовать космос - первыми отправили в полет собак: Белку и Стрелку. После полета они благополучно  вернулись на Землю</a:t>
            </a:r>
            <a:r>
              <a:rPr b="1" lang="ru-RU" sz="1600" spc="-1" strike="noStrike" cap="all">
                <a:solidFill>
                  <a:srgbClr val="099bdd"/>
                </a:solidFill>
                <a:latin typeface="Corbel"/>
              </a:rPr>
              <a:t>.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1"/>
          <a:stretch/>
        </p:blipFill>
        <p:spPr>
          <a:xfrm>
            <a:off x="2231640" y="2781000"/>
            <a:ext cx="4680000" cy="33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16000" y="5367240"/>
            <a:ext cx="802764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Юрий Алексеевич Гагарин. 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Он был  первым космонавтом, который   совершил полет вокруг Земли на  космическом корабле (ракете ).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50" name="Picture 2" descr="C:\Users\Инна\Pictures\Новая папка\Рисунок1.jpg"/>
          <p:cNvPicPr/>
          <p:nvPr/>
        </p:nvPicPr>
        <p:blipFill>
          <a:blip r:embed="rId1"/>
          <a:stretch/>
        </p:blipFill>
        <p:spPr>
          <a:xfrm>
            <a:off x="467640" y="1124640"/>
            <a:ext cx="2448000" cy="2591280"/>
          </a:xfrm>
          <a:prstGeom prst="rect">
            <a:avLst/>
          </a:prstGeom>
          <a:ln w="76200">
            <a:solidFill>
              <a:srgbClr val="0070c0"/>
            </a:solidFill>
            <a:miter/>
          </a:ln>
        </p:spPr>
      </p:pic>
      <p:pic>
        <p:nvPicPr>
          <p:cNvPr id="351" name="Picture 2" descr=""/>
          <p:cNvPicPr/>
          <p:nvPr/>
        </p:nvPicPr>
        <p:blipFill>
          <a:blip r:embed="rId2"/>
          <a:stretch/>
        </p:blipFill>
        <p:spPr>
          <a:xfrm>
            <a:off x="3276000" y="908640"/>
            <a:ext cx="2880000" cy="34207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"/>
          <p:cNvPicPr/>
          <p:nvPr/>
        </p:nvPicPr>
        <p:blipFill>
          <a:blip r:embed="rId3"/>
          <a:stretch/>
        </p:blipFill>
        <p:spPr>
          <a:xfrm>
            <a:off x="6633720" y="1412640"/>
            <a:ext cx="2016000" cy="2916720"/>
          </a:xfrm>
          <a:prstGeom prst="rect">
            <a:avLst/>
          </a:prstGeom>
          <a:ln w="7620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3640" y="5229360"/>
            <a:ext cx="8229240" cy="11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85000"/>
              </a:lnSpc>
              <a:buNone/>
              <a:tabLst>
                <a:tab algn="l" pos="0"/>
              </a:tabLst>
            </a:pPr>
            <a:r>
              <a:rPr b="1" lang="ru-RU" sz="1600" spc="-1" strike="noStrike" cap="all">
                <a:solidFill>
                  <a:srgbClr val="099bdd"/>
                </a:solidFill>
                <a:latin typeface="Corbel"/>
              </a:rPr>
              <a:t> </a:t>
            </a:r>
            <a:r>
              <a:rPr b="1" lang="ru-RU" sz="1600" spc="-1" strike="noStrike" cap="all">
                <a:solidFill>
                  <a:srgbClr val="ff0000"/>
                </a:solidFill>
                <a:latin typeface="Corbel"/>
              </a:rPr>
              <a:t>Так проходят тренировки космонавтов и идет отбор тех, кто полетит в космос ( умный,  сильный, физически выносливый, волевой, трудолюбивый,  находчивый). 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467640" y="404640"/>
            <a:ext cx="3960000" cy="39600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" descr=""/>
          <p:cNvPicPr/>
          <p:nvPr/>
        </p:nvPicPr>
        <p:blipFill>
          <a:blip r:embed="rId2"/>
          <a:stretch/>
        </p:blipFill>
        <p:spPr>
          <a:xfrm>
            <a:off x="4860000" y="980640"/>
            <a:ext cx="37440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2339640" y="5301360"/>
            <a:ext cx="4608000" cy="82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rbel"/>
              </a:rPr>
              <a:t>Первая женщина – космонавт 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marL="182880"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rbel"/>
              </a:rPr>
              <a:t>Валентина Терешкова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860000" y="5301360"/>
            <a:ext cx="4283640" cy="15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2123640" y="404640"/>
            <a:ext cx="4752000" cy="4536000"/>
          </a:xfrm>
          <a:prstGeom prst="rect">
            <a:avLst/>
          </a:prstGeom>
          <a:ln w="7620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788000" y="5445360"/>
            <a:ext cx="3897360" cy="5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5000"/>
          </a:bodyPr>
          <a:p>
            <a:pPr indent="0">
              <a:lnSpc>
                <a:spcPct val="85000"/>
              </a:lnSpc>
              <a:buNone/>
            </a:pPr>
            <a:r>
              <a:rPr b="0" lang="ru-RU" sz="4000" spc="-1" strike="noStrike" cap="all">
                <a:solidFill>
                  <a:srgbClr val="099bdd"/>
                </a:solidFill>
                <a:latin typeface="Corbel"/>
              </a:rPr>
              <a:t>Космонавт на луне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75680" y="2781000"/>
            <a:ext cx="2847960" cy="28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Corbel"/>
              </a:rPr>
              <a:t>Для работы в космосе необходимо иметь специальный костюм (скафандр, комбинезон, обувь, т.д.) Одежда должна быть удобной и практичной, со специальным оборудованием (рацией, с системой  жизнеобеспечения, т.д.)</a:t>
            </a: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4356000" y="476640"/>
            <a:ext cx="43293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3640" y="4372200"/>
            <a:ext cx="76219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</a:tabLst>
            </a:pPr>
            <a:r>
              <a:rPr b="0" lang="ru-RU" sz="2000" spc="-1" strike="noStrike" cap="all">
                <a:solidFill>
                  <a:srgbClr val="ff0000"/>
                </a:solidFill>
                <a:latin typeface="Corbel"/>
              </a:rPr>
              <a:t>Мы живем на планете Земля. Земля – это наш дом. Земля напоминает  форму шара.</a:t>
            </a:r>
            <a:br>
              <a:rPr sz="2000"/>
            </a:b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2699640" y="477000"/>
            <a:ext cx="3888000" cy="268704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33872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0" y="5157720"/>
            <a:ext cx="8819640" cy="169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В космосе космонавт должен быть готов к невесомости.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1547640" y="620640"/>
            <a:ext cx="6336360" cy="43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4211640" y="1052640"/>
            <a:ext cx="4932000" cy="79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Вот так работают космонавты в открытом космосе (изучают планету, берут пробы грунта, пыли; фотографируют, т.д.).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395640" y="836640"/>
            <a:ext cx="3312000" cy="37627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"/>
          <p:cNvPicPr/>
          <p:nvPr/>
        </p:nvPicPr>
        <p:blipFill>
          <a:blip r:embed="rId2"/>
          <a:stretch/>
        </p:blipFill>
        <p:spPr>
          <a:xfrm>
            <a:off x="4356000" y="2718360"/>
            <a:ext cx="366120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716360" y="189000"/>
            <a:ext cx="4427280" cy="194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9000"/>
          </a:bodyPr>
          <a:p>
            <a:pPr indent="0">
              <a:lnSpc>
                <a:spcPct val="85000"/>
              </a:lnSpc>
              <a:buNone/>
              <a:tabLst>
                <a:tab algn="l" pos="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 cap="all">
                <a:solidFill>
                  <a:srgbClr val="ff0000"/>
                </a:solidFill>
                <a:latin typeface="Corbel"/>
              </a:rPr>
              <a:t>Еда космонавтов находится в тюбиках и вакуумных упаковках - в жидком состоянии..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1187640" y="2277000"/>
            <a:ext cx="5688360" cy="3960000"/>
          </a:xfrm>
          <a:prstGeom prst="rect">
            <a:avLst/>
          </a:prstGeom>
          <a:ln w="7620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428000" y="692640"/>
            <a:ext cx="41760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>
              <a:lnSpc>
                <a:spcPct val="85000"/>
              </a:lnSpc>
              <a:buNone/>
            </a:pPr>
            <a:r>
              <a:rPr b="0" lang="ru-RU" sz="2800" spc="-1" strike="noStrike" cap="all">
                <a:solidFill>
                  <a:srgbClr val="ff0000"/>
                </a:solidFill>
                <a:latin typeface="Corbel"/>
              </a:rPr>
              <a:t>Освоение      космоса космонавтами - дает возможность людям на Земле:</a:t>
            </a: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140000" y="260640"/>
            <a:ext cx="4392000" cy="20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4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                       </a:t>
            </a: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6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-29-</a:t>
            </a: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              </a:t>
            </a: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  <a:p>
            <a:pPr marL="10224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251640" y="260640"/>
            <a:ext cx="3168000" cy="10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0000"/>
                </a:solidFill>
                <a:latin typeface="Corbel"/>
              </a:rPr>
              <a:t>Пользоваться сотовой связью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0000"/>
                </a:solidFill>
                <a:latin typeface="Corbel"/>
              </a:rPr>
              <a:t>Знать о состоянии погоды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0000"/>
                </a:solidFill>
                <a:latin typeface="Corbel"/>
              </a:rPr>
              <a:t>Использовать навигаторы, чтобы легко ориентироваться на дорогах.</a:t>
            </a:r>
            <a:endParaRPr b="0" lang="ru-RU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Прямоугольник 4"/>
          <p:cNvSpPr/>
          <p:nvPr/>
        </p:nvSpPr>
        <p:spPr>
          <a:xfrm>
            <a:off x="251640" y="6453360"/>
            <a:ext cx="3240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" descr="C:\Users\Инна\Pictures\4bdec23121030b05bb8ba62e564dc6f9.jpg"/>
          <p:cNvPicPr/>
          <p:nvPr/>
        </p:nvPicPr>
        <p:blipFill>
          <a:blip r:embed="rId1"/>
          <a:stretch/>
        </p:blipFill>
        <p:spPr>
          <a:xfrm>
            <a:off x="251640" y="3697200"/>
            <a:ext cx="2764800" cy="24426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C:\Users\Инна\Pictures\Garmin_Dakota_20_big.jpg"/>
          <p:cNvPicPr/>
          <p:nvPr/>
        </p:nvPicPr>
        <p:blipFill>
          <a:blip r:embed="rId2"/>
          <a:stretch/>
        </p:blipFill>
        <p:spPr>
          <a:xfrm>
            <a:off x="6804360" y="3238200"/>
            <a:ext cx="1686960" cy="26823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C:\Users\Инна\Pictures\pc_capture20.gif"/>
          <p:cNvPicPr/>
          <p:nvPr/>
        </p:nvPicPr>
        <p:blipFill>
          <a:blip r:embed="rId3"/>
          <a:stretch/>
        </p:blipFill>
        <p:spPr>
          <a:xfrm>
            <a:off x="3780000" y="3697200"/>
            <a:ext cx="2448000" cy="244260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5"/>
          <p:cNvSpPr/>
          <p:nvPr/>
        </p:nvSpPr>
        <p:spPr>
          <a:xfrm>
            <a:off x="2286000" y="3105720"/>
            <a:ext cx="457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6093000"/>
            <a:ext cx="799272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85000"/>
              </a:lnSpc>
              <a:buNone/>
            </a:pPr>
            <a:r>
              <a:rPr b="0" lang="ru-RU" sz="2000" spc="-1" strike="noStrike" cap="all">
                <a:solidFill>
                  <a:srgbClr val="ff0000"/>
                </a:solidFill>
                <a:latin typeface="Corbel"/>
              </a:rPr>
              <a:t>2. Земля единственная планета, на которой есть жизнь (солнце, воздух и вода).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251000"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500" spc="-1" strike="noStrike">
              <a:solidFill>
                <a:srgbClr val="ffffff"/>
              </a:solidFill>
              <a:latin typeface="Corbel"/>
            </a:endParaRPr>
          </a:p>
          <a:p>
            <a:pPr marL="1251000"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500" spc="-1" strike="noStrike">
              <a:solidFill>
                <a:srgbClr val="ffffff"/>
              </a:solidFill>
              <a:latin typeface="Corbel"/>
            </a:endParaRPr>
          </a:p>
          <a:p>
            <a:pPr marL="1251000"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500" spc="-1" strike="noStrike">
              <a:solidFill>
                <a:srgbClr val="ffffff"/>
              </a:solidFill>
              <a:latin typeface="Corbel"/>
            </a:endParaRPr>
          </a:p>
          <a:p>
            <a:pPr marL="1251000"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500" spc="-1" strike="noStrike">
              <a:solidFill>
                <a:srgbClr val="ffffff"/>
              </a:solidFill>
              <a:latin typeface="Corbel"/>
            </a:endParaRPr>
          </a:p>
          <a:p>
            <a:pPr marL="1251000"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500" spc="-1" strike="noStrike">
              <a:solidFill>
                <a:srgbClr val="ffffff"/>
              </a:solidFill>
              <a:latin typeface="Corbel"/>
            </a:endParaRPr>
          </a:p>
          <a:p>
            <a:pPr marL="1251000"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500" spc="-1" strike="noStrike">
              <a:solidFill>
                <a:srgbClr val="ffffff"/>
              </a:solidFill>
              <a:latin typeface="Corbel"/>
            </a:endParaRPr>
          </a:p>
          <a:p>
            <a:pPr marL="1251000"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500" spc="-1" strike="noStrike">
              <a:solidFill>
                <a:srgbClr val="ffffff"/>
              </a:solidFill>
              <a:latin typeface="Corbel"/>
            </a:endParaRPr>
          </a:p>
          <a:p>
            <a:pPr marL="1251000"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500" spc="-1" strike="noStrike">
              <a:solidFill>
                <a:srgbClr val="ffffff"/>
              </a:solidFill>
              <a:latin typeface="Corbel"/>
            </a:endParaRPr>
          </a:p>
          <a:p>
            <a:pPr marL="1251000"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ru-RU" sz="15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3" name="Picture 4" descr="C:\Users\Инна\Pictures\вода.jpg"/>
          <p:cNvPicPr/>
          <p:nvPr/>
        </p:nvPicPr>
        <p:blipFill>
          <a:blip r:embed="rId1"/>
          <a:stretch/>
        </p:blipFill>
        <p:spPr>
          <a:xfrm>
            <a:off x="6300360" y="2925000"/>
            <a:ext cx="2364840" cy="2220480"/>
          </a:xfrm>
          <a:prstGeom prst="rect">
            <a:avLst/>
          </a:prstGeom>
          <a:ln w="76200">
            <a:solidFill>
              <a:srgbClr val="00b0f0"/>
            </a:solidFill>
            <a:miter/>
          </a:ln>
        </p:spPr>
      </p:pic>
      <p:pic>
        <p:nvPicPr>
          <p:cNvPr id="314" name="Picture 2" descr="C:\Users\ира\Desktop\солнце.jpg"/>
          <p:cNvPicPr/>
          <p:nvPr/>
        </p:nvPicPr>
        <p:blipFill>
          <a:blip r:embed="rId2"/>
          <a:stretch/>
        </p:blipFill>
        <p:spPr>
          <a:xfrm>
            <a:off x="755640" y="2709000"/>
            <a:ext cx="2228400" cy="2047680"/>
          </a:xfrm>
          <a:prstGeom prst="rect">
            <a:avLst/>
          </a:prstGeom>
          <a:ln w="76200">
            <a:solidFill>
              <a:srgbClr val="00b0f0"/>
            </a:solidFill>
            <a:round/>
          </a:ln>
        </p:spPr>
      </p:pic>
      <p:pic>
        <p:nvPicPr>
          <p:cNvPr id="315" name="Picture 3" descr="C:\Users\ира\Desktop\img0.jpg"/>
          <p:cNvPicPr/>
          <p:nvPr/>
        </p:nvPicPr>
        <p:blipFill>
          <a:blip r:embed="rId3"/>
          <a:stretch/>
        </p:blipFill>
        <p:spPr>
          <a:xfrm>
            <a:off x="3132000" y="332640"/>
            <a:ext cx="2843280" cy="2132640"/>
          </a:xfrm>
          <a:prstGeom prst="rect">
            <a:avLst/>
          </a:prstGeom>
          <a:ln w="76200">
            <a:solidFill>
              <a:srgbClr val="00b0f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3959280" y="6021360"/>
            <a:ext cx="5184360" cy="43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Солнце дает нам свет и тепло.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7" name="Picture 2" descr="C:\Users\ира\Desktop\солнце.jpg"/>
          <p:cNvPicPr/>
          <p:nvPr/>
        </p:nvPicPr>
        <p:blipFill>
          <a:blip r:embed="rId1"/>
          <a:stretch/>
        </p:blipFill>
        <p:spPr>
          <a:xfrm>
            <a:off x="1907640" y="620640"/>
            <a:ext cx="5544360" cy="5112360"/>
          </a:xfrm>
          <a:prstGeom prst="rect">
            <a:avLst/>
          </a:prstGeom>
          <a:ln w="76200">
            <a:solidFill>
              <a:srgbClr val="00b0f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</a:pPr>
            <a:br>
              <a:rPr sz="1400"/>
            </a:b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0" y="6237360"/>
            <a:ext cx="6768720" cy="43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rbel"/>
              </a:rPr>
              <a:t>Деревья выделяют кислород, которым мы дышим.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0" name="Picture 5" descr=""/>
          <p:cNvPicPr/>
          <p:nvPr/>
        </p:nvPicPr>
        <p:blipFill>
          <a:blip r:embed="rId1"/>
          <a:stretch/>
        </p:blipFill>
        <p:spPr>
          <a:xfrm>
            <a:off x="2267640" y="1340640"/>
            <a:ext cx="46800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5661000"/>
            <a:ext cx="878472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</a:tabLst>
            </a:pPr>
            <a:r>
              <a:rPr b="1" lang="ru-RU" sz="2000" spc="-1" strike="noStrike" cap="all">
                <a:solidFill>
                  <a:srgbClr val="ff0000"/>
                </a:solidFill>
                <a:latin typeface="Corbel"/>
              </a:rPr>
              <a:t>Благодаря водоемам - на планете Земля мы   можем пить пресную воду.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755640" y="1412640"/>
            <a:ext cx="3024000" cy="33843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" descr=""/>
          <p:cNvPicPr/>
          <p:nvPr/>
        </p:nvPicPr>
        <p:blipFill>
          <a:blip r:embed="rId2"/>
          <a:stretch/>
        </p:blipFill>
        <p:spPr>
          <a:xfrm>
            <a:off x="5148000" y="1556640"/>
            <a:ext cx="3240000" cy="30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</a:tabLst>
            </a:pPr>
            <a:r>
              <a:rPr b="0" lang="ru-RU" sz="1400" spc="-1" strike="noStrike" cap="all">
                <a:solidFill>
                  <a:srgbClr val="ff0000"/>
                </a:solidFill>
                <a:latin typeface="Corbel"/>
              </a:rPr>
              <a:t> </a:t>
            </a:r>
            <a:r>
              <a:rPr b="1" lang="ru-RU" sz="1800" spc="-1" strike="noStrike" cap="all">
                <a:solidFill>
                  <a:srgbClr val="ff0000"/>
                </a:solidFill>
                <a:latin typeface="Corbel"/>
              </a:rPr>
              <a:t>Поэтому на планете Земля живут: люди, животные, птицы, рыбы, насекомые.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Picture 4" descr="https://im3-tub-ru.yandex.net/i?id=11ddae1cbfe17b0d13777741cb992e36&amp;n=33&amp;h=215&amp;w=280"/>
          <p:cNvPicPr/>
          <p:nvPr/>
        </p:nvPicPr>
        <p:blipFill>
          <a:blip r:embed="rId1"/>
          <a:stretch/>
        </p:blipFill>
        <p:spPr>
          <a:xfrm>
            <a:off x="3636000" y="2394720"/>
            <a:ext cx="1800000" cy="15836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"/>
          <p:cNvPicPr/>
          <p:nvPr/>
        </p:nvPicPr>
        <p:blipFill>
          <a:blip r:embed="rId2"/>
          <a:stretch/>
        </p:blipFill>
        <p:spPr>
          <a:xfrm>
            <a:off x="797760" y="1545120"/>
            <a:ext cx="2477520" cy="14515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3" descr=""/>
          <p:cNvPicPr/>
          <p:nvPr/>
        </p:nvPicPr>
        <p:blipFill>
          <a:blip r:embed="rId3"/>
          <a:stretch/>
        </p:blipFill>
        <p:spPr>
          <a:xfrm>
            <a:off x="899640" y="3880800"/>
            <a:ext cx="2376000" cy="21492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" descr=""/>
          <p:cNvPicPr/>
          <p:nvPr/>
        </p:nvPicPr>
        <p:blipFill>
          <a:blip r:embed="rId4"/>
          <a:stretch/>
        </p:blipFill>
        <p:spPr>
          <a:xfrm>
            <a:off x="5724000" y="1301400"/>
            <a:ext cx="3247560" cy="16952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"/>
          <p:cNvPicPr/>
          <p:nvPr/>
        </p:nvPicPr>
        <p:blipFill>
          <a:blip r:embed="rId5"/>
          <a:stretch/>
        </p:blipFill>
        <p:spPr>
          <a:xfrm>
            <a:off x="6156000" y="4062240"/>
            <a:ext cx="259200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85000"/>
              </a:lnSpc>
              <a:buNone/>
              <a:tabLst>
                <a:tab algn="l" pos="0"/>
              </a:tabLst>
            </a:pPr>
            <a:r>
              <a:rPr b="1" lang="ru-RU" sz="1800" spc="-1" strike="noStrike" cap="all">
                <a:solidFill>
                  <a:srgbClr val="ff0000"/>
                </a:solidFill>
                <a:latin typeface="Corbel"/>
              </a:rPr>
              <a:t> </a:t>
            </a:r>
            <a:r>
              <a:rPr b="1" lang="ru-RU" sz="1800" spc="-1" strike="noStrike" cap="all">
                <a:solidFill>
                  <a:srgbClr val="ff0000"/>
                </a:solidFill>
                <a:latin typeface="Corbel"/>
              </a:rPr>
              <a:t>На планете Земля растут:  деревья, цветы, ягоды, грибы, т.д.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395280" y="1596960"/>
            <a:ext cx="2881080" cy="18259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"/>
          <p:cNvPicPr/>
          <p:nvPr/>
        </p:nvPicPr>
        <p:blipFill>
          <a:blip r:embed="rId2"/>
          <a:stretch/>
        </p:blipFill>
        <p:spPr>
          <a:xfrm>
            <a:off x="251640" y="3933000"/>
            <a:ext cx="3024720" cy="21600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" descr=""/>
          <p:cNvPicPr/>
          <p:nvPr/>
        </p:nvPicPr>
        <p:blipFill>
          <a:blip r:embed="rId3"/>
          <a:stretch/>
        </p:blipFill>
        <p:spPr>
          <a:xfrm>
            <a:off x="5652000" y="1596960"/>
            <a:ext cx="2952000" cy="17596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5" descr=""/>
          <p:cNvPicPr/>
          <p:nvPr/>
        </p:nvPicPr>
        <p:blipFill>
          <a:blip r:embed="rId4"/>
          <a:stretch/>
        </p:blipFill>
        <p:spPr>
          <a:xfrm>
            <a:off x="5652000" y="3933000"/>
            <a:ext cx="2952000" cy="216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793080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</a:tabLst>
            </a:pPr>
            <a:r>
              <a:rPr b="1" lang="ru-RU" sz="2400" spc="-1" strike="noStrike" cap="all">
                <a:solidFill>
                  <a:srgbClr val="ff0000"/>
                </a:solidFill>
                <a:latin typeface="Corbel"/>
              </a:rPr>
              <a:t>Большая часть Земли покрыта водой</a:t>
            </a:r>
            <a:r>
              <a:rPr b="1" lang="ru-RU" sz="1400" spc="-1" strike="noStrike" cap="all">
                <a:solidFill>
                  <a:srgbClr val="099bdd"/>
                </a:solidFill>
                <a:latin typeface="Corbel"/>
              </a:rPr>
              <a:t>.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2046600" y="908640"/>
            <a:ext cx="4752000" cy="4104000"/>
          </a:xfrm>
          <a:prstGeom prst="rect">
            <a:avLst/>
          </a:prstGeom>
          <a:ln w="7620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каймление">
  <a:themeElements>
    <a:clrScheme name="Окаймление">
      <a:dk1>
        <a:srgbClr val="2c2c2c"/>
      </a:dk1>
      <a:lt1>
        <a:srgbClr val="ffffff"/>
      </a:lt1>
      <a:dk2>
        <a:srgbClr val="099bdd"/>
      </a:dk2>
      <a:lt2>
        <a:srgbClr val="f2f2f2"/>
      </a:lt2>
      <a:accent1>
        <a:srgbClr val="ffc000"/>
      </a:accent1>
      <a:accent2>
        <a:srgbClr val="a5d028"/>
      </a:accent2>
      <a:accent3>
        <a:srgbClr val="08cc78"/>
      </a:accent3>
      <a:accent4>
        <a:srgbClr val="f24099"/>
      </a:accent4>
      <a:accent5>
        <a:srgbClr val="828288"/>
      </a:accent5>
      <a:accent6>
        <a:srgbClr val="f56617"/>
      </a:accent6>
      <a:hlink>
        <a:srgbClr val="005dba"/>
      </a:hlink>
      <a:folHlink>
        <a:srgbClr val="6c606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каймление">
  <a:themeElements>
    <a:clrScheme name="Окаймление">
      <a:dk1>
        <a:srgbClr val="2c2c2c"/>
      </a:dk1>
      <a:lt1>
        <a:srgbClr val="ffffff"/>
      </a:lt1>
      <a:dk2>
        <a:srgbClr val="099bdd"/>
      </a:dk2>
      <a:lt2>
        <a:srgbClr val="f2f2f2"/>
      </a:lt2>
      <a:accent1>
        <a:srgbClr val="ffc000"/>
      </a:accent1>
      <a:accent2>
        <a:srgbClr val="a5d028"/>
      </a:accent2>
      <a:accent3>
        <a:srgbClr val="08cc78"/>
      </a:accent3>
      <a:accent4>
        <a:srgbClr val="f24099"/>
      </a:accent4>
      <a:accent5>
        <a:srgbClr val="828288"/>
      </a:accent5>
      <a:accent6>
        <a:srgbClr val="f56617"/>
      </a:accent6>
      <a:hlink>
        <a:srgbClr val="005dba"/>
      </a:hlink>
      <a:folHlink>
        <a:srgbClr val="6c606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Окаймление">
  <a:themeElements>
    <a:clrScheme name="Окаймление">
      <a:dk1>
        <a:srgbClr val="2c2c2c"/>
      </a:dk1>
      <a:lt1>
        <a:srgbClr val="ffffff"/>
      </a:lt1>
      <a:dk2>
        <a:srgbClr val="099bdd"/>
      </a:dk2>
      <a:lt2>
        <a:srgbClr val="f2f2f2"/>
      </a:lt2>
      <a:accent1>
        <a:srgbClr val="ffc000"/>
      </a:accent1>
      <a:accent2>
        <a:srgbClr val="a5d028"/>
      </a:accent2>
      <a:accent3>
        <a:srgbClr val="08cc78"/>
      </a:accent3>
      <a:accent4>
        <a:srgbClr val="f24099"/>
      </a:accent4>
      <a:accent5>
        <a:srgbClr val="828288"/>
      </a:accent5>
      <a:accent6>
        <a:srgbClr val="f56617"/>
      </a:accent6>
      <a:hlink>
        <a:srgbClr val="005dba"/>
      </a:hlink>
      <a:folHlink>
        <a:srgbClr val="6c606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Окаймление">
  <a:themeElements>
    <a:clrScheme name="Окаймление">
      <a:dk1>
        <a:srgbClr val="2c2c2c"/>
      </a:dk1>
      <a:lt1>
        <a:srgbClr val="ffffff"/>
      </a:lt1>
      <a:dk2>
        <a:srgbClr val="099bdd"/>
      </a:dk2>
      <a:lt2>
        <a:srgbClr val="f2f2f2"/>
      </a:lt2>
      <a:accent1>
        <a:srgbClr val="ffc000"/>
      </a:accent1>
      <a:accent2>
        <a:srgbClr val="a5d028"/>
      </a:accent2>
      <a:accent3>
        <a:srgbClr val="08cc78"/>
      </a:accent3>
      <a:accent4>
        <a:srgbClr val="f24099"/>
      </a:accent4>
      <a:accent5>
        <a:srgbClr val="828288"/>
      </a:accent5>
      <a:accent6>
        <a:srgbClr val="f56617"/>
      </a:accent6>
      <a:hlink>
        <a:srgbClr val="005dba"/>
      </a:hlink>
      <a:folHlink>
        <a:srgbClr val="6c606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Окаймление">
  <a:themeElements>
    <a:clrScheme name="Окаймление">
      <a:dk1>
        <a:srgbClr val="2c2c2c"/>
      </a:dk1>
      <a:lt1>
        <a:srgbClr val="ffffff"/>
      </a:lt1>
      <a:dk2>
        <a:srgbClr val="099bdd"/>
      </a:dk2>
      <a:lt2>
        <a:srgbClr val="f2f2f2"/>
      </a:lt2>
      <a:accent1>
        <a:srgbClr val="ffc000"/>
      </a:accent1>
      <a:accent2>
        <a:srgbClr val="a5d028"/>
      </a:accent2>
      <a:accent3>
        <a:srgbClr val="08cc78"/>
      </a:accent3>
      <a:accent4>
        <a:srgbClr val="f24099"/>
      </a:accent4>
      <a:accent5>
        <a:srgbClr val="828288"/>
      </a:accent5>
      <a:accent6>
        <a:srgbClr val="f56617"/>
      </a:accent6>
      <a:hlink>
        <a:srgbClr val="005dba"/>
      </a:hlink>
      <a:folHlink>
        <a:srgbClr val="6c606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Окаймление">
  <a:themeElements>
    <a:clrScheme name="Окаймление">
      <a:dk1>
        <a:srgbClr val="2c2c2c"/>
      </a:dk1>
      <a:lt1>
        <a:srgbClr val="ffffff"/>
      </a:lt1>
      <a:dk2>
        <a:srgbClr val="099bdd"/>
      </a:dk2>
      <a:lt2>
        <a:srgbClr val="f2f2f2"/>
      </a:lt2>
      <a:accent1>
        <a:srgbClr val="ffc000"/>
      </a:accent1>
      <a:accent2>
        <a:srgbClr val="a5d028"/>
      </a:accent2>
      <a:accent3>
        <a:srgbClr val="08cc78"/>
      </a:accent3>
      <a:accent4>
        <a:srgbClr val="f24099"/>
      </a:accent4>
      <a:accent5>
        <a:srgbClr val="828288"/>
      </a:accent5>
      <a:accent6>
        <a:srgbClr val="f56617"/>
      </a:accent6>
      <a:hlink>
        <a:srgbClr val="005dba"/>
      </a:hlink>
      <a:folHlink>
        <a:srgbClr val="6c606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Окаймление">
  <a:themeElements>
    <a:clrScheme name="Окаймление">
      <a:dk1>
        <a:srgbClr val="2c2c2c"/>
      </a:dk1>
      <a:lt1>
        <a:srgbClr val="ffffff"/>
      </a:lt1>
      <a:dk2>
        <a:srgbClr val="099bdd"/>
      </a:dk2>
      <a:lt2>
        <a:srgbClr val="f2f2f2"/>
      </a:lt2>
      <a:accent1>
        <a:srgbClr val="ffc000"/>
      </a:accent1>
      <a:accent2>
        <a:srgbClr val="a5d028"/>
      </a:accent2>
      <a:accent3>
        <a:srgbClr val="08cc78"/>
      </a:accent3>
      <a:accent4>
        <a:srgbClr val="f24099"/>
      </a:accent4>
      <a:accent5>
        <a:srgbClr val="828288"/>
      </a:accent5>
      <a:accent6>
        <a:srgbClr val="f56617"/>
      </a:accent6>
      <a:hlink>
        <a:srgbClr val="005dba"/>
      </a:hlink>
      <a:folHlink>
        <a:srgbClr val="6c606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99bdd"/>
      </a:dk2>
      <a:lt2>
        <a:srgbClr val="f2f2f2"/>
      </a:lt2>
      <a:accent1>
        <a:srgbClr val="ffc000"/>
      </a:accent1>
      <a:accent2>
        <a:srgbClr val="a5d028"/>
      </a:accent2>
      <a:accent3>
        <a:srgbClr val="08cc78"/>
      </a:accent3>
      <a:accent4>
        <a:srgbClr val="f24099"/>
      </a:accent4>
      <a:accent5>
        <a:srgbClr val="828288"/>
      </a:accent5>
      <a:accent6>
        <a:srgbClr val="f56617"/>
      </a:accent6>
      <a:hlink>
        <a:srgbClr val="005dba"/>
      </a:hlink>
      <a:folHlink>
        <a:srgbClr val="6c606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M03090430[[fn=Окаймление]]</Template>
  <TotalTime>1194</TotalTime>
  <Application>LibreOffice/7.4.7.2$Linux_X86_64 LibreOffice_project/40$Build-2</Application>
  <AppVersion>15.0000</AppVersion>
  <Words>437</Words>
  <Paragraphs>10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1T10:58:39Z</dcterms:created>
  <dc:creator>Инна</dc:creator>
  <dc:description/>
  <dc:language>en-US</dc:language>
  <cp:lastModifiedBy>Маргарита</cp:lastModifiedBy>
  <dcterms:modified xsi:type="dcterms:W3CDTF">2021-04-05T10:19:56Z</dcterms:modified>
  <cp:revision>129</cp:revision>
  <dc:subject/>
  <dc:title>Мы живем на планете Земля. Земля – это наш дом. По форме планета круглая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23</vt:r8>
  </property>
</Properties>
</file>