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8.jpeg" ContentType="image/jpeg"/>
  <Override PartName="/ppt/media/image30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29.jpeg" ContentType="image/jpeg"/>
  <Override PartName="/ppt/media/image3.wmf" ContentType="image/x-wmf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3EB6-5B9C-4BEF-80F3-03BE1EE68D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C243-4BEB-4453-AE27-B248A5BDA36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D5D-D1C4-45EF-90B8-1937630F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A15-083A-4456-B598-E5C8E8EB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8A6-73F2-490C-874A-52665DF5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98B-5F14-4D0C-A284-A7E4B27E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0206-A890-430A-A85A-C7082440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6BDA-29D7-47C4-BF07-825FFAF3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B90F-3D74-4370-A141-B74AFFDD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EEEF-DF78-4A4D-AA17-D4E45E93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3EBC-BD89-4228-A1D4-6079806E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C242-8DF4-4883-BD01-C548EC8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BE20-92A1-4218-B218-8995699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3B1-21F0-44BB-B542-9DFFE036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5FFF-9AB4-4DD1-B19C-CD084B9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5BD0-4778-4654-B74E-D288FA8A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BC92-1B95-406B-81DA-15581B32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F2BC-FDB5-4D79-B71E-59A242D4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57DA-7266-49FB-9996-FE8C60C9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92C-9348-4C45-96BB-1BB06AEA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9BA-66F0-4D56-8B60-FD21D6FD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758-B7C4-49A3-9016-5FF5DD59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097-93F5-47DC-A0D7-CF0F0CE5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789-FAA8-47B5-89C1-78D53316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2C8-DBD3-4E19-B2F4-54629A57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815-E5B8-4B27-9527-AA70CE40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6091-E019-4F9A-BEB2-402ADD05E75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01D1-14D6-48A2-B56E-2CCB6A4748A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573200" y="596880"/>
            <a:ext cx="7083360" cy="3871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929040" y="3716280"/>
            <a:ext cx="47577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971"/>
                </a:solidFill>
                <a:latin typeface="Times New Roman"/>
              </a:rPr>
              <a:t>Подготовили:</a:t>
            </a:r>
            <a:r>
              <a:rPr b="0" lang="ru-RU" sz="2000" spc="-1" strike="noStrike">
                <a:solidFill>
                  <a:srgbClr val="38297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Ханова А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руджова С.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BS00554_"/>
          <p:cNvPicPr/>
          <p:nvPr/>
        </p:nvPicPr>
        <p:blipFill>
          <a:blip r:embed="rId2"/>
          <a:stretch/>
        </p:blipFill>
        <p:spPr>
          <a:xfrm>
            <a:off x="428760" y="3500280"/>
            <a:ext cx="355284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ый этап – определение положительных и отрицательных свойств качества какого-либо предмета или явления, не вызывающих стойких ассоциаций у дет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торой этап – определение положительных и отрицательных свойств  предмета или явления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шь после того, как ребенок поймет, чего от него хотят взрослые, следует переходить к рассмотрению предметов и явлений, вызывающих стойкие ассоциац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5840" y="107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ью здоровьесберегающих технологий является 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доровьесберегающие педагогические технологии включают все аспекты воздействия педагога на здоровье ребенка на разных уровнях — информационном, психологическом, био­энергетическ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35712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доровьесберегащие технолог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14200" y="421488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G:\IMG-20201126-WA0015.jpg"/>
          <p:cNvPicPr/>
          <p:nvPr/>
        </p:nvPicPr>
        <p:blipFill>
          <a:blip r:embed="rId2"/>
          <a:stretch/>
        </p:blipFill>
        <p:spPr>
          <a:xfrm>
            <a:off x="5572080" y="421488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-360" y="1600200"/>
            <a:ext cx="89298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вающее обучение - направление в теории и практике образования,  ориентирующееся на развитие физических, познавательных и нравственных способностей воспитанников,  путём использования их потенциальных возможносте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Это мотивация на конкретное  действия, на познание, на нов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" descr="https://img-fotki.yandex.ru/get/9107/16969765.21b/0_8e460_97599e1c_orig.png"/>
          <p:cNvPicPr/>
          <p:nvPr/>
        </p:nvPicPr>
        <p:blipFill>
          <a:blip r:embed="rId2"/>
          <a:stretch/>
        </p:blipFill>
        <p:spPr>
          <a:xfrm>
            <a:off x="3643200" y="3836880"/>
            <a:ext cx="20718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3" descr=""/>
          <p:cNvPicPr/>
          <p:nvPr/>
        </p:nvPicPr>
        <p:blipFill>
          <a:blip r:embed="rId1"/>
          <a:stretch/>
        </p:blipFill>
        <p:spPr>
          <a:xfrm>
            <a:off x="457200" y="-49320"/>
            <a:ext cx="8229600" cy="1994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-214560" y="1599840"/>
            <a:ext cx="8901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чностно-ориентированные технологии представляют собой воплощение гуманистической философии, психологии и педагогики. В центре внимания педагога — уникальная целостная личность ребенка, стремящаяся к максимальной реализации своих возможностей, открытая для восприятия нового опыта, способная на осознанный и ответственный выбор в разнообразных жизненных ситуация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адиционных дидактических системах основой любой педагогической технологии является объяснение, а в личностно-ориентированном образовании — понимание и взаимопонима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бенку нужны педагогическая помощь и поддержка. Это ключевые слова в характеристике технологий личностно-ориентированного образ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14200" y="1599840"/>
            <a:ext cx="8715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уществуют четыре уровня проблемного обучен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Воспитатель сам ставит проблему (задачу) и сам решает её при активном слушании и обсуждении деть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Воспитатель ставит проблему, дети самостоятельно или под его руководством находят решение. Воспитатель направляет ребёнка на самостоятельные поиски путей решения (частично-поисковый метод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Ребёнок ставит проблему, воспитатель помогает её решить. У ребёнка воспитывается способность самостоятельно формулировать проблем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Ребёнок сам ставит проблему и сам её решает. Воспитатель даже не указывает на проблему: ребёнок должен увидеть её самостоятельно, а увидев, сформулировать и исследовать возможности и способы её решения. (Исследовательский метод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итоге воспитывается способность самостоятельно анализировать проблемную ситуацию, самостоятельно находить правильный отв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36080" cy="1719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14200" y="1600200"/>
            <a:ext cx="8715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Подбор иллюстративного материала к Н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Подбор дополнительного познавательного материа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Создание презентаций в программе Рower Рoint д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я эффективности образовательной деятельности 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ьми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28400" y="1600200"/>
            <a:ext cx="825804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грирование - соединяет знания из разных образовательных областей на равноправной основе, дополняя друг друга. При  этом  решается несколько задач развития. В форме интегрированной НОД  лучше проводить  обобщение материала, презентации тем, итоговые меропри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250920" y="26028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ческий подход, то есть новые педагогические технологии гарантируют достижения дошкольника и в дальнейшем гарантируют их успешное обучение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ый педагог – творец технологии, даже если имеет дело с заимствованиями. Создание технологии невозможно без творчества. Для педагога, научившегося работать на технологическом уровне, всегда будет главным ориентиром познавательный процесс в его развивающемся состоя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в наших руках, поэтому их нельзя опуск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500040" y="10731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fs.homegate.ru/file/253771.jpg"/>
          <p:cNvPicPr/>
          <p:nvPr/>
        </p:nvPicPr>
        <p:blipFill>
          <a:blip r:embed="rId2"/>
          <a:stretch/>
        </p:blipFill>
        <p:spPr>
          <a:xfrm>
            <a:off x="3071880" y="2149560"/>
            <a:ext cx="2984400" cy="4494240"/>
          </a:xfrm>
          <a:prstGeom prst="rect">
            <a:avLst/>
          </a:prstGeom>
          <a:ln w="0">
            <a:noFill/>
          </a:ln>
        </p:spPr>
      </p:pic>
      <p:pic>
        <p:nvPicPr>
          <p:cNvPr id="136" name="Прямоугольник 3" descr=""/>
          <p:cNvPicPr/>
          <p:nvPr/>
        </p:nvPicPr>
        <p:blipFill>
          <a:blip r:embed="rId3"/>
          <a:stretch/>
        </p:blipFill>
        <p:spPr>
          <a:xfrm>
            <a:off x="-212760" y="536400"/>
            <a:ext cx="91551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2498760" y="171360"/>
            <a:ext cx="5218200" cy="1663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00040" y="15714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это совокупность приемов,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мых в каком-либо деле, мастерстве, искусстве 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(толковый словарь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214200" y="4857840"/>
            <a:ext cx="2605320" cy="170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5929200" y="4286160"/>
            <a:ext cx="2766960" cy="225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4"/>
          <a:stretch/>
        </p:blipFill>
        <p:spPr>
          <a:xfrm>
            <a:off x="3000240" y="3000240"/>
            <a:ext cx="26956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00040" y="15001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(Б.Т.Лихачё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357120" y="35712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едагогическая (образовательная) технолог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1" descr="C:\Users\Сказка\Desktop\ФОТО АЙГУЛЬ\АЙГУЛЬ ФОТО\ФОТКИ МНЕ\IMG-20190402-WA0033.jpg"/>
          <p:cNvPicPr/>
          <p:nvPr/>
        </p:nvPicPr>
        <p:blipFill>
          <a:blip r:embed="rId1"/>
          <a:stretch/>
        </p:blipFill>
        <p:spPr>
          <a:xfrm>
            <a:off x="2928960" y="4286160"/>
            <a:ext cx="29764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07880" y="122400"/>
            <a:ext cx="8547120" cy="1676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нцептуаль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истем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правляем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Эффективн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оспроизводим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C:\Users\владелец\Desktop\картинки дети\e29297bfc9cf2436bc83206111607d51.png"/>
          <p:cNvPicPr/>
          <p:nvPr/>
        </p:nvPicPr>
        <p:blipFill>
          <a:blip r:embed="rId2"/>
          <a:stretch/>
        </p:blipFill>
        <p:spPr>
          <a:xfrm>
            <a:off x="6143760" y="4071960"/>
            <a:ext cx="2286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Концептуальная ча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это научная база технологии, т.е. психолого-педагогические идеи, которые заложены в ее фундамен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Содержательная ча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 – это общие, конкретные цели и содержание учебного матери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Процессуальная часть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окупность форм и методов учебной деятельности детей, методов и форм работы педагога, деятельности педагога по управлению процессом усвоения материала, диагностика обучающего процес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-12600" y="158760"/>
            <a:ext cx="9101160" cy="1127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57120" y="1071360"/>
            <a:ext cx="844416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уя проектную технологию в воспитании и обучении дошкольников, можно отметить, что организованная по ней жизнедеятельность в детском саду позволяет лучше узнать воспитанников, проникнуть во внутренний мир ребен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http://elochka19.ru/_si/0/50943137.png"/>
          <p:cNvPicPr/>
          <p:nvPr/>
        </p:nvPicPr>
        <p:blipFill>
          <a:blip r:embed="rId2"/>
          <a:stretch/>
        </p:blipFill>
        <p:spPr>
          <a:xfrm>
            <a:off x="3000240" y="4130640"/>
            <a:ext cx="38577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285840" y="7855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ится как целостное образование, охватывающее определенну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асть учебного процесса и объединенное общим содержание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южетом, персонажем. В нее включаются последовательно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ставление игровых технологий из отдельных игр и элементов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бота каждого воспит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643880" y="4143240"/>
            <a:ext cx="1278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388360" cy="1719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071440" y="1599840"/>
            <a:ext cx="66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ль исследовательской деятельности в детском саду - 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до отметить, что применение проектных технологий не может существовать без использования ТРИЗ-технологии (технологии решения изобретательских задач). Поэтому при организации работы над творческим проектом воспитанникам предлагается проблемная  задача, которую можно решить, что-то исследуя или проводя экспери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0" y="2714760"/>
            <a:ext cx="2398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179280" y="189000"/>
            <a:ext cx="8964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тоды и приемы организации экспериментально - исследовательской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я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вристические бесе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блюд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погружение» в краски, звуки, запахи и образы прир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ражание голосам и звукам прир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дактические игры, игровые обучающие и творчески развивающие ситу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овые поручения,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C:\Users\skazka\Desktop\Новая папка (2)\ф\IMG-20201126-WA0016.jpg"/>
          <p:cNvPicPr/>
          <p:nvPr/>
        </p:nvPicPr>
        <p:blipFill>
          <a:blip r:embed="rId1"/>
          <a:stretch/>
        </p:blipFill>
        <p:spPr>
          <a:xfrm>
            <a:off x="5715000" y="37148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1:37:25Z</dcterms:created>
  <dc:creator>1</dc:creator>
  <dc:description/>
  <dc:language>en-US</dc:language>
  <cp:lastModifiedBy>Адаптация</cp:lastModifiedBy>
  <dcterms:modified xsi:type="dcterms:W3CDTF">2021-04-05T07:35:09Z</dcterms:modified>
  <cp:revision>108</cp:revision>
  <dc:subject/>
  <dc:title>Слайд 1</dc:title>
</cp:coreProperties>
</file>