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8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6.jpeg" ContentType="image/jpeg"/>
  <Override PartName="/ppt/media/image13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29.jpeg" ContentType="image/jpeg"/>
  <Override PartName="/ppt/media/image3.wmf" ContentType="image/x-wmf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0DBD-2E1B-481D-8746-3E9DF2D178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5D81-DB3A-414B-AC89-100E4F10D6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DF9-886C-4DD3-882D-3DF5CC7A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DA1-33A9-487F-9197-A7D66DAA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E9E-C4C0-4F5C-AD52-4626FF65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EFF-18B5-4284-BD11-7F495DBC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103F-A63B-41F5-9C77-A873DE67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30D5-6C2F-4711-850A-77B0D652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891D-A915-4E80-A164-EC01679A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3287-EF8F-416D-A21C-79A8994F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8F93-0F64-4C34-B898-8DDCC76D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5F02-F2A4-4C9F-9084-E6C9125D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6E73-3676-4AE4-A58D-17E69155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DE5-3DB3-4F3F-90CB-D131BD5E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7468-00D4-4CDE-BDE7-DAFE64B7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8749-9AD2-457B-B17A-44530D70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302B-77D0-4B52-B618-C17664D9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BED4-9771-4200-A68F-B6F4BBE1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F50C-B2B0-4152-BBF6-3CCDCAA3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DC9-5C30-439C-93A6-561C5372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5C2-2E39-46CB-850B-DE7010A8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8C1-0E5F-4AB6-82F2-10AFA353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687-0E46-4ECA-926D-47F80F74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8F4-7B31-42CB-844B-12D8A17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BE2-314A-4A72-9864-EA551364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DF6-9FD4-40DD-B43F-9364EB70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A9CC-5A21-4C3E-B358-2BCDEFA52FC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1881-066D-461C-8C44-29B2551B6E1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573200" y="596880"/>
            <a:ext cx="7083360" cy="3871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929040" y="3716280"/>
            <a:ext cx="475776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2971"/>
                </a:solidFill>
                <a:latin typeface="Times New Roman"/>
              </a:rPr>
              <a:t>Подготовили:</a:t>
            </a:r>
            <a:r>
              <a:rPr b="0" lang="ru-RU" sz="2000" spc="-1" strike="noStrike">
                <a:solidFill>
                  <a:srgbClr val="38297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Ханова А.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Оруджова С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5" descr="BS00554_"/>
          <p:cNvPicPr/>
          <p:nvPr/>
        </p:nvPicPr>
        <p:blipFill>
          <a:blip r:embed="rId2"/>
          <a:stretch/>
        </p:blipFill>
        <p:spPr>
          <a:xfrm>
            <a:off x="428760" y="3500280"/>
            <a:ext cx="355284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ый этап – определение положительных и отрицательных свойств качества какого-либо предмета или явления, не вызывающих стойких ассоциаций у де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торой этап – определение положительных и отрицательных свойств  предмета или явления в це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шь после того, как ребенок поймет, чего от него хотят взрослые, следует переходить к рассмотрению предметов и явлений, вызывающих стойкие ассоци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85840" y="107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лью здоровьесберегающих технологий является обеспечение ребенку возможности сохранения здоровья, формирование у него необходимых знаний, умений, навыков по здоровому образу жиз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доровьесберегающие педагогические технологии включают все аспекты воздействия педагога на здоровье ребенка на разных уровнях — информационном, психологическом, био­энергетическо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0" y="35712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доровьесберегащие технолог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14200" y="4214880"/>
            <a:ext cx="3167280" cy="237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G:\IMG-20201126-WA0015.jpg"/>
          <p:cNvPicPr/>
          <p:nvPr/>
        </p:nvPicPr>
        <p:blipFill>
          <a:blip r:embed="rId2"/>
          <a:stretch/>
        </p:blipFill>
        <p:spPr>
          <a:xfrm>
            <a:off x="5572080" y="421488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-360" y="1600200"/>
            <a:ext cx="89298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вающее обучение - направление в теории и практике образования,  ориентирующееся на развитие физических, познавательных и нравственных способностей воспитанников,  путём использования их потенциальных возможносте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Это мотивация на конкретное  действия, на познание, на нов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" descr="https://img-fotki.yandex.ru/get/9107/16969765.21b/0_8e460_97599e1c_orig.png"/>
          <p:cNvPicPr/>
          <p:nvPr/>
        </p:nvPicPr>
        <p:blipFill>
          <a:blip r:embed="rId2"/>
          <a:stretch/>
        </p:blipFill>
        <p:spPr>
          <a:xfrm>
            <a:off x="3643200" y="3836880"/>
            <a:ext cx="20718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3" descr=""/>
          <p:cNvPicPr/>
          <p:nvPr/>
        </p:nvPicPr>
        <p:blipFill>
          <a:blip r:embed="rId1"/>
          <a:stretch/>
        </p:blipFill>
        <p:spPr>
          <a:xfrm>
            <a:off x="457200" y="-49320"/>
            <a:ext cx="8229600" cy="1994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-214560" y="1599840"/>
            <a:ext cx="8901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чностно-ориентированные технологии представляют собой воплощение гуманистической философии, психологии и педагогики. В центре внимания педагога — уникальная целостная личность ребенка, стремящаяся к максимальной реализации своих возможностей, открытая для восприятия нового опыта, способная на осознанный и ответственный выбор в разнообразных жизненных ситуация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адиционных дидактических системах основой любой педагогической технологии является объяснение, а в личностно-ориентированном образовании — понимание и взаимопонима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бенку нужны педагогическая помощь и поддержка. Это ключевые слова в характеристике технологий личностно-ориентированного образов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14200" y="1599840"/>
            <a:ext cx="8715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уществуют четыре уровня проблемного обучен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Воспитатель сам ставит проблему (задачу) и сам решает её при активном слушании и обсуждении деть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Воспитатель ставит проблему, дети самостоятельно или под его руководством находят решение. Воспитатель направляет ребёнка на самостоятельные поиски путей решения (частично-поисковый метод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Ребёнок ставит проблему, воспитатель помогает её решить. У ребёнка воспитывается способность самостоятельно формулировать проблем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Ребёнок сам ставит проблему и сам её решает. Воспитатель даже не указывает на проблему: ребёнок должен увидеть её самостоятельно, а увидев, сформулировать и исследовать возможности и способы её решения. (Исследовательский метод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итоге воспитывается способность самостоятельно анализировать проблемную ситуацию, самостоятельно находить правильный отв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36080" cy="1719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14200" y="1600200"/>
            <a:ext cx="8715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Подбор иллюстративного материала к Н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Подбор дополнительного познавательного материал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Создание презентаций в программе Рower Рoint д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ышения эффективности образовательной деятельности 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ьми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28400" y="1600200"/>
            <a:ext cx="825804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тегрирование - соединяет знания из разных образовательных областей на равноправной основе, дополняя друг друга. При  этом  решается несколько задач развития. В форме интегрированной НОД  лучше проводить  обобщение материала, презентации тем, итоговые мероприят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3"/>
          <p:cNvSpPr/>
          <p:nvPr/>
        </p:nvSpPr>
        <p:spPr>
          <a:xfrm>
            <a:off x="250920" y="260280"/>
            <a:ext cx="86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еский подход, то есть новые педагогические технологии гарантируют достижения дошкольника и в дальнейшем гарантируют их успешное обучение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педагог – творец технологии, даже если имеет дело с заимствованиями. Создание технологии невозможно без творчества. Для педагога, научившегося работать на технологическом уровне, всегда будет главным ориентиром познавательный процесс в его развивающемся состоя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в наших руках, поэтому их нельзя опуск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500040" y="10731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fs.homegate.ru/file/253771.jpg"/>
          <p:cNvPicPr/>
          <p:nvPr/>
        </p:nvPicPr>
        <p:blipFill>
          <a:blip r:embed="rId2"/>
          <a:stretch/>
        </p:blipFill>
        <p:spPr>
          <a:xfrm>
            <a:off x="3071880" y="2149560"/>
            <a:ext cx="2984400" cy="449424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3" descr=""/>
          <p:cNvPicPr/>
          <p:nvPr/>
        </p:nvPicPr>
        <p:blipFill>
          <a:blip r:embed="rId3"/>
          <a:stretch/>
        </p:blipFill>
        <p:spPr>
          <a:xfrm>
            <a:off x="-212760" y="536400"/>
            <a:ext cx="91551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2498760" y="171360"/>
            <a:ext cx="5218200" cy="1663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00040" y="15714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это совокупность приемов,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емых в каком-либо деле, мастерстве, искусстве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(толковый словарь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214200" y="4857840"/>
            <a:ext cx="2605320" cy="170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5929200" y="4286160"/>
            <a:ext cx="2766960" cy="2259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4"/>
          <a:stretch/>
        </p:blipFill>
        <p:spPr>
          <a:xfrm>
            <a:off x="3000240" y="3000240"/>
            <a:ext cx="26956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00040" y="150012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совокупность психолого-педагогических установок, определяющих специальный набор и компоновку форм, методов, способов, приёмов обучения, воспитательных средств; она есть организационно - методический инструментарий педагогического процесса .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(Б.Т.Лихачё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357120" y="35712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едагогическая (образовательная) технолог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1" descr="C:\Users\Сказка\Desktop\ФОТО АЙГУЛЬ\АЙГУЛЬ ФОТО\ФОТКИ МНЕ\IMG-20190402-WA0033.jpg"/>
          <p:cNvPicPr/>
          <p:nvPr/>
        </p:nvPicPr>
        <p:blipFill>
          <a:blip r:embed="rId1"/>
          <a:stretch/>
        </p:blipFill>
        <p:spPr>
          <a:xfrm>
            <a:off x="2928960" y="4286160"/>
            <a:ext cx="29764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07880" y="122400"/>
            <a:ext cx="8547120" cy="1676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онцептуаль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истем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Управляем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Эффектив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спроизводим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3" descr="C:\Users\владелец\Desktop\картинки дети\e29297bfc9cf2436bc83206111607d51.png"/>
          <p:cNvPicPr/>
          <p:nvPr/>
        </p:nvPicPr>
        <p:blipFill>
          <a:blip r:embed="rId2"/>
          <a:stretch/>
        </p:blipFill>
        <p:spPr>
          <a:xfrm>
            <a:off x="6143760" y="4071960"/>
            <a:ext cx="22860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Концептуальная часть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это научная база технологии, т.е. психолого-педагогические идеи, которые заложены в ее фундамен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Содержательная ча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 – это общие, конкретные цели и содержание учебного матери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Процессуальная часть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окупность форм и методов учебной деятельности детей, методов и форм работы педагога, деятельности педагога по управлению процессом усвоения материала, диагностика обучающего процес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-12600" y="158760"/>
            <a:ext cx="9101160" cy="1127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57120" y="1071360"/>
            <a:ext cx="844416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ль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уя проектную технологию в воспитании и обучении дошкольников, можно отметить, что организованная по ней жизнедеятельность в детском саду позволяет лучше узнать воспитанников, проникнуть во внутренний мир ребен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http://elochka19.ru/_si/0/50943137.png"/>
          <p:cNvPicPr/>
          <p:nvPr/>
        </p:nvPicPr>
        <p:blipFill>
          <a:blip r:embed="rId2"/>
          <a:stretch/>
        </p:blipFill>
        <p:spPr>
          <a:xfrm>
            <a:off x="3000240" y="4130640"/>
            <a:ext cx="38577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-7920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285840" y="7855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оится как целостное образование, охватывающее определенну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асть учебного процесса и объединенное общим содержание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южетом, персонажем. В нее включаются последовательно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игр на обобщение предметов по определенным признакам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игр, воспитывающих умение владеть собой, быстроту реакции на слово, фонематический слух, смекалку и д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ставление игровых технологий из отдельных игр и элементов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бота каждого воспитате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7643880" y="4143240"/>
            <a:ext cx="1278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388360" cy="1719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071440" y="1599840"/>
            <a:ext cx="66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ль исследовательской деятельности в детском саду - сформировать у дошкольников основные ключевые компетенции, способность к исследовательскому типу мыш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до отметить, что применение проектных технологий не может существовать без использования ТРИЗ-технологии (технологии решения изобретательских задач). Поэтому при организации работы над творческим проектом воспитанникам предлагается проблемная  задача, которую можно решить, что-то исследуя или проводя эксперим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0" y="2714760"/>
            <a:ext cx="23986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3"/>
          <p:cNvSpPr/>
          <p:nvPr/>
        </p:nvSpPr>
        <p:spPr>
          <a:xfrm>
            <a:off x="179280" y="189000"/>
            <a:ext cx="89647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тоды и приемы организации экспериментально - исследовательской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ятельн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вристические бесе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ановка и решение вопросов проблемного характе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блюд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погружение» в краски, звуки, запахи и образы прир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ражание голосам и звукам прир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дактические игры, игровые обучающие и творчески развивающие ситу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овые поручения, 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C:\Users\skazka\Desktop\Новая папка (2)\ф\IMG-20201126-WA0016.jpg"/>
          <p:cNvPicPr/>
          <p:nvPr/>
        </p:nvPicPr>
        <p:blipFill>
          <a:blip r:embed="rId1"/>
          <a:stretch/>
        </p:blipFill>
        <p:spPr>
          <a:xfrm>
            <a:off x="5715000" y="371484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1:37:25Z</dcterms:created>
  <dc:creator>1</dc:creator>
  <dc:description/>
  <dc:language>en-US</dc:language>
  <cp:lastModifiedBy>Адаптация</cp:lastModifiedBy>
  <dcterms:modified xsi:type="dcterms:W3CDTF">2021-04-05T07:35:09Z</dcterms:modified>
  <cp:revision>108</cp:revision>
  <dc:subject/>
  <dc:title>Слайд 1</dc:title>
</cp:coreProperties>
</file>