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440338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63800" y="685440"/>
            <a:ext cx="4730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600F-67F5-4FD5-B982-DD4780CA92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063800" y="685800"/>
            <a:ext cx="47304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1589040"/>
                <a:tab algn="l" pos="3178080"/>
                <a:tab algn="l" pos="4767120"/>
                <a:tab algn="l" pos="6356520"/>
                <a:tab algn="l" pos="7945560"/>
                <a:tab algn="l" pos="9534600"/>
              </a:tabLst>
            </a:pP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0F3-7A1A-467E-981B-80045AD1B5EF}" type="slidenum">
              <a:rPr b="0" lang="ru-R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B9DC-C666-4928-ADF2-8D67DA9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DABD-5DBC-46FE-9F00-B594E8A9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D8B9-D04F-4D01-AA3A-F828009E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6659-95B0-4681-A65C-403C5C9D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2E99-5A27-4D4E-B935-71E57F2E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CBF-9F88-4347-9D0C-4FDAF923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2E2-D809-4F04-AEAC-26CA261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18D0-2603-4510-9CF3-8709EBD9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3B6-1120-43C3-818C-09B4DB6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9F69-4DAE-49AD-9B9F-FA499539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01A7-EFDA-4C2E-B064-75A7527A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9DF53-2CFF-45CE-81B2-481A876E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63DC-4A2F-485F-ADDC-D2EF7F98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2BE-7B7A-4DA7-969F-7E06445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92F9-3B2B-40A2-A742-EAA15B6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8E3-B4AB-4724-B397-607B465C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3730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6280" y="30157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6398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63730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10106280" y="6288120"/>
            <a:ext cx="35550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7609-5DC3-4C26-979A-4660223F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550C-BA9F-4DB8-8348-44BBC493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D421-FC75-4357-AC21-95FBB49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8093-AB88-4DD5-9F39-136A9133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639880" y="695160"/>
            <a:ext cx="11041200" cy="91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2D0B-CF21-45BA-BA37-8FA00C2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DC28-F11F-4603-A7C1-B7C3084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97280" y="62881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FF59-597E-49C6-8C4B-4A45311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98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297280" y="3015720"/>
            <a:ext cx="538776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9880" y="6288120"/>
            <a:ext cx="11041200" cy="2988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86C7-F738-4ECF-8EFA-56DADD6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437-0C48-4ACD-83FA-21EBA8C1EA03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0360" y="463680"/>
            <a:ext cx="135619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60360" y="695160"/>
            <a:ext cx="1961640" cy="2089080"/>
            <a:chOff x="360360" y="695160"/>
            <a:chExt cx="1961640" cy="2089080"/>
          </a:xfrm>
        </p:grpSpPr>
        <p:sp>
          <p:nvSpPr>
            <p:cNvPr id="7" name="Rectangle 9"/>
            <p:cNvSpPr/>
            <p:nvPr/>
          </p:nvSpPr>
          <p:spPr>
            <a:xfrm>
              <a:off x="1472040" y="695160"/>
              <a:ext cx="70200" cy="12913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315080" y="695160"/>
              <a:ext cx="71640" cy="1136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154520" y="695160"/>
              <a:ext cx="70200" cy="969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994680" y="695160"/>
              <a:ext cx="70200" cy="8074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837360" y="695160"/>
              <a:ext cx="70200" cy="650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77520" y="695160"/>
              <a:ext cx="70200" cy="476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17680" y="695160"/>
              <a:ext cx="72360" cy="32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360360" y="695160"/>
              <a:ext cx="69480" cy="164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632240" y="695160"/>
              <a:ext cx="64440" cy="1447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787040" y="695160"/>
              <a:ext cx="65160" cy="16124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939320" y="695160"/>
              <a:ext cx="67320" cy="1767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097000" y="695160"/>
              <a:ext cx="69480" cy="19342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254680" y="695160"/>
              <a:ext cx="67320" cy="2089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720360" y="9507240"/>
            <a:ext cx="3359160" cy="7254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360360" y="1508040"/>
            <a:ext cx="13561920" cy="0"/>
          </a:xfrm>
          <a:prstGeom prst="line">
            <a:avLst/>
          </a:prstGeom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360360" y="2203560"/>
            <a:ext cx="3600000" cy="3828600"/>
            <a:chOff x="360360" y="2203560"/>
            <a:chExt cx="3600000" cy="3828600"/>
          </a:xfrm>
        </p:grpSpPr>
        <p:sp>
          <p:nvSpPr>
            <p:cNvPr id="59" name="Rectangle 9"/>
            <p:cNvSpPr/>
            <p:nvPr/>
          </p:nvSpPr>
          <p:spPr>
            <a:xfrm>
              <a:off x="2400120" y="2203560"/>
              <a:ext cx="130320" cy="2366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2110320" y="2203560"/>
              <a:ext cx="127440" cy="20804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817640" y="2203560"/>
              <a:ext cx="129600" cy="1778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1525320" y="2203560"/>
              <a:ext cx="129600" cy="1478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1235160" y="2203560"/>
              <a:ext cx="130320" cy="1191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942480" y="2203560"/>
              <a:ext cx="130320" cy="872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650520" y="2203560"/>
              <a:ext cx="129600" cy="601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360360" y="2203560"/>
              <a:ext cx="129600" cy="30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2692800" y="2203560"/>
              <a:ext cx="125280" cy="26539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2977920" y="2203560"/>
              <a:ext cx="122400" cy="295596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3260160" y="2203560"/>
              <a:ext cx="122400" cy="3241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3545280" y="2203560"/>
              <a:ext cx="127440" cy="35431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3837960" y="2203560"/>
              <a:ext cx="122400" cy="38286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420840" y="9396360"/>
            <a:ext cx="1356012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8760" rIns="158760" tIns="-79200" bIns="-792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2639880" y="3015720"/>
            <a:ext cx="11041200" cy="6264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9000"/>
          </a:bodyPr>
          <a:p>
            <a:pPr marL="589320" indent="-589320">
              <a:spcBef>
                <a:spcPts val="1225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1" marL="1277640" indent="-49032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2" marL="19659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3" marL="275328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4" marL="3539160" indent="-392760">
              <a:spcBef>
                <a:spcPts val="1225"/>
              </a:spcBef>
              <a:buClr>
                <a:srgbClr val="66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5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lvl="6" marL="3539160" indent="-392760">
              <a:spcBef>
                <a:spcPts val="1225"/>
              </a:spcBef>
              <a:buClr>
                <a:srgbClr val="ffff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7203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920840" y="9512280"/>
            <a:ext cx="455940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0321560" y="9512280"/>
            <a:ext cx="3359160" cy="6969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1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C468-7AC5-429A-87D2-894BF5912F40}" type="slidenum">
              <a:rPr b="0" lang="ru-RU" sz="21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39880" y="3015720"/>
            <a:ext cx="11041200" cy="626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s://ds05.infourok.ru/uploads/ex/0255/001007e4-8c2a89b1/img3.jpg"/>
          <p:cNvPicPr/>
          <p:nvPr/>
        </p:nvPicPr>
        <p:blipFill>
          <a:blip r:embed="rId2"/>
          <a:stretch/>
        </p:blipFill>
        <p:spPr>
          <a:xfrm>
            <a:off x="0" y="0"/>
            <a:ext cx="14401800" cy="1038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1600" y="2486160"/>
            <a:ext cx="13052520" cy="68673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Лягушк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деление звука из ряда гласных: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а, и, у, ю, я, э. «Будешь прыгать как лягушка, если услышишь «а», на другие звуки опускаешь низко руки».     По аналогии проводиться игра на другие     гласные звуки. Позже можно проводить     игру на согласные звук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7" descr="Картинка 103 из 761"/>
          <p:cNvPicPr/>
          <p:nvPr/>
        </p:nvPicPr>
        <p:blipFill>
          <a:blip r:embed="rId1"/>
          <a:stretch/>
        </p:blipFill>
        <p:spPr>
          <a:xfrm>
            <a:off x="10734840" y="1574640"/>
            <a:ext cx="3403440" cy="3289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звуковой культуры реч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2827440"/>
            <a:ext cx="12489120" cy="6526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Игра с мячом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Я буду называть предметы и бросать тебе мяч. Ты будешь ловить только тогда, когда в слове услышишь звук «ж» (называете любой звук). Если в слове звука нет, то мяч ловить не надо. Начинаем..»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8" name="Picture 6" descr="i?id=244188485-53-72"/>
          <p:cNvPicPr/>
          <p:nvPr/>
        </p:nvPicPr>
        <p:blipFill>
          <a:blip r:embed="rId1"/>
          <a:stretch/>
        </p:blipFill>
        <p:spPr>
          <a:xfrm>
            <a:off x="10109160" y="544680"/>
            <a:ext cx="39146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836640"/>
            <a:ext cx="11160360" cy="15350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Игры на развитие мелкой моторики рук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320560"/>
            <a:ext cx="13501800" cy="6923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омогаю маме или папе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Большую часть времени вы проводите на кухне. Малыш крутится возле вас. Предложите ему перебрать горох, рис, гречку. Тем самым он окажет вам посильную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омощь и потренирует свои 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пальчики</a:t>
            </a: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1" name="Picture 6" descr="0_5457d_6e91b291_XL"/>
          <p:cNvPicPr/>
          <p:nvPr/>
        </p:nvPicPr>
        <p:blipFill>
          <a:blip r:embed="rId1"/>
          <a:stretch/>
        </p:blipFill>
        <p:spPr>
          <a:xfrm>
            <a:off x="9675720" y="6634080"/>
            <a:ext cx="42228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87320" y="1739520"/>
            <a:ext cx="12714480" cy="76136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пал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йте ребенку счетные палочки. Пусть он выкладывает из них простейшие геометрические фигуры, узоры, буквы, предметы. А дополнить можно вырезанными из бумаги деталям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53" name="Picture 12" descr="0_54594_1da35c40_XL"/>
          <p:cNvPicPr/>
          <p:nvPr/>
        </p:nvPicPr>
        <p:blipFill>
          <a:blip r:embed="rId1"/>
          <a:stretch/>
        </p:blipFill>
        <p:spPr>
          <a:xfrm>
            <a:off x="10209240" y="6048360"/>
            <a:ext cx="39020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39880" y="694800"/>
            <a:ext cx="11041200" cy="13813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Как и во что играют мальчики и девочки? 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1440" y="2647800"/>
            <a:ext cx="7500960" cy="7074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-595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Девочки: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Дочки-матери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Парикмахер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Салон красоты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Доктор»,«Больница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Магазин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  <a:p>
            <a:pPr marL="595440" indent="-595440">
              <a:spcBef>
                <a:spcPts val="10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«Барби»</a:t>
            </a:r>
            <a:endParaRPr b="0" lang="en-US" sz="4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772040" y="2505240"/>
            <a:ext cx="6629400" cy="7145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 fontScale="97000"/>
          </a:bodyPr>
          <a:p>
            <a:pPr marL="577440" indent="-577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Мальчики: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Корабль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Автобус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Гараж», «Такс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Подводная лодка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троитель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пасател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Войнушка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Гонк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ледователи»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  <a:p>
            <a:pPr marL="577440" indent="-577440">
              <a:spcBef>
                <a:spcPts val="901"/>
              </a:spcBef>
              <a:buClr>
                <a:srgbClr val="6600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«Супергерои».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12680" y="2719080"/>
            <a:ext cx="12668400" cy="65610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0000"/>
                </a:solidFill>
                <a:latin typeface="Arial"/>
              </a:rPr>
              <a:t>«Домашняя игротека по развитию речи»</a:t>
            </a:r>
            <a:endParaRPr b="0" lang="en-US" sz="6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r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29" name="Picture 4" descr="web-tutor_jpg_1296906cl-8"/>
          <p:cNvPicPr/>
          <p:nvPr/>
        </p:nvPicPr>
        <p:blipFill>
          <a:blip r:embed="rId1"/>
          <a:stretch/>
        </p:blipFill>
        <p:spPr>
          <a:xfrm>
            <a:off x="3200400" y="5578560"/>
            <a:ext cx="72867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39880" y="695160"/>
            <a:ext cx="11041200" cy="197352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ff"/>
                </a:solidFill>
                <a:latin typeface="Arial"/>
              </a:rPr>
              <a:t>Игры на обогащение словаря ребенка</a:t>
            </a:r>
            <a:endParaRPr b="0" lang="en-US" sz="4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2403360"/>
            <a:ext cx="13628520" cy="695016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оскажи словечко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ы начинаете фразу, а ребенок заканчивает ее. Например: ворона каркает, а воробей …(чирикает). Сова летает, а заяц…(бегает, прыгает). У коровы теленок, а у лошади   …(жеребенок)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2" name="Picture 5" descr="Картинка 200 из 760"/>
          <p:cNvPicPr/>
          <p:nvPr/>
        </p:nvPicPr>
        <p:blipFill>
          <a:blip r:embed="rId1"/>
          <a:stretch/>
        </p:blipFill>
        <p:spPr>
          <a:xfrm>
            <a:off x="10688760" y="6308640"/>
            <a:ext cx="37130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12320" y="2320560"/>
            <a:ext cx="12601800" cy="703260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ru-RU" sz="4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Давай искать на кухне слова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На кухне можно проводить игры на обогащение словаря ребенк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Какие слова можно вынуть из борща?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Винегрета? Кухонного шкафа? Плиты? и пр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4" name="Picture 5" descr="Картинка 179 из 760"/>
          <p:cNvPicPr/>
          <p:nvPr/>
        </p:nvPicPr>
        <p:blipFill>
          <a:blip r:embed="rId1"/>
          <a:stretch/>
        </p:blipFill>
        <p:spPr>
          <a:xfrm>
            <a:off x="11111040" y="1906560"/>
            <a:ext cx="361296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38040" y="1574640"/>
            <a:ext cx="10688760" cy="77788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Угощаю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вспомним слова и угостим друг друга. Ребенок называет «вкусное» слово и кладет вам на ладошку, затем вы ему, и так до тех пор, пока все не «съедите». Можно поиграть                        в «сладкие», «кислые», «соленые», «горькие» слова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6" name="Picture 7" descr="0_5456f_5f67a090_XL"/>
          <p:cNvPicPr/>
          <p:nvPr/>
        </p:nvPicPr>
        <p:blipFill>
          <a:blip r:embed="rId1"/>
          <a:stretch/>
        </p:blipFill>
        <p:spPr>
          <a:xfrm>
            <a:off x="338040" y="5764320"/>
            <a:ext cx="328932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2153880"/>
            <a:ext cx="13952520" cy="71722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Я заметил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 algn="just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Давай проверим кто из нас самый внимательный. Будем называть предметы, мимо которых мы проходим, а еще обязательно укажем какие они. Вот почтовый ящик – он синий. Я заметил кошку – она пушистая. Ребенок и взрослый могут называть увиденные объекты по очереди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8" name="Picture 8" descr="Картинка 21 из 765"/>
          <p:cNvPicPr/>
          <p:nvPr/>
        </p:nvPicPr>
        <p:blipFill>
          <a:blip r:embed="rId1"/>
          <a:stretch/>
        </p:blipFill>
        <p:spPr>
          <a:xfrm>
            <a:off x="10831680" y="378000"/>
            <a:ext cx="3232080" cy="34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2719440"/>
            <a:ext cx="13501800" cy="663408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Приготовим сок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Из яблок…(яблочный); из груш…(грушевый); из моркови, сливы, вишни, апельсина, лимона и т.п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Справились? А теперь наоборот : апельсиновый сок из чего? И т.д.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0" name="Picture 5" descr="0_54574_f703ed54_XL"/>
          <p:cNvPicPr/>
          <p:nvPr/>
        </p:nvPicPr>
        <p:blipFill>
          <a:blip r:embed="rId1"/>
          <a:stretch/>
        </p:blipFill>
        <p:spPr>
          <a:xfrm>
            <a:off x="10576080" y="5981760"/>
            <a:ext cx="35128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12320" y="2236320"/>
            <a:ext cx="12601800" cy="7116840"/>
          </a:xfrm>
          <a:prstGeom prst="rect">
            <a:avLst/>
          </a:prstGeom>
          <a:noFill/>
          <a:ln w="0">
            <a:noFill/>
          </a:ln>
        </p:spPr>
        <p:txBody>
          <a:bodyPr lIns="159120" rIns="159120" tIns="79560" bIns="79560" anchor="t">
            <a:normAutofit/>
          </a:bodyPr>
          <a:p>
            <a:pPr marL="595440"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66"/>
                </a:solidFill>
                <a:latin typeface="Arial"/>
              </a:rPr>
              <a:t>«Волшебные очки»</a:t>
            </a:r>
            <a:endParaRPr b="0" lang="en-US" sz="6200" spc="-1" strike="noStrike">
              <a:solidFill>
                <a:srgbClr val="0066ff"/>
              </a:solidFill>
              <a:latin typeface="Arial"/>
            </a:endParaRPr>
          </a:p>
          <a:p>
            <a:pPr marL="5954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4900" spc="-1" strike="noStrike">
                <a:solidFill>
                  <a:srgbClr val="000066"/>
                </a:solidFill>
                <a:latin typeface="Arial"/>
              </a:rPr>
              <a:t>«Представь, что у нас есть волшебные очки. Когда их надеваешь, то все становиться красным (синим, зеленым, прозрачным и т.д.).Посмотри вокруг, какого цвета все стало скажи?»(красный   стол и пр.)</a:t>
            </a:r>
            <a:endParaRPr b="0" lang="en-US" sz="49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2" name="Picture 5" descr="Картинка 31 из 765"/>
          <p:cNvPicPr/>
          <p:nvPr/>
        </p:nvPicPr>
        <p:blipFill>
          <a:blip r:embed="rId1"/>
          <a:stretch/>
        </p:blipFill>
        <p:spPr>
          <a:xfrm>
            <a:off x="11171160" y="836640"/>
            <a:ext cx="2492280" cy="24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0_4d62d_746d092c_M"/>
          <p:cNvPicPr/>
          <p:nvPr/>
        </p:nvPicPr>
        <p:blipFill>
          <a:blip r:embed="rId2"/>
          <a:stretch/>
        </p:blipFill>
        <p:spPr>
          <a:xfrm>
            <a:off x="4643280" y="7375680"/>
            <a:ext cx="260856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8:06:19Z</dcterms:created>
  <dc:creator>кузя</dc:creator>
  <dc:description/>
  <dc:language>en-US</dc:language>
  <cp:lastModifiedBy>Surgut</cp:lastModifiedBy>
  <dcterms:modified xsi:type="dcterms:W3CDTF">2021-03-08T02:54:13Z</dcterms:modified>
  <cp:revision>24</cp:revision>
  <dc:subject/>
  <dc:title>Презентация для родителей</dc:title>
</cp:coreProperties>
</file>