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440338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063800" y="685440"/>
            <a:ext cx="4730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1589040"/>
                <a:tab algn="l" pos="3178080"/>
                <a:tab algn="l" pos="4767120"/>
                <a:tab algn="l" pos="6356520"/>
                <a:tab algn="l" pos="7945560"/>
                <a:tab algn="l" pos="9534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C0D2-882E-47A7-A7C2-24597FBC91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063800" y="685800"/>
            <a:ext cx="47304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1589040"/>
                <a:tab algn="l" pos="3178080"/>
                <a:tab algn="l" pos="4767120"/>
                <a:tab algn="l" pos="6356520"/>
                <a:tab algn="l" pos="7945560"/>
                <a:tab algn="l" pos="953460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C27B-B8CD-406D-A3DB-3B52F9EDA35A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EC4CE-6540-40B1-990C-1C089314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39880" y="62881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4C542-E9FC-44FD-982F-CF3196CA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2972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F380-9336-4EC7-A871-4E14E69F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30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1062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6398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63730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101062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CF84A-1237-427D-9AD2-F675B3D4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31B4-EAF1-4301-AB05-93BC11D2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8A4F-CD0C-49A8-89B9-A87374E5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EEC3-9C18-4009-A68A-912AB189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5EF6-3429-4D71-8719-C44409F1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9204-DCBA-425B-9FA3-260CB128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639880" y="695160"/>
            <a:ext cx="11041200" cy="91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79B1-A84F-4F28-9A65-74A12D4A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DC0F-02FA-4F13-A2E5-E5C0950E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C48F-42D6-43BF-8D45-1BC1707A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2972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7AAD-6468-4A9A-96C3-722AB382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7BE3-9857-4979-A9EE-CF7C495E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639880" y="62881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6750-26F0-4B44-9612-60148FD0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82972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8C5C-ADA2-45A2-B142-BE6BC398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3730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1062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6398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63730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101062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0557-9830-448F-9601-82D08145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E321-BD54-441F-BB81-028CCB0C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6C30A-C9AC-47D8-A76D-40831E16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56EE-DE4D-4E27-844C-11107B08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639880" y="695160"/>
            <a:ext cx="11041200" cy="91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C9607-5F6B-410F-BE18-FF42953D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11E7-772F-4864-A120-76B2EAC2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972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550B2-060C-4AB8-B5C5-CA05CD72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55D8A-3C5C-4C96-8584-C98CF27F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 fontScale="99000"/>
          </a:bodyPr>
          <a:p>
            <a:pPr marL="589320" indent="-589320">
              <a:spcBef>
                <a:spcPts val="1225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1" marL="1277640" indent="-49032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2" marL="196596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3" marL="275328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4" marL="353916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5" marL="3539160" indent="-392760"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6" marL="3539160" indent="-392760"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20840" y="9512280"/>
            <a:ext cx="455940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0321560" y="9512280"/>
            <a:ext cx="335916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1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1B54-CD13-4A92-8364-54307738CDC6}" type="slidenum">
              <a:rPr b="0" lang="ru-RU" sz="21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420840" y="9396360"/>
            <a:ext cx="1356012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760" rIns="158760" tIns="-79200" bIns="-79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0360" y="463680"/>
            <a:ext cx="1356192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760" rIns="158760" tIns="-79200" bIns="-79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60360" y="695160"/>
            <a:ext cx="1961640" cy="2089080"/>
            <a:chOff x="360360" y="695160"/>
            <a:chExt cx="1961640" cy="2089080"/>
          </a:xfrm>
        </p:grpSpPr>
        <p:sp>
          <p:nvSpPr>
            <p:cNvPr id="7" name="Rectangle 9"/>
            <p:cNvSpPr/>
            <p:nvPr/>
          </p:nvSpPr>
          <p:spPr>
            <a:xfrm>
              <a:off x="1472040" y="695160"/>
              <a:ext cx="70200" cy="12913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315080" y="695160"/>
              <a:ext cx="71640" cy="1136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154520" y="695160"/>
              <a:ext cx="70200" cy="9694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994680" y="695160"/>
              <a:ext cx="70200" cy="8074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837360" y="695160"/>
              <a:ext cx="70200" cy="6501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77520" y="695160"/>
              <a:ext cx="70200" cy="4762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17680" y="695160"/>
              <a:ext cx="72360" cy="328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60360" y="695160"/>
              <a:ext cx="69480" cy="1641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632240" y="695160"/>
              <a:ext cx="64440" cy="14479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787040" y="695160"/>
              <a:ext cx="65160" cy="16124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939320" y="695160"/>
              <a:ext cx="67320" cy="17676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097000" y="695160"/>
              <a:ext cx="69480" cy="19342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254680" y="695160"/>
              <a:ext cx="67320" cy="2089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720360" y="9507240"/>
            <a:ext cx="3359160" cy="7254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60360" y="1508040"/>
            <a:ext cx="13561920" cy="0"/>
          </a:xfrm>
          <a:prstGeom prst="line">
            <a:avLst/>
          </a:prstGeom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760" rIns="158760" tIns="-79200" bIns="-79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60360" y="2203560"/>
            <a:ext cx="3600000" cy="3828600"/>
            <a:chOff x="360360" y="2203560"/>
            <a:chExt cx="3600000" cy="3828600"/>
          </a:xfrm>
        </p:grpSpPr>
        <p:sp>
          <p:nvSpPr>
            <p:cNvPr id="59" name="Rectangle 9"/>
            <p:cNvSpPr/>
            <p:nvPr/>
          </p:nvSpPr>
          <p:spPr>
            <a:xfrm>
              <a:off x="2400120" y="2203560"/>
              <a:ext cx="130320" cy="23662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2110320" y="2203560"/>
              <a:ext cx="127440" cy="20804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817640" y="2203560"/>
              <a:ext cx="129600" cy="17784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525320" y="2203560"/>
              <a:ext cx="129600" cy="1478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235160" y="2203560"/>
              <a:ext cx="130320" cy="1191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942480" y="2203560"/>
              <a:ext cx="130320" cy="872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650520" y="2203560"/>
              <a:ext cx="129600" cy="6015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60360" y="2203560"/>
              <a:ext cx="129600" cy="301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692800" y="2203560"/>
              <a:ext cx="125280" cy="26539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977920" y="2203560"/>
              <a:ext cx="122400" cy="29559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3260160" y="2203560"/>
              <a:ext cx="122400" cy="3241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545280" y="2203560"/>
              <a:ext cx="127440" cy="354312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837960" y="2203560"/>
              <a:ext cx="122400" cy="38286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420840" y="9396360"/>
            <a:ext cx="1356012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760" rIns="158760" tIns="-79200" bIns="-79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 fontScale="99000"/>
          </a:bodyPr>
          <a:p>
            <a:pPr marL="589320" indent="-589320">
              <a:spcBef>
                <a:spcPts val="1225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1" marL="1277640" indent="-49032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2" marL="196596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3" marL="275328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4" marL="353916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5" marL="3539160" indent="-392760"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6" marL="3539160" indent="-392760"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720360" y="9512280"/>
            <a:ext cx="335916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920840" y="9512280"/>
            <a:ext cx="455940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10321560" y="9512280"/>
            <a:ext cx="335916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1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CC0F-A0A2-4EF4-8A7C-A55466D4FEFC}" type="slidenum">
              <a:rPr b="0" lang="ru-RU" sz="21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39880" y="3015720"/>
            <a:ext cx="11041200" cy="6264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s://ds05.infourok.ru/uploads/ex/0255/001007e4-8c2a89b1/img3.jpg"/>
          <p:cNvPicPr/>
          <p:nvPr/>
        </p:nvPicPr>
        <p:blipFill>
          <a:blip r:embed="rId2"/>
          <a:stretch/>
        </p:blipFill>
        <p:spPr>
          <a:xfrm>
            <a:off x="0" y="0"/>
            <a:ext cx="14401800" cy="1038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1600" y="2486160"/>
            <a:ext cx="13052520" cy="6867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Лягушка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Выделение звука из ряда гласных: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а, и, у, ю, я, э. «Будешь прыгать как лягушка, если услышишь «а», на другие звуки опускаешь низко руки».     По аналогии проводиться игра на другие     гласные звуки. Позже можно проводить     игру на согласные звуки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5" name="Picture 7" descr="Картинка 103 из 761"/>
          <p:cNvPicPr/>
          <p:nvPr/>
        </p:nvPicPr>
        <p:blipFill>
          <a:blip r:embed="rId1"/>
          <a:stretch/>
        </p:blipFill>
        <p:spPr>
          <a:xfrm>
            <a:off x="10734840" y="1574640"/>
            <a:ext cx="3403440" cy="3289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437920" y="836640"/>
            <a:ext cx="11160360" cy="153504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66ff"/>
                </a:solidFill>
                <a:latin typeface="Arial"/>
              </a:rPr>
              <a:t>Игры на развитие звуковой культуры речи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2827440"/>
            <a:ext cx="12489120" cy="65260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Игра с мячом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«Я буду называть предметы и бросать тебе мяч. Ты будешь ловить только тогда, когда в слове услышишь звук «ж» (называете любой звук). Если в слове звука нет, то мяч ловить не надо. Начинаем..»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8" name="Picture 6" descr="i?id=244188485-53-72"/>
          <p:cNvPicPr/>
          <p:nvPr/>
        </p:nvPicPr>
        <p:blipFill>
          <a:blip r:embed="rId1"/>
          <a:stretch/>
        </p:blipFill>
        <p:spPr>
          <a:xfrm>
            <a:off x="10109160" y="544680"/>
            <a:ext cx="391464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836640"/>
            <a:ext cx="11160360" cy="153504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66ff"/>
                </a:solidFill>
                <a:latin typeface="Arial"/>
              </a:rPr>
              <a:t>Игры на развитие мелкой моторики рук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2320560"/>
            <a:ext cx="13501800" cy="69231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Помогаю маме или папе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Большую часть времени вы проводите на кухне. Малыш крутится возле вас. Предложите ему перебрать горох, рис, гречку. Тем самым он окажет вам посильную 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помощь и потренирует свои 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пальчики</a:t>
            </a:r>
            <a:r>
              <a:rPr b="0" lang="ru-RU" sz="49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51" name="Picture 6" descr="0_5457d_6e91b291_XL"/>
          <p:cNvPicPr/>
          <p:nvPr/>
        </p:nvPicPr>
        <p:blipFill>
          <a:blip r:embed="rId1"/>
          <a:stretch/>
        </p:blipFill>
        <p:spPr>
          <a:xfrm>
            <a:off x="9675720" y="6634080"/>
            <a:ext cx="42228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87320" y="1739520"/>
            <a:ext cx="12714480" cy="761364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Волшебные палочки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Дайте ребенку счетные палочки. Пусть он выкладывает из них простейшие геометрические фигуры, узоры, буквы, предметы. А дополнить можно вырезанными из бумаги деталями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53" name="Picture 12" descr="0_54594_1da35c40_XL"/>
          <p:cNvPicPr/>
          <p:nvPr/>
        </p:nvPicPr>
        <p:blipFill>
          <a:blip r:embed="rId1"/>
          <a:stretch/>
        </p:blipFill>
        <p:spPr>
          <a:xfrm>
            <a:off x="10209240" y="6048360"/>
            <a:ext cx="39020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39880" y="694800"/>
            <a:ext cx="11041200" cy="13813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Arial"/>
              </a:rPr>
              <a:t>Как и во что играют мальчики и девочки? </a:t>
            </a:r>
            <a:endParaRPr b="0" lang="en-US" sz="6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1440" y="2647800"/>
            <a:ext cx="7500960" cy="7074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-595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Девочки: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  <a:p>
            <a:pPr marL="595440" indent="-595440">
              <a:spcBef>
                <a:spcPts val="10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«Дочки-матери»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  <a:p>
            <a:pPr marL="595440" indent="-595440">
              <a:spcBef>
                <a:spcPts val="10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«Парикмахер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  <a:p>
            <a:pPr marL="595440" indent="-595440">
              <a:spcBef>
                <a:spcPts val="10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«Салон красоты»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  <a:p>
            <a:pPr marL="595440" indent="-595440">
              <a:spcBef>
                <a:spcPts val="10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«Доктор»,«Больница»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  <a:p>
            <a:pPr marL="595440" indent="-595440">
              <a:spcBef>
                <a:spcPts val="10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«Магазин»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  <a:p>
            <a:pPr marL="595440" indent="-595440">
              <a:spcBef>
                <a:spcPts val="10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«Барби»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772040" y="2505240"/>
            <a:ext cx="6629400" cy="71452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 fontScale="97000"/>
          </a:bodyPr>
          <a:p>
            <a:pPr marL="577440" indent="-577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Мальчики: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Корабль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Автобус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Гараж», «Такси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Подводная лодка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Строитель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Спасатели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Войнушка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Гонки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Следователи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Супергерои».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12680" y="2719080"/>
            <a:ext cx="12668400" cy="6561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900" spc="-1" strike="noStrike">
                <a:solidFill>
                  <a:srgbClr val="ff0000"/>
                </a:solidFill>
                <a:latin typeface="Arial"/>
              </a:rPr>
              <a:t>«Домашняя игротека по развитию речи»</a:t>
            </a:r>
            <a:endParaRPr b="0" lang="en-US" sz="69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9" name="Picture 4" descr="web-tutor_jpg_1296906cl-8"/>
          <p:cNvPicPr/>
          <p:nvPr/>
        </p:nvPicPr>
        <p:blipFill>
          <a:blip r:embed="rId1"/>
          <a:stretch/>
        </p:blipFill>
        <p:spPr>
          <a:xfrm>
            <a:off x="3200400" y="5578560"/>
            <a:ext cx="728676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ff"/>
                </a:solidFill>
                <a:latin typeface="Arial"/>
              </a:rPr>
              <a:t>Игры на обогащение словаря ребенка</a:t>
            </a:r>
            <a:endParaRPr b="0" lang="en-US" sz="4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2403360"/>
            <a:ext cx="13628520" cy="69501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Доскажи словечко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Вы начинаете фразу, а ребенок заканчивает ее. Например: ворона каркает, а воробей …(чирикает). Сова летает, а заяц…(бегает, прыгает). У коровы теленок, а у лошади   …(жеребенок) и т.д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2" name="Picture 5" descr="Картинка 200 из 760"/>
          <p:cNvPicPr/>
          <p:nvPr/>
        </p:nvPicPr>
        <p:blipFill>
          <a:blip r:embed="rId1"/>
          <a:stretch/>
        </p:blipFill>
        <p:spPr>
          <a:xfrm>
            <a:off x="10688760" y="6308640"/>
            <a:ext cx="37130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12320" y="2320560"/>
            <a:ext cx="12601800" cy="70326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ru-RU" sz="4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Давай искать на кухне слова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На кухне можно проводить игры на обогащение словаря ребенка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Какие слова можно вынуть из борща?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Винегрета? Кухонного шкафа? Плиты? и пр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4" name="Picture 5" descr="Картинка 179 из 760"/>
          <p:cNvPicPr/>
          <p:nvPr/>
        </p:nvPicPr>
        <p:blipFill>
          <a:blip r:embed="rId1"/>
          <a:stretch/>
        </p:blipFill>
        <p:spPr>
          <a:xfrm>
            <a:off x="11111040" y="1906560"/>
            <a:ext cx="3612960" cy="29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38040" y="1574640"/>
            <a:ext cx="10688760" cy="77788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Угощаю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Давай вспомним слова и угостим друг друга. Ребенок называет «вкусное» слово и кладет вам на ладошку, затем вы ему, и так до тех пор, пока все не «съедите». Можно поиграть                        в «сладкие», «кислые», «соленые», «горькие» слова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6" name="Picture 7" descr="0_5456f_5f67a090_XL"/>
          <p:cNvPicPr/>
          <p:nvPr/>
        </p:nvPicPr>
        <p:blipFill>
          <a:blip r:embed="rId1"/>
          <a:stretch/>
        </p:blipFill>
        <p:spPr>
          <a:xfrm>
            <a:off x="338040" y="5764320"/>
            <a:ext cx="3289320" cy="29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2153880"/>
            <a:ext cx="13952520" cy="71722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Я заметил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Давай проверим кто из нас самый внимательный. Будем называть предметы, мимо которых мы проходим, а еще обязательно укажем какие они. Вот почтовый ящик – он синий. Я заметил кошку – она пушистая. Ребенок и взрослый могут называть увиденные объекты по очереди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8" name="Picture 8" descr="Картинка 21 из 765"/>
          <p:cNvPicPr/>
          <p:nvPr/>
        </p:nvPicPr>
        <p:blipFill>
          <a:blip r:embed="rId1"/>
          <a:stretch/>
        </p:blipFill>
        <p:spPr>
          <a:xfrm>
            <a:off x="10831680" y="378000"/>
            <a:ext cx="3232080" cy="34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2719440"/>
            <a:ext cx="13501800" cy="66340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Приготовим сок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Из яблок…(яблочный); из груш…(грушевый); из моркови, сливы, вишни, апельсина, лимона и т.п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Справились? А теперь наоборот : апельсиновый сок из чего? И т.д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0" name="Picture 5" descr="0_54574_f703ed54_XL"/>
          <p:cNvPicPr/>
          <p:nvPr/>
        </p:nvPicPr>
        <p:blipFill>
          <a:blip r:embed="rId1"/>
          <a:stretch/>
        </p:blipFill>
        <p:spPr>
          <a:xfrm>
            <a:off x="10576080" y="5981760"/>
            <a:ext cx="35128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12320" y="2236320"/>
            <a:ext cx="12601800" cy="711684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Волшебные очки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«Представь, что у нас есть волшебные очки. Когда их надеваешь, то все становиться красным (синим, зеленым, прозрачным и т.д.).Посмотри вокруг, какого цвета все стало скажи?»(красный   стол и пр.)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2" name="Picture 5" descr="Картинка 31 из 765"/>
          <p:cNvPicPr/>
          <p:nvPr/>
        </p:nvPicPr>
        <p:blipFill>
          <a:blip r:embed="rId1"/>
          <a:stretch/>
        </p:blipFill>
        <p:spPr>
          <a:xfrm>
            <a:off x="11171160" y="836640"/>
            <a:ext cx="2492280" cy="241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0_4d62d_746d092c_M"/>
          <p:cNvPicPr/>
          <p:nvPr/>
        </p:nvPicPr>
        <p:blipFill>
          <a:blip r:embed="rId2"/>
          <a:stretch/>
        </p:blipFill>
        <p:spPr>
          <a:xfrm>
            <a:off x="4643280" y="7375680"/>
            <a:ext cx="260856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8:06:19Z</dcterms:created>
  <dc:creator>кузя</dc:creator>
  <dc:description/>
  <dc:language>en-US</dc:language>
  <cp:lastModifiedBy>Surgut</cp:lastModifiedBy>
  <dcterms:modified xsi:type="dcterms:W3CDTF">2021-03-08T02:54:13Z</dcterms:modified>
  <cp:revision>24</cp:revision>
  <dc:subject/>
  <dc:title>Презентация для родителей</dc:title>
</cp:coreProperties>
</file>