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4.gif" ContentType="image/gif"/>
  <Override PartName="/ppt/media/image33.jpeg" ContentType="image/jpeg"/>
  <Override PartName="/ppt/media/image25.wmf" ContentType="image/x-wmf"/>
  <Override PartName="/ppt/media/image15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gif" ContentType="image/gif"/>
  <Override PartName="/ppt/media/image51.png" ContentType="image/png"/>
  <Override PartName="/ppt/media/image26.wmf" ContentType="image/x-wmf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6.jpeg" ContentType="image/jpeg"/>
  <Override PartName="/ppt/media/image40.png" ContentType="image/png"/>
  <Override PartName="/ppt/media/image9.jpeg" ContentType="image/jpeg"/>
  <Override PartName="/ppt/media/image48.png" ContentType="image/png"/>
  <Override PartName="/ppt/media/image12.jpeg" ContentType="image/jpeg"/>
  <Override PartName="/ppt/media/image34.jpeg" ContentType="image/jpeg"/>
  <Override PartName="/ppt/media/image32.png" ContentType="image/png"/>
  <Override PartName="/ppt/media/image22.jpeg" ContentType="image/jpeg"/>
  <Override PartName="/ppt/media/image43.jpeg" ContentType="image/jpeg"/>
  <Override PartName="/ppt/media/image6.jpeg" ContentType="image/jpeg"/>
  <Override PartName="/ppt/media/image47.png" ContentType="image/png"/>
  <Override PartName="/ppt/media/image35.jpeg" ContentType="image/jpeg"/>
  <Override PartName="/ppt/media/image10.jpeg" ContentType="image/jpeg"/>
  <Override PartName="/ppt/media/image46.png" ContentType="image/png"/>
  <Override PartName="/ppt/media/image45.png" ContentType="image/png"/>
  <Override PartName="/ppt/media/image44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4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39.jpeg" ContentType="image/jpeg"/>
  <Override PartName="/ppt/media/image50.png" ContentType="image/png"/>
  <Override PartName="/ppt/media/image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04D-46E7-4C41-ADE9-376B1B61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81A-3351-48BB-AF4F-F16FA765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5B5-5B88-4148-A5C4-4F0375F1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A10-F8C8-4F75-BBD7-25B41100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6238-2AEC-42F8-B980-5CC1A4B7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79C3-567A-4E14-99FB-EA750D80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227B-F165-4556-AD3D-5B96E3A6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1CD8-DE4A-435A-8170-02653EBA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9F41-8082-4CF8-8D70-5F4D215A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3EA5-1F54-490F-9556-8A41ACE0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5AE5-2659-49E5-8C39-32DA7734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E06-541A-47AC-B034-80DC5C94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D591-F367-4E3F-8C22-B4CA5690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FA9F-2A12-4FFE-812E-FD5EB51F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4380-DA9A-405A-BE4B-F4AC1271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8008-0DA8-49A3-AB66-64E5BFB8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FAC2-1A55-4690-92AE-01C2E347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080-4AF2-4814-9195-24B681D8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EE0-60A0-42DA-804E-FA2946E5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DA4-DD31-4FFF-BEEA-C0670A7C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E7A7-A228-41C5-BF6D-CC854B4F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EC1-E0A5-4266-BD2F-606E54D8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C99A-4AB3-4B03-A7BD-98CD2B21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D5F9-04ED-46FF-B12C-56DB9800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A0C7-0223-41D1-94D7-DDFF0BEDA9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67C1-C80D-42D6-8733-4BF9442E42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hyperlink" Target="http://www.vzsar.ru/images/news/vzsar_ru_5826.jpg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www.photo.ck.ua/data/media/65/transp3.jpg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002.radikal.ru/0803/89/e069fe6444db.jpg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www.kanal12.ru/january2008/3101/avariya-b-02.jpg" TargetMode="External"/><Relationship Id="rId11" Type="http://schemas.openxmlformats.org/officeDocument/2006/relationships/image" Target="../media/image9.jpeg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332000" y="404640"/>
            <a:ext cx="651672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рожная азбу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609480" cy="1352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835280" y="198900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апрещающи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1859040" cy="1801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27640" y="4076640"/>
            <a:ext cx="2022480" cy="1992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268360" y="2997360"/>
            <a:ext cx="1943280" cy="194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732720" y="4726080"/>
            <a:ext cx="1871640" cy="1868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редупреждающи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211640" y="4724280"/>
            <a:ext cx="1454040" cy="1432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187280" y="4797360"/>
            <a:ext cx="145440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77080" y="4653000"/>
            <a:ext cx="1454040" cy="1352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050920" y="1773360"/>
            <a:ext cx="2160720" cy="190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932360" y="1773360"/>
            <a:ext cx="227484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редписывающи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2692440" cy="2646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508720" y="3357720"/>
            <a:ext cx="2646360" cy="2358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11280" y="472428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шеходная дор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03640" y="59500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елосипедная дор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Информационно-указательные знак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44400" y="1484280"/>
            <a:ext cx="920880" cy="1461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95640" y="1484280"/>
            <a:ext cx="1030320" cy="1473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851280" y="4724280"/>
            <a:ext cx="1644480" cy="1594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971640" y="4581360"/>
            <a:ext cx="1574640" cy="1656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6738840" y="4581360"/>
            <a:ext cx="1509840" cy="1584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6659640" y="1628640"/>
            <a:ext cx="1181160" cy="1800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3995640" y="1700280"/>
            <a:ext cx="1289160" cy="2087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724360" y="37162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орога для автомоб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314172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есто остановки трамвая, автобуса или троллейб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8000" y="3933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втомагистр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наки сервис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87280" y="4221000"/>
            <a:ext cx="1549440" cy="2221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987640" y="3068640"/>
            <a:ext cx="1571760" cy="216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948360" y="1268280"/>
            <a:ext cx="1663920" cy="2305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859280" y="1916280"/>
            <a:ext cx="16002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наки приоритет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5472000" cy="2230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227640" y="1557360"/>
            <a:ext cx="244656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Знаки дополнительной информац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4078080" cy="1584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332000" y="4437000"/>
            <a:ext cx="63943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8920" y="5129280"/>
            <a:ext cx="61927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_AlbionicTitulInfl"/>
              </a:rPr>
              <a:t>ПЕШЕХОДНЫЙ ПЕРЕХОД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835280" y="100080"/>
            <a:ext cx="5256000" cy="50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_AlbionicTitulInfl"/>
              </a:rPr>
              <a:t>ПОДЗЕМНЫЙ ПЕШЕХОДНЫЙ ПЕРЕХОД</a:t>
            </a:r>
            <a:endParaRPr b="0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256360" cy="51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5589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_AlbionicTitulInf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_AlbionicTitulInfl"/>
              </a:rPr>
              <a:t>ДЕТИ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59040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1765440" y="333360"/>
            <a:ext cx="1511280" cy="779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Картинка 8 из 2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700280"/>
            <a:ext cx="2363760" cy="1781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24000" y="4149720"/>
            <a:ext cx="2003400" cy="2403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Картинка 26 из 261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84720" y="1628640"/>
            <a:ext cx="2765520" cy="2075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Картинка 1 из 57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771640" y="4149720"/>
            <a:ext cx="3090960" cy="2317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Картинка 17 из 5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084720" y="4437000"/>
            <a:ext cx="2843280" cy="1990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4067280" y="1413000"/>
            <a:ext cx="973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3 0.03769 L 1.1724 0.02705 E">
                                      <p:cBhvr>
                                        <p:cTn id="7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5327640"/>
            <a:ext cx="9144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_AlbionicTitulInfl"/>
              </a:rPr>
              <a:t>ДВИЖЕНИЕ ПЕШЕХОДОВ ЗАПРЕЩЕНО</a:t>
            </a:r>
            <a:endParaRPr b="0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15448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878360" cy="5761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95640" y="630864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рвый светофор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021040" cy="3240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19640" y="333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зырё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907640" y="476280"/>
            <a:ext cx="3024360" cy="36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Картинка 1 из 165"/>
          <p:cNvPicPr/>
          <p:nvPr/>
        </p:nvPicPr>
        <p:blipFill>
          <a:blip r:embed="rId2"/>
          <a:stretch/>
        </p:blipFill>
        <p:spPr>
          <a:xfrm>
            <a:off x="4140360" y="907920"/>
            <a:ext cx="4190760" cy="5589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859280" y="476280"/>
            <a:ext cx="504720" cy="216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Картинка 144 из 350"/>
          <p:cNvPicPr/>
          <p:nvPr/>
        </p:nvPicPr>
        <p:blipFill>
          <a:blip r:embed="rId3"/>
          <a:stretch/>
        </p:blipFill>
        <p:spPr>
          <a:xfrm>
            <a:off x="1979640" y="3357720"/>
            <a:ext cx="1905120" cy="3219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>
            <a:off x="2627280" y="476280"/>
            <a:ext cx="2232000" cy="331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32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82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32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3440" cy="6265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V="1">
            <a:off x="5076720" y="3860280"/>
            <a:ext cx="93528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148360" y="4149720"/>
            <a:ext cx="3527280" cy="57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050920" y="3933720"/>
            <a:ext cx="3168720" cy="790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476360" y="4149720"/>
            <a:ext cx="3743280" cy="57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537080" cy="3403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4581360"/>
            <a:ext cx="4319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усть запомнят твёрдо де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рно поступает то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661000"/>
            <a:ext cx="4716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то лишь при зелёном св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ерез улицу идё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451640" y="4581360"/>
            <a:ext cx="1308240" cy="201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44276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72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240"/>
                            </p:stCondLst>
                            <p:childTnLst>
                              <p:par>
                                <p:cTn id="1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4149360"/>
            <a:ext cx="43308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амые старые из всех дорожных знаков - указатели расстоян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91160" y="333360"/>
            <a:ext cx="412884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ерстовые столб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451640" y="3141720"/>
            <a:ext cx="1433520" cy="3039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171612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050920" y="2013120"/>
            <a:ext cx="5329440" cy="36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ервые дорожны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8402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5:38:14Z</dcterms:created>
  <dc:creator>Ниночка</dc:creator>
  <dc:description/>
  <dc:language>en-US</dc:language>
  <cp:lastModifiedBy>Бухгалтерия</cp:lastModifiedBy>
  <dcterms:modified xsi:type="dcterms:W3CDTF">2009-06-05T10:32:51Z</dcterms:modified>
  <cp:revision>29</cp:revision>
  <dc:subject/>
  <dc:title>Слайд 1</dc:title>
</cp:coreProperties>
</file>