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5.wmf" ContentType="image/x-wmf"/>
  <Override PartName="/ppt/media/image15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51.png" ContentType="image/png"/>
  <Override PartName="/ppt/media/image26.wmf" ContentType="image/x-wmf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6.jpeg" ContentType="image/jpeg"/>
  <Override PartName="/ppt/media/image40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jpeg" ContentType="image/jpeg"/>
  <Override PartName="/ppt/media/image32.png" ContentType="image/png"/>
  <Override PartName="/ppt/media/image22.jpeg" ContentType="image/jpeg"/>
  <Override PartName="/ppt/media/image43.jpeg" ContentType="image/jpeg"/>
  <Override PartName="/ppt/media/image6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9.jpeg" ContentType="image/jpeg"/>
  <Override PartName="/ppt/media/image50.png" ContentType="image/pn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A73-4198-4F43-9E18-BAF04B01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EB3-DA53-498C-BE03-C1219E4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153-B1A4-49AF-BDA2-7A372648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A48-863A-4A4B-A4B5-BCBCFC0E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E7BC-3D80-49E2-AA6D-F3055275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9C8-EF6A-40AE-81E7-003BA19C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567C-DF14-48F4-B2E6-27202DA9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7365-E086-4E18-A696-763FCA9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C851-A794-4FC5-AF98-1561545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C58-EA97-4D33-B8A0-1BA9117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B57E-0C2B-4580-B70B-A985EB5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B93-EFD4-4633-AB07-F5831255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15F7-0D41-4E1E-B5A9-0AB2033E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7DE6-AFC7-481A-9933-48CC0EE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2AC8-7991-4DB9-B05A-57086E40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AE70-C01B-4706-830B-02D133FE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A143-1208-4E9D-AF3F-81AD912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515-4D0D-4E5C-9720-ECE9660F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21B-6215-4624-BD2A-86B1B248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B90-2557-4E59-9D4A-3EE2142E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E1A-702D-49BF-8B8C-27D607A1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C14-5FBE-4D3E-809F-9BB8D27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BDB-2FE0-4868-B46F-8D75A8C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E8D-E176-4FEC-B677-89A520A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2F8-2AB0-45AD-8BC7-9205D0482D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7E50-818A-43FB-B487-B68D8AAD32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hyperlink" Target="http://www.vzsar.ru/images/news/vzsar_ru_5826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www.photo.ck.ua/data/media/65/transp3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002.radikal.ru/0803/89/e069fe6444db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kanal12.ru/january2008/3101/avariya-b-02.jpg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404640"/>
            <a:ext cx="6516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жная азбу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09480" cy="1352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859040" cy="180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4724280"/>
            <a:ext cx="1454040" cy="143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45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45404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692440" cy="264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646360" cy="2358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нформационно-указательные зна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644480" cy="159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141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1549440" cy="222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66392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приори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472000" cy="223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46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наки дополнительной информ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40780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63943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512928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_AlbionicTitulInf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100080"/>
            <a:ext cx="525600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ПОДЗЕМНЫЙ ПЕШЕХОДНЫЙ ПЕРЕХОД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ДЕТ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8 из 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26 из 261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1 из 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17 из 5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4067280" y="141300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532764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ДВИЖЕНИЕ ПЕШЕХОДОВ ЗАПРЕЩЕНО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544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6308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2104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зыр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07640" y="476280"/>
            <a:ext cx="302436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476280"/>
            <a:ext cx="504720" cy="216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а 144 из 350"/>
          <p:cNvPicPr/>
          <p:nvPr/>
        </p:nvPicPr>
        <p:blipFill>
          <a:blip r:embed="rId3"/>
          <a:stretch/>
        </p:blipFill>
        <p:spPr>
          <a:xfrm>
            <a:off x="1979640" y="3357720"/>
            <a:ext cx="1905120" cy="321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627280" y="476280"/>
            <a:ext cx="2232000" cy="331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32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2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2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5076720" y="3860280"/>
            <a:ext cx="93528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4581360"/>
            <a:ext cx="43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ь запомнят твёрдо де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рно поступает т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661000"/>
            <a:ext cx="47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лишь при зелёном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улицу ид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30824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427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4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4330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ые старые из всех дорожных знаков - указатели расстоя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ерстовые столб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451640" y="3141720"/>
            <a:ext cx="1433520" cy="303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171612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50920" y="2013120"/>
            <a:ext cx="532944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ервые дорожны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Бухгалтерия</cp:lastModifiedBy>
  <dcterms:modified xsi:type="dcterms:W3CDTF">2009-06-05T10:32:51Z</dcterms:modified>
  <cp:revision>29</cp:revision>
  <dc:subject/>
  <dc:title>Слайд 1</dc:title>
</cp:coreProperties>
</file>