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F46-5582-484D-BCBD-F5C7B317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851-1B71-467D-A6BE-12F00E00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CB3-D2A5-4EAC-AB67-CF802745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B36-6BBA-489A-BBAA-98708C2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0B0A-5748-4451-A699-B57FBD5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B3B-9B4F-4EE5-A314-3C670A42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BC3-3AEB-4550-BC41-E330A45D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3ABE-5D27-4BF4-898E-9B0B4EC5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AB6-F4EB-4FFB-B3A8-ACCA232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132-F55B-4E06-BBDB-4ACD245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4A0-B419-4557-BBC2-98D02542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C07-7DE7-4F21-83AD-AF62E9E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BAF-DB21-406A-90E0-F0B4FD4E1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208080" y="3425760"/>
            <a:ext cx="5010120" cy="51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142920" y="71280"/>
            <a:ext cx="3714840" cy="3857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5286240" y="278604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2759040" y="5000760"/>
            <a:ext cx="174168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5"/>
          <a:stretch/>
        </p:blipFill>
        <p:spPr>
          <a:xfrm>
            <a:off x="428760" y="4672080"/>
            <a:ext cx="1936440" cy="21146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7" descr=""/>
          <p:cNvPicPr/>
          <p:nvPr/>
        </p:nvPicPr>
        <p:blipFill>
          <a:blip r:embed="rId6"/>
          <a:stretch/>
        </p:blipFill>
        <p:spPr>
          <a:xfrm>
            <a:off x="3151080" y="579600"/>
            <a:ext cx="6456600" cy="14205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8" descr=""/>
          <p:cNvPicPr/>
          <p:nvPr/>
        </p:nvPicPr>
        <p:blipFill>
          <a:blip r:embed="rId7"/>
          <a:stretch/>
        </p:blipFill>
        <p:spPr>
          <a:xfrm>
            <a:off x="-225360" y="3359160"/>
            <a:ext cx="598644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86080" y="193680"/>
            <a:ext cx="5715000" cy="541656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6" descr=""/>
          <p:cNvPicPr/>
          <p:nvPr/>
        </p:nvPicPr>
        <p:blipFill>
          <a:blip r:embed="rId2"/>
          <a:stretch/>
        </p:blipFill>
        <p:spPr>
          <a:xfrm>
            <a:off x="36360" y="171360"/>
            <a:ext cx="35784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14200" y="428760"/>
            <a:ext cx="60008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зовый уровень п.82,83  вариант 8 №13, вариант36 - №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ьный  п.83, вариант8 №8, п.84 и подготовить две экзаменационные задачи с площадью поверхности ш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менные шары - ещё одна загадка доисторической цивилизаци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b.radikal.ru/b23/2004/ae/0cc37acef415.jpg"/>
          <p:cNvPicPr/>
          <p:nvPr/>
        </p:nvPicPr>
        <p:blipFill>
          <a:blip r:embed="rId1"/>
          <a:stretch/>
        </p:blipFill>
        <p:spPr>
          <a:xfrm>
            <a:off x="755640" y="1197000"/>
            <a:ext cx="71326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трова Новой Зеланд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s://thumbs.dreamstime.com/b/moeraki-%D0%BD%D0%BE%D0%B2%D1%8B%D0%B9-%D1%82%D0%B8%D1%85%D0%B8%D0%B9-%D0%BE%D0%BA%D0%B5%D0%B0%D0%BD-zealand-%D1%81%D0%B2%D0%BE%D0%B1%D0%BE-%D0%BD%D0%BE%D0%B3%D0%BE-%D0%BF%D0%BE-%D0%B5%D1%82%D0%B0-%D0%B2%D0%B0-%D1%83%D0%BD%D0%BE%D0%B2-51548677.jpg"/>
          <p:cNvPicPr/>
          <p:nvPr/>
        </p:nvPicPr>
        <p:blipFill>
          <a:blip r:embed="rId1"/>
          <a:stretch/>
        </p:blipFill>
        <p:spPr>
          <a:xfrm>
            <a:off x="611280" y="155736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200" y="365040"/>
            <a:ext cx="3214800" cy="313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143240" y="1857240"/>
            <a:ext cx="360360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4" descr=""/>
          <p:cNvPicPr/>
          <p:nvPr/>
        </p:nvPicPr>
        <p:blipFill>
          <a:blip r:embed="rId3"/>
          <a:stretch/>
        </p:blipFill>
        <p:spPr>
          <a:xfrm>
            <a:off x="3468600" y="530280"/>
            <a:ext cx="596736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072120" y="71280"/>
            <a:ext cx="3000600" cy="350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71280" y="1214280"/>
            <a:ext cx="3791160" cy="444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85840" y="785880"/>
            <a:ext cx="235728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7" descr=""/>
          <p:cNvPicPr/>
          <p:nvPr/>
        </p:nvPicPr>
        <p:blipFill>
          <a:blip r:embed="rId4"/>
          <a:stretch/>
        </p:blipFill>
        <p:spPr>
          <a:xfrm>
            <a:off x="-103320" y="-42840"/>
            <a:ext cx="6828120" cy="1444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8" descr=""/>
          <p:cNvPicPr/>
          <p:nvPr/>
        </p:nvPicPr>
        <p:blipFill>
          <a:blip r:embed="rId5"/>
          <a:stretch/>
        </p:blipFill>
        <p:spPr>
          <a:xfrm>
            <a:off x="3352680" y="3773520"/>
            <a:ext cx="5658120" cy="15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072120" y="71280"/>
            <a:ext cx="3000600" cy="350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2357280" cy="278604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7" descr=""/>
          <p:cNvPicPr/>
          <p:nvPr/>
        </p:nvPicPr>
        <p:blipFill>
          <a:blip r:embed="rId3"/>
          <a:stretch/>
        </p:blipFill>
        <p:spPr>
          <a:xfrm>
            <a:off x="-103320" y="-42840"/>
            <a:ext cx="6828120" cy="144468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8" descr=""/>
          <p:cNvPicPr/>
          <p:nvPr/>
        </p:nvPicPr>
        <p:blipFill>
          <a:blip r:embed="rId4"/>
          <a:stretch/>
        </p:blipFill>
        <p:spPr>
          <a:xfrm>
            <a:off x="3913200" y="3706920"/>
            <a:ext cx="480996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135000" y="1285920"/>
            <a:ext cx="3865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2" descr=""/>
          <p:cNvPicPr/>
          <p:nvPr/>
        </p:nvPicPr>
        <p:blipFill>
          <a:blip r:embed="rId1"/>
          <a:stretch/>
        </p:blipFill>
        <p:spPr>
          <a:xfrm>
            <a:off x="781200" y="30240"/>
            <a:ext cx="4400280" cy="144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786720" y="571680"/>
            <a:ext cx="2071440" cy="215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142920" y="1000080"/>
            <a:ext cx="3629160" cy="37814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5" descr=""/>
          <p:cNvPicPr/>
          <p:nvPr/>
        </p:nvPicPr>
        <p:blipFill>
          <a:blip r:embed="rId4"/>
          <a:stretch/>
        </p:blipFill>
        <p:spPr>
          <a:xfrm>
            <a:off x="3267000" y="2560680"/>
            <a:ext cx="5810400" cy="3260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5"/>
          <a:stretch/>
        </p:blipFill>
        <p:spPr>
          <a:xfrm>
            <a:off x="6715080" y="214200"/>
            <a:ext cx="2124000" cy="23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extBox 7" descr=""/>
          <p:cNvPicPr/>
          <p:nvPr/>
        </p:nvPicPr>
        <p:blipFill>
          <a:blip r:embed="rId1"/>
          <a:stretch/>
        </p:blipFill>
        <p:spPr>
          <a:xfrm>
            <a:off x="36360" y="171360"/>
            <a:ext cx="4469040" cy="2181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4357800" cy="2357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684680" y="428760"/>
            <a:ext cx="4030560" cy="5643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4"/>
          <a:stretch/>
        </p:blipFill>
        <p:spPr>
          <a:xfrm>
            <a:off x="330120" y="3857760"/>
            <a:ext cx="274176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" descr=""/>
          <p:cNvPicPr/>
          <p:nvPr/>
        </p:nvPicPr>
        <p:blipFill>
          <a:blip r:embed="rId1"/>
          <a:stretch/>
        </p:blipFill>
        <p:spPr>
          <a:xfrm>
            <a:off x="36360" y="171360"/>
            <a:ext cx="4469040" cy="218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14200" y="2286000"/>
            <a:ext cx="3740400" cy="12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857840" y="142920"/>
            <a:ext cx="3687840" cy="3143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4"/>
          <a:stretch/>
        </p:blipFill>
        <p:spPr>
          <a:xfrm>
            <a:off x="861840" y="3090960"/>
            <a:ext cx="742032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18:08:21Z</dcterms:created>
  <dc:creator>Алина</dc:creator>
  <dc:description/>
  <dc:language>en-US</dc:language>
  <cp:lastModifiedBy>user</cp:lastModifiedBy>
  <dcterms:modified xsi:type="dcterms:W3CDTF">2021-04-05T16:54:10Z</dcterms:modified>
  <cp:revision>16</cp:revision>
  <dc:subject/>
  <dc:title>   </dc:title>
</cp:coreProperties>
</file>