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7B2-BE69-4031-BC7B-98670137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210-8C61-4FC8-8CD0-3A249374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229-CB02-4A4B-8184-631D7FFD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A6A-1A53-4C6B-AD25-E7CA82D0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3FC-EF07-4FD5-A11E-3208655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0DF-C20E-4A20-9CE4-F6B6D268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770-8379-4CC7-A957-5C4C169A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B3F-43CC-477A-98FC-9C63363D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EFB-5CBB-49E7-A78E-72B6D38D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5C7-D313-4FF8-BB49-6BE1CC50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7C2-3334-4D1E-8524-DC814C8C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F4A-37C7-4CEE-867E-A53B9715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FE6B-307A-41AB-8712-B06B9E156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208080" y="3425760"/>
            <a:ext cx="5010120" cy="51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142920" y="71280"/>
            <a:ext cx="3714840" cy="3857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5286240" y="278604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2759040" y="5000760"/>
            <a:ext cx="174168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5"/>
          <a:stretch/>
        </p:blipFill>
        <p:spPr>
          <a:xfrm>
            <a:off x="428760" y="4672080"/>
            <a:ext cx="1936440" cy="21146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7" descr=""/>
          <p:cNvPicPr/>
          <p:nvPr/>
        </p:nvPicPr>
        <p:blipFill>
          <a:blip r:embed="rId6"/>
          <a:stretch/>
        </p:blipFill>
        <p:spPr>
          <a:xfrm>
            <a:off x="3151080" y="579600"/>
            <a:ext cx="6456600" cy="14205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8" descr=""/>
          <p:cNvPicPr/>
          <p:nvPr/>
        </p:nvPicPr>
        <p:blipFill>
          <a:blip r:embed="rId7"/>
          <a:stretch/>
        </p:blipFill>
        <p:spPr>
          <a:xfrm>
            <a:off x="-225360" y="3359160"/>
            <a:ext cx="59864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86080" y="193680"/>
            <a:ext cx="5715000" cy="541656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6" descr=""/>
          <p:cNvPicPr/>
          <p:nvPr/>
        </p:nvPicPr>
        <p:blipFill>
          <a:blip r:embed="rId2"/>
          <a:stretch/>
        </p:blipFill>
        <p:spPr>
          <a:xfrm>
            <a:off x="36360" y="171360"/>
            <a:ext cx="357840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14200" y="428760"/>
            <a:ext cx="60008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овый уровень п.82,83  вариант 8 №13, вариант36 - №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ьный  п.83, вариант8 №8, п.84 и подготовить две экзаменационные задачи с площадью поверхности ш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менные шары - ещё одна загадка доисторической цивилизаци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b.radikal.ru/b23/2004/ae/0cc37acef415.jpg"/>
          <p:cNvPicPr/>
          <p:nvPr/>
        </p:nvPicPr>
        <p:blipFill>
          <a:blip r:embed="rId1"/>
          <a:stretch/>
        </p:blipFill>
        <p:spPr>
          <a:xfrm>
            <a:off x="755640" y="1197000"/>
            <a:ext cx="71326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трова Новой Зеланд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s://thumbs.dreamstime.com/b/moeraki-%D0%BD%D0%BE%D0%B2%D1%8B%D0%B9-%D1%82%D0%B8%D1%85%D0%B8%D0%B9-%D0%BE%D0%BA%D0%B5%D0%B0%D0%BD-zealand-%D1%81%D0%B2%D0%BE%D0%B1%D0%BE-%D0%BD%D0%BE%D0%B3%D0%BE-%D0%BF%D0%BE-%D0%B5%D1%82%D0%B0-%D0%B2%D0%B0-%D1%83%D0%BD%D0%BE%D0%B2-51548677.jpg"/>
          <p:cNvPicPr/>
          <p:nvPr/>
        </p:nvPicPr>
        <p:blipFill>
          <a:blip r:embed="rId1"/>
          <a:stretch/>
        </p:blipFill>
        <p:spPr>
          <a:xfrm>
            <a:off x="611280" y="155736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200" y="365040"/>
            <a:ext cx="3214800" cy="313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4143240" y="1857240"/>
            <a:ext cx="360360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4" descr=""/>
          <p:cNvPicPr/>
          <p:nvPr/>
        </p:nvPicPr>
        <p:blipFill>
          <a:blip r:embed="rId3"/>
          <a:stretch/>
        </p:blipFill>
        <p:spPr>
          <a:xfrm>
            <a:off x="3468600" y="530280"/>
            <a:ext cx="596736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072120" y="71280"/>
            <a:ext cx="3000600" cy="350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71280" y="1214280"/>
            <a:ext cx="3791160" cy="444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85840" y="785880"/>
            <a:ext cx="2357280" cy="278604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7" descr=""/>
          <p:cNvPicPr/>
          <p:nvPr/>
        </p:nvPicPr>
        <p:blipFill>
          <a:blip r:embed="rId4"/>
          <a:stretch/>
        </p:blipFill>
        <p:spPr>
          <a:xfrm>
            <a:off x="-103320" y="-42840"/>
            <a:ext cx="6828120" cy="1444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8" descr=""/>
          <p:cNvPicPr/>
          <p:nvPr/>
        </p:nvPicPr>
        <p:blipFill>
          <a:blip r:embed="rId5"/>
          <a:stretch/>
        </p:blipFill>
        <p:spPr>
          <a:xfrm>
            <a:off x="3352680" y="3773520"/>
            <a:ext cx="5658120" cy="15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072120" y="71280"/>
            <a:ext cx="3000600" cy="350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2357280" cy="278604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7" descr=""/>
          <p:cNvPicPr/>
          <p:nvPr/>
        </p:nvPicPr>
        <p:blipFill>
          <a:blip r:embed="rId3"/>
          <a:stretch/>
        </p:blipFill>
        <p:spPr>
          <a:xfrm>
            <a:off x="-103320" y="-42840"/>
            <a:ext cx="6828120" cy="144468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8" descr=""/>
          <p:cNvPicPr/>
          <p:nvPr/>
        </p:nvPicPr>
        <p:blipFill>
          <a:blip r:embed="rId4"/>
          <a:stretch/>
        </p:blipFill>
        <p:spPr>
          <a:xfrm>
            <a:off x="3913200" y="3706920"/>
            <a:ext cx="480996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135000" y="1285920"/>
            <a:ext cx="38656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2" descr=""/>
          <p:cNvPicPr/>
          <p:nvPr/>
        </p:nvPicPr>
        <p:blipFill>
          <a:blip r:embed="rId1"/>
          <a:stretch/>
        </p:blipFill>
        <p:spPr>
          <a:xfrm>
            <a:off x="781200" y="30240"/>
            <a:ext cx="4400280" cy="144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786720" y="571680"/>
            <a:ext cx="2071440" cy="215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142920" y="1000080"/>
            <a:ext cx="3629160" cy="378144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5" descr=""/>
          <p:cNvPicPr/>
          <p:nvPr/>
        </p:nvPicPr>
        <p:blipFill>
          <a:blip r:embed="rId4"/>
          <a:stretch/>
        </p:blipFill>
        <p:spPr>
          <a:xfrm>
            <a:off x="3267000" y="2560680"/>
            <a:ext cx="5810400" cy="3260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5"/>
          <a:stretch/>
        </p:blipFill>
        <p:spPr>
          <a:xfrm>
            <a:off x="6715080" y="214200"/>
            <a:ext cx="2124000" cy="23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extBox 7" descr=""/>
          <p:cNvPicPr/>
          <p:nvPr/>
        </p:nvPicPr>
        <p:blipFill>
          <a:blip r:embed="rId1"/>
          <a:stretch/>
        </p:blipFill>
        <p:spPr>
          <a:xfrm>
            <a:off x="36360" y="171360"/>
            <a:ext cx="4469040" cy="21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4357800" cy="23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684680" y="428760"/>
            <a:ext cx="4030560" cy="564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4"/>
          <a:stretch/>
        </p:blipFill>
        <p:spPr>
          <a:xfrm>
            <a:off x="330120" y="3857760"/>
            <a:ext cx="274176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1" descr=""/>
          <p:cNvPicPr/>
          <p:nvPr/>
        </p:nvPicPr>
        <p:blipFill>
          <a:blip r:embed="rId1"/>
          <a:stretch/>
        </p:blipFill>
        <p:spPr>
          <a:xfrm>
            <a:off x="36360" y="171360"/>
            <a:ext cx="4469040" cy="2181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3740400" cy="128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857840" y="142920"/>
            <a:ext cx="3687840" cy="314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4"/>
          <a:stretch/>
        </p:blipFill>
        <p:spPr>
          <a:xfrm>
            <a:off x="861840" y="3090960"/>
            <a:ext cx="742032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18:08:21Z</dcterms:created>
  <dc:creator>Алина</dc:creator>
  <dc:description/>
  <dc:language>en-US</dc:language>
  <cp:lastModifiedBy>user</cp:lastModifiedBy>
  <dcterms:modified xsi:type="dcterms:W3CDTF">2021-04-05T16:54:10Z</dcterms:modified>
  <cp:revision>16</cp:revision>
  <dc:subject/>
  <dc:title>   </dc:title>
</cp:coreProperties>
</file>