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323D-2630-4A29-9E81-891A6A1949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8B9F-EB40-4848-9971-1141E1799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3CBA-9281-48A5-A7FA-F7CEEB715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B0F5-72B1-451D-BC3E-14F834E25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EFCC-B3B7-40E9-A697-01A2A800C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2E9-7D2B-4A44-88A2-E9B3F491A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3455-1A80-40FD-84F4-6C1102CA3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5089-0771-4A83-8E38-AC1BFBBDF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7C3-100F-4F5B-B64F-915DFC1D7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159-0BEF-4219-94E0-585CA6D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0BB-8B3E-4AE9-8EB9-F5DDEF0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B24-96D7-4A00-9209-FF658E6D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C55-FDD3-445F-ACA4-FB196F8C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C375-E68A-49F8-91BD-47BC54B5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E441-A547-4B36-BD95-B7F5F76C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2C9-6737-446B-ACBE-462F3E35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0AF7-E9CD-4ACE-86EB-2167A4C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489B-C684-4893-A58C-79C4D2B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D89B-2EFA-4CAB-8CB3-91BF9E61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F114-A4B6-4C9F-A467-D2D9453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996-E173-4214-8E5A-636B9D58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F329-B2E5-4AD8-96E5-017B89E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5C67-0D59-4FE4-BA2A-01A1FBA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73E0-2572-4362-ADAF-76A8225B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A09D-B787-4D7A-AF75-B9AEC914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CD43-1185-4723-BBFE-5BE6C2A7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5518A-1B7E-4986-BC2D-EE3928C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C178-1CAF-4FB0-A856-7B9B383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9064-6FAB-4698-AC55-399F8561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DD61-8555-4EC1-A150-1EBEB25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8C3A-5EFF-4DCC-B803-43B80B8D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116-8602-40C3-9A74-0EC7EE4C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317D-AA36-4B8B-B357-71BC96B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9418-2EDF-4144-B64E-36560DF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D844-D0B9-42E2-AE93-3F701A7D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886E-502B-4988-8615-186B8DF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4D8B-1A91-4613-BE49-CEA4E879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9C65-2748-4EF4-814C-9079DC48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5B807-6C1B-46BC-8B91-1A45E158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52B9-4104-434C-8C9B-B60C674F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661F-FA47-4AB5-B214-A56354F2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C4DC-FD41-4EC5-9337-75ED203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292-251F-4E74-9597-2AD245E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B78E6-0E99-4C28-AF4D-5ACAD8EB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1393-C09D-4899-89D0-26DF92C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DDD9-57D8-4381-86C4-1332B7F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8470-8DAB-4FC0-AF5B-509C9392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FB7D-DABD-437C-9799-72DD46C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B52A-DE6C-4C71-B36A-F81F51B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3827-D849-4B79-9B31-322CC958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DBED-B986-4071-BBF9-0EC1DC0F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769A-6EE5-4797-87C6-DA0F6A83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F524-DBB9-43F2-9785-AD9DB78D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1C1-2EBA-4963-B039-942CC84D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33FA4-D428-439F-BBF6-D4FD8FAF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2E387-0E3A-4633-863A-81A88E5E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F5F9-CEB0-4479-BFBD-9DACF5CB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BA5C-F15A-47C9-9F6F-C69DB24E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AF307-05D1-45B6-BF0A-B86F884B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31DE-C783-4237-A462-3EB45AD7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8AFB7-F4CD-44D0-8394-9D6F184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A26B-A694-4F5E-BDA3-D34E251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0F96-DAEF-4F03-B5F1-2088164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A396-171E-46D3-90A5-D919A4DB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C8C-A13C-4A26-8DAC-3FA0D7B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C4201-2AC6-4626-84C7-2B4842D4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1399-DEAC-4628-843D-7E70BB66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8539B-2424-44CA-BF48-9583B43B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47C7D-164A-4F29-A51D-FB3C063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6E23E-80CA-48C5-AAA0-74DBE774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7F871-11DC-4143-8E7F-9EADC4A9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6EC61-9237-4C2F-8C7D-614A4CF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F6785-B42B-4022-B30B-96557FC2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349D-286A-4B05-93A6-36FE212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AA63B-3E4E-472B-9EB6-AA8581DC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902-51E3-4FBD-8EF1-00A17787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3979B-17A0-402E-B857-6C552B8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BCB2-9C61-4757-88C3-01016D39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1AE8-2EE7-4E84-94AB-6126172D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FDD0F-B025-4309-B73B-5B6A872B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93D5C-F481-42E9-9E79-69EB4122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D0D65-DFE4-47EF-A3E8-CD97FEAA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4DE9D-1921-4E98-8319-5B44F4E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48DB-1AD8-4C4A-A73A-331FD639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0C9D9-D691-459D-94B8-2A41084D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6BD1-5308-4E27-BB20-E1B27DC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2B4-E659-4623-9DA6-2210CC1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A2B1-5FE6-4942-B29A-0927DB2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3C51-5558-402F-95CB-A53B7D9D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7DF6-58D4-4078-A185-1F635E64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D7158-FEFB-4534-96C1-068AC171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D5247-839A-4586-932D-2F3F2390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B41-8A3C-40D8-A11E-E26CB2D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7097-D595-4660-B7C4-2B0B73C76E01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D9AB-6089-471F-BB31-8467C67EB1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" name="AutoShape 4"/>
          <p:cNvSpPr/>
          <p:nvPr/>
        </p:nvSpPr>
        <p:spPr>
          <a:xfrm>
            <a:off x="0" y="0"/>
            <a:ext cx="9864720" cy="765000"/>
          </a:xfrm>
          <a:custGeom>
            <a:avLst/>
            <a:gdLst>
              <a:gd name="textAreaLeft" fmla="*/ 0 w 9864720"/>
              <a:gd name="textAreaRight" fmla="*/ 4932360 w 98647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2892" h="1000">
                <a:moveTo>
                  <a:pt x="0" y="0"/>
                </a:moveTo>
                <a:lnTo>
                  <a:pt x="12392" y="0"/>
                </a:lnTo>
                <a:cubicBezTo>
                  <a:pt x="12668" y="0"/>
                  <a:pt x="12892" y="223"/>
                  <a:pt x="12892" y="500"/>
                </a:cubicBezTo>
                <a:cubicBezTo>
                  <a:pt x="12892" y="776"/>
                  <a:pt x="12668" y="1000"/>
                  <a:pt x="12392" y="1000"/>
                </a:cubicBezTo>
                <a:lnTo>
                  <a:pt x="0" y="1000"/>
                </a:lnTo>
                <a:lnTo>
                  <a:pt x="0" y="0"/>
                </a:lnTo>
                <a:close/>
              </a:path>
            </a:pathLst>
          </a:custGeom>
          <a:solidFill>
            <a:srgbClr val="5e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17A-01C2-40CF-98A5-7DD1163A1785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3A60-C1D4-430C-A984-70691E2C82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8F6E-C699-4430-9B10-ACC08E80F343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895-FEB4-42FC-9E40-922A0E7DCF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3ECA-DFEE-418C-AC26-4CAE56521A96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4B5-FB40-4AEA-862F-43DCBDCFB4B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29D0-F5F9-417E-BA15-44FFC514BDC6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FD31-31D9-47D1-8E62-22582A7663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59B-5E8D-4926-BE7D-8D62C2BC8F7C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7DC7-1AA2-4C3A-BCEF-FC9C1C88ED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9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A00-EA48-4922-B73D-F74983530F0F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F228-D015-4E76-A73B-6BFBBD8114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nsportal.ru/sites/default/files/styles/media_gallery_thumbnail/public/gallery/2019/10/01/4_2.jpg?itok=wDcRM1Ll" TargetMode="External"/><Relationship Id="rId2" Type="http://schemas.openxmlformats.org/officeDocument/2006/relationships/hyperlink" Target="https://nsportal.ru/sites/default/files/styles/media_gallery_thumbnail/public/gallery/2019/10/01/moi_gramoty./gramota.jpg?itok=xryT0NqW" TargetMode="External"/><Relationship Id="rId3" Type="http://schemas.openxmlformats.org/officeDocument/2006/relationships/hyperlink" Target="https://nsportal.ru/sites/default/files/styles/media_gallery_large/public/gallery/2019/10/01/gramota.jpg?itok=3TXn6eDe" TargetMode="External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nsportal.ru/sites/default/files/styles/media_gallery_large/public/gallery/2019/10/01/6_3.jpg?itok=3fCDRM6K" TargetMode="External"/><Relationship Id="rId2" Type="http://schemas.openxmlformats.org/officeDocument/2006/relationships/hyperlink" Target="https://nsportal.ru/sites/default/files/styles/media_gallery_large/public/gallery/2019/10/01/gramota1_0.jpg?itok=eglE2phD" TargetMode="External"/><Relationship Id="rId3" Type="http://schemas.openxmlformats.org/officeDocument/2006/relationships/hyperlink" Target="https://nsportal.ru/sites/default/files/styles/media_gallery_large/public/gallery/2019/10/01/b.jpg?itok=BA7MaLcN" TargetMode="External"/><Relationship Id="rId4" Type="http://schemas.openxmlformats.org/officeDocument/2006/relationships/hyperlink" Target="https://nsportal.ru/sites/default/files/styles/media_gallery_large/public/gallery/2019/10/08/23.jpg?itok=VgEygVfs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6.xml"/><Relationship Id="rId11" Type="http://schemas.openxmlformats.org/officeDocument/2006/relationships/slide" Target="slide19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4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nsportal.ru/obuhov-sergey-nikolaevich" TargetMode="External"/><Relationship Id="rId2" Type="http://schemas.openxmlformats.org/officeDocument/2006/relationships/hyperlink" Target="https://nsportal.ru/obuhov-sergey-nikolaevich" TargetMode="External"/><Relationship Id="rId3" Type="http://schemas.openxmlformats.org/officeDocument/2006/relationships/hyperlink" Target="https://admsov.com/" TargetMode="Externa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132000" y="154080"/>
            <a:ext cx="4592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ТФОЛИО УЧИТЕЛЯ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10920" y="1260360"/>
            <a:ext cx="6472440" cy="261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Обухо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ргей Николаевич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читель физической культур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B3F8-9680-45BF-901B-03BFA393B961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2189160" y="481824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 №2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.Советский, ХМАО-Ю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02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E:\Сергей для аттестации\Обуховы\Обухов Сергей Николаевич 2018-2019 г.jpg"/>
          <p:cNvPicPr/>
          <p:nvPr/>
        </p:nvPicPr>
        <p:blipFill>
          <a:blip r:embed="rId1"/>
          <a:stretch/>
        </p:blipFill>
        <p:spPr>
          <a:xfrm>
            <a:off x="395280" y="404640"/>
            <a:ext cx="2411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4B95-3EBC-470C-BAAD-234478EA75C6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ространение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11280" y="1700280"/>
          <a:ext cx="8243640" cy="3384360"/>
        </p:xfrm>
        <a:graphic>
          <a:graphicData uri="http://schemas.openxmlformats.org/drawingml/2006/table">
            <a:tbl>
              <a:tblPr/>
              <a:tblGrid>
                <a:gridCol w="757080"/>
                <a:gridCol w="74865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.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3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ступление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едагогическом совете : Квест- игра, как средство формирования личностных УУД младших школьников на уроках физической культу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йонный семинар учителей физической культур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ткрытый урок «Квест-игра. В стране веселых наук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ступление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едагогическом совете: «Использование ИКТ на уроках  физической культур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460" name="Стрелка влево 5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BF98-A6AA-4B5F-A1BD-13E8B82B0C5D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частие в профессиональных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971640" y="1365120"/>
          <a:ext cx="7404120" cy="3888000"/>
        </p:xfrm>
        <a:graphic>
          <a:graphicData uri="http://schemas.openxmlformats.org/drawingml/2006/table">
            <a:tbl>
              <a:tblPr/>
              <a:tblGrid>
                <a:gridCol w="761760"/>
                <a:gridCol w="66423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.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конкурс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«Две звезды» </a:t>
                      </a:r>
                      <a:r>
                        <a:rPr b="0" lang="en-US" sz="12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s://nsportal.ru/sites/default/files/styles/media_gallery_thumbnail/public/gallery/2019/10/01/4_2.jpg?itok=wDcRM1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конкурс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дебют   201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en-US" sz="16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s://nsportal.ru/sites/default/files/styles/media_gallery_thumbnail/public/gallery/2019/10/01/moi_gramoty./gramota.jpg?itok=xryT0Nq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69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конкурс  «Легкоатлетической эстафете, посвященной 74 годовщине Дня Победы в Великой Отечественной войне». </a:t>
                      </a:r>
                      <a:r>
                        <a:rPr b="0" lang="en-US" sz="14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s://nsportal.ru/sites/default/files/styles/media_gallery_large/public/gallery/2019/10/01/gramota.jpg?itok=3TXn6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465" name="Стрелка влево 5">
            <a:hlinkClick r:id="rId4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1187280" y="1268280"/>
          <a:ext cx="7272360" cy="3973680"/>
        </p:xfrm>
        <a:graphic>
          <a:graphicData uri="http://schemas.openxmlformats.org/drawingml/2006/table">
            <a:tbl>
              <a:tblPr/>
              <a:tblGrid>
                <a:gridCol w="1124280"/>
                <a:gridCol w="5068800"/>
                <a:gridCol w="1079280"/>
              </a:tblGrid>
              <a:tr h="4514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ждения, благодар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ое  письмо за помощь в организации и проведении праздничного мероприятия «Мы наследники Победы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s://nsportal.ru/sites/default/files/styles/media_gallery_large/public/gallery/2019/10/01/6_3.jpg?itok=3fCDRM6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ое  письмо за качественную подготовку трех и более победителей и призеров муниципального этапа предметной олимпиады обучающихся 2 – 6 классов муниципальных общеобразовательных организаций Советского района в 2018-2019 учебном го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s://nsportal.ru/sites/default/files/styles/media_gallery_large/public/gallery/2019/10/01/gramota1_0.jpg?itok=eglE2ph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ое  письмо за целеустремленность и высокие результаты легкоатлетической эстафете, посвященной 74 – й годовщине Победы в Великой Отечественной вой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s://nsportal.ru/sites/default/files/styles/media_gallery_large/public/gallery/2019/10/01/b.jpg?itok=BA7MaLc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а за добросовестный труд в деле воспитания и образования подросткового поколения, целеустремленность и ответственность, неиссякаемую энергию, незаменимый личный вклад в процесс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s://nsportal.ru/sites/default/files/styles/media_gallery_large/public/gallery/2019/10/08/23.jpg?itok=VgEygV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а за значительные успехи в организации и совершенствовании образовательного процесса, большой вклад в развитие образовательной деятельности школы, высокие показатели обученности, доброту и чуткое отношение к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s://nsportal.ru/sites/default/files/styles/media_gallery_thumbnail/public/gallery/2021/03/31/123.jpeg?itok=a6s3W54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C3DE-21CE-4C93-A125-CE1C223A7263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" descr="юдщшшш"/>
          <p:cNvPicPr/>
          <p:nvPr/>
        </p:nvPicPr>
        <p:blipFill>
          <a:blip r:embed="rId5"/>
          <a:stretch/>
        </p:blipFill>
        <p:spPr>
          <a:xfrm rot="20604600">
            <a:off x="310680" y="1184040"/>
            <a:ext cx="1150920" cy="158904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лево 5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661E-9620-42FA-965E-CFEDA08D1A7D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72880" y="5516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стабильный уровень качества знаний учащихся. Неуспевающих по предмету 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Рисунок 10" descr="44д.gif"/>
          <p:cNvPicPr/>
          <p:nvPr/>
        </p:nvPicPr>
        <p:blipFill>
          <a:blip r:embed="rId1"/>
          <a:stretch/>
        </p:blipFill>
        <p:spPr>
          <a:xfrm rot="909600">
            <a:off x="6911640" y="1063440"/>
            <a:ext cx="1906560" cy="1484280"/>
          </a:xfrm>
          <a:prstGeom prst="rect">
            <a:avLst/>
          </a:prstGeom>
          <a:ln w="0">
            <a:noFill/>
          </a:ln>
        </p:spPr>
      </p:pic>
      <p:sp>
        <p:nvSpPr>
          <p:cNvPr id="475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инамика достижений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Диаграмма 9" descr=""/>
          <p:cNvPicPr/>
          <p:nvPr/>
        </p:nvPicPr>
        <p:blipFill>
          <a:blip r:embed="rId2"/>
          <a:stretch/>
        </p:blipFill>
        <p:spPr>
          <a:xfrm>
            <a:off x="1217520" y="2320920"/>
            <a:ext cx="5587920" cy="3301920"/>
          </a:xfrm>
          <a:prstGeom prst="rect">
            <a:avLst/>
          </a:prstGeom>
          <a:ln w="0">
            <a:noFill/>
          </a:ln>
        </p:spPr>
      </p:pic>
      <p:sp>
        <p:nvSpPr>
          <p:cNvPr id="477" name="Стрелка влево 8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3520-D91D-4A96-AE8B-EA32B810565B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39640" y="1844640"/>
          <a:ext cx="8345520" cy="3024360"/>
        </p:xfrm>
        <a:graphic>
          <a:graphicData uri="http://schemas.openxmlformats.org/drawingml/2006/table">
            <a:tbl>
              <a:tblPr/>
              <a:tblGrid>
                <a:gridCol w="1303560"/>
                <a:gridCol w="1211040"/>
                <a:gridCol w="1528920"/>
                <a:gridCol w="4302000"/>
              </a:tblGrid>
              <a:tr h="136836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2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4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9200">
                <a:tc gridSpan="4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680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 по физической культуре стабильно высоким на протяжении всех лет обу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480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7"/>
          <p:cNvSpPr/>
          <p:nvPr/>
        </p:nvSpPr>
        <p:spPr>
          <a:xfrm>
            <a:off x="260280" y="562284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Люди добиваются успеха, когда кто-то, кого они уважают, считает, что они "могут "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оберт Уотер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инамика достижений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лево 7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8D93-4256-4AD3-B6E3-18C98F232D87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7"/>
          <p:cNvSpPr/>
          <p:nvPr/>
        </p:nvSpPr>
        <p:spPr>
          <a:xfrm>
            <a:off x="171360" y="4421160"/>
            <a:ext cx="871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 внеурочной работе стремлюсь развивать творчество учащихся, личность ребенка во всех ее аспектах: сохранение здоровья, развитие интеллекта и познавательных способностей, социально – личностную адаптацию в урочной и внеурочной деятельности. Данное направление в работе с детьми – неотъемлемая составляющая система моей  педагогической деятельности.   Активно сотрудничаю с  учреждениями культуры и спорта   го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Заголовок 16"/>
          <p:cNvSpPr/>
          <p:nvPr/>
        </p:nvSpPr>
        <p:spPr>
          <a:xfrm>
            <a:off x="826920" y="-2736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езультаты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5867280" y="2781360"/>
            <a:ext cx="28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стников и призеров олимпиад, кон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Диаграмма 9" descr=""/>
          <p:cNvPicPr/>
          <p:nvPr/>
        </p:nvPicPr>
        <p:blipFill>
          <a:blip r:embed="rId1"/>
          <a:stretch/>
        </p:blipFill>
        <p:spPr>
          <a:xfrm>
            <a:off x="-231840" y="1170000"/>
            <a:ext cx="5587920" cy="3301920"/>
          </a:xfrm>
          <a:prstGeom prst="rect">
            <a:avLst/>
          </a:prstGeom>
          <a:ln w="0">
            <a:noFill/>
          </a:ln>
        </p:spPr>
      </p:pic>
      <p:sp>
        <p:nvSpPr>
          <p:cNvPr id="490" name="Стрелка влево 7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3"/>
          <p:cNvSpPr/>
          <p:nvPr/>
        </p:nvSpPr>
        <p:spPr>
          <a:xfrm>
            <a:off x="347760" y="4378320"/>
            <a:ext cx="3254400" cy="184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5637240" y="4378320"/>
            <a:ext cx="339876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"/>
          <p:cNvSpPr/>
          <p:nvPr/>
        </p:nvSpPr>
        <p:spPr>
          <a:xfrm>
            <a:off x="3602160" y="4438800"/>
            <a:ext cx="11318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0"/>
          <p:cNvSpPr/>
          <p:nvPr/>
        </p:nvSpPr>
        <p:spPr>
          <a:xfrm flipH="1">
            <a:off x="4733280" y="4467240"/>
            <a:ext cx="1028520" cy="1168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1"/>
          <p:cNvGrpSpPr/>
          <p:nvPr/>
        </p:nvGrpSpPr>
        <p:grpSpPr>
          <a:xfrm>
            <a:off x="770040" y="1319040"/>
            <a:ext cx="7784640" cy="1868040"/>
            <a:chOff x="770040" y="1319040"/>
            <a:chExt cx="7784640" cy="1868040"/>
          </a:xfrm>
        </p:grpSpPr>
        <p:grpSp>
          <p:nvGrpSpPr>
            <p:cNvPr id="498" name="Group 12"/>
            <p:cNvGrpSpPr/>
            <p:nvPr/>
          </p:nvGrpSpPr>
          <p:grpSpPr>
            <a:xfrm>
              <a:off x="770040" y="1485720"/>
              <a:ext cx="7784640" cy="1701360"/>
              <a:chOff x="770040" y="1485720"/>
              <a:chExt cx="7784640" cy="1701360"/>
            </a:xfrm>
          </p:grpSpPr>
          <p:sp>
            <p:nvSpPr>
              <p:cNvPr id="499" name="Oval 13"/>
              <p:cNvSpPr/>
              <p:nvPr/>
            </p:nvSpPr>
            <p:spPr>
              <a:xfrm>
                <a:off x="855000" y="1540080"/>
                <a:ext cx="7699680" cy="164700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4"/>
              <p:cNvSpPr/>
              <p:nvPr/>
            </p:nvSpPr>
            <p:spPr>
              <a:xfrm>
                <a:off x="770040" y="1485720"/>
                <a:ext cx="7699680" cy="164664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Oval 15"/>
            <p:cNvSpPr/>
            <p:nvPr/>
          </p:nvSpPr>
          <p:spPr>
            <a:xfrm>
              <a:off x="1137240" y="1319040"/>
              <a:ext cx="6969600" cy="156492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"/>
            <p:cNvSpPr/>
            <p:nvPr/>
          </p:nvSpPr>
          <p:spPr>
            <a:xfrm>
              <a:off x="1227960" y="1328040"/>
              <a:ext cx="680040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7"/>
            <p:cNvSpPr/>
            <p:nvPr/>
          </p:nvSpPr>
          <p:spPr>
            <a:xfrm>
              <a:off x="1297800" y="1343160"/>
              <a:ext cx="6470640" cy="142560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8"/>
            <p:cNvSpPr/>
            <p:nvPr/>
          </p:nvSpPr>
          <p:spPr>
            <a:xfrm>
              <a:off x="1640160" y="137484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новационная деятельность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Прямоугольник 1"/>
          <p:cNvSpPr/>
          <p:nvPr/>
        </p:nvSpPr>
        <p:spPr>
          <a:xfrm>
            <a:off x="2379600" y="1539720"/>
            <a:ext cx="4496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реализации федерального проекта «Современная школа» национального проекта «Образование» с 01.09.2020 года в МБОУ СОШ № 2 состоялось открытие Центра образования цифрового и гуманитарного профилей «Точка рос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5"/>
          <p:cNvSpPr/>
          <p:nvPr/>
        </p:nvSpPr>
        <p:spPr>
          <a:xfrm>
            <a:off x="2401920" y="3225960"/>
            <a:ext cx="4249800" cy="1152360"/>
          </a:xfrm>
          <a:prstGeom prst="roundRect">
            <a:avLst>
              <a:gd name="adj" fmla="val 16667"/>
            </a:avLst>
          </a:prstGeom>
          <a:solidFill>
            <a:srgbClr val="d6f0ff"/>
          </a:solidFill>
          <a:ln w="255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"Точка роста" является структурным подразделением Школы, входит в состав региональной сети Центров образования цифрового и гуманитарного профилей «Точка роста» и функционирует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трелка влево 22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5900760" y="4467240"/>
            <a:ext cx="287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т функцию общественного пространства для развития общекультурных компетенций, цифрового и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хматного образован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оектной деятельности, творческой самореализации детей, педагогов, родительской обществ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576360" y="4467240"/>
            <a:ext cx="274140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, реализующий основные и дополнительные общеобразовательные программы цифрового, естественнонаучного, технического, гуманитарного и социокультурного профи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3"/>
          <p:cNvSpPr/>
          <p:nvPr/>
        </p:nvSpPr>
        <p:spPr>
          <a:xfrm>
            <a:off x="5562720" y="3224160"/>
            <a:ext cx="3257280" cy="21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"/>
          <p:cNvSpPr/>
          <p:nvPr/>
        </p:nvSpPr>
        <p:spPr>
          <a:xfrm>
            <a:off x="414360" y="3303720"/>
            <a:ext cx="3392640" cy="204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8"/>
          <p:cNvSpPr/>
          <p:nvPr/>
        </p:nvSpPr>
        <p:spPr>
          <a:xfrm>
            <a:off x="3807000" y="3187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0"/>
          <p:cNvSpPr/>
          <p:nvPr/>
        </p:nvSpPr>
        <p:spPr>
          <a:xfrm flipH="1">
            <a:off x="4643280" y="3187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1"/>
          <p:cNvGrpSpPr/>
          <p:nvPr/>
        </p:nvGrpSpPr>
        <p:grpSpPr>
          <a:xfrm>
            <a:off x="785880" y="1285920"/>
            <a:ext cx="7785000" cy="1867320"/>
            <a:chOff x="785880" y="1285920"/>
            <a:chExt cx="7785000" cy="1867320"/>
          </a:xfrm>
        </p:grpSpPr>
        <p:grpSp>
          <p:nvGrpSpPr>
            <p:cNvPr id="518" name="Group 12"/>
            <p:cNvGrpSpPr/>
            <p:nvPr/>
          </p:nvGrpSpPr>
          <p:grpSpPr>
            <a:xfrm>
              <a:off x="785880" y="1452600"/>
              <a:ext cx="7785000" cy="1700640"/>
              <a:chOff x="785880" y="1452600"/>
              <a:chExt cx="7785000" cy="1700640"/>
            </a:xfrm>
          </p:grpSpPr>
          <p:sp>
            <p:nvSpPr>
              <p:cNvPr id="519" name="Oval 13"/>
              <p:cNvSpPr/>
              <p:nvPr/>
            </p:nvSpPr>
            <p:spPr>
              <a:xfrm>
                <a:off x="870840" y="1506600"/>
                <a:ext cx="7700040" cy="164664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4"/>
              <p:cNvSpPr/>
              <p:nvPr/>
            </p:nvSpPr>
            <p:spPr>
              <a:xfrm>
                <a:off x="785880" y="1452600"/>
                <a:ext cx="7700040" cy="164628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Oval 15"/>
            <p:cNvSpPr/>
            <p:nvPr/>
          </p:nvSpPr>
          <p:spPr>
            <a:xfrm>
              <a:off x="1153080" y="1285920"/>
              <a:ext cx="6969960" cy="156456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1243800" y="1294920"/>
              <a:ext cx="680076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1313640" y="1310040"/>
              <a:ext cx="6471000" cy="142524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8"/>
            <p:cNvSpPr/>
            <p:nvPr/>
          </p:nvSpPr>
          <p:spPr>
            <a:xfrm>
              <a:off x="1656000" y="134172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Box 19"/>
          <p:cNvSpPr/>
          <p:nvPr/>
        </p:nvSpPr>
        <p:spPr>
          <a:xfrm>
            <a:off x="1724040" y="15066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Центр "Точка роста" оснащен  современным оборудованием, которое позволило мне обновить содержание образования по внеурочной деятельности в программ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574560" y="3349800"/>
            <a:ext cx="310212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 шахматные обучающие и игровые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программы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нозавры учат шахматам», «Большое шахматное путешествие», «Шахматная тактика», «Шахматный задачник» «Шахматная стратегия», «Шахматные этюды». Кроме того использую информационно-поисковую систему «Chess Assistant», российский шахматный портал “Шахматная Планета”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essplane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1"/>
          <p:cNvSpPr/>
          <p:nvPr/>
        </p:nvSpPr>
        <p:spPr>
          <a:xfrm>
            <a:off x="5562720" y="3224160"/>
            <a:ext cx="3257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шахматного портал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ная Планета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обучающимся получать возможность участвовать в регулярных турнирах в режиме реального времени или в заочных турнирах, смотреть партии других участников, обменяться мнениями о шахматных событиях и обсуждать текущие проблемы в чате или конфере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новационная деятельность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Freeform 10"/>
          <p:cNvSpPr/>
          <p:nvPr/>
        </p:nvSpPr>
        <p:spPr>
          <a:xfrm flipH="1" rot="2432400">
            <a:off x="3993480" y="3408120"/>
            <a:ext cx="1461960" cy="2070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трелка влево 22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кругленный прямоугольник 23"/>
          <p:cNvSpPr/>
          <p:nvPr/>
        </p:nvSpPr>
        <p:spPr>
          <a:xfrm>
            <a:off x="2562120" y="5516640"/>
            <a:ext cx="4249800" cy="1152360"/>
          </a:xfrm>
          <a:prstGeom prst="roundRect">
            <a:avLst>
              <a:gd name="adj" fmla="val 16667"/>
            </a:avLst>
          </a:prstGeom>
          <a:solidFill>
            <a:srgbClr val="d6f0ff"/>
          </a:solidFill>
          <a:ln w="255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 применением ИКТ моторная плотность тренировки возрастает до 80% и выше, индивидуализируется тренировочный процесс, что приводит к росту спортивных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34C8-1DF9-45A1-9787-DAD7605A7123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15840" y="13320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нновацион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Заголовок 16"/>
          <p:cNvSpPr/>
          <p:nvPr/>
        </p:nvSpPr>
        <p:spPr>
          <a:xfrm>
            <a:off x="841320" y="628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частие учащихся в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082520" y="1484280"/>
          <a:ext cx="6081840" cy="4316400"/>
        </p:xfrm>
        <a:graphic>
          <a:graphicData uri="http://schemas.openxmlformats.org/drawingml/2006/table">
            <a:tbl>
              <a:tblPr/>
              <a:tblGrid>
                <a:gridCol w="2581560"/>
                <a:gridCol w="1987560"/>
                <a:gridCol w="1512720"/>
              </a:tblGrid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Муниципальный, региональный, всероссийский, международный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т учас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чно, интернет - турнир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обедители, призеры, участник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ый турнир по шахматам «Слоненок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ый турнир по шахматам «Белая ладья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ител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турнир по шахматам «Блиц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ител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турнир по шахматам, посвящённый выводу войск из Афганистан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ого конкурса решения шахматных задач, посвященного Всемирному дню распространения информации об аутизм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ы разные, но мы вместе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турнир по быстрым шахматам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вящённого Победе воинов Александра Невского на Чудском озер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6" name="Рисунок 5" descr="1191269027_c4112.jpg"/>
          <p:cNvPicPr/>
          <p:nvPr/>
        </p:nvPicPr>
        <p:blipFill>
          <a:blip r:embed="rId1"/>
          <a:srcRect l="0" t="0" r="0" b="11008"/>
          <a:stretch/>
        </p:blipFill>
        <p:spPr>
          <a:xfrm>
            <a:off x="0" y="0"/>
            <a:ext cx="1119240" cy="125100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2"/>
          <p:cNvSpPr/>
          <p:nvPr/>
        </p:nvSpPr>
        <p:spPr>
          <a:xfrm>
            <a:off x="569880" y="6111720"/>
            <a:ext cx="75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 Ученики с большим интересом занимаются на занятиях по шахмат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биваются хороших результат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трелка влево 7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Дата 3"/>
          <p:cNvSpPr/>
          <p:nvPr/>
        </p:nvSpPr>
        <p:spPr>
          <a:xfrm>
            <a:off x="5356080" y="6383160"/>
            <a:ext cx="378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6BEC-FA55-4A0B-9ABB-AFE75E150588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17360"/>
            <a:ext cx="6265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Прямоугольник 1"/>
          <p:cNvSpPr/>
          <p:nvPr/>
        </p:nvSpPr>
        <p:spPr>
          <a:xfrm>
            <a:off x="1692360" y="7812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Monotype Corsiva"/>
              </a:rPr>
              <a:t>Духовно-нравственное развитие – важнейший компонент социального заказа для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2"/>
          <p:cNvSpPr/>
          <p:nvPr/>
        </p:nvSpPr>
        <p:spPr>
          <a:xfrm>
            <a:off x="281160" y="17049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— воспитание, социально-педагогическая поддержка становления и развития высоконравственного, ответственного, инициативного и компетентного гражданин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2" descr=""/>
          <p:cNvPicPr/>
          <p:nvPr/>
        </p:nvPicPr>
        <p:blipFill>
          <a:blip r:embed="rId1"/>
          <a:stretch/>
        </p:blipFill>
        <p:spPr>
          <a:xfrm rot="433200">
            <a:off x="552600" y="2720880"/>
            <a:ext cx="1962000" cy="147312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6" descr=""/>
          <p:cNvPicPr/>
          <p:nvPr/>
        </p:nvPicPr>
        <p:blipFill>
          <a:blip r:embed="rId2"/>
          <a:stretch/>
        </p:blipFill>
        <p:spPr>
          <a:xfrm rot="980400">
            <a:off x="6637320" y="3166560"/>
            <a:ext cx="1920960" cy="144324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8"/>
          <p:cNvSpPr/>
          <p:nvPr/>
        </p:nvSpPr>
        <p:spPr>
          <a:xfrm>
            <a:off x="6400800" y="4851360"/>
            <a:ext cx="250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Я не играю в шахматы — в шахматах я борю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4"/>
          <p:cNvSpPr/>
          <p:nvPr/>
        </p:nvSpPr>
        <p:spPr>
          <a:xfrm>
            <a:off x="3765600" y="5661000"/>
            <a:ext cx="541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тинный герой играет во время сражения шахматную партию независимо от её исхода.</a:t>
            </a:r>
            <a:br>
              <a:rPr sz="1600"/>
            </a:br>
            <a:r>
              <a:rPr b="1" i="1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олеон Бонап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"/>
          <p:cNvPicPr/>
          <p:nvPr/>
        </p:nvPicPr>
        <p:blipFill>
          <a:blip r:embed="rId3"/>
          <a:stretch/>
        </p:blipFill>
        <p:spPr>
          <a:xfrm rot="21071400">
            <a:off x="3884400" y="2803680"/>
            <a:ext cx="1231920" cy="163980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2" descr=""/>
          <p:cNvPicPr/>
          <p:nvPr/>
        </p:nvPicPr>
        <p:blipFill>
          <a:blip r:embed="rId4"/>
          <a:stretch/>
        </p:blipFill>
        <p:spPr>
          <a:xfrm rot="21225000">
            <a:off x="1119240" y="5075280"/>
            <a:ext cx="1979640" cy="1485720"/>
          </a:xfrm>
          <a:prstGeom prst="rect">
            <a:avLst/>
          </a:prstGeom>
          <a:ln w="0">
            <a:noFill/>
          </a:ln>
        </p:spPr>
      </p:pic>
      <p:sp>
        <p:nvSpPr>
          <p:cNvPr id="549" name="Прямоугольник 2"/>
          <p:cNvSpPr/>
          <p:nvPr/>
        </p:nvSpPr>
        <p:spPr>
          <a:xfrm>
            <a:off x="281160" y="4194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ахматы требуют больше у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ем жизнь… и чем бридж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2882160" y="4543560"/>
            <a:ext cx="32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 великого до смешного – один 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влево 13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Группа 3"/>
          <p:cNvGrpSpPr/>
          <p:nvPr/>
        </p:nvGrpSpPr>
        <p:grpSpPr>
          <a:xfrm>
            <a:off x="884160" y="820800"/>
            <a:ext cx="4160880" cy="685800"/>
            <a:chOff x="884160" y="820800"/>
            <a:chExt cx="4160880" cy="685800"/>
          </a:xfrm>
        </p:grpSpPr>
        <p:sp>
          <p:nvSpPr>
            <p:cNvPr id="349" name="AutoShape 52"/>
            <p:cNvSpPr/>
            <p:nvPr/>
          </p:nvSpPr>
          <p:spPr>
            <a:xfrm>
              <a:off x="1593360" y="1003680"/>
              <a:ext cx="3451680" cy="31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f0ff"/>
                </a:gs>
                <a:gs pos="100000">
                  <a:srgbClr val="31b6f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" action="ppaction://hlinksldjump"/>
                </a:rPr>
                <a:t>Общ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2" action="ppaction://hlinksldjump"/>
                </a:rPr>
                <a:t>све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Group 46" descr=""/>
            <p:cNvPicPr/>
            <p:nvPr/>
          </p:nvPicPr>
          <p:blipFill>
            <a:blip r:embed="rId3"/>
            <a:stretch/>
          </p:blipFill>
          <p:spPr>
            <a:xfrm>
              <a:off x="884160" y="820800"/>
              <a:ext cx="7768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Group 56"/>
          <p:cNvGrpSpPr/>
          <p:nvPr/>
        </p:nvGrpSpPr>
        <p:grpSpPr>
          <a:xfrm>
            <a:off x="884160" y="2340000"/>
            <a:ext cx="6640560" cy="685800"/>
            <a:chOff x="884160" y="2340000"/>
            <a:chExt cx="6640560" cy="685800"/>
          </a:xfrm>
        </p:grpSpPr>
        <p:sp>
          <p:nvSpPr>
            <p:cNvPr id="352" name="AutoShape 57"/>
            <p:cNvSpPr/>
            <p:nvPr/>
          </p:nvSpPr>
          <p:spPr>
            <a:xfrm>
              <a:off x="1436760" y="2446560"/>
              <a:ext cx="6087960" cy="44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c9f0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4" action="ppaction://hlinksldjump"/>
                </a:rPr>
                <a:t>Результа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5" action="ppaction://hlinksldjump"/>
                </a:rPr>
                <a:t>педагогическ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6" action="ppaction://hlinksldjump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58"/>
            <p:cNvSpPr/>
            <p:nvPr/>
          </p:nvSpPr>
          <p:spPr>
            <a:xfrm>
              <a:off x="884160" y="2340000"/>
              <a:ext cx="685800" cy="685800"/>
            </a:xfrm>
            <a:prstGeom prst="diamond">
              <a:avLst/>
            </a:prstGeom>
            <a:solidFill>
              <a:srgbClr val="dc9f0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0"/>
            <p:cNvSpPr/>
            <p:nvPr/>
          </p:nvSpPr>
          <p:spPr>
            <a:xfrm>
              <a:off x="1040040" y="243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1"/>
          <p:cNvGrpSpPr/>
          <p:nvPr/>
        </p:nvGrpSpPr>
        <p:grpSpPr>
          <a:xfrm>
            <a:off x="893880" y="3886200"/>
            <a:ext cx="6967440" cy="685800"/>
            <a:chOff x="893880" y="3886200"/>
            <a:chExt cx="6967440" cy="685800"/>
          </a:xfrm>
        </p:grpSpPr>
        <p:sp>
          <p:nvSpPr>
            <p:cNvPr id="356" name="AutoShape 62"/>
            <p:cNvSpPr/>
            <p:nvPr/>
          </p:nvSpPr>
          <p:spPr>
            <a:xfrm>
              <a:off x="1274760" y="4005360"/>
              <a:ext cx="6586560" cy="4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d078"/>
                </a:gs>
                <a:gs pos="100000">
                  <a:srgbClr val="0293e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7" action="ppaction://hlinksldjump"/>
                </a:rPr>
                <a:t>Оценка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8" action="ppaction://hlinksldjump"/>
                </a:rPr>
                <a:t>профессиональн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9" action="ppaction://hlinksldjump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63"/>
            <p:cNvSpPr/>
            <p:nvPr/>
          </p:nvSpPr>
          <p:spPr>
            <a:xfrm>
              <a:off x="893880" y="3886200"/>
              <a:ext cx="685800" cy="685800"/>
            </a:xfrm>
            <a:prstGeom prst="diamond">
              <a:avLst/>
            </a:prstGeom>
            <a:solidFill>
              <a:srgbClr val="0293e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65"/>
            <p:cNvSpPr/>
            <p:nvPr/>
          </p:nvSpPr>
          <p:spPr>
            <a:xfrm>
              <a:off x="1049040" y="398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61"/>
          <p:cNvGrpSpPr/>
          <p:nvPr/>
        </p:nvGrpSpPr>
        <p:grpSpPr>
          <a:xfrm>
            <a:off x="893880" y="4606920"/>
            <a:ext cx="7665480" cy="685800"/>
            <a:chOff x="893880" y="4606920"/>
            <a:chExt cx="7665480" cy="685800"/>
          </a:xfrm>
        </p:grpSpPr>
        <p:sp>
          <p:nvSpPr>
            <p:cNvPr id="360" name="AutoShape 62"/>
            <p:cNvSpPr/>
            <p:nvPr/>
          </p:nvSpPr>
          <p:spPr>
            <a:xfrm>
              <a:off x="1285560" y="4726080"/>
              <a:ext cx="727380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6a0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0" action="ppaction://hlinksldjump"/>
                </a:rPr>
                <a:t>Инновационная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1" action="ppaction://hlinksldjump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3"/>
            <p:cNvSpPr/>
            <p:nvPr/>
          </p:nvSpPr>
          <p:spPr>
            <a:xfrm>
              <a:off x="893880" y="4606920"/>
              <a:ext cx="705600" cy="685800"/>
            </a:xfrm>
            <a:prstGeom prst="diamond">
              <a:avLst/>
            </a:prstGeom>
            <a:solidFill>
              <a:srgbClr val="936a0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5"/>
            <p:cNvSpPr/>
            <p:nvPr/>
          </p:nvSpPr>
          <p:spPr>
            <a:xfrm>
              <a:off x="1058400" y="4705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"/>
          <p:cNvGrpSpPr/>
          <p:nvPr/>
        </p:nvGrpSpPr>
        <p:grpSpPr>
          <a:xfrm>
            <a:off x="892080" y="1593720"/>
            <a:ext cx="6632640" cy="685800"/>
            <a:chOff x="892080" y="1593720"/>
            <a:chExt cx="6632640" cy="685800"/>
          </a:xfrm>
        </p:grpSpPr>
        <p:sp>
          <p:nvSpPr>
            <p:cNvPr id="364" name="AutoShape 52"/>
            <p:cNvSpPr/>
            <p:nvPr/>
          </p:nvSpPr>
          <p:spPr>
            <a:xfrm>
              <a:off x="1569240" y="1708920"/>
              <a:ext cx="59554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f0ff"/>
                </a:gs>
                <a:gs pos="100000">
                  <a:srgbClr val="13abf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2" action="ppaction://hlinksldjump"/>
                </a:rPr>
                <a:t>Развит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3" action="ppaction://hlinksldjump"/>
                </a:rPr>
                <a:t>профессиональн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4" action="ppaction://hlinksldjump"/>
                </a:rPr>
                <a:t>компетен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Group 46" descr=""/>
            <p:cNvPicPr/>
            <p:nvPr/>
          </p:nvPicPr>
          <p:blipFill>
            <a:blip r:embed="rId15"/>
            <a:stretch/>
          </p:blipFill>
          <p:spPr>
            <a:xfrm>
              <a:off x="892080" y="1593720"/>
              <a:ext cx="7776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85640" y="-334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СОДЕРЖАН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67" name="Group 56"/>
          <p:cNvGrpSpPr/>
          <p:nvPr/>
        </p:nvGrpSpPr>
        <p:grpSpPr>
          <a:xfrm>
            <a:off x="884160" y="3112920"/>
            <a:ext cx="6597360" cy="685800"/>
            <a:chOff x="884160" y="3112920"/>
            <a:chExt cx="6597360" cy="685800"/>
          </a:xfrm>
        </p:grpSpPr>
        <p:sp>
          <p:nvSpPr>
            <p:cNvPr id="368" name="AutoShape 57"/>
            <p:cNvSpPr/>
            <p:nvPr/>
          </p:nvSpPr>
          <p:spPr>
            <a:xfrm>
              <a:off x="1456560" y="3219480"/>
              <a:ext cx="6024960" cy="44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c9f0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7" action="ppaction://hlinksldjump"/>
                </a:rPr>
                <a:t>Результа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8" action="ppaction://hlinksldjump"/>
                </a:rPr>
                <a:t>внеурочн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9" action="ppaction://hlinksldjump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58"/>
            <p:cNvSpPr/>
            <p:nvPr/>
          </p:nvSpPr>
          <p:spPr>
            <a:xfrm>
              <a:off x="884160" y="3112920"/>
              <a:ext cx="710280" cy="685800"/>
            </a:xfrm>
            <a:prstGeom prst="diamond">
              <a:avLst/>
            </a:prstGeom>
            <a:solidFill>
              <a:srgbClr val="dc9f0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60"/>
            <p:cNvSpPr/>
            <p:nvPr/>
          </p:nvSpPr>
          <p:spPr>
            <a:xfrm>
              <a:off x="1051560" y="321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5357880" y="645804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8D87-37F3-4C3E-8827-64906C57AE11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17360"/>
            <a:ext cx="6265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Monotype Corsiva"/>
              </a:rPr>
              <a:t>Духовно-нравственное развитие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Прямоугольник 2"/>
          <p:cNvSpPr/>
          <p:nvPr/>
        </p:nvSpPr>
        <p:spPr>
          <a:xfrm>
            <a:off x="539640" y="782640"/>
            <a:ext cx="81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33"/>
                </a:solidFill>
                <a:latin typeface="Open Sans"/>
              </a:rPr>
              <a:t>Всегда помните, что у вас должна быть сила, чтобы создавать для себя возможности и в полной мере использовать возможности, которые появляются на вашем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2" descr=""/>
          <p:cNvPicPr/>
          <p:nvPr/>
        </p:nvPicPr>
        <p:blipFill>
          <a:blip r:embed="rId1"/>
          <a:stretch/>
        </p:blipFill>
        <p:spPr>
          <a:xfrm>
            <a:off x="888840" y="2720880"/>
            <a:ext cx="828720" cy="14731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6" descr=""/>
          <p:cNvPicPr/>
          <p:nvPr/>
        </p:nvPicPr>
        <p:blipFill>
          <a:blip r:embed="rId2"/>
          <a:stretch/>
        </p:blipFill>
        <p:spPr>
          <a:xfrm rot="980400">
            <a:off x="6399000" y="2752200"/>
            <a:ext cx="1920600" cy="14400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3"/>
          <p:cNvSpPr/>
          <p:nvPr/>
        </p:nvSpPr>
        <p:spPr>
          <a:xfrm>
            <a:off x="214200" y="4165560"/>
            <a:ext cx="27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Если ты не готов трудиться, значит, ты готов проигр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6012000" y="4400640"/>
            <a:ext cx="25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Если ты хочешь быть лучше остальных, то приготовься делать то, что остальные не хотят дел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3924360" y="5654520"/>
            <a:ext cx="541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Если человек встает после падения, это не физи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это характер.</a:t>
            </a:r>
            <a:br>
              <a:rPr sz="1600"/>
            </a:br>
            <a:r>
              <a:rPr b="1" i="1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Майк Тай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3"/>
          <a:stretch/>
        </p:blipFill>
        <p:spPr>
          <a:xfrm rot="21071400">
            <a:off x="3825360" y="2719440"/>
            <a:ext cx="1231920" cy="163980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12"/>
          <p:cNvSpPr/>
          <p:nvPr/>
        </p:nvSpPr>
        <p:spPr>
          <a:xfrm>
            <a:off x="236520" y="5514840"/>
            <a:ext cx="250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Мы всегда должны выходить за пределы</a:t>
            </a:r>
            <a:r>
              <a:rPr b="0" lang="ru-RU" sz="1400" spc="-1" strike="noStrike">
                <a:solidFill>
                  <a:srgbClr val="323a46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2" descr=""/>
          <p:cNvPicPr/>
          <p:nvPr/>
        </p:nvPicPr>
        <p:blipFill>
          <a:blip r:embed="rId4"/>
          <a:stretch/>
        </p:blipFill>
        <p:spPr>
          <a:xfrm>
            <a:off x="2700360" y="4757760"/>
            <a:ext cx="836640" cy="1485720"/>
          </a:xfrm>
          <a:prstGeom prst="rect">
            <a:avLst/>
          </a:prstGeom>
          <a:ln w="0">
            <a:noFill/>
          </a:ln>
        </p:spPr>
      </p:pic>
      <p:sp>
        <p:nvSpPr>
          <p:cNvPr id="563" name="Стрелка влево 1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utoShape 3"/>
          <p:cNvSpPr/>
          <p:nvPr/>
        </p:nvSpPr>
        <p:spPr>
          <a:xfrm>
            <a:off x="5562720" y="3224160"/>
            <a:ext cx="222228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>
            <a:hlinkClick r:id="rId1"/>
          </p:cNvPr>
          <p:cNvSpPr/>
          <p:nvPr/>
        </p:nvSpPr>
        <p:spPr>
          <a:xfrm>
            <a:off x="1214280" y="3276720"/>
            <a:ext cx="219564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"/>
          <p:cNvSpPr/>
          <p:nvPr/>
        </p:nvSpPr>
        <p:spPr>
          <a:xfrm>
            <a:off x="36432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0"/>
          <p:cNvSpPr/>
          <p:nvPr/>
        </p:nvSpPr>
        <p:spPr>
          <a:xfrm flipH="1">
            <a:off x="4643280" y="3187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1"/>
          <p:cNvGrpSpPr/>
          <p:nvPr/>
        </p:nvGrpSpPr>
        <p:grpSpPr>
          <a:xfrm>
            <a:off x="770040" y="1319040"/>
            <a:ext cx="7784640" cy="1868040"/>
            <a:chOff x="770040" y="1319040"/>
            <a:chExt cx="7784640" cy="1868040"/>
          </a:xfrm>
        </p:grpSpPr>
        <p:grpSp>
          <p:nvGrpSpPr>
            <p:cNvPr id="378" name="Group 12"/>
            <p:cNvGrpSpPr/>
            <p:nvPr/>
          </p:nvGrpSpPr>
          <p:grpSpPr>
            <a:xfrm>
              <a:off x="770040" y="1485720"/>
              <a:ext cx="7784640" cy="1701360"/>
              <a:chOff x="770040" y="1485720"/>
              <a:chExt cx="7784640" cy="1701360"/>
            </a:xfrm>
          </p:grpSpPr>
          <p:sp>
            <p:nvSpPr>
              <p:cNvPr id="379" name="Oval 13"/>
              <p:cNvSpPr/>
              <p:nvPr/>
            </p:nvSpPr>
            <p:spPr>
              <a:xfrm>
                <a:off x="855000" y="1540080"/>
                <a:ext cx="7699680" cy="164700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4"/>
              <p:cNvSpPr/>
              <p:nvPr/>
            </p:nvSpPr>
            <p:spPr>
              <a:xfrm>
                <a:off x="770040" y="1485720"/>
                <a:ext cx="7699680" cy="164664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Oval 15"/>
            <p:cNvSpPr/>
            <p:nvPr/>
          </p:nvSpPr>
          <p:spPr>
            <a:xfrm>
              <a:off x="1137240" y="1319040"/>
              <a:ext cx="6969600" cy="156492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6"/>
            <p:cNvSpPr/>
            <p:nvPr/>
          </p:nvSpPr>
          <p:spPr>
            <a:xfrm>
              <a:off x="1227960" y="1328040"/>
              <a:ext cx="680040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7"/>
            <p:cNvSpPr/>
            <p:nvPr/>
          </p:nvSpPr>
          <p:spPr>
            <a:xfrm>
              <a:off x="1297800" y="1343160"/>
              <a:ext cx="6470640" cy="142560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8"/>
            <p:cNvSpPr/>
            <p:nvPr/>
          </p:nvSpPr>
          <p:spPr>
            <a:xfrm>
              <a:off x="1640160" y="137484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Box 20"/>
          <p:cNvSpPr/>
          <p:nvPr/>
        </p:nvSpPr>
        <p:spPr>
          <a:xfrm>
            <a:off x="1128600" y="3300480"/>
            <a:ext cx="23590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ич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ff"/>
                </a:solidFill>
                <a:uFillTx/>
                <a:latin typeface="Monotype Corsiva"/>
                <a:hlinkClick r:id="rId2"/>
              </a:rPr>
              <a:t>https://nsportal.ru/obuhov-sergey-nikolaev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1"/>
          <p:cNvSpPr/>
          <p:nvPr/>
        </p:nvSpPr>
        <p:spPr>
          <a:xfrm>
            <a:off x="5546880" y="3467160"/>
            <a:ext cx="242856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айт шко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Monotype Corsiva"/>
                <a:hlinkClick r:id="rId3"/>
              </a:rPr>
              <a:t>https://admsov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Freeform 10"/>
          <p:cNvSpPr/>
          <p:nvPr/>
        </p:nvSpPr>
        <p:spPr>
          <a:xfrm flipH="1" rot="2432400">
            <a:off x="3931560" y="3435120"/>
            <a:ext cx="1461960" cy="2070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"/>
          <p:cNvSpPr/>
          <p:nvPr/>
        </p:nvSpPr>
        <p:spPr>
          <a:xfrm>
            <a:off x="2379600" y="1539720"/>
            <a:ext cx="449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ботаю учителем  физической культуры  в МБОУ СОШ №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5"/>
          <p:cNvSpPr/>
          <p:nvPr/>
        </p:nvSpPr>
        <p:spPr>
          <a:xfrm>
            <a:off x="2503440" y="5516640"/>
            <a:ext cx="4249800" cy="1152360"/>
          </a:xfrm>
          <a:prstGeom prst="roundRect">
            <a:avLst>
              <a:gd name="adj" fmla="val 16667"/>
            </a:avLst>
          </a:prstGeom>
          <a:solidFill>
            <a:srgbClr val="d6f0ff"/>
          </a:solidFill>
          <a:ln w="255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обро пожало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авайте знаком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лево 22">
            <a:hlinkClick r:id="rId4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3"/>
          <p:cNvSpPr/>
          <p:nvPr/>
        </p:nvSpPr>
        <p:spPr>
          <a:xfrm>
            <a:off x="5562720" y="3224160"/>
            <a:ext cx="222228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1214280" y="3276720"/>
            <a:ext cx="219564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8"/>
          <p:cNvSpPr/>
          <p:nvPr/>
        </p:nvSpPr>
        <p:spPr>
          <a:xfrm>
            <a:off x="36432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"/>
          <p:cNvSpPr/>
          <p:nvPr/>
        </p:nvSpPr>
        <p:spPr>
          <a:xfrm flipH="1">
            <a:off x="4643280" y="3187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1"/>
          <p:cNvGrpSpPr/>
          <p:nvPr/>
        </p:nvGrpSpPr>
        <p:grpSpPr>
          <a:xfrm>
            <a:off x="785880" y="1285920"/>
            <a:ext cx="7785000" cy="1867320"/>
            <a:chOff x="785880" y="1285920"/>
            <a:chExt cx="7785000" cy="1867320"/>
          </a:xfrm>
        </p:grpSpPr>
        <p:grpSp>
          <p:nvGrpSpPr>
            <p:cNvPr id="399" name="Group 12"/>
            <p:cNvGrpSpPr/>
            <p:nvPr/>
          </p:nvGrpSpPr>
          <p:grpSpPr>
            <a:xfrm>
              <a:off x="785880" y="1452600"/>
              <a:ext cx="7785000" cy="1700640"/>
              <a:chOff x="785880" y="1452600"/>
              <a:chExt cx="7785000" cy="1700640"/>
            </a:xfrm>
          </p:grpSpPr>
          <p:sp>
            <p:nvSpPr>
              <p:cNvPr id="400" name="Oval 13"/>
              <p:cNvSpPr/>
              <p:nvPr/>
            </p:nvSpPr>
            <p:spPr>
              <a:xfrm>
                <a:off x="870840" y="1506600"/>
                <a:ext cx="7700040" cy="164664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14"/>
              <p:cNvSpPr/>
              <p:nvPr/>
            </p:nvSpPr>
            <p:spPr>
              <a:xfrm>
                <a:off x="785880" y="1452600"/>
                <a:ext cx="7700040" cy="164628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Oval 15"/>
            <p:cNvSpPr/>
            <p:nvPr/>
          </p:nvSpPr>
          <p:spPr>
            <a:xfrm>
              <a:off x="1153080" y="1285920"/>
              <a:ext cx="6969960" cy="156456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6"/>
            <p:cNvSpPr/>
            <p:nvPr/>
          </p:nvSpPr>
          <p:spPr>
            <a:xfrm>
              <a:off x="1243800" y="1294920"/>
              <a:ext cx="680076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7"/>
            <p:cNvSpPr/>
            <p:nvPr/>
          </p:nvSpPr>
          <p:spPr>
            <a:xfrm>
              <a:off x="1313640" y="1310040"/>
              <a:ext cx="6471000" cy="142524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8"/>
            <p:cNvSpPr/>
            <p:nvPr/>
          </p:nvSpPr>
          <p:spPr>
            <a:xfrm>
              <a:off x="1656000" y="134172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19"/>
          <p:cNvSpPr/>
          <p:nvPr/>
        </p:nvSpPr>
        <p:spPr>
          <a:xfrm>
            <a:off x="1785960" y="147492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2009 г. оконч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ральский государств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ниверситет физиче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1128600" y="3300480"/>
            <a:ext cx="235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 специальности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Физическая культура и спо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5586480" y="346716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аж работы-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Freeform 10"/>
          <p:cNvSpPr/>
          <p:nvPr/>
        </p:nvSpPr>
        <p:spPr>
          <a:xfrm flipH="1" rot="2432400">
            <a:off x="3931560" y="3435120"/>
            <a:ext cx="1461960" cy="2070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1547640" y="5398920"/>
            <a:ext cx="6048720" cy="7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тегория: Соответствие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лево 22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3"/>
          <p:cNvSpPr/>
          <p:nvPr/>
        </p:nvSpPr>
        <p:spPr>
          <a:xfrm>
            <a:off x="5653080" y="3276720"/>
            <a:ext cx="2786040" cy="189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Шахматы в начальной школ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Шахматы в игре, как сре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нтеллектуаль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ладших школьников в рам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ФГОС Н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01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866880" y="3316320"/>
            <a:ext cx="250668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8"/>
          <p:cNvSpPr/>
          <p:nvPr/>
        </p:nvSpPr>
        <p:spPr>
          <a:xfrm>
            <a:off x="3600360" y="26416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9"/>
          <p:cNvSpPr/>
          <p:nvPr/>
        </p:nvSpPr>
        <p:spPr>
          <a:xfrm flipH="1">
            <a:off x="5652360" y="3214800"/>
            <a:ext cx="2701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0"/>
          <p:cNvSpPr/>
          <p:nvPr/>
        </p:nvSpPr>
        <p:spPr>
          <a:xfrm flipH="1">
            <a:off x="4763520" y="27306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1"/>
          <p:cNvGrpSpPr/>
          <p:nvPr/>
        </p:nvGrpSpPr>
        <p:grpSpPr>
          <a:xfrm>
            <a:off x="652320" y="814320"/>
            <a:ext cx="7785000" cy="1867320"/>
            <a:chOff x="652320" y="814320"/>
            <a:chExt cx="7785000" cy="1867320"/>
          </a:xfrm>
        </p:grpSpPr>
        <p:grpSp>
          <p:nvGrpSpPr>
            <p:cNvPr id="420" name="Group 12"/>
            <p:cNvGrpSpPr/>
            <p:nvPr/>
          </p:nvGrpSpPr>
          <p:grpSpPr>
            <a:xfrm>
              <a:off x="652320" y="981000"/>
              <a:ext cx="7785000" cy="1700640"/>
              <a:chOff x="652320" y="981000"/>
              <a:chExt cx="7785000" cy="1700640"/>
            </a:xfrm>
          </p:grpSpPr>
          <p:sp>
            <p:nvSpPr>
              <p:cNvPr id="421" name="Oval 13"/>
              <p:cNvSpPr/>
              <p:nvPr/>
            </p:nvSpPr>
            <p:spPr>
              <a:xfrm>
                <a:off x="737280" y="1035000"/>
                <a:ext cx="7700040" cy="164664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4"/>
              <p:cNvSpPr/>
              <p:nvPr/>
            </p:nvSpPr>
            <p:spPr>
              <a:xfrm>
                <a:off x="652320" y="981000"/>
                <a:ext cx="7700040" cy="164628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Oval 15"/>
            <p:cNvSpPr/>
            <p:nvPr/>
          </p:nvSpPr>
          <p:spPr>
            <a:xfrm>
              <a:off x="1019520" y="814320"/>
              <a:ext cx="6969960" cy="156456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"/>
            <p:cNvSpPr/>
            <p:nvPr/>
          </p:nvSpPr>
          <p:spPr>
            <a:xfrm>
              <a:off x="1110240" y="823320"/>
              <a:ext cx="680076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"/>
            <p:cNvSpPr/>
            <p:nvPr/>
          </p:nvSpPr>
          <p:spPr>
            <a:xfrm>
              <a:off x="1180080" y="838440"/>
              <a:ext cx="6471000" cy="142524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8"/>
            <p:cNvSpPr/>
            <p:nvPr/>
          </p:nvSpPr>
          <p:spPr>
            <a:xfrm>
              <a:off x="1522440" y="87012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9"/>
          <p:cNvSpPr/>
          <p:nvPr/>
        </p:nvSpPr>
        <p:spPr>
          <a:xfrm>
            <a:off x="1781280" y="114768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урсы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736560" y="3403440"/>
            <a:ext cx="2643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a3c"/>
                </a:solidFill>
                <a:latin typeface="Monotype Corsiva"/>
                <a:ea typeface="Times New Roman"/>
              </a:rPr>
              <a:t>Организация тренерской деятельности по адаптивной физической культуре и спорту с присвоением квалификации «Тренер-преподаватель по адаптивной физической культуре и спорт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a3c"/>
                </a:solidFill>
                <a:latin typeface="Monotype Corsiva"/>
                <a:ea typeface="Times New Roman"/>
              </a:rPr>
              <a:t>2021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Freeform 10"/>
          <p:cNvSpPr/>
          <p:nvPr/>
        </p:nvSpPr>
        <p:spPr>
          <a:xfrm flipH="1" rot="2432400">
            <a:off x="3898800" y="2936520"/>
            <a:ext cx="1462320" cy="2070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>
            <a:off x="1376280" y="5460840"/>
            <a:ext cx="6810480" cy="7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«Гибкие  компетенции проектно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трелка влево 20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Схема 6" descr=""/>
          <p:cNvPicPr/>
          <p:nvPr/>
        </p:nvPicPr>
        <p:blipFill>
          <a:blip r:embed="rId1"/>
          <a:stretch/>
        </p:blipFill>
        <p:spPr>
          <a:xfrm>
            <a:off x="274680" y="1579680"/>
            <a:ext cx="8888400" cy="470520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4"/>
          <p:cNvSpPr/>
          <p:nvPr/>
        </p:nvSpPr>
        <p:spPr>
          <a:xfrm>
            <a:off x="3500280" y="1079640"/>
            <a:ext cx="56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ль мира в том, чтобы царствовал разу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зеф Эрнест Рен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Прямоугольник 1"/>
          <p:cNvSpPr/>
          <p:nvPr/>
        </p:nvSpPr>
        <p:spPr>
          <a:xfrm>
            <a:off x="-108000" y="6890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Цел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трелка влево 5">
            <a:hlinkClick r:id="rId2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хема 3" descr=""/>
          <p:cNvPicPr/>
          <p:nvPr/>
        </p:nvPicPr>
        <p:blipFill>
          <a:blip r:embed="rId1"/>
          <a:stretch/>
        </p:blipFill>
        <p:spPr>
          <a:xfrm>
            <a:off x="285840" y="1073160"/>
            <a:ext cx="8572320" cy="508968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4"/>
          <p:cNvSpPr/>
          <p:nvPr/>
        </p:nvSpPr>
        <p:spPr>
          <a:xfrm>
            <a:off x="1258920" y="1328760"/>
            <a:ext cx="78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всякой эпохи свои задачи, и их решение обеспечивает прогресс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тва»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х Гей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6"/>
          <p:cNvSpPr/>
          <p:nvPr/>
        </p:nvSpPr>
        <p:spPr>
          <a:xfrm>
            <a:off x="0" y="82872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лево 5">
            <a:hlinkClick r:id="rId2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457200" y="1941480"/>
          <a:ext cx="8229600" cy="3882960"/>
        </p:xfrm>
        <a:graphic>
          <a:graphicData uri="http://schemas.openxmlformats.org/drawingml/2006/table">
            <a:tbl>
              <a:tblPr/>
              <a:tblGrid>
                <a:gridCol w="3657600"/>
                <a:gridCol w="457200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хнология работы в системе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ые педагог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>
                      <a:noFill/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, деловая игра, самостоятельная работа, практическая работа, обучение в сотрудничестве (парная и групповая работ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ые педагог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>
                      <a:noFill/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е обучение, групповые технологии, квест технологии, коллективное творческое дело, педагогика сотрудничества, здоровьесберегающие технологии, ИКТ технологии, проектные технология, системно-деятельностный подход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>
                      <a:noFill/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вая деятельность как средство развития физических возможностей учащих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444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122-21F2-422A-A134-FCA792A2F9E8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4"/>
          <p:cNvSpPr/>
          <p:nvPr/>
        </p:nvSpPr>
        <p:spPr>
          <a:xfrm>
            <a:off x="468360" y="890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ль обучения ребёнка состоит в том, чтобы сделать ег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м развиваться дальше без помощи учителя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берт Хабб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трелка влево 6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3640" y="728640"/>
            <a:ext cx="511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ма самообразовани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4ACF-D33C-4975-95AE-7A7E43963FA0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217440" y="2289240"/>
            <a:ext cx="7704360" cy="1380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475"/>
              </a:gs>
              <a:gs pos="50000">
                <a:srgbClr val="31b6fd"/>
              </a:gs>
              <a:gs pos="100000">
                <a:srgbClr val="17547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г. Тем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к занятиям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ы через применение квест – техн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темы: методическая выставка, открытый у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252360" y="4275000"/>
            <a:ext cx="7704360" cy="1357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475"/>
              </a:gs>
              <a:gs pos="50000">
                <a:srgbClr val="31b6fd"/>
              </a:gs>
              <a:gs pos="100000">
                <a:srgbClr val="17547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-2021г. Тема: Использование ИКТ технологий на уро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темы: открытый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6" descr="AL0YCZQCAOEWQ6GCA6QT1HZCABVSIT2CAX7Q1SICA62KID3CA9LMV7CCASUYBVACA7PS2QYCA2J9GN6CAJGPR0HCAPH2KGJCALW8K6ZCANQ45J6CA6LT408CAK809JECA2WE7NICAO7C9VJCAYM2I8FCAFM8RV0.jpg"/>
          <p:cNvPicPr/>
          <p:nvPr/>
        </p:nvPicPr>
        <p:blipFill>
          <a:blip r:embed="rId1"/>
          <a:stretch/>
        </p:blipFill>
        <p:spPr>
          <a:xfrm>
            <a:off x="7956720" y="5284800"/>
            <a:ext cx="1087200" cy="94788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1"/>
          <p:cNvSpPr/>
          <p:nvPr/>
        </p:nvSpPr>
        <p:spPr>
          <a:xfrm>
            <a:off x="4471920" y="763560"/>
            <a:ext cx="4572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Вся гордость учителя в ученик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росте посеянных им семя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митрий 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лево 8">
            <a:hlinkClick r:id="rId2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10:54Z</dcterms:created>
  <dc:creator>MZ</dc:creator>
  <dc:description/>
  <dc:language>en-US</dc:language>
  <cp:lastModifiedBy>Пользователь Windows</cp:lastModifiedBy>
  <dcterms:modified xsi:type="dcterms:W3CDTF">2021-04-05T10:43:59Z</dcterms:modified>
  <cp:revision>166</cp:revision>
  <dc:subject/>
  <dc:title>Слайд 1</dc:title>
</cp:coreProperties>
</file>