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0B4A-256F-42AA-B8EE-2D282FF583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0A2C-4983-45ED-BAC3-6F27569D2D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24CA-EE4F-452B-B8B9-3FB56CFB53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D93D-429C-43FC-BAAE-734EAC5E71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0EF6-8236-445B-B726-AE589FB720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B69F-3EC4-45EF-8B00-BAC98BE1B7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6AEE-D7F2-4C6E-940B-007EA593FA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3069-FACE-4E12-A4DB-D2AAC0F42A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70C0-1939-4078-A73E-C90C7F5652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0FD-260D-460F-B7C9-7A055DB7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A83-6468-4664-A46C-5F279634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F0A1-DCB7-4CE6-B250-3FD0C342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24D-C825-4C5B-9C7D-53A78996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D897-C5D6-45B1-9382-8FE16164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1DF8-2130-414A-8DA3-D25C810A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E87F-3291-4CBF-9E50-CCFE1A76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AFF1-E43C-427C-BD06-43242A35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8BB4-976C-4287-A323-D344D71F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B371-4B9B-496D-B22F-E8C49D87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B9F7-D1A0-44B6-ADBD-F5159424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185-ADFE-4724-874B-1B79F702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5110-5382-43DF-9323-FE3F6658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5225-1451-4BB9-887F-726354CB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05E9-7BEB-4339-A55D-879008EA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B63D-4D5D-4525-B204-BA3F3B34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F342-4EB8-4CA2-867B-0542EC9B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D3338-9DE9-42A7-AD54-28ACB5D5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F8143-9067-4F64-86AC-765CD4A2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56B19-9681-4C1A-A23C-85F2D189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A29DB-3CB8-4BBF-92E2-034C4CA6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A40C7-A812-4B91-B5FA-AAEE7630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4AA-2E28-4ED3-AB9F-340D3588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F146D-8CD6-4FEF-B3F6-7C6F3710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7F7EF-5211-4ECF-AED4-58B7CE23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2B027-4258-49D7-859D-3ED7313C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880C5-A644-43A3-8B7A-5983E975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95B19-8727-417F-8678-6953AAD0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442D9-6A87-4D81-8960-C722B31E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4BEAB-945A-40C7-98FC-0DEBA082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D2E1C-26BC-4A13-8472-0878A5EA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EB901-8B9C-4561-A411-970C0356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A65F8-CD00-4927-B1A9-AE593614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9482-5EB0-498A-A620-F7AD1FFC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DD74C-C1BB-40CA-B439-B5BEAD6A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C1E9B-6B66-43B0-8D9D-B3CB174E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1567B-D26C-4F1D-B245-6039DA5C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537AC-D2A6-4706-AF66-12597D5B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D0582-9F21-4EFB-862C-1AE6DFAB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5FE98-F437-466E-97B0-9128EFF3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4482E-BE35-4B68-AFD4-629AAB09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0AB35-56D2-4FEB-A716-76092CA0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0CD00-F91C-4E0C-909D-74CF00DF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D96B0-6940-405F-B3DD-1E43AE11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5D06-6DC8-461A-BAED-55A0CFA1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1B93B-DFCC-43B1-A875-44B8812A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B880A-CFBF-41ED-9B48-CDB51859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01893-A308-4665-A66B-59A007B6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7F00E-7B83-4838-85FF-854B10A5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DF510-E38C-4A0C-9CC6-650C7B13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9BCDB-AFED-4A4C-A951-680F3790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3D1FC-E447-4DAE-9899-5945C351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2062B-D5D4-433C-B84E-E08F1ADC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D63EB-EA02-4DE2-86A4-776D6223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F5226-141B-4B6E-B754-80896714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E97-08A3-49A4-8104-F54EC29D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52345-97E1-4B3E-A5D0-766F911D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F596B-E1D1-47D8-A00B-684C2951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4685D-AD3F-43EC-A32E-09AF4233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CEE04-39B1-4FA9-89B7-BE1BDA8A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5B637-8D79-4764-9AF5-805AF4A5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FD2E7-4D8B-45CD-85DA-DCDD1FE4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AF6E2-A401-43D8-B9B3-15094AF2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FF78F-CE0B-46D9-A81A-C047DED2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14F05-A61B-4434-B715-F6BD6F14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ADB27-FA30-45A6-A31F-7B8202A7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EA0-A8A0-4B0B-8AB3-0D08BACA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31984-9AC3-4509-8961-8177B8ED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09A04-B6AA-40AA-ACFF-B863981F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46255-0724-416F-81AC-F646775F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50521-E00D-489E-90E1-29E10BAB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4C205-94DE-401C-8180-89CBEB42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93172-BB35-478B-9539-32EF9BA4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8B589-4F34-457E-8C1A-24E2B7E8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A8069-8BFE-4972-8554-054012A1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96421-67EB-41BB-80FD-00735D1B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7B591-1DE6-49E8-B6BB-AAD0430A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4107-E72D-47D7-8F80-785DA440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9F196-9A8F-41AA-9B25-8CB88D83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76F1E-17A2-4317-A7D0-F80B8BCF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4F239-AA1F-4067-9DFD-8CD95FC9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381F3-8C1C-42CF-9C15-CAFCC07C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9BBD5-632F-4D61-A766-86BFA094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FAA-32E4-47F5-A2D6-560FBF06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84C4-4EA5-44D2-877D-7095C21E6FFD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91E3-C095-4318-ADB4-94F1C8E7711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" name="AutoShape 4"/>
          <p:cNvSpPr/>
          <p:nvPr/>
        </p:nvSpPr>
        <p:spPr>
          <a:xfrm>
            <a:off x="0" y="0"/>
            <a:ext cx="9864720" cy="765000"/>
          </a:xfrm>
          <a:custGeom>
            <a:avLst/>
            <a:gdLst>
              <a:gd name="textAreaLeft" fmla="*/ 0 w 9864720"/>
              <a:gd name="textAreaRight" fmla="*/ 4932360 w 986472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12892" h="1000">
                <a:moveTo>
                  <a:pt x="0" y="0"/>
                </a:moveTo>
                <a:lnTo>
                  <a:pt x="12392" y="0"/>
                </a:lnTo>
                <a:cubicBezTo>
                  <a:pt x="12668" y="0"/>
                  <a:pt x="12892" y="223"/>
                  <a:pt x="12892" y="500"/>
                </a:cubicBezTo>
                <a:cubicBezTo>
                  <a:pt x="12892" y="776"/>
                  <a:pt x="12668" y="1000"/>
                  <a:pt x="12392" y="1000"/>
                </a:cubicBezTo>
                <a:lnTo>
                  <a:pt x="0" y="1000"/>
                </a:lnTo>
                <a:lnTo>
                  <a:pt x="0" y="0"/>
                </a:lnTo>
                <a:close/>
              </a:path>
            </a:pathLst>
          </a:custGeom>
          <a:solidFill>
            <a:srgbClr val="5e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2434-F722-44C1-B73E-50DC37C10CEE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5A2A-82F4-4AE0-B255-4CB8EF288AA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971F-2F67-4B60-B9C8-466E7BAFB2FD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1E81-A411-4887-B9B2-E5A21242658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6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F1C1-E111-4B02-B05C-2CB1590DBEDB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DF20-2A0B-46C7-9440-1937DA9A69B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0C91-7398-4B4E-B556-D7FEAC65711E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3EB9-78EF-4F30-8FDD-F7453385303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8DAB-BD59-471E-801F-23C2645D2A3E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5A99-C9F8-465F-BA7D-A42EF163A61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90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146C-527B-4CF0-B6C3-6D7148C8022C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AD1A-A42F-40AE-B1B7-C32D962BA51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nsportal.ru/sites/default/files/styles/media_gallery_thumbnail/public/gallery/2019/10/01/4_2.jpg?itok=wDcRM1Ll" TargetMode="External"/><Relationship Id="rId2" Type="http://schemas.openxmlformats.org/officeDocument/2006/relationships/hyperlink" Target="https://nsportal.ru/sites/default/files/styles/media_gallery_thumbnail/public/gallery/2019/10/01/moi_gramoty./gramota.jpg?itok=xryT0NqW" TargetMode="External"/><Relationship Id="rId3" Type="http://schemas.openxmlformats.org/officeDocument/2006/relationships/hyperlink" Target="https://nsportal.ru/sites/default/files/styles/media_gallery_large/public/gallery/2019/10/01/gramota.jpg?itok=3TXn6eDe" TargetMode="External"/><Relationship Id="rId4" Type="http://schemas.openxmlformats.org/officeDocument/2006/relationships/slide" Target="slide2.xml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nsportal.ru/sites/default/files/styles/media_gallery_large/public/gallery/2019/10/01/6_3.jpg?itok=3fCDRM6K" TargetMode="External"/><Relationship Id="rId2" Type="http://schemas.openxmlformats.org/officeDocument/2006/relationships/hyperlink" Target="https://nsportal.ru/sites/default/files/styles/media_gallery_large/public/gallery/2019/10/01/gramota1_0.jpg?itok=eglE2phD" TargetMode="External"/><Relationship Id="rId3" Type="http://schemas.openxmlformats.org/officeDocument/2006/relationships/hyperlink" Target="https://nsportal.ru/sites/default/files/styles/media_gallery_large/public/gallery/2019/10/01/b.jpg?itok=BA7MaLcN" TargetMode="External"/><Relationship Id="rId4" Type="http://schemas.openxmlformats.org/officeDocument/2006/relationships/hyperlink" Target="https://nsportal.ru/sites/default/files/styles/media_gallery_large/public/gallery/2019/10/08/23.jpg?itok=VgEygVfs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1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6.xml"/><Relationship Id="rId11" Type="http://schemas.openxmlformats.org/officeDocument/2006/relationships/slide" Target="slide19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7.xml"/><Relationship Id="rId15" Type="http://schemas.openxmlformats.org/officeDocument/2006/relationships/image" Target="../media/image3.png"/><Relationship Id="rId16" Type="http://schemas.openxmlformats.org/officeDocument/2006/relationships/slide" Target="slide4.xml"/><Relationship Id="rId17" Type="http://schemas.openxmlformats.org/officeDocument/2006/relationships/slide" Target="slide15.xml"/><Relationship Id="rId18" Type="http://schemas.openxmlformats.org/officeDocument/2006/relationships/slide" Target="slide15.xml"/><Relationship Id="rId19" Type="http://schemas.openxmlformats.org/officeDocument/2006/relationships/slide" Target="slide17.xml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4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nsportal.ru/obuhov-sergey-nikolaevich" TargetMode="External"/><Relationship Id="rId2" Type="http://schemas.openxmlformats.org/officeDocument/2006/relationships/hyperlink" Target="https://nsportal.ru/obuhov-sergey-nikolaevich" TargetMode="External"/><Relationship Id="rId3" Type="http://schemas.openxmlformats.org/officeDocument/2006/relationships/hyperlink" Target="https://admsov.com/" TargetMode="Externa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132000" y="154080"/>
            <a:ext cx="4592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ТФОЛИО УЧИТЕЛЯ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10920" y="1260360"/>
            <a:ext cx="6472440" cy="261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Обухов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ергей Николаевич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учитель физической культуры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Дата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A618-7E9E-406E-85CF-E14C4703408D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2"/>
          <p:cNvSpPr/>
          <p:nvPr/>
        </p:nvSpPr>
        <p:spPr>
          <a:xfrm>
            <a:off x="2189160" y="4818240"/>
            <a:ext cx="66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Средняя общеобразовательная школа №2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.Советский, ХМАО-Юг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202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E:\Сергей для аттестации\Обуховы\Обухов Сергей Николаевич 2018-2019 г.jpg"/>
          <p:cNvPicPr/>
          <p:nvPr/>
        </p:nvPicPr>
        <p:blipFill>
          <a:blip r:embed="rId1"/>
          <a:stretch/>
        </p:blipFill>
        <p:spPr>
          <a:xfrm>
            <a:off x="395280" y="404640"/>
            <a:ext cx="24112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Дата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6745-EB39-403C-8F68-9D18910D35F6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1258920" y="117360"/>
            <a:ext cx="7539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ЧЕСК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Заголовок 16"/>
          <p:cNvSpPr/>
          <p:nvPr/>
        </p:nvSpPr>
        <p:spPr>
          <a:xfrm>
            <a:off x="826920" y="2804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спространение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611280" y="1700280"/>
          <a:ext cx="8243640" cy="3384360"/>
        </p:xfrm>
        <a:graphic>
          <a:graphicData uri="http://schemas.openxmlformats.org/drawingml/2006/table">
            <a:tbl>
              <a:tblPr/>
              <a:tblGrid>
                <a:gridCol w="757080"/>
                <a:gridCol w="74865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.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103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ыступление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едагогическом совете : Квест- игра, как средство формирования личностных УУД младших школьников на уроках физической культу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97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айонный семинар учителей физической культур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Открытый урок «Квест-игра. В стране веселых наук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ыступление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едагогическом совете: «Использование ИКТ на уроках  физической культур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460" name="Стрелка влево 5">
            <a:hlinkClick r:id="rId1" action="ppaction://hlinksldjump"/>
          </p:cNvPr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Дата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D164-01CE-43DE-8989-680A49E593F5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1258920" y="117360"/>
            <a:ext cx="7539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ЧЕСК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Заголовок 16"/>
          <p:cNvSpPr/>
          <p:nvPr/>
        </p:nvSpPr>
        <p:spPr>
          <a:xfrm>
            <a:off x="826920" y="2804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частие в профессиональных конкур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971640" y="1365120"/>
          <a:ext cx="7404120" cy="3888000"/>
        </p:xfrm>
        <a:graphic>
          <a:graphicData uri="http://schemas.openxmlformats.org/drawingml/2006/table">
            <a:tbl>
              <a:tblPr/>
              <a:tblGrid>
                <a:gridCol w="761760"/>
                <a:gridCol w="664236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.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й конкурс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«Две звезды» </a:t>
                      </a:r>
                      <a:r>
                        <a:rPr b="0" lang="en-US" sz="1200" spc="-1" strike="noStrike" u="sng">
                          <a:solidFill>
                            <a:srgbClr val="008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https://nsportal.ru/sites/default/files/styles/media_gallery_thumbnail/public/gallery/2019/10/01/4_2.jpg?itok=wDcRM1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06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й конкурс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ий дебют   2019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en-US" sz="1600" spc="-1" strike="noStrike" u="sng">
                          <a:solidFill>
                            <a:srgbClr val="008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https://nsportal.ru/sites/default/files/styles/media_gallery_thumbnail/public/gallery/2019/10/01/moi_gramoty./gramota.jpg?itok=xryT0Nq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1693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йонный конкурс  «Легкоатлетической эстафете, посвященной 74 годовщине Дня Победы в Великой Отечественной войне». </a:t>
                      </a:r>
                      <a:r>
                        <a:rPr b="0" lang="en-US" sz="1400" spc="-1" strike="noStrike" u="sng">
                          <a:solidFill>
                            <a:srgbClr val="0080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https://nsportal.ru/sites/default/files/styles/media_gallery_large/public/gallery/2019/10/01/gramota.jpg?itok=3TXn6e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465" name="Стрелка влево 5">
            <a:hlinkClick r:id="rId4" action="ppaction://hlinksldjump"/>
          </p:cNvPr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"/>
          <p:cNvGraphicFramePr/>
          <p:nvPr/>
        </p:nvGraphicFramePr>
        <p:xfrm>
          <a:off x="1187280" y="1268280"/>
          <a:ext cx="7272360" cy="3973680"/>
        </p:xfrm>
        <a:graphic>
          <a:graphicData uri="http://schemas.openxmlformats.org/drawingml/2006/table">
            <a:tbl>
              <a:tblPr/>
              <a:tblGrid>
                <a:gridCol w="1124280"/>
                <a:gridCol w="5068800"/>
                <a:gridCol w="1079280"/>
              </a:tblGrid>
              <a:tr h="4514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аждения, благодар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дарственное  письмо за помощь в организации и проведении праздничного мероприятия «Мы наследники Победы!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8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https://nsportal.ru/sites/default/files/styles/media_gallery_large/public/gallery/2019/10/01/6_3.jpg?itok=3fCDRM6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дарственное  письмо за качественную подготовку трех и более победителей и призеров муниципального этапа предметной олимпиады обучающихся 2 – 6 классов муниципальных общеобразовательных организаций Советского района в 2018-2019 учебном год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8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https://nsportal.ru/sites/default/files/styles/media_gallery_large/public/gallery/2019/10/01/gramota1_0.jpg?itok=eglE2ph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дарственное  письмо за целеустремленность и высокие результаты легкоатлетической эстафете, посвященной 74 – й годовщине Победы в Великой Отечественной войн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80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https://nsportal.ru/sites/default/files/styles/media_gallery_large/public/gallery/2019/10/01/b.jpg?itok=BA7MaLc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ота за добросовестный труд в деле воспитания и образования подросткового поколения, целеустремленность и ответственность, неиссякаемую энергию, незаменимый личный вклад в процесс обра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80f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https://nsportal.ru/sites/default/files/styles/media_gallery_large/public/gallery/2019/10/08/23.jpg?itok=VgEygVf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ота за значительные успехи в организации и совершенствовании образовательного процесса, большой вклад в развитие образовательной деятельности школы, высокие показатели обученности, доброту и чуткое отношение к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s://nsportal.ru/sites/default/files/styles/media_gallery_thumbnail/public/gallery/2021/03/31/123.jpeg?itok=a6s3W54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7" name="Дата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3DB4-6AA5-4004-B233-8DFBEC7396DC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0" y="117360"/>
            <a:ext cx="982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ы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1" descr="юдщшшш"/>
          <p:cNvPicPr/>
          <p:nvPr/>
        </p:nvPicPr>
        <p:blipFill>
          <a:blip r:embed="rId5"/>
          <a:stretch/>
        </p:blipFill>
        <p:spPr>
          <a:xfrm rot="20604600">
            <a:off x="310680" y="1184040"/>
            <a:ext cx="1150920" cy="1589040"/>
          </a:xfrm>
          <a:prstGeom prst="rect">
            <a:avLst/>
          </a:prstGeom>
          <a:ln w="0">
            <a:noFill/>
          </a:ln>
        </p:spPr>
      </p:pic>
      <p:sp>
        <p:nvSpPr>
          <p:cNvPr id="470" name="Стрелка влево 5"/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Дата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2A8C-5AEC-4829-912A-5A9D6CD954D0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0" y="117360"/>
            <a:ext cx="982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ы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6"/>
          <p:cNvSpPr/>
          <p:nvPr/>
        </p:nvSpPr>
        <p:spPr>
          <a:xfrm>
            <a:off x="272880" y="55166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ется стабильный уровень качества знаний учащихся. Неуспевающих по предмету  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Рисунок 10" descr="44д.gif"/>
          <p:cNvPicPr/>
          <p:nvPr/>
        </p:nvPicPr>
        <p:blipFill>
          <a:blip r:embed="rId1"/>
          <a:stretch/>
        </p:blipFill>
        <p:spPr>
          <a:xfrm rot="909600">
            <a:off x="6911640" y="1063440"/>
            <a:ext cx="1906560" cy="1484280"/>
          </a:xfrm>
          <a:prstGeom prst="rect">
            <a:avLst/>
          </a:prstGeom>
          <a:ln w="0">
            <a:noFill/>
          </a:ln>
        </p:spPr>
      </p:pic>
      <p:sp>
        <p:nvSpPr>
          <p:cNvPr id="475" name="Заголовок 16"/>
          <p:cNvSpPr/>
          <p:nvPr/>
        </p:nvSpPr>
        <p:spPr>
          <a:xfrm>
            <a:off x="826920" y="2804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Динамика достижений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Диаграмма 9" descr=""/>
          <p:cNvPicPr/>
          <p:nvPr/>
        </p:nvPicPr>
        <p:blipFill>
          <a:blip r:embed="rId2"/>
          <a:stretch/>
        </p:blipFill>
        <p:spPr>
          <a:xfrm>
            <a:off x="1217520" y="2320920"/>
            <a:ext cx="5587920" cy="3301920"/>
          </a:xfrm>
          <a:prstGeom prst="rect">
            <a:avLst/>
          </a:prstGeom>
          <a:ln w="0">
            <a:noFill/>
          </a:ln>
        </p:spPr>
      </p:pic>
      <p:sp>
        <p:nvSpPr>
          <p:cNvPr id="477" name="Стрелка влево 8"/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Дата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74E9-CE6E-4798-8841-A9F23E89F4BB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539640" y="1844640"/>
          <a:ext cx="8345520" cy="3024360"/>
        </p:xfrm>
        <a:graphic>
          <a:graphicData uri="http://schemas.openxmlformats.org/drawingml/2006/table">
            <a:tbl>
              <a:tblPr/>
              <a:tblGrid>
                <a:gridCol w="1303560"/>
                <a:gridCol w="1211040"/>
                <a:gridCol w="1528920"/>
                <a:gridCol w="4302000"/>
              </a:tblGrid>
              <a:tr h="1368360"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 2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31b6fd"/>
                      </a:solidFill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31b6fd"/>
                      </a:solidFill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 4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31b6fd"/>
                      </a:solidFill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ив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31b6fd"/>
                      </a:solidFill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49200">
                <a:tc gridSpan="4"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31b6fd"/>
                      </a:solidFill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6800"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31b6fd"/>
                      </a:solidFill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31b6fd"/>
                      </a:solidFill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31b6fd"/>
                      </a:solidFill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 по физической культуре стабильно высоким на протяжении всех лет обуч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31b6fd"/>
                      </a:solidFill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480" name="Rectangle 3"/>
          <p:cNvSpPr/>
          <p:nvPr/>
        </p:nvSpPr>
        <p:spPr>
          <a:xfrm>
            <a:off x="0" y="117360"/>
            <a:ext cx="982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ы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7"/>
          <p:cNvSpPr/>
          <p:nvPr/>
        </p:nvSpPr>
        <p:spPr>
          <a:xfrm>
            <a:off x="260280" y="562284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«Люди добиваются успеха, когда кто-то, кого они уважают, считает, что они "могут "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Роберт Уотер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Заголовок 16"/>
          <p:cNvSpPr/>
          <p:nvPr/>
        </p:nvSpPr>
        <p:spPr>
          <a:xfrm>
            <a:off x="826920" y="2804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Динамика достижений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Стрелка влево 7"/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Дата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0005-9201-495A-924F-C6A3BF800921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7"/>
          <p:cNvSpPr/>
          <p:nvPr/>
        </p:nvSpPr>
        <p:spPr>
          <a:xfrm>
            <a:off x="171360" y="4421160"/>
            <a:ext cx="871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ей  внеурочной работе стремлюсь развивать творчество учащихся, личность ребенка во всех ее аспектах: сохранение здоровья, развитие интеллекта и познавательных способностей, социально – личностную адаптацию в урочной и внеурочной деятельности. Данное направление в работе с детьми – неотъемлемая составляющая система моей  педагогической деятельности.   Активно сотрудничаю с  учреждениями культуры и спорта   го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0" y="117360"/>
            <a:ext cx="982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Заголовок 16"/>
          <p:cNvSpPr/>
          <p:nvPr/>
        </p:nvSpPr>
        <p:spPr>
          <a:xfrm>
            <a:off x="826920" y="-27360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езультаты 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2"/>
          <p:cNvSpPr/>
          <p:nvPr/>
        </p:nvSpPr>
        <p:spPr>
          <a:xfrm>
            <a:off x="5867280" y="2781360"/>
            <a:ext cx="288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участников и призеров олимпиад, конк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Диаграмма 9" descr=""/>
          <p:cNvPicPr/>
          <p:nvPr/>
        </p:nvPicPr>
        <p:blipFill>
          <a:blip r:embed="rId1"/>
          <a:stretch/>
        </p:blipFill>
        <p:spPr>
          <a:xfrm>
            <a:off x="-231840" y="1170000"/>
            <a:ext cx="5587920" cy="3301920"/>
          </a:xfrm>
          <a:prstGeom prst="rect">
            <a:avLst/>
          </a:prstGeom>
          <a:ln w="0">
            <a:noFill/>
          </a:ln>
        </p:spPr>
      </p:pic>
      <p:sp>
        <p:nvSpPr>
          <p:cNvPr id="490" name="Стрелка влево 7"/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AutoShape 3"/>
          <p:cNvSpPr/>
          <p:nvPr/>
        </p:nvSpPr>
        <p:spPr>
          <a:xfrm>
            <a:off x="347760" y="4378320"/>
            <a:ext cx="3254400" cy="1841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5"/>
          <p:cNvSpPr/>
          <p:nvPr/>
        </p:nvSpPr>
        <p:spPr>
          <a:xfrm>
            <a:off x="5637240" y="4378320"/>
            <a:ext cx="3398760" cy="191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8"/>
          <p:cNvSpPr/>
          <p:nvPr/>
        </p:nvSpPr>
        <p:spPr>
          <a:xfrm>
            <a:off x="3602160" y="4438800"/>
            <a:ext cx="11318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9"/>
          <p:cNvSpPr/>
          <p:nvPr/>
        </p:nvSpPr>
        <p:spPr>
          <a:xfrm flipH="1">
            <a:off x="5857200" y="321480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0"/>
          <p:cNvSpPr/>
          <p:nvPr/>
        </p:nvSpPr>
        <p:spPr>
          <a:xfrm flipH="1">
            <a:off x="4733280" y="4467240"/>
            <a:ext cx="1028520" cy="11685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11"/>
          <p:cNvGrpSpPr/>
          <p:nvPr/>
        </p:nvGrpSpPr>
        <p:grpSpPr>
          <a:xfrm>
            <a:off x="770040" y="1319040"/>
            <a:ext cx="7784640" cy="1868040"/>
            <a:chOff x="770040" y="1319040"/>
            <a:chExt cx="7784640" cy="1868040"/>
          </a:xfrm>
        </p:grpSpPr>
        <p:grpSp>
          <p:nvGrpSpPr>
            <p:cNvPr id="498" name="Group 12"/>
            <p:cNvGrpSpPr/>
            <p:nvPr/>
          </p:nvGrpSpPr>
          <p:grpSpPr>
            <a:xfrm>
              <a:off x="770040" y="1485720"/>
              <a:ext cx="7784640" cy="1701360"/>
              <a:chOff x="770040" y="1485720"/>
              <a:chExt cx="7784640" cy="1701360"/>
            </a:xfrm>
          </p:grpSpPr>
          <p:sp>
            <p:nvSpPr>
              <p:cNvPr id="499" name="Oval 13"/>
              <p:cNvSpPr/>
              <p:nvPr/>
            </p:nvSpPr>
            <p:spPr>
              <a:xfrm>
                <a:off x="855000" y="1540080"/>
                <a:ext cx="7699680" cy="1647000"/>
              </a:xfrm>
              <a:prstGeom prst="ellipse">
                <a:avLst/>
              </a:prstGeom>
              <a:gradFill rotWithShape="0">
                <a:gsLst>
                  <a:gs pos="0">
                    <a:srgbClr val="0080ff"/>
                  </a:gs>
                  <a:gs pos="100000">
                    <a:srgbClr val="003e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Oval 14"/>
              <p:cNvSpPr/>
              <p:nvPr/>
            </p:nvSpPr>
            <p:spPr>
              <a:xfrm>
                <a:off x="770040" y="1485720"/>
                <a:ext cx="7699680" cy="1646640"/>
              </a:xfrm>
              <a:prstGeom prst="ellipse">
                <a:avLst/>
              </a:prstGeom>
              <a:gradFill rotWithShape="0">
                <a:gsLst>
                  <a:gs pos="0">
                    <a:srgbClr val="8ec7ff"/>
                  </a:gs>
                  <a:gs pos="100000">
                    <a:srgbClr val="0080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Oval 15"/>
            <p:cNvSpPr/>
            <p:nvPr/>
          </p:nvSpPr>
          <p:spPr>
            <a:xfrm>
              <a:off x="1137240" y="1319040"/>
              <a:ext cx="6969600" cy="1564920"/>
            </a:xfrm>
            <a:prstGeom prst="ellipse">
              <a:avLst/>
            </a:prstGeom>
            <a:gradFill rotWithShape="0">
              <a:gsLst>
                <a:gs pos="0">
                  <a:srgbClr val="175475"/>
                </a:gs>
                <a:gs pos="100000">
                  <a:srgbClr val="31b6f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16"/>
            <p:cNvSpPr/>
            <p:nvPr/>
          </p:nvSpPr>
          <p:spPr>
            <a:xfrm>
              <a:off x="1227960" y="1328040"/>
              <a:ext cx="6800400" cy="1525680"/>
            </a:xfrm>
            <a:prstGeom prst="ellipse">
              <a:avLst/>
            </a:prstGeom>
            <a:gradFill rotWithShape="0">
              <a:gsLst>
                <a:gs pos="0">
                  <a:srgbClr val="31b6fd">
                    <a:alpha val="0"/>
                  </a:srgbClr>
                </a:gs>
                <a:gs pos="100000">
                  <a:srgbClr val="b7e6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17"/>
            <p:cNvSpPr/>
            <p:nvPr/>
          </p:nvSpPr>
          <p:spPr>
            <a:xfrm>
              <a:off x="1297800" y="1343160"/>
              <a:ext cx="6470640" cy="1425600"/>
            </a:xfrm>
            <a:prstGeom prst="ellipse">
              <a:avLst/>
            </a:prstGeom>
            <a:gradFill rotWithShape="0">
              <a:gsLst>
                <a:gs pos="0">
                  <a:srgbClr val="2790c8"/>
                </a:gs>
                <a:gs pos="100000">
                  <a:srgbClr val="31b6f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18"/>
            <p:cNvSpPr/>
            <p:nvPr/>
          </p:nvSpPr>
          <p:spPr>
            <a:xfrm>
              <a:off x="1640160" y="1374840"/>
              <a:ext cx="5695920" cy="1154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1b6f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новационная деятельность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6" name="Прямоугольник 1"/>
          <p:cNvSpPr/>
          <p:nvPr/>
        </p:nvSpPr>
        <p:spPr>
          <a:xfrm>
            <a:off x="2379600" y="1539720"/>
            <a:ext cx="4496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реализации федерального проекта «Современная школа» национального проекта «Образование» с 01.09.2020 года в МБОУ СОШ № 2 состоялось открытие Центра образования цифрового и гуманитарного профилей «Точка рост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Скругленный прямоугольник 5"/>
          <p:cNvSpPr/>
          <p:nvPr/>
        </p:nvSpPr>
        <p:spPr>
          <a:xfrm>
            <a:off x="2401920" y="3225960"/>
            <a:ext cx="4249800" cy="1152360"/>
          </a:xfrm>
          <a:prstGeom prst="roundRect">
            <a:avLst>
              <a:gd name="adj" fmla="val 16667"/>
            </a:avLst>
          </a:prstGeom>
          <a:solidFill>
            <a:srgbClr val="d6f0ff"/>
          </a:solidFill>
          <a:ln w="255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"Точка роста" является структурным подразделением Школы, входит в состав региональной сети Центров образования цифрового и гуманитарного профилей «Точка роста» и функционирует ка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трелка влево 22"/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6"/>
          <p:cNvSpPr/>
          <p:nvPr/>
        </p:nvSpPr>
        <p:spPr>
          <a:xfrm>
            <a:off x="5900760" y="4467240"/>
            <a:ext cx="287172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яет функцию общественного пространства для развития общекультурных компетенций, цифрового и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шахматного образован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роектной деятельности, творческой самореализации детей, педагогов, родительской обществ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576360" y="4467240"/>
            <a:ext cx="2741400" cy="13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ый центр, реализующий основные и дополнительные общеобразовательные программы цифрового, естественнонаучного, технического, гуманитарного и социокультурного профи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AutoShape 3"/>
          <p:cNvSpPr/>
          <p:nvPr/>
        </p:nvSpPr>
        <p:spPr>
          <a:xfrm>
            <a:off x="5562720" y="3224160"/>
            <a:ext cx="3257280" cy="21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5"/>
          <p:cNvSpPr/>
          <p:nvPr/>
        </p:nvSpPr>
        <p:spPr>
          <a:xfrm>
            <a:off x="414360" y="3303720"/>
            <a:ext cx="3392640" cy="2044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8"/>
          <p:cNvSpPr/>
          <p:nvPr/>
        </p:nvSpPr>
        <p:spPr>
          <a:xfrm>
            <a:off x="3807000" y="3187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9"/>
          <p:cNvSpPr/>
          <p:nvPr/>
        </p:nvSpPr>
        <p:spPr>
          <a:xfrm flipH="1">
            <a:off x="5857200" y="321480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10"/>
          <p:cNvSpPr/>
          <p:nvPr/>
        </p:nvSpPr>
        <p:spPr>
          <a:xfrm flipH="1">
            <a:off x="4643280" y="318780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1"/>
          <p:cNvGrpSpPr/>
          <p:nvPr/>
        </p:nvGrpSpPr>
        <p:grpSpPr>
          <a:xfrm>
            <a:off x="785880" y="1285920"/>
            <a:ext cx="7785000" cy="1867320"/>
            <a:chOff x="785880" y="1285920"/>
            <a:chExt cx="7785000" cy="1867320"/>
          </a:xfrm>
        </p:grpSpPr>
        <p:grpSp>
          <p:nvGrpSpPr>
            <p:cNvPr id="518" name="Group 12"/>
            <p:cNvGrpSpPr/>
            <p:nvPr/>
          </p:nvGrpSpPr>
          <p:grpSpPr>
            <a:xfrm>
              <a:off x="785880" y="1452600"/>
              <a:ext cx="7785000" cy="1700640"/>
              <a:chOff x="785880" y="1452600"/>
              <a:chExt cx="7785000" cy="1700640"/>
            </a:xfrm>
          </p:grpSpPr>
          <p:sp>
            <p:nvSpPr>
              <p:cNvPr id="519" name="Oval 13"/>
              <p:cNvSpPr/>
              <p:nvPr/>
            </p:nvSpPr>
            <p:spPr>
              <a:xfrm>
                <a:off x="870840" y="1506600"/>
                <a:ext cx="7700040" cy="1646640"/>
              </a:xfrm>
              <a:prstGeom prst="ellipse">
                <a:avLst/>
              </a:prstGeom>
              <a:gradFill rotWithShape="0">
                <a:gsLst>
                  <a:gs pos="0">
                    <a:srgbClr val="0080ff"/>
                  </a:gs>
                  <a:gs pos="100000">
                    <a:srgbClr val="003e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14"/>
              <p:cNvSpPr/>
              <p:nvPr/>
            </p:nvSpPr>
            <p:spPr>
              <a:xfrm>
                <a:off x="785880" y="1452600"/>
                <a:ext cx="7700040" cy="1646280"/>
              </a:xfrm>
              <a:prstGeom prst="ellipse">
                <a:avLst/>
              </a:prstGeom>
              <a:gradFill rotWithShape="0">
                <a:gsLst>
                  <a:gs pos="0">
                    <a:srgbClr val="8ec7ff"/>
                  </a:gs>
                  <a:gs pos="100000">
                    <a:srgbClr val="0080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Oval 15"/>
            <p:cNvSpPr/>
            <p:nvPr/>
          </p:nvSpPr>
          <p:spPr>
            <a:xfrm>
              <a:off x="1153080" y="1285920"/>
              <a:ext cx="6969960" cy="1564560"/>
            </a:xfrm>
            <a:prstGeom prst="ellipse">
              <a:avLst/>
            </a:prstGeom>
            <a:gradFill rotWithShape="0">
              <a:gsLst>
                <a:gs pos="0">
                  <a:srgbClr val="175475"/>
                </a:gs>
                <a:gs pos="100000">
                  <a:srgbClr val="31b6f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6"/>
            <p:cNvSpPr/>
            <p:nvPr/>
          </p:nvSpPr>
          <p:spPr>
            <a:xfrm>
              <a:off x="1243800" y="1294920"/>
              <a:ext cx="6800760" cy="1525680"/>
            </a:xfrm>
            <a:prstGeom prst="ellipse">
              <a:avLst/>
            </a:prstGeom>
            <a:gradFill rotWithShape="0">
              <a:gsLst>
                <a:gs pos="0">
                  <a:srgbClr val="31b6fd">
                    <a:alpha val="0"/>
                  </a:srgbClr>
                </a:gs>
                <a:gs pos="100000">
                  <a:srgbClr val="b7e6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7"/>
            <p:cNvSpPr/>
            <p:nvPr/>
          </p:nvSpPr>
          <p:spPr>
            <a:xfrm>
              <a:off x="1313640" y="1310040"/>
              <a:ext cx="6471000" cy="1425240"/>
            </a:xfrm>
            <a:prstGeom prst="ellipse">
              <a:avLst/>
            </a:prstGeom>
            <a:gradFill rotWithShape="0">
              <a:gsLst>
                <a:gs pos="0">
                  <a:srgbClr val="2790c8"/>
                </a:gs>
                <a:gs pos="100000">
                  <a:srgbClr val="31b6f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8"/>
            <p:cNvSpPr/>
            <p:nvPr/>
          </p:nvSpPr>
          <p:spPr>
            <a:xfrm>
              <a:off x="1656000" y="1341720"/>
              <a:ext cx="5695920" cy="1154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1b6f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TextBox 19"/>
          <p:cNvSpPr/>
          <p:nvPr/>
        </p:nvSpPr>
        <p:spPr>
          <a:xfrm>
            <a:off x="1724040" y="150660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требованиями Центр "Точка роста" оснащен  современным оборудованием, которое позволило мне обновить содержание образования по внеурочной деятельности в программе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хматы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0"/>
          <p:cNvSpPr/>
          <p:nvPr/>
        </p:nvSpPr>
        <p:spPr>
          <a:xfrm>
            <a:off x="574560" y="3349800"/>
            <a:ext cx="310212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 шахматные обучающие и игровые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ые программы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инозавры учат шахматам», «Большое шахматное путешествие», «Шахматная тактика», «Шахматный задачник» «Шахматная стратегия», «Шахматные этюды». Кроме того использую информационно-поисковую систему «Chess Assistant», российский шахматный портал “Шахматная Планета”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hessplanet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21"/>
          <p:cNvSpPr/>
          <p:nvPr/>
        </p:nvSpPr>
        <p:spPr>
          <a:xfrm>
            <a:off x="5562720" y="3224160"/>
            <a:ext cx="32572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шахматного портала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хматная Планета»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обучающимся получать возможность участвовать в регулярных турнирах в режиме реального времени или в заочных турнирах, смотреть партии других участников, обменяться мнениями о шахматных событиях и обсуждать текущие проблемы в чате или конферен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новационная деятельность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Freeform 10"/>
          <p:cNvSpPr/>
          <p:nvPr/>
        </p:nvSpPr>
        <p:spPr>
          <a:xfrm flipH="1" rot="2432400">
            <a:off x="3993480" y="3408120"/>
            <a:ext cx="1461960" cy="20703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2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Стрелка влево 22"/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Скругленный прямоугольник 23"/>
          <p:cNvSpPr/>
          <p:nvPr/>
        </p:nvSpPr>
        <p:spPr>
          <a:xfrm>
            <a:off x="2562120" y="5516640"/>
            <a:ext cx="4249800" cy="1152360"/>
          </a:xfrm>
          <a:prstGeom prst="roundRect">
            <a:avLst>
              <a:gd name="adj" fmla="val 16667"/>
            </a:avLst>
          </a:prstGeom>
          <a:solidFill>
            <a:srgbClr val="d6f0ff"/>
          </a:solidFill>
          <a:ln w="255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 применением ИКТ моторная плотность тренировки возрастает до 80% и выше, индивидуализируется тренировочный процесс, что приводит к росту спортивных результ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Дата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793B-836F-40B9-BD45-72AA3AF1565A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15840" y="133200"/>
            <a:ext cx="982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ьтаты инновацион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Заголовок 16"/>
          <p:cNvSpPr/>
          <p:nvPr/>
        </p:nvSpPr>
        <p:spPr>
          <a:xfrm>
            <a:off x="841320" y="628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частие учащихся в конкур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082520" y="1484280"/>
          <a:ext cx="6081840" cy="4316400"/>
        </p:xfrm>
        <a:graphic>
          <a:graphicData uri="http://schemas.openxmlformats.org/drawingml/2006/table">
            <a:tbl>
              <a:tblPr/>
              <a:tblGrid>
                <a:gridCol w="2581560"/>
                <a:gridCol w="1987560"/>
                <a:gridCol w="1512720"/>
              </a:tblGrid>
              <a:tr h="473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Муниципальный, региональный, всероссийский, международный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ат участ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Очно, интернет - турнир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Победители, призеры, участник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ниципальный турнир по шахматам «Слоненок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тернет - турни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е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ниципальный турнир по шахматам «Белая ладья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бедитель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иональный турнир по шахматам «Блиц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тернет - турни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бедитель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е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иональный турнир по шахматам, посвящённый выводу войск из Афганистана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тернет - турни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российского конкурса решения шахматных задач, посвященного Всемирному дню распространения информации об аутизм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Мы разные, но мы вместе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тернет - турни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ер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иональный турнир по быстрым шахматам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вящённого Победе воинов Александра Невского на Чудском озер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тернет - турни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6" name="Рисунок 5" descr="1191269027_c4112.jpg"/>
          <p:cNvPicPr/>
          <p:nvPr/>
        </p:nvPicPr>
        <p:blipFill>
          <a:blip r:embed="rId1"/>
          <a:srcRect l="0" t="0" r="0" b="11008"/>
          <a:stretch/>
        </p:blipFill>
        <p:spPr>
          <a:xfrm>
            <a:off x="0" y="0"/>
            <a:ext cx="1119240" cy="125100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2"/>
          <p:cNvSpPr/>
          <p:nvPr/>
        </p:nvSpPr>
        <p:spPr>
          <a:xfrm>
            <a:off x="569880" y="6111720"/>
            <a:ext cx="750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: Ученики с большим интересом занимаются на занятиях по шахмат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биваются хороших результато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Стрелка влево 7"/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Дата 3"/>
          <p:cNvSpPr/>
          <p:nvPr/>
        </p:nvSpPr>
        <p:spPr>
          <a:xfrm>
            <a:off x="5356080" y="6383160"/>
            <a:ext cx="3786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EEC1-DD1E-423D-903F-E9AC6506EA39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2560" y="117360"/>
            <a:ext cx="6265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1" name="Прямоугольник 1"/>
          <p:cNvSpPr/>
          <p:nvPr/>
        </p:nvSpPr>
        <p:spPr>
          <a:xfrm>
            <a:off x="1692360" y="78120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436b"/>
                </a:solidFill>
                <a:latin typeface="Monotype Corsiva"/>
              </a:rPr>
              <a:t>Духовно-нравственное развитие – важнейший компонент социального заказа для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2"/>
          <p:cNvSpPr/>
          <p:nvPr/>
        </p:nvSpPr>
        <p:spPr>
          <a:xfrm>
            <a:off x="281160" y="17049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— воспитание, социально-педагогическая поддержка становления и развития высоконравственного, ответственного, инициативного и компетентного гражданина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Рисунок 2" descr=""/>
          <p:cNvPicPr/>
          <p:nvPr/>
        </p:nvPicPr>
        <p:blipFill>
          <a:blip r:embed="rId1"/>
          <a:stretch/>
        </p:blipFill>
        <p:spPr>
          <a:xfrm rot="433200">
            <a:off x="552600" y="2720880"/>
            <a:ext cx="1962000" cy="1473120"/>
          </a:xfrm>
          <a:prstGeom prst="rect">
            <a:avLst/>
          </a:prstGeom>
          <a:ln w="0">
            <a:noFill/>
          </a:ln>
        </p:spPr>
      </p:pic>
      <p:pic>
        <p:nvPicPr>
          <p:cNvPr id="544" name="Рисунок 6" descr=""/>
          <p:cNvPicPr/>
          <p:nvPr/>
        </p:nvPicPr>
        <p:blipFill>
          <a:blip r:embed="rId2"/>
          <a:stretch/>
        </p:blipFill>
        <p:spPr>
          <a:xfrm rot="980400">
            <a:off x="6637320" y="3166560"/>
            <a:ext cx="1920960" cy="144324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8"/>
          <p:cNvSpPr/>
          <p:nvPr/>
        </p:nvSpPr>
        <p:spPr>
          <a:xfrm>
            <a:off x="6400800" y="4851360"/>
            <a:ext cx="250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Я не играю в шахматы — в шахматах я борю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4"/>
          <p:cNvSpPr/>
          <p:nvPr/>
        </p:nvSpPr>
        <p:spPr>
          <a:xfrm>
            <a:off x="3765600" y="5661000"/>
            <a:ext cx="541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стинный герой играет во время сражения шахматную партию независимо от её исхода.</a:t>
            </a:r>
            <a:br>
              <a:rPr sz="1600"/>
            </a:br>
            <a:r>
              <a:rPr b="1" i="1" lang="ru-RU" sz="1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i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полеон Бонап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6" descr=""/>
          <p:cNvPicPr/>
          <p:nvPr/>
        </p:nvPicPr>
        <p:blipFill>
          <a:blip r:embed="rId3"/>
          <a:stretch/>
        </p:blipFill>
        <p:spPr>
          <a:xfrm rot="21071400">
            <a:off x="3884400" y="2803680"/>
            <a:ext cx="1231920" cy="1639800"/>
          </a:xfrm>
          <a:prstGeom prst="rect">
            <a:avLst/>
          </a:prstGeom>
          <a:ln w="0">
            <a:noFill/>
          </a:ln>
        </p:spPr>
      </p:pic>
      <p:pic>
        <p:nvPicPr>
          <p:cNvPr id="548" name="Рисунок 2" descr=""/>
          <p:cNvPicPr/>
          <p:nvPr/>
        </p:nvPicPr>
        <p:blipFill>
          <a:blip r:embed="rId4"/>
          <a:stretch/>
        </p:blipFill>
        <p:spPr>
          <a:xfrm rot="21225000">
            <a:off x="1119240" y="5075280"/>
            <a:ext cx="1979640" cy="1485720"/>
          </a:xfrm>
          <a:prstGeom prst="rect">
            <a:avLst/>
          </a:prstGeom>
          <a:ln w="0">
            <a:noFill/>
          </a:ln>
        </p:spPr>
      </p:pic>
      <p:sp>
        <p:nvSpPr>
          <p:cNvPr id="549" name="Прямоугольник 2"/>
          <p:cNvSpPr/>
          <p:nvPr/>
        </p:nvSpPr>
        <p:spPr>
          <a:xfrm>
            <a:off x="281160" y="4194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Шахматы требуют больше ум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чем жизнь… и чем бридж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2"/>
          <p:cNvSpPr/>
          <p:nvPr/>
        </p:nvSpPr>
        <p:spPr>
          <a:xfrm>
            <a:off x="2882160" y="4543560"/>
            <a:ext cx="32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т великого до смешного – один ш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Стрелка влево 13"/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Группа 3"/>
          <p:cNvGrpSpPr/>
          <p:nvPr/>
        </p:nvGrpSpPr>
        <p:grpSpPr>
          <a:xfrm>
            <a:off x="884160" y="820800"/>
            <a:ext cx="4160880" cy="685800"/>
            <a:chOff x="884160" y="820800"/>
            <a:chExt cx="4160880" cy="685800"/>
          </a:xfrm>
        </p:grpSpPr>
        <p:sp>
          <p:nvSpPr>
            <p:cNvPr id="349" name="AutoShape 52"/>
            <p:cNvSpPr/>
            <p:nvPr/>
          </p:nvSpPr>
          <p:spPr>
            <a:xfrm>
              <a:off x="1593360" y="1003680"/>
              <a:ext cx="3451680" cy="31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3f0ff"/>
                </a:gs>
                <a:gs pos="100000">
                  <a:srgbClr val="31b6fd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1" action="ppaction://hlinksldjump"/>
                </a:rPr>
                <a:t>Общие</a:t>
              </a:r>
              <a:r>
                <a:rPr b="0" lang="ru-RU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2" action="ppaction://hlinksldjump"/>
                </a:rPr>
                <a:t>свед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0" name="Group 46" descr=""/>
            <p:cNvPicPr/>
            <p:nvPr/>
          </p:nvPicPr>
          <p:blipFill>
            <a:blip r:embed="rId3"/>
            <a:stretch/>
          </p:blipFill>
          <p:spPr>
            <a:xfrm>
              <a:off x="884160" y="820800"/>
              <a:ext cx="7768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1" name="Group 56"/>
          <p:cNvGrpSpPr/>
          <p:nvPr/>
        </p:nvGrpSpPr>
        <p:grpSpPr>
          <a:xfrm>
            <a:off x="884160" y="2340000"/>
            <a:ext cx="6640560" cy="685800"/>
            <a:chOff x="884160" y="2340000"/>
            <a:chExt cx="6640560" cy="685800"/>
          </a:xfrm>
        </p:grpSpPr>
        <p:sp>
          <p:nvSpPr>
            <p:cNvPr id="352" name="AutoShape 57"/>
            <p:cNvSpPr/>
            <p:nvPr/>
          </p:nvSpPr>
          <p:spPr>
            <a:xfrm>
              <a:off x="1436760" y="2446560"/>
              <a:ext cx="6087960" cy="44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c9f0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4" action="ppaction://hlinksldjump"/>
                </a:rPr>
                <a:t>Результаты</a:t>
              </a:r>
              <a:r>
                <a:rPr b="0" lang="ru-RU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5" action="ppaction://hlinksldjump"/>
                </a:rPr>
                <a:t>педагогической</a:t>
              </a:r>
              <a:r>
                <a:rPr b="0" lang="ru-RU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6" action="ppaction://hlinksldjump"/>
                </a:rPr>
                <a:t>деятель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58"/>
            <p:cNvSpPr/>
            <p:nvPr/>
          </p:nvSpPr>
          <p:spPr>
            <a:xfrm>
              <a:off x="884160" y="2340000"/>
              <a:ext cx="685800" cy="685800"/>
            </a:xfrm>
            <a:prstGeom prst="diamond">
              <a:avLst/>
            </a:prstGeom>
            <a:solidFill>
              <a:srgbClr val="dc9f0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60"/>
            <p:cNvSpPr/>
            <p:nvPr/>
          </p:nvSpPr>
          <p:spPr>
            <a:xfrm>
              <a:off x="1040040" y="2438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61"/>
          <p:cNvGrpSpPr/>
          <p:nvPr/>
        </p:nvGrpSpPr>
        <p:grpSpPr>
          <a:xfrm>
            <a:off x="893880" y="3886200"/>
            <a:ext cx="6967440" cy="685800"/>
            <a:chOff x="893880" y="3886200"/>
            <a:chExt cx="6967440" cy="685800"/>
          </a:xfrm>
        </p:grpSpPr>
        <p:sp>
          <p:nvSpPr>
            <p:cNvPr id="356" name="AutoShape 62"/>
            <p:cNvSpPr/>
            <p:nvPr/>
          </p:nvSpPr>
          <p:spPr>
            <a:xfrm>
              <a:off x="1274760" y="4005360"/>
              <a:ext cx="6586560" cy="43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bd078"/>
                </a:gs>
                <a:gs pos="100000">
                  <a:srgbClr val="0293e0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7" action="ppaction://hlinksldjump"/>
                </a:rPr>
                <a:t>Оценка</a:t>
              </a:r>
              <a:r>
                <a:rPr b="0" lang="ru-RU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8" action="ppaction://hlinksldjump"/>
                </a:rPr>
                <a:t>профессиональной</a:t>
              </a:r>
              <a:r>
                <a:rPr b="0" lang="ru-RU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9" action="ppaction://hlinksldjump"/>
                </a:rPr>
                <a:t>деятель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63"/>
            <p:cNvSpPr/>
            <p:nvPr/>
          </p:nvSpPr>
          <p:spPr>
            <a:xfrm>
              <a:off x="893880" y="3886200"/>
              <a:ext cx="685800" cy="685800"/>
            </a:xfrm>
            <a:prstGeom prst="diamond">
              <a:avLst/>
            </a:prstGeom>
            <a:solidFill>
              <a:srgbClr val="0293e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65"/>
            <p:cNvSpPr/>
            <p:nvPr/>
          </p:nvSpPr>
          <p:spPr>
            <a:xfrm>
              <a:off x="1049040" y="3984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61"/>
          <p:cNvGrpSpPr/>
          <p:nvPr/>
        </p:nvGrpSpPr>
        <p:grpSpPr>
          <a:xfrm>
            <a:off x="893880" y="4606920"/>
            <a:ext cx="7665480" cy="685800"/>
            <a:chOff x="893880" y="4606920"/>
            <a:chExt cx="7665480" cy="685800"/>
          </a:xfrm>
        </p:grpSpPr>
        <p:sp>
          <p:nvSpPr>
            <p:cNvPr id="360" name="AutoShape 62"/>
            <p:cNvSpPr/>
            <p:nvPr/>
          </p:nvSpPr>
          <p:spPr>
            <a:xfrm>
              <a:off x="1285560" y="4726080"/>
              <a:ext cx="7273800" cy="44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36a08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10" action="ppaction://hlinksldjump"/>
                </a:rPr>
                <a:t>Инновационная</a:t>
              </a:r>
              <a:r>
                <a:rPr b="0" lang="ru-RU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11" action="ppaction://hlinksldjump"/>
                </a:rPr>
                <a:t>деятель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3"/>
            <p:cNvSpPr/>
            <p:nvPr/>
          </p:nvSpPr>
          <p:spPr>
            <a:xfrm>
              <a:off x="893880" y="4606920"/>
              <a:ext cx="705600" cy="685800"/>
            </a:xfrm>
            <a:prstGeom prst="diamond">
              <a:avLst/>
            </a:prstGeom>
            <a:solidFill>
              <a:srgbClr val="936a0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65"/>
            <p:cNvSpPr/>
            <p:nvPr/>
          </p:nvSpPr>
          <p:spPr>
            <a:xfrm>
              <a:off x="1058400" y="4705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Группа 2"/>
          <p:cNvGrpSpPr/>
          <p:nvPr/>
        </p:nvGrpSpPr>
        <p:grpSpPr>
          <a:xfrm>
            <a:off x="892080" y="1593720"/>
            <a:ext cx="6632640" cy="685800"/>
            <a:chOff x="892080" y="1593720"/>
            <a:chExt cx="6632640" cy="685800"/>
          </a:xfrm>
        </p:grpSpPr>
        <p:sp>
          <p:nvSpPr>
            <p:cNvPr id="364" name="AutoShape 52"/>
            <p:cNvSpPr/>
            <p:nvPr/>
          </p:nvSpPr>
          <p:spPr>
            <a:xfrm>
              <a:off x="1569240" y="1708920"/>
              <a:ext cx="59554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3f0ff"/>
                </a:gs>
                <a:gs pos="100000">
                  <a:srgbClr val="13abfd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12" action="ppaction://hlinksldjump"/>
                </a:rPr>
                <a:t>Развитие</a:t>
              </a:r>
              <a:r>
                <a:rPr b="0" lang="ru-RU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13" action="ppaction://hlinksldjump"/>
                </a:rPr>
                <a:t>профессиональной</a:t>
              </a:r>
              <a:r>
                <a:rPr b="0" lang="ru-RU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14" action="ppaction://hlinksldjump"/>
                </a:rPr>
                <a:t>компетен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5" name="Group 46" descr=""/>
            <p:cNvPicPr/>
            <p:nvPr/>
          </p:nvPicPr>
          <p:blipFill>
            <a:blip r:embed="rId15"/>
            <a:stretch/>
          </p:blipFill>
          <p:spPr>
            <a:xfrm>
              <a:off x="892080" y="1593720"/>
              <a:ext cx="7776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85640" y="-334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80ff"/>
                </a:solidFill>
                <a:uFillTx/>
                <a:latin typeface="Times New Roman"/>
                <a:ea typeface="Times New Roman"/>
                <a:hlinkClick r:id="rId16" action="ppaction://hlinksldjump"/>
              </a:rPr>
              <a:t>СОДЕРЖАНИЕ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367" name="Group 56"/>
          <p:cNvGrpSpPr/>
          <p:nvPr/>
        </p:nvGrpSpPr>
        <p:grpSpPr>
          <a:xfrm>
            <a:off x="884160" y="3112920"/>
            <a:ext cx="6597360" cy="685800"/>
            <a:chOff x="884160" y="3112920"/>
            <a:chExt cx="6597360" cy="685800"/>
          </a:xfrm>
        </p:grpSpPr>
        <p:sp>
          <p:nvSpPr>
            <p:cNvPr id="368" name="AutoShape 57"/>
            <p:cNvSpPr/>
            <p:nvPr/>
          </p:nvSpPr>
          <p:spPr>
            <a:xfrm>
              <a:off x="1456560" y="3219480"/>
              <a:ext cx="6024960" cy="44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c9f0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17" action="ppaction://hlinksldjump"/>
                </a:rPr>
                <a:t>Результаты</a:t>
              </a:r>
              <a:r>
                <a:rPr b="0" lang="ru-RU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18" action="ppaction://hlinksldjump"/>
                </a:rPr>
                <a:t>внеурочной</a:t>
              </a:r>
              <a:r>
                <a:rPr b="0" lang="ru-RU" sz="2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ru-RU" sz="2400" spc="-1" strike="noStrike" u="sng">
                  <a:solidFill>
                    <a:srgbClr val="0080ff"/>
                  </a:solidFill>
                  <a:uFillTx/>
                  <a:latin typeface="Garamond"/>
                  <a:hlinkClick r:id="rId19" action="ppaction://hlinksldjump"/>
                </a:rPr>
                <a:t>деятель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58"/>
            <p:cNvSpPr/>
            <p:nvPr/>
          </p:nvSpPr>
          <p:spPr>
            <a:xfrm>
              <a:off x="884160" y="3112920"/>
              <a:ext cx="710280" cy="685800"/>
            </a:xfrm>
            <a:prstGeom prst="diamond">
              <a:avLst/>
            </a:prstGeom>
            <a:solidFill>
              <a:srgbClr val="dc9f0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60"/>
            <p:cNvSpPr/>
            <p:nvPr/>
          </p:nvSpPr>
          <p:spPr>
            <a:xfrm>
              <a:off x="1051560" y="321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Дата 3"/>
          <p:cNvSpPr/>
          <p:nvPr/>
        </p:nvSpPr>
        <p:spPr>
          <a:xfrm>
            <a:off x="5357880" y="645804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588A-B197-49BA-93A0-BB6B3755D5A8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2560" y="117360"/>
            <a:ext cx="6265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436b"/>
                </a:solidFill>
                <a:latin typeface="Monotype Corsiva"/>
              </a:rPr>
              <a:t>Духовно-нравственное развитие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4" name="Прямоугольник 2"/>
          <p:cNvSpPr/>
          <p:nvPr/>
        </p:nvSpPr>
        <p:spPr>
          <a:xfrm>
            <a:off x="539640" y="782640"/>
            <a:ext cx="813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33"/>
                </a:solidFill>
                <a:latin typeface="Open Sans"/>
              </a:rPr>
              <a:t>Всегда помните, что у вас должна быть сила, чтобы создавать для себя возможности и в полной мере использовать возможности, которые появляются на вашем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Рисунок 2" descr=""/>
          <p:cNvPicPr/>
          <p:nvPr/>
        </p:nvPicPr>
        <p:blipFill>
          <a:blip r:embed="rId1"/>
          <a:stretch/>
        </p:blipFill>
        <p:spPr>
          <a:xfrm>
            <a:off x="888840" y="2720880"/>
            <a:ext cx="828720" cy="147312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6" descr=""/>
          <p:cNvPicPr/>
          <p:nvPr/>
        </p:nvPicPr>
        <p:blipFill>
          <a:blip r:embed="rId2"/>
          <a:stretch/>
        </p:blipFill>
        <p:spPr>
          <a:xfrm rot="980400">
            <a:off x="6399000" y="2752200"/>
            <a:ext cx="1920600" cy="1440000"/>
          </a:xfrm>
          <a:prstGeom prst="rect">
            <a:avLst/>
          </a:prstGeom>
          <a:ln w="0">
            <a:noFill/>
          </a:ln>
        </p:spPr>
      </p:pic>
      <p:sp>
        <p:nvSpPr>
          <p:cNvPr id="557" name="Прямоугольник 3"/>
          <p:cNvSpPr/>
          <p:nvPr/>
        </p:nvSpPr>
        <p:spPr>
          <a:xfrm>
            <a:off x="214200" y="4165560"/>
            <a:ext cx="277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a46"/>
                </a:solidFill>
                <a:latin typeface="Times New Roman"/>
                <a:ea typeface="Times New Roman"/>
              </a:rPr>
              <a:t>Если ты не готов трудиться, значит, ты готов проигр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6012000" y="4400640"/>
            <a:ext cx="250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Если ты хочешь быть лучше остальных, то приготовься делать то, что остальные не хотят дела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4"/>
          <p:cNvSpPr/>
          <p:nvPr/>
        </p:nvSpPr>
        <p:spPr>
          <a:xfrm>
            <a:off x="3924360" y="5654520"/>
            <a:ext cx="541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23a46"/>
                </a:solidFill>
                <a:latin typeface="Times New Roman"/>
                <a:ea typeface="Times New Roman"/>
              </a:rPr>
              <a:t>Если человек встает после падения, это не физи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23a46"/>
                </a:solidFill>
                <a:latin typeface="Times New Roman"/>
                <a:ea typeface="Times New Roman"/>
              </a:rPr>
              <a:t>это характер.</a:t>
            </a:r>
            <a:br>
              <a:rPr sz="1600"/>
            </a:br>
            <a:r>
              <a:rPr b="1" i="1" lang="ru-RU" sz="1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1" i="1" lang="ru-RU" sz="1600" spc="-1" strike="noStrike">
                <a:solidFill>
                  <a:srgbClr val="323a46"/>
                </a:solidFill>
                <a:latin typeface="Times New Roman"/>
                <a:ea typeface="Times New Roman"/>
              </a:rPr>
              <a:t>Майк Тайс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6" descr=""/>
          <p:cNvPicPr/>
          <p:nvPr/>
        </p:nvPicPr>
        <p:blipFill>
          <a:blip r:embed="rId3"/>
          <a:stretch/>
        </p:blipFill>
        <p:spPr>
          <a:xfrm rot="21071400">
            <a:off x="3825360" y="2719440"/>
            <a:ext cx="1231920" cy="1639800"/>
          </a:xfrm>
          <a:prstGeom prst="rect">
            <a:avLst/>
          </a:prstGeom>
          <a:ln w="0">
            <a:noFill/>
          </a:ln>
        </p:spPr>
      </p:pic>
      <p:sp>
        <p:nvSpPr>
          <p:cNvPr id="561" name="Прямоугольник 12"/>
          <p:cNvSpPr/>
          <p:nvPr/>
        </p:nvSpPr>
        <p:spPr>
          <a:xfrm>
            <a:off x="236520" y="5514840"/>
            <a:ext cx="2502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a46"/>
                </a:solidFill>
                <a:latin typeface="Times New Roman"/>
                <a:ea typeface="Times New Roman"/>
              </a:rPr>
              <a:t>Мы всегда должны выходить за пределы</a:t>
            </a:r>
            <a:r>
              <a:rPr b="0" lang="ru-RU" sz="1400" spc="-1" strike="noStrike">
                <a:solidFill>
                  <a:srgbClr val="323a46"/>
                </a:solidFill>
                <a:latin typeface="Open San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Рисунок 2" descr=""/>
          <p:cNvPicPr/>
          <p:nvPr/>
        </p:nvPicPr>
        <p:blipFill>
          <a:blip r:embed="rId4"/>
          <a:stretch/>
        </p:blipFill>
        <p:spPr>
          <a:xfrm>
            <a:off x="2700360" y="4757760"/>
            <a:ext cx="836640" cy="1485720"/>
          </a:xfrm>
          <a:prstGeom prst="rect">
            <a:avLst/>
          </a:prstGeom>
          <a:ln w="0">
            <a:noFill/>
          </a:ln>
        </p:spPr>
      </p:pic>
      <p:sp>
        <p:nvSpPr>
          <p:cNvPr id="563" name="Стрелка влево 1"/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AutoShape 3"/>
          <p:cNvSpPr/>
          <p:nvPr/>
        </p:nvSpPr>
        <p:spPr>
          <a:xfrm>
            <a:off x="5562720" y="3224160"/>
            <a:ext cx="2222280" cy="19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5">
            <a:hlinkClick r:id="rId1"/>
          </p:cNvPr>
          <p:cNvSpPr/>
          <p:nvPr/>
        </p:nvSpPr>
        <p:spPr>
          <a:xfrm>
            <a:off x="1214280" y="3276720"/>
            <a:ext cx="2195640" cy="191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8"/>
          <p:cNvSpPr/>
          <p:nvPr/>
        </p:nvSpPr>
        <p:spPr>
          <a:xfrm>
            <a:off x="36432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9"/>
          <p:cNvSpPr/>
          <p:nvPr/>
        </p:nvSpPr>
        <p:spPr>
          <a:xfrm flipH="1">
            <a:off x="5857200" y="321480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10"/>
          <p:cNvSpPr/>
          <p:nvPr/>
        </p:nvSpPr>
        <p:spPr>
          <a:xfrm flipH="1">
            <a:off x="4643280" y="318780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1"/>
          <p:cNvGrpSpPr/>
          <p:nvPr/>
        </p:nvGrpSpPr>
        <p:grpSpPr>
          <a:xfrm>
            <a:off x="770040" y="1319040"/>
            <a:ext cx="7784640" cy="1868040"/>
            <a:chOff x="770040" y="1319040"/>
            <a:chExt cx="7784640" cy="1868040"/>
          </a:xfrm>
        </p:grpSpPr>
        <p:grpSp>
          <p:nvGrpSpPr>
            <p:cNvPr id="378" name="Group 12"/>
            <p:cNvGrpSpPr/>
            <p:nvPr/>
          </p:nvGrpSpPr>
          <p:grpSpPr>
            <a:xfrm>
              <a:off x="770040" y="1485720"/>
              <a:ext cx="7784640" cy="1701360"/>
              <a:chOff x="770040" y="1485720"/>
              <a:chExt cx="7784640" cy="1701360"/>
            </a:xfrm>
          </p:grpSpPr>
          <p:sp>
            <p:nvSpPr>
              <p:cNvPr id="379" name="Oval 13"/>
              <p:cNvSpPr/>
              <p:nvPr/>
            </p:nvSpPr>
            <p:spPr>
              <a:xfrm>
                <a:off x="855000" y="1540080"/>
                <a:ext cx="7699680" cy="1647000"/>
              </a:xfrm>
              <a:prstGeom prst="ellipse">
                <a:avLst/>
              </a:prstGeom>
              <a:gradFill rotWithShape="0">
                <a:gsLst>
                  <a:gs pos="0">
                    <a:srgbClr val="0080ff"/>
                  </a:gs>
                  <a:gs pos="100000">
                    <a:srgbClr val="003e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14"/>
              <p:cNvSpPr/>
              <p:nvPr/>
            </p:nvSpPr>
            <p:spPr>
              <a:xfrm>
                <a:off x="770040" y="1485720"/>
                <a:ext cx="7699680" cy="1646640"/>
              </a:xfrm>
              <a:prstGeom prst="ellipse">
                <a:avLst/>
              </a:prstGeom>
              <a:gradFill rotWithShape="0">
                <a:gsLst>
                  <a:gs pos="0">
                    <a:srgbClr val="8ec7ff"/>
                  </a:gs>
                  <a:gs pos="100000">
                    <a:srgbClr val="0080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Oval 15"/>
            <p:cNvSpPr/>
            <p:nvPr/>
          </p:nvSpPr>
          <p:spPr>
            <a:xfrm>
              <a:off x="1137240" y="1319040"/>
              <a:ext cx="6969600" cy="1564920"/>
            </a:xfrm>
            <a:prstGeom prst="ellipse">
              <a:avLst/>
            </a:prstGeom>
            <a:gradFill rotWithShape="0">
              <a:gsLst>
                <a:gs pos="0">
                  <a:srgbClr val="175475"/>
                </a:gs>
                <a:gs pos="100000">
                  <a:srgbClr val="31b6f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6"/>
            <p:cNvSpPr/>
            <p:nvPr/>
          </p:nvSpPr>
          <p:spPr>
            <a:xfrm>
              <a:off x="1227960" y="1328040"/>
              <a:ext cx="6800400" cy="1525680"/>
            </a:xfrm>
            <a:prstGeom prst="ellipse">
              <a:avLst/>
            </a:prstGeom>
            <a:gradFill rotWithShape="0">
              <a:gsLst>
                <a:gs pos="0">
                  <a:srgbClr val="31b6fd">
                    <a:alpha val="0"/>
                  </a:srgbClr>
                </a:gs>
                <a:gs pos="100000">
                  <a:srgbClr val="b7e6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7"/>
            <p:cNvSpPr/>
            <p:nvPr/>
          </p:nvSpPr>
          <p:spPr>
            <a:xfrm>
              <a:off x="1297800" y="1343160"/>
              <a:ext cx="6470640" cy="1425600"/>
            </a:xfrm>
            <a:prstGeom prst="ellipse">
              <a:avLst/>
            </a:prstGeom>
            <a:gradFill rotWithShape="0">
              <a:gsLst>
                <a:gs pos="0">
                  <a:srgbClr val="2790c8"/>
                </a:gs>
                <a:gs pos="100000">
                  <a:srgbClr val="31b6f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8"/>
            <p:cNvSpPr/>
            <p:nvPr/>
          </p:nvSpPr>
          <p:spPr>
            <a:xfrm>
              <a:off x="1640160" y="1374840"/>
              <a:ext cx="5695920" cy="1154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1b6f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TextBox 20"/>
          <p:cNvSpPr/>
          <p:nvPr/>
        </p:nvSpPr>
        <p:spPr>
          <a:xfrm>
            <a:off x="1128600" y="3300480"/>
            <a:ext cx="23590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Личный сай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ff"/>
                </a:solidFill>
                <a:uFillTx/>
                <a:latin typeface="Monotype Corsiva"/>
                <a:hlinkClick r:id="rId2"/>
              </a:rPr>
              <a:t>https://nsportal.ru/obuhov-sergey-nikolaev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1"/>
          <p:cNvSpPr/>
          <p:nvPr/>
        </p:nvSpPr>
        <p:spPr>
          <a:xfrm>
            <a:off x="5546880" y="3467160"/>
            <a:ext cx="2428560" cy="8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айт школ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ff"/>
                </a:solidFill>
                <a:uFillTx/>
                <a:latin typeface="Monotype Corsiva"/>
                <a:hlinkClick r:id="rId3"/>
              </a:rPr>
              <a:t>https://admsov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СВЕДЕНИЯ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Freeform 10"/>
          <p:cNvSpPr/>
          <p:nvPr/>
        </p:nvSpPr>
        <p:spPr>
          <a:xfrm flipH="1" rot="2432400">
            <a:off x="3931560" y="3435120"/>
            <a:ext cx="1461960" cy="20703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2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"/>
          <p:cNvSpPr/>
          <p:nvPr/>
        </p:nvSpPr>
        <p:spPr>
          <a:xfrm>
            <a:off x="2379600" y="1539720"/>
            <a:ext cx="449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аботаю учителем  физической культуры  в МБОУ СОШ №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кругленный прямоугольник 5"/>
          <p:cNvSpPr/>
          <p:nvPr/>
        </p:nvSpPr>
        <p:spPr>
          <a:xfrm>
            <a:off x="2503440" y="5516640"/>
            <a:ext cx="4249800" cy="1152360"/>
          </a:xfrm>
          <a:prstGeom prst="roundRect">
            <a:avLst>
              <a:gd name="adj" fmla="val 16667"/>
            </a:avLst>
          </a:prstGeom>
          <a:solidFill>
            <a:srgbClr val="d6f0ff"/>
          </a:solidFill>
          <a:ln w="255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обро пожалов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авайте знакоми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Стрелка влево 22">
            <a:hlinkClick r:id="rId4" action="ppaction://hlinksldjump"/>
          </p:cNvPr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3"/>
          <p:cNvSpPr/>
          <p:nvPr/>
        </p:nvSpPr>
        <p:spPr>
          <a:xfrm>
            <a:off x="5562720" y="3224160"/>
            <a:ext cx="2222280" cy="19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1214280" y="3276720"/>
            <a:ext cx="2195640" cy="191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8"/>
          <p:cNvSpPr/>
          <p:nvPr/>
        </p:nvSpPr>
        <p:spPr>
          <a:xfrm>
            <a:off x="36432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9"/>
          <p:cNvSpPr/>
          <p:nvPr/>
        </p:nvSpPr>
        <p:spPr>
          <a:xfrm flipH="1">
            <a:off x="5857200" y="321480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0"/>
          <p:cNvSpPr/>
          <p:nvPr/>
        </p:nvSpPr>
        <p:spPr>
          <a:xfrm flipH="1">
            <a:off x="4643280" y="318780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1"/>
          <p:cNvGrpSpPr/>
          <p:nvPr/>
        </p:nvGrpSpPr>
        <p:grpSpPr>
          <a:xfrm>
            <a:off x="785880" y="1285920"/>
            <a:ext cx="7785000" cy="1867320"/>
            <a:chOff x="785880" y="1285920"/>
            <a:chExt cx="7785000" cy="1867320"/>
          </a:xfrm>
        </p:grpSpPr>
        <p:grpSp>
          <p:nvGrpSpPr>
            <p:cNvPr id="399" name="Group 12"/>
            <p:cNvGrpSpPr/>
            <p:nvPr/>
          </p:nvGrpSpPr>
          <p:grpSpPr>
            <a:xfrm>
              <a:off x="785880" y="1452600"/>
              <a:ext cx="7785000" cy="1700640"/>
              <a:chOff x="785880" y="1452600"/>
              <a:chExt cx="7785000" cy="1700640"/>
            </a:xfrm>
          </p:grpSpPr>
          <p:sp>
            <p:nvSpPr>
              <p:cNvPr id="400" name="Oval 13"/>
              <p:cNvSpPr/>
              <p:nvPr/>
            </p:nvSpPr>
            <p:spPr>
              <a:xfrm>
                <a:off x="870840" y="1506600"/>
                <a:ext cx="7700040" cy="1646640"/>
              </a:xfrm>
              <a:prstGeom prst="ellipse">
                <a:avLst/>
              </a:prstGeom>
              <a:gradFill rotWithShape="0">
                <a:gsLst>
                  <a:gs pos="0">
                    <a:srgbClr val="0080ff"/>
                  </a:gs>
                  <a:gs pos="100000">
                    <a:srgbClr val="003e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14"/>
              <p:cNvSpPr/>
              <p:nvPr/>
            </p:nvSpPr>
            <p:spPr>
              <a:xfrm>
                <a:off x="785880" y="1452600"/>
                <a:ext cx="7700040" cy="1646280"/>
              </a:xfrm>
              <a:prstGeom prst="ellipse">
                <a:avLst/>
              </a:prstGeom>
              <a:gradFill rotWithShape="0">
                <a:gsLst>
                  <a:gs pos="0">
                    <a:srgbClr val="8ec7ff"/>
                  </a:gs>
                  <a:gs pos="100000">
                    <a:srgbClr val="0080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Oval 15"/>
            <p:cNvSpPr/>
            <p:nvPr/>
          </p:nvSpPr>
          <p:spPr>
            <a:xfrm>
              <a:off x="1153080" y="1285920"/>
              <a:ext cx="6969960" cy="1564560"/>
            </a:xfrm>
            <a:prstGeom prst="ellipse">
              <a:avLst/>
            </a:prstGeom>
            <a:gradFill rotWithShape="0">
              <a:gsLst>
                <a:gs pos="0">
                  <a:srgbClr val="175475"/>
                </a:gs>
                <a:gs pos="100000">
                  <a:srgbClr val="31b6f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6"/>
            <p:cNvSpPr/>
            <p:nvPr/>
          </p:nvSpPr>
          <p:spPr>
            <a:xfrm>
              <a:off x="1243800" y="1294920"/>
              <a:ext cx="6800760" cy="1525680"/>
            </a:xfrm>
            <a:prstGeom prst="ellipse">
              <a:avLst/>
            </a:prstGeom>
            <a:gradFill rotWithShape="0">
              <a:gsLst>
                <a:gs pos="0">
                  <a:srgbClr val="31b6fd">
                    <a:alpha val="0"/>
                  </a:srgbClr>
                </a:gs>
                <a:gs pos="100000">
                  <a:srgbClr val="b7e6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7"/>
            <p:cNvSpPr/>
            <p:nvPr/>
          </p:nvSpPr>
          <p:spPr>
            <a:xfrm>
              <a:off x="1313640" y="1310040"/>
              <a:ext cx="6471000" cy="1425240"/>
            </a:xfrm>
            <a:prstGeom prst="ellipse">
              <a:avLst/>
            </a:prstGeom>
            <a:gradFill rotWithShape="0">
              <a:gsLst>
                <a:gs pos="0">
                  <a:srgbClr val="2790c8"/>
                </a:gs>
                <a:gs pos="100000">
                  <a:srgbClr val="31b6f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8"/>
            <p:cNvSpPr/>
            <p:nvPr/>
          </p:nvSpPr>
          <p:spPr>
            <a:xfrm>
              <a:off x="1656000" y="1341720"/>
              <a:ext cx="5695920" cy="1154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1b6f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Box 19"/>
          <p:cNvSpPr/>
          <p:nvPr/>
        </p:nvSpPr>
        <p:spPr>
          <a:xfrm>
            <a:off x="1785960" y="1474920"/>
            <a:ext cx="600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 2009 г. окончи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ральский государстве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ниверситет физиче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0"/>
          <p:cNvSpPr/>
          <p:nvPr/>
        </p:nvSpPr>
        <p:spPr>
          <a:xfrm>
            <a:off x="1128600" y="3300480"/>
            <a:ext cx="235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 специальности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Физическая культура и спор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1"/>
          <p:cNvSpPr/>
          <p:nvPr/>
        </p:nvSpPr>
        <p:spPr>
          <a:xfrm>
            <a:off x="5586480" y="3467160"/>
            <a:ext cx="242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таж работы-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5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СВЕДЕНИЯ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0" name="Freeform 10"/>
          <p:cNvSpPr/>
          <p:nvPr/>
        </p:nvSpPr>
        <p:spPr>
          <a:xfrm flipH="1" rot="2432400">
            <a:off x="3931560" y="3435120"/>
            <a:ext cx="1461960" cy="20703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2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3"/>
          <p:cNvSpPr/>
          <p:nvPr/>
        </p:nvSpPr>
        <p:spPr>
          <a:xfrm>
            <a:off x="1547640" y="5398920"/>
            <a:ext cx="6048720" cy="72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атегория: Соответствие занимаемой дол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Стрелка влево 22">
            <a:hlinkClick r:id="rId1" action="ppaction://hlinksldjump"/>
          </p:cNvPr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AutoShape 3"/>
          <p:cNvSpPr/>
          <p:nvPr/>
        </p:nvSpPr>
        <p:spPr>
          <a:xfrm>
            <a:off x="5653080" y="3276720"/>
            <a:ext cx="2786040" cy="1893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«Шахматы в начальной школ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«Шахматы в игре, как сред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нтеллектуальн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Младших школьников в рам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ФГОС НО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2019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5"/>
          <p:cNvSpPr/>
          <p:nvPr/>
        </p:nvSpPr>
        <p:spPr>
          <a:xfrm>
            <a:off x="866880" y="3316320"/>
            <a:ext cx="2506680" cy="191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8"/>
          <p:cNvSpPr/>
          <p:nvPr/>
        </p:nvSpPr>
        <p:spPr>
          <a:xfrm>
            <a:off x="3600360" y="26416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9"/>
          <p:cNvSpPr/>
          <p:nvPr/>
        </p:nvSpPr>
        <p:spPr>
          <a:xfrm flipH="1">
            <a:off x="5652360" y="3214800"/>
            <a:ext cx="2701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0"/>
          <p:cNvSpPr/>
          <p:nvPr/>
        </p:nvSpPr>
        <p:spPr>
          <a:xfrm flipH="1">
            <a:off x="4763520" y="27306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1"/>
          <p:cNvGrpSpPr/>
          <p:nvPr/>
        </p:nvGrpSpPr>
        <p:grpSpPr>
          <a:xfrm>
            <a:off x="652320" y="814320"/>
            <a:ext cx="7785000" cy="1867320"/>
            <a:chOff x="652320" y="814320"/>
            <a:chExt cx="7785000" cy="1867320"/>
          </a:xfrm>
        </p:grpSpPr>
        <p:grpSp>
          <p:nvGrpSpPr>
            <p:cNvPr id="420" name="Group 12"/>
            <p:cNvGrpSpPr/>
            <p:nvPr/>
          </p:nvGrpSpPr>
          <p:grpSpPr>
            <a:xfrm>
              <a:off x="652320" y="981000"/>
              <a:ext cx="7785000" cy="1700640"/>
              <a:chOff x="652320" y="981000"/>
              <a:chExt cx="7785000" cy="1700640"/>
            </a:xfrm>
          </p:grpSpPr>
          <p:sp>
            <p:nvSpPr>
              <p:cNvPr id="421" name="Oval 13"/>
              <p:cNvSpPr/>
              <p:nvPr/>
            </p:nvSpPr>
            <p:spPr>
              <a:xfrm>
                <a:off x="737280" y="1035000"/>
                <a:ext cx="7700040" cy="1646640"/>
              </a:xfrm>
              <a:prstGeom prst="ellipse">
                <a:avLst/>
              </a:prstGeom>
              <a:gradFill rotWithShape="0">
                <a:gsLst>
                  <a:gs pos="0">
                    <a:srgbClr val="0080ff"/>
                  </a:gs>
                  <a:gs pos="100000">
                    <a:srgbClr val="003e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14"/>
              <p:cNvSpPr/>
              <p:nvPr/>
            </p:nvSpPr>
            <p:spPr>
              <a:xfrm>
                <a:off x="652320" y="981000"/>
                <a:ext cx="7700040" cy="1646280"/>
              </a:xfrm>
              <a:prstGeom prst="ellipse">
                <a:avLst/>
              </a:prstGeom>
              <a:gradFill rotWithShape="0">
                <a:gsLst>
                  <a:gs pos="0">
                    <a:srgbClr val="8ec7ff"/>
                  </a:gs>
                  <a:gs pos="100000">
                    <a:srgbClr val="0080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Oval 15"/>
            <p:cNvSpPr/>
            <p:nvPr/>
          </p:nvSpPr>
          <p:spPr>
            <a:xfrm>
              <a:off x="1019520" y="814320"/>
              <a:ext cx="6969960" cy="1564560"/>
            </a:xfrm>
            <a:prstGeom prst="ellipse">
              <a:avLst/>
            </a:prstGeom>
            <a:gradFill rotWithShape="0">
              <a:gsLst>
                <a:gs pos="0">
                  <a:srgbClr val="175475"/>
                </a:gs>
                <a:gs pos="100000">
                  <a:srgbClr val="31b6f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"/>
            <p:cNvSpPr/>
            <p:nvPr/>
          </p:nvSpPr>
          <p:spPr>
            <a:xfrm>
              <a:off x="1110240" y="823320"/>
              <a:ext cx="6800760" cy="1525680"/>
            </a:xfrm>
            <a:prstGeom prst="ellipse">
              <a:avLst/>
            </a:prstGeom>
            <a:gradFill rotWithShape="0">
              <a:gsLst>
                <a:gs pos="0">
                  <a:srgbClr val="31b6fd">
                    <a:alpha val="0"/>
                  </a:srgbClr>
                </a:gs>
                <a:gs pos="100000">
                  <a:srgbClr val="b7e6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"/>
            <p:cNvSpPr/>
            <p:nvPr/>
          </p:nvSpPr>
          <p:spPr>
            <a:xfrm>
              <a:off x="1180080" y="838440"/>
              <a:ext cx="6471000" cy="1425240"/>
            </a:xfrm>
            <a:prstGeom prst="ellipse">
              <a:avLst/>
            </a:prstGeom>
            <a:gradFill rotWithShape="0">
              <a:gsLst>
                <a:gs pos="0">
                  <a:srgbClr val="2790c8"/>
                </a:gs>
                <a:gs pos="100000">
                  <a:srgbClr val="31b6f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8"/>
            <p:cNvSpPr/>
            <p:nvPr/>
          </p:nvSpPr>
          <p:spPr>
            <a:xfrm>
              <a:off x="1522440" y="870120"/>
              <a:ext cx="5695920" cy="1154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1b6f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Box 19"/>
          <p:cNvSpPr/>
          <p:nvPr/>
        </p:nvSpPr>
        <p:spPr>
          <a:xfrm>
            <a:off x="1781280" y="1147680"/>
            <a:ext cx="600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урсы повышения квал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0"/>
          <p:cNvSpPr/>
          <p:nvPr/>
        </p:nvSpPr>
        <p:spPr>
          <a:xfrm>
            <a:off x="736560" y="3403440"/>
            <a:ext cx="2643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73a3c"/>
                </a:solidFill>
                <a:latin typeface="Monotype Corsiva"/>
                <a:ea typeface="Times New Roman"/>
              </a:rPr>
              <a:t>Организация тренерской деятельности по адаптивной физической культуре и спорту с присвоением квалификации «Тренер-преподаватель по адаптивной физической культуре и спорт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73a3c"/>
                </a:solidFill>
                <a:latin typeface="Monotype Corsiva"/>
                <a:ea typeface="Times New Roman"/>
              </a:rPr>
              <a:t>2021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0" name="Freeform 10"/>
          <p:cNvSpPr/>
          <p:nvPr/>
        </p:nvSpPr>
        <p:spPr>
          <a:xfrm flipH="1" rot="2432400">
            <a:off x="3898800" y="2936520"/>
            <a:ext cx="1462320" cy="20700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584d3"/>
              </a:gs>
              <a:gs pos="100000">
                <a:srgbClr val="c4d8f1"/>
              </a:gs>
            </a:gsLst>
            <a:lin ang="2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"/>
          <p:cNvSpPr/>
          <p:nvPr/>
        </p:nvSpPr>
        <p:spPr>
          <a:xfrm>
            <a:off x="1376280" y="5460840"/>
            <a:ext cx="6810480" cy="72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«Гибкие  компетенции проектной деяте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Стрелка влево 20">
            <a:hlinkClick r:id="rId1" action="ppaction://hlinksldjump"/>
          </p:cNvPr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Схема 6" descr=""/>
          <p:cNvPicPr/>
          <p:nvPr/>
        </p:nvPicPr>
        <p:blipFill>
          <a:blip r:embed="rId1"/>
          <a:stretch/>
        </p:blipFill>
        <p:spPr>
          <a:xfrm>
            <a:off x="274680" y="1579680"/>
            <a:ext cx="8888400" cy="4705200"/>
          </a:xfrm>
          <a:prstGeom prst="rect">
            <a:avLst/>
          </a:prstGeom>
          <a:ln w="0">
            <a:noFill/>
          </a:ln>
        </p:spPr>
      </p:pic>
      <p:sp>
        <p:nvSpPr>
          <p:cNvPr id="434" name="Прямоугольник 4"/>
          <p:cNvSpPr/>
          <p:nvPr/>
        </p:nvSpPr>
        <p:spPr>
          <a:xfrm>
            <a:off x="3500280" y="1079640"/>
            <a:ext cx="564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ль мира в том, чтобы царствовал разу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зеф Эрнест Рен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58920" y="117360"/>
            <a:ext cx="7539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ЧЕСКАЯ ДЕЯТЕЛЬНОСТЬ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Прямоугольник 1"/>
          <p:cNvSpPr/>
          <p:nvPr/>
        </p:nvSpPr>
        <p:spPr>
          <a:xfrm>
            <a:off x="-108000" y="68904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Цели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трелка влево 5">
            <a:hlinkClick r:id="rId2" action="ppaction://hlinksldjump"/>
          </p:cNvPr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Схема 3" descr=""/>
          <p:cNvPicPr/>
          <p:nvPr/>
        </p:nvPicPr>
        <p:blipFill>
          <a:blip r:embed="rId1"/>
          <a:stretch/>
        </p:blipFill>
        <p:spPr>
          <a:xfrm>
            <a:off x="285840" y="1073160"/>
            <a:ext cx="8572320" cy="5089680"/>
          </a:xfrm>
          <a:prstGeom prst="rect">
            <a:avLst/>
          </a:prstGeom>
          <a:ln w="0">
            <a:noFill/>
          </a:ln>
        </p:spPr>
      </p:pic>
      <p:sp>
        <p:nvSpPr>
          <p:cNvPr id="439" name="Прямоугольник 4"/>
          <p:cNvSpPr/>
          <p:nvPr/>
        </p:nvSpPr>
        <p:spPr>
          <a:xfrm>
            <a:off x="1258920" y="1328760"/>
            <a:ext cx="78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 всякой эпохи свои задачи, и их решение обеспечивает прогресс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тва»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рих Гей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1258920" y="117360"/>
            <a:ext cx="7539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ЧЕСК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6"/>
          <p:cNvSpPr/>
          <p:nvPr/>
        </p:nvSpPr>
        <p:spPr>
          <a:xfrm>
            <a:off x="0" y="82872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адачи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трелка влево 5">
            <a:hlinkClick r:id="rId2" action="ppaction://hlinksldjump"/>
          </p:cNvPr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457200" y="1941480"/>
          <a:ext cx="8229600" cy="3882960"/>
        </p:xfrm>
        <a:graphic>
          <a:graphicData uri="http://schemas.openxmlformats.org/drawingml/2006/table">
            <a:tbl>
              <a:tblPr/>
              <a:tblGrid>
                <a:gridCol w="3657600"/>
                <a:gridCol w="4572000"/>
              </a:tblGrid>
              <a:tr h="3967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ехнология работы в системе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b6fd"/>
                      </a:solidFill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31b6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мые педагогическ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b6fd"/>
                      </a:solidFill>
                    </a:lnL>
                    <a:lnR>
                      <a:noFill/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евая, деловая игра, самостоятельная работа, практическая работа, обучение в сотрудничестве (парная и групповая работа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мые педагогические техн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b6fd"/>
                      </a:solidFill>
                    </a:lnL>
                    <a:lnR>
                      <a:noFill/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ное обучение, групповые технологии, квест технологии, коллективное творческое дело, педагогика сотрудничества, здоровьесберегающие технологии, ИКТ технологии, проектные технология, системно-деятельностный подход 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иментальная раб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1b6fd"/>
                      </a:solidFill>
                    </a:lnL>
                    <a:lnR>
                      <a:noFill/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овая деятельность как средство развития физических возможностей учащихс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1b6fd"/>
                      </a:solidFill>
                    </a:lnR>
                    <a:lnT w="5760">
                      <a:solidFill>
                        <a:srgbClr val="31b6fd"/>
                      </a:solidFill>
                    </a:lnT>
                    <a:lnB w="5760">
                      <a:solidFill>
                        <a:srgbClr val="31b6fd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  <p:sp>
        <p:nvSpPr>
          <p:cNvPr id="444" name="Дата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30A9-C7E6-4A6A-8E98-5159876EBB51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4"/>
          <p:cNvSpPr/>
          <p:nvPr/>
        </p:nvSpPr>
        <p:spPr>
          <a:xfrm>
            <a:off x="468360" y="8906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ль обучения ребёнка состоит в том, чтобы сделать его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ым развиваться дальше без помощи учителя»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берт Хабба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1258920" y="117360"/>
            <a:ext cx="7539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ЧЕСК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Стрелка влево 6">
            <a:hlinkClick r:id="rId1" action="ppaction://hlinksldjump"/>
          </p:cNvPr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23640" y="728640"/>
            <a:ext cx="51116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ема самообразования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9" name="Дата 3"/>
          <p:cNvSpPr/>
          <p:nvPr/>
        </p:nvSpPr>
        <p:spPr>
          <a:xfrm>
            <a:off x="516420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F675-4A75-486D-8E94-AB5F2DEC7D0B}" type="datetime">
              <a:rPr b="1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1258920" y="117360"/>
            <a:ext cx="7539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ЧЕСК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7"/>
          <p:cNvSpPr/>
          <p:nvPr/>
        </p:nvSpPr>
        <p:spPr>
          <a:xfrm>
            <a:off x="217440" y="2289240"/>
            <a:ext cx="7704360" cy="13809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475"/>
              </a:gs>
              <a:gs pos="50000">
                <a:srgbClr val="31b6fd"/>
              </a:gs>
              <a:gs pos="100000">
                <a:srgbClr val="17547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-2019г. Тем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мотивации к занятиям физ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ы через применение квест – технолог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темы: методическая выставка, открытый ур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7"/>
          <p:cNvSpPr/>
          <p:nvPr/>
        </p:nvSpPr>
        <p:spPr>
          <a:xfrm>
            <a:off x="252360" y="4275000"/>
            <a:ext cx="7704360" cy="1357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475"/>
              </a:gs>
              <a:gs pos="50000">
                <a:srgbClr val="31b6fd"/>
              </a:gs>
              <a:gs pos="100000">
                <a:srgbClr val="175475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-2021г. Тема: Использование ИКТ технологий на уро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темы: открытый у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Рисунок 6" descr="AL0YCZQCAOEWQ6GCA6QT1HZCABVSIT2CAX7Q1SICA62KID3CA9LMV7CCASUYBVACA7PS2QYCA2J9GN6CAJGPR0HCAPH2KGJCALW8K6ZCANQ45J6CA6LT408CAK809JECA2WE7NICAO7C9VJCAYM2I8FCAFM8RV0.jpg"/>
          <p:cNvPicPr/>
          <p:nvPr/>
        </p:nvPicPr>
        <p:blipFill>
          <a:blip r:embed="rId1"/>
          <a:stretch/>
        </p:blipFill>
        <p:spPr>
          <a:xfrm>
            <a:off x="7956720" y="5284800"/>
            <a:ext cx="1087200" cy="94788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1"/>
          <p:cNvSpPr/>
          <p:nvPr/>
        </p:nvSpPr>
        <p:spPr>
          <a:xfrm>
            <a:off x="4471920" y="763560"/>
            <a:ext cx="45720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«Вся гордость учителя в ученик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 росте посеянных им семя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митрий Мендел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трелка влево 8">
            <a:hlinkClick r:id="rId2" action="ppaction://hlinksldjump"/>
          </p:cNvPr>
          <p:cNvSpPr/>
          <p:nvPr/>
        </p:nvSpPr>
        <p:spPr>
          <a:xfrm>
            <a:off x="324000" y="6243480"/>
            <a:ext cx="502920" cy="425520"/>
          </a:xfrm>
          <a:prstGeom prst="leftArrow">
            <a:avLst>
              <a:gd name="adj1" fmla="val 50000"/>
              <a:gd name="adj2" fmla="val 49962"/>
            </a:avLst>
          </a:prstGeom>
          <a:solidFill>
            <a:srgbClr val="31b6fd"/>
          </a:solidFill>
          <a:ln w="25560">
            <a:solidFill>
              <a:srgbClr val="218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10:54Z</dcterms:created>
  <dc:creator>MZ</dc:creator>
  <dc:description/>
  <dc:language>en-US</dc:language>
  <cp:lastModifiedBy>Пользователь Windows</cp:lastModifiedBy>
  <dcterms:modified xsi:type="dcterms:W3CDTF">2021-04-05T10:43:59Z</dcterms:modified>
  <cp:revision>166</cp:revision>
  <dc:subject/>
  <dc:title>Слайд 1</dc:title>
</cp:coreProperties>
</file>