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B342-1CEC-4D81-8094-F40A0A06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7DC5-6981-4F7C-AEE3-DCDD18D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F8E0-BEE8-4C90-A2D9-93C53C55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EFB7-9038-4BEF-8A85-AC6977A7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799-9C83-46C4-ABE9-3229C595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4730-2C27-4656-8CB8-B1EB10F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AA9-EB4D-4A85-9D56-D12FD0E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097-E34D-4220-8122-D6C15B5B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02C5-EB3F-4DB5-8112-548E838E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1047-4AE2-48F1-8C72-788AF42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48CE-A4B4-49A2-8B1D-6FA562C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C19D-FAAE-4D67-850D-D4E1AA4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A0E9-7DCB-4CE1-A9CD-E77D56B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C83A-A439-44AF-B6FC-95822E47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CC03-F2CF-4F92-8D6E-2E47BDE4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BEBF-72AF-45EC-B7C6-2634102C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1DC-9BFF-43A5-A604-C93BADA9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A84B-E5A1-47FF-80DD-9B604D00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9E33-C2BF-473A-BDB1-1D4B53A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B8CA-8B60-4BBC-8B6F-03700A14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94A9-4022-42A5-957B-B11F64D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C558-EE9F-4FCD-B322-2F5C15FC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DBE9-DCBA-4B5B-9876-C1624A2B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A734-5FB1-4A1B-BAAE-A7BAE2B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2FA-D30B-4E2B-B3C3-8B87782194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4CD-EB8A-4B90-83EB-B88974EF76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483920"/>
            <a:ext cx="84582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e5e5ff"/>
                </a:solidFill>
                <a:latin typeface="Garamond"/>
              </a:rPr>
              <a:t>Конкурс знатоков русского языка </a:t>
            </a:r>
            <a:br>
              <a:rPr sz="8000"/>
            </a:br>
            <a:r>
              <a:rPr b="0" i="1" lang="ru-RU" sz="8000" spc="-1" strike="noStrike">
                <a:solidFill>
                  <a:srgbClr val="e5e5ff"/>
                </a:solidFill>
                <a:latin typeface="Garamond"/>
              </a:rPr>
              <a:t>«Умники и умницы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ла учитель русского языка и литературы Шехмаметьева Р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в рамках недели русского языка и литератур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WELCOME"/>
          <p:cNvPicPr/>
          <p:nvPr/>
        </p:nvPicPr>
        <p:blipFill>
          <a:blip r:embed="rId1"/>
          <a:stretch/>
        </p:blipFill>
        <p:spPr>
          <a:xfrm>
            <a:off x="0" y="1214280"/>
            <a:ext cx="2419200" cy="432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ECLFILS"/>
          <p:cNvPicPr/>
          <p:nvPr/>
        </p:nvPicPr>
        <p:blipFill>
          <a:blip r:embed="rId2"/>
          <a:stretch/>
        </p:blipFill>
        <p:spPr>
          <a:xfrm>
            <a:off x="7240680" y="4143240"/>
            <a:ext cx="1903320" cy="335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КОНКУРС ИСТОРИЗМОВ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КОНКУРС                      ЭРУДИТОВ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Домашнее задание 1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447920" y="304920"/>
            <a:ext cx="600228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276720" y="1828800"/>
            <a:ext cx="2133360" cy="40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5200" y="1523880"/>
            <a:ext cx="1609920" cy="362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Picture 3" descr="MP00640_"/>
          <p:cNvPicPr/>
          <p:nvPr/>
        </p:nvPicPr>
        <p:blipFill>
          <a:blip r:embed="rId1"/>
          <a:stretch/>
        </p:blipFill>
        <p:spPr>
          <a:xfrm>
            <a:off x="2209680" y="1752480"/>
            <a:ext cx="2133720" cy="26575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4"/>
          <p:cNvSpPr txBox="1"/>
          <p:nvPr/>
        </p:nvSpPr>
        <p:spPr>
          <a:xfrm>
            <a:off x="4495680" y="1600200"/>
            <a:ext cx="175284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6858000" y="533520"/>
            <a:ext cx="1847880" cy="570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7391520" y="2819520"/>
            <a:ext cx="87768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3962520" y="1371600"/>
            <a:ext cx="1522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267080" y="1371600"/>
            <a:ext cx="1526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752480" y="228600"/>
            <a:ext cx="5180040" cy="632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971800" y="3276720"/>
            <a:ext cx="252576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981080" y="304920"/>
            <a:ext cx="4440240" cy="61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2209680" y="3962520"/>
            <a:ext cx="2925720" cy="23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2362320" y="228600"/>
            <a:ext cx="3914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Ж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3"/>
          <p:cNvSpPr txBox="1"/>
          <p:nvPr/>
        </p:nvSpPr>
        <p:spPr>
          <a:xfrm>
            <a:off x="1295280" y="2819520"/>
            <a:ext cx="6553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__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3048120" y="3657600"/>
            <a:ext cx="2687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590920" y="304920"/>
            <a:ext cx="423864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447920" y="3124080"/>
            <a:ext cx="6751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_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2362320" y="4191120"/>
            <a:ext cx="4951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И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3200400" y="609480"/>
            <a:ext cx="4197240" cy="404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3"/>
          <p:cNvSpPr txBox="1"/>
          <p:nvPr/>
        </p:nvSpPr>
        <p:spPr>
          <a:xfrm>
            <a:off x="1676520" y="1693800"/>
            <a:ext cx="2992320" cy="516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 ВАМ  ПРИВЕТствие…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Представление команд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Ы НАЧИНАЕМ КВН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УСТЬ БУДУ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НТЕРЕСНЫ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С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ЛОВЕСНОЙ БИТВ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ЕЗУЛЬТА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УДАЧИ ВСЕ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ПЕРЁД, РЕБЯТА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9" descr="PROGR074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752480" y="457200"/>
            <a:ext cx="4364280" cy="32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5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4038480" y="1828800"/>
            <a:ext cx="35607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EN00354_"/>
          <p:cNvPicPr/>
          <p:nvPr/>
        </p:nvPicPr>
        <p:blipFill>
          <a:blip r:embed="rId1"/>
          <a:stretch/>
        </p:blipFill>
        <p:spPr>
          <a:xfrm>
            <a:off x="3124080" y="2438280"/>
            <a:ext cx="2590920" cy="2521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6553080" y="2286000"/>
            <a:ext cx="1905120" cy="26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057400" y="19051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2286000" y="19051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2590920" y="1905120"/>
            <a:ext cx="75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9436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7150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4864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80880" y="2971800"/>
            <a:ext cx="2286000" cy="335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2819520" y="1905120"/>
            <a:ext cx="75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 - ШУ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К СКАЗАТЬ ПРАВИЛЬНО?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ов нет зуб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ей нет зуб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 нет зуб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7" descr="CRCTR485"/>
          <p:cNvPicPr/>
          <p:nvPr/>
        </p:nvPicPr>
        <p:blipFill>
          <a:blip r:embed="rId1"/>
          <a:stretch/>
        </p:blipFill>
        <p:spPr>
          <a:xfrm>
            <a:off x="4427640" y="2349360"/>
            <a:ext cx="4464000" cy="434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СОСТАВЬ СЛОВ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4" descr="CRCTR068"/>
          <p:cNvPicPr/>
          <p:nvPr/>
        </p:nvPicPr>
        <p:blipFill>
          <a:blip r:embed="rId1"/>
          <a:stretch/>
        </p:blipFill>
        <p:spPr>
          <a:xfrm>
            <a:off x="2411280" y="1484280"/>
            <a:ext cx="4040280" cy="409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ЗНАЙ ГОР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В + СТ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Г + ВОДА =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ОСКА + РОМ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 + ВАТА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LANDS107"/>
          <p:cNvPicPr/>
          <p:nvPr/>
        </p:nvPicPr>
        <p:blipFill>
          <a:blip r:embed="rId1"/>
          <a:stretch/>
        </p:blipFill>
        <p:spPr>
          <a:xfrm>
            <a:off x="6629400" y="3816360"/>
            <a:ext cx="2514600" cy="304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LANDS084"/>
          <p:cNvPicPr/>
          <p:nvPr/>
        </p:nvPicPr>
        <p:blipFill>
          <a:blip r:embed="rId2"/>
          <a:stretch/>
        </p:blipFill>
        <p:spPr>
          <a:xfrm>
            <a:off x="250920" y="2205000"/>
            <a:ext cx="3510000" cy="365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ЁМ ИТОГИ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Закончен КВН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ришла пор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итоги подвест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се баллы подсчитат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И лидеров назвать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4" descr="ALTTR048"/>
          <p:cNvPicPr/>
          <p:nvPr/>
        </p:nvPicPr>
        <p:blipFill>
          <a:blip r:embed="rId1"/>
          <a:stretch/>
        </p:blipFill>
        <p:spPr>
          <a:xfrm>
            <a:off x="6084720" y="2133720"/>
            <a:ext cx="2922840" cy="40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НКУРС ПЕРВЫЙ! </a:t>
            </a: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«РАЗМИНК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опросы по очереди каждой команде. За каждый правильный ответ- 1 очк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FLOWERS2"/>
          <p:cNvPicPr/>
          <p:nvPr/>
        </p:nvPicPr>
        <p:blipFill>
          <a:blip r:embed="rId1"/>
          <a:stretch/>
        </p:blipFill>
        <p:spPr>
          <a:xfrm>
            <a:off x="4648320" y="1870200"/>
            <a:ext cx="4038480" cy="39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КОНКУРС   КАПИТАНОВ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Устный блиц-опро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FENCING2"/>
          <p:cNvPicPr/>
          <p:nvPr/>
        </p:nvPicPr>
        <p:blipFill>
          <a:blip r:embed="rId1"/>
          <a:stretch/>
        </p:blipFill>
        <p:spPr>
          <a:xfrm>
            <a:off x="1258920" y="1341360"/>
            <a:ext cx="3168720" cy="482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Составьте 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Господа конкурсанты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йчас времени даром вы не теряйт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На вопросы мои быстр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твечайт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этого скорость мышления включай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Мозги напрягайте, бал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олучайте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7" descr="FLOWERS2"/>
          <p:cNvPicPr/>
          <p:nvPr/>
        </p:nvPicPr>
        <p:blipFill>
          <a:blip r:embed="rId1"/>
          <a:stretch/>
        </p:blipFill>
        <p:spPr>
          <a:xfrm>
            <a:off x="5940360" y="2189160"/>
            <a:ext cx="3203640" cy="33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Профессиональный конкурс для болельщ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ставьте букв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зовите професс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ЦЕДАПР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ИТКАРТ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ХИТАЧ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CRCTR059"/>
          <p:cNvPicPr/>
          <p:nvPr/>
        </p:nvPicPr>
        <p:blipFill>
          <a:blip r:embed="rId1"/>
          <a:stretch/>
        </p:blipFill>
        <p:spPr>
          <a:xfrm>
            <a:off x="7164360" y="4149720"/>
            <a:ext cx="1806480" cy="24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ARISTR1"/>
          <p:cNvPicPr/>
          <p:nvPr/>
        </p:nvPicPr>
        <p:blipFill>
          <a:blip r:embed="rId2"/>
          <a:stretch/>
        </p:blipFill>
        <p:spPr>
          <a:xfrm>
            <a:off x="0" y="1628640"/>
            <a:ext cx="1486080" cy="268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OOKING2"/>
          <p:cNvPicPr/>
          <p:nvPr/>
        </p:nvPicPr>
        <p:blipFill>
          <a:blip r:embed="rId3"/>
          <a:stretch/>
        </p:blipFill>
        <p:spPr>
          <a:xfrm>
            <a:off x="1332000" y="4437000"/>
            <a:ext cx="1859040" cy="2216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YNET065"/>
          <p:cNvPicPr/>
          <p:nvPr/>
        </p:nvPicPr>
        <p:blipFill>
          <a:blip r:embed="rId4"/>
          <a:stretch/>
        </p:blipFill>
        <p:spPr>
          <a:xfrm>
            <a:off x="6012000" y="1052640"/>
            <a:ext cx="2208240" cy="32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Собери пословицу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7" descr="FRDAY079"/>
          <p:cNvPicPr/>
          <p:nvPr/>
        </p:nvPicPr>
        <p:blipFill>
          <a:blip r:embed="rId1"/>
          <a:stretch/>
        </p:blipFill>
        <p:spPr>
          <a:xfrm>
            <a:off x="457200" y="1895400"/>
            <a:ext cx="403848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Конкурс фразеологизмов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7" descr="FRDAY079"/>
          <p:cNvPicPr/>
          <p:nvPr/>
        </p:nvPicPr>
        <p:blipFill>
          <a:blip r:embed="rId1"/>
          <a:stretch/>
        </p:blipFill>
        <p:spPr>
          <a:xfrm>
            <a:off x="5105520" y="1916280"/>
            <a:ext cx="4038480" cy="3933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95280" y="198900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спода конкурсант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 барьеру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оит необычная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хват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 должны, не задумываясь, быстр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ть ответы на мои загад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ВНИМАНИЕ! 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511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дёт вас новое испытание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х, и трудное предстоит вам задание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ассивных сейчас бы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должн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мните: «Один за всех, и все за одного!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ЧЕРНЫЙ ЯЩИ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KNIGH072"/>
          <p:cNvPicPr/>
          <p:nvPr/>
        </p:nvPicPr>
        <p:blipFill>
          <a:blip r:embed="rId1"/>
          <a:stretch/>
        </p:blipFill>
        <p:spPr>
          <a:xfrm>
            <a:off x="5364000" y="1628640"/>
            <a:ext cx="3202200" cy="482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00:33Z</dcterms:created>
  <dc:creator>Admin</dc:creator>
  <dc:description/>
  <dc:language>en-US</dc:language>
  <cp:lastModifiedBy>Школа</cp:lastModifiedBy>
  <dcterms:modified xsi:type="dcterms:W3CDTF">2021-04-05T19:56:20Z</dcterms:modified>
  <cp:revision>36</cp:revision>
  <dc:subject/>
  <dc:title>Лингвистический КВН</dc:title>
</cp:coreProperties>
</file>