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.wmf" ContentType="image/x-wmf"/>
  <Override PartName="/ppt/media/image15.jpeg" ContentType="image/jpeg"/>
  <Override PartName="/ppt/media/image16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F743E-8558-4597-9D99-C1F513FD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06453-E9F4-499D-A2AA-8FF4379D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53ADA-F999-4049-9F73-FE78836B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832AA-2027-4C74-8087-B3333604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23EF-F70C-4E17-9766-75F5867B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54D1-F279-4132-86C5-5279490C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7626-C07F-4A6F-A4CA-1C50F541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6DA5-E491-4610-B0CB-1E151E4B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39D1-B33B-45FD-9B69-74F72B87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0A02-5C8E-4E4D-8917-C6EEE407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DE7A-A246-4E29-9321-F4D083E6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66AEA-F12F-4250-AA20-5B05EE48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5FD1-7DC6-4DA0-93B8-4D08D8CD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11A9-5FB8-4D84-96FD-5FE6C838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CDB0-E83E-4A37-B194-CF28C3EA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C139-46D5-4982-B666-CAE29140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9654-445A-483F-8710-92557CC2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C95B-CC83-4805-8DAF-2AABD91F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2AC22-48C3-479D-9000-F373551F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0F24E-DCDE-4E2D-9B1F-BF72E099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A2691-B6BB-441A-9F84-45EECE83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9FA1A-4E19-458C-AC20-DD3F4852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755E3-B6CD-471D-B99F-5ADAB752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48AD9-2E73-4CB5-AB4A-70DCED3E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E910-4DEB-4C7B-9B90-6749C00996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DFF4-4847-4754-A500-AADA5985F6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483920"/>
            <a:ext cx="845820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e5e5ff"/>
                </a:solidFill>
                <a:latin typeface="Garamond"/>
              </a:rPr>
              <a:t>Конкурс знатоков русского языка </a:t>
            </a:r>
            <a:br>
              <a:rPr sz="8000"/>
            </a:br>
            <a:r>
              <a:rPr b="0" i="1" lang="ru-RU" sz="8000" spc="-1" strike="noStrike">
                <a:solidFill>
                  <a:srgbClr val="e5e5ff"/>
                </a:solidFill>
                <a:latin typeface="Garamond"/>
              </a:rPr>
              <a:t>«Умники и умницы»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763640" y="429264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вела учитель русского языка и литературы Шехмаметьева Р.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в рамках недели русского языка и литературы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WELCOME"/>
          <p:cNvPicPr/>
          <p:nvPr/>
        </p:nvPicPr>
        <p:blipFill>
          <a:blip r:embed="rId1"/>
          <a:stretch/>
        </p:blipFill>
        <p:spPr>
          <a:xfrm>
            <a:off x="0" y="1214280"/>
            <a:ext cx="2419200" cy="432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SECLFILS"/>
          <p:cNvPicPr/>
          <p:nvPr/>
        </p:nvPicPr>
        <p:blipFill>
          <a:blip r:embed="rId2"/>
          <a:stretch/>
        </p:blipFill>
        <p:spPr>
          <a:xfrm>
            <a:off x="7240680" y="4143240"/>
            <a:ext cx="1903320" cy="3353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i="1" lang="ru-RU" sz="6000" spc="-1" strike="noStrike">
                <a:solidFill>
                  <a:srgbClr val="cc0000"/>
                </a:solidFill>
                <a:latin typeface="Garamond"/>
              </a:rPr>
              <a:t>КОНКУРС ИСТОРИЗМОВ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book"/>
          <p:cNvPicPr/>
          <p:nvPr/>
        </p:nvPicPr>
        <p:blipFill>
          <a:blip r:embed="rId1"/>
          <a:stretch/>
        </p:blipFill>
        <p:spPr>
          <a:xfrm>
            <a:off x="2362320" y="3429000"/>
            <a:ext cx="2971800" cy="273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i="1" lang="ru-RU" sz="6000" spc="-1" strike="noStrike">
                <a:solidFill>
                  <a:srgbClr val="cc0000"/>
                </a:solidFill>
                <a:latin typeface="Garamond"/>
              </a:rPr>
              <a:t>КОНКУРС                      ЭРУДИТОВ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book"/>
          <p:cNvPicPr/>
          <p:nvPr/>
        </p:nvPicPr>
        <p:blipFill>
          <a:blip r:embed="rId1"/>
          <a:stretch/>
        </p:blipFill>
        <p:spPr>
          <a:xfrm>
            <a:off x="2362320" y="3429000"/>
            <a:ext cx="2971800" cy="273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i="1" lang="ru-RU" sz="6000" spc="-1" strike="noStrike">
                <a:solidFill>
                  <a:srgbClr val="cc0000"/>
                </a:solidFill>
                <a:latin typeface="Garamond"/>
              </a:rPr>
              <a:t>Домашнее задание 1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4" descr="book"/>
          <p:cNvPicPr/>
          <p:nvPr/>
        </p:nvPicPr>
        <p:blipFill>
          <a:blip r:embed="rId1"/>
          <a:stretch/>
        </p:blipFill>
        <p:spPr>
          <a:xfrm>
            <a:off x="2362320" y="3429000"/>
            <a:ext cx="2971800" cy="273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1447920" y="304920"/>
            <a:ext cx="6002280" cy="609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WordArt 3"/>
          <p:cNvSpPr txBox="1"/>
          <p:nvPr/>
        </p:nvSpPr>
        <p:spPr>
          <a:xfrm>
            <a:off x="3276720" y="1828800"/>
            <a:ext cx="2133360" cy="40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95200" y="1523880"/>
            <a:ext cx="1609920" cy="362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6" name="Picture 3" descr="MP00640_"/>
          <p:cNvPicPr/>
          <p:nvPr/>
        </p:nvPicPr>
        <p:blipFill>
          <a:blip r:embed="rId1"/>
          <a:stretch/>
        </p:blipFill>
        <p:spPr>
          <a:xfrm>
            <a:off x="2209680" y="1752480"/>
            <a:ext cx="2133720" cy="2657520"/>
          </a:xfrm>
          <a:prstGeom prst="rect">
            <a:avLst/>
          </a:prstGeom>
          <a:ln w="0">
            <a:noFill/>
          </a:ln>
        </p:spPr>
      </p:pic>
      <p:sp>
        <p:nvSpPr>
          <p:cNvPr id="147" name="WordArt 4"/>
          <p:cNvSpPr txBox="1"/>
          <p:nvPr/>
        </p:nvSpPr>
        <p:spPr>
          <a:xfrm>
            <a:off x="4495680" y="1600200"/>
            <a:ext cx="1752840" cy="32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5"/>
          <p:cNvSpPr txBox="1"/>
          <p:nvPr/>
        </p:nvSpPr>
        <p:spPr>
          <a:xfrm>
            <a:off x="6858000" y="533520"/>
            <a:ext cx="1847880" cy="570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7391520" y="2819520"/>
            <a:ext cx="877680" cy="16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3962520" y="1371600"/>
            <a:ext cx="1522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4267080" y="1371600"/>
            <a:ext cx="15264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1752480" y="228600"/>
            <a:ext cx="5180040" cy="632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2971800" y="3276720"/>
            <a:ext cx="2525760" cy="24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981080" y="304920"/>
            <a:ext cx="4440240" cy="619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2209680" y="3962520"/>
            <a:ext cx="2925720" cy="23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2362320" y="228600"/>
            <a:ext cx="39146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ЖД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3"/>
          <p:cNvSpPr txBox="1"/>
          <p:nvPr/>
        </p:nvSpPr>
        <p:spPr>
          <a:xfrm>
            <a:off x="1295280" y="2819520"/>
            <a:ext cx="655344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_______________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3048120" y="3657600"/>
            <a:ext cx="26874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590920" y="304920"/>
            <a:ext cx="423864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1447920" y="3124080"/>
            <a:ext cx="67514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______________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2362320" y="4191120"/>
            <a:ext cx="49514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И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3200400" y="609480"/>
            <a:ext cx="4197240" cy="404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WordArt 3"/>
          <p:cNvSpPr txBox="1"/>
          <p:nvPr/>
        </p:nvSpPr>
        <p:spPr>
          <a:xfrm>
            <a:off x="1676520" y="1693800"/>
            <a:ext cx="2992320" cy="516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А ВАМ  ПРИВЕТствие…</a:t>
            </a:r>
            <a:br>
              <a:rPr sz="4800"/>
            </a:b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Представление команд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МЫ НАЧИНАЕМ КВН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ПУСТЬ БУДУ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ИНТЕРЕСНЫ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С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СЛОВЕСНОЙ БИТВ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РЕЗУЛЬТА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УДАЧИ ВСЕМ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ПЕРЁД, РЕБЯТА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9" descr="PROGR074"/>
          <p:cNvPicPr/>
          <p:nvPr/>
        </p:nvPicPr>
        <p:blipFill>
          <a:blip r:embed="rId1"/>
          <a:stretch/>
        </p:blipFill>
        <p:spPr>
          <a:xfrm>
            <a:off x="324000" y="1628640"/>
            <a:ext cx="4176720" cy="45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"/>
          <p:cNvSpPr txBox="1"/>
          <p:nvPr/>
        </p:nvSpPr>
        <p:spPr>
          <a:xfrm>
            <a:off x="1752480" y="457200"/>
            <a:ext cx="4364280" cy="32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5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65" name="WordArt 3"/>
          <p:cNvSpPr txBox="1"/>
          <p:nvPr/>
        </p:nvSpPr>
        <p:spPr>
          <a:xfrm>
            <a:off x="4038480" y="1828800"/>
            <a:ext cx="356076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н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EN00354_"/>
          <p:cNvPicPr/>
          <p:nvPr/>
        </p:nvPicPr>
        <p:blipFill>
          <a:blip r:embed="rId1"/>
          <a:stretch/>
        </p:blipFill>
        <p:spPr>
          <a:xfrm>
            <a:off x="3124080" y="2438280"/>
            <a:ext cx="2590920" cy="25210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3"/>
          <p:cNvSpPr txBox="1"/>
          <p:nvPr/>
        </p:nvSpPr>
        <p:spPr>
          <a:xfrm>
            <a:off x="6553080" y="2286000"/>
            <a:ext cx="1905120" cy="26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2057400" y="1905120"/>
            <a:ext cx="76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Oval 5"/>
          <p:cNvSpPr/>
          <p:nvPr/>
        </p:nvSpPr>
        <p:spPr>
          <a:xfrm>
            <a:off x="2286000" y="1905120"/>
            <a:ext cx="76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Oval 6"/>
          <p:cNvSpPr/>
          <p:nvPr/>
        </p:nvSpPr>
        <p:spPr>
          <a:xfrm>
            <a:off x="2590920" y="1905120"/>
            <a:ext cx="759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943600" y="1676520"/>
            <a:ext cx="76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5715000" y="1676520"/>
            <a:ext cx="76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5486400" y="1676520"/>
            <a:ext cx="76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380880" y="2971800"/>
            <a:ext cx="2286000" cy="3352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Oval 11"/>
          <p:cNvSpPr/>
          <p:nvPr/>
        </p:nvSpPr>
        <p:spPr>
          <a:xfrm>
            <a:off x="2819520" y="1905120"/>
            <a:ext cx="759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ПРОС - ШУТ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АК СКАЗАТЬ ПРАВИЛЬНО?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У рыбов нет зуб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У рыбей нет зуб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У рыб нет зубье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7" descr="CRCTR485"/>
          <p:cNvPicPr/>
          <p:nvPr/>
        </p:nvPicPr>
        <p:blipFill>
          <a:blip r:embed="rId1"/>
          <a:stretch/>
        </p:blipFill>
        <p:spPr>
          <a:xfrm>
            <a:off x="4427640" y="2349360"/>
            <a:ext cx="4464000" cy="4341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8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i="1" lang="ru-RU" sz="6000" spc="-1" strike="noStrike">
                <a:solidFill>
                  <a:srgbClr val="cc0000"/>
                </a:solidFill>
                <a:latin typeface="Garamond"/>
              </a:rPr>
              <a:t>СОСТАВЬ СЛОВА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4" descr="book"/>
          <p:cNvPicPr/>
          <p:nvPr/>
        </p:nvPicPr>
        <p:blipFill>
          <a:blip r:embed="rId1"/>
          <a:stretch/>
        </p:blipFill>
        <p:spPr>
          <a:xfrm>
            <a:off x="2362320" y="3429000"/>
            <a:ext cx="2971800" cy="273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Домашнее задание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Picture 4" descr="CRCTR068"/>
          <p:cNvPicPr/>
          <p:nvPr/>
        </p:nvPicPr>
        <p:blipFill>
          <a:blip r:embed="rId1"/>
          <a:stretch/>
        </p:blipFill>
        <p:spPr>
          <a:xfrm>
            <a:off x="2411280" y="1484280"/>
            <a:ext cx="4040280" cy="4098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ЗНАЙ ГОРОД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ОВ + СТО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Г + ВОДА =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ТОСКА + РОМ 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Л + ВАТА =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LANDS107"/>
          <p:cNvPicPr/>
          <p:nvPr/>
        </p:nvPicPr>
        <p:blipFill>
          <a:blip r:embed="rId1"/>
          <a:stretch/>
        </p:blipFill>
        <p:spPr>
          <a:xfrm>
            <a:off x="6629400" y="3816360"/>
            <a:ext cx="2514600" cy="3041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LANDS084"/>
          <p:cNvPicPr/>
          <p:nvPr/>
        </p:nvPicPr>
        <p:blipFill>
          <a:blip r:embed="rId2"/>
          <a:stretch/>
        </p:blipFill>
        <p:spPr>
          <a:xfrm>
            <a:off x="250920" y="2205000"/>
            <a:ext cx="3510000" cy="365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ДВЕДЁМ ИТОГИ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Закончен КВН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Пришла пор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итоги подвести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Все баллы подсчитать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И лидеров назвать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Picture 4" descr="ALTTR048"/>
          <p:cNvPicPr/>
          <p:nvPr/>
        </p:nvPicPr>
        <p:blipFill>
          <a:blip r:embed="rId1"/>
          <a:stretch/>
        </p:blipFill>
        <p:spPr>
          <a:xfrm>
            <a:off x="6084720" y="2133720"/>
            <a:ext cx="2922840" cy="403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ОНКУРС ПЕРВЫЙ! </a:t>
            </a:r>
            <a:br>
              <a:rPr sz="4000"/>
            </a:br>
            <a:r>
              <a:rPr b="1" i="1" lang="ru-RU" sz="4000" spc="-1" strike="noStrike">
                <a:solidFill>
                  <a:srgbClr val="e5e5ff"/>
                </a:solidFill>
                <a:latin typeface="Garamond"/>
              </a:rPr>
              <a:t>«РАЗМИНКА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Вопросы по очереди каждой команде. За каждый правильный ответ- 1 очко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7" descr="FLOWERS2"/>
          <p:cNvPicPr/>
          <p:nvPr/>
        </p:nvPicPr>
        <p:blipFill>
          <a:blip r:embed="rId1"/>
          <a:stretch/>
        </p:blipFill>
        <p:spPr>
          <a:xfrm>
            <a:off x="4648320" y="1870200"/>
            <a:ext cx="4038480" cy="398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«КОНКУРС   КАПИТАНОВ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2060280"/>
            <a:ext cx="4495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Устный блиц-опрос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7" descr="FENCING2"/>
          <p:cNvPicPr/>
          <p:nvPr/>
        </p:nvPicPr>
        <p:blipFill>
          <a:blip r:embed="rId1"/>
          <a:stretch/>
        </p:blipFill>
        <p:spPr>
          <a:xfrm>
            <a:off x="1258920" y="1341360"/>
            <a:ext cx="3168720" cy="4824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Составьте предлож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Господа конкурсанты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ейчас времени даром вы не теряйте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На вопросы мои быстр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отвечайт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ля этого скорость мышления включайт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Мозги напрягайте, балл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получайте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7" descr="FLOWERS2"/>
          <p:cNvPicPr/>
          <p:nvPr/>
        </p:nvPicPr>
        <p:blipFill>
          <a:blip r:embed="rId1"/>
          <a:stretch/>
        </p:blipFill>
        <p:spPr>
          <a:xfrm>
            <a:off x="5940360" y="2189160"/>
            <a:ext cx="3203640" cy="334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Профессиональный конкурс для болельщик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ереставьте буквы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зовите професси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ЦЕДАПРОВ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ИТКАРТА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ХИТАЧ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CRCTR059"/>
          <p:cNvPicPr/>
          <p:nvPr/>
        </p:nvPicPr>
        <p:blipFill>
          <a:blip r:embed="rId1"/>
          <a:stretch/>
        </p:blipFill>
        <p:spPr>
          <a:xfrm>
            <a:off x="7164360" y="4149720"/>
            <a:ext cx="1806480" cy="245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BARISTR1"/>
          <p:cNvPicPr/>
          <p:nvPr/>
        </p:nvPicPr>
        <p:blipFill>
          <a:blip r:embed="rId2"/>
          <a:stretch/>
        </p:blipFill>
        <p:spPr>
          <a:xfrm>
            <a:off x="0" y="1628640"/>
            <a:ext cx="1486080" cy="2686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OOKING2"/>
          <p:cNvPicPr/>
          <p:nvPr/>
        </p:nvPicPr>
        <p:blipFill>
          <a:blip r:embed="rId3"/>
          <a:stretch/>
        </p:blipFill>
        <p:spPr>
          <a:xfrm>
            <a:off x="1332000" y="4437000"/>
            <a:ext cx="1859040" cy="2216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MYNET065"/>
          <p:cNvPicPr/>
          <p:nvPr/>
        </p:nvPicPr>
        <p:blipFill>
          <a:blip r:embed="rId4"/>
          <a:stretch/>
        </p:blipFill>
        <p:spPr>
          <a:xfrm>
            <a:off x="6012000" y="1052640"/>
            <a:ext cx="2208240" cy="3279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«Собери пословицу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9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7" descr="FRDAY079"/>
          <p:cNvPicPr/>
          <p:nvPr/>
        </p:nvPicPr>
        <p:blipFill>
          <a:blip r:embed="rId1"/>
          <a:stretch/>
        </p:blipFill>
        <p:spPr>
          <a:xfrm>
            <a:off x="457200" y="1895400"/>
            <a:ext cx="4038480" cy="393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«Конкурс фразеологизмов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7" descr="FRDAY079"/>
          <p:cNvPicPr/>
          <p:nvPr/>
        </p:nvPicPr>
        <p:blipFill>
          <a:blip r:embed="rId1"/>
          <a:stretch/>
        </p:blipFill>
        <p:spPr>
          <a:xfrm>
            <a:off x="5105520" y="1916280"/>
            <a:ext cx="4038480" cy="3933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95280" y="198900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оспода конкурсанты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 барьеру!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едстоит необычная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хватк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ы должны, не задумываясь, быстр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ть ответы на мои загад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ВНИМАНИЕ!  ВНИМАНИЕ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511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Ждёт вас новое испытание!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х, и трудное предстоит вам задание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ассивных сейчас бы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 должн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омните: «Один за всех, и все за одного!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ЧЕРНЫЙ ЯЩИ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11" descr="KNIGH072"/>
          <p:cNvPicPr/>
          <p:nvPr/>
        </p:nvPicPr>
        <p:blipFill>
          <a:blip r:embed="rId1"/>
          <a:stretch/>
        </p:blipFill>
        <p:spPr>
          <a:xfrm>
            <a:off x="5364000" y="1628640"/>
            <a:ext cx="3202200" cy="482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8:00:33Z</dcterms:created>
  <dc:creator>Admin</dc:creator>
  <dc:description/>
  <dc:language>en-US</dc:language>
  <cp:lastModifiedBy>Школа</cp:lastModifiedBy>
  <dcterms:modified xsi:type="dcterms:W3CDTF">2021-04-05T19:56:20Z</dcterms:modified>
  <cp:revision>36</cp:revision>
  <dc:subject/>
  <dc:title>Лингвистический КВН</dc:title>
</cp:coreProperties>
</file>