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F2A-7C07-49DE-9360-C6EC899A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01F-3243-4FDC-9791-192B370E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4A1-3CF0-4707-B61D-2B51E87D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9B8-8BAD-4E18-B2EB-CB3E5E5D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77E-A5CC-49C4-95E1-9C8EC381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D0C-7F99-4C26-8441-49793840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27A-ED58-46FA-B455-E6F3B53D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9C8-9107-4A2C-B0D6-19F702BA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345-AB4F-4D32-9DE2-ED8B3E3F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6D3-F330-44F6-8DFE-86E104B0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AB3-BBA8-47ED-80E0-70522C5A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904-C2D5-4D2E-A593-4806882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59F7-40DF-4B80-9610-D1B30763CD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do9LzNLwhc" TargetMode="External"/><Relationship Id="rId2" Type="http://schemas.openxmlformats.org/officeDocument/2006/relationships/hyperlink" Target="https://www.youtube.com/watch?v=igS5o7IW7EY" TargetMode="External"/><Relationship Id="rId3" Type="http://schemas.openxmlformats.org/officeDocument/2006/relationships/hyperlink" Target="https://www.sovsekretno.ru/" TargetMode="External"/><Relationship Id="rId4" Type="http://schemas.openxmlformats.org/officeDocument/2006/relationships/hyperlink" Target="https://zen.yandex.ru/media/eto_istoriy/12-redkih-fotografii-kurskoi-bitvy-5ca5a4a6134d6700b2a4a0f0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049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МКОУ «Поныровская средняя общеобразовательная школа Поныровского района Курской обла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1989000"/>
            <a:ext cx="604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ленькие герои большой вой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дготови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оряйнов Тимоф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уководи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омарова Светлана Федо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ныри, 2021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74008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селке Поныри были сильные бои,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душку с его мамой эвакуировали в село Березовец Поныровского района. А по возвращению обратно они увидели, что дом их полностью разрушен, так как он находился рядом с железнодорожным вокзалом, а это было место ожесточенных боев. Дедушке с его мамой пришлось жить в погребе. Потом они из остатков бревен и блиндажей сделали себе шалашик - комнатку. А после войны построили небольшую хатку.</a:t>
            </a:r>
            <a:br>
              <a:rPr sz="2000"/>
            </a:b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кзал п. Поныр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Объект 6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4537080" cy="3384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8880" y="1681200"/>
            <a:ext cx="3887640" cy="16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Объект 7" descr="C:\Users\xxx\AppData\Local\Temp\Rar$DIa6524.22454\img014.jpg"/>
          <p:cNvPicPr/>
          <p:nvPr/>
        </p:nvPicPr>
        <p:blipFill>
          <a:blip r:embed="rId2"/>
          <a:stretch/>
        </p:blipFill>
        <p:spPr>
          <a:xfrm>
            <a:off x="5940360" y="2781360"/>
            <a:ext cx="2576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257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оминания детей и подростков военного времени, которые не вошли в документальную киноленту, были собраны и записаны краеведами. Эти материалы нашли свое отражение в спектакле, который поставили на сцене центрального дома культуры в поселке Поныр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0360" y="1989000"/>
            <a:ext cx="386856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8880" y="1844280"/>
            <a:ext cx="388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8880" y="2997360"/>
            <a:ext cx="388764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и героев этой постановки легко можно узнать и моего дедушку Михаила Федоровича. Быстрый фотограф - подросток среди местных детей – это о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Объект 2" descr=""/>
          <p:cNvPicPr/>
          <p:nvPr/>
        </p:nvPicPr>
        <p:blipFill>
          <a:blip r:embed="rId1"/>
          <a:stretch/>
        </p:blipFill>
        <p:spPr>
          <a:xfrm>
            <a:off x="108000" y="4292640"/>
            <a:ext cx="3743280" cy="2376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C:\Users\xxx\Desktop\img001.jpg"/>
          <p:cNvPicPr/>
          <p:nvPr/>
        </p:nvPicPr>
        <p:blipFill>
          <a:blip r:embed="rId2"/>
          <a:stretch/>
        </p:blipFill>
        <p:spPr>
          <a:xfrm>
            <a:off x="2166840" y="2041560"/>
            <a:ext cx="4276800" cy="2755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24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365040"/>
            <a:ext cx="73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тоже стремлюсь быть смелым и честным, как мой дедушка. Я хочу, чтобы все люди жили в мире и согласии, чтобы на Земле больше не было войны и дети могли учиться, дружить и радоваться каждому светлому дню в своей жизн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Объект 7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3313080" cy="41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Объект 9" descr=""/>
          <p:cNvPicPr/>
          <p:nvPr/>
        </p:nvPicPr>
        <p:blipFill>
          <a:blip r:embed="rId2"/>
          <a:stretch/>
        </p:blipFill>
        <p:spPr>
          <a:xfrm>
            <a:off x="4662360" y="4132440"/>
            <a:ext cx="3888000" cy="2465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" descr=""/>
          <p:cNvPicPr/>
          <p:nvPr/>
        </p:nvPicPr>
        <p:blipFill>
          <a:blip r:embed="rId3"/>
          <a:stretch/>
        </p:blipFill>
        <p:spPr>
          <a:xfrm>
            <a:off x="3924360" y="1484280"/>
            <a:ext cx="1942920" cy="2521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4"/>
          <a:stretch/>
        </p:blipFill>
        <p:spPr>
          <a:xfrm>
            <a:off x="6084720" y="1681200"/>
            <a:ext cx="266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60000"/>
                </a:solidFill>
                <a:latin typeface="Times New Roman"/>
              </a:rPr>
              <a:t>Список используемых источников:</a:t>
            </a:r>
            <a:br>
              <a:rPr sz="4400"/>
            </a:br>
            <a:r>
              <a:rPr b="0" lang="ru-RU" sz="4400" spc="-1" strike="noStrike">
                <a:solidFill>
                  <a:srgbClr val="86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«Поныровский район. Страницы истории.- Курск, ООО «Катран+», 2013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s://www.youtube.com/watch?v=9do9LzNLw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s://www.youtube.com/watch?v=igS5o7IW7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s://www.sovsekretno.r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s://zen.yandex.ru/media/eto_istoriy/12-redkih-fotografii-kurskoi-bitvy-5ca5a4a6134d6700b2a4a0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емейный альбом Горяйнов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информацию о военном прошлом моей семьи и поселка Поныр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280" y="2852640"/>
            <a:ext cx="771516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йна  в воспоминаниях моей бабушки Дудиной Татьяны Михайло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ьм «Война не детские игры» в серии «Секретные истор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й дедушка - Горяйнов Михаил Федорович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ктакль «Под окном черемуха колышетс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920" y="-387360"/>
            <a:ext cx="7183440" cy="20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началась война моей бабушк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тьяне Михайловне Дудиной было почти 6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Объект 10" descr=""/>
          <p:cNvPicPr/>
          <p:nvPr/>
        </p:nvPicPr>
        <p:blipFill>
          <a:blip r:embed="rId1"/>
          <a:stretch/>
        </p:blipFill>
        <p:spPr>
          <a:xfrm rot="21208200">
            <a:off x="798480" y="1825560"/>
            <a:ext cx="3868920" cy="2982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Объект 11" descr=""/>
          <p:cNvPicPr/>
          <p:nvPr/>
        </p:nvPicPr>
        <p:blipFill>
          <a:blip r:embed="rId2"/>
          <a:stretch/>
        </p:blipFill>
        <p:spPr>
          <a:xfrm>
            <a:off x="2563920" y="2944800"/>
            <a:ext cx="6256080" cy="3652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"/>
          <p:cNvPicPr/>
          <p:nvPr/>
        </p:nvPicPr>
        <p:blipFill>
          <a:blip r:embed="rId3"/>
          <a:stretch/>
        </p:blipFill>
        <p:spPr>
          <a:xfrm rot="283200">
            <a:off x="4710240" y="1117080"/>
            <a:ext cx="4054320" cy="29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620280"/>
            <a:ext cx="7635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бушка рассказывала, когда они были маленькие и играли на улице, то увидели в небе битву двух самолетов - советского и немецкого. Дети побежали врассыпную. Немецкий самолет подбил наш и тот упал в болото. Дети постарше ходили на болото, а вернувшись домой рассказывали, что из болота шли пузыри, но спасти наших солдат так и не смог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Объект 1" descr=""/>
          <p:cNvPicPr/>
          <p:nvPr/>
        </p:nvPicPr>
        <p:blipFill>
          <a:blip r:embed="rId1"/>
          <a:stretch/>
        </p:blipFill>
        <p:spPr>
          <a:xfrm>
            <a:off x="1401840" y="2205000"/>
            <a:ext cx="2851200" cy="382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28880" y="2504880"/>
            <a:ext cx="388764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ти самолет пытаются поисковики в наши дни. По воспоминаниям бабушки был составлен план по его поис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16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3743280" cy="245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1640" y="-819360"/>
            <a:ext cx="75819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жды, ее старшие брат и сестры взяли в мешочке у двух немцев, которые жили в их доме, конфетки монпансье и съели их. Немцы очень рассердились, а тот, что был злой, угрожал маме бабушки автоматом. Родители потом очень ругали детей за этот поступок. Моя бабушка рассказывала много историй из своего детства. Многие из них мы с родителями запис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Объект 4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4608360" cy="302436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2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302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-387720"/>
            <a:ext cx="74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ументальный фильм  «Война не детские игры» был снят по воспоминаниям моего дедушки - Горяйнова Михаила Федоровича и его товарищ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Объект 6" descr=""/>
          <p:cNvPicPr/>
          <p:nvPr/>
        </p:nvPicPr>
        <p:blipFill>
          <a:blip r:embed="rId1"/>
          <a:stretch/>
        </p:blipFill>
        <p:spPr>
          <a:xfrm>
            <a:off x="630360" y="4292640"/>
            <a:ext cx="3868560" cy="2016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Объект 7" descr=""/>
          <p:cNvPicPr/>
          <p:nvPr/>
        </p:nvPicPr>
        <p:blipFill>
          <a:blip r:embed="rId2"/>
          <a:stretch/>
        </p:blipFill>
        <p:spPr>
          <a:xfrm>
            <a:off x="4629240" y="4292640"/>
            <a:ext cx="388764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"/>
          <p:cNvPicPr/>
          <p:nvPr/>
        </p:nvPicPr>
        <p:blipFill>
          <a:blip r:embed="rId3"/>
          <a:stretch/>
        </p:blipFill>
        <p:spPr>
          <a:xfrm>
            <a:off x="4629240" y="1989000"/>
            <a:ext cx="3887640" cy="2160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"/>
          <p:cNvPicPr/>
          <p:nvPr/>
        </p:nvPicPr>
        <p:blipFill>
          <a:blip r:embed="rId4"/>
          <a:stretch/>
        </p:blipFill>
        <p:spPr>
          <a:xfrm>
            <a:off x="630360" y="1989000"/>
            <a:ext cx="3868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2360" y="333360"/>
            <a:ext cx="8172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ему дедушке было 13 лет, когда началась война. О том, что ему пришлось пережить можно узнать из фильма и воспоминаний бабушки.  Дедушка и его брат помогали разминировать поля, собирать тела погибших солдат, грузить на телеги и хоронить их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Объект 7" descr=""/>
          <p:cNvPicPr/>
          <p:nvPr/>
        </p:nvPicPr>
        <p:blipFill>
          <a:blip r:embed="rId1"/>
          <a:stretch/>
        </p:blipFill>
        <p:spPr>
          <a:xfrm>
            <a:off x="630360" y="4365720"/>
            <a:ext cx="3868560" cy="2303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Объект 6" descr=""/>
          <p:cNvPicPr/>
          <p:nvPr/>
        </p:nvPicPr>
        <p:blipFill>
          <a:blip r:embed="rId2"/>
          <a:stretch/>
        </p:blipFill>
        <p:spPr>
          <a:xfrm>
            <a:off x="4629240" y="4697280"/>
            <a:ext cx="3887640" cy="1971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"/>
          <p:cNvPicPr/>
          <p:nvPr/>
        </p:nvPicPr>
        <p:blipFill>
          <a:blip r:embed="rId3"/>
          <a:stretch/>
        </p:blipFill>
        <p:spPr>
          <a:xfrm>
            <a:off x="630360" y="1681200"/>
            <a:ext cx="3868560" cy="26114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" descr=""/>
          <p:cNvPicPr/>
          <p:nvPr/>
        </p:nvPicPr>
        <p:blipFill>
          <a:blip r:embed="rId4"/>
          <a:stretch/>
        </p:blipFill>
        <p:spPr>
          <a:xfrm>
            <a:off x="1949400" y="6858000"/>
            <a:ext cx="5245200" cy="460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5"/>
          <a:stretch/>
        </p:blipFill>
        <p:spPr>
          <a:xfrm>
            <a:off x="5003640" y="1506600"/>
            <a:ext cx="30243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718488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ьчишки того времени часто ходили по полям и собирали снаряды. Однажды их подозвал советский офицер и предложил серьезную работу – помогать в разминировании полей, обещал кормить досыта. И Михаил вместе с братом согласились. Страха тогда не было, он пришел позже. Когда стали погибать товарищ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ат дедушки умер в 14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4629240" y="288936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80" name="Объект 6" descr="C:\Users\xxx\AppData\Local\Temp\Rar$DIa6524.25543\img016.jpg"/>
          <p:cNvPicPr/>
          <p:nvPr/>
        </p:nvPicPr>
        <p:blipFill>
          <a:blip r:embed="rId2"/>
          <a:stretch/>
        </p:blipFill>
        <p:spPr>
          <a:xfrm>
            <a:off x="1622520" y="2060640"/>
            <a:ext cx="2876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6000" y="365040"/>
            <a:ext cx="7400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ьм «Война не детские игры» помогает нам представить, как жили подростки военного времени. Один из героев фильма – мой дедуш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Объект 6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975120" cy="2516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Объект 7" descr=""/>
          <p:cNvPicPr/>
          <p:nvPr/>
        </p:nvPicPr>
        <p:blipFill>
          <a:blip r:embed="rId2"/>
          <a:stretch/>
        </p:blipFill>
        <p:spPr>
          <a:xfrm>
            <a:off x="4629240" y="4005360"/>
            <a:ext cx="3887640" cy="2516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3975120" cy="20890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"/>
          <p:cNvPicPr/>
          <p:nvPr/>
        </p:nvPicPr>
        <p:blipFill>
          <a:blip r:embed="rId4"/>
          <a:stretch/>
        </p:blipFill>
        <p:spPr>
          <a:xfrm>
            <a:off x="4629240" y="1844640"/>
            <a:ext cx="38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xxx</cp:lastModifiedBy>
  <dcterms:modified xsi:type="dcterms:W3CDTF">2021-04-05T18:43:54Z</dcterms:modified>
  <cp:revision>69</cp:revision>
  <dc:subject/>
  <dc:title>Слайд 1</dc:title>
</cp:coreProperties>
</file>