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8AF-C5DE-42AF-A69A-A94D457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7ED-31F2-4210-ADDA-3F63EA66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DAB-DD7B-486E-95CB-700C67FD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781-99FF-4015-AA97-676B4E69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57F8-C6F7-4407-AC0E-423CCE71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D049-9475-4F68-9B84-0107929C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20D8-257E-4B8A-8756-CA6F35CD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FE0F-9630-44F0-A7FA-DBFB350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A193-C9F0-4A79-9C3E-87C6189B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351B-1CAD-4347-9FC0-D86AFA6B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1A8-B3A2-42D0-81BB-612B43C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8B4-511E-499D-BA54-BBB5E0B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A98B-BFAA-49DB-980A-8A39AC3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137-AA5B-440E-B9BD-AA1142C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CFAD-DB92-4C37-8117-5B1B2CF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0F2-06DD-4C89-B3F6-BF561FCF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927-E0B2-482A-96DE-A2CD405E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BBA-6765-4B96-B9B1-EC27629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A4D-6FD7-4EC0-9A39-C93A249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52F-9DB9-42AD-908F-91B4944A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256-DD6A-41D6-94DD-7AF4BF0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BC0-4812-4433-9A93-949E576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4AA-61F5-43DB-BB72-5B8085C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720-1797-411B-91AE-2BA2CDB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628-3F4C-439D-BD57-6551A55E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B846-912B-4507-B9C3-97228FCE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66"/>
                </a:solidFill>
                <a:latin typeface="Arial Black"/>
              </a:rPr>
              <a:t>Интеграл.</a:t>
            </a:r>
            <a:br>
              <a:rPr sz="4900"/>
            </a:br>
            <a:r>
              <a:rPr b="0" lang="en-US" sz="4900" spc="-1" strike="noStrike">
                <a:solidFill>
                  <a:srgbClr val="336666"/>
                </a:solidFill>
                <a:latin typeface="Arial Black"/>
              </a:rPr>
              <a:t>Формула Ньютона-Лейбница</a:t>
            </a:r>
            <a:endParaRPr b="0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34340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Алгебра </a:t>
            </a:r>
            <a:br>
              <a:rPr sz="1800"/>
            </a:b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Нежельская С.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704520" y="30492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знака интегр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4724280" y="2133720"/>
                <a:ext cx="11430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TextBox 3"/>
          <p:cNvSpPr/>
          <p:nvPr/>
        </p:nvSpPr>
        <p:spPr>
          <a:xfrm>
            <a:off x="1221480" y="2590920"/>
            <a:ext cx="9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5"/>
          <p:cNvCxnSpPr/>
          <p:nvPr/>
        </p:nvCxnSpPr>
        <p:spPr>
          <a:xfrm>
            <a:off x="2590920" y="3276720"/>
            <a:ext cx="17532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TextBox 6"/>
          <p:cNvSpPr/>
          <p:nvPr/>
        </p:nvSpPr>
        <p:spPr>
          <a:xfrm>
            <a:off x="1224720" y="2286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136520" y="4800600"/>
            <a:ext cx="66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грал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от лат.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teger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целый»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Для вычисления определенного интеграла используют </a:t>
            </a:r>
            <a:r>
              <a:rPr b="1" i="1" lang="en-US" sz="1900" spc="-1" strike="noStrike">
                <a:solidFill>
                  <a:srgbClr val="006600"/>
                </a:solidFill>
                <a:latin typeface="Arial Black"/>
              </a:rPr>
              <a:t>формулу Ньютона-Лейбница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07" name="Picture 5" descr="newton"/>
          <p:cNvPicPr/>
          <p:nvPr/>
        </p:nvPicPr>
        <p:blipFill>
          <a:blip r:embed="rId1"/>
          <a:stretch/>
        </p:blipFill>
        <p:spPr>
          <a:xfrm>
            <a:off x="914400" y="2286000"/>
            <a:ext cx="255096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Лейбниц"/>
          <p:cNvPicPr/>
          <p:nvPr/>
        </p:nvPicPr>
        <p:blipFill>
          <a:blip r:embed="rId2"/>
          <a:stretch/>
        </p:blipFill>
        <p:spPr>
          <a:xfrm>
            <a:off x="5562720" y="2286000"/>
            <a:ext cx="2628720" cy="3505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D:\Работа\информатика\хорошие рамки\73c57d00e775.png"/>
          <p:cNvPicPr/>
          <p:nvPr/>
        </p:nvPicPr>
        <p:blipFill>
          <a:blip r:embed="rId3"/>
          <a:stretch/>
        </p:blipFill>
        <p:spPr>
          <a:xfrm>
            <a:off x="685800" y="2133720"/>
            <a:ext cx="2878200" cy="373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D:\Работа\информатика\хорошие рамки\73c57d00e775.png"/>
          <p:cNvPicPr/>
          <p:nvPr/>
        </p:nvPicPr>
        <p:blipFill>
          <a:blip r:embed="rId4"/>
          <a:stretch/>
        </p:blipFill>
        <p:spPr>
          <a:xfrm>
            <a:off x="5410080" y="2133720"/>
            <a:ext cx="287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6600"/>
                </a:solidFill>
                <a:latin typeface="Arial Black"/>
              </a:rPr>
              <a:t>Формула Ньютона -Лейбниц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2543040" y="1973160"/>
                <a:ext cx="55468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непрерывна на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;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то 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где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ервообразна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Text Box 5"/>
          <p:cNvSpPr/>
          <p:nvPr/>
        </p:nvSpPr>
        <p:spPr>
          <a:xfrm>
            <a:off x="537840" y="1905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еор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1474920" y="3400560"/>
                <a:ext cx="69120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458280" y="129528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мер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905040" y="2041560"/>
                <a:ext cx="14493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2330280" y="2244600"/>
                <a:ext cx="57722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Arial Black"/>
              </a:rPr>
              <a:t>Правила вычисления определенного интеграл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1523880" y="1828800"/>
                <a:ext cx="58723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2133720" y="2819520"/>
                <a:ext cx="3135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600200" y="3886200"/>
                <a:ext cx="51814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&lt;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b , то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Comic Sans MS"/>
              </a:rPr>
              <a:t>Задачи, приводящие к понятию определенного интеграл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вычислении площади криволинейной трапец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вычислении массы стержн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перемещении точ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Задача 1. О вычислении площади криволинейной трапеции</a:t>
            </a:r>
            <a:br>
              <a:rPr sz="1700"/>
            </a:b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93" name="Line 4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rc 11"/>
          <p:cNvSpPr/>
          <p:nvPr/>
        </p:nvSpPr>
        <p:spPr>
          <a:xfrm flipV="1" rot="11462400">
            <a:off x="1590120" y="2232720"/>
            <a:ext cx="2971800" cy="2337120"/>
          </a:xfrm>
          <a:custGeom>
            <a:avLst/>
            <a:gdLst>
              <a:gd name="textAreaLeft" fmla="*/ 0 w 2971800"/>
              <a:gd name="textAreaRight" fmla="*/ 2972160 w 2971800"/>
              <a:gd name="textAreaTop" fmla="*/ 360 h 2337120"/>
              <a:gd name="textAreaBottom" fmla="*/ 2337840 h 233712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52480" y="34290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3733920" y="23623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11120" y="20574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83560" y="2286000"/>
            <a:ext cx="472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гура, ограниченная граф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ой и неотриц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, осью 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ми х=а и х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иволинейной трапе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2057400" y="31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659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8363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23623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12408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42900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214128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3217680" y="4952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2063160" y="5715000"/>
            <a:ext cx="58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щадь трапеции = сумме площадей столб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114" name="Line 5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rc 10"/>
          <p:cNvSpPr/>
          <p:nvPr/>
        </p:nvSpPr>
        <p:spPr>
          <a:xfrm flipV="1" rot="11462400">
            <a:off x="1590120" y="2232720"/>
            <a:ext cx="2971800" cy="2337120"/>
          </a:xfrm>
          <a:custGeom>
            <a:avLst/>
            <a:gdLst>
              <a:gd name="textAreaLeft" fmla="*/ 0 w 2971800"/>
              <a:gd name="textAreaRight" fmla="*/ 2972160 w 2971800"/>
              <a:gd name="textAreaTop" fmla="*/ 360 h 2337120"/>
              <a:gd name="textAreaBottom" fmla="*/ 2337840 h 233712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28600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81952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0649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688120" y="4952880"/>
            <a:ext cx="63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2286000" y="2895480"/>
            <a:ext cx="533520" cy="20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422440" y="537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2362320" y="5181480"/>
                <a:ext cx="447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Line 18"/>
          <p:cNvSpPr/>
          <p:nvPr/>
        </p:nvSpPr>
        <p:spPr>
          <a:xfrm flipH="1">
            <a:off x="12189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613800" y="2666880"/>
            <a:ext cx="73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4572000" y="2971800"/>
                <a:ext cx="38862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131" name="Line 4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rc 9"/>
          <p:cNvSpPr/>
          <p:nvPr/>
        </p:nvSpPr>
        <p:spPr>
          <a:xfrm flipV="1" rot="11462400">
            <a:off x="1599480" y="2209320"/>
            <a:ext cx="2971800" cy="2336760"/>
          </a:xfrm>
          <a:custGeom>
            <a:avLst/>
            <a:gdLst>
              <a:gd name="textAreaLeft" fmla="*/ 0 w 2971800"/>
              <a:gd name="textAreaRight" fmla="*/ 2972160 w 2971800"/>
              <a:gd name="textAreaTop" fmla="*/ -360 h 2336760"/>
              <a:gd name="textAreaBottom" fmla="*/ 2336760 h 233676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1752480" y="34290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809880" y="23623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211120" y="20574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057400" y="31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659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8363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23623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304812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3429000" y="24382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14128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217680" y="4952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533960" y="380880"/>
            <a:ext cx="610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 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енно равна площад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266688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752480" y="3505320"/>
            <a:ext cx="304920" cy="144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057400" y="3124080"/>
            <a:ext cx="3049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2362320" y="2895480"/>
            <a:ext cx="304560" cy="205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2666880" y="2743200"/>
            <a:ext cx="381240" cy="2209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3048120" y="2514600"/>
            <a:ext cx="380880" cy="243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429000" y="2438280"/>
            <a:ext cx="380880" cy="2514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2"/>
              <p:cNvSpPr txBox="1"/>
              <p:nvPr/>
            </p:nvSpPr>
            <p:spPr>
              <a:xfrm>
                <a:off x="1066680" y="914400"/>
                <a:ext cx="7328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3"/>
              <p:cNvSpPr txBox="1"/>
              <p:nvPr/>
            </p:nvSpPr>
            <p:spPr>
              <a:xfrm>
                <a:off x="5943600" y="2590920"/>
                <a:ext cx="15876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Text Box 34"/>
          <p:cNvSpPr/>
          <p:nvPr/>
        </p:nvSpPr>
        <p:spPr>
          <a:xfrm>
            <a:off x="5108760" y="3429000"/>
            <a:ext cx="33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больш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ем точне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4047120" y="3809880"/>
            <a:ext cx="486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лощадь криволинейной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авна пределу последовательности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6"/>
              <p:cNvSpPr txBox="1"/>
              <p:nvPr/>
            </p:nvSpPr>
            <p:spPr>
              <a:xfrm>
                <a:off x="5715000" y="4572000"/>
                <a:ext cx="25909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Rectangle 37"/>
          <p:cNvSpPr/>
          <p:nvPr/>
        </p:nvSpPr>
        <p:spPr>
          <a:xfrm>
            <a:off x="5410080" y="4495680"/>
            <a:ext cx="3200400" cy="1371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Задача 2. Дан прямолинейный неоднородный стержень. Найти массу стержня.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8"/>
              <p:cNvSpPr txBox="1"/>
              <p:nvPr/>
            </p:nvSpPr>
            <p:spPr>
              <a:xfrm>
                <a:off x="5715000" y="1828800"/>
                <a:ext cx="2398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5"/>
              <p:cNvSpPr txBox="1"/>
              <p:nvPr/>
            </p:nvSpPr>
            <p:spPr>
              <a:xfrm>
                <a:off x="1752480" y="3886200"/>
                <a:ext cx="2779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7"/>
              <p:cNvSpPr txBox="1"/>
              <p:nvPr/>
            </p:nvSpPr>
            <p:spPr>
              <a:xfrm>
                <a:off x="1295280" y="4495680"/>
                <a:ext cx="51753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Line 28"/>
          <p:cNvSpPr/>
          <p:nvPr/>
        </p:nvSpPr>
        <p:spPr>
          <a:xfrm>
            <a:off x="762120" y="27432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1371600" y="274320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11448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4344840" y="2743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137160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449568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1676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1981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6019920" y="1447920"/>
            <a:ext cx="2438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2286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461880" y="3048120"/>
            <a:ext cx="8673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обьем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авные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участ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опустим что его плотность постоя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9"/>
              <p:cNvSpPr txBox="1"/>
              <p:nvPr/>
            </p:nvSpPr>
            <p:spPr>
              <a:xfrm>
                <a:off x="3581280" y="5729400"/>
                <a:ext cx="29768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l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Rectangle 51"/>
          <p:cNvSpPr/>
          <p:nvPr/>
        </p:nvSpPr>
        <p:spPr>
          <a:xfrm>
            <a:off x="3048120" y="5715000"/>
            <a:ext cx="3809880" cy="1143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6666"/>
                </a:solidFill>
                <a:latin typeface="Arial Black"/>
              </a:rPr>
              <a:t>Задача 3. По прямой движется точка. Зависимость скорости от времени </a:t>
            </a: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v=v(t)</a:t>
            </a:r>
            <a:r>
              <a:rPr b="0" lang="ru-RU" sz="1700" spc="-1" strike="noStrike">
                <a:solidFill>
                  <a:srgbClr val="336666"/>
                </a:solidFill>
                <a:latin typeface="Arial Black"/>
              </a:rPr>
              <a:t>. Найти перемещение точки за промежуток времени </a:t>
            </a: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[a;b]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м промежуток време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х ч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t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удем считать, что на этом промежутке скорость была постоя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546200" y="3332160"/>
                <a:ext cx="2637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5"/>
              <p:cNvSpPr txBox="1"/>
              <p:nvPr/>
            </p:nvSpPr>
            <p:spPr>
              <a:xfrm>
                <a:off x="5108400" y="3332160"/>
                <a:ext cx="1497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1447920" y="4038480"/>
                <a:ext cx="67816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3352680" y="5486400"/>
                <a:ext cx="23623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9"/>
          <p:cNvSpPr/>
          <p:nvPr/>
        </p:nvSpPr>
        <p:spPr>
          <a:xfrm>
            <a:off x="3048120" y="5410080"/>
            <a:ext cx="3429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6600"/>
                </a:solidFill>
                <a:latin typeface="Arial Black"/>
              </a:rPr>
              <a:t>Определенный интегра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117440" y="2313000"/>
                <a:ext cx="130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Text Box 6"/>
          <p:cNvSpPr/>
          <p:nvPr/>
        </p:nvSpPr>
        <p:spPr>
          <a:xfrm>
            <a:off x="2439000" y="20574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пределенным интегра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функции по отрез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;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2900520" y="3060720"/>
                <a:ext cx="31827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219320" y="1219320"/>
                <a:ext cx="2801880" cy="483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4340520" y="180324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криволинейной трап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567680" y="3352680"/>
            <a:ext cx="38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са неоднородного стерж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4951800" y="502920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щение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177800" y="102708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Геометрический смысл определ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нтег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267800" y="2590920"/>
            <a:ext cx="42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изический смысл определ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нтег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</cp:lastModifiedBy>
  <dcterms:modified xsi:type="dcterms:W3CDTF">2021-04-05T16:45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