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5300-537F-4E4A-9891-968A466EB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56FC-8578-4923-AFBA-2E59BA1B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CE2F-694D-4B7E-A187-E982E6FE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8890-680F-4816-9FA8-3F3969983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C7EA-46EF-4B4A-9872-D25251EF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6D53-0B9E-44C0-B4DF-672793E1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0CAA-994E-40F3-B8CE-8D3B3B31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B39C-0901-4B8C-9EF4-0D987CE0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1078-21EC-4839-A6F7-F8EB1012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4563-4C5A-4054-B555-284FF3FD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FFCE-1E16-4650-9B7B-52EBE293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151C-0E3C-48E8-827C-82958D7A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EAA7-5FCB-4046-B551-8737B93A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4A87-7480-483C-BC7F-8730DED9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EAB6-D786-4D69-9EF1-77AB7E66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7E02-FC52-402A-8402-DAD2DDA0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6416-0CA6-4EB9-8106-1643CE53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9B6B-F511-4F5C-8BFE-4BF780B1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888D-5917-4B2A-8C02-34B7E38E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7D47-B95F-44FF-A84C-F57A1794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2233-878F-47C2-8AB6-9A26A462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E3D4-E6FF-4173-A6BD-60B9AC9A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C75D-AEB3-4131-8606-773F9342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D374-B95E-481F-BA1D-6BFB12C5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F3AD-0B1F-4751-8FC7-CB65BEBA5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9E35-7D03-4700-B1EC-C4DD8E8FE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336666"/>
                </a:solidFill>
                <a:latin typeface="Arial Black"/>
              </a:rPr>
              <a:t>Интеграл.</a:t>
            </a:r>
            <a:br>
              <a:rPr sz="4900"/>
            </a:br>
            <a:r>
              <a:rPr b="0" lang="en-US" sz="4900" spc="-1" strike="noStrike">
                <a:solidFill>
                  <a:srgbClr val="336666"/>
                </a:solidFill>
                <a:latin typeface="Arial Black"/>
              </a:rPr>
              <a:t>Формула Ньютона-Лейбница</a:t>
            </a:r>
            <a:endParaRPr b="0" lang="en-US" sz="4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5334120" y="4343400"/>
            <a:ext cx="21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Алгебра </a:t>
            </a:r>
            <a:br>
              <a:rPr sz="1800"/>
            </a:b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11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Нежельская С.В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1"/>
          <p:cNvSpPr/>
          <p:nvPr/>
        </p:nvSpPr>
        <p:spPr>
          <a:xfrm>
            <a:off x="704520" y="304920"/>
            <a:ext cx="675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рия возникновения знака интегр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2"/>
              <p:cNvSpPr txBox="1"/>
              <p:nvPr/>
            </p:nvSpPr>
            <p:spPr>
              <a:xfrm>
                <a:off x="4724280" y="2133720"/>
                <a:ext cx="1143000" cy="19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202" name="TextBox 3"/>
          <p:cNvSpPr/>
          <p:nvPr/>
        </p:nvSpPr>
        <p:spPr>
          <a:xfrm>
            <a:off x="1221480" y="2590920"/>
            <a:ext cx="92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Прямая со стрелкой 5"/>
          <p:cNvCxnSpPr/>
          <p:nvPr/>
        </p:nvCxnSpPr>
        <p:spPr>
          <a:xfrm>
            <a:off x="2590920" y="3276720"/>
            <a:ext cx="175320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04" name="TextBox 6"/>
          <p:cNvSpPr/>
          <p:nvPr/>
        </p:nvSpPr>
        <p:spPr>
          <a:xfrm>
            <a:off x="1224720" y="2286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у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1136520" y="4800600"/>
            <a:ext cx="661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нтеграл</a:t>
            </a:r>
            <a:r>
              <a:rPr b="0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от лат. 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integer</a:t>
            </a: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</a:t>
            </a: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«целый»</a:t>
            </a:r>
            <a:r>
              <a:rPr b="0" lang="en-US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Для вычисления определенного интеграла используют </a:t>
            </a:r>
            <a:r>
              <a:rPr b="1" i="1" lang="en-US" sz="1900" spc="-1" strike="noStrike">
                <a:solidFill>
                  <a:srgbClr val="006600"/>
                </a:solidFill>
                <a:latin typeface="Arial Black"/>
              </a:rPr>
              <a:t>формулу Ньютона-Лейбница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207" name="Picture 5" descr="newton"/>
          <p:cNvPicPr/>
          <p:nvPr/>
        </p:nvPicPr>
        <p:blipFill>
          <a:blip r:embed="rId1"/>
          <a:stretch/>
        </p:blipFill>
        <p:spPr>
          <a:xfrm>
            <a:off x="914400" y="2286000"/>
            <a:ext cx="2550960" cy="3505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Лейбниц"/>
          <p:cNvPicPr/>
          <p:nvPr/>
        </p:nvPicPr>
        <p:blipFill>
          <a:blip r:embed="rId2"/>
          <a:stretch/>
        </p:blipFill>
        <p:spPr>
          <a:xfrm>
            <a:off x="5562720" y="2286000"/>
            <a:ext cx="2628720" cy="3505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D:\Работа\информатика\хорошие рамки\73c57d00e775.png"/>
          <p:cNvPicPr/>
          <p:nvPr/>
        </p:nvPicPr>
        <p:blipFill>
          <a:blip r:embed="rId3"/>
          <a:stretch/>
        </p:blipFill>
        <p:spPr>
          <a:xfrm>
            <a:off x="685800" y="2133720"/>
            <a:ext cx="2878200" cy="3733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D:\Работа\информатика\хорошие рамки\73c57d00e775.png"/>
          <p:cNvPicPr/>
          <p:nvPr/>
        </p:nvPicPr>
        <p:blipFill>
          <a:blip r:embed="rId4"/>
          <a:stretch/>
        </p:blipFill>
        <p:spPr>
          <a:xfrm>
            <a:off x="5410080" y="2133720"/>
            <a:ext cx="28782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6600"/>
                </a:solidFill>
                <a:latin typeface="Arial Black"/>
              </a:rPr>
              <a:t>Формула Ньютона -Лейбница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6"/>
              <p:cNvSpPr txBox="1"/>
              <p:nvPr/>
            </p:nvSpPr>
            <p:spPr>
              <a:xfrm>
                <a:off x="2543040" y="1973160"/>
                <a:ext cx="554688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Если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непрерывна на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;b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то 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где 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первообразная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3" name="Text Box 5"/>
          <p:cNvSpPr/>
          <p:nvPr/>
        </p:nvSpPr>
        <p:spPr>
          <a:xfrm>
            <a:off x="537840" y="1905120"/>
            <a:ext cx="180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Теоре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8"/>
              <p:cNvSpPr txBox="1"/>
              <p:nvPr/>
            </p:nvSpPr>
            <p:spPr>
              <a:xfrm>
                <a:off x="1474920" y="3400560"/>
                <a:ext cx="691200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458280" y="1295280"/>
            <a:ext cx="16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Пример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5"/>
              <p:cNvSpPr txBox="1"/>
              <p:nvPr/>
            </p:nvSpPr>
            <p:spPr>
              <a:xfrm>
                <a:off x="905040" y="2041560"/>
                <a:ext cx="1449360" cy="15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7"/>
              <p:cNvSpPr txBox="1"/>
              <p:nvPr/>
            </p:nvSpPr>
            <p:spPr>
              <a:xfrm>
                <a:off x="2330280" y="2244600"/>
                <a:ext cx="577224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6600"/>
                </a:solidFill>
                <a:latin typeface="Arial Black"/>
              </a:rPr>
              <a:t>Правила вычисления определенного интеграла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5"/>
              <p:cNvSpPr txBox="1"/>
              <p:nvPr/>
            </p:nvSpPr>
            <p:spPr>
              <a:xfrm>
                <a:off x="1523880" y="1828800"/>
                <a:ext cx="587232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7"/>
              <p:cNvSpPr txBox="1"/>
              <p:nvPr/>
            </p:nvSpPr>
            <p:spPr>
              <a:xfrm>
                <a:off x="2133720" y="2819520"/>
                <a:ext cx="313524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k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k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9"/>
              <p:cNvSpPr txBox="1"/>
              <p:nvPr/>
            </p:nvSpPr>
            <p:spPr>
              <a:xfrm>
                <a:off x="1600200" y="3886200"/>
                <a:ext cx="5181480" cy="18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r>
                          <m:t xml:space="preserve">&lt;</m:t>
                        </m:r>
                        <m:r>
                          <m:t xml:space="preserve">c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b , то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00"/>
                </a:solidFill>
                <a:latin typeface="Comic Sans MS"/>
              </a:rPr>
              <a:t>Задачи, приводящие к понятию определенного интеграла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9528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726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О вычислении площади криволинейной трапеции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26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О вычислении массы стержня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26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О перемещении точки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700" spc="-1" strike="noStrike">
                <a:solidFill>
                  <a:srgbClr val="336666"/>
                </a:solidFill>
                <a:latin typeface="Arial Black"/>
              </a:rPr>
              <a:t>Задача 1. О вычислении площади криволинейной трапеции</a:t>
            </a:r>
            <a:br>
              <a:rPr sz="1700"/>
            </a:br>
            <a:r>
              <a:rPr b="0" lang="en-US" sz="14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336666"/>
              </a:solidFill>
              <a:latin typeface="Arial Black"/>
            </a:endParaRPr>
          </a:p>
        </p:txBody>
      </p:sp>
      <p:grpSp>
        <p:nvGrpSpPr>
          <p:cNvPr id="92" name="Group 9"/>
          <p:cNvGrpSpPr/>
          <p:nvPr/>
        </p:nvGrpSpPr>
        <p:grpSpPr>
          <a:xfrm>
            <a:off x="533520" y="1600200"/>
            <a:ext cx="4880880" cy="4114800"/>
            <a:chOff x="533520" y="1600200"/>
            <a:chExt cx="4880880" cy="4114800"/>
          </a:xfrm>
        </p:grpSpPr>
        <p:sp>
          <p:nvSpPr>
            <p:cNvPr id="93" name="Line 4"/>
            <p:cNvSpPr/>
            <p:nvPr/>
          </p:nvSpPr>
          <p:spPr>
            <a:xfrm flipV="1">
              <a:off x="1219320" y="1600200"/>
              <a:ext cx="0" cy="41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"/>
            <p:cNvSpPr/>
            <p:nvPr/>
          </p:nvSpPr>
          <p:spPr>
            <a:xfrm>
              <a:off x="533520" y="4952880"/>
              <a:ext cx="47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6"/>
            <p:cNvSpPr/>
            <p:nvPr/>
          </p:nvSpPr>
          <p:spPr>
            <a:xfrm>
              <a:off x="5107320" y="4952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7"/>
            <p:cNvSpPr/>
            <p:nvPr/>
          </p:nvSpPr>
          <p:spPr>
            <a:xfrm>
              <a:off x="840240" y="1600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823680" y="49132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Arc 11"/>
          <p:cNvSpPr/>
          <p:nvPr/>
        </p:nvSpPr>
        <p:spPr>
          <a:xfrm flipV="1" rot="11462400">
            <a:off x="1590120" y="2232720"/>
            <a:ext cx="2971800" cy="2337120"/>
          </a:xfrm>
          <a:custGeom>
            <a:avLst/>
            <a:gdLst>
              <a:gd name="textAreaLeft" fmla="*/ 0 w 2971800"/>
              <a:gd name="textAreaRight" fmla="*/ 2972160 w 2971800"/>
              <a:gd name="textAreaTop" fmla="*/ 360 h 2337120"/>
              <a:gd name="textAreaBottom" fmla="*/ 2337840 h 2337120"/>
            </a:gdLst>
            <a:ahLst/>
            <a:rect l="textAreaLeft" t="textAreaTop" r="textAreaRight" b="textAreaBottom"/>
            <a:pathLst>
              <a:path fill="none" w="21600" h="20699">
                <a:moveTo>
                  <a:pt x="6173" y="-1"/>
                </a:moveTo>
                <a:cubicBezTo>
                  <a:pt x="15326" y="2729"/>
                  <a:pt x="21600" y="11147"/>
                  <a:pt x="21600" y="20699"/>
                </a:cubicBezTo>
              </a:path>
              <a:path stroke="0" w="21600" h="20699">
                <a:moveTo>
                  <a:pt x="6173" y="-1"/>
                </a:moveTo>
                <a:cubicBezTo>
                  <a:pt x="15326" y="2729"/>
                  <a:pt x="21600" y="11147"/>
                  <a:pt x="21600" y="20699"/>
                </a:cubicBezTo>
                <a:lnTo>
                  <a:pt x="0" y="20699"/>
                </a:lnTo>
                <a:close/>
              </a:path>
            </a:pathLst>
          </a:custGeom>
          <a:noFill/>
          <a:ln w="572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1752480" y="342900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3733920" y="2362320"/>
            <a:ext cx="0" cy="259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2211120" y="205740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= 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4183560" y="2286000"/>
            <a:ext cx="4728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гура, ограниченная графи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рерывной и неотрицатель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;b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функции, осью 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ыми х=а и х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&lt;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назыв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риволинейной трапе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2057400" y="3124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1510200" y="4989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3659400" y="502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1836360" y="495288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0"/>
          <p:cNvSpPr/>
          <p:nvPr/>
        </p:nvSpPr>
        <p:spPr>
          <a:xfrm>
            <a:off x="2362320" y="28954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1"/>
          <p:cNvSpPr/>
          <p:nvPr/>
        </p:nvSpPr>
        <p:spPr>
          <a:xfrm>
            <a:off x="3124080" y="2514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2"/>
          <p:cNvSpPr/>
          <p:nvPr/>
        </p:nvSpPr>
        <p:spPr>
          <a:xfrm>
            <a:off x="3429000" y="2514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5"/>
          <p:cNvSpPr/>
          <p:nvPr/>
        </p:nvSpPr>
        <p:spPr>
          <a:xfrm>
            <a:off x="2141280" y="495288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3217680" y="49528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7"/>
          <p:cNvSpPr/>
          <p:nvPr/>
        </p:nvSpPr>
        <p:spPr>
          <a:xfrm>
            <a:off x="2063160" y="5715000"/>
            <a:ext cx="58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ощадь трапеции = сумме площадей столб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4"/>
          <p:cNvGrpSpPr/>
          <p:nvPr/>
        </p:nvGrpSpPr>
        <p:grpSpPr>
          <a:xfrm>
            <a:off x="533520" y="1600200"/>
            <a:ext cx="4880880" cy="4114800"/>
            <a:chOff x="533520" y="1600200"/>
            <a:chExt cx="4880880" cy="4114800"/>
          </a:xfrm>
        </p:grpSpPr>
        <p:sp>
          <p:nvSpPr>
            <p:cNvPr id="114" name="Line 5"/>
            <p:cNvSpPr/>
            <p:nvPr/>
          </p:nvSpPr>
          <p:spPr>
            <a:xfrm flipV="1">
              <a:off x="1219320" y="1600200"/>
              <a:ext cx="0" cy="41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6"/>
            <p:cNvSpPr/>
            <p:nvPr/>
          </p:nvSpPr>
          <p:spPr>
            <a:xfrm>
              <a:off x="533520" y="4952880"/>
              <a:ext cx="47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7"/>
            <p:cNvSpPr/>
            <p:nvPr/>
          </p:nvSpPr>
          <p:spPr>
            <a:xfrm>
              <a:off x="5107320" y="4952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8"/>
            <p:cNvSpPr/>
            <p:nvPr/>
          </p:nvSpPr>
          <p:spPr>
            <a:xfrm>
              <a:off x="840240" y="1600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9"/>
            <p:cNvSpPr/>
            <p:nvPr/>
          </p:nvSpPr>
          <p:spPr>
            <a:xfrm>
              <a:off x="823680" y="49132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Arc 10"/>
          <p:cNvSpPr/>
          <p:nvPr/>
        </p:nvSpPr>
        <p:spPr>
          <a:xfrm flipV="1" rot="11462400">
            <a:off x="1590120" y="2232720"/>
            <a:ext cx="2971800" cy="2337120"/>
          </a:xfrm>
          <a:custGeom>
            <a:avLst/>
            <a:gdLst>
              <a:gd name="textAreaLeft" fmla="*/ 0 w 2971800"/>
              <a:gd name="textAreaRight" fmla="*/ 2972160 w 2971800"/>
              <a:gd name="textAreaTop" fmla="*/ 360 h 2337120"/>
              <a:gd name="textAreaBottom" fmla="*/ 2337840 h 2337120"/>
            </a:gdLst>
            <a:ahLst/>
            <a:rect l="textAreaLeft" t="textAreaTop" r="textAreaRight" b="textAreaBottom"/>
            <a:pathLst>
              <a:path fill="none" w="21600" h="20699">
                <a:moveTo>
                  <a:pt x="6173" y="-1"/>
                </a:moveTo>
                <a:cubicBezTo>
                  <a:pt x="15326" y="2729"/>
                  <a:pt x="21600" y="11147"/>
                  <a:pt x="21600" y="20699"/>
                </a:cubicBezTo>
              </a:path>
              <a:path stroke="0" w="21600" h="20699">
                <a:moveTo>
                  <a:pt x="6173" y="-1"/>
                </a:moveTo>
                <a:cubicBezTo>
                  <a:pt x="15326" y="2729"/>
                  <a:pt x="21600" y="11147"/>
                  <a:pt x="21600" y="20699"/>
                </a:cubicBezTo>
                <a:lnTo>
                  <a:pt x="0" y="20699"/>
                </a:lnTo>
                <a:close/>
              </a:path>
            </a:pathLst>
          </a:custGeom>
          <a:noFill/>
          <a:ln w="572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2286000" y="28954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2819520" y="26668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2064960" y="495288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2688120" y="4952880"/>
            <a:ext cx="63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k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2286000" y="2895480"/>
            <a:ext cx="533520" cy="2057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2422440" y="5370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17"/>
              <p:cNvSpPr txBox="1"/>
              <p:nvPr/>
            </p:nvSpPr>
            <p:spPr>
              <a:xfrm>
                <a:off x="2362320" y="5181480"/>
                <a:ext cx="4474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х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7" name="Line 18"/>
          <p:cNvSpPr/>
          <p:nvPr/>
        </p:nvSpPr>
        <p:spPr>
          <a:xfrm flipH="1">
            <a:off x="1218960" y="2895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9"/>
          <p:cNvSpPr/>
          <p:nvPr/>
        </p:nvSpPr>
        <p:spPr>
          <a:xfrm>
            <a:off x="613800" y="2666880"/>
            <a:ext cx="73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 (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21"/>
              <p:cNvSpPr txBox="1"/>
              <p:nvPr/>
            </p:nvSpPr>
            <p:spPr>
              <a:xfrm>
                <a:off x="4572000" y="2971800"/>
                <a:ext cx="388620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3"/>
          <p:cNvGrpSpPr/>
          <p:nvPr/>
        </p:nvGrpSpPr>
        <p:grpSpPr>
          <a:xfrm>
            <a:off x="533520" y="1600200"/>
            <a:ext cx="4880880" cy="4114800"/>
            <a:chOff x="533520" y="1600200"/>
            <a:chExt cx="4880880" cy="4114800"/>
          </a:xfrm>
        </p:grpSpPr>
        <p:sp>
          <p:nvSpPr>
            <p:cNvPr id="131" name="Line 4"/>
            <p:cNvSpPr/>
            <p:nvPr/>
          </p:nvSpPr>
          <p:spPr>
            <a:xfrm flipV="1">
              <a:off x="1219320" y="1600200"/>
              <a:ext cx="0" cy="41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5"/>
            <p:cNvSpPr/>
            <p:nvPr/>
          </p:nvSpPr>
          <p:spPr>
            <a:xfrm>
              <a:off x="533520" y="4952880"/>
              <a:ext cx="47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6"/>
            <p:cNvSpPr/>
            <p:nvPr/>
          </p:nvSpPr>
          <p:spPr>
            <a:xfrm>
              <a:off x="5107320" y="4952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7"/>
            <p:cNvSpPr/>
            <p:nvPr/>
          </p:nvSpPr>
          <p:spPr>
            <a:xfrm>
              <a:off x="840240" y="1600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8"/>
            <p:cNvSpPr/>
            <p:nvPr/>
          </p:nvSpPr>
          <p:spPr>
            <a:xfrm>
              <a:off x="823680" y="49132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Arc 9"/>
          <p:cNvSpPr/>
          <p:nvPr/>
        </p:nvSpPr>
        <p:spPr>
          <a:xfrm flipV="1" rot="11462400">
            <a:off x="1599480" y="2209320"/>
            <a:ext cx="2971800" cy="2336760"/>
          </a:xfrm>
          <a:custGeom>
            <a:avLst/>
            <a:gdLst>
              <a:gd name="textAreaLeft" fmla="*/ 0 w 2971800"/>
              <a:gd name="textAreaRight" fmla="*/ 2972160 w 2971800"/>
              <a:gd name="textAreaTop" fmla="*/ -360 h 2336760"/>
              <a:gd name="textAreaBottom" fmla="*/ 2336760 h 2336760"/>
            </a:gdLst>
            <a:ahLst/>
            <a:rect l="textAreaLeft" t="textAreaTop" r="textAreaRight" b="textAreaBottom"/>
            <a:pathLst>
              <a:path fill="none" w="21600" h="20699">
                <a:moveTo>
                  <a:pt x="6173" y="-1"/>
                </a:moveTo>
                <a:cubicBezTo>
                  <a:pt x="15326" y="2729"/>
                  <a:pt x="21600" y="11147"/>
                  <a:pt x="21600" y="20699"/>
                </a:cubicBezTo>
              </a:path>
              <a:path stroke="0" w="21600" h="20699">
                <a:moveTo>
                  <a:pt x="6173" y="-1"/>
                </a:moveTo>
                <a:cubicBezTo>
                  <a:pt x="15326" y="2729"/>
                  <a:pt x="21600" y="11147"/>
                  <a:pt x="21600" y="20699"/>
                </a:cubicBezTo>
                <a:lnTo>
                  <a:pt x="0" y="20699"/>
                </a:lnTo>
                <a:close/>
              </a:path>
            </a:pathLst>
          </a:custGeom>
          <a:noFill/>
          <a:ln w="572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1752480" y="342900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3809880" y="2362320"/>
            <a:ext cx="0" cy="259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2211120" y="205740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= 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2057400" y="3124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1510200" y="4989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3659400" y="502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1836360" y="495288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"/>
          <p:cNvSpPr/>
          <p:nvPr/>
        </p:nvSpPr>
        <p:spPr>
          <a:xfrm>
            <a:off x="2362320" y="28954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9"/>
          <p:cNvSpPr/>
          <p:nvPr/>
        </p:nvSpPr>
        <p:spPr>
          <a:xfrm>
            <a:off x="3048120" y="2514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0"/>
          <p:cNvSpPr/>
          <p:nvPr/>
        </p:nvSpPr>
        <p:spPr>
          <a:xfrm>
            <a:off x="3429000" y="24382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2141280" y="495288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2"/>
          <p:cNvSpPr/>
          <p:nvPr/>
        </p:nvSpPr>
        <p:spPr>
          <a:xfrm>
            <a:off x="3217680" y="49528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3"/>
          <p:cNvSpPr/>
          <p:nvPr/>
        </p:nvSpPr>
        <p:spPr>
          <a:xfrm>
            <a:off x="1533960" y="380880"/>
            <a:ext cx="6104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щадь трапеци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ближенно равна площад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4"/>
          <p:cNvSpPr/>
          <p:nvPr/>
        </p:nvSpPr>
        <p:spPr>
          <a:xfrm>
            <a:off x="2666880" y="26668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6"/>
          <p:cNvSpPr/>
          <p:nvPr/>
        </p:nvSpPr>
        <p:spPr>
          <a:xfrm>
            <a:off x="1752480" y="3505320"/>
            <a:ext cx="304920" cy="1447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7"/>
          <p:cNvSpPr/>
          <p:nvPr/>
        </p:nvSpPr>
        <p:spPr>
          <a:xfrm>
            <a:off x="2057400" y="3124080"/>
            <a:ext cx="304920" cy="1828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8"/>
          <p:cNvSpPr/>
          <p:nvPr/>
        </p:nvSpPr>
        <p:spPr>
          <a:xfrm>
            <a:off x="2362320" y="2895480"/>
            <a:ext cx="304560" cy="205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9"/>
          <p:cNvSpPr/>
          <p:nvPr/>
        </p:nvSpPr>
        <p:spPr>
          <a:xfrm>
            <a:off x="2666880" y="2743200"/>
            <a:ext cx="381240" cy="22096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0"/>
          <p:cNvSpPr/>
          <p:nvPr/>
        </p:nvSpPr>
        <p:spPr>
          <a:xfrm>
            <a:off x="3048120" y="2514600"/>
            <a:ext cx="380880" cy="2438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1"/>
          <p:cNvSpPr/>
          <p:nvPr/>
        </p:nvSpPr>
        <p:spPr>
          <a:xfrm>
            <a:off x="3429000" y="2438280"/>
            <a:ext cx="380880" cy="25146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32"/>
              <p:cNvSpPr txBox="1"/>
              <p:nvPr/>
            </p:nvSpPr>
            <p:spPr>
              <a:xfrm>
                <a:off x="1066680" y="914400"/>
                <a:ext cx="73281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33"/>
              <p:cNvSpPr txBox="1"/>
              <p:nvPr/>
            </p:nvSpPr>
            <p:spPr>
              <a:xfrm>
                <a:off x="5943600" y="2590920"/>
                <a:ext cx="158760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9" name="Text Box 34"/>
          <p:cNvSpPr/>
          <p:nvPr/>
        </p:nvSpPr>
        <p:spPr>
          <a:xfrm>
            <a:off x="5108760" y="3429000"/>
            <a:ext cx="337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м больш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тем точне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5"/>
          <p:cNvSpPr/>
          <p:nvPr/>
        </p:nvSpPr>
        <p:spPr>
          <a:xfrm>
            <a:off x="4047120" y="3809880"/>
            <a:ext cx="4860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Площадь криволинейной трапе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равна пределу последовательности </a:t>
            </a: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1" i="1" lang="en-US" sz="1800" spc="-1" strike="noStrike" baseline="-25000">
                <a:solidFill>
                  <a:srgbClr val="0066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36"/>
              <p:cNvSpPr txBox="1"/>
              <p:nvPr/>
            </p:nvSpPr>
            <p:spPr>
              <a:xfrm>
                <a:off x="5715000" y="4572000"/>
                <a:ext cx="259092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" name="Rectangle 37"/>
          <p:cNvSpPr/>
          <p:nvPr/>
        </p:nvSpPr>
        <p:spPr>
          <a:xfrm>
            <a:off x="5410080" y="4495680"/>
            <a:ext cx="3200400" cy="13716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Задача 2. Дан прямолинейный неоднородный стержень. Найти массу стержня.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38"/>
              <p:cNvSpPr txBox="1"/>
              <p:nvPr/>
            </p:nvSpPr>
            <p:spPr>
              <a:xfrm>
                <a:off x="5715000" y="1828800"/>
                <a:ext cx="23986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⋅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45"/>
              <p:cNvSpPr txBox="1"/>
              <p:nvPr/>
            </p:nvSpPr>
            <p:spPr>
              <a:xfrm>
                <a:off x="1752480" y="3886200"/>
                <a:ext cx="277992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ρ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47"/>
              <p:cNvSpPr txBox="1"/>
              <p:nvPr/>
            </p:nvSpPr>
            <p:spPr>
              <a:xfrm>
                <a:off x="1295280" y="4495680"/>
                <a:ext cx="517536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t xml:space="preserve">ρ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ρ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ρ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Line 28"/>
          <p:cNvSpPr/>
          <p:nvPr/>
        </p:nvSpPr>
        <p:spPr>
          <a:xfrm>
            <a:off x="762120" y="27432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9"/>
          <p:cNvSpPr/>
          <p:nvPr/>
        </p:nvSpPr>
        <p:spPr>
          <a:xfrm>
            <a:off x="1371600" y="2743200"/>
            <a:ext cx="3124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0"/>
          <p:cNvSpPr/>
          <p:nvPr/>
        </p:nvSpPr>
        <p:spPr>
          <a:xfrm>
            <a:off x="1144800" y="27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1"/>
          <p:cNvSpPr/>
          <p:nvPr/>
        </p:nvSpPr>
        <p:spPr>
          <a:xfrm>
            <a:off x="4344840" y="2743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2"/>
          <p:cNvSpPr/>
          <p:nvPr/>
        </p:nvSpPr>
        <p:spPr>
          <a:xfrm>
            <a:off x="1371600" y="2666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3"/>
          <p:cNvSpPr/>
          <p:nvPr/>
        </p:nvSpPr>
        <p:spPr>
          <a:xfrm>
            <a:off x="4495680" y="2666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4"/>
          <p:cNvSpPr/>
          <p:nvPr/>
        </p:nvSpPr>
        <p:spPr>
          <a:xfrm>
            <a:off x="16765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5"/>
          <p:cNvSpPr/>
          <p:nvPr/>
        </p:nvSpPr>
        <p:spPr>
          <a:xfrm>
            <a:off x="19810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6"/>
          <p:cNvSpPr/>
          <p:nvPr/>
        </p:nvSpPr>
        <p:spPr>
          <a:xfrm>
            <a:off x="41911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7"/>
          <p:cNvSpPr/>
          <p:nvPr/>
        </p:nvSpPr>
        <p:spPr>
          <a:xfrm>
            <a:off x="38098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1"/>
          <p:cNvSpPr/>
          <p:nvPr/>
        </p:nvSpPr>
        <p:spPr>
          <a:xfrm>
            <a:off x="6019920" y="1447920"/>
            <a:ext cx="24382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2"/>
          <p:cNvSpPr/>
          <p:nvPr/>
        </p:nvSpPr>
        <p:spPr>
          <a:xfrm>
            <a:off x="25909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3"/>
          <p:cNvSpPr/>
          <p:nvPr/>
        </p:nvSpPr>
        <p:spPr>
          <a:xfrm>
            <a:off x="22860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4"/>
          <p:cNvSpPr/>
          <p:nvPr/>
        </p:nvSpPr>
        <p:spPr>
          <a:xfrm>
            <a:off x="461880" y="3048120"/>
            <a:ext cx="86738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обьем отрезо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;b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равные ч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им участо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x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x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допустим что его плотность постоян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49"/>
              <p:cNvSpPr txBox="1"/>
              <p:nvPr/>
            </p:nvSpPr>
            <p:spPr>
              <a:xfrm>
                <a:off x="3581280" y="5729400"/>
                <a:ext cx="297684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l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2" name="Rectangle 51"/>
          <p:cNvSpPr/>
          <p:nvPr/>
        </p:nvSpPr>
        <p:spPr>
          <a:xfrm>
            <a:off x="3048120" y="5715000"/>
            <a:ext cx="3809880" cy="114300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6666"/>
                </a:solidFill>
                <a:latin typeface="Arial Black"/>
              </a:rPr>
              <a:t>Задача 3. По прямой движется точка. Зависимость скорости от времени </a:t>
            </a:r>
            <a:r>
              <a:rPr b="0" lang="en-US" sz="1700" spc="-1" strike="noStrike">
                <a:solidFill>
                  <a:srgbClr val="336666"/>
                </a:solidFill>
                <a:latin typeface="Arial Black"/>
              </a:rPr>
              <a:t>v=v(t)</a:t>
            </a:r>
            <a:r>
              <a:rPr b="0" lang="ru-RU" sz="1700" spc="-1" strike="noStrike">
                <a:solidFill>
                  <a:srgbClr val="336666"/>
                </a:solidFill>
                <a:latin typeface="Arial Black"/>
              </a:rPr>
              <a:t>. Найти перемещение точки за промежуток времени </a:t>
            </a:r>
            <a:r>
              <a:rPr b="0" lang="en-US" sz="1700" spc="-1" strike="noStrike">
                <a:solidFill>
                  <a:srgbClr val="336666"/>
                </a:solidFill>
                <a:latin typeface="Arial Black"/>
              </a:rPr>
              <a:t>[a;b]</a:t>
            </a:r>
            <a:endParaRPr b="0" lang="en-US" sz="1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делим промежуток времен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;b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вных ча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и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t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t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Будем считать, что на этом промежутке скорость была постоян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6"/>
              <p:cNvSpPr txBox="1"/>
              <p:nvPr/>
            </p:nvSpPr>
            <p:spPr>
              <a:xfrm>
                <a:off x="1546200" y="3332160"/>
                <a:ext cx="2637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15"/>
              <p:cNvSpPr txBox="1"/>
              <p:nvPr/>
            </p:nvSpPr>
            <p:spPr>
              <a:xfrm>
                <a:off x="5108400" y="3332160"/>
                <a:ext cx="149724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7"/>
              <p:cNvSpPr txBox="1"/>
              <p:nvPr/>
            </p:nvSpPr>
            <p:spPr>
              <a:xfrm>
                <a:off x="1447920" y="4038480"/>
                <a:ext cx="678168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8"/>
              <p:cNvSpPr txBox="1"/>
              <p:nvPr/>
            </p:nvSpPr>
            <p:spPr>
              <a:xfrm>
                <a:off x="3352680" y="5486400"/>
                <a:ext cx="236232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9" name="Rectangle 19"/>
          <p:cNvSpPr/>
          <p:nvPr/>
        </p:nvSpPr>
        <p:spPr>
          <a:xfrm>
            <a:off x="3048120" y="5410080"/>
            <a:ext cx="3429000" cy="12193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6600"/>
                </a:solidFill>
                <a:latin typeface="Arial Black"/>
              </a:rPr>
              <a:t>Определенный интеграл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4"/>
              <p:cNvSpPr txBox="1"/>
              <p:nvPr/>
            </p:nvSpPr>
            <p:spPr>
              <a:xfrm>
                <a:off x="1117440" y="2313000"/>
                <a:ext cx="13068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2" name="Text Box 6"/>
          <p:cNvSpPr/>
          <p:nvPr/>
        </p:nvSpPr>
        <p:spPr>
          <a:xfrm>
            <a:off x="2439000" y="2057400"/>
            <a:ext cx="611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ют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определенным интеграл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функции по отрез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a;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7"/>
              <p:cNvSpPr txBox="1"/>
              <p:nvPr/>
            </p:nvSpPr>
            <p:spPr>
              <a:xfrm>
                <a:off x="2900520" y="3060720"/>
                <a:ext cx="318276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4" name="Object 6"/>
              <p:cNvSpPr txBox="1"/>
              <p:nvPr/>
            </p:nvSpPr>
            <p:spPr>
              <a:xfrm>
                <a:off x="1219320" y="1219320"/>
                <a:ext cx="2801880" cy="483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5" name="Text Box 7"/>
          <p:cNvSpPr/>
          <p:nvPr/>
        </p:nvSpPr>
        <p:spPr>
          <a:xfrm>
            <a:off x="4340520" y="1803240"/>
            <a:ext cx="44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ощадь криволинейной трапе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4567680" y="3352680"/>
            <a:ext cx="384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сса неоднородного стерж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4951800" y="5029200"/>
            <a:ext cx="25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мещение то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4177800" y="1027080"/>
            <a:ext cx="47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Геометрический смысл определе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интегр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4267800" y="2590920"/>
            <a:ext cx="42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Физический смысл определен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интегр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</cp:lastModifiedBy>
  <dcterms:modified xsi:type="dcterms:W3CDTF">2021-04-05T16:45:3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