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3.png" ContentType="image/png"/>
  <Override PartName="/ppt/media/image6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294E-02F3-4877-AB7E-0FB11A19A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AB50-EE00-46DD-9363-FF857389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7572-F720-45ED-B519-560A1CC79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2E6A-3E79-47C0-8B4A-D034CCDF1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8821-9570-4D5C-BCBC-3276AE66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2438-A459-4F8E-8FC3-CE4693BB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D9C6-34CE-430D-B4DB-1D63DD9C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2B94-6EA4-4472-9094-4A37F6BC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C174-8EE7-42DB-B87D-4692C5A6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426D-677B-4A2E-AD1A-8D9154CC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3134-D2CF-4E15-8E4C-A2615BF2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F9F8-7B4D-41C8-AEA5-4BCC9BCE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A751-2CBD-4C35-AADF-AF1312143CE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125C-FF58-43E1-B307-BC4F2F0911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https://img3.goodfon.com/original/1920x1080/0/54/art-kniga-rastenie.jpg"/>
          <p:cNvPicPr/>
          <p:nvPr/>
        </p:nvPicPr>
        <p:blipFill>
          <a:blip r:embed="rId1"/>
          <a:stretch/>
        </p:blipFill>
        <p:spPr>
          <a:xfrm>
            <a:off x="179280" y="0"/>
            <a:ext cx="4097520" cy="2303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1332000" y="549360"/>
            <a:ext cx="757404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едагогические  чт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«Смысловое  чтение.  Работа с  текстом.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423"/>
                </a:solidFill>
                <a:latin typeface="Segoe Script"/>
                <a:ea typeface="Aldhabi"/>
              </a:rPr>
              <a:t>«Комплексный  анализ  текста как  вид   учебной  деятельност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ныш Н.В.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 русского  языка и литературы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Устьпаденьгская  ОШ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611280" y="60213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0AC1-5445-4701-B16C-1467DDBDCF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Нижний колонтитул 5"/>
          <p:cNvSpPr/>
          <p:nvPr/>
        </p:nvSpPr>
        <p:spPr>
          <a:xfrm>
            <a:off x="1547640" y="5805360"/>
            <a:ext cx="48247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26.03.20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1CA7-72E6-4EF2-8DCA-9644735D4F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Прямоугольник 3"/>
          <p:cNvSpPr/>
          <p:nvPr/>
        </p:nvSpPr>
        <p:spPr>
          <a:xfrm>
            <a:off x="468360" y="620640"/>
            <a:ext cx="691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плексный   анализ текста  включает в себя  три содержательные линии заданий: эт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знание системы язык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правописа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речевой деятельн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2" descr="http://ria56.ru/wp-content/uploads/2018/04/75489.jpg"/>
          <p:cNvPicPr/>
          <p:nvPr/>
        </p:nvPicPr>
        <p:blipFill>
          <a:blip r:embed="rId1"/>
          <a:stretch/>
        </p:blipFill>
        <p:spPr>
          <a:xfrm>
            <a:off x="1692360" y="2708280"/>
            <a:ext cx="5111640" cy="33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62120" y="4245120"/>
            <a:ext cx="4208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мплексный анализ текста как вид учебной деяте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028F-788F-40F0-B6A0-3211BC0BDD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Рисунок 5" descr=""/>
          <p:cNvPicPr/>
          <p:nvPr/>
        </p:nvPicPr>
        <p:blipFill>
          <a:blip r:embed="rId1"/>
          <a:stretch/>
        </p:blipFill>
        <p:spPr>
          <a:xfrm>
            <a:off x="6103800" y="433440"/>
            <a:ext cx="2149560" cy="31608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6" descr=""/>
          <p:cNvPicPr/>
          <p:nvPr/>
        </p:nvPicPr>
        <p:blipFill>
          <a:blip r:embed="rId2"/>
          <a:stretch/>
        </p:blipFill>
        <p:spPr>
          <a:xfrm rot="584400">
            <a:off x="6296040" y="3313080"/>
            <a:ext cx="2400120" cy="33307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7" descr=""/>
          <p:cNvPicPr/>
          <p:nvPr/>
        </p:nvPicPr>
        <p:blipFill>
          <a:blip r:embed="rId3"/>
          <a:stretch/>
        </p:blipFill>
        <p:spPr>
          <a:xfrm>
            <a:off x="2455920" y="142920"/>
            <a:ext cx="3525840" cy="37418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8" descr=""/>
          <p:cNvPicPr/>
          <p:nvPr/>
        </p:nvPicPr>
        <p:blipFill>
          <a:blip r:embed="rId4"/>
          <a:stretch/>
        </p:blipFill>
        <p:spPr>
          <a:xfrm>
            <a:off x="647640" y="406440"/>
            <a:ext cx="2133720" cy="30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396B-6729-47C2-9AEC-7CBC5A5E29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Объект 8" descr=""/>
          <p:cNvPicPr/>
          <p:nvPr/>
        </p:nvPicPr>
        <p:blipFill>
          <a:blip r:embed="rId1"/>
          <a:stretch/>
        </p:blipFill>
        <p:spPr>
          <a:xfrm>
            <a:off x="249120" y="189000"/>
            <a:ext cx="8791560" cy="977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24000" y="260280"/>
          <a:ext cx="8208720" cy="5994360"/>
        </p:xfrm>
        <a:graphic>
          <a:graphicData uri="http://schemas.openxmlformats.org/drawingml/2006/table">
            <a:tbl>
              <a:tblPr/>
              <a:tblGrid>
                <a:gridCol w="4937040"/>
                <a:gridCol w="330120"/>
                <a:gridCol w="328680"/>
                <a:gridCol w="328680"/>
                <a:gridCol w="330120"/>
                <a:gridCol w="330120"/>
                <a:gridCol w="328680"/>
                <a:gridCol w="328680"/>
                <a:gridCol w="330120"/>
                <a:gridCol w="330120"/>
                <a:gridCol w="306360"/>
              </a:tblGrid>
              <a:tr h="3160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  Образуйте новые слова от следующих сл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 Выпишите из текста примеры олицетвор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4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  Выпишите из текста слова с проверяемым согласным в корне слов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.  Найдите и подчеркните в тексте фразеологизм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   Какие близкие по значению слова и выражения можно употребить, чтобы избежать повтор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4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  Найдите в тексте существительные и определите их склонен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  Найдите в тексте прилагательное, обозначьте их разря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0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   Выпишите из текста  метафор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96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.  Подберите антонимы к слова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00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. Найдите в тексте имена числительные,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3C6F-1332-4742-9B74-A8D0D2AB49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24000" y="527040"/>
            <a:ext cx="851688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Комплексный анализ текст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это вид работы, при котором осуществляется функциональный и системный подход к изучению языка, а также выявляются межпредметные связ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Работа с текстом развивае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зыковое чуть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собствует устранению грамматических, стилистических и речевых ошибок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глубляет стилистическое восприятие произведений художественной литерату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FF1E-31D3-4FC5-947C-62D86A7E4C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Рисунок 1" descr=""/>
          <p:cNvPicPr/>
          <p:nvPr/>
        </p:nvPicPr>
        <p:blipFill>
          <a:blip r:embed="rId1"/>
          <a:stretch/>
        </p:blipFill>
        <p:spPr>
          <a:xfrm>
            <a:off x="5083200" y="2276640"/>
            <a:ext cx="3603600" cy="211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9007-CDA3-4D7C-AB96-C0B23FE896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324000" y="333360"/>
            <a:ext cx="547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ль смыслового чтения - максимально точно и полно понять содержание текста, уловить все детали и практически осмыслить извлеченную информацию. По словам В. А. Сухомлинского: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«Кто не умеет читать – тот не умеет мыслить»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Поэтому важно научить ребёнка читать осмысленно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" descr="https://ds04.infourok.ru/uploads/ex/0c6b/0001f4b2-e367afb5/img6.jpg"/>
          <p:cNvPicPr/>
          <p:nvPr/>
        </p:nvPicPr>
        <p:blipFill>
          <a:blip r:embed="rId1"/>
          <a:stretch/>
        </p:blipFill>
        <p:spPr>
          <a:xfrm>
            <a:off x="2843280" y="2541600"/>
            <a:ext cx="5749920" cy="384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BC13-81B0-42EA-9E37-24A464F4BE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" descr="https://ds04.infourok.ru/uploads/ex/0f60/0002e207-a22af02b/img0.jpg"/>
          <p:cNvPicPr/>
          <p:nvPr/>
        </p:nvPicPr>
        <p:blipFill>
          <a:blip r:embed="rId1"/>
          <a:stretch/>
        </p:blipFill>
        <p:spPr>
          <a:xfrm>
            <a:off x="250920" y="189000"/>
            <a:ext cx="3936960" cy="2952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s://arhivurokov.ru/multiurok/html/2017/08/28/s_59a4387cb5f62/img4.jpg"/>
          <p:cNvPicPr/>
          <p:nvPr/>
        </p:nvPicPr>
        <p:blipFill>
          <a:blip r:embed="rId2"/>
          <a:stretch/>
        </p:blipFill>
        <p:spPr>
          <a:xfrm>
            <a:off x="2843280" y="2021040"/>
            <a:ext cx="604980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972E-B268-4FE5-8876-1E1863694A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https://www.cvartplus.ru/components/com_virtuemart/shop_image/product/_________________56f1a02fe2b95.jpg"/>
          <p:cNvPicPr/>
          <p:nvPr/>
        </p:nvPicPr>
        <p:blipFill>
          <a:blip r:embed="rId1"/>
          <a:stretch/>
        </p:blipFill>
        <p:spPr>
          <a:xfrm>
            <a:off x="395280" y="404640"/>
            <a:ext cx="3457440" cy="3200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https://goods.kaypu.com/photo/5436bd18d536e8213c043575.jpg"/>
          <p:cNvPicPr/>
          <p:nvPr/>
        </p:nvPicPr>
        <p:blipFill>
          <a:blip r:embed="rId2"/>
          <a:stretch/>
        </p:blipFill>
        <p:spPr>
          <a:xfrm>
            <a:off x="4140360" y="549360"/>
            <a:ext cx="2232000" cy="331128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8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0" descr="https://cdn2.static1-sima-land.com/items/3443503/0/700-nw.jpg"/>
          <p:cNvPicPr/>
          <p:nvPr/>
        </p:nvPicPr>
        <p:blipFill>
          <a:blip r:embed="rId3"/>
          <a:stretch/>
        </p:blipFill>
        <p:spPr>
          <a:xfrm>
            <a:off x="6227640" y="1197000"/>
            <a:ext cx="2529000" cy="3456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http://beauty.mypartnershop.ru/pictures/1013863849.jpg"/>
          <p:cNvPicPr/>
          <p:nvPr/>
        </p:nvPicPr>
        <p:blipFill>
          <a:blip r:embed="rId4"/>
          <a:stretch/>
        </p:blipFill>
        <p:spPr>
          <a:xfrm>
            <a:off x="1763640" y="2708280"/>
            <a:ext cx="2570400" cy="3816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http://1.bp.blogspot.com/-epIXCjXh9S4/VCVo4mtrMGI/AAAAAAAAKMY/0MzMbtbDl30/s1600/05.jpg"/>
          <p:cNvPicPr/>
          <p:nvPr/>
        </p:nvPicPr>
        <p:blipFill>
          <a:blip r:embed="rId5"/>
          <a:stretch/>
        </p:blipFill>
        <p:spPr>
          <a:xfrm>
            <a:off x="5292720" y="3213000"/>
            <a:ext cx="2347920" cy="33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A00B-8D2A-48BB-9543-EACC017937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258920" y="208080"/>
            <a:ext cx="6481800" cy="64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BADD-17D2-4B09-86B2-3E964A4686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rcRect l="15833" t="0" r="16593" b="0"/>
          <a:stretch/>
        </p:blipFill>
        <p:spPr>
          <a:xfrm>
            <a:off x="1619280" y="73080"/>
            <a:ext cx="6553080" cy="660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DD3C-0489-495A-90F4-4AC4AC5DD4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7739280" cy="633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590E-2080-420B-8CEF-8A9741972E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Прямоугольник 3"/>
          <p:cNvSpPr/>
          <p:nvPr/>
        </p:nvSpPr>
        <p:spPr>
          <a:xfrm>
            <a:off x="468360" y="476280"/>
            <a:ext cx="691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Комплексный анализ текст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это вид работы, при котором осуществляется функциональный и системный подход к изучению языка, а также ярко выявляются межпредметные связ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2" descr="http://shkolarossii.ru/sites/default/files/2355733.jpg"/>
          <p:cNvPicPr/>
          <p:nvPr/>
        </p:nvPicPr>
        <p:blipFill>
          <a:blip r:embed="rId1"/>
          <a:stretch/>
        </p:blipFill>
        <p:spPr>
          <a:xfrm>
            <a:off x="4859280" y="2009880"/>
            <a:ext cx="3168720" cy="411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216D-8202-4A9B-B452-A85F45B7A1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"/>
          <p:cNvSpPr/>
          <p:nvPr/>
        </p:nvSpPr>
        <p:spPr>
          <a:xfrm flipV="1" rot="10800000">
            <a:off x="324000" y="774000"/>
            <a:ext cx="8532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группы понятий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или речи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орный, научный, художественный, публицистический, официально-делово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ипы текста: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, повествование, рассужде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знаки текста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ысловая цельность, относительная законченность высказывания (тема, основная мысль), способы и средства связи предложений в тексте, членение текста на абзац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3" descr="http://cs01.files.mya5.ru/DQABAIMAzQISAc0BkPsP/DyqdP3y29QnObofLi7CUOA/sv/image/7e/fa/11/597212/43/4.jpg?1514273761"/>
          <p:cNvPicPr/>
          <p:nvPr/>
        </p:nvPicPr>
        <p:blipFill>
          <a:blip r:embed="rId1"/>
          <a:stretch/>
        </p:blipFill>
        <p:spPr>
          <a:xfrm>
            <a:off x="2843280" y="3068640"/>
            <a:ext cx="5048280" cy="3362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нтон</dc:creator>
  <dc:description/>
  <dc:language>en-US</dc:language>
  <cp:lastModifiedBy>User</cp:lastModifiedBy>
  <dcterms:modified xsi:type="dcterms:W3CDTF">2021-04-05T16:19:35Z</dcterms:modified>
  <cp:revision>98</cp:revision>
  <dc:subject/>
  <dc:title>Слайд 1</dc:title>
</cp:coreProperties>
</file>