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A17-D8E3-4EC8-B20A-F2F528DF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377-CC57-4FB5-939B-521D9ACC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962-DF76-4E59-B374-68CE92FE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B1D-A04E-4E42-AD84-02DCA843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1B3-1E70-4433-8FF2-F244EDC4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B48-484A-4228-82D1-9CBA3425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528-296A-4A86-A62A-5DCCCDA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DD4-1F48-4EF2-8B54-81F4D400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1E2-FCBF-4184-8E47-09B63152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ADE-302A-445C-88EF-5F12D66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1EC-9B59-4AA4-9C4C-A51707D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D94-10BB-4944-97AC-80B2EC8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8E1A-6C25-4493-9C17-3B16C4C9BE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9D2B-01F2-428B-990B-355BFE0D4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s://img3.goodfon.com/original/1920x1080/0/54/art-kniga-rastenie.jpg"/>
          <p:cNvPicPr/>
          <p:nvPr/>
        </p:nvPicPr>
        <p:blipFill>
          <a:blip r:embed="rId1"/>
          <a:stretch/>
        </p:blipFill>
        <p:spPr>
          <a:xfrm>
            <a:off x="179280" y="0"/>
            <a:ext cx="4097520" cy="2303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332000" y="549360"/>
            <a:ext cx="75740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едагогические  ч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«Смысловое  чтение.  Работа с  текстом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423"/>
                </a:solidFill>
                <a:latin typeface="Segoe Script"/>
                <a:ea typeface="Aldhabi"/>
              </a:rPr>
              <a:t>«Комплексный  анализ  текста как  вид   учебной  деятель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ш Н.В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русского  языка и литератур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Устьпаденьгская  ОШ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11280" y="6021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E72C-58D7-4BBF-82E5-0F356D4CB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Нижний колонтитул 5"/>
          <p:cNvSpPr/>
          <p:nvPr/>
        </p:nvSpPr>
        <p:spPr>
          <a:xfrm>
            <a:off x="1547640" y="5805360"/>
            <a:ext cx="48247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6.03.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D21C-1A89-4CF8-ADD8-A4D0D08122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468360" y="62064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ный   анализ текста  включает в себя  три содержательные линии заданий: э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нание системы язык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авопис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ечевой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http://ria56.ru/wp-content/uploads/2018/04/75489.jpg"/>
          <p:cNvPicPr/>
          <p:nvPr/>
        </p:nvPicPr>
        <p:blipFill>
          <a:blip r:embed="rId1"/>
          <a:stretch/>
        </p:blipFill>
        <p:spPr>
          <a:xfrm>
            <a:off x="1692360" y="2708280"/>
            <a:ext cx="511164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4245120"/>
            <a:ext cx="420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лексный анализ текста как вид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90A0-1037-43BE-BB49-5F4471E15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"/>
          <p:cNvPicPr/>
          <p:nvPr/>
        </p:nvPicPr>
        <p:blipFill>
          <a:blip r:embed="rId1"/>
          <a:stretch/>
        </p:blipFill>
        <p:spPr>
          <a:xfrm>
            <a:off x="6103800" y="433440"/>
            <a:ext cx="2149560" cy="3160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2"/>
          <a:stretch/>
        </p:blipFill>
        <p:spPr>
          <a:xfrm rot="584400">
            <a:off x="6296040" y="3313080"/>
            <a:ext cx="2400120" cy="3330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3"/>
          <a:stretch/>
        </p:blipFill>
        <p:spPr>
          <a:xfrm>
            <a:off x="2455920" y="142920"/>
            <a:ext cx="3525840" cy="3741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"/>
          <p:cNvPicPr/>
          <p:nvPr/>
        </p:nvPicPr>
        <p:blipFill>
          <a:blip r:embed="rId4"/>
          <a:stretch/>
        </p:blipFill>
        <p:spPr>
          <a:xfrm>
            <a:off x="647640" y="406440"/>
            <a:ext cx="213372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F5F2-995A-40DD-969E-847D3AB2F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Объект 8" descr=""/>
          <p:cNvPicPr/>
          <p:nvPr/>
        </p:nvPicPr>
        <p:blipFill>
          <a:blip r:embed="rId1"/>
          <a:stretch/>
        </p:blipFill>
        <p:spPr>
          <a:xfrm>
            <a:off x="249120" y="189000"/>
            <a:ext cx="8791560" cy="977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260280"/>
          <a:ext cx="8208720" cy="5994360"/>
        </p:xfrm>
        <a:graphic>
          <a:graphicData uri="http://schemas.openxmlformats.org/drawingml/2006/table">
            <a:tbl>
              <a:tblPr/>
              <a:tblGrid>
                <a:gridCol w="4937040"/>
                <a:gridCol w="330120"/>
                <a:gridCol w="328680"/>
                <a:gridCol w="328680"/>
                <a:gridCol w="330120"/>
                <a:gridCol w="330120"/>
                <a:gridCol w="328680"/>
                <a:gridCol w="328680"/>
                <a:gridCol w="330120"/>
                <a:gridCol w="330120"/>
                <a:gridCol w="306360"/>
              </a:tblGrid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  Образуйте новые слова от следующих с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 Выпишите из текста примеры олицетвор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  Выпишите из текста слова с проверяемым согласным в корне сло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  Найдите и подчеркните в тексте фразеологиз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   Какие близкие по значению слова и выражения можно употребить, чтобы избежать повт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  Найдите в тексте существительные и определите их скло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  Найдите в тексте прилагательное, обозначьте их разря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   Выпишите из текста  метафо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9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  Подберите антонимы к слова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 Найдите в тексте имена числительные,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6029-926C-4AC1-9F80-18E52CD28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24000" y="527040"/>
            <a:ext cx="85168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плексный анализ текст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вид работы, при котором осуществляется функциональный и системный подход к изучению языка, а также выявляются межпредметные свя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Работа с текстом развива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зыковое чуть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ует устранению грамматических, стилистических и речевых ошиб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лубляет стилистическое восприятие произведений художественной литера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760D-B2A7-4BA7-9C18-F966C103E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5083200" y="2276640"/>
            <a:ext cx="360360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F2F-5802-417C-B003-04D37AC75A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4000" y="333360"/>
            <a:ext cx="54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смыслового чтения - максимально точно и полно понять содержание текста, уловить все детали и практически осмыслить извлеченную информацию. По словам В. А. Сухомлинского: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Кто не умеет читать – тот не умеет мыслить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оэтому важно научить ребёнка читать осмыслен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s://ds04.infourok.ru/uploads/ex/0c6b/0001f4b2-e367afb5/img6.jpg"/>
          <p:cNvPicPr/>
          <p:nvPr/>
        </p:nvPicPr>
        <p:blipFill>
          <a:blip r:embed="rId1"/>
          <a:stretch/>
        </p:blipFill>
        <p:spPr>
          <a:xfrm>
            <a:off x="2843280" y="2541600"/>
            <a:ext cx="574992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7084-B7B3-4272-9EC8-5EA174993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https://ds04.infourok.ru/uploads/ex/0f60/0002e207-a22af02b/img0.jpg"/>
          <p:cNvPicPr/>
          <p:nvPr/>
        </p:nvPicPr>
        <p:blipFill>
          <a:blip r:embed="rId1"/>
          <a:stretch/>
        </p:blipFill>
        <p:spPr>
          <a:xfrm>
            <a:off x="250920" y="18900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s://arhivurokov.ru/multiurok/html/2017/08/28/s_59a4387cb5f62/img4.jpg"/>
          <p:cNvPicPr/>
          <p:nvPr/>
        </p:nvPicPr>
        <p:blipFill>
          <a:blip r:embed="rId2"/>
          <a:stretch/>
        </p:blipFill>
        <p:spPr>
          <a:xfrm>
            <a:off x="2843280" y="2021040"/>
            <a:ext cx="604980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7138-353C-467B-B026-1AD4CAA737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https://www.cvartplus.ru/components/com_virtuemart/shop_image/product/_________________56f1a02fe2b95.jpg"/>
          <p:cNvPicPr/>
          <p:nvPr/>
        </p:nvPicPr>
        <p:blipFill>
          <a:blip r:embed="rId1"/>
          <a:stretch/>
        </p:blipFill>
        <p:spPr>
          <a:xfrm>
            <a:off x="395280" y="404640"/>
            <a:ext cx="345744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goods.kaypu.com/photo/5436bd18d536e8213c043575.jpg"/>
          <p:cNvPicPr/>
          <p:nvPr/>
        </p:nvPicPr>
        <p:blipFill>
          <a:blip r:embed="rId2"/>
          <a:stretch/>
        </p:blipFill>
        <p:spPr>
          <a:xfrm>
            <a:off x="4140360" y="549360"/>
            <a:ext cx="2232000" cy="33112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https://cdn2.static1-sima-land.com/items/3443503/0/700-nw.jpg"/>
          <p:cNvPicPr/>
          <p:nvPr/>
        </p:nvPicPr>
        <p:blipFill>
          <a:blip r:embed="rId3"/>
          <a:stretch/>
        </p:blipFill>
        <p:spPr>
          <a:xfrm>
            <a:off x="6227640" y="1197000"/>
            <a:ext cx="2529000" cy="345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http://beauty.mypartnershop.ru/pictures/1013863849.jpg"/>
          <p:cNvPicPr/>
          <p:nvPr/>
        </p:nvPicPr>
        <p:blipFill>
          <a:blip r:embed="rId4"/>
          <a:stretch/>
        </p:blipFill>
        <p:spPr>
          <a:xfrm>
            <a:off x="1763640" y="2708280"/>
            <a:ext cx="2570400" cy="381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http://1.bp.blogspot.com/-epIXCjXh9S4/VCVo4mtrMGI/AAAAAAAAKMY/0MzMbtbDl30/s1600/05.jpg"/>
          <p:cNvPicPr/>
          <p:nvPr/>
        </p:nvPicPr>
        <p:blipFill>
          <a:blip r:embed="rId5"/>
          <a:stretch/>
        </p:blipFill>
        <p:spPr>
          <a:xfrm>
            <a:off x="5292720" y="3213000"/>
            <a:ext cx="23479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DAB9-E1D5-4711-AD57-F912B6957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58920" y="208080"/>
            <a:ext cx="6481800" cy="64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35BA-A4DD-4CFF-AFD3-639B15EAE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15833" t="0" r="16593" b="0"/>
          <a:stretch/>
        </p:blipFill>
        <p:spPr>
          <a:xfrm>
            <a:off x="1619280" y="73080"/>
            <a:ext cx="6553080" cy="660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B77-DAD0-41AA-ADFF-29ACE371E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73928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8D1E-112D-47BE-87A5-13B13BB2E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468360" y="47628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мплексный анализ текс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это вид работы, при котором осуществляется функциональный и системный подход к изучению языка, а также ярко выявляются межпредметные связ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http://shkolarossii.ru/sites/default/files/2355733.jpg"/>
          <p:cNvPicPr/>
          <p:nvPr/>
        </p:nvPicPr>
        <p:blipFill>
          <a:blip r:embed="rId1"/>
          <a:stretch/>
        </p:blipFill>
        <p:spPr>
          <a:xfrm>
            <a:off x="4859280" y="2009880"/>
            <a:ext cx="3168720" cy="41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0178-507B-42B4-9496-0857E429A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"/>
          <p:cNvSpPr/>
          <p:nvPr/>
        </p:nvSpPr>
        <p:spPr>
          <a:xfrm flipV="1" rot="10800000">
            <a:off x="324000" y="774000"/>
            <a:ext cx="85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руппы понят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ли реч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й, научный, художественный, публицистический, официально-делов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ы текста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, повествование,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ки текс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относительная законченность высказывания (тема, основная мысль), способы и средства связи предложений в тексте, членение текста на абза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http://cs01.files.mya5.ru/DQABAIMAzQISAc0BkPsP/DyqdP3y29QnObofLi7CUOA/sv/image/7e/fa/11/597212/43/4.jpg?1514273761"/>
          <p:cNvPicPr/>
          <p:nvPr/>
        </p:nvPicPr>
        <p:blipFill>
          <a:blip r:embed="rId1"/>
          <a:stretch/>
        </p:blipFill>
        <p:spPr>
          <a:xfrm>
            <a:off x="2843280" y="3068640"/>
            <a:ext cx="50482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User</cp:lastModifiedBy>
  <dcterms:modified xsi:type="dcterms:W3CDTF">2021-04-05T16:19:35Z</dcterms:modified>
  <cp:revision>98</cp:revision>
  <dc:subject/>
  <dc:title>Слайд 1</dc:title>
</cp:coreProperties>
</file>